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D3D-7908-41AC-8CA3-BDB281E7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A3D-DC5D-483C-9B67-32B0F54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478-C437-4C40-8A40-1AFC53E5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0D3-50F4-48D4-93D9-B3597EB4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F6EE-087C-4986-97A0-EF64D8E4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0A8-8E36-4EA1-B5CF-68C1EBC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D92C-4B4B-4D6B-84F8-3130CA72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DBCE-D647-4549-BFFC-B5211264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CBBD-FCE6-4676-A19F-428C5CF9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1884-8699-4B03-9C70-35C96B8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1DB2-D6EB-4790-A8E1-2277971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88D-A708-4FA3-9CB5-E0AE1EF6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2676-5150-4F58-B34A-35D8416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2DF0-0AE8-4CC8-94B2-59870B0F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24C8-5A18-457E-B989-20AB79C2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9FA7-962D-45EA-9326-4039970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B747-D211-4BA6-B746-80E90DE5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F94-5A8F-4436-B2A3-A4FB21CF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420-E8D0-4132-B2D6-63474107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FAF-DBBA-48E0-8314-2F9F52F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435-BBB8-47D5-8D4F-9084A05F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E99-0EA6-42C9-BA65-0D59BA5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749-86F6-436D-979B-CB6D6B59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148-8455-4708-9437-F0A8D6C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2C58-15E0-4401-8D7C-35CDB4FA5DEA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F564-B700-45C7-98E6-BF2E94B77EB7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guohua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457200"/>
            <a:ext cx="3962520" cy="4597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宋体"/>
                <a:ea typeface="宋体"/>
              </a:rPr>
              <a:t>   “</a:t>
            </a:r>
            <a:r>
              <a:rPr b="0" lang="zh-CN" sz="2400" spc="-1" strike="noStrike">
                <a:solidFill>
                  <a:srgbClr val="003300"/>
                </a:solidFill>
                <a:latin typeface="宋体"/>
                <a:ea typeface="宋体"/>
              </a:rPr>
              <a:t>百花谁敢雪中开，梅花独领天下春”。严冬早春时节，素有“花魁”之称的梅花，傲霜斗雪、凌寒绽开、暗香浮动、冠领群芳。每到赏梅时节，你可知道华夏何处是探梅佳处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jlj" descr=""/>
          <p:cNvPicPr/>
          <p:nvPr/>
        </p:nvPicPr>
        <p:blipFill>
          <a:blip r:embed="rId2"/>
          <a:stretch/>
        </p:blipFill>
        <p:spPr>
          <a:xfrm>
            <a:off x="291960" y="3340080"/>
            <a:ext cx="3137040" cy="31370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55" name="3" descr=""/>
          <p:cNvPicPr/>
          <p:nvPr/>
        </p:nvPicPr>
        <p:blipFill>
          <a:blip r:embed="rId3"/>
          <a:stretch/>
        </p:blipFill>
        <p:spPr>
          <a:xfrm>
            <a:off x="3809880" y="4648320"/>
            <a:ext cx="2286000" cy="18288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56" name="lqj" descr=""/>
          <p:cNvPicPr/>
          <p:nvPr/>
        </p:nvPicPr>
        <p:blipFill>
          <a:blip r:embed="rId4"/>
          <a:stretch/>
        </p:blipFill>
        <p:spPr>
          <a:xfrm>
            <a:off x="6477120" y="4648320"/>
            <a:ext cx="2286000" cy="18288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57" name="龙蟠之梅" descr=""/>
          <p:cNvPicPr/>
          <p:nvPr/>
        </p:nvPicPr>
        <p:blipFill>
          <a:blip r:embed="rId5"/>
          <a:stretch/>
        </p:blipFill>
        <p:spPr>
          <a:xfrm>
            <a:off x="6477120" y="2666880"/>
            <a:ext cx="2286000" cy="16002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158" name="邓尉之梅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286000" cy="18288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4191120" y="533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梅花独领天下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20415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邓尉之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2590920"/>
            <a:ext cx="152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龙蟠之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36417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梅园之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西溪之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80160" y="2286000"/>
            <a:ext cx="3920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0160" y="2819520"/>
            <a:ext cx="3920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038480"/>
            <a:ext cx="381240" cy="38124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  <a:ea typeface="宋体"/>
            </a:endParaRPr>
          </a:p>
        </p:txBody>
      </p:sp>
      <p:pic>
        <p:nvPicPr>
          <p:cNvPr id="195" name="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  <a:ea typeface="宋体"/>
            </a:endParaRPr>
          </a:p>
        </p:txBody>
      </p:sp>
      <p:pic>
        <p:nvPicPr>
          <p:cNvPr id="197" name="sf_15_2003122323113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s4" descr=""/>
          <p:cNvPicPr/>
          <p:nvPr/>
        </p:nvPicPr>
        <p:blipFill>
          <a:blip r:embed="rId1"/>
          <a:srcRect l="0" t="0" r="3805" b="0"/>
          <a:stretch/>
        </p:blipFill>
        <p:spPr>
          <a:xfrm>
            <a:off x="250920" y="83664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99" name="tu22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981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a500"/>
                </a:solidFill>
                <a:latin typeface="Arial"/>
                <a:ea typeface="宋体"/>
              </a:rPr>
              <a:t>写作背景简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清朝封建统治者为了加强思想统治，奴役人民，一方面以八股文作为科举考试选用人才的法定文体，以束缚人们的思想；另一方面大兴文字狱，镇压知识分子。在长期严酷的思想统治下，人才遭受严重的压抑和摧残。本文写于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1839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年，是作者辞官南归之后寓居江苏昆山时所作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1981080"/>
            <a:ext cx="73152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明清科举制度的一种考试文体，每篇由八部分组成。在内容上，八股文只许为圣贤立言，讲四书五经所讲过的道理，如有所阐发也不能越出程朱理学的范围。这种内容固定而形式死板的文体，是束缚人们思想的工具，对当时文化思想的发展危害很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609480"/>
            <a:ext cx="5410080" cy="12193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宋体"/>
              </a:rPr>
              <a:t>八股文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bbd71"/>
                </a:solidFill>
                <a:latin typeface="Arial"/>
                <a:ea typeface="宋体"/>
              </a:rPr>
              <a:t>写作目的、写作手法探究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、作者仅仅是因为梅而写梅吗？作者的写作目的何在？这是一种什么写作手法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3657600"/>
            <a:ext cx="838188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明确：揭露社会现实，表达自己疗救病态社会、拯救天下英才、追求精神自由和个性解放的愿望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托物言志 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2060640"/>
            <a:ext cx="76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层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----------------------------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言外意（比喻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2781360"/>
            <a:ext cx="554328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病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文人画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品梅标准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曲、欹、疏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--------------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04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、具体体会作者是如何运用这种手法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20760" y="285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人才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80760" y="3645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遭摧残、压抑的人才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01080" y="443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封建统治者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44720" y="5516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选拔人才标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奴才、庸才、歪才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42920" y="1557360"/>
            <a:ext cx="29512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梅的摧残手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（绳、夭、病、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删、锄、养、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0920" y="41590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摧残梅的后果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皆病、祸烈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94400" y="1523880"/>
            <a:ext cx="186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束缚人才思想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屠杀正直之 士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豢养奸邪小人、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扼杀新生力量）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47520" y="419112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大批人才遭残酷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屠杀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82880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  <a:ea typeface="宋体"/>
              </a:rPr>
              <a:t>迁移：托物言志诗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石灰吟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        千锤万凿出深山，烈火焚烧若等闲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        粉骨碎身浑不怕，要留青白在人间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菊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        待到秋来九月八，我花开后百花杀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        冲天香阵透长安，满城尽带黄金甲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  <a:ea typeface="宋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在狱咏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西陆蝉声唱，南冠客思侵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 不堪玄鬓影，来对白头吟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 露重飞难进，风多响易沉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 无人信高洁，谁为表予心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uohua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王冕的墨梅图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95720" cy="586764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4211640" y="806400"/>
            <a:ext cx="43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卜算子  咏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毛泽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1773360"/>
            <a:ext cx="4606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风雨送春归，飞雪迎春到。已是悬崖百丈冰，犹有花枝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俏也不争春，只把春来报。待到山花烂漫时，她在丛中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         </a:t>
            </a:r>
            <a:r>
              <a:rPr b="0" lang="en-US" sz="3600" spc="-1" strike="noStrike">
                <a:solidFill>
                  <a:srgbClr val="009900"/>
                </a:solidFill>
                <a:latin typeface="宋体"/>
                <a:ea typeface="宋体"/>
              </a:rPr>
              <a:t>1961</a:t>
            </a:r>
            <a:r>
              <a:rPr b="0" lang="zh-CN" sz="3600" spc="-1" strike="noStrike">
                <a:solidFill>
                  <a:srgbClr val="009900"/>
                </a:solidFill>
                <a:latin typeface="宋体"/>
                <a:ea typeface="宋体"/>
              </a:rPr>
              <a:t>年</a:t>
            </a:r>
            <a:r>
              <a:rPr b="0" lang="en-US" sz="3600" spc="-1" strike="noStrike">
                <a:solidFill>
                  <a:srgbClr val="009900"/>
                </a:solidFill>
                <a:latin typeface="宋体"/>
                <a:ea typeface="宋体"/>
              </a:rPr>
              <a:t>12</a:t>
            </a:r>
            <a:r>
              <a:rPr b="0" lang="zh-CN" sz="3600" spc="-1" strike="noStrike">
                <a:solidFill>
                  <a:srgbClr val="009900"/>
                </a:solidFill>
                <a:latin typeface="宋体"/>
                <a:ea typeface="宋体"/>
              </a:rPr>
              <a:t>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5734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元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王冕墨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bbd71"/>
                </a:solidFill>
                <a:latin typeface="Arial"/>
                <a:ea typeface="宋体"/>
              </a:rPr>
              <a:t>诗文鉴人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7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己亥杂诗（一百二十五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九州生气恃风雷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万马齐喑究可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我劝天公重抖擞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不拘一格降人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1600200"/>
            <a:ext cx="3504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己亥杂诗（其五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浩荡离愁白日斜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吟鞭东指即天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落红不是无情物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化作春泥更护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bbd71"/>
                </a:solidFill>
                <a:latin typeface="Arial"/>
                <a:ea typeface="宋体"/>
              </a:rPr>
              <a:t>讨论：人才培养与个性解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你认为古今教育有无“病梅”现象？请联系实际发表自己的见解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3434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怎样的环境有利于人才的成长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  <a:ea typeface="宋体"/>
            </a:endParaRPr>
          </a:p>
        </p:txBody>
      </p:sp>
      <p:pic>
        <p:nvPicPr>
          <p:cNvPr id="231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411280" y="2060640"/>
            <a:ext cx="4608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  <a:ea typeface="宋体"/>
            </a:endParaRPr>
          </a:p>
        </p:txBody>
      </p:sp>
      <p:pic>
        <p:nvPicPr>
          <p:cNvPr id="174" name="1" descr=""/>
          <p:cNvPicPr/>
          <p:nvPr/>
        </p:nvPicPr>
        <p:blipFill>
          <a:blip r:embed="rId1"/>
          <a:srcRect l="0" t="0" r="13770" b="13661"/>
          <a:stretch/>
        </p:blipFill>
        <p:spPr>
          <a:xfrm>
            <a:off x="0" y="30240"/>
            <a:ext cx="9144000" cy="68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66680" y="2286000"/>
            <a:ext cx="74678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6327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cc"/>
                </a:solidFill>
                <a:latin typeface="Arial"/>
                <a:ea typeface="宋体"/>
              </a:rPr>
              <a:t>病 梅 馆 记</a:t>
            </a:r>
            <a:endParaRPr b="0" lang="en-US" sz="10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a00"/>
                </a:solidFill>
                <a:latin typeface="Tahoma"/>
                <a:ea typeface="宋体"/>
              </a:rPr>
              <a:t>执 教：程  雅  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bbd71"/>
                </a:solidFill>
                <a:latin typeface="Arial"/>
                <a:ea typeface="宋体"/>
              </a:rPr>
              <a:t>析  病  梅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作者认为什么样的梅属于病态梅？当时社会评梅的标准是什么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373392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明确：曲、欹、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、致梅成病态的手段是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67652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明确：斫、删、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505320"/>
            <a:ext cx="78487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75120" y="281952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、为什么会病成这样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657600"/>
            <a:ext cx="6933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明确：①满足文人画士孤癖之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 ②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鬻梅者助纣为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 ③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蠢蠢求财者又不能“以其智力为也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、目睹梅的病态，作者内心感到万分悲痛，发出了“誓疗”的决心。作者是怎样疗梅的？具体的措施怎样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3059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明确：购梅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泣之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疗梅（纵、顺、毁、埋、解、复、全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  <a:ea typeface="宋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pic>
        <p:nvPicPr>
          <p:cNvPr id="191" name="tie4_EHvTdmJ2gHZ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  <a:ea typeface="宋体"/>
            </a:endParaRPr>
          </a:p>
        </p:txBody>
      </p:sp>
      <p:pic>
        <p:nvPicPr>
          <p:cNvPr id="193" name="tie8_jkPKfEhqgRLY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05:48:48Z</dcterms:created>
  <dc:creator>deng</dc:creator>
  <dc:description/>
  <dc:language>en-US</dc:language>
  <cp:lastModifiedBy>zmj</cp:lastModifiedBy>
  <dcterms:modified xsi:type="dcterms:W3CDTF">2011-12-23T15:05:45Z</dcterms:modified>
  <cp:revision>23</cp:revision>
  <dc:subject/>
  <dc:title>幻灯片 1</dc:title>
</cp:coreProperties>
</file>