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14.gif" ContentType="image/gif"/>
  <Override PartName="/ppt/media/image2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media/image15.gif" ContentType="image/gi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29A-48C7-47C4-8486-3D1DF214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E11-8B82-427A-AF8C-A54AC190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6C7-6558-4D0D-A750-6923EB5D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2A8-1576-430F-BE11-33D3429C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B6B-19A9-43A0-B5FA-F89FB668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4CA-36A1-4A2F-B2A1-55933635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2BE-784A-4BFA-9E9C-60082D3B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CB3-3A0D-4F73-8829-46A9E6C8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1E4C-4257-4CB6-9736-19602E7D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8CC-C849-40DB-A3F2-94CF8F40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383-6F9A-45F2-9999-6EBB3D12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DFF-A438-4E58-99CA-25F8515A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C8F1-838E-4FE6-A66A-BB9AE75DC0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4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9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5.xm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987640" y="2060640"/>
            <a:ext cx="3529080" cy="273528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20644"/>
                <a:gd name="adj2" fmla="val 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请多多指教！</a:t>
            </a:r>
            <a:endParaRPr b="0" i="1" lang="en-US" sz="4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00360" cy="135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26920" y="1773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己亥杂诗（一百二十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九州生气恃风雷，万马齐喑究可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劝天公重抖擞，不拘一格降人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1009440" cy="865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0" y="6237360"/>
            <a:ext cx="11872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12600">
                  <a:solidFill>
                    <a:srgbClr val="003300"/>
                  </a:solidFill>
                  <a:custDash>
                    <a:ds d="100000" sp="1000"/>
                  </a:custDash>
                  <a:miter/>
                </a:ln>
                <a:solidFill>
                  <a:srgbClr val="00ffff">
                    <a:alpha val="55000"/>
                  </a:srgbClr>
                </a:solidFill>
                <a:latin typeface="华文新魏"/>
              </a:rPr>
              <a:t>注释</a:t>
            </a:r>
            <a:endParaRPr b="1" lang="en-US" sz="1800" spc="1" strike="noStrike">
              <a:ln cap="rnd" w="12600">
                <a:solidFill>
                  <a:srgbClr val="003300"/>
                </a:solidFill>
                <a:custDash>
                  <a:ds d="100000" sp="1000"/>
                </a:custDash>
                <a:miter/>
              </a:ln>
              <a:solidFill>
                <a:srgbClr val="00ffff">
                  <a:alpha val="55000"/>
                </a:srgbClr>
              </a:solidFill>
              <a:latin typeface="华文新魏"/>
              <a:ea typeface="华文新魏"/>
            </a:endParaRPr>
          </a:p>
        </p:txBody>
      </p:sp>
      <p:pic>
        <p:nvPicPr>
          <p:cNvPr id="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72360" y="6453360"/>
            <a:ext cx="97164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mph" presetID="1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animClr clrSpc="rgb">
                                      <p:cBhvr>
                                        <p:cTn id="3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3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404640"/>
            <a:ext cx="77752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彩云"/>
              </a:rPr>
              <a:t>注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九州：古时把全国划分为青、兖、冀、徐、扬、荆、豫、梁、雍九州，后来即以九州作为中国的代称。恃：依靠，凭借。全句之意为要使全中国具有蓬勃生气，必须依仗急风惊雷的震撼荡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马齐喑：借喻清皇统治下死气沉沉的局面，语出宋苏轼《三马图赞引》：“振鬣长鸣，万马齐喑”。喑：哑。究：终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公：道教所谓最高的天神玉皇大帝，这里暗指清朝皇帝。抖擞：振作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拘一格：不限于一定的规格资历，即打破常规。降人才：让贤才降临人间。也有使用贤才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07280" y="5734080"/>
            <a:ext cx="936720" cy="1123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84360" y="19890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病  梅  馆  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350028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作者：龚自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90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40720" y="5353200"/>
            <a:ext cx="1403280" cy="1504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146160"/>
            <a:ext cx="874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作者介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龚自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179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841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浙江仁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今杭州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人。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代著名思想家、文学家。道光年间进士，官至礼部主事。后辞职南归，卒于江苏丹阳云阳书院。他主张在不根本改变封建制度的前提下，进行政治、经济改革；要求抵抗外国侵略，维护国家主权。文学上主张“更法”“改图”，把诗看成批评社会历史的工具。他的诗文反映了鸦片战争前夕黑暗的社会现实，深刻揭露了满清政府的腐败无能，充满爱国热情，具有渴望变革，追求理想的精神。诗风瑰丽清奇，有“龚派’’之称。散文奥博纵横，气势充沛，笔力遒劲。亦工词。龚自珍是近代改良主义运动的先驱，在文学界是首开近代风气的人物。他的作品在当时和以后都有重大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189000"/>
            <a:ext cx="72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老师朗读课文，在文中找出能概括文章主要内容的三句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8640" y="191628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辟病梅之馆以贮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70080" y="3213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而江浙之梅皆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4320" y="4653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以夭梅病梅为业以求钱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104292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6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00000" y="404640"/>
            <a:ext cx="75596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彩云"/>
              </a:rPr>
              <a:t>背景简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朝封建统治者为了强化思想统治，奴役人民，一方面以八股文作为科举考试选用人才的法定文体，以束缚人民的思想；另一方面大兴文字狱，以镇压知识分子。在长期残酷的思想统治下，人才遭到严重的压抑和摧残，龚自珍自己就是其中之一。他既对清王朝的专制主义极度不满，也渴望能涌现出大批力矫时弊、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救中国的人才。因此，他的进步思想就表现在对封建王朝黑暗腐败的揭露和批评，及坚持理想和个性解放的要求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80360" y="5397480"/>
            <a:ext cx="1763640" cy="1460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840"/>
                            </p:stCondLst>
                            <p:childTnLst>
                              <p:par>
                                <p:cTn id="112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044720" y="-963720"/>
            <a:ext cx="10657080" cy="8640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57920" y="6278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范进中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22860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大家谈一谈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2920" cy="234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63640" y="1989000"/>
            <a:ext cx="47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是不是可以说龚自珍已认识到中国文化人和中国社会悲剧的根源？历史和生活中有“病梅馆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6021360"/>
            <a:ext cx="1116000" cy="836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14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6:44:25Z</dcterms:created>
  <dc:creator>Billgates</dc:creator>
  <dc:description/>
  <dc:language>en-US</dc:language>
  <cp:lastModifiedBy>zmj</cp:lastModifiedBy>
  <dcterms:modified xsi:type="dcterms:W3CDTF">2007-09-05T06:04:04Z</dcterms:modified>
  <cp:revision>19</cp:revision>
  <dc:subject/>
  <dc:title>幻灯片 1</dc:title>
</cp:coreProperties>
</file>