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type.wav" ContentType="audio/x-wav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6.jpeg" ContentType="image/jpeg"/>
  <Override PartName="/ppt/media/chimes.wav" ContentType="audio/x-wav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7C7-B21B-424D-A94F-05A5E9BB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D47-DBED-4CE1-BD08-30A0131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A79-D8C7-4ACF-92D2-7FFB494A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FFD-527C-4482-95AC-C8D4EC63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EB5-4A5F-471D-BB8F-EFF55D6B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580-6C61-42A3-BD93-41F4BFC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EA0-A61A-491C-82BE-79E63FC9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2F7-03B7-43C4-9B3A-582BD2D6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583-42A1-49E2-B3A9-2739B9B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270-441F-4796-88DE-3F0A9D9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17D-E547-4846-8F58-A952F25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9CA-B39A-4563-84FB-B19A61D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CD6-557D-4628-B756-E2D0D76186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病梅馆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2001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级（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）班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李  鲁  陈  波  徐  鹏  白  露  宋  甜  陈明智  鲁  莹  张  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刘  亮  史  蓓  王  涓  杨莎萍  范  欣  谢舒吉  杨  盼  王  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杨  凯  贾  红  刘  庚  赵  宇  彭小迎  巨秦太  王  睿  张  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安  晖  华  瑾  刘飞宇  李雅哲  张  冰  陈富强  朱  科  金晓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董  婷  魏晓瑜  安  欣  霍佳雯  张芳怡  姜  峰  李  静  杨  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杨  成  张  蕊  段  伟  黄  倩  罗  宁  马小强  孙  妮  徐  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舒  涛  陈  静  阎  钊  郭  颂  王  旭  石广智  胡  蓓  薛  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张宏远  廖  凯  韩  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方正舒体"/>
              </a:rPr>
              <a:t>热烈欢迎各位领导各位老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方正舒体"/>
              </a:rPr>
              <a:t>光临我班听课指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27160" y="57355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雨肥梅绽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病</a:t>
            </a:r>
            <a:r>
              <a:rPr b="0" lang="zh-CN" sz="9600" spc="-1" strike="noStrike">
                <a:solidFill>
                  <a:srgbClr val="ff66ff"/>
                </a:solidFill>
                <a:latin typeface="Times New Roman"/>
                <a:ea typeface="华文隶书"/>
              </a:rPr>
              <a:t>梅</a:t>
            </a: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馆记</a:t>
            </a:r>
            <a:br>
              <a:rPr sz="6600"/>
            </a:br>
            <a:br>
              <a:rPr sz="66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龚自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457840" y="4725000"/>
            <a:ext cx="685800" cy="330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00"/>
              </a:solidFill>
              <a:latin typeface="Times New Roman"/>
              <a:ea typeface="华文行楷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138560" y="3191040"/>
          <a:ext cx="866880" cy="47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8560" y="3191040"/>
                    <a:ext cx="86688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38560" y="3191040"/>
          <a:ext cx="866880" cy="47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560" y="3191040"/>
                    <a:ext cx="86688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380880"/>
            <a:ext cx="4724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己亥杂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龚自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九州生气恃风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万马齐喑究可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我劝天公重抖擞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不拘一格降人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981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绳梅夭梅江浙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敢问是谁起祸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我愿筑馆多疗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甘冒诟厉尽予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0"/>
            <a:ext cx="8550360" cy="2076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龚自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号定庵。道光九年进士。曾任内阁中书、礼部主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清代后期著名的思想家、文学家，是资产阶级改良主义的先驱者之一。他反对帝国主义侵略中国，支持林则徐查禁鸦片。他对清朝严酷的思想统治和腐败的政治深感不满，力主“更法”，废科举，重真才，以求挽救危局。组织宣南诗社，讲求经世致用之学，宣传改良主义思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他的革新思想在当时曾产生很大的社会影响，并对后来康有为、梁启超的维新派政治改良运动起了推动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469360" y="6249960"/>
            <a:ext cx="669960" cy="600120"/>
          </a:xfrm>
          <a:custGeom>
            <a:avLst/>
            <a:gdLst>
              <a:gd name="textAreaLeft" fmla="*/ 38880 w 669960"/>
              <a:gd name="textAreaRight" fmla="*/ 631080 w 669960"/>
              <a:gd name="textAreaTop" fmla="*/ 38880 h 600120"/>
              <a:gd name="textAreaBottom" fmla="*/ 561240 h 600120"/>
            </a:gdLst>
            <a:ahLst/>
            <a:rect l="textAreaLeft" t="textAreaTop" r="textAreaRight" b="textAreaBottom"/>
            <a:pathLst>
              <a:path w="24112" h="21600">
                <a:moveTo>
                  <a:pt x="0" y="0"/>
                </a:moveTo>
                <a:lnTo>
                  <a:pt x="24112" y="0"/>
                </a:lnTo>
                <a:lnTo>
                  <a:pt x="24112" y="21600"/>
                </a:lnTo>
                <a:lnTo>
                  <a:pt x="0" y="21600"/>
                </a:lnTo>
                <a:close/>
              </a:path>
              <a:path fill="lightenLess" w="24112" h="21600">
                <a:moveTo>
                  <a:pt x="0" y="0"/>
                </a:moveTo>
                <a:lnTo>
                  <a:pt x="24112" y="0"/>
                </a:lnTo>
                <a:lnTo>
                  <a:pt x="22712" y="1400"/>
                </a:lnTo>
                <a:lnTo>
                  <a:pt x="1400" y="1400"/>
                </a:lnTo>
                <a:close/>
              </a:path>
              <a:path fill="darken" w="24112" h="21600">
                <a:moveTo>
                  <a:pt x="24112" y="0"/>
                </a:moveTo>
                <a:lnTo>
                  <a:pt x="24112" y="21600"/>
                </a:lnTo>
                <a:lnTo>
                  <a:pt x="22712" y="20200"/>
                </a:lnTo>
                <a:lnTo>
                  <a:pt x="22712" y="1400"/>
                </a:lnTo>
                <a:close/>
              </a:path>
              <a:path fill="darkenLess" w="24112" h="21600">
                <a:moveTo>
                  <a:pt x="24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2" y="20200"/>
                </a:lnTo>
                <a:close/>
              </a:path>
              <a:path fill="lighten" w="24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2" h="21600">
                <a:moveTo>
                  <a:pt x="8557" y="10800"/>
                </a:moveTo>
                <a:lnTo>
                  <a:pt x="19063" y="3794"/>
                </a:lnTo>
                <a:lnTo>
                  <a:pt x="19063" y="17806"/>
                </a:lnTo>
                <a:close/>
              </a:path>
              <a:path fill="darken" w="24112" h="21600">
                <a:moveTo>
                  <a:pt x="5050" y="3794"/>
                </a:moveTo>
                <a:lnTo>
                  <a:pt x="6712" y="3794"/>
                </a:lnTo>
                <a:lnTo>
                  <a:pt x="6712" y="17806"/>
                </a:lnTo>
                <a:lnTo>
                  <a:pt x="5050" y="17806"/>
                </a:lnTo>
                <a:close/>
              </a:path>
            </a:pathLst>
          </a:custGeom>
          <a:solidFill>
            <a:srgbClr val="f3e0b7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08800" y="6540480"/>
            <a:ext cx="99216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病梅馆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写作背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3366ff"/>
                </a:solidFill>
                <a:latin typeface="华文新魏"/>
                <a:ea typeface="华文新魏"/>
              </a:rPr>
              <a:t>清朝封建统治者为了加强思想统治，奴役人民，一方面以八股文作为科举考试选用人才的法定文体，以束缚人们的思想，另一方面大兴文字狱，镇压知识分子。在长期严酷的思想统治下，人才遭受严重的压抑和摧残。本文写于</a:t>
            </a:r>
            <a:r>
              <a:rPr b="0" lang="zh-CN" sz="2800" spc="-1" strike="noStrike">
                <a:solidFill>
                  <a:srgbClr val="3366ff"/>
                </a:solidFill>
                <a:latin typeface="华文新魏"/>
                <a:ea typeface="华文新魏"/>
              </a:rPr>
              <a:t>1839</a:t>
            </a:r>
            <a:r>
              <a:rPr b="0" lang="zh-CN" sz="2800" spc="-1" strike="noStrike">
                <a:solidFill>
                  <a:srgbClr val="3366ff"/>
                </a:solidFill>
                <a:latin typeface="华文新魏"/>
                <a:ea typeface="华文新魏"/>
              </a:rPr>
              <a:t>年，正是鸦片战争前夕，作者托梅议政，形象地揭露和抨击了清朝封建统治者束缚人们思想，压抑、摧残人才的罪行，表达了作者要求改革政治，打破严酷的思想统治，追求个性解放的强烈愿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初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疏通文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676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夭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为业以求钱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362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江浙之梅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971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予购三百盆，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之馆以贮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676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使梅病，损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21480" y="2209680"/>
            <a:ext cx="16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显出病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48480" y="2819520"/>
            <a:ext cx="12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病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3505320"/>
            <a:ext cx="13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病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52480" y="182880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熟读课文  理清思路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3159000" cy="192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60360" y="947880"/>
            <a:ext cx="37465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江宁之龙蟠，苏州之邓尉，杭州之西溪，皆产梅。或曰：“梅以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曲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为美，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直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则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姿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；以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为美，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正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则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；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疏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为美，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密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则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态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”固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1720" y="3144960"/>
            <a:ext cx="2801880" cy="28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美</a:t>
            </a:r>
            <a:r>
              <a:rPr b="1" i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曲 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—    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欹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—    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疏 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—    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7560" y="1720800"/>
            <a:ext cx="2095200" cy="641520"/>
          </a:xfrm>
          <a:prstGeom prst="wedgeRectCallout">
            <a:avLst>
              <a:gd name="adj1" fmla="val -96287"/>
              <a:gd name="adj2" fmla="val 42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Times New Roman"/>
              </a:rPr>
              <a:t>梅的产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920" y="343080"/>
            <a:ext cx="6441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……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此文人画士心知其意，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未可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明诏大号以绳天下之梅；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又不可以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使天下之民斫直，删密，锄正，以夭梅病梅为业以求钱也。梅之欹之疏之曲，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又非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蠢蠢求钱之民能以其智力为也。有以文人画士孤僻之隐明告鬻梅者，斫其正，养其旁条，删其密，夭其稚枝，锄其直，遏其生气，以求重价，而江浙之梅皆病。文人画士之祸之烈至此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9136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83920" y="1235160"/>
            <a:ext cx="1642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病梅产生的缘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2920" y="411120"/>
            <a:ext cx="8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8080" y="1052640"/>
            <a:ext cx="8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0680" y="1668600"/>
            <a:ext cx="8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120" y="2259000"/>
            <a:ext cx="8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8440" y="190440"/>
            <a:ext cx="538632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予购三百盆，皆病者，无一完者。既泣之三日，乃誓疗之：纵之顺之，毁其盆，悉埋于地，解其棕缚；以五年为期，必复之全之。予本非文人画士，甘受诟厉，辟病梅之馆以贮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呜呼！安得使予多暇日，又多闲田，以广贮江宁、杭州、苏州之病梅，穷予生之光阴以疗梅也哉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6104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80280" y="1395360"/>
            <a:ext cx="942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12600" dir="10800000" blurRad="0" rotWithShape="0">
                    <a:srgbClr val="808080"/>
                  </a:outerShdw>
                </a:effectLst>
                <a:latin typeface="黑体"/>
              </a:rPr>
              <a:t>同情</a:t>
            </a:r>
            <a:endParaRPr b="1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12600" dir="108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378480" y="560520"/>
            <a:ext cx="9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12600" dir="10800000" blurRad="0" rotWithShape="0">
                    <a:srgbClr val="808080"/>
                  </a:outerShdw>
                </a:effectLst>
                <a:latin typeface="黑体"/>
              </a:rPr>
              <a:t>行动</a:t>
            </a:r>
            <a:endParaRPr b="1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12600" dir="108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351480" y="4976640"/>
            <a:ext cx="9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12600" dir="10800000" blurRad="0" rotWithShape="0">
                    <a:srgbClr val="808080"/>
                  </a:outerShdw>
                </a:effectLst>
                <a:latin typeface="黑体"/>
              </a:rPr>
              <a:t>意愿</a:t>
            </a:r>
            <a:endParaRPr b="1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12600" dir="108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51480" y="2287440"/>
            <a:ext cx="9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12600" dir="10800000" blurRad="0" rotWithShape="0">
                    <a:srgbClr val="808080"/>
                  </a:outerShdw>
                </a:effectLst>
                <a:latin typeface="黑体"/>
              </a:rPr>
              <a:t>信心</a:t>
            </a:r>
            <a:endParaRPr b="1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12600" dir="108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51480" y="3094200"/>
            <a:ext cx="9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3366ff"/>
                </a:solidFill>
                <a:effectLst>
                  <a:outerShdw dist="12600" dir="10800000" blurRad="0" rotWithShape="0">
                    <a:srgbClr val="808080"/>
                  </a:outerShdw>
                </a:effectLst>
                <a:latin typeface="黑体"/>
              </a:rPr>
              <a:t>态度</a:t>
            </a:r>
            <a:endParaRPr b="1" lang="en-US" sz="2400" spc="1" strike="noStrike">
              <a:ln w="19080">
                <a:solidFill>
                  <a:srgbClr val="800080"/>
                </a:solidFill>
                <a:miter/>
              </a:ln>
              <a:solidFill>
                <a:srgbClr val="3366ff"/>
              </a:solidFill>
              <a:effectLst>
                <a:outerShdw dist="12600" dir="108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2" name=""/>
          <p:cNvSpPr/>
          <p:nvPr/>
        </p:nvSpPr>
        <p:spPr>
          <a:xfrm>
            <a:off x="8004240" y="420840"/>
            <a:ext cx="709560" cy="283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242" y="2864"/>
                </a:moveTo>
                <a:lnTo>
                  <a:pt x="-2319" y="862"/>
                </a:lnTo>
              </a:path>
              <a:path w="21600" h="21600">
                <a:moveTo>
                  <a:pt x="-2319" y="0"/>
                </a:moveTo>
                <a:lnTo>
                  <a:pt x="-2319" y="2160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纵顺毁埋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82720" y="21600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7880" y="808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138924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誓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92400" y="2479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1400" y="304812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11400" y="497376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120" y="554184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1880" y="137628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7880" y="137484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5120" y="137304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81000" y="193680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840" y="193680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9880" y="762120"/>
            <a:ext cx="16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effectLst>
                  <a:outerShdw dist="68321" dir="20281825" blurRad="0" rotWithShape="0">
                    <a:srgbClr val="a50021"/>
                  </a:outerShdw>
                </a:effectLst>
                <a:latin typeface="方正舒体"/>
              </a:rPr>
              <a:t>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effectLst>
                <a:outerShdw dist="68321" dir="20281825" blurRad="0" rotWithShape="0">
                  <a:srgbClr val="a50021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3880" y="4267080"/>
            <a:ext cx="914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cc"/>
                </a:solidFill>
                <a:effectLst>
                  <a:outerShdw dist="68321" dir="20281825" blurRad="0" rotWithShape="0">
                    <a:srgbClr val="000099"/>
                  </a:outerShdw>
                </a:effectLst>
                <a:latin typeface="宋体"/>
              </a:rPr>
              <a:t>病</a:t>
            </a:r>
            <a:endParaRPr b="1" lang="en-US" sz="2400" spc="1" strike="noStrike">
              <a:ln w="9360">
                <a:solidFill>
                  <a:srgbClr val="333333"/>
                </a:solidFill>
                <a:miter/>
              </a:ln>
              <a:solidFill>
                <a:srgbClr val="3333cc"/>
              </a:solidFill>
              <a:effectLst>
                <a:outerShdw dist="68321" dir="20281825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553080" y="4267080"/>
            <a:ext cx="10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68321" dir="20281825" blurRad="0" rotWithShape="0">
                    <a:srgbClr val="800080"/>
                  </a:outerShdw>
                </a:effectLst>
                <a:latin typeface="宋体"/>
              </a:rPr>
              <a:t>疗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68321" dir="20281825" blurRad="0" rotWithShape="0">
                  <a:srgbClr val="8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648320"/>
            <a:ext cx="3027240" cy="528480"/>
          </a:xfrm>
          <a:prstGeom prst="rightArrow">
            <a:avLst>
              <a:gd name="adj1" fmla="val 49741"/>
              <a:gd name="adj2" fmla="val 100933"/>
            </a:avLst>
          </a:prstGeom>
          <a:gradFill rotWithShape="0">
            <a:gsLst>
              <a:gs pos="0">
                <a:srgbClr val="800080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cc99"/>
                </a:solidFill>
                <a:latin typeface="Times New Roman"/>
              </a:rPr>
              <a:t>摧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715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cc99"/>
                </a:solidFill>
                <a:latin typeface="Times New Roman"/>
              </a:rPr>
              <a:t>挽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4120" y="2057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57600" y="2819520"/>
            <a:ext cx="1828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琥珀"/>
              </a:rPr>
              <a:t>（人才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琥珀"/>
              <a:ea typeface="华文琥珀"/>
            </a:endParaRPr>
          </a:p>
        </p:txBody>
      </p:sp>
      <p:sp>
        <p:nvSpPr>
          <p:cNvPr id="134" name=""/>
          <p:cNvSpPr/>
          <p:nvPr/>
        </p:nvSpPr>
        <p:spPr>
          <a:xfrm>
            <a:off x="1786680" y="762120"/>
            <a:ext cx="1399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曲  欹  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90360" y="838080"/>
            <a:ext cx="13993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99"/>
                </a:solidFill>
                <a:latin typeface="华文新魏"/>
                <a:ea typeface="华文新魏"/>
              </a:rPr>
              <a:t>直  正  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385920" y="4343400"/>
            <a:ext cx="183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斫  删  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养  夭  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5480" y="4038480"/>
            <a:ext cx="1833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纵  顺  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  复  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114300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      “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托物言志”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666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的生活经历和所处的时代背景，决定了他不能直言朝政，只能委婉含蓄地表达自己的政治主张。在本文中作者采用“托物言志”的手法，隐晦曲折地表达了重大的政治主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3019320" cy="183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752480" y="380880"/>
            <a:ext cx="60199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幼圆"/>
              </a:rPr>
              <a:t>联想练习</a:t>
            </a:r>
            <a:endParaRPr b="1" lang="en-US" sz="2400" spc="1" strike="noStrike">
              <a:ln w="2556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幼圆"/>
              <a:ea typeface="幼圆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66160" y="6568920"/>
            <a:ext cx="99216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病梅馆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579096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12040" y="762120"/>
            <a:ext cx="66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人才为话题作一次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0948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908840" y="524880"/>
            <a:ext cx="66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952560"/>
            <a:ext cx="5384880" cy="4952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16520" y="982800"/>
            <a:ext cx="729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当代人才之我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2000" y="1135080"/>
            <a:ext cx="139932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  <a:ea typeface="华文新魏"/>
              </a:rPr>
              <a:t>即兴演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505320" y="304920"/>
            <a:ext cx="175248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再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38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疏影横斜水清浅，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暗香浮动月黄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31640" y="4190760"/>
            <a:ext cx="804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华文行楷"/>
                <a:ea typeface="华文行楷"/>
              </a:rPr>
              <a:t>已是黄昏独自愁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华文行楷"/>
                <a:ea typeface="华文行楷"/>
              </a:rPr>
              <a:t>        </a:t>
            </a:r>
            <a:r>
              <a:rPr b="1" lang="zh-CN" sz="6000" spc="-1" strike="noStrike">
                <a:solidFill>
                  <a:srgbClr val="6600ff"/>
                </a:solidFill>
                <a:latin typeface="华文行楷"/>
                <a:ea typeface="华文行楷"/>
              </a:rPr>
              <a:t>更着风和雨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41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梅花欢喜漫天雪，</a:t>
            </a:r>
            <a:br>
              <a:rPr sz="4400"/>
            </a:b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冻死苍蝇未足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一树梅花一放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昨夜寒窗下，已有数枝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1120" y="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梅花香自苦寒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04:03:56Z</dcterms:created>
  <dc:creator>wjf</dc:creator>
  <dc:description/>
  <dc:language>en-US</dc:language>
  <cp:lastModifiedBy>zzz</cp:lastModifiedBy>
  <dcterms:modified xsi:type="dcterms:W3CDTF">2007-11-27T15:33:11Z</dcterms:modified>
  <cp:revision>59</cp:revision>
  <dc:subject/>
  <dc:title>病梅馆记 龚自珍</dc:title>
</cp:coreProperties>
</file>