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8348-42BE-4BB9-B004-E472626D3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F9CD-9983-4720-9F70-0C9AAC44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7A00-4A7E-4A4A-BB18-E34630C1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E072-E5DE-4F20-BFB3-F891007FC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DE8E-F82B-4E5C-8F79-AFEDC6D0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64FE-943E-403B-A6A9-DB2E30DE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9732-3B61-4672-AA52-E1307243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32FA-3ED7-4E87-A00C-C3AA6013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FD46-9252-4522-A431-FC99BF9A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4F0F-8BD7-441C-BA45-C5C61701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7218-B315-4095-B41F-F4692EB5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1B88-EC68-4904-8FBE-DE9F8263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C955-CDAE-457C-9477-07E0626237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1341360"/>
            <a:ext cx="7920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凡物不得其平则鸣。”在社会的发展进程中，历来的先知先觉们往往因为其眼光前瞻、洞察敏锐、见解犀利而与浊世格格不入，强烈的社会责任感和“敢叫日月换新天”的人类意志养成了他们牢骚满腹则“大鸣大放”的锐气与“指点江山，激扬文字”的批判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题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692280"/>
            <a:ext cx="8064360" cy="71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其稚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未可明诏大号以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天下之梅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以夭梅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梅为业以求钱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纵之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必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之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17240" y="69228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词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活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1235160"/>
            <a:ext cx="7848720" cy="62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夭．动词的使动用法，使…早死摧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绳，名词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用作动词，约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病，动词的使动用法使……病，损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锄，名词用作动词，锄去，铲 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顺，动词的使动用法 理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复，全动词的使动用法，使……复原，使……健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71640" y="692280"/>
            <a:ext cx="3529080" cy="51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己亥杂诗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龚自珍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九州生气恃风雷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万马齐喑究可哀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劝天公重抖擞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不拘一格降人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076720" y="981000"/>
            <a:ext cx="360072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916360" y="687240"/>
            <a:ext cx="59036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被苏东坡形容是“玉雪为骨冰为魂”的梅花，是百花中最早开放的。梅花悄然开时，傍深山，临冰河，清香幽雅，暗香沁细，伴雪迎风，独占花魁。寒夜中，暮色里，带给驿路上饱受苦寒的人们一缕清淡的快乐和慰籍。梅以韵胜，以格高，品为上。自古以来，孟浩然踏雪寻梅，林和靖梅妻鹤子，更传为佳话。道不尽梅花的冰姿玉骨，爱之深梅花的雪月精神。悄然之间，一份孤高；默然之间，一份清秀；谈笑之间，一份不群；无心之时，一份飘逸轻芳，淡情，洗却的是万古的凡尘，荡涤的是红颜的纯真，寻到的是那淡雅绝俗的出尘之美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rcRect l="0" t="3499" r="-20042" b="1845"/>
          <a:stretch/>
        </p:blipFill>
        <p:spPr>
          <a:xfrm>
            <a:off x="250920" y="692280"/>
            <a:ext cx="2843280" cy="51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95280" y="907920"/>
            <a:ext cx="3456000" cy="50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山园小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林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众芳摇落独暄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占尽风情向小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疏影横斜水清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暗香浮动月黄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霜禽欲下先偷眼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粉蝶如知合断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幸有微吟可相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须檀板共金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427640" y="476280"/>
            <a:ext cx="4176720" cy="5715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995640" y="549360"/>
            <a:ext cx="4897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韵译】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百花凋零的时候，唯有你鲜艳亮丽地开放；小园宜人的风景，都被你高雅的身影占光。你疏落有致的影子，横斜地倒映在清浅的泉水上；你淡雅清幽的香气，在朦胧的月色里飘荡。冬天的鸟儿想落到你的枝头栖身，还先偷偷睁眼把你张望；粉色的蝴蝶若知道世上还有你这样美的花朵，也应该会痴迷神往。幸而有诗人与你亲近，陪你低吟浅唱；不需要俗客在歌舞酒宴中，把你亵渎玩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780000" y="836640"/>
            <a:ext cx="51130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首诗被称为咏梅的千古绝唱。苏轼《书林逋诗后》中曾说：“先生可是绝伦人，神清骨冷无尘俗。”诗作抒发了诗人怎样的情感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首诗表达了诗人孤高幽逸、孤芳自赏、不附流俗的生活情趣，是诗人幽独清高、自甘淡泊的人格写照。这和梅花的孤高精神是相通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907920"/>
            <a:ext cx="3456000" cy="50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山园小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林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众芳摇落独暄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占尽风情向小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疏影横斜水清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暗香浮动月黄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霜禽欲下先偷眼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粉蝶如知合断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幸有微吟可相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须檀板共金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348000" y="620640"/>
            <a:ext cx="5545080" cy="21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颔联历来为世人称道，请作简要赏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颔联为我们描绘了一幅优美的山园梅图。上句轻笔勾勒出梅之骨，“疏影”状其轻盈，“翩若惊鸿”；“横斜”传其妩媚，迎风而歌；“水清浅”显其澄澈灵动温润。下句浓墨描摹出梅之韵，“暗香”写其无形而香随风而至，如同捉迷藏一样富有情趣；“浮动”言其款款而来，飘然而逝，颇有仙风道骨；“月黄昏”采其美妙背景，从时间上把我们带到一个“月上柳梢头，人约黄昏后”的动人时刻，从空间上把我们引进一个“落霞与孤骛齐飞，秋水共长天一色”似的迷人意境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907920"/>
            <a:ext cx="3456000" cy="50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山园小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林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众芳摇落独暄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占尽风情向小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疏影横斜水清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暗香浮动月黄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霜禽欲下先偷眼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粉蝶如知合断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幸有微吟可相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须檀板共金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627280" y="1268280"/>
            <a:ext cx="5977080" cy="4032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684360" y="3141720"/>
            <a:ext cx="2232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黑体"/>
              </a:rPr>
              <a:t>再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黑体"/>
              <a:ea typeface="黑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333360"/>
            <a:ext cx="9144000" cy="5040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68360" y="5084640"/>
            <a:ext cx="3816360" cy="124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c0c0c0">
                      <a:alpha val="50000"/>
                    </a:srgbClr>
                  </a:outerShdw>
                </a:effectLst>
                <a:latin typeface="黑体"/>
              </a:rPr>
              <a:t>病    馆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c0c0c0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763640" y="4653000"/>
            <a:ext cx="12956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黑体"/>
              </a:rPr>
              <a:t>梅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00720" y="4797360"/>
            <a:ext cx="143964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黑体"/>
              </a:rPr>
              <a:t>记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1344240"/>
            <a:ext cx="8388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题目字面上看，写作对象是“梅”，落笔重点在“病”字上，十分醒目，引起读者深思。文章这样定题说明作者“歌泣无端字字真”，是有的放矢、有感而发的。“记”是记事文体的一种，更见本文所写内容的真实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8360" y="2997360"/>
            <a:ext cx="820728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492360" y="755640"/>
            <a:ext cx="5256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龚自珍，号定庵，清代著名的思想家，文学家，资产阶级改良主义的先驱者。精通历史、地理、文字、经学。反对帝国主义侵略中国，支持林则徐查禁鸦片，力主废科举重真才，以求挽救危局。组织宣南诗社，讲求经世致用之学，宣传改良主义思想。是首开近代文学风气的诗人和散文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95280" y="766800"/>
            <a:ext cx="3165480" cy="3886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9640" y="4365720"/>
            <a:ext cx="835344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激越和温柔，郁闷和深情，人生沧桑，仕途坎坷，集满了他的一生，终于写出了名垂久远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首《己亥杂诗》，成为中国古诗史上最后的一座高峰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771640" y="2565360"/>
            <a:ext cx="6121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清朝封建统治者为了加强思想统治，奴役人民，一方面以八股文作为科举考试选用人才的法定文体，以束缚人们的思想；另一方面大兴文字狱，镇压知识分子。在长期严酷的思想统治下，人才遭受严重的压抑和摧残。本文写于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839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，是作者辞官南归之后寓居江苏昆山时所作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242568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404640"/>
            <a:ext cx="8496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江宁之龙蟠，苏州之邓尉，杭州之西溪，皆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产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梅。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曰：“梅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以曲为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直则无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姿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以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欹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美，正则无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景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以疏为美，密则无态。”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。此文人画士，心知其意，未可明诏大号以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下之梅也；又不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可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天下之民斫直，删密，锄正，以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梅病梅为业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钱也。梅之欹之疏之曲，又非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蠢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钱之民能以其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智力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也。有以文人画士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孤癖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隐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告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鬻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梅者，</a:t>
            </a:r>
            <a:r>
              <a:rPr b="1" lang="zh-CN" sz="2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斫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正，</a:t>
            </a:r>
            <a:r>
              <a:rPr b="1" lang="zh-CN" sz="2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养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旁条，</a:t>
            </a:r>
            <a:r>
              <a:rPr b="1" lang="zh-CN" sz="2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密，</a:t>
            </a:r>
            <a:r>
              <a:rPr b="1" lang="zh-CN" sz="2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稚枝，</a:t>
            </a:r>
            <a:r>
              <a:rPr b="1" lang="zh-CN" sz="2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锄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直，</a:t>
            </a:r>
            <a:r>
              <a:rPr b="1" lang="zh-CN" sz="2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生气，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重价，而江浙之梅皆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文人画士之祸之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至此哉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4021200"/>
            <a:ext cx="799308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黑体"/>
                <a:ea typeface="黑体"/>
              </a:rPr>
              <a:t>梅的病态是什么？象征了什么？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、欹、疏        对人格的扭曲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黑体"/>
                <a:ea typeface="黑体"/>
              </a:rPr>
              <a:t>致梅成病态的手段是什么？这又象征了什么？</a:t>
            </a:r>
            <a:r>
              <a:rPr b="1" lang="zh-CN" sz="2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斫、删、锄        对人才的压迫摧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95280" y="692280"/>
            <a:ext cx="8497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予购三百盆，皆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，无一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。既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泣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日，乃誓疗之：纵之顺之，毁其盆，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埋于地，解其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棕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缚；以五年为期，必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复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。予本非文人画士，甘受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诟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辟病梅之馆以贮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呜呼！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使予多暇日，又多闲田，以广贮江宁、杭州、苏州之病梅，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予生之光阴以疗梅也哉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3716280"/>
            <a:ext cx="77342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黑体"/>
                <a:ea typeface="黑体"/>
              </a:rPr>
              <a:t>疗梅 的决心是怎样体现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有行动：购梅、辟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体办法：纵、顺、埋、解、复、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态度愿望：不怕打击，置垢厉与度外；穷其后半生，将疗梅事业进行到底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3880" y="5867280"/>
            <a:ext cx="23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夭梅之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5334120"/>
            <a:ext cx="260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叹梅之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48006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疗梅之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5880" y="4267080"/>
            <a:ext cx="21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疗梅之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740720" y="36925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疗梅之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5791320"/>
            <a:ext cx="1067040" cy="304560"/>
          </a:xfrm>
          <a:custGeom>
            <a:avLst/>
            <a:gdLst>
              <a:gd name="textAreaLeft" fmla="*/ 355680 w 1067040"/>
              <a:gd name="textAreaRight" fmla="*/ 914040 w 1067040"/>
              <a:gd name="textAreaTop" fmla="*/ 175320 h 304560"/>
              <a:gd name="textAreaBottom" fmla="*/ 261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5334120"/>
            <a:ext cx="1066680" cy="304560"/>
          </a:xfrm>
          <a:custGeom>
            <a:avLst/>
            <a:gdLst>
              <a:gd name="textAreaLeft" fmla="*/ 355680 w 1066680"/>
              <a:gd name="textAreaRight" fmla="*/ 913680 w 1066680"/>
              <a:gd name="textAreaTop" fmla="*/ 175320 h 304560"/>
              <a:gd name="textAreaBottom" fmla="*/ 261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4724280"/>
            <a:ext cx="1067040" cy="304920"/>
          </a:xfrm>
          <a:custGeom>
            <a:avLst/>
            <a:gdLst>
              <a:gd name="textAreaLeft" fmla="*/ 355680 w 1067040"/>
              <a:gd name="textAreaRight" fmla="*/ 914040 w 1067040"/>
              <a:gd name="textAreaTop" fmla="*/ 175680 h 304920"/>
              <a:gd name="textAreaBottom" fmla="*/ 2613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24720" y="4203720"/>
            <a:ext cx="1066680" cy="304920"/>
          </a:xfrm>
          <a:custGeom>
            <a:avLst/>
            <a:gdLst>
              <a:gd name="textAreaLeft" fmla="*/ 355680 w 1066680"/>
              <a:gd name="textAreaRight" fmla="*/ 913680 w 1066680"/>
              <a:gd name="textAreaTop" fmla="*/ 175680 h 304920"/>
              <a:gd name="textAreaBottom" fmla="*/ 2613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88960" y="6308640"/>
            <a:ext cx="1067040" cy="304920"/>
          </a:xfrm>
          <a:custGeom>
            <a:avLst/>
            <a:gdLst>
              <a:gd name="textAreaLeft" fmla="*/ 355680 w 1067040"/>
              <a:gd name="textAreaRight" fmla="*/ 914040 w 1067040"/>
              <a:gd name="textAreaTop" fmla="*/ 175680 h 304920"/>
              <a:gd name="textAreaBottom" fmla="*/ 2613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620640"/>
            <a:ext cx="501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思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2123640" y="17859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403280" y="1844640"/>
            <a:ext cx="3816360" cy="2521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6600" y="6237360"/>
            <a:ext cx="25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产梅之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566640"/>
            <a:ext cx="8207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文中梅的遭遇正是清朝封建专制统治下人才的遭遇；作者对梅的态度，正是作者对人才的态度；作者对造成梅的病态的痛斥，正是作者对封建统治阶级摧残人才、扼杀人才罪行的痛斥；作者要求恢复梅的本性，保全梅的自然健康形态，正是作者要求个性解放“不拘一格降人才”的迫切心情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84360" y="4437000"/>
            <a:ext cx="7848360" cy="1943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24000" y="3254760"/>
            <a:ext cx="8675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本文表面上是句句说梅，没有一句题外的话，而实际上却是以写梅为名，以喻人为实，字字句句讥切时政，寓意十分深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13:44:37Z</dcterms:created>
  <dc:creator>zhang</dc:creator>
  <dc:description/>
  <dc:language>en-US</dc:language>
  <cp:lastModifiedBy>zmj</cp:lastModifiedBy>
  <dcterms:modified xsi:type="dcterms:W3CDTF">2010-03-08T07:57:13Z</dcterms:modified>
  <cp:revision>14</cp:revision>
  <dc:subject/>
  <dc:title>病梅馆记.</dc:title>
</cp:coreProperties>
</file>