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B7A-A6CB-4E32-A27D-50D0D9FF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8B5-2C2E-40F9-A83A-D584A7A1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1D0-C21F-4B1C-8F98-635C736F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0F5-42DB-49F0-8979-85F186FA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6BC5-7E9E-443B-8079-1163F91A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B4F2-F1AB-47D9-BCCC-88F0CDFA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0FD-D078-4448-9026-7A6D9076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C41-572A-42EA-8043-2C3C682C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B48-562C-49E9-9070-57EEBAEF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FD64-9D50-403B-A09E-BAF95D42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80B2-63D1-4A7B-AEFD-FAF2BE24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F874-0FC6-4E2A-B7F6-01FCDD51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E22E-92B0-4D56-B3A1-F57F60D2F8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76360" y="1413000"/>
            <a:ext cx="6095880" cy="18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12600">
                  <a:solidFill>
                    <a:srgbClr val="3366ff"/>
                  </a:solidFill>
                  <a:miter/>
                </a:ln>
                <a:noFill/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病梅馆记</a:t>
            </a:r>
            <a:endParaRPr b="1" i="1" lang="en-US" sz="6000" spc="1" strike="noStrike">
              <a:ln w="12600">
                <a:solidFill>
                  <a:srgbClr val="3366ff"/>
                </a:solidFill>
                <a:miter/>
              </a:ln>
              <a:noFill/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"/>
          <p:cNvSpPr/>
          <p:nvPr/>
        </p:nvSpPr>
        <p:spPr>
          <a:xfrm>
            <a:off x="5580000" y="4292640"/>
            <a:ext cx="25210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990099"/>
                </a:solidFill>
                <a:latin typeface="Times New Roman"/>
              </a:rPr>
              <a:t>龚自珍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2400" y="0"/>
            <a:ext cx="42336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meihu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0920" y="404640"/>
            <a:ext cx="6324840" cy="1312920"/>
          </a:xfrm>
          <a:prstGeom prst="rect">
            <a:avLst/>
          </a:prstGeom>
          <a:noFill/>
          <a:ln w="9360">
            <a:solidFill>
              <a:srgbClr val="ffffff">
                <a:alpha val="4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己亥杂诗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989000"/>
            <a:ext cx="7391160" cy="4672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zh-CN" sz="5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九州生气恃风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万马齐喑究可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我劝天公重抖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不拘一格降人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56360" y="134136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龚自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meihua" descr=""/>
          <p:cNvPicPr/>
          <p:nvPr/>
        </p:nvPicPr>
        <p:blipFill>
          <a:blip r:embed="rId2">
            <a:alphaModFix amt="53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14200" y="876960"/>
            <a:ext cx="4813560" cy="454212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译文】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有风雪激荡般的巨大力量才能使中国大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出勃勃生气，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然而朝野臣民噤口不语终究是一种悲哀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奉劝天帝能重新振作精神，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不要拘守一定规格降下更多的人才。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5840" y="1309680"/>
            <a:ext cx="533520" cy="1981080"/>
          </a:xfrm>
          <a:custGeom>
            <a:avLst/>
            <a:gdLst>
              <a:gd name="textAreaLeft" fmla="*/ 340920 w 533520"/>
              <a:gd name="textAreaRight" fmla="*/ 533880 w 533520"/>
              <a:gd name="textAreaTop" fmla="*/ 83520 h 1981080"/>
              <a:gd name="textAreaBottom" fmla="*/ 189756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57"/>
                  <a:pt x="10800" y="2913"/>
                </a:cubicBezTo>
                <a:lnTo>
                  <a:pt x="10800" y="7887"/>
                </a:lnTo>
                <a:cubicBezTo>
                  <a:pt x="10800" y="9344"/>
                  <a:pt x="5400" y="10800"/>
                  <a:pt x="0" y="10800"/>
                </a:cubicBezTo>
                <a:cubicBezTo>
                  <a:pt x="5400" y="10800"/>
                  <a:pt x="10800" y="12257"/>
                  <a:pt x="10800" y="13713"/>
                </a:cubicBezTo>
                <a:lnTo>
                  <a:pt x="10800" y="18687"/>
                </a:lnTo>
                <a:cubicBezTo>
                  <a:pt x="10800" y="201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9360" y="1004760"/>
            <a:ext cx="3276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因：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曲、欹、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9360" y="1919160"/>
            <a:ext cx="3352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举：斫、养、删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夭、锄、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5680" y="29862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果：江浙之梅皆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3280" y="11574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统治者的用人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560" y="20718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摧残、扼杀人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1880" y="2909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才受害之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痛人才遭扼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464832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除人才的束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恢复人才的本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60958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拯救人才的坚定信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22860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托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2286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言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68120" y="2133720"/>
            <a:ext cx="54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81952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4038480"/>
            <a:ext cx="533520" cy="2286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3809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泣梅：三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4648320"/>
            <a:ext cx="4343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梅：纵、顺、毁、埋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、复、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6110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贮梅：穷予生之光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-149040" y="4038480"/>
            <a:ext cx="1520640" cy="2029320"/>
            <a:chOff x="-149040" y="4038480"/>
            <a:chExt cx="1520640" cy="2029320"/>
          </a:xfrm>
        </p:grpSpPr>
        <p:sp>
          <p:nvSpPr>
            <p:cNvPr id="76" name=""/>
            <p:cNvSpPr/>
            <p:nvPr/>
          </p:nvSpPr>
          <p:spPr>
            <a:xfrm>
              <a:off x="-149040" y="4038480"/>
              <a:ext cx="1277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议疗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8600" y="548640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2)(3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-301320" y="1219320"/>
            <a:ext cx="1277640" cy="17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记病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0720" y="1371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表层意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----------------------------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言外意（比喻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1981080"/>
            <a:ext cx="4038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病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人画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品梅标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曲、欹、疏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--------------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533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具体体会作者是如何运用这种手法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55880" y="1981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人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68880" y="30481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遭摧残、压抑的人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05480" y="4191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封建统治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34480" y="548640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选拔人才标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奴才、庸才、歪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1828800" y="1219320"/>
            <a:ext cx="1295280" cy="1295280"/>
            <a:chOff x="1828800" y="1219320"/>
            <a:chExt cx="1295280" cy="1295280"/>
          </a:xfrm>
        </p:grpSpPr>
        <p:sp>
          <p:nvSpPr>
            <p:cNvPr id="87" name=""/>
            <p:cNvSpPr/>
            <p:nvPr/>
          </p:nvSpPr>
          <p:spPr>
            <a:xfrm>
              <a:off x="1828800" y="1219320"/>
              <a:ext cx="1295280" cy="129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48120" y="1295280"/>
              <a:ext cx="668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夭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之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581280" y="76320"/>
            <a:ext cx="1295280" cy="1295280"/>
            <a:chOff x="3581280" y="76320"/>
            <a:chExt cx="1295280" cy="1295280"/>
          </a:xfrm>
        </p:grpSpPr>
        <p:sp>
          <p:nvSpPr>
            <p:cNvPr id="90" name=""/>
            <p:cNvSpPr/>
            <p:nvPr/>
          </p:nvSpPr>
          <p:spPr>
            <a:xfrm>
              <a:off x="3581280" y="76320"/>
              <a:ext cx="1295280" cy="129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00960" y="152640"/>
              <a:ext cx="668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叹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之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334120" y="1143000"/>
            <a:ext cx="1295280" cy="1295280"/>
            <a:chOff x="5334120" y="1143000"/>
            <a:chExt cx="1295280" cy="1295280"/>
          </a:xfrm>
        </p:grpSpPr>
        <p:sp>
          <p:nvSpPr>
            <p:cNvPr id="93" name=""/>
            <p:cNvSpPr/>
            <p:nvPr/>
          </p:nvSpPr>
          <p:spPr>
            <a:xfrm>
              <a:off x="5334120" y="1143000"/>
              <a:ext cx="1295280" cy="129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53800" y="1219320"/>
              <a:ext cx="668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疗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之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590920" y="2819520"/>
            <a:ext cx="1295280" cy="1295280"/>
            <a:chOff x="2590920" y="2819520"/>
            <a:chExt cx="1295280" cy="1295280"/>
          </a:xfrm>
        </p:grpSpPr>
        <p:sp>
          <p:nvSpPr>
            <p:cNvPr id="96" name=""/>
            <p:cNvSpPr/>
            <p:nvPr/>
          </p:nvSpPr>
          <p:spPr>
            <a:xfrm>
              <a:off x="2590920" y="2819520"/>
              <a:ext cx="1295280" cy="129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10600" y="2895840"/>
              <a:ext cx="668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产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之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495680" y="2819520"/>
            <a:ext cx="1295280" cy="1295280"/>
            <a:chOff x="4495680" y="2819520"/>
            <a:chExt cx="1295280" cy="1295280"/>
          </a:xfrm>
        </p:grpSpPr>
        <p:sp>
          <p:nvSpPr>
            <p:cNvPr id="99" name=""/>
            <p:cNvSpPr/>
            <p:nvPr/>
          </p:nvSpPr>
          <p:spPr>
            <a:xfrm>
              <a:off x="4495680" y="2819520"/>
              <a:ext cx="1295280" cy="129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15360" y="2895840"/>
              <a:ext cx="668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疗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之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819600" y="15541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20160" y="44956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借梅议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44600" y="44956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托物言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2424240"/>
            <a:ext cx="0" cy="2590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73520" y="4876920"/>
            <a:ext cx="102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人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601560"/>
            <a:ext cx="1143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1" action="ppaction://hlinksldjump"/>
              </a:rPr>
              <a:t>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1:22:44Z</dcterms:created>
  <dc:creator>User</dc:creator>
  <dc:description/>
  <dc:language>en-US</dc:language>
  <cp:lastModifiedBy>User</cp:lastModifiedBy>
  <dcterms:modified xsi:type="dcterms:W3CDTF">2006-11-22T09:58:00Z</dcterms:modified>
  <cp:revision>7</cp:revision>
  <dc:subject/>
  <dc:title>幻灯片 1</dc:title>
</cp:coreProperties>
</file>