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FD7-C2E3-49B0-8AA8-7AA778C5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602-2EAD-4430-908B-76237F2F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B64-D946-45BF-98E8-C1AA1B6C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595-395E-4457-9CB1-84BE7434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431-4D93-4184-B5F7-05B45AB8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FFF-3240-456B-9155-CA98BAA0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27E-AB07-4A76-BD8F-A948D405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8B1-6BF6-43C9-868E-546281E5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70A-2D03-4E29-A43B-315F7B81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BA4-31BD-40DC-8E73-27C38C9A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B28-EBA7-4D08-BEFC-4F8CC958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20A-2413-4737-AEEB-5E6409A0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E99F-C788-4F43-8DDF-04ECA33AC6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2952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《鲁周公世家》</a:t>
            </a:r>
            <a:r>
              <a:rPr b="1" lang="zh-CN" sz="8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6360" y="328464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司马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213372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讲读课文第</a:t>
            </a: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1 </a:t>
            </a: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26920" y="83664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问：周公少年时代具有怎样的品性？武王时代他主要功绩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2421000"/>
            <a:ext cx="7848720" cy="19371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Times New Roman"/>
                <a:ea typeface="黑体"/>
              </a:rPr>
              <a:t>明确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周公少年时代具有笃仁纯孝，武王时代他主要功绩是辅佐武王，翦灭殷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05120" y="213372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讲读课文第</a:t>
            </a: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2 </a:t>
            </a: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1052640"/>
            <a:ext cx="81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问：第二节主要写了什么内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141720"/>
            <a:ext cx="7696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明确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以身为质，祈武王康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52480" y="213372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讲读课文第</a:t>
            </a: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3 </a:t>
            </a: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22860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问：第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节主要写了什么内容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2209680"/>
            <a:ext cx="7696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明确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周公忍辱负重，代成王处理政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30492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问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文中“然我一沐三捉发，一饭三吐哺”一句，曹操在《短歌行》中是如何说的？曹操以周公为典范，表达了怎样的愿望？（课本第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24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页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29718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“</a:t>
            </a: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周公吐哺，天下归心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8862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用典，以周公自比，以周公礼贤下士的精神自励。表达了曹操急于招贤纳士，建功立业的心情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87280" y="2781360"/>
            <a:ext cx="69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讲读课文第</a:t>
            </a: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4-6 </a:t>
            </a: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71640" y="62064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问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4-6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节主要写了什么内容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明确：周公平定叛乱，营建洛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16000" y="2565360"/>
            <a:ext cx="73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讲读课文第</a:t>
            </a: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7-10</a:t>
            </a: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2480" y="2209680"/>
            <a:ext cx="6553440" cy="1312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有关课文说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95280" y="609480"/>
            <a:ext cx="72392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小结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7-10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节主要写周公还政成王，制礼作乐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58920" y="2276640"/>
            <a:ext cx="670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讲读课文第</a:t>
            </a: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11 </a:t>
            </a: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19320" y="152388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  <a:ea typeface="华文隶书"/>
              </a:rPr>
              <a:t>   </a:t>
            </a:r>
            <a:r>
              <a:rPr b="1" lang="zh-CN" sz="6600" spc="-1" strike="noStrike">
                <a:solidFill>
                  <a:srgbClr val="0000ff"/>
                </a:solidFill>
                <a:latin typeface="宋体"/>
                <a:ea typeface="华文隶书"/>
              </a:rPr>
              <a:t>这节写周公临终遗言，归葬成周之地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42920" y="2421000"/>
            <a:ext cx="752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讲读课文第</a:t>
            </a: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12-15</a:t>
            </a: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792468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黑体"/>
              </a:rPr>
              <a:t>小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12-15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节，叙述周公逝后之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成王感动，褒周公之懿德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后世无道，衬周公之美德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09680" y="22860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宋体"/>
                <a:ea typeface="华文隶书"/>
              </a:rPr>
              <a:t>总结课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3000" y="533520"/>
            <a:ext cx="769608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00"/>
              </a:spcBef>
              <a:buSzPct val="1131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思考以下问题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A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周公的身份和地位如何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B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文中正面写了周公的哪些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从文中找出侧面描写周公的内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19320" y="380880"/>
            <a:ext cx="71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周公身份和地位高贵显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1371600"/>
            <a:ext cx="685800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幼年时代笃仁纯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辅佐君王忠心耿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牺牲私利义无反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代理国政忍辱负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平定叛乱坚定果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辅佐成王鞠躬尽瘁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治理国家仁爱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2133720"/>
            <a:ext cx="990720" cy="3385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正面描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87280" y="1341360"/>
            <a:ext cx="55008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风雷示警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金滕书感动周成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原始察终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世主愧对鲁周公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59640" y="1197000"/>
            <a:ext cx="990360" cy="3385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侧面描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38080" y="228600"/>
            <a:ext cx="3353040" cy="825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黑体"/>
              </a:rPr>
              <a:t>阅读与探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2952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《太史公自序》中，司马迁这样评价周公：“夫天下称诵周公，言其能论歌文武之德，宣周邵之风，达太王王季之思虑，爰及公刘，以尊后稷也。”可见他对周公不但有一种深厚的景仰之情，而且把周公作为“立德立功立言”的楷模来学习仿效，从《鲁周公世家》的哪些地方可以看出这种崇敬之情？（课本第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页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71640" y="12682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本篇内容主要是详细地记述了西周开国重臣周公的生平事迹，并择要记载了鲁国经历三十四代君主、历时一千余年的历史发展过程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30492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明确：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黑体"/>
              </a:rPr>
              <a:t>作者正是饱含着激情来塑造周公形象的。作者用四分之一的篇幅，详尽赅赡地叙述了周公的一生：</a:t>
            </a:r>
            <a:r>
              <a:rPr b="1" lang="zh-CN" sz="3600" spc="-1" strike="noStrike">
                <a:solidFill>
                  <a:srgbClr val="cc0066"/>
                </a:solidFill>
                <a:latin typeface="宋体"/>
                <a:ea typeface="黑体"/>
              </a:rPr>
              <a:t>幼年时代的笃仁纯孝，平定管蔡分裂叛乱时的坚定果断，牺牲个人时的义无反顾，代理国政时的忍辱负重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黑体"/>
              </a:rPr>
              <a:t>……作者用与主人公性格相一致的深沉有力的语言娓娓道来，为我们树立了一个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胸怀博大、深沉果断，为国家利益辛劳毕生、鞠躬尽瘁的高岸君子形象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黑体"/>
              </a:rPr>
              <a:t>，感人至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152280"/>
            <a:ext cx="2667240" cy="825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黑体"/>
              </a:rPr>
              <a:t>疑难探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21932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周公数次为王祈祝于神，为何要藏其策于府？怎样理解他的这些举动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5053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参考答案：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这个问题仁者见仁，智者见智。可以认为是周公高风亮节的体现，也可以认为是周公自保的一种手段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228600"/>
            <a:ext cx="2743200" cy="825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黑体"/>
              </a:rPr>
              <a:t>文章主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600200"/>
            <a:ext cx="7772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本篇详细地记述了西周开国重臣周公的生平事迹，热情讴歌了周公“能论歌文武之德，宣周邵之风，达太王王季之思虑，爰及公刘，以尊后稷也”。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228600"/>
            <a:ext cx="2743200" cy="825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黑体"/>
              </a:rPr>
              <a:t>写作借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本篇中作者“原始察终，见盛观衰”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特地采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对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手法，来揭露那些腐朽没落的统治者的丑恶本质。主要是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用周公的品德与鲁国后世无道君臣进行强烈对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表现出作者敏锐的观察判断能力和高度现实主义精神。司马迁采用对比的手法，也表现周公的高尚人格。一是幼时的周公与群子的对比，表现其纯孝笃仁；二是武王病时，周公与群臣的对比，表现其献身精神；三是周公与管叔与群弟的对比，表现其光明磊落的胸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206064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宋体"/>
                <a:ea typeface="华文隶书"/>
              </a:rPr>
              <a:t>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36450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宋体"/>
                <a:ea typeface="黑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304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公是我国政治史、文化史上的一个极为重要的人物。他帮助周武王开创了周王朝八百年的基业，从而也把我国的第一个文明社会形式推向了巅峰，为我国民族融合、政治统一作出了巨大贡献。同时，他所制定的“礼乐行政”，对我国民族文化传统的形成，也具有开山的意义，至今中华民族的文化心理之中，仍涓涓流淌着西周时代那种重伦理、轻逸乐、好俭朴、乐献身的君子风度和集体精神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533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司马迁对周公不但有一种深厚的景仰之情，而且把周公作为“立德立功立言”的楷模来学习仿效，要为中国文化发展作出贡献。在《太史公自序》中，他激动地回忆了父亲临终时的嘱托：“夫天下称诵周公，言其能论歌文武之德，宣周邵之风，达太王王季之思虑，爰及公刘，以尊后稷也。”可见，周公的榜样力量是激励司马迁完成《史记》创作的重要因素之一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5720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但是，历史唯物主义地来看，周、孔所创立的儒家文化也有其消极的一面：泯灭个性，过于保守，强调等级，以及由此带来的繁缛的礼仪……凡此种种，要批判地对待。另外，司马迁对周公的极度褒扬之中，也表现出司马迁思想的局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09680" y="2057400"/>
            <a:ext cx="5410440" cy="1557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文段概括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228600"/>
            <a:ext cx="8001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第一分（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1-2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节）集中表现了周公幼时的笃仁纯孝，牺牲个人时的义无反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第二部分（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3-10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节）着力表现了周公辅佐成王时的忍辱负重和平定管、蔡叛乱的坚定果断，告诫成王为政之道时语重心长，为巩固周王朝统治作出的不懈努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第三部分（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11-12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节）周公的事迹感动天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第四部分（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13-15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节）周公的品德与鲁国后世无道君臣进行强烈对比，揭露腐朽没落统治者的丑恶本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09680" y="2057400"/>
            <a:ext cx="5410440" cy="1557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梳理课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5:40:14Z</dcterms:created>
  <dc:creator>l</dc:creator>
  <dc:description/>
  <dc:language>en-US</dc:language>
  <cp:lastModifiedBy>walkinnet</cp:lastModifiedBy>
  <dcterms:modified xsi:type="dcterms:W3CDTF">2007-11-21T12:58:09Z</dcterms:modified>
  <cp:revision>151</cp:revision>
  <dc:subject/>
  <dc:title>没有幻灯片标题</dc:title>
</cp:coreProperties>
</file>