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1EB-98FC-409E-A4BD-E63785FB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365-F40F-4748-B65F-10965D2B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0C9-2E72-42EC-A3E9-35BC3A23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2D2-58CE-4B76-BE61-7843C790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36AA-D7A6-492A-BF17-5614E320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A8B1-8C13-4854-A18B-67953D9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6E3C-9EAF-4BC1-8F39-32B854D5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60B-9612-4488-82E7-7AB06955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F446-43DC-4DD4-A689-EC9F64B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563E-5489-42AF-9145-88082EA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35D1-6847-4BB2-9F6B-92570C6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D70-E647-439E-A399-9E884E22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8261-CF5C-4565-96BC-CFE9F39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DEFC-9DBC-4B7F-B700-75DB3EC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A276-32BC-4A1B-B69E-E29D7FC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178-2326-4999-9877-4FD21125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64F8-B468-4ABB-86F3-A3EF0B39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11EF-1BA3-4346-98BA-54DF5598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B88FB-5F2B-4543-91FF-C30EFB81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4436-3860-4935-8AF3-61AD994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98F6E-AB8C-4891-A70B-3CC1EED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C3C7-0040-4388-9F58-AB6EF22D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B85-0E50-4B44-80ED-81FDC84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355E-67FB-4714-B5FA-D8E86415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780C-984E-45E9-9803-67041F9C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D628-FF47-4254-A991-EAF4EC5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96DC-BA5C-403B-8681-68A028A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DC22-DBD2-4645-8C22-067131D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4FA2-D68C-4A1B-A01D-2916B11A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E56C-B9DC-4C71-8913-0667FCF9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738A-8A7D-47DF-A0AF-FDEF9A37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5BB8-0227-4CBD-89B7-0B5E57C7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30E3-9258-4DAD-83F5-823BAE3C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82B-E687-49C3-8B35-8BB17188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5FF4-4524-4C02-8CCB-0A8210AF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9DAE-0B24-40F5-AE1A-82317829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A9C7-97A7-4144-8897-99524CA0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9696-730A-4871-B7EF-09EA38ED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5200-63E3-4169-94E6-838E5715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6419-3DFB-471C-9507-E860F481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C4CCE-57D0-479A-8AE7-81415C51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DF66-6EE7-485E-B21D-A4FAB1D0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C980-068D-41B5-93A7-9F98F876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4834F-4B92-4B51-83D6-355FAADC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7F4-CEAD-41C4-AC34-9AD86BC0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4F2E6-85F3-46C1-BAB3-91A89D6F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8041-B690-477D-8CCB-AD521D7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47634-67A7-447C-8A10-1C7D2446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3871-7FDF-43E1-AA00-729BEA3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0991-9A25-403A-B91C-86755EF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A245D-96AC-425E-817A-DF7D466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611FD-3F2D-418E-BB19-85D245E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B0234-D1CB-4CCF-BD9F-A674530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7586-3265-4D9E-81C3-FF7019A5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8E91-9435-4778-983B-1CFEB89F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E6C-ACB2-4F46-ADDF-6427A6D8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8519-1CAB-481E-88E9-7637BA0C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87D2-D7FB-4AFF-BA81-8858D7C1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E23A-A7E6-495D-BDCC-BAB466A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DDFB0-A279-4F46-95AD-48195A93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E7FD-F0EE-452C-A6D7-E7682256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0032E-1CA9-48F9-88C9-3F150286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26C11-D739-40A9-9638-CD0BA4D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A4BD-4456-44C4-8AD6-7BD8DEB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9D60E-5A3A-4F50-B037-5D9B6F4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41C7B-8C43-4280-92B0-54214DCF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0CE-9E7E-4C38-85AE-CCE84E6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1DFE-549C-491B-9861-3E0DA8AA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3A65-F0E3-43A1-9026-DDB2CA05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7B8E1-36D7-4864-AF93-8D5C4417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5FA9-E617-4475-8C1E-8DE1C5D3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1703-8B1F-450F-A92B-193206AF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9B75-B08B-4787-9F28-40A30B98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2F28E-BE81-4AC2-93CF-398F983C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856B-8561-488C-B655-56C3B4D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A18E-6743-47CC-95A8-D0A571B1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D365-9282-4483-94B9-4D037B6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A17-7922-41DC-B8A9-EBFA611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7966-354B-4743-B3D7-CDF2405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04929-CCD8-4976-A9EC-5EB0BC7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5BA9-8C6E-4C0D-ADEC-A216FD9F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9B0CD-505D-4989-B7DC-DAFE626B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88BF-1520-4EF3-9B20-FAA1F3B2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1345A-9CB6-49BB-A47A-28F1A88D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4D1A-AEB5-4E7C-A2E2-E596E28A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4416-7AD1-40F8-BF5C-FDD4AED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4ED5B-68A6-411C-8DBA-BAEF2C51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3075-AB1D-48EE-B905-AF17995E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B17-FA74-44D4-96C3-FED2285B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8E28-DC55-4D5C-B318-3E86C27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6784D-79BD-4B71-8B6B-DEF42C18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70DCE-F9F9-4D8F-BFF0-C57B483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E1824-BF31-4518-B35D-35E5962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CB16-4399-40DE-AB4F-6BB7E13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FDE01-AE42-4568-8062-5FED949B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CAFB5-9DFF-4607-9DE0-9F0DD814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938F-1078-4E80-AA85-C8205F644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2B75-4D73-4D89-9E90-345B002F73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624240" y="-423000"/>
            <a:ext cx="2676240" cy="7678800"/>
            <a:chOff x="-624240" y="-423000"/>
            <a:chExt cx="2676240" cy="7678800"/>
          </a:xfrm>
        </p:grpSpPr>
        <p:sp>
          <p:nvSpPr>
            <p:cNvPr id="82" name=""/>
            <p:cNvSpPr/>
            <p:nvPr/>
          </p:nvSpPr>
          <p:spPr>
            <a:xfrm rot="2700000">
              <a:off x="-322200" y="-113400"/>
              <a:ext cx="1443600" cy="144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700000">
              <a:off x="-322920" y="-124560"/>
              <a:ext cx="1442880" cy="144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700000">
              <a:off x="-311760" y="-112680"/>
              <a:ext cx="1443600" cy="144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-311040" y="-118800"/>
              <a:ext cx="1445760" cy="14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700000">
              <a:off x="50760" y="254880"/>
              <a:ext cx="6822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700000">
              <a:off x="-322200" y="1124640"/>
              <a:ext cx="1443600" cy="144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-324000" y="1117080"/>
              <a:ext cx="1443600" cy="144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700000">
              <a:off x="-311760" y="1128240"/>
              <a:ext cx="1443600" cy="144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700000">
              <a:off x="-311040" y="1122480"/>
              <a:ext cx="1445760" cy="14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50760" y="1501200"/>
              <a:ext cx="6822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700000">
              <a:off x="-322200" y="2375640"/>
              <a:ext cx="1444320" cy="144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700000">
              <a:off x="-322200" y="3631320"/>
              <a:ext cx="1443600" cy="144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-324000" y="3623760"/>
              <a:ext cx="1443600" cy="144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00000">
              <a:off x="-311760" y="3634920"/>
              <a:ext cx="1443600" cy="144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700000">
              <a:off x="-311040" y="3629160"/>
              <a:ext cx="1445760" cy="14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0760" y="4002840"/>
              <a:ext cx="6822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700000">
              <a:off x="-322200" y="4877640"/>
              <a:ext cx="1444320" cy="144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290160" y="515880"/>
              <a:ext cx="144828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281160" y="515880"/>
              <a:ext cx="144828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85480" y="515160"/>
              <a:ext cx="1447920" cy="14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8900000">
              <a:off x="280440" y="515880"/>
              <a:ext cx="144864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900000">
              <a:off x="690120" y="894960"/>
              <a:ext cx="68436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8900000">
              <a:off x="299160" y="1757160"/>
              <a:ext cx="144900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900000">
              <a:off x="290520" y="1757160"/>
              <a:ext cx="14490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8900000">
              <a:off x="295200" y="1756080"/>
              <a:ext cx="14479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8900000">
              <a:off x="285120" y="1757520"/>
              <a:ext cx="144864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900000">
              <a:off x="690120" y="2136240"/>
              <a:ext cx="68436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700000">
              <a:off x="-324000" y="2368080"/>
              <a:ext cx="1443600" cy="144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-311760" y="2379240"/>
              <a:ext cx="1443600" cy="144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700000">
              <a:off x="-306360" y="2373480"/>
              <a:ext cx="1445760" cy="144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700000">
              <a:off x="50760" y="2751840"/>
              <a:ext cx="6822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900000">
              <a:off x="304200" y="3008520"/>
              <a:ext cx="14482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900000">
              <a:off x="304920" y="3008160"/>
              <a:ext cx="144828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00000">
              <a:off x="299880" y="3007080"/>
              <a:ext cx="14479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900000">
              <a:off x="290160" y="3008520"/>
              <a:ext cx="144864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900000">
              <a:off x="694800" y="3387240"/>
              <a:ext cx="68436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900000">
              <a:off x="299160" y="4263840"/>
              <a:ext cx="144900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900000">
              <a:off x="290520" y="4263840"/>
              <a:ext cx="14490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900000">
              <a:off x="295200" y="4262760"/>
              <a:ext cx="144792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8900000">
              <a:off x="290160" y="4264200"/>
              <a:ext cx="144864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900000">
              <a:off x="690120" y="4642920"/>
              <a:ext cx="68436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700000">
              <a:off x="-322920" y="4869360"/>
              <a:ext cx="1442880" cy="144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700000">
              <a:off x="-311760" y="4881240"/>
              <a:ext cx="1443600" cy="144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700000">
              <a:off x="-311040" y="4875120"/>
              <a:ext cx="1445760" cy="14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700000">
              <a:off x="50760" y="5253840"/>
              <a:ext cx="6822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900000">
              <a:off x="299520" y="5509800"/>
              <a:ext cx="14490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8900000">
              <a:off x="290520" y="5509800"/>
              <a:ext cx="14490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8900000">
              <a:off x="295200" y="5509440"/>
              <a:ext cx="1447920" cy="14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900000">
              <a:off x="285120" y="5510160"/>
              <a:ext cx="144864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900000">
              <a:off x="689760" y="5889600"/>
              <a:ext cx="68436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08C3-F619-4689-9489-34B57F7A2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2489040" y="-1476360"/>
            <a:ext cx="14155200" cy="14124240"/>
            <a:chOff x="-2489040" y="-1476360"/>
            <a:chExt cx="14155200" cy="14124240"/>
          </a:xfrm>
        </p:grpSpPr>
        <p:sp>
          <p:nvSpPr>
            <p:cNvPr id="174" name=""/>
            <p:cNvSpPr/>
            <p:nvPr/>
          </p:nvSpPr>
          <p:spPr>
            <a:xfrm rot="18900000">
              <a:off x="-403560" y="638280"/>
              <a:ext cx="9953280" cy="99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8900000">
              <a:off x="-414720" y="614880"/>
              <a:ext cx="9954000" cy="9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8900000">
              <a:off x="-429480" y="611640"/>
              <a:ext cx="9951120" cy="994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8900000">
              <a:off x="-346320" y="586440"/>
              <a:ext cx="9954000" cy="99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8900000">
              <a:off x="-7200" y="1047240"/>
              <a:ext cx="9207360" cy="9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8900000">
              <a:off x="-18360" y="1023840"/>
              <a:ext cx="9206280" cy="9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900000">
              <a:off x="-10080" y="1006200"/>
              <a:ext cx="9207000" cy="9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8900000">
              <a:off x="47160" y="981720"/>
              <a:ext cx="9204840" cy="9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8900000">
              <a:off x="2534760" y="3739680"/>
              <a:ext cx="4075920" cy="407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89D8-8386-4BF1-97D7-4FBF7AE607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c1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225" name=""/>
            <p:cNvSpPr/>
            <p:nvPr/>
          </p:nvSpPr>
          <p:spPr>
            <a:xfrm>
              <a:off x="7905600" y="0"/>
              <a:ext cx="124308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2C2-BFF5-4EF1-8D9F-B7B18376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c1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269" name=""/>
            <p:cNvSpPr/>
            <p:nvPr/>
          </p:nvSpPr>
          <p:spPr>
            <a:xfrm>
              <a:off x="7905600" y="0"/>
              <a:ext cx="124308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DA68-473E-4BC5-A531-EB3A862D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784-0069-462F-A323-9A3EF34D4F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9382-6033-46BD-A889-A55A6872C4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8728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一单元 中国古代短篇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16360" y="2208240"/>
            <a:ext cx="346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柳毅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80000" y="35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朝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古代小说发展的几个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明清小说。明清时代，我国古典小说，特别是章回小说发展到了高峰，产生了大批不朽的名篇，如《三国演义》、《水浒传》、《西游记》、《聊斋志异》、《儒林外史》、《红楼梦》等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0880" y="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习目标：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学习本文通过曲折的故事情节和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的细节描写来表现人物个性的写作技巧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学习传奇通过幻想反映现实的特点，了解本文反映封建包办婚姻和封建家长制度迫害妇女的罪恶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028" descr=""/>
          <p:cNvPicPr/>
          <p:nvPr/>
        </p:nvPicPr>
        <p:blipFill>
          <a:blip r:embed="rId1"/>
          <a:srcRect l="0" t="16668" r="0" b="1933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18840" y="333360"/>
            <a:ext cx="20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词语解释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舒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95120" y="11145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贱妾不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9520" y="1647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幸一闻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43880" y="21812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吾君方幸玄珠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43880" y="2790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高雅得幸于胡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77920" y="3857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乃前寄辞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606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95120" y="4390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迫辞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77920" y="5000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归去来兮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95120" y="55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固辞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106668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动词幸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9168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6040" y="2209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特指君王至某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91680" y="27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宠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0641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言辞，词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15720" y="441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告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15720" y="50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文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6920" y="5562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推辞，不接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14479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41148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3000" y="333360"/>
            <a:ext cx="20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词语解释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舒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95120" y="114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坐贻聋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77920" y="167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但坐观罗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26680" y="2286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公子引侯生坐上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43880" y="2895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停车坐爱枫林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71440" y="403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疾告宫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37040" y="4648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婴疾甚，且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7040" y="5257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吾疾贫富不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68600" y="5867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庞涓恐其贤于己，疾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9168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因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9168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9168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9168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667120" y="3962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快，急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1872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152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厌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01520" y="586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忌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447920"/>
            <a:ext cx="76320" cy="167616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43434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304920"/>
            <a:ext cx="457200" cy="2361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228600"/>
            <a:ext cx="3124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悲不自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各不可胜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日出江花红胜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予观夫巴陵胜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429000"/>
            <a:ext cx="457200" cy="2743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276720"/>
            <a:ext cx="426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乃前寄辞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家祭无忘告乃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必以长安君为质，兵乃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乃致父兄昆弟而誓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当改过自新，乃益骄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80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能承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106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828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超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2590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优美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8640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是，就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86400" y="38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你，你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4572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86400" y="5257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于是，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5867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却，竟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48120" y="5335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句式判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47920" y="220968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念乡人有客于泾阳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为婢仆所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今日见辱问于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柱以白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洞庭君安在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2209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语后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动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486400" y="38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状语后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8640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宾语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c1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1c62"/>
                </a:solidFill>
                <a:latin typeface="Times New Roman"/>
              </a:rPr>
              <a:t>《柳毅传》的故事情节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2d2525"/>
                </a:solidFill>
                <a:latin typeface="Times New Roman"/>
              </a:rPr>
              <a:t>全文共三部分，课文节选的是第一部分写柳毅仗义传书。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2d2525"/>
                </a:solidFill>
                <a:latin typeface="Times New Roman"/>
              </a:rPr>
              <a:t>课文以后的情节是这样的：洞庭君感柳毅之德，设宴款待。钱塘君提出将龙女许配给柳毅，但因出语傲慢，遭到柳毅的严辞拒绝。柳毅辞归，娶妻屡亡，乃迁居金陵。而龙女于直感柳毅之恩，“誓心求报”，她闭户剪发，断然拒绝父母欲她许配给濯锦江的小儿子的愿望，后知柳毅在金陵鳏居，乃化名卢氏女，由媒说合，与柳毅终成配偶。夫妻感情甚笃。谈起往事，柳毅方知卢氏即龙女。后夫妻徙迁南海，复归洞庭。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5280" y="633240"/>
            <a:ext cx="91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阅读小说要紧紧抓住情节、人物、和背景三个要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首先思考以下问题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37800" y="1962000"/>
            <a:ext cx="6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全文是以什么为线索来展开故事情节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65880" y="28526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书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3924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书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884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求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1884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允诺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9992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洞庭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59280" y="3933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3860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17720" y="429264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传书的结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18160" y="4292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组成了完整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9280" y="4508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柳毅途中忽遇“鸟起马惊，疾逸道左；又六七里，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乃止“，暗示将出现奇人奇事。路遇龙女，人神交往，此一奇。柳毅遵龙女所嘱，到达龙宫，凡人进入仙境，此二奇。洞庭龙宫富丽堂皇，富有神秘色彩，此三奇。钱塘君闻讯凌空救侄女，兼有神话中龙的属性和现实中钱塘怒涛的巨大声势，此为四奇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情节波澜起伏、曲折生动、想象丰富，体现了浪漫主义的色彩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柳毅入龙宫一段，传书的方式奇特，按照这种方式，果真见到了水府龙宫，见到了人世间没有的奇景，还见到了神龙世界的奇人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57320" y="26028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、情节曲折是传奇的鲜明特点，请结合课文说说哪些方面体现了情节之奇？</a:t>
            </a:r>
            <a:br>
              <a:rPr sz="38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572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柳毅为什么答应替龙女传书？他是否已对龙女有意？传书过程中的所作所为表现了柳毅具有怎样的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2971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b812f"/>
                </a:solidFill>
                <a:latin typeface="Times New Roman"/>
              </a:rPr>
              <a:t>柳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见义勇为，急人之困，扶危救困，重信守义，有正义感，胸怀坦荡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4419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柳毅的侠义之举是作者褒扬的，表达了作者对扶危救困的社会道德理想的肯定与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90720" y="2209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出于对不幸弱小者的同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440" y="1270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图用美丽的理想去代替那不足的人生。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勒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人生中替我们创造另一种人生。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莱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"/>
          <p:cNvSpPr/>
          <p:nvPr/>
        </p:nvSpPr>
        <p:spPr>
          <a:xfrm>
            <a:off x="409320" y="30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漫主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762120" y="99072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这样构思情节有什么作用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书信为线索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能使故事情节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凑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能突出人物性格，龙女托书柳毅，说明龙女不屈服于命运，想方设法要跳出苦海，寻求幸福；柳毅传书，表现了急人之难的侠肝义胆；钱塘君闻讯而怒，食婿除恶，表现了正直刚烈的特点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57200" y="990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传奇构思精巧，情节曲折，结构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柳毅传》写柳毅为龙女完成传书使命，钱塘君杀了泾河小龙，救回龙女后，又陡生波折，平添钱塘君逼婚，柳毅严词拒绝一节。柳毅回家后连娶两妻皆亡，似与龙女无缘，不料三娶的卢氏竟是龙女的化身。作者围绕龙女争取婚姻自主这一主线安排情节，展开矛盾，波澜迭起，出乎意料，入乎情理，构思极巧妙，体现了“作意好奇”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57200" y="762120"/>
            <a:ext cx="8077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传奇语言生动流畅，简洁而富于表现力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与作者不少是诗文高手，讲究修辞造句，注意汲取骈文和口语之长有关。如钱塘君救回龙女后，“洞庭君曰：‘所杀几何？’曰：‘六十万。’‘伤稼乎？’曰：‘八百里。’‘无情郎安在？’曰：‘食之矣’。”寥寥数语，钱塘君的性格、说话时的神情口气十分有个性。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问者专注、急切，答者坦然、快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80880" y="380880"/>
            <a:ext cx="8382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分析人物性格特点。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龙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美丽善良，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追求幸福而又有反抗精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女子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满父母包办，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屈从于命运，力求改变命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面对丈夫公婆的迫害，不是逆来顺受，而是要跑出苦海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小结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封建的妇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形象。　　　　　　　　　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1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04920" y="0"/>
            <a:ext cx="838188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义勇为，扶弱锄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青年。是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的主要人物，也是作者全力歌颂的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刚毅正直，有正义感，同情弱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把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人传书救人于危难看成自己应该做的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显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坦荡的情怀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3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8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3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8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334120" y="1447920"/>
            <a:ext cx="304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钱塘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剪除恶暴伸张正义的勇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形象。他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性格刚烈，嫉恶如仇，坦直莽撞。敢于承担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016" descr=""/>
          <p:cNvPicPr/>
          <p:nvPr/>
        </p:nvPicPr>
        <p:blipFill>
          <a:blip r:embed="rId1"/>
          <a:srcRect l="18000" t="0" r="17003" b="0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5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0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柳毅和钱塘君身上，寄托了作者怎样的理想？</a:t>
            </a:r>
            <a:endParaRPr b="0" i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柳毅身上，寄托着完美人格的理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人急人所难，正直无私。这样的人格，才是女性爱慕的对象，女子理想的归宿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钱塘君身上，寄托着彻底摧毁恶势力的理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作者对于妇女的不幸深为同情，对于迫害妇女的恶势力，作者认为要用暴力的手段，给以毁灭性的打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造成龙女不幸婚姻的根本原因是什么？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0800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根本原因在于父母包办这种封建的婚姻制度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婚姻，根本没有爱情的基础，而且带有极大的盲目性，正如洞庭龙君所谓“不能鉴听，坐贻聋瞽”，他将女儿配嫁泾川次子，泾川次子人品如何，他是不明了的。结果嫁给了一个贪图“乐逸”的家伙，龙女就遭殃了。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龙女的不幸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还在于封建的夫权制、家长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妇女处于完全无权的地位。公婆竟然有权“毁黜”她，令她牧羊荒野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2492280"/>
            <a:ext cx="96123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钱塘君性格的多面性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性格刚烈，嫉恶如仇，坦直莽撞，敢于承担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不改暴戾的本性，除恶过程中滥杀无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458136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钱塘君除暴安良的壮举，寄托着人民的愿望和理想，只有彻底破坏旧秩序，才能为自由幸福开辟道路，要破坏旧秩序，非得有排山倒海的强大力量不可，钱塘君就是这种愿望和力量的化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运用什么艺术手法塑造钱塘君形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6858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面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非凡形象与非凡动作，语言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侧面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出场前洞庭君的话，出场时的环              境，柳毅的惊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4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c1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c62"/>
                </a:solidFill>
                <a:latin typeface="Times New Roman"/>
              </a:rPr>
              <a:t>用文言给课文撰写故事梗概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2d2525"/>
                </a:solidFill>
                <a:latin typeface="Times New Roman"/>
              </a:rPr>
              <a:t>一日，柳毅下第还乡，路遇牧羊女，貌若甚戚者。问其故，乃知龙女也，为无情郎所厌薄，又得罪舅姑，以致黜焉。女托书于毅。慨然许之，以水府深，遂叩通达之术，径引别东去。月余还家，诣洞庭，果如其言，由武夫揭水指路，数息至宫，会洞庭君，幸玄珠阁，须臾方临。设拜后进书，哀咤良久，举宫悉恸。钱塘怒食无情郎，龙女获救回宫。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92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奇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一种小说体裁，专指唐。宋人用文字写作的短篇小说。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这些小说多为后代戏曲所取材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所以也每称戏曲为传奇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明代以唱南曲为主的戏曲形式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传奇小说集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中世纪欧洲骑士文学中一种长篇故事诗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原由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相遇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传书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谈话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辞别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3" name=""/>
          <p:cNvSpPr/>
          <p:nvPr/>
        </p:nvSpPr>
        <p:spPr>
          <a:xfrm>
            <a:off x="2484360" y="2276640"/>
            <a:ext cx="935280" cy="2160360"/>
          </a:xfrm>
          <a:custGeom>
            <a:avLst/>
            <a:gdLst>
              <a:gd name="textAreaLeft" fmla="*/ 0 w 935280"/>
              <a:gd name="textAreaRight" fmla="*/ 337680 w 935280"/>
              <a:gd name="textAreaTop" fmla="*/ 150480 h 2160360"/>
              <a:gd name="textAreaBottom" fmla="*/ 200988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07"/>
                  <a:pt x="10800" y="4814"/>
                </a:cubicBezTo>
                <a:lnTo>
                  <a:pt x="10800" y="5986"/>
                </a:lnTo>
                <a:cubicBezTo>
                  <a:pt x="10800" y="8393"/>
                  <a:pt x="16200" y="10800"/>
                  <a:pt x="21600" y="10800"/>
                </a:cubicBezTo>
                <a:cubicBezTo>
                  <a:pt x="16200" y="10800"/>
                  <a:pt x="10800" y="13207"/>
                  <a:pt x="10800" y="15614"/>
                </a:cubicBezTo>
                <a:lnTo>
                  <a:pt x="10800" y="16786"/>
                </a:lnTo>
                <a:cubicBezTo>
                  <a:pt x="10800" y="191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80000" y="256536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义勇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直不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4036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96360" y="1916280"/>
            <a:ext cx="12236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映封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社会妇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痛苦遭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映作者要求冲破封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藩篱的理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9640" y="602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79640" y="5516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神话故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浪漫主义笔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4360" y="3068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43280" y="3284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51280" y="3068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钱唐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2924280"/>
            <a:ext cx="216000" cy="115236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360"/>
              <a:gd name="textAreaBottom" fmla="*/ 1104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80000" y="2708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暴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80000" y="400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物刻划的生动传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毅—女对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7" name=""/>
          <p:cNvSpPr/>
          <p:nvPr/>
        </p:nvSpPr>
        <p:spPr>
          <a:xfrm>
            <a:off x="2987640" y="2708280"/>
            <a:ext cx="71640" cy="2808360"/>
          </a:xfrm>
          <a:custGeom>
            <a:avLst/>
            <a:gdLst>
              <a:gd name="textAreaLeft" fmla="*/ 20880 w 71640"/>
              <a:gd name="textAreaRight" fmla="*/ 72000 w 71640"/>
              <a:gd name="textAreaTop" fmla="*/ 117000 h 2808360"/>
              <a:gd name="textAreaBottom" fmla="*/ 26913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2637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柳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义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侠义正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76720" y="5157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龙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善良多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求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境描写—烘托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68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开头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原由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罩神秘面纱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龙宫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反衬上层社会生活的豪华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奢靡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75564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铺陈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80000" y="21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59280" y="17002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置精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装饰讲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32360" y="292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渲染环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00000" y="4365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钱唐君出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635280" y="47242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16360" y="443700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侧面烘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柳毅传的艺术价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6360" y="1412640"/>
            <a:ext cx="9072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龙女与柳毅的爱情与古代许多郎才女貌、一见钟情的爱情故事不同，柳毅的侠义行为出于同情妇女，没有任何个人私图，他救助龙女，是对婚姻压迫的不平和愤激，听到龙女的遭遇，他“气血俱动”，义无他虑。柳毅的正义感和光明磊落的胸怀，赢得了龙女的倾慕与追求，这比才子佳人、郎才女貌的爱情小说具有更高、更深厚的道德蕴含。因此，这个神话故事包孕着丰厚的人间生活，是作者理想的展现，寄托了比一般的“才子佳人”更高的道德理想和美学理想，是人民爱憎感情和美好愿望的体现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通过幻想反映现实，使情节既富有浪漫的诗意，又具有生活的厚度，人神相恋，并最终走向幸福生活，使作品生出许多逸趣。作者把灵怪、侠义、爱情三方面内容融合一起，构筑成了一个美丽、动人的传奇故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29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、指出下面有活用现象的词语，并作解释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念乡人有客于泾阳者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客：</a:t>
            </a: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作客他乡   名作动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而夫婿乐逸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乐：</a:t>
            </a: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以……为乐、喜欢    形容词意动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3068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夫乃止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357336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止：</a:t>
            </a:r>
            <a:r>
              <a:rPr b="0" lang="zh-CN" sz="2800" spc="-1" strike="noStrike">
                <a:solidFill>
                  <a:srgbClr val="f0321e"/>
                </a:solidFill>
                <a:latin typeface="Arial"/>
              </a:rPr>
              <a:t>使……停止  动词使动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04920" y="76464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夫乃止毅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止：使……止步   使动用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景从云合，而见一人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景：像影子一样    云：像云气一样    名作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悲泗淋漓，诚怛人心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怛：使……忧伤    使动用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⑦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愿得生归，以避复来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生：活着    名作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⑧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幸为少尽缱绻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缱绻：缠绵深厚的情意  形作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分析下面的句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98080" y="1557000"/>
            <a:ext cx="88455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见有妇人，牧羊于道畔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（状语后置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贱妾不幸，今日见辱问于长者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（被动句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而夫婿乐逸，为婢仆所惑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（被动句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既而将诉于舅姑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 Rounded MT Bold"/>
              </a:rPr>
              <a:t>（省略句）“将（之）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⑤</a:t>
            </a: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雕琉璃于翠楣，饰琥珀于虹栋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（状语后置）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⑥</a:t>
            </a: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洞庭君安在哉   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（宾语前置）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⑦</a:t>
            </a: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时有宦人密侍君者 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（定语后置）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⑧</a:t>
            </a: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何故不使知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（省略句）“使（之）”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95280" y="26028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介绍传奇特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5640" y="105264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唐传奇是一种文言短篇小说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在六朝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怪基础上发展起来的，但两者有很大的区别，对此鲁迅曾有论述：“小说亦如诗，至唐代而一变，虽尚不离于搜奇记逸，然叙述宛转、文辞华艳，与六朗之粗陈梗概者较，演进之迹甚明，而尤显者乃在是时则始有意为小说。“胡应麟《笔丛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云：“变异之谈，盛于六朝，然多是传录舛讹，未必尽幻设语，至唐人乃作意好奇，假小说以寄笔端。”其云“作意”、云“幻设”者，则即意识之创造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《中国小说史略》第八篇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说说下面词语的古今意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舅姑爱其子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舅姑：  古义  公婆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舅舅、姑姑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负载珍重，不复言矣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负载：   古义  旅途之劳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负荷装载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1" name=""/>
          <p:cNvSpPr/>
          <p:nvPr/>
        </p:nvSpPr>
        <p:spPr>
          <a:xfrm>
            <a:off x="1835280" y="2205000"/>
            <a:ext cx="72720" cy="1008000"/>
          </a:xfrm>
          <a:custGeom>
            <a:avLst/>
            <a:gdLst>
              <a:gd name="textAreaLeft" fmla="*/ 46440 w 72720"/>
              <a:gd name="textAreaRight" fmla="*/ 73080 w 72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79640" y="3860640"/>
            <a:ext cx="71280" cy="100836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当如亲戚耳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亲戚：   古义  包括父母在内的亲属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不包括父母在内的亲属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毅不告其实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其实：    古义   他  实情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 表示所说的是实际情况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4" name=""/>
          <p:cNvSpPr/>
          <p:nvPr/>
        </p:nvSpPr>
        <p:spPr>
          <a:xfrm>
            <a:off x="1979640" y="2276640"/>
            <a:ext cx="71280" cy="8650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0920" y="3860640"/>
            <a:ext cx="71640" cy="100836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左右皆流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左右：    古义   侍从人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 周围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因命酌互举，以款人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人事：    古义   指待客的礼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 人员管理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7" name=""/>
          <p:cNvSpPr/>
          <p:nvPr/>
        </p:nvSpPr>
        <p:spPr>
          <a:xfrm>
            <a:off x="2050920" y="220500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24000" y="3860640"/>
            <a:ext cx="73080" cy="100836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⑦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后有一人，自然蛾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自然：    古义     天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   不拘束、不勉强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⑧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所杀几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几何：    古义    多少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今义    数学分类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0" name=""/>
          <p:cNvSpPr/>
          <p:nvPr/>
        </p:nvSpPr>
        <p:spPr>
          <a:xfrm>
            <a:off x="2124000" y="234936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0920" y="386064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指出下面的通假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6000" y="837720"/>
            <a:ext cx="8828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景从云合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“景”通“影”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帘以水精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“精”通“晶”</a:t>
            </a: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飨德怀恩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“飨”通“享”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从此已去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“已”通“以”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俱亡所见            </a:t>
            </a:r>
            <a:r>
              <a:rPr b="0" lang="zh-CN" sz="2600" spc="-1" strike="noStrike">
                <a:solidFill>
                  <a:srgbClr val="ff0000"/>
                </a:solidFill>
                <a:latin typeface="Arial Rounded MT Bold"/>
              </a:rPr>
              <a:t>“亡”通“无”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中国古典小说发展轨迹：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小说起源于劳动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鲁迅先生说：人在劳动时，既用歌咏以自娱，借它忘却劳苦了，则到休息时，亦必要寻一种事情以消遣闲暇。这种事情，就是彼此谈论故事，而这谈论故事，就是小说的起源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古代小说经历的几个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9280" y="285840"/>
            <a:ext cx="921888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古代神话：世界上所有的民族最早的文学，几乎都是神话，其次是诗。中国古代的神话名篇有：《（盘古）开天辟地》、《女娲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ā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补天》、《后羿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ì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射日》、《精卫填海》、《夸父追日》等。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646440"/>
            <a:ext cx="907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秦时的寓言故事，有生动的形象，有较完整的情节，促进了小说的孕育和形成。主要作品有《刻舟求剑》、《愚公移山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古代小说经历的几个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80720" y="1270080"/>
            <a:ext cx="8507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魏晋南北朝时期的小说：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志怪小说。志怪小说以《搜神记》为代表。《搜神记》有《干将莫邪》、《南柯太守传》、《韩凭夫妇》等名篇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轶事小说：《世说新语》开我国轶事小说的先河，有一定的艺术成就和思想道德价值。作者刘义庆（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03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44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）是南朝刘宋王朝的宗室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古代小说经历的几个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唐人传奇。唐代传奇的出现，标志着我国古典小说的成熟。唐代传奇大都形象鲜明、情节曲折，结构完整，文辞华美，在艺术上有较高的成就。李朝威的《柳毅传》，白行简的《李娃传》，陈鸿的《长恨歌传》都是名篇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古代小说经历的几个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宋人“话本”。话本，即民间说书人所用的故事的底本。《京本通俗小说》中的《碾玉观音》、《错斩崔宁》，《清平山堂话本》中的《董永遇仙传》、《快嘴李翠莲》都是“话本”名篇。　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明代出现“拟话本”，《灌园叟晚逢仙女》就是拟话本名篇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2:51:52Z</dcterms:created>
  <dc:creator>刘莎莎</dc:creator>
  <dc:description/>
  <dc:language>en-US</dc:language>
  <cp:lastModifiedBy/>
  <dcterms:modified xsi:type="dcterms:W3CDTF">2014-04-12T13:47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