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explode.wav" ContentType="audio/x-wav"/>
  <Override PartName="/ppt/media/glass.wav" ContentType="audio/x-wav"/>
  <Override PartName="/ppt/media/chimes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DFC-CE68-44BE-9577-207FB0B7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A06-EBFE-44B8-92AB-FC09D311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51F-37F6-4EA8-8C21-14521F49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45D-9E36-4D4F-BDE0-FF0A12B9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AD9A-9ABB-404A-814E-3808241C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564F-14C5-45A7-B3F0-95DBA92F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6DA9-A20F-4DD4-A782-89E0558E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4608-F576-43D9-936E-C15B95D1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D54D-6C75-4E17-8FB3-94E279BC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2A4C-38CD-42EA-92FE-B818CF5D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29E4-7613-4FD3-86D1-1F16559E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C75-C854-411B-B55A-FF316FB6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B3A0-0BCE-4532-BAB7-6716C80C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676B-E1B4-4C46-ABD8-787B6687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8668-18C6-4BA2-9484-82A55F7B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9388-ED0E-4AF4-A9E7-73AA0BB0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2AED-EA21-4D9B-8DFD-1244FB72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2A5-ABD0-4A00-A2B6-BF5956C9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8E7-EC63-49FD-969A-93C79413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246-404B-4A4B-AB63-6BA1529F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17C-A1EE-49AA-ABBF-470FD74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783-FAD2-4F1B-91E9-27C3847D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C6B-2059-4579-9951-B2781165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534-8C4A-46A2-8561-A67A9331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DD98-3E1D-4561-B7F9-546B1882321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8B1E-DEDD-4CA2-A3CA-B91D8F7B175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柳毅途中忽遇“鸟起马惊，疾逸道左；又六七里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乃止“，暗示将出现奇人奇事。路遇龙女，人神交往，此一奇。柳毅遵龙女所嘱，到达龙宫，凡人进入仙境，此二奇。洞庭龙宫富丽堂皇，富有神秘色彩，此三奇。钱塘君闻讯凌空救侄女，兼有神话中龙的属性和现实中钱塘怒涛的巨大声势，此为四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情节波澜起伏、曲折生动、想象丰富，体现了浪漫主义的色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24000" y="836280"/>
            <a:ext cx="8540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33"/>
                </a:solidFill>
                <a:latin typeface="Garamond"/>
              </a:rPr>
              <a:t>4</a:t>
            </a:r>
            <a:r>
              <a:rPr b="0" lang="zh-CN" sz="2900" spc="-1" strike="noStrike">
                <a:solidFill>
                  <a:srgbClr val="006633"/>
                </a:solidFill>
                <a:latin typeface="Garamond"/>
              </a:rPr>
              <a:t>、情节曲折是传奇的鲜明特点，请结合课文说说哪些方面体现了情节之奇</a:t>
            </a:r>
            <a:r>
              <a:rPr b="0" lang="zh-CN" sz="2900" spc="-1" strike="noStrike">
                <a:solidFill>
                  <a:srgbClr val="006633"/>
                </a:solidFill>
                <a:latin typeface="Garamond"/>
              </a:rPr>
              <a:t>?</a:t>
            </a:r>
            <a:br>
              <a:rPr sz="2900"/>
            </a:br>
            <a:br>
              <a:rPr sz="38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柳毅为什么答应替龙女传书？他是否已对龙女有意？传书过程中的所作所为表现了柳毅具有怎样的品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971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b812f"/>
                </a:solidFill>
                <a:latin typeface="Times New Roman"/>
              </a:rPr>
              <a:t>柳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见义勇为，急人之困，扶危救困，重信守义，有正义感，胸怀坦荡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4419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柳毅的侠义之举是作者褒扬的，表达了作者对扶危救困的社会道德理想的肯定与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209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出于对不幸弱小者的同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7998" t="0" r="14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19200" y="836640"/>
            <a:ext cx="13993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华文新魏"/>
              </a:rPr>
              <a:t>请根据图画内容讲情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492280"/>
            <a:ext cx="96123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钱塘君性格的多面性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性格刚烈，嫉恶如仇，坦直莽撞，敢于承担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不改暴戾的本性，除恶过程中滥杀无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8136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b812f"/>
                </a:solidFill>
                <a:latin typeface="Times New Roman"/>
              </a:rPr>
              <a:t>钱塘君除暴安良的壮举，寄托着人民的愿望和理想，只有彻底破坏旧秩序，才能为自由幸福开辟道路，要破坏旧秩序，非得有排山倒海的强大力量不可，钱塘君就是这种愿望和力量的化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运用什么艺术手法塑造钱塘君形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6858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面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非凡形象与非凡动作，语言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侧面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出场前洞庭君的话，出场时的环              境，柳毅的惊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《柳毅传的艺术价值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龙女与柳毅的爱情与古代许多郎才女貌、一见钟情的爱情故事不同，柳毅的侠义行为出于同情妇女，没有任何个人私图，他救助龙女，是对婚姻压迫的不平和愤激，听到龙女的遭遇，他“气血俱动”，义无他虑。柳毅的正义感和光明磊落的胸怀，赢得了龙女的倾慕与追求，这比才子佳人、郎才女貌的爱情小说具有更高、更深厚的道德蕴含。因此，这个神话故事包孕着丰厚的人间生活，是作者理想的展现，寄托了比一般的“才子佳人”更高的道德理想和美学理想，是人民爱憎感情和美好愿望的体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幻想反映现实，使情节既富有浪漫的诗意，又具有生活的厚度，人神相恋，并最终走向幸福生活，使作品生出许多逸趣。作者把灵怪、侠义、爱情三方面内容融合一起，构筑成了一个美丽、动人的传奇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182880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图用美丽的理想去代替那不足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席 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88620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ae02"/>
                </a:solidFill>
                <a:latin typeface="楷体_GB2312"/>
                <a:ea typeface="楷体_GB2312"/>
              </a:rPr>
              <a:t>在我们的人生中替我们创造另一种人生。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ae02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3200" spc="-1" strike="noStrike">
                <a:solidFill>
                  <a:srgbClr val="02ae02"/>
                </a:solidFill>
                <a:latin typeface="楷体_GB2312"/>
                <a:ea typeface="楷体_GB2312"/>
              </a:rPr>
              <a:t>雪 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876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浪漫主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练习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指出下面有活用现象的词语，并作解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念乡人有客于泾阳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：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作客他乡   名作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而夫婿乐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乐：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以……为乐、喜欢    形容词意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068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夫乃止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3573360"/>
            <a:ext cx="67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止：</a:t>
            </a:r>
            <a:r>
              <a:rPr b="0" lang="zh-CN" sz="2800" spc="-1" strike="noStrike">
                <a:solidFill>
                  <a:srgbClr val="f0321e"/>
                </a:solidFill>
                <a:latin typeface="Arial"/>
              </a:rPr>
              <a:t>使……停止  动词使动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40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夫乃止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止：使……止步   使动用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景从云合，而见一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景：像影子一样    云：像云气一样    名作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悲泗淋漓，诚怛人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怛：使……忧伤    使动用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愿得生归，以避复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生：活着    名作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幸为少尽缱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缱绻：缠绵深厚的情意  形作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、分析下面的句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8080" y="1557000"/>
            <a:ext cx="884556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见有妇人，牧羊于道畔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（状语后置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贱妾不幸，今日见辱问于长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（被动句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而夫婿乐逸，为婢仆所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（被动句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既而将诉于舅姑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（省略句）“将（之）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雕琉璃于翠楣，饰琥珀于虹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（状语后置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洞庭君安在哉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（宾语前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时有宦人密侍君者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（定语后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何故不使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（省略句）“使（之）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260280"/>
            <a:ext cx="59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介绍传奇特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052640"/>
            <a:ext cx="77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唐传奇是一种文言短篇小说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在六朝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怪基础上发展起来的，但两者有很大的区别，对此鲁迅曾有论述：“小说亦如诗，至唐代而一变，虽尚不离于搜奇记逸，然叙述宛转、文辞华艳，与六朗之粗陈梗概者较，演进之迹甚明，而尤显者乃在是时则始有意为小说。“胡应麟《笔丛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云：“变异之谈，盛于六朝，然多是传录舛讹，未必尽幻设语，至唐人乃作意好奇，假小说以寄笔端。”其云“作意”、云“幻设”者，则即意识之创造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《中国小说史略》第八篇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、说说下面词语的古今意思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舅姑爱其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舅姑：古义  公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舅舅、姑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负载珍重，不复言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负载： 古义  旅途之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负荷装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2205000"/>
            <a:ext cx="72720" cy="1008000"/>
          </a:xfrm>
          <a:custGeom>
            <a:avLst/>
            <a:gdLst>
              <a:gd name="textAreaLeft" fmla="*/ 46440 w 72720"/>
              <a:gd name="textAreaRight" fmla="*/ 73080 w 72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860640"/>
            <a:ext cx="71280" cy="100836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当如亲戚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亲戚： 古义  包括父母在内的亲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不包括父母在内的亲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毅不告其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其实：  古义   他  实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 表示所说的是实际情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2276640"/>
            <a:ext cx="71280" cy="8650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3860640"/>
            <a:ext cx="71640" cy="1008360"/>
          </a:xfrm>
          <a:custGeom>
            <a:avLst/>
            <a:gdLst>
              <a:gd name="textAreaLeft" fmla="*/ 45720 w 71640"/>
              <a:gd name="textAreaRight" fmla="*/ 72000 w 71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左右皆流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左右：  古义   侍从人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 周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因命酌互举，以款人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人事：   古义   指待客的礼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 人员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220500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3860640"/>
            <a:ext cx="73080" cy="100836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后有一人，自然蛾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然：  古义     天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   不拘束、不勉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所杀几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何：   古义    多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今义    数学分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234936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3860640"/>
            <a:ext cx="144720" cy="9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4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、指出下面的通假字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景从云合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景”通“影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帘以水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精”通“晶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飨德怀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飨”通“享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从此已去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已”通“以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俱亡所见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亡”通“无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中国古典小说发展轨迹：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说起源于劳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鲁迅先生说：人在劳动时，既用歌咏以自娱，借它忘却劳苦了，则到休息时，亦必要寻一种事情以消遣闲暇。这种事情，就是彼此谈论故事，而这谈论故事，就是小说的起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古代小说经历的几个阶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古代神话：世界上所有的民族最早的文学，几乎都是神话，其次是诗。中国古代的神话名篇有：《（盘古）开天辟地》、《女娲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补天》、《后羿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射日》、《精卫填海》、《夸父追日》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408456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秦时的寓言故事，有生动的形象，有较完整的情节，促进了小说的孕育和形成。主要作品有《刻舟求剑》、《愚公移山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古代小说经历的几个阶段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魏晋南北朝时期的小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志怪小说。志怪小说以《搜神记》为代表。《搜神记》有《干将莫邪》、《南柯太守传》、《韩凭夫妇》等名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轶事小说：《世说新语》开我国轶事小说的先河，有一定的艺术成就和思想道德价值。作者刘义庆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0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4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是南朝刘宋王朝的宗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古代小说经历的几个阶段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唐人传奇。唐代传奇的出现，标志着我国古典小说的成熟。唐代传奇大都形象鲜明、情节曲折，结构完整，文辞华美，在艺术上有较高的成就。李朝威的《柳毅传》，白行简的《李娃传》，陈鸿的《长恨歌传》都是名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古代小说经历的几个阶段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宋人“话本”。话本，即民间说书人所用的故事的底本。《京本通俗小说》中的《碾玉观音》、《错斩崔宁》，《清平山堂话本》中的《董永遇仙传》、《快嘴李翠莲》都是“话本”名篇。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明代出现“拟话本”，《灌园叟晚逢仙女》就是拟话本名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古代小说发展的几个阶段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明清小说。明清时代，我国古典小说，特别是章回小说发展到了高峰，产生了大批不朽的名篇，如《三国演义》、《水浒传》、《西游记》、《聊斋志异》、《儒林外史》、《红楼梦》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633240"/>
            <a:ext cx="91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阅读小说要紧紧抓住情节、人物、和背景三个要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首先思考以下问题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0760" y="22766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全文是以什么为线索来展开故事情节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5880" y="28526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书信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5600" y="285264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书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884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求传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884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允诺传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9920" y="35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洞庭传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39337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8606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422100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传书的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84600" y="429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组成了完整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45086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4:42:03Z</dcterms:created>
  <dc:creator>Billgates</dc:creator>
  <dc:description/>
  <dc:language>en-US</dc:language>
  <cp:lastModifiedBy>Billgates</cp:lastModifiedBy>
  <dcterms:modified xsi:type="dcterms:W3CDTF">2006-05-22T11:32:17Z</dcterms:modified>
  <cp:revision>39</cp:revision>
  <dc:subject/>
  <dc:title>幻灯片 1</dc:title>
</cp:coreProperties>
</file>