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gif" ContentType="image/gif"/>
  <Override PartName="/ppt/media/image3.png" ContentType="image/png"/>
  <Override PartName="/ppt/media/image4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2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A91-7EA3-400E-BBB6-E7D1C7B6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3C2-7ED5-449E-937F-1869409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F54-DE17-45C6-B045-BDDB4430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598-DDF8-43C3-A81F-E556666C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08AB-F266-4197-9A43-CBD53D92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9C7-C67C-4F60-9EBE-CFDBAAEC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1312-6FD7-45AD-B9CB-6723C7C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B6A-C9F3-49AE-B74F-33AA763F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0559-026A-4B38-919F-2C8ACA9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E3B-E5E8-47EF-B2AE-588D6B0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E67-19B4-4CBB-9C13-47993A5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215-7E7C-4992-B2BB-DE3208C9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7A6-FA40-4792-8670-71466C9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5FD-912D-457B-8AD2-2998DAF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B4F-B0E1-46F7-8909-816C362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6523-8B0F-4DB9-AE4E-4AA256BD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7C05-080F-46B4-BBED-62386502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7B1-79B9-4E55-9E0F-AA1E805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810-116C-4E3F-B103-0EBD3DA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F55-E32C-4638-BF8C-8F80BA5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180-BD0F-4133-A7F7-2F734DC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DD9-7D53-4440-BB1D-13038F3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5D1-EF55-48A8-B52D-1E263C2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F1A-AFD9-431F-9775-D5B8083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3B9-45EC-48A9-B60A-23699944FD5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4012-5DC2-45AF-A282-09ED936B477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9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16000" y="119664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柳毅传</a:t>
            </a:r>
            <a:endParaRPr b="0" i="1" lang="en-US" sz="8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0" y="2742840"/>
            <a:ext cx="208764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李朝威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16000" y="616572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516720" y="2708280"/>
            <a:ext cx="1514520" cy="113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17040" y="38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小龙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831708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 rot="16200000">
            <a:off x="6372000" y="306828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55640" y="2205000"/>
            <a:ext cx="254304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835280" y="4653000"/>
            <a:ext cx="539100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308720" y="119700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1835280" y="112536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01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16000" y="1413000"/>
            <a:ext cx="80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ji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 )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)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ì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咤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z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恸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g)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xi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qu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u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g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ò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xi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g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hu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ī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u  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忤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87280" y="6093000"/>
            <a:ext cx="77774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490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重要的词语解释：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24000" y="191628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诉于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舅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公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获回耗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死必谢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既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复问曰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于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视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仔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诉频切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等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远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害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陷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不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闲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失（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宽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87280" y="6237360"/>
            <a:ext cx="777744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 rot="16200000">
            <a:off x="6207120" y="3451320"/>
            <a:ext cx="4572000" cy="35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6880" y="304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方正舒体"/>
              </a:rPr>
              <a:t>一词多义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95120" y="11145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贱妾不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9520" y="1647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幸一闻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43880" y="21812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君方幸玄珠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43880" y="2790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雅得幸于胡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77920" y="38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前寄辞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606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95120" y="439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迫辞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77920" y="5000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去来兮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95120" y="55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固辞不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1066680"/>
            <a:ext cx="23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动词   幸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916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希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06040" y="2209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特指君王至某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9168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宠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641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言辞，词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572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告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1572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文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46920" y="5562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推辞，不接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4479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41148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31920" y="23508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一词多义：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95120" y="114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坐贻聋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7792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坐观罗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6680" y="2286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子引侯生坐上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43880" y="2895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停车坐爱枫林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71440" y="40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疾告宫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7040" y="4648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婴疾甚，且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7040" y="5257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疾贫富不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8600" y="5867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庞涓恐其贤于己，疾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9168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因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916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因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916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动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168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因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7120" y="396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快，急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872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15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厌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015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忌妒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4479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3434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304920"/>
            <a:ext cx="457200" cy="2361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8600"/>
            <a:ext cx="3124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悲不自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各不可胜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日出江花红胜火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予观夫巴陵胜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429000"/>
            <a:ext cx="457200" cy="2743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3276720"/>
            <a:ext cx="426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乃前寄辞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家祭无忘告乃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必以长安君为质，兵乃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乃致父兄昆弟而誓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当改过自新，乃益骄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380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能承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106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超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优美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是，就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你，你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才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于是，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却，竟然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10526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词类活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844640"/>
            <a:ext cx="662472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客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于泾阳 （名作动）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柱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以白璧 （名作动）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毅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闻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之 （使动用法）                  而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急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之 （形 意动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景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云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合    （名作状）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rot="16200000">
            <a:off x="6372000" y="306828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 rot="16200000">
            <a:off x="-1569960" y="3090600"/>
            <a:ext cx="457200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771640" y="14130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句式判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781360"/>
            <a:ext cx="525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、念乡人有客于泾阳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、为婢仆所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、今日见辱问于长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、柱以白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、洞庭君安在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2781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定语后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被动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4292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状语后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8720" y="486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宾语前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43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971640" y="5950080"/>
            <a:ext cx="7777080" cy="431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 rot="16200000">
            <a:off x="6207120" y="3235320"/>
            <a:ext cx="4572000" cy="352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 rot="16200000">
            <a:off x="-1282680" y="3306600"/>
            <a:ext cx="457200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37400" y="380880"/>
            <a:ext cx="7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文是以什么为线索来展开故事情节的？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10666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索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书信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情节结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：请求传书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开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，允诺传书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展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，洞庭传书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潮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，龙宫宴请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局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组成了完整的故事。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2130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情节曲折是传奇的鲜明特点，请结合课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哪些方面体现了情节之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4724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柳毅入龙宫一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传书的方式奇特，按照这种方式，果真见到了水府龙宫，见到了人世间没有的奇景，还见到了神龙世界的奇人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9072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这样构思情节有什么作用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书信为线索，又能突出人物性格，龙女托书柳毅，说明龙女不屈服于命运，想方设法要跳出苦海，寻求幸福；柳毅传书，表现了急人之难的侠肝义胆；钱塘君闻讯而怒，食婿除恶，表现了正直刚烈的特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00000" y="5877000"/>
            <a:ext cx="77774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990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传奇构思精巧，情节曲折，结构完整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柳毅传》写柳毅为龙女完成传书使命，钱塘君杀了泾河小龙，救回龙女后，又陡生波折，平添钱塘君逼婚，柳毅严词拒绝一节。柳毅回家后连娶两妻皆亡，似与龙女无缘，不料三娶的卢氏竟是龙女的化身。作者围绕龙女争取婚姻自主这一主线安排情节，展开矛盾，波澜迭起，出乎意料，入乎情理，构思极巧妙，体现了“作意好奇”的特点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84360" y="6021360"/>
            <a:ext cx="777708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习目标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学习本文通过曲折的故事情节和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的细节描写来表现人物个性的写作技巧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学习传奇通过幻想反映现实的特点，了解本文反映封建包办婚姻和封建家长制度迫害妇女的罪恶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6668" r="0" b="1933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8360" y="98100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传奇语言生动流畅，简洁而富于表现力。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作者不少是诗文高手，讲究修辞造句，注意汲取骈文和口语之长有关。如钱塘君救回龙女后，“洞庭君曰：‘所杀几何？’曰：‘六十万。’‘伤稼乎？’曰：‘八百里。’‘无情郎安在？’曰：‘食之矣’。”寥寥数语，钱塘君的性格、说话时的神情口气十分有个性。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问者专注、急切，答者坦然、快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26920" y="6093000"/>
            <a:ext cx="777744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7502" t="4447" r="9165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43020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分析人物性格特点。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龙女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美丽善良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追求幸福而又有反抗精神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女子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要点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满父母包办，不屈从于命运，力求改变命运，面对丈夫公婆的迫害，不是逆来顺受，而是要跑出苦海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小结   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封建的妇女的形象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425520"/>
            <a:ext cx="838188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毅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义勇为，扶弱锄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青年。是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的主要人物，也是作者全力歌颂的对象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刚毅正直，有正义感，同情弱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人传书救人于危难看成自己应该做的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显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坦荡的情怀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77440" cy="431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26920" y="5877000"/>
            <a:ext cx="77774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4120" y="1447920"/>
            <a:ext cx="3047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钱塘君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剪除恶暴伸张正义的勇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象。他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性格刚烈，嫉恶如仇，坦直莽撞。敢于承担责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18000" t="0" r="17003" b="0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柳毅和钱塘君身上，寄托了作者怎样的理想？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柳毅身上，寄托着完美人格的理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人急人所难，正直无私。这样的人格，才是女性爱慕的对象，女子理想的归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钱塘君身上，寄托着彻底摧毁恶势力的理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作者对于妇女的不幸深为同情，对于迫害妇女的恶势力，作者认为要用暴力的手段，给以毁灭性的打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432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777708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造成龙女不幸婚姻的根本原因是什么？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根本原因在于父母包办这种封建的婚姻制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婚姻，根本没有爱情的基础，而且带有极大的盲目性，正如洞庭龙君所谓“不能鉴听，坐贻聋瞽”，他将女儿配嫁泾川次子，泾川次子人品如何，他是不明了的。结果嫁给了一个贪图“乐逸”的家伙，龙女就遭殃了。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女的不幸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还在于封建的夫权制、家长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妇女处于完全无权的地位。公婆竟然有权“毁黜”她，令她牧羊荒野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5800" y="18288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试图用美丽的理想去代替那不足的人生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席 勒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8862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在我们的人生中替我们创造另一种人生。                         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雪 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668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浪漫主义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257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7777080" cy="431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42920" y="6237360"/>
            <a:ext cx="7777080" cy="431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 rot="16200000">
            <a:off x="6681600" y="3377880"/>
            <a:ext cx="457200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254855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李朝威，中唐拢西人，传奇作家，今存《柳毅传》、《柳参军传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777440" cy="43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7358040" cy="2933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rot="16200000">
            <a:off x="6681600" y="3017520"/>
            <a:ext cx="457200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549360"/>
            <a:ext cx="7772400" cy="5975280"/>
          </a:xfrm>
          <a:prstGeom prst="rect">
            <a:avLst/>
          </a:prstGeom>
          <a:solidFill>
            <a:srgbClr val="9933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唐传奇是在六朝志怪小说基础上发展起来的一种文言短篇小说， 鲁迅认为唐人“始有意为小说” （《中国小说史略》）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唐传奇代表性的作品如《李娃传》、《霍小玉传》具有相当的艺术魅力和思想深度，已经成为成熟的小说了，表现在：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结构严密，情节曲折；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人物性格鲜明；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语言凝练流畅而又生动传神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王实甫的《西厢记》就取材于唐传奇《莺莺传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417600"/>
            <a:ext cx="7813440" cy="6676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唐传奇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构思精巧，情节曲折，结构完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《柳毅传》写柳毅为龙女完成传书使命，钱塘君杀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泾河小龙，救回龙女后，又陡生波折，平添钱塘君逼婚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柳毅严词拒绝一节。柳毅回家后连娶两妻皆亡，似与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女无缘，不料三娶的卢氏竟是龙女的化身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作者围绕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女争取婚姻自主这一主线安排情节，展开矛盾，波澜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起，出乎意料，入乎情理，构思极巧妙，体现了“作意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奇”的特点。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唐传奇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语言生动流畅，简洁而富于表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力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这与作者不少是诗文高手，讲究修辞造句，注意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取骈文和口语之长有关。如钱塘君救回龙女后，“洞庭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曰：‘所杀几何？’曰：‘六十万。’‘伤稼乎？’曰：‘八百里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‘无情郎安在？’曰：‘食之矣’。”寥寥数语，钱塘君的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格、说话时的神情口气十分有个性。问者专注、急切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答者坦然、快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777440" cy="43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87280" y="6426360"/>
            <a:ext cx="7777440" cy="43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16200000">
            <a:off x="6681600" y="3090600"/>
            <a:ext cx="457200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7502" t="4447" r="9165" b="3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65240" y="16095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2438280"/>
            <a:ext cx="549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692280"/>
            <a:ext cx="1399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请根据图画内容讲情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7998" t="0" r="14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919200" y="836640"/>
            <a:ext cx="1399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请根据图画内容讲情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7502" t="0" r="153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762120"/>
            <a:ext cx="7620120" cy="1068840"/>
          </a:xfrm>
          <a:prstGeom prst="rect">
            <a:avLst/>
          </a:prstGeom>
          <a:solidFill>
            <a:srgbClr val="9933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复述课文故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日，柳毅下第还乡，路缝牧羊女，貌若甚戚者。问其故，乃知龙女也，为无情郎所厌薄，又得罪舅姑，以致毁焉。托书于毅。慨然许之。以水府深，遂叩通达之术，径引别东去。月余还家，诣洞庭，果如其言，由武夫揭水指路，数息至宫，会洞庭君，幸玄珠阁，须臾方临。设拜后进书，哀咤良久，举宫悉恸。洞庭君之弟钱塘君闻讯一举诛杀泾川龙王全家，救回龙女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7502" t="0" r="1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981000"/>
            <a:ext cx="8458200" cy="1068840"/>
          </a:xfrm>
          <a:prstGeom prst="rect">
            <a:avLst/>
          </a:prstGeom>
          <a:solidFill>
            <a:srgbClr val="9933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课文以后的情节是这样的：</a:t>
            </a:r>
            <a:br>
              <a:rPr sz="3200"/>
            </a:b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洞庭君感柳毅之德，设宴款待。钱塘君提出将龙女许配给柳毅，但因出语傲慢，遭到柳毅的严辞拒绝。柳毅辞归，娶妻屡亡，乃迁居金陵。而龙女于直感柳毅之恩，“誓心求报”，她闭户剪发，断然拒绝父母欲将她许配给濯锦江的小儿子的愿望，后知柳毅在金陵鳏居，乃化名卢氏女，由媒说合，与柳毅终成配偶。夫妻感情甚笃。谈起往事，柳毅方知卢氏即龙女。后夫妻徙迁南海，复归洞庭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23:58:26Z</dcterms:created>
  <dc:creator>xhc</dc:creator>
  <dc:description/>
  <dc:language>en-US</dc:language>
  <cp:lastModifiedBy>zhu</cp:lastModifiedBy>
  <dcterms:modified xsi:type="dcterms:W3CDTF">2004-04-05T00:50:38Z</dcterms:modified>
  <cp:revision>49</cp:revision>
  <dc:subject/>
  <dc:title>PowerPoint 演示文稿</dc:title>
</cp:coreProperties>
</file>