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explode.wav" ContentType="audio/x-wav"/>
  <Override PartName="/ppt/media/glass.wav" ContentType="audio/x-wav"/>
  <Override PartName="/ppt/media/chimes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06B-008A-4963-80D2-753E62F0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145-9F75-4A37-BF65-55B8514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A53-6E14-4658-ADD8-F86F3BA5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F0E-CDF4-43A7-90F2-EE62288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9FFF-72A5-4E81-9D63-D56F9FDB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4449-EF1B-47C5-8BF6-597484B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8F1-3532-41EC-A92C-344A98B9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0473-7725-4DA3-B5DF-D547E477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8AD6-B31A-432D-B174-EC0E8728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9512-B5C4-4A05-B41D-F8751FA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9055-EB53-4399-9C4A-64D9547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5F8-6A51-4AEE-9884-D2D30A1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A7D0-F105-4760-9934-F0BCA9A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8DC-A926-4F54-BE75-518FF78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CCA-1FDF-468E-A6D1-B3BFDADD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F177-0CB6-41B4-96D3-42872033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6B15-15AF-44F6-AF90-07D0876E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F29-AE2D-4F3F-A82D-D157F117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165-971A-4B46-9C7E-9668F66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563-C178-47B5-998A-5C39072B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E55-8373-4057-8980-F107305E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853-9DF2-4110-A035-31F2965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EA9-F50C-402E-928E-D1FDF82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E49-E646-4E13-B2C0-82CF776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E118-D1A9-4B2E-A27F-F3D9D94F2FE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42E-6CF0-432A-9470-93D506ACE67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柳毅途中忽遇“鸟起马惊，疾逸道左；又六七里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乃止“，暗示将出现奇人奇事。路遇龙女，人神交往，此一奇。柳毅遵龙女所嘱，到达龙宫，凡人进入仙境，此二奇。洞庭龙宫富丽堂皇，富有神秘色彩，此三奇。钱塘君闻讯凌空救侄女，兼有神话中龙的属性和现实中钱塘怒涛的巨大声势，此为四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情节波澜起伏、曲折生动、想象丰富，体现了浪漫主义的色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、情节曲折是传奇的鲜明特点，请结合课文说说哪些方面体现了情节之奇</a:t>
            </a: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?</a:t>
            </a:r>
            <a:br>
              <a:rPr sz="2900"/>
            </a:br>
            <a:br>
              <a:rPr sz="38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柳毅为什么答应替龙女传书？他是否已对龙女有意？传书过程中的所作所为表现了柳毅具有怎样的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971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b812f"/>
                </a:solidFill>
                <a:latin typeface="Times New Roman"/>
              </a:rPr>
              <a:t>柳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见义勇为，急人之困，扶危救困，重信守义，有正义感，胸怀坦荡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4419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柳毅的侠义之举是作者褒扬的，表达了作者对扶危救困的社会道德理想的肯定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209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出于对不幸弱小者的同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7998" t="0" r="14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0" y="836640"/>
            <a:ext cx="1399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华文新魏"/>
              </a:rPr>
              <a:t>请根据图画内容讲情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492280"/>
            <a:ext cx="9612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钱塘君性格的多面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性格刚烈，嫉恶如仇，坦直莽撞，敢于承担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不改暴戾的本性，除恶过程中滥杀无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8136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钱塘君除暴安良的壮举，寄托着人民的愿望和理想，只有彻底破坏旧秩序，才能为自由幸福开辟道路，要破坏旧秩序，非得有排山倒海的强大力量不可，钱塘君就是这种愿望和力量的化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运用什么艺术手法塑造钱塘君形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面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非凡形象与非凡动作，语言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侧面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出场前洞庭君的话，出场时的环              境，柳毅的惊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《柳毅传》的艺术价值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龙女与柳毅的爱情与古代许多郎才女貌、一见钟情的爱情故事不同，柳毅的侠义行为出于同情妇女，没有任何个人私图，他救助龙女，是对婚姻压迫的不平和愤激，听到龙女的遭遇，他“气血俱动”，义无他虑。柳毅的正义感和光明磊落的胸怀，赢得了龙女的倾慕与追求，这比才子佳人、郎才女貌的爱情小说具有更高、更深厚的道德蕴含。因此，这个神话故事包孕着丰厚的人间生活，是作者理想的展现，寄托了比一般的“才子佳人”更高的道德理想和美学理想，是人民爱憎感情和美好愿望的体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幻想反映现实，使情节既富有浪漫的诗意，又具有生活的厚度，人神相恋，并最终走向幸福生活，使作品生出许多逸趣。作者把灵怪、侠义、爱情三方面内容融合一起，构筑成了一个美丽、动人的传奇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115920"/>
            <a:ext cx="89647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艺术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  </a:t>
            </a:r>
            <a:r>
              <a:rPr b="1" lang="zh-CN" sz="3200" spc="-1" strike="noStrike">
                <a:solidFill>
                  <a:srgbClr val="f0321e"/>
                </a:solidFill>
                <a:latin typeface="创艺简中圆"/>
                <a:ea typeface="创艺简中圆"/>
              </a:rPr>
              <a:t>构思精巧，情节曲折，结构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作者围绕龙女争取婚姻自主这一主线安排情节，展开矛盾，波澜迭起，出乎意料，入乎情理，构思极巧妙，体现了“作意好奇”的特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  </a:t>
            </a:r>
            <a:r>
              <a:rPr b="1" lang="zh-CN" sz="3200" spc="-1" strike="noStrike">
                <a:solidFill>
                  <a:srgbClr val="f0321e"/>
                </a:solidFill>
                <a:latin typeface="创艺简中圆"/>
                <a:ea typeface="创艺简中圆"/>
              </a:rPr>
              <a:t>语言生动流畅，简洁而富于表现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创艺简中圆"/>
                <a:ea typeface="创艺简中圆"/>
              </a:rPr>
              <a:t>这与作者不少是诗文高手，讲究修辞造句，注意汲取骈文和口语之长有关。如钱塘君救回龙女后，“洞庭君曰：‘所杀几何？’曰：‘六十万。’‘伤稼乎？’曰：‘八百里’。‘无情郎安在？’曰：‘食之矣’。”寥寥数语，钱塘君的性格、说话时的神情口气十分有个性。问者专注、急切，答者坦然、快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5122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在柳毅和钱塘君身上，寄托了作者怎样的理想？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31280" y="1484280"/>
            <a:ext cx="853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柳毅身上，寄托着完美人格的理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为人急人所难，正直无私。这样的人格，才是女性爱慕的对象，女子理想的归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在钱塘君身上，寄托着彻底摧毁恶势力的理想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对于妇女的不幸深为同情，对于迫害妇女的恶势力，作者认为要用暴力的手段，给以毁灭性的打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Garamond"/>
                <a:ea typeface="楷体_GB2312"/>
              </a:rPr>
              <a:t>造成龙女不幸婚姻的根本原因是什么？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根本原因在于父母包办这种封建的婚姻制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这种婚姻，根本没有爱情的基础，而且带有极大的盲目性，正如洞庭龙君所谓“不能鉴听，坐贻聋瞽”，他将女儿配嫁泾川次子，泾川次子人品如何，他是不明了的。结果嫁给了一个贪图“乐逸”的家伙，龙女就遭殃了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龙女的不幸，还在于封建的夫权制、家长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妇女处于完全无权的地位。公婆竟然有权“毁黜”她，令她牧羊荒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18288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图用美丽的理想去代替那不足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席 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88620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ae02"/>
                </a:solidFill>
                <a:latin typeface="楷体_GB2312"/>
                <a:ea typeface="楷体_GB2312"/>
              </a:rPr>
              <a:t>在我们的人生中替我们创造另一种人生。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ae02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3200" spc="-1" strike="noStrike">
                <a:solidFill>
                  <a:srgbClr val="02ae02"/>
                </a:solidFill>
                <a:latin typeface="楷体_GB2312"/>
                <a:ea typeface="楷体_GB2312"/>
              </a:rPr>
              <a:t>雪 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7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浪漫主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练习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指出下面有活用现象的词语，并作解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念乡人有客于泾阳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作客他乡   名作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而夫婿乐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乐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以……为乐、喜欢    形容词意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068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夫乃止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57336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止：</a:t>
            </a:r>
            <a:r>
              <a:rPr b="0" lang="zh-CN" sz="2800" spc="-1" strike="noStrike">
                <a:solidFill>
                  <a:srgbClr val="f0321e"/>
                </a:solidFill>
                <a:latin typeface="Arial"/>
              </a:rPr>
              <a:t>使……停止  动词使动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26028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介绍传奇特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05264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唐传奇是一种文言短篇小说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在六朝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怪基础上发展起来的，但两者有很大的区别，对此鲁迅曾有论述：“小说亦如诗，至唐代而一变，虽尚不离于搜奇记逸，然叙述宛转、文辞华艳，与六朗之粗陈梗概者较，演进之迹甚明，而尤显者乃在是时则始有意为小说。“胡应麟《笔丛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云：“变异之谈，盛于六朝，然多是传录舛讹，未必尽幻设语，至唐人乃作意好奇，假小说以寄笔端。”其云“作意”、云“幻设”者，则即意识之创造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《中国小说史略》第八篇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夫乃止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止：使……止步   使动用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景从云合，而见一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景：像影子一样    云：像云气一样    名作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悲泗淋漓，诚怛人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怛：使……忧伤    使动用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愿得生归，以避复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生：活着    名作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幸为少尽缱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缱绻：缠绵深厚的情意  形作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、分析下面的句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8080" y="1557000"/>
            <a:ext cx="88455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见有妇人，牧羊于道畔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状语后置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贱妾不幸，今日见辱问于长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被动句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夫婿乐逸，为婢仆所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被动句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既而将诉于舅姑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省略句）“将（之）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雕琉璃于翠楣，饰琥珀于虹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状语后置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洞庭君安在哉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宾语前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时有宦人密侍君者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定语后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何故不使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省略句）“使（之）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、说说下面词语的古今意思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舅姑爱其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舅姑：古义  公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舅舅、姑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负载珍重，不复言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负载： 古义  旅途之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负荷装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205000"/>
            <a:ext cx="72720" cy="1008000"/>
          </a:xfrm>
          <a:custGeom>
            <a:avLst/>
            <a:gdLst>
              <a:gd name="textAreaLeft" fmla="*/ 46440 w 72720"/>
              <a:gd name="textAreaRight" fmla="*/ 73080 w 72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860640"/>
            <a:ext cx="71280" cy="100836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当如亲戚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亲戚： 古义  包括父母在内的亲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不包括父母在内的亲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毅不告其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其实：  古义   他  实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表示所说的是实际情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227664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860640"/>
            <a:ext cx="71640" cy="100836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左右皆流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左右：  古义   侍从人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周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因命酌互举，以款人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人事：   古义   指待客的礼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人员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220500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73080" cy="100836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有一人，自然蛾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然：  古义     天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  不拘束、不勉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所杀几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何：   古义    多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 数学分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234936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386064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、指出下面的通假字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景从云合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景”通“影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帘以水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精”通“晶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飨德怀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飨”通“享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从此已去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已”通“以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俱亡所见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亡”通“无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中国古典小说发展轨迹：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说起源于劳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鲁迅先生说：人在劳动时，既用歌咏以自娱，借它忘却劳苦了，则到休息时，亦必要寻一种事情以消遣闲暇。这种事情，就是彼此谈论故事，而这谈论故事，就是小说的起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古代神话：世界上所有的民族最早的文学，几乎都是神话，其次是诗。中国古代的神话名篇有：《（盘古）开天辟地》、《女娲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补天》、《后羿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射日》、《精卫填海》、《夸父追日》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408456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秦时的寓言故事，有生动的形象，有较完整的情节，促进了小说的孕育和形成。主要作品有《刻舟求剑》、《愚公移山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魏晋南北朝时期的小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志怪小说。志怪小说以《搜神记》为代表。《搜神记》有《干将莫邪》、《南柯太守传》、《韩凭夫妇》等名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轶事小说：《世说新语》开我国轶事小说的先河，有一定的艺术成就和思想道德价值。作者刘义庆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是南朝刘宋王朝的宗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唐人传奇。唐代传奇的出现，标志着我国古典小说的成熟。唐代传奇大都形象鲜明、情节曲折，结构完整，文辞华美，在艺术上有较高的成就。李朝威的《柳毅传》，白行简的《李娃传》，陈鸿的《长恨歌传》都是名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宋人“话本”。话本，即民间说书人所用的故事的底本。《京本通俗小说》中的《碾玉观音》、《错斩崔宁》，《清平山堂话本》中的《董永遇仙传》、《快嘴李翠莲》都是“话本”名篇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明代出现“拟话本”，《灌园叟晚逢仙女》就是拟话本名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发展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明清小说。明清时代，我国古典小说，特别是章回小说发展到了高峰，产生了大批不朽的名篇，如《三国演义》、《水浒传》、《西游记》、《聊斋志异》、《儒林外史》、《红楼梦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633240"/>
            <a:ext cx="91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阅读小说要紧紧抓住情节、人物、和背景三个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首先思考以下问题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0760" y="22766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全文是以什么为线索来展开故事情节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5880" y="28526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书信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5600" y="285264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8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8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允诺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992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洞庭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3933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860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422100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传书的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460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组成了完整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508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4:42:03Z</dcterms:created>
  <dc:creator>Billgates</dc:creator>
  <dc:description/>
  <dc:language>en-US</dc:language>
  <cp:lastModifiedBy>mlrdw</cp:lastModifiedBy>
  <dcterms:modified xsi:type="dcterms:W3CDTF">2019-05-04T13:33:57Z</dcterms:modified>
  <cp:revision>40</cp:revision>
  <dc:subject/>
  <dc:title>幻灯片 1</dc:title>
</cp:coreProperties>
</file>