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556-2B82-4AD6-8973-52FA13DB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B5E-38F3-4934-A866-D334941E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D09-C56F-4BDE-87E7-4F715E5E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7C7-31B8-4381-B5F6-6667FE53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0C0ED-2B47-4B9A-A37F-01AB36B7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BE006-6088-43FA-8558-F72A8BAA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EE2FB-F82D-4A1B-B8E1-C7A32B69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EF9D2-32AC-460A-82E7-43899E38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3E6D8-CF5D-414A-AF9C-4234A3C0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AE03-0D37-4069-8331-D0DA366E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E5783-DC47-410C-857C-52238EE0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5B4-E488-4CEE-8CDB-8B42086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12E09-70A8-4232-84AA-0FC96B7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F6E0A-706B-4627-B831-C92217D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B084C-BAD3-4B22-ACE7-0909A826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4E3C9-D8AF-434F-B0A5-ECC110C1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D116C-684F-4C2D-A624-56F129B9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111-9324-49FF-952A-BA4CC4F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056-31F2-4049-802B-7B7FDA4F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EA8-1704-4188-8474-FC5A14EB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4A6-B8F2-47EC-A898-AA16ABD1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E48-4823-44DA-94B9-313CA24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25F-269B-4188-8D7A-CC0A820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D3A-373B-4F4B-A2F1-FD6887B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020-6DD6-4CEA-817E-B8AFBB40BD2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FC0F-C1BC-42A7-801F-354EBD58FE1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219280" y="3860280"/>
            <a:ext cx="9349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Tahoma"/>
              </a:rPr>
              <a:t>潘洗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5084640"/>
            <a:ext cx="36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11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06728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79280" y="0"/>
            <a:ext cx="716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龙拳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以敦煌为圆心的东北东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这民族的海岸线像一支弓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那长城像五千年来待射的梦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我用手臂拉开这整个土地的重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蒙古高原南下的风写些什么内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汉字到底懂不懂一样肤色和面孔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跨越黄河东登上泰山顶峰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我向西引北风晒成一身古铜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渴望著血脉相通无限个千万弟兄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我把天地拆封将长江水掏空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人在古老河床蜕变中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7280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2400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我右拳打开了天化身为龙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把山河重新移动填平裂缝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将东方的日出调整了时空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回到洪荒去支配去操纵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我右拳打开了天化身为龙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那大地心脏汹涌不安跳动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全世界的表情只剩下一种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等待英雄我就是那条龙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4186080"/>
            <a:ext cx="2484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诗是心灵的音乐。六月是青春的季节。青年从大海奔去的脚步声中感受到青春的勃勃生机，同时也会发现，诗歌展示的绝不仅仅是青春生命力的旺盛，它还向我们传达了青年人的一种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探索精神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，一种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要去接受惊涛骇浪洗礼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让思想在风浪中成熟的青春和生命的渴望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！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三首诗表达的思想感情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《致青年公民》：前辈激情昂扬的谆谆教诲，对年轻人的热情召唤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《相信未来》：与逆境抗争，始终坚信明天会更好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《六月，我们去看海》一群欢呼雀跃的青年向遥远的大海奔去，去探险，去接受惊涛骇浪的洗礼，让青春的思想在风浪中成熟。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诗歌的感情基调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《致青年公民》热情、真诚；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《相信未来》坚强不屈；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《六月，我们去看海》轻松、愉快。</a:t>
            </a: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理清不同时代青年人的精神风貌的特征，以及这些特征与那个时代的关系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随着五十年代中叶建设社会主义高潮的出现，青年人积极参与社会主义改造，为国家建设鞠躬尽瘁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六十年代是毛泽东思想红旗插满全国的时代。青年人的革命热情空前高涨，是“过于责任”的一代。由于疯狂而被纪念时代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八十年代正值改革开放之初，青年人在经济大潮的冲击之下，对物质有了全新的认识。这是“物质的一代”——把握物质，并被物质把握。 </a:t>
            </a:r>
            <a:br>
              <a:rPr sz="3600"/>
            </a:b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      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束语：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               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诗歌是文学之母。在早期的文学史里，诗占了主要地位。我国唐以前的文学史，可以说，基本上是诗歌史。著名美学家朱光潜说过：“诗比别类文学较谨严，较纯粹，较精微。不爱好诗而爱好小说、戏剧的人们，大半在小说和戏剧中只能见到最粗浅的一部分，就是故事。所以他们看小说和戏剧，不问它们的艺术技巧，只求它们里面有趣的故事。……读小说只见到故事而没有见到它的诗，就想看到花架而忘记架上的花。要养成纯正的文学趣味，我们最好从读诗入手。能欣赏诗，自然能欣赏小说、戏剧及其它种类文学。”中国是一个诗的国度，诗与青春携手同行。今天的青年人更应该具有诗心、诗情和诗的追求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47:27Z</dcterms:created>
  <dc:creator>roger sun</dc:creator>
  <dc:description/>
  <dc:language>en-US</dc:language>
  <cp:lastModifiedBy>Lenovo User</cp:lastModifiedBy>
  <dcterms:modified xsi:type="dcterms:W3CDTF">2006-10-05T13:40:44Z</dcterms:modified>
  <cp:revision>7</cp:revision>
  <dc:subject/>
  <dc:title>六月，我们看海去 </dc:title>
</cp:coreProperties>
</file>