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BE3-4EA0-4730-98E2-AB0956BF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44D-8982-4EDB-ADDA-7DA932D7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452-D024-401C-BAF1-679F3E00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808-15FB-4B77-B82F-6C1E905E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08E7-5DF0-4CF3-BC43-F6779818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CDB9-B1C4-4B60-9879-924D3C22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51F2-5B85-4C36-AFF4-67FBA989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EBD7-8E3A-4CB7-A133-DAA497A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7837-B549-44E6-8486-4F6C654D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18F7-5A75-40DB-981E-2157AC8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749B-9914-49AE-AFE1-708AD5B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A44-1ADF-4AEB-BA54-1702B39E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197C-EB89-4F91-AA3B-907BBA2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4A43-1CAA-4E8E-95AF-9F2F4C70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C069-04CF-4611-8A7D-C918C0A9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F653-703F-43D3-8893-9EC37DA2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A37F-E8F7-4A14-91AC-13F7B0E5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0EA-5AC9-4FA3-90BC-BF3ACDB1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129-1F84-4D1C-ACBC-4DB4F54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6B0-07B3-4F6F-88D5-D180B098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B24-6616-4567-A6D4-5DDEEDEF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970-2027-4FAD-A77E-2544AB3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DFF-0D3C-4CEC-AF55-5E682CAB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7C2-26EB-406B-8FC6-BF0E4387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F01D-F1D8-4D17-B1E6-E2BBDDD2CF2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DC06-8DF3-440D-AE62-23A637D943E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st.dangdang.com/01.05.16_P2.htm?key3=&#24191;&#35199;&#24072;&#33539;&#22823;&#23398;&#20986;&#29256;&#31038;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mettc.ecnu.edu.cn/zyfw/txzy.htm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gototsinghua.org.cn/history.asp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ttc.ecnu.edu.cn/zyfw/txzy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66"/>
                </a:solidFill>
                <a:latin typeface="Arial"/>
              </a:rPr>
              <a:t>论雅俗共赏</a:t>
            </a:r>
            <a:endParaRPr b="0" lang="en-US" sz="8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18160" y="4635000"/>
            <a:ext cx="217800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24000" y="503640"/>
            <a:ext cx="834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隶书"/>
                <a:ea typeface="隶书"/>
              </a:rPr>
              <a:t>2</a:t>
            </a:r>
            <a:r>
              <a:rPr b="1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找出简述每个朝代社会发展特点的句子。</a:t>
            </a: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</a:t>
            </a:r>
            <a:br>
              <a:rPr sz="4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2376720"/>
            <a:ext cx="900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 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3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找出文中出现的每个人物及他们生活的时代的特点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24000" y="4680360"/>
            <a:ext cx="859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4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找出每部作品、每种文体出现的时代及特点的句子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50920" y="-72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填写表格，了解雅俗共赏的历史发展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853200"/>
            <a:ext cx="8893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从上节课填写表格的过程中，你能得出那些认识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259128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文学的雅俗共赏由社会和其自身两方面原因决定。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   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雅俗共赏的目的是为了获得广大的群众。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   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雅俗共赏是以雅为主的，有宾主之分；“共赏”者却以俗人为主。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   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要达到雅与俗“共赏”，贯彻“文艺是为大众”的原则，雅士需要理会迁就“俗”的趣味，而俗士也需要学习，享受，蜕变。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   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西厢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雅俗共赏的典范作品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900000" y="2220120"/>
            <a:ext cx="7632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看看我们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  <a:ea typeface="隶书"/>
              </a:rPr>
              <a:t>生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中有没有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雅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之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朱自清（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898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），字佩弦，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898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22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日出生于江苏省东海县，后移居江苏扬州，是我国新民主主义革命时期的诗人、散文作家、著名学者。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    与其同时代人一样，他幼读私塾，后入江苏省立第八中学，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16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毕业。同年入北京大学哲学系，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20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毕业。毕业后曾在杭州第一师范、吴凇中国公学、台州浙江省第六师范、温州浙江第十中学、宁波浙江省立第四中学、春晖中学等校任教，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25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月，受聘为清华学校中文教授。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30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，他代理清华国文系主任。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31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到英国留学，并漫游欧洲数国，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32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回国主持清华文学系。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37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，随西南联合大学南行。抗战胜利后，朱自清随清华大学复员回到北平，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于北平病逝。 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    朱自清早年创作起步于新诗。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22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，他同俞平伯、叶圣陶等创办了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诗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月刊，这是“五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四”以来最早的一个诗刊，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23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，发表第一首长诗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毁灭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26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月，出版第一本散文集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背影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。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24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踪迹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结集出版之后，朱自清的创作足迹，开始由诗歌转向散文， 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1928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年出版了第一本散文集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背影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，这一时期，他还写下了许多脍炙人口的散文名篇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背影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荷塘月色</a:t>
            </a:r>
            <a:r>
              <a:rPr b="1" lang="en-US" sz="3200" spc="-1" strike="noStrike">
                <a:solidFill>
                  <a:srgbClr val="ffff66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等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17784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3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任清华大学中文系主任，从这时起，朱自清把大部分精力花在中国古典诗歌的教学与研究上，同时写作了不少杂文、书评，并陆续仍有散文集出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抗战期间，由于昆明物价飞涨，家庭人口多，花费大，入不敷出，生活极为困苦，朱自清得了胃病，在这种艰苦的条件下，他仍日以继夜工作，进入了高产创作时期，先后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伦敦杂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诗杂话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诗言志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经典常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等著作问世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9006739_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5002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Author7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zhuziqi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411280" y="0"/>
            <a:ext cx="28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79280" y="196488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94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回到清华，胃病更加恶化，他抱病完成了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论雅俗共赏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语文影响及其它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著述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947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，他为北平当局任意捕人发表抗议书，又在反饥饿反内战的宣言上签名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月，他签名抗议美国扶日，并拒绝领取美援面粉，在严重的营养不良之下，拖了十几年的病体再也经受不住煎熬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月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日，胃病复发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日于北平病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死前，还嘱咐家人不要购买美援面粉。毛泽东对朱自清宁肯饿死不领美国“救济粉”的精神，给予称赞，赞扬他 “表现了我们民族的英雄气概”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79280" y="30474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朱自清的一生，是从作家到学者的一生，在他有限的生命中，他始终把自己的研究工作与文学创作和鉴赏活动紧紧联系在一起，身后留下著作二十余种，约二百万言，这是留给后人的取之不尽、用之不竭的宝贵财富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Author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2634120"/>
            <a:ext cx="8424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雅俗共赏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”是一个在文艺界出现频率很高的词。孰雅孰俗，以什么为界限，雅与俗能否真正平等，历来争论不休。读过朱自清先生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论雅俗共赏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，你会豁然开朗。用他给我们的思维钥匙，开启我们的疑难之锁，相信会有所收获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938600" y="226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找出标注社会发展的词语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32880" y="18208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唐以前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452040" y="182088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唐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23680" y="19155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403760" y="1843920"/>
            <a:ext cx="1154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宋以后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067280" y="2205000"/>
            <a:ext cx="1225440" cy="360360"/>
          </a:xfrm>
          <a:custGeom>
            <a:avLst/>
            <a:gdLst>
              <a:gd name="textAreaLeft" fmla="*/ 153000 w 1225440"/>
              <a:gd name="textAreaRight" fmla="*/ 1072440 w 12254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2050920" y="2205000"/>
            <a:ext cx="1225800" cy="360360"/>
          </a:xfrm>
          <a:custGeom>
            <a:avLst/>
            <a:gdLst>
              <a:gd name="textAreaLeft" fmla="*/ 153000 w 1225800"/>
              <a:gd name="textAreaRight" fmla="*/ 1072800 w 1225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867280" y="2133720"/>
            <a:ext cx="1225800" cy="360360"/>
          </a:xfrm>
          <a:custGeom>
            <a:avLst/>
            <a:gdLst>
              <a:gd name="textAreaLeft" fmla="*/ 153000 w 1225800"/>
              <a:gd name="textAreaRight" fmla="*/ 1072800 w 1225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1:40:25Z</dcterms:created>
  <dc:creator>ZhJ</dc:creator>
  <dc:description/>
  <dc:language>en-US</dc:language>
  <cp:lastModifiedBy>微软用户</cp:lastModifiedBy>
  <dcterms:modified xsi:type="dcterms:W3CDTF">2011-11-17T04:11:25Z</dcterms:modified>
  <cp:revision>16</cp:revision>
  <dc:subject/>
  <dc:title>幻灯片 1</dc:title>
</cp:coreProperties>
</file>