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201-EF1B-42D1-ABD7-BD8BB9CA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850-163E-41FB-9EBD-2017AE2B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F1D-6E7B-492B-8D42-FC666214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E32-9BC2-41D2-BF77-78D42A7D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60C-09CE-4D8F-ACF1-48680ECA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5E4-1099-4F57-AE3A-A6469772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C1D-15B7-4855-9382-E9E45265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DE9-5CCD-4B24-9E4F-AEBEA3E6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BC9-C9DB-40C4-8754-CBBE6232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14F-95EC-4624-B607-26E31338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07D-1838-49EF-B6F0-43FB3D01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14C-61B9-4971-B860-5AD8FBF2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4413-5F45-4C56-B62B-5468F171D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ist.dangdang.com/01.05.16_P2.htm?key3=&#24191;&#35199;&#24072;&#33539;&#22823;&#23398;&#20986;&#29256;&#31038;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mettc.ecnu.edu.cn/zyfw/txzy.htm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gototsinghua.org.cn/history.asp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ettc.ecnu.edu.cn/zyfw/txzy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9006739_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5002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Author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zhuziqi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0"/>
            <a:ext cx="28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250920" y="-72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写表格，了解雅俗共赏的历史发展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853200"/>
            <a:ext cx="8893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从上节课填写表格的过程中，你能得出那些认识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2591280"/>
            <a:ext cx="9144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文学的雅俗共赏由社会和其自身两方面原因决定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雅俗共赏的目的是为了获得广大的群众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雅俗共赏是以雅为主的，有宾主之分；“共赏”者却以俗人为主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要达到雅与俗“共赏”，贯彻“文艺是为大众”的原则，雅士需要理会迁就“俗”的趣味，而俗士也需要学习，享受，蜕变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厢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雅俗共赏的典范作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900000" y="2220120"/>
            <a:ext cx="7632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看看我们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生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中有没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雅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之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朱自清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9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4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字佩弦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9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生于江苏省东海县，后移居江苏扬州，是我国新民主主义革命时期的诗人、散文作家、著名学者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与其同时代人一样，他幼读私塾，后入江苏省立第八中学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毕业。同年入北京大学哲学系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毕业。毕业后曾在杭州第一师范、吴凇中国公学、台州浙江省第六师范、温州浙江第十中学、宁波浙江省立第四中学、春晖中学等校任教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2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，受聘为清华学校中文教授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他代理清华国文系主任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3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到英国留学，并漫游欧洲数国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3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回国主持清华文学系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3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随西南联合大学南行。抗战胜利后，朱自清随清华大学复员回到北平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4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北平病逝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朱自清早年创作起步于新诗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2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他同俞平伯、叶圣陶等创办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刊，这是“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”以来最早的一个诗刊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2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发表第一首长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毁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，出版第一本散文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背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踪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集出版之后，朱自清的创作足迹，开始由诗歌转向散文，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2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出版了第一本散文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背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这一时期，他还写下了许多脍炙人口的散文名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背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荷塘月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17784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66ff33"/>
                </a:solidFill>
                <a:latin typeface="宋体"/>
              </a:rPr>
              <a:t>1932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66ff33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月，任清华大学中文系主任，从这时起，朱自清把大部分精力花在中国古典诗歌的教学与研究上，同时写作了不少杂文、书评，并陆续仍有散文集出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抗战期间，由于昆明物价飞涨，家庭人口多，花费大，入不敷出，生活极为困苦，朱自清得了胃病，在这种艰苦的条件下，他仍日以继夜工作，进入了高产创作时期，先后有</a:t>
            </a:r>
            <a:r>
              <a:rPr b="1" lang="en-US" sz="3600" spc="-1" strike="noStrike">
                <a:solidFill>
                  <a:srgbClr val="66ff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伦敦杂记</a:t>
            </a:r>
            <a:r>
              <a:rPr b="1" lang="en-US" sz="3600" spc="-1" strike="noStrike">
                <a:solidFill>
                  <a:srgbClr val="66ff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66ff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新诗杂话</a:t>
            </a:r>
            <a:r>
              <a:rPr b="1" lang="en-US" sz="3600" spc="-1" strike="noStrike">
                <a:solidFill>
                  <a:srgbClr val="66ff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66ff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诗言志辨</a:t>
            </a:r>
            <a:r>
              <a:rPr b="1" lang="en-US" sz="3600" spc="-1" strike="noStrike">
                <a:solidFill>
                  <a:srgbClr val="66ff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66ff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经典常谈</a:t>
            </a:r>
            <a:r>
              <a:rPr b="1" lang="en-US" sz="3600" spc="-1" strike="noStrike">
                <a:solidFill>
                  <a:srgbClr val="66ff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等著作问世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79280" y="196488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4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回到清华，胃病更加恶化，他抱病完成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论雅俗共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语文影响及其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著述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4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他为北平当局任意捕人发表抗议书，又在反饥饿反内战的宣言上签名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4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，他签名抗议美国扶日，并拒绝领取美援面粉，在严重的营养不良之下，拖了十几年的病体再也经受不住煎熬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4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胃病复发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于北平病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死前，还嘱咐家人不要购买美援面粉。毛泽东对朱自清宁肯饿死不领美国“救济粉”的精神，给予称赞，赞扬他 “表现了我们民族的英雄气概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304740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朱自清的一生，是从作家到学者的一生，在他有限的生命中，他始终把自己的研究工作与文学创作和鉴赏活动紧紧联系在一起，身后留下著作二十余种，约二百万言，这是留给后人的取之不尽、用之不竭的宝贵财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Author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68360" y="2634120"/>
            <a:ext cx="8424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雅俗共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是一个在文艺界出现频率很高的词。孰雅孰俗，以什么为界限，雅与俗能否真正平等，历来争论不休。读过朱自清先生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论雅俗共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你会豁然开朗。用他给我们的思维钥匙，开启我们的疑难之锁，相信会有所收获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938600" y="226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出标注社会发展的词语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32880" y="182088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唐以前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452040" y="182088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唐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323680" y="191556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7403760" y="1843920"/>
            <a:ext cx="11545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宋以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4067280" y="2205000"/>
            <a:ext cx="1225440" cy="360360"/>
          </a:xfrm>
          <a:custGeom>
            <a:avLst/>
            <a:gdLst>
              <a:gd name="textAreaLeft" fmla="*/ 153000 w 1225440"/>
              <a:gd name="textAreaRight" fmla="*/ 1072440 w 12254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2050920" y="2205000"/>
            <a:ext cx="1225800" cy="360360"/>
          </a:xfrm>
          <a:custGeom>
            <a:avLst/>
            <a:gdLst>
              <a:gd name="textAreaLeft" fmla="*/ 153000 w 1225800"/>
              <a:gd name="textAreaRight" fmla="*/ 1072800 w 12258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5867280" y="2133720"/>
            <a:ext cx="1225800" cy="360360"/>
          </a:xfrm>
          <a:custGeom>
            <a:avLst/>
            <a:gdLst>
              <a:gd name="textAreaLeft" fmla="*/ 153000 w 1225800"/>
              <a:gd name="textAreaRight" fmla="*/ 1072800 w 12258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324000" y="503640"/>
            <a:ext cx="834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2</a:t>
            </a: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找出简述每个朝代社会发展特点的句子。</a:t>
            </a:r>
            <a:r>
              <a:rPr b="0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br>
              <a:rPr sz="4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2376720"/>
            <a:ext cx="900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3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找出文中出现的每个人物及他们生活的时代的特点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24000" y="4680360"/>
            <a:ext cx="859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4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找出每部作品、每种文体出现的时代及特点的句子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1:40:25Z</dcterms:created>
  <dc:creator>ZhJ</dc:creator>
  <dc:description/>
  <dc:language>en-US</dc:language>
  <cp:lastModifiedBy>微软用户</cp:lastModifiedBy>
  <dcterms:modified xsi:type="dcterms:W3CDTF">2008-04-15T11:01:18Z</dcterms:modified>
  <cp:revision>15</cp:revision>
  <dc:subject/>
  <dc:title>幻灯片 1</dc:title>
</cp:coreProperties>
</file>