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png" ContentType="image/png"/>
  <Override PartName="/ppt/media/image3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5.jpeg" ContentType="image/jpeg"/>
  <Override PartName="/ppt/media/image6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88DFC-BAD5-4C91-92B5-54D1D0C7F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9A664-7C49-4B2A-9AC8-82EEC5291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09470-0FAE-445F-8E68-147C83093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DC0BE-4F84-484F-B837-DE882BB72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04B8E-34AD-4F9D-B294-7A2BC2916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8CB71-2B22-424B-AB84-638EF646C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6C600-BF3D-4BF0-9E6C-3D7A8C3D4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E815D-3A04-4299-8FF2-2F7C08D46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EBA7A-4458-46E8-AC90-BEDBD4A40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8FD1B-6E7A-4E90-917B-82A53CCCE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F0F05-A69D-441E-A541-1B4A153D8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34E3B-ABC5-4504-B502-ED2A2BD4A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9C260-804E-4192-8887-2DA39309B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5D342-1203-4C99-8D34-EFE77A7B3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4BDAF-10D7-4DB3-AAC6-BE165131F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14FAF-98E1-404B-80E4-3ACCBFAE5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099B7-1045-4712-84AB-20D436929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21C9D5-E94E-4CA4-B553-617D51F4D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565F5F-4CFD-4C21-BFEA-A1E122BBC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8F7C39-2837-4145-A2C0-0E12012A5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2C60F0-0FDF-4D96-ADB4-860EE549E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807D3E-A3B0-4199-932F-48E074583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C674A-263E-4B54-9106-D6BB5F84A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35D4FD-0826-4AF8-B74C-D92F386AC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BF2D99-F20B-4068-97DD-E33C6BF12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8696F0-A905-4F9A-8247-3605BD3B2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989074-3ED3-4763-8790-0F219AC53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8BF817-C2BE-482F-AB63-973C9653A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C6C50F-8F3C-4702-BEA5-6927A4FFF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BDDAD4-97C7-41D5-A798-44F09B7CB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F356F7-3722-43B8-A756-85DAE4D51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8CAD26-2F8E-4B88-AF9B-F047FC979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6B7998-D820-484F-A5DB-9BE20A61A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B6CE4-9C8B-45A3-89E5-DD2A48311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0C5B4A-5B67-453C-A991-218DEA2F9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0813E4-E4BC-481F-AEA7-B37020FE0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9B7F31-C765-4D43-BA9E-21504E420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B5D3C8-8C8D-4D24-AF5E-BB10F2F1D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38E001-288B-468C-864E-BEFC3E1D7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6FFC09-5EFD-4E70-8549-7B0E32282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EA81E8-6396-4AF6-9956-DFCB27F88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F2880E-7B58-4CC8-A93F-A4A11445E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7B6481-DB76-4742-8A9E-A424E6A22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6A1FAC-3CAE-419B-B14F-CA002C17A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A5992-7045-41DC-9775-4D417A7D5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20DF29-7474-477D-80D3-FC1C18E39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685406-6B1D-4D5B-9F6D-D47C69C76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711394-0988-4291-BFF2-04F08F9A9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A5C885-AC01-469B-B0C8-5425A26F1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FC2B2E-8D78-4DB4-AD07-705D1FA4A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43859C-AD65-48D5-931E-86E86B964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3C4BF3-43A8-44D6-8160-9EDFB20E2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621405-10E2-4FA5-9706-01C98C9CE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4EF774-1DF0-4E30-9C57-A67FD919F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8901C5-6728-4341-86CE-890C989E0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AAD67-22E2-42D5-BEE7-DEE014EC6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8A0832-FAD1-4A98-8295-D71883F6C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C5361-7853-4598-9C82-D760A4474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DA9D0-BC25-4FD4-8D1D-D8F36C602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2E6D3-4BF4-4224-B2E6-35025F546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ACD0F-E5B2-4CFB-BB8B-0352127D648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C4E2A-F19B-470B-BD5C-D26A18DDC7E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7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84F54-7E4A-41C2-ACF9-6957995A637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dt" idx="10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C6682-E2F2-41C4-890D-DD7B7A3C18B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67F5C-34E4-4A15-9920-5C1F5A62798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5.jpeg"/><Relationship Id="rId8" Type="http://schemas.openxmlformats.org/officeDocument/2006/relationships/image" Target="../media/image16.png"/><Relationship Id="rId9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2627280" y="1197000"/>
            <a:ext cx="432108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论毅力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3348000" y="3645000"/>
            <a:ext cx="2808360" cy="1274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宋体"/>
              </a:rPr>
              <a:t>梁启超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8839080" y="6392880"/>
            <a:ext cx="304920" cy="236520"/>
          </a:xfrm>
          <a:prstGeom prst="rect">
            <a:avLst/>
          </a:prstGeom>
          <a:ln w="0">
            <a:noFill/>
          </a:ln>
        </p:spPr>
      </p:pic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112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仿宋_GB2312"/>
              </a:rPr>
              <a:t>题解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5950080"/>
          </a:xfrm>
          <a:prstGeom prst="rect">
            <a:avLst/>
          </a:prstGeom>
          <a:noFill/>
          <a:ln w="9360">
            <a:solidFill>
              <a:srgbClr val="0033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749f3"/>
                </a:solidFill>
                <a:latin typeface="宋体"/>
              </a:rPr>
              <a:t>      </a:t>
            </a: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本文节选自</a:t>
            </a:r>
            <a:r>
              <a:rPr b="1" lang="zh-CN" sz="3200" spc="-1" strike="noStrike">
                <a:solidFill>
                  <a:srgbClr val="ff00ff"/>
                </a:solidFill>
                <a:latin typeface="宋体"/>
              </a:rPr>
              <a:t>《饮冰室文集》</a:t>
            </a: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中的《专集，新民说》。写于</a:t>
            </a: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1902</a:t>
            </a: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年，即变法第四年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749f3"/>
                </a:solidFill>
                <a:latin typeface="宋体"/>
              </a:rPr>
              <a:t>      </a:t>
            </a: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变法失败后，志士同仁，损失惨重，环境险恶，在这种逆境下，梁启超想到了古今中外伟大的成功经验——毅力，以此为突破口，证明</a:t>
            </a:r>
            <a:r>
              <a:rPr b="1" lang="zh-CN" sz="3200" spc="-1" strike="noStrike">
                <a:solidFill>
                  <a:srgbClr val="ff00ff"/>
                </a:solidFill>
                <a:latin typeface="宋体"/>
              </a:rPr>
              <a:t>只有凭着坚韧的毅力，才能征服逆境，实现人生的追求，</a:t>
            </a: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以此激励在变法之后处于逆境的同志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9144000" y="-330120"/>
            <a:ext cx="108000" cy="83880"/>
          </a:xfrm>
          <a:prstGeom prst="rect">
            <a:avLst/>
          </a:prstGeom>
          <a:ln w="0">
            <a:noFill/>
          </a:ln>
        </p:spPr>
      </p:pic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3300"/>
              </a:solidFill>
              <a:latin typeface="Arial"/>
              <a:ea typeface="仿宋_GB2312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717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宋体"/>
              </a:rPr>
              <a:t>一、重点词语解释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、天下古今成败之</a:t>
            </a:r>
            <a:r>
              <a:rPr b="1" lang="zh-CN" sz="3200" spc="-1" strike="noStrike">
                <a:solidFill>
                  <a:srgbClr val="ff00ff"/>
                </a:solidFill>
                <a:latin typeface="宋体"/>
              </a:rPr>
              <a:t>林</a:t>
            </a: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，若是其</a:t>
            </a:r>
            <a:r>
              <a:rPr b="1" lang="zh-CN" sz="3200" spc="-1" strike="noStrike">
                <a:solidFill>
                  <a:srgbClr val="ff00ff"/>
                </a:solidFill>
                <a:latin typeface="宋体"/>
              </a:rPr>
              <a:t>莽然不一途</a:t>
            </a: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也。</a:t>
            </a:r>
            <a:br>
              <a:rPr sz="3200"/>
            </a:b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 </a:t>
            </a:r>
            <a:r>
              <a:rPr b="1" lang="zh-CN" sz="3200" spc="-1" strike="noStrike">
                <a:solidFill>
                  <a:srgbClr val="ff00ff"/>
                </a:solidFill>
                <a:latin typeface="宋体"/>
              </a:rPr>
              <a:t>“林”：</a:t>
            </a: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会集。</a:t>
            </a:r>
            <a:r>
              <a:rPr b="1" lang="zh-CN" sz="3200" spc="-1" strike="noStrike">
                <a:solidFill>
                  <a:srgbClr val="ff00ff"/>
                </a:solidFill>
                <a:latin typeface="宋体"/>
              </a:rPr>
              <a:t>“莽然”：</a:t>
            </a: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广大众多的样子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   </a:t>
            </a:r>
            <a:r>
              <a:rPr b="1" lang="zh-CN" sz="3200" spc="-1" strike="noStrike">
                <a:solidFill>
                  <a:srgbClr val="ff00ff"/>
                </a:solidFill>
                <a:latin typeface="宋体"/>
              </a:rPr>
              <a:t>“</a:t>
            </a:r>
            <a:r>
              <a:rPr b="1" lang="zh-CN" sz="3200" spc="-1" strike="noStrike">
                <a:solidFill>
                  <a:srgbClr val="ff00ff"/>
                </a:solidFill>
                <a:latin typeface="宋体"/>
              </a:rPr>
              <a:t>不一”</a:t>
            </a:r>
            <a:r>
              <a:rPr b="1" lang="zh-CN" sz="3200" spc="-1" strike="noStrike">
                <a:solidFill>
                  <a:srgbClr val="8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ff00ff"/>
                </a:solidFill>
                <a:latin typeface="宋体"/>
              </a:rPr>
              <a:t>：</a:t>
            </a: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种种不同   </a:t>
            </a:r>
            <a:r>
              <a:rPr b="1" lang="zh-CN" sz="3200" spc="-1" strike="noStrike">
                <a:solidFill>
                  <a:srgbClr val="ff00ff"/>
                </a:solidFill>
                <a:latin typeface="宋体"/>
              </a:rPr>
              <a:t>“途”，：</a:t>
            </a: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途径、情况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、而顺逆两境，又常相间以</a:t>
            </a:r>
            <a:r>
              <a:rPr b="1" lang="zh-CN" sz="3200" spc="-1" strike="noStrike">
                <a:solidFill>
                  <a:srgbClr val="ff00ff"/>
                </a:solidFill>
                <a:latin typeface="宋体"/>
              </a:rPr>
              <a:t>迭乘</a:t>
            </a: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。　　</a:t>
            </a:r>
            <a:br>
              <a:rPr sz="3200"/>
            </a:b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ff00ff"/>
                </a:solidFill>
                <a:latin typeface="宋体"/>
              </a:rPr>
              <a:t>迭乘：</a:t>
            </a: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交替的呈现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、旁观者徒</a:t>
            </a:r>
            <a:r>
              <a:rPr b="1" lang="zh-CN" sz="3200" spc="-1" strike="noStrike">
                <a:solidFill>
                  <a:srgbClr val="ff00ff"/>
                </a:solidFill>
                <a:latin typeface="宋体"/>
              </a:rPr>
              <a:t>艳羡</a:t>
            </a: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其功之成，以为是</a:t>
            </a:r>
            <a:r>
              <a:rPr b="1" lang="zh-CN" sz="3200" spc="-1" strike="noStrike">
                <a:solidFill>
                  <a:srgbClr val="ff00ff"/>
                </a:solidFill>
                <a:latin typeface="宋体"/>
              </a:rPr>
              <a:t>殆</a:t>
            </a: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幸运儿，而天</a:t>
            </a:r>
            <a:r>
              <a:rPr b="1" lang="zh-CN" sz="3200" spc="-1" strike="noStrike">
                <a:solidFill>
                  <a:srgbClr val="ff00ff"/>
                </a:solidFill>
                <a:latin typeface="宋体"/>
              </a:rPr>
              <a:t>有以</a:t>
            </a: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宠彼也。 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   </a:t>
            </a:r>
            <a:r>
              <a:rPr b="1" lang="zh-CN" sz="3200" spc="-1" strike="noStrike">
                <a:solidFill>
                  <a:srgbClr val="ff00ff"/>
                </a:solidFill>
                <a:latin typeface="宋体"/>
              </a:rPr>
              <a:t>艳羡：</a:t>
            </a: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非常羡慕。</a:t>
            </a:r>
            <a:r>
              <a:rPr b="1" lang="zh-CN" sz="3200" spc="-1" strike="noStrike">
                <a:solidFill>
                  <a:srgbClr val="ff00ff"/>
                </a:solidFill>
                <a:latin typeface="宋体"/>
              </a:rPr>
              <a:t>殆：</a:t>
            </a: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大概。</a:t>
            </a:r>
            <a:r>
              <a:rPr b="1" lang="zh-CN" sz="3200" spc="-1" strike="noStrike">
                <a:solidFill>
                  <a:srgbClr val="ff00ff"/>
                </a:solidFill>
                <a:latin typeface="宋体"/>
              </a:rPr>
              <a:t>有以：</a:t>
            </a: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有用来…</a:t>
            </a: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的办法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755640" y="-3160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宋体"/>
              </a:rPr>
              <a:t>4</a:t>
            </a:r>
            <a:r>
              <a:rPr b="1" lang="zh-CN" sz="3600" spc="-1" strike="noStrike">
                <a:solidFill>
                  <a:srgbClr val="0033cc"/>
                </a:solidFill>
                <a:latin typeface="宋体"/>
              </a:rPr>
              <a:t>、又以为我</a:t>
            </a:r>
            <a:r>
              <a:rPr b="1" lang="zh-CN" sz="3600" spc="-1" strike="noStrike">
                <a:solidFill>
                  <a:srgbClr val="ff00ff"/>
                </a:solidFill>
                <a:latin typeface="宋体"/>
              </a:rPr>
              <a:t>蹇</a:t>
            </a:r>
            <a:r>
              <a:rPr b="1" lang="zh-CN" sz="3600" spc="-1" strike="noStrike">
                <a:solidFill>
                  <a:srgbClr val="0033cc"/>
                </a:solidFill>
                <a:latin typeface="宋体"/>
              </a:rPr>
              <a:t>于遭逢，故所就不彼若也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宋体"/>
              </a:rPr>
              <a:t>   </a:t>
            </a:r>
            <a:r>
              <a:rPr b="1" lang="zh-CN" sz="3600" spc="-1" strike="noStrike">
                <a:solidFill>
                  <a:srgbClr val="ff00ff"/>
                </a:solidFill>
                <a:latin typeface="宋体"/>
              </a:rPr>
              <a:t>蹇</a:t>
            </a:r>
            <a:r>
              <a:rPr b="1" lang="zh-CN" sz="3600" spc="-1" strike="noStrike">
                <a:solidFill>
                  <a:srgbClr val="ff00ff"/>
                </a:solidFill>
                <a:latin typeface="宋体"/>
              </a:rPr>
              <a:t>:</a:t>
            </a:r>
            <a:r>
              <a:rPr b="1" lang="zh-CN" sz="3600" spc="-1" strike="noStrike">
                <a:solidFill>
                  <a:srgbClr val="0033cc"/>
                </a:solidFill>
                <a:latin typeface="宋体"/>
              </a:rPr>
              <a:t>原意是跛足，引申为艰难、困厄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宋体"/>
              </a:rPr>
              <a:t>5</a:t>
            </a:r>
            <a:r>
              <a:rPr b="1" lang="zh-CN" sz="3600" spc="-1" strike="noStrike">
                <a:solidFill>
                  <a:srgbClr val="0033cc"/>
                </a:solidFill>
                <a:latin typeface="宋体"/>
              </a:rPr>
              <a:t>、其间风潮之或顺或逆，常相</a:t>
            </a:r>
            <a:r>
              <a:rPr b="1" lang="zh-CN" sz="3600" spc="-1" strike="noStrike">
                <a:solidFill>
                  <a:srgbClr val="ff00ff"/>
                </a:solidFill>
                <a:latin typeface="宋体"/>
              </a:rPr>
              <a:t>参伍</a:t>
            </a:r>
            <a:r>
              <a:rPr b="1" lang="zh-CN" sz="3600" spc="-1" strike="noStrike">
                <a:solidFill>
                  <a:srgbClr val="0033cc"/>
                </a:solidFill>
                <a:latin typeface="宋体"/>
              </a:rPr>
              <a:t>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宋体"/>
              </a:rPr>
              <a:t>参伍：</a:t>
            </a:r>
            <a:r>
              <a:rPr b="1" lang="zh-CN" sz="3600" spc="-1" strike="noStrike">
                <a:solidFill>
                  <a:srgbClr val="0033cc"/>
                </a:solidFill>
                <a:latin typeface="宋体"/>
              </a:rPr>
              <a:t>交相错杂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宋体"/>
              </a:rPr>
              <a:t>6</a:t>
            </a:r>
            <a:r>
              <a:rPr b="1" lang="zh-CN" sz="3600" spc="-1" strike="noStrike">
                <a:solidFill>
                  <a:srgbClr val="0033cc"/>
                </a:solidFill>
                <a:latin typeface="宋体"/>
              </a:rPr>
              <a:t>、成败之</a:t>
            </a:r>
            <a:r>
              <a:rPr b="1" lang="zh-CN" sz="3600" spc="-1" strike="noStrike">
                <a:solidFill>
                  <a:srgbClr val="ff00ff"/>
                </a:solidFill>
                <a:latin typeface="宋体"/>
              </a:rPr>
              <a:t>数</a:t>
            </a:r>
            <a:r>
              <a:rPr b="1" lang="zh-CN" sz="3600" spc="-1" strike="noStrike">
                <a:solidFill>
                  <a:srgbClr val="0033cc"/>
                </a:solidFill>
                <a:latin typeface="宋体"/>
              </a:rPr>
              <a:t>，视此而已。</a:t>
            </a:r>
            <a:br>
              <a:rPr sz="3600"/>
            </a:br>
            <a:r>
              <a:rPr b="1" lang="zh-CN" sz="3600" spc="-1" strike="noStrike">
                <a:solidFill>
                  <a:srgbClr val="ff00ff"/>
                </a:solidFill>
                <a:latin typeface="宋体"/>
              </a:rPr>
              <a:t>数：</a:t>
            </a:r>
            <a:r>
              <a:rPr b="1" lang="zh-CN" sz="3600" spc="-1" strike="noStrike">
                <a:solidFill>
                  <a:srgbClr val="0033cc"/>
                </a:solidFill>
                <a:latin typeface="宋体"/>
              </a:rPr>
              <a:t>规律。　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1127160" y="1239840"/>
            <a:ext cx="7559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28600" y="430200"/>
            <a:ext cx="8610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 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天下古今成败的种种事情，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黑体"/>
              </a:rPr>
              <a:t>是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如此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的情况繁多、道路不一呵。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概括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地说他们为什么成功、为什么失败，是有毅力的人成功，与此相反的人失败。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大概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黑体"/>
              </a:rPr>
              <a:t>人生的历程，大抵逆境占十分之六七，顺境也占十分之三四，顺、逆两境又常常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互相间隔、交替出现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黑体"/>
              </a:rPr>
              <a:t>。无论事情的大小，必定有几次乃至十几次遇到阻力。   它们的阻力虽然或大或小，但总之是必定无法逃避的。那些意志力薄弱的人，开始时一定说“我要怎样，我要怎样”，他们的意思是以为天下的事情本来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十分容易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黑体"/>
              </a:rPr>
              <a:t>，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等到很快地尝试一下，阻力突然来了，就灰心丧气地打退堂鼓了</a:t>
            </a:r>
            <a:r>
              <a:rPr b="0" lang="zh-CN" sz="32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0" y="115920"/>
            <a:ext cx="1716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-541440" y="0"/>
            <a:ext cx="3726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课文翻译</a:t>
            </a:r>
            <a:endParaRPr b="0" lang="en-US" sz="3600" spc="-1" strike="noStrike">
              <a:solidFill>
                <a:srgbClr val="0075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304920" y="380880"/>
            <a:ext cx="8458200" cy="33858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  <a:ea typeface="黑体"/>
              </a:rPr>
              <a:t>   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  <a:ea typeface="黑体"/>
              </a:rPr>
              <a:t>那些意志力稍微薄弱些的人，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乘着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  <a:ea typeface="黑体"/>
              </a:rPr>
              <a:t>一时的意气，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通过了这第一关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  <a:ea typeface="黑体"/>
              </a:rPr>
              <a:t>，遇到</a:t>
            </a:r>
            <a:r>
              <a:rPr b="1" lang="zh-CN" sz="3600" spc="-1" strike="noStrike" u="sng">
                <a:solidFill>
                  <a:srgbClr val="0000ff"/>
                </a:solidFill>
                <a:uFillTx/>
                <a:latin typeface="Times New Roman"/>
                <a:ea typeface="黑体"/>
              </a:rPr>
              <a:t>两次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  <a:ea typeface="黑体"/>
              </a:rPr>
              <a:t>挫折就退后了；哪些意志力稍微强大些的人，遇到三四次挫折就退后了；哪些意志力更加强大的人，遇到五六次挫折也退后了；事情越大，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做的人遇到的挫折越多，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他（想）不后退是不容易的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，不是意志力最强的人，没有能够好好地做到底的。    </a:t>
            </a:r>
            <a:r>
              <a:rPr b="1" lang="zh-CN" sz="3600" spc="-1" strike="noStrike">
                <a:solidFill>
                  <a:srgbClr val="0033cc"/>
                </a:solidFill>
                <a:latin typeface="黑体"/>
                <a:ea typeface="黑体"/>
              </a:rPr>
              <a:t>如果他遇到挫折而不后退，那么在小的挫折之后，必定有小的顺利；</a:t>
            </a: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228600" y="228600"/>
            <a:ext cx="845820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大的挫折之后，必定有大的顺利。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繁难复杂的地方已经过去</a:t>
            </a: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，接着其他问题就会很快得到解决。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旁观的人只是非常羡慕他的成功，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以为他大概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是幸运儿，老天爷有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宠于他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，又以为自己在遭遇上很艰难，因此所成就的事业不如他。这种人怎么知道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所谓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的艰难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、幸运，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都是他和我相同的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，但那种能不能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征服艰难、利用幸运的态度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，就是他成功我失败所区别的地方。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又比如驾船，如果在二十天的期间内，行驶千里水路，其间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风潮或顺或逆</a:t>
            </a: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，常常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交相错杂</a:t>
            </a: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。他凭借艰苦忍耐的意志力，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顶着</a:t>
            </a: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逆风恶浪而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突破、通过难关</a:t>
            </a: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，然后能够从容进入顺境。我就有时行驶了一天即返回了，有时行驶了两三天即返回了，有时行驶了五六天即返回了，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所以</a:t>
            </a: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彼岸始终无法到达。 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1258920" y="1125360"/>
            <a:ext cx="6770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0033cc"/>
                </a:solidFill>
                <a:latin typeface="Times New Roman"/>
                <a:ea typeface="黑体"/>
              </a:rPr>
              <a:t>孔子说：“比如造山，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还差</a:t>
            </a:r>
            <a:r>
              <a:rPr b="0" lang="zh-CN" sz="3600" spc="-1" strike="noStrike">
                <a:solidFill>
                  <a:srgbClr val="0033cc"/>
                </a:solidFill>
                <a:latin typeface="Times New Roman"/>
                <a:ea typeface="黑体"/>
              </a:rPr>
              <a:t>一筐土，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如果停下来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，那是我自己停下的；</a:t>
            </a:r>
            <a:r>
              <a:rPr b="0" lang="zh-CN" sz="3600" spc="-1" strike="noStrike">
                <a:solidFill>
                  <a:srgbClr val="0033cc"/>
                </a:solidFill>
                <a:latin typeface="Times New Roman"/>
                <a:ea typeface="黑体"/>
              </a:rPr>
              <a:t>又比如填平土地，即使只倒了一筐土，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这样填下去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，那也是我自己去填的。</a:t>
            </a:r>
            <a:r>
              <a:rPr b="0" lang="zh-CN" sz="3600" spc="-1" strike="noStrike">
                <a:solidFill>
                  <a:srgbClr val="0033cc"/>
                </a:solidFill>
                <a:latin typeface="Times New Roman"/>
                <a:ea typeface="黑体"/>
              </a:rPr>
              <a:t>”孟子说：“做事的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好比</a:t>
            </a:r>
            <a:r>
              <a:rPr b="0" lang="zh-CN" sz="3600" spc="-1" strike="noStrike">
                <a:solidFill>
                  <a:srgbClr val="0033cc"/>
                </a:solidFill>
                <a:latin typeface="Times New Roman"/>
                <a:ea typeface="黑体"/>
              </a:rPr>
              <a:t>挖井，挖了七八丈深，没有挖到井水，还是废井。”成败的规律，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就跟这个一样</a:t>
            </a:r>
            <a:r>
              <a:rPr b="0" lang="zh-CN" sz="3600" spc="-1" strike="noStrike">
                <a:solidFill>
                  <a:srgbClr val="0033cc"/>
                </a:solidFill>
                <a:latin typeface="Times New Roman"/>
                <a:ea typeface="黑体"/>
              </a:rPr>
              <a:t>。</a:t>
            </a:r>
            <a:r>
              <a:rPr b="0" lang="zh-CN" sz="36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8839080" y="6629400"/>
            <a:ext cx="304920" cy="23652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835280" y="259920"/>
            <a:ext cx="5410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Arial"/>
                <a:ea typeface="仿宋_GB2312"/>
              </a:rPr>
              <a:t>中心论点</a:t>
            </a:r>
            <a:endParaRPr b="0" lang="en-US" sz="60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91440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4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99ff"/>
                </a:solidFill>
                <a:latin typeface="宋体"/>
              </a:rPr>
              <a:t>      </a:t>
            </a:r>
            <a:r>
              <a:rPr b="1" lang="zh-CN" sz="3600" spc="-1" strike="noStrike">
                <a:solidFill>
                  <a:srgbClr val="0033cc"/>
                </a:solidFill>
                <a:latin typeface="宋体"/>
              </a:rPr>
              <a:t>本文的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中心论点是：</a:t>
            </a:r>
            <a:r>
              <a:rPr b="1" lang="zh-CN" sz="3600" spc="-1" strike="noStrike">
                <a:solidFill>
                  <a:srgbClr val="ff00ff"/>
                </a:solidFill>
                <a:latin typeface="宋体"/>
              </a:rPr>
              <a:t>有毅力者成，反是者败。</a:t>
            </a:r>
            <a:r>
              <a:rPr b="1" lang="zh-CN" sz="3600" spc="-1" strike="noStrike">
                <a:solidFill>
                  <a:srgbClr val="0033cc"/>
                </a:solidFill>
                <a:latin typeface="宋体"/>
              </a:rPr>
              <a:t>作者纵观古今，强调了毅力的重要性，并告诫人们只要充分发挥主观能动性，创造性，以坚韧的毅力去战胜逆境，克服困难，就一定能够取得最终胜利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宋体"/>
              </a:rPr>
              <a:t>　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" descr=""/>
          <p:cNvPicPr/>
          <p:nvPr/>
        </p:nvPicPr>
        <p:blipFill>
          <a:blip r:embed="rId2"/>
          <a:stretch/>
        </p:blipFill>
        <p:spPr>
          <a:xfrm>
            <a:off x="8839080" y="-7920"/>
            <a:ext cx="304920" cy="23652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仿宋_GB2312"/>
              </a:rPr>
              <a:t>结构层次</a:t>
            </a:r>
            <a:endParaRPr b="0" lang="en-US" sz="40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0" y="620640"/>
            <a:ext cx="914400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全文共二段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一（第</a:t>
            </a: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段）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提出全文中点论点：“有毅力者成，反是者败，”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二（第</a:t>
            </a: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段）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论证论点：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</a:rPr>
              <a:t>第一层：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、人生历程都有逆顺，论证阻力是无法回避的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、分析五种不同类型的人对待阻力、逆境的不同态度和结果，论证毅力的重要性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/>
          </p:nvPr>
        </p:nvSpPr>
        <p:spPr>
          <a:xfrm>
            <a:off x="-360" y="0"/>
            <a:ext cx="84582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宋体"/>
              </a:rPr>
              <a:t>第二层：</a:t>
            </a: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从“逆”，“顺”的转化进一步论毅力的作用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）从挫折而不退说起，辨证地阐明逆与顺的关系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）从如何对待“蹇”与“幸”的对比中，得出“毅力”是成功之关键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）以“操舟”喻对待逆境，没有毅力的人是不可能达到胜利彼岸的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宋体"/>
              </a:rPr>
              <a:t>第三层：</a:t>
            </a: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以孔孟言论作结，归纳全文的结论，“成败之数，视此而已“（与第一段呼应）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572000" cy="630864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3"/>
          <a:stretch/>
        </p:blipFill>
        <p:spPr>
          <a:xfrm>
            <a:off x="4427640" y="0"/>
            <a:ext cx="4716360" cy="630864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 txBox="1"/>
          <p:nvPr/>
        </p:nvSpPr>
        <p:spPr>
          <a:xfrm>
            <a:off x="3132000" y="6093000"/>
            <a:ext cx="2590920" cy="529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黑体"/>
              </a:rPr>
              <a:t>梁启超肖像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宋体"/>
              </a:rPr>
              <a:t>本文论述结构是：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起：</a:t>
            </a: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提出“成败之林”的话题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承：</a:t>
            </a: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提出中心论点——“曰：有毅力者成，反是者败。”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转：</a:t>
            </a: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转入论证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论点一</a:t>
            </a: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：人生历程都有逆顺，毅力至强，才能成功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论据：</a:t>
            </a: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十六七逆境，十三四顺境，总有阻力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      </a:t>
            </a: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志力薄弱者……其次弱者……稍强者……更稍强者……至强之人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论点二</a:t>
            </a: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：逆境可以转化成顺境，条件是要有毅力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论据：</a:t>
            </a: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事情总是会变化的（逆境顺境会交替出现）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      </a:t>
            </a: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运气一视同仁（不必总羡慕他人）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      </a:t>
            </a: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半途而废永远到不了终点（譬如操舟）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论点三</a:t>
            </a: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：古代圣贤对此早有定论（孔子说、孟子说）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合：</a:t>
            </a: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呼应开头（成败之数，视此而已）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8839080" y="6392880"/>
            <a:ext cx="304920" cy="236520"/>
          </a:xfrm>
          <a:prstGeom prst="rect">
            <a:avLst/>
          </a:prstGeom>
          <a:ln w="0">
            <a:noFill/>
          </a:ln>
        </p:spPr>
      </p:pic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仿宋_GB2312"/>
              </a:rPr>
              <a:t>艺术特色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仿宋_GB2312"/>
              </a:rPr>
              <a:t>1</a:t>
            </a:r>
            <a:endParaRPr b="0" lang="en-US" sz="32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0" y="764640"/>
            <a:ext cx="9144000" cy="609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宋体"/>
              </a:rPr>
              <a:t>一、从思路上看，活泼开阔，自由畅达。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99ff"/>
                </a:solidFill>
                <a:latin typeface="宋体"/>
              </a:rPr>
              <a:t>  </a:t>
            </a:r>
            <a:r>
              <a:rPr b="1" lang="zh-CN" sz="2400" spc="-1" strike="noStrike">
                <a:solidFill>
                  <a:srgbClr val="0033cc"/>
                </a:solidFill>
                <a:latin typeface="宋体"/>
              </a:rPr>
              <a:t>文章开头从天下古今成败之林着眼，总结了上下几千年的经验教训，字字千钧。接着又</a:t>
            </a:r>
            <a:r>
              <a:rPr b="1" lang="zh-CN" sz="2400" spc="-1" strike="noStrike">
                <a:solidFill>
                  <a:srgbClr val="ff00ff"/>
                </a:solidFill>
                <a:latin typeface="宋体"/>
              </a:rPr>
              <a:t>纵</a:t>
            </a:r>
            <a:r>
              <a:rPr b="1" lang="zh-CN" sz="2400" spc="-1" strike="noStrike">
                <a:solidFill>
                  <a:srgbClr val="0033cc"/>
                </a:solidFill>
                <a:latin typeface="宋体"/>
              </a:rPr>
              <a:t>的从人生历程来论，</a:t>
            </a:r>
            <a:r>
              <a:rPr b="1" lang="zh-CN" sz="2400" spc="-1" strike="noStrike">
                <a:solidFill>
                  <a:srgbClr val="ff00ff"/>
                </a:solidFill>
                <a:latin typeface="宋体"/>
              </a:rPr>
              <a:t>横</a:t>
            </a:r>
            <a:r>
              <a:rPr b="1" lang="zh-CN" sz="2400" spc="-1" strike="noStrike">
                <a:solidFill>
                  <a:srgbClr val="0033cc"/>
                </a:solidFill>
                <a:latin typeface="宋体"/>
              </a:rPr>
              <a:t>的从各类人对困难阻力的变态来谈，或古或今，或远或近，围绕论点，无拘无束。 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宋体"/>
              </a:rPr>
              <a:t>二、结构上，环环相扣，层层递进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99ff"/>
                </a:solidFill>
                <a:latin typeface="宋体"/>
              </a:rPr>
              <a:t>  </a:t>
            </a:r>
            <a:r>
              <a:rPr b="1" lang="zh-CN" sz="2400" spc="-1" strike="noStrike">
                <a:solidFill>
                  <a:srgbClr val="0033cc"/>
                </a:solidFill>
                <a:latin typeface="宋体"/>
              </a:rPr>
              <a:t>如：第二段第一层先以人生历程有顺有逆一般规律入手，说明人要有毅力，第二层在第一层基础上，以逆顺的转化，说明人必须要有毅力，第三层对一、二层次论证总结，点明中心论点。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宋体"/>
              </a:rPr>
              <a:t>  </a:t>
            </a:r>
            <a:r>
              <a:rPr b="1" lang="zh-CN" sz="2400" spc="-1" strike="noStrike">
                <a:solidFill>
                  <a:srgbClr val="0033cc"/>
                </a:solidFill>
                <a:latin typeface="宋体"/>
              </a:rPr>
              <a:t>又如：第一层中，五种不同类型的人对待阻力，逆境的不同态度和呈现的不同结果，环环相扣，层层递进。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99ff"/>
                </a:solidFill>
                <a:latin typeface="宋体"/>
              </a:rPr>
              <a:t> 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3"/>
          <a:stretch/>
        </p:blipFill>
        <p:spPr>
          <a:xfrm>
            <a:off x="8381880" y="6095880"/>
            <a:ext cx="478080" cy="47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/>
          </p:nvPr>
        </p:nvSpPr>
        <p:spPr>
          <a:xfrm>
            <a:off x="0" y="549360"/>
            <a:ext cx="91440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宋体"/>
              </a:rPr>
              <a:t>三、从写法上看：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ff00ff"/>
                </a:solidFill>
                <a:latin typeface="宋体"/>
              </a:rPr>
              <a:t>、论证方法灵活多变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本文的论证方法灵活多变，交互使用了归纳（“要”字）、对比（五种人，我与彼）、比喻（操舟）、引用（孔孟）等论证笔法。</a:t>
            </a:r>
            <a:r>
              <a:rPr b="1" lang="zh-CN" sz="2800" spc="-1" strike="noStrike">
                <a:solidFill>
                  <a:srgbClr val="3399ff"/>
                </a:solidFill>
                <a:latin typeface="宋体"/>
              </a:rPr>
              <a:t> 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ff00ff"/>
                </a:solidFill>
                <a:latin typeface="宋体"/>
              </a:rPr>
              <a:t>、正反对举的说理方法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文章论证自始至终运用了正反对举的论证方法，说理十分透彻。文章开篇从“天下”，“古今”起笔，从“成败”落笔，中心论点有 “有毅力者成，反是者败” ，一正一反。第</a:t>
            </a: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段利用顺与逆，强与弱，我与彼，蹇与幸，成与败对举论证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Arial"/>
                <a:ea typeface="仿宋_GB2312"/>
              </a:rPr>
              <a:t>艺术特色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  <a:ea typeface="仿宋_GB2312"/>
              </a:rPr>
              <a:t>2</a:t>
            </a:r>
            <a:endParaRPr b="0" lang="en-US" sz="3200" spc="-1" strike="noStrike">
              <a:solidFill>
                <a:srgbClr val="0075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" descr=""/>
          <p:cNvPicPr/>
          <p:nvPr/>
        </p:nvPicPr>
        <p:blipFill>
          <a:blip r:embed="rId2"/>
          <a:stretch/>
        </p:blipFill>
        <p:spPr>
          <a:xfrm>
            <a:off x="9144000" y="-246240"/>
            <a:ext cx="684360" cy="532080"/>
          </a:xfrm>
          <a:prstGeom prst="rect">
            <a:avLst/>
          </a:prstGeom>
          <a:ln w="0">
            <a:noFill/>
          </a:ln>
        </p:spPr>
      </p:pic>
      <p:sp>
        <p:nvSpPr>
          <p:cNvPr id="259" name="PlaceHolder 1"/>
          <p:cNvSpPr>
            <a:spLocks noGrp="1"/>
          </p:cNvSpPr>
          <p:nvPr>
            <p:ph/>
          </p:nvPr>
        </p:nvSpPr>
        <p:spPr>
          <a:xfrm>
            <a:off x="0" y="981000"/>
            <a:ext cx="9144000" cy="39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ff00ff"/>
                </a:solidFill>
                <a:latin typeface="宋体"/>
              </a:rPr>
              <a:t>、生动形象的比喻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2904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）以“操舟”比喻“有毅力者”“得从容以进度其顺”；“反是者”，“故彼岸终不可达也”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2904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）孔子“为山”之喻，无毅力者功亏一篑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2904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）以“平地”比喻有毅力者，“虽得一篑”，“吾往也”。 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2904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4</a:t>
            </a: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）孟子“掘井”之喻半途而废，事业无成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Arial"/>
                <a:ea typeface="仿宋_GB2312"/>
              </a:rPr>
              <a:t>艺术特色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  <a:ea typeface="仿宋_GB2312"/>
              </a:rPr>
              <a:t>3</a:t>
            </a:r>
            <a:endParaRPr b="0" lang="en-US" sz="3200" spc="-1" strike="noStrike">
              <a:solidFill>
                <a:srgbClr val="0075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9036000" y="0"/>
            <a:ext cx="108000" cy="84240"/>
          </a:xfrm>
          <a:prstGeom prst="rect">
            <a:avLst/>
          </a:prstGeom>
          <a:ln w="0">
            <a:noFill/>
          </a:ln>
        </p:spPr>
      </p:pic>
      <p:sp>
        <p:nvSpPr>
          <p:cNvPr id="262" name="PlaceHolder 1"/>
          <p:cNvSpPr>
            <a:spLocks noGrp="1"/>
          </p:cNvSpPr>
          <p:nvPr>
            <p:ph/>
          </p:nvPr>
        </p:nvSpPr>
        <p:spPr>
          <a:xfrm>
            <a:off x="0" y="620280"/>
            <a:ext cx="914400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ff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ff00ff"/>
                </a:solidFill>
                <a:latin typeface="宋体"/>
              </a:rPr>
              <a:t>、层递句的运用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）面对逆境与阻力的五种人的不同态度和结果，“志力薄弱之士”，“次弱者”“稍强者”，“更稍强者”，“至强之人”，一层由一层，层层递进，将“有毅力者”与“反是者”的不同层次都提到了，涵盖全面，说明周密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）操者，彼“从容以进度其顺”，“我则成一日而返焉，或二，三日而返焉或五之日，而返焉，故彼岸终不可达也”，三个层次的层递，将“反是者败”的道理说的明明白白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11280" y="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  <a:ea typeface="仿宋_GB2312"/>
              </a:rPr>
              <a:t>艺术特色</a:t>
            </a:r>
            <a:r>
              <a:rPr b="1" lang="zh-CN" sz="3200" spc="-1" strike="noStrike">
                <a:solidFill>
                  <a:srgbClr val="ff00ff"/>
                </a:solidFill>
                <a:latin typeface="Times New Roman"/>
                <a:ea typeface="仿宋_GB2312"/>
              </a:rPr>
              <a:t>4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1403280" y="476280"/>
            <a:ext cx="184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676520" y="2022480"/>
            <a:ext cx="687384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华文中宋"/>
                <a:ea typeface="华文中宋"/>
              </a:rPr>
              <a:t>请你讲讲：古今中外有哪</a:t>
            </a:r>
            <a:endParaRPr b="0" lang="en-US" sz="40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华文中宋"/>
                <a:ea typeface="华文中宋"/>
              </a:rPr>
              <a:t>些名人是因有</a:t>
            </a:r>
            <a:r>
              <a:rPr b="1" lang="zh-CN" sz="4000" spc="-1" strike="noStrike">
                <a:solidFill>
                  <a:srgbClr val="006600"/>
                </a:solidFill>
                <a:latin typeface="华文中宋"/>
                <a:ea typeface="华文中宋"/>
              </a:rPr>
              <a:t>非凡的毅力</a:t>
            </a:r>
            <a:r>
              <a:rPr b="1" lang="zh-CN" sz="4000" spc="-1" strike="noStrike">
                <a:solidFill>
                  <a:srgbClr val="ff0000"/>
                </a:solidFill>
                <a:latin typeface="华文中宋"/>
                <a:ea typeface="华文中宋"/>
              </a:rPr>
              <a:t>而</a:t>
            </a:r>
            <a:endParaRPr b="0" lang="en-US" sz="40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华文中宋"/>
                <a:ea typeface="华文中宋"/>
              </a:rPr>
              <a:t>成功的？</a:t>
            </a:r>
            <a:endParaRPr b="0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4360" y="549360"/>
            <a:ext cx="2209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Arial"/>
              </a:rPr>
              <a:t>活动</a:t>
            </a:r>
            <a:br>
              <a:rPr sz="4800"/>
            </a:br>
            <a:endParaRPr b="0" lang="en-US" sz="6000" spc="-1" strike="noStrike">
              <a:solidFill>
                <a:srgbClr val="0075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228600" y="914400"/>
            <a:ext cx="8626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、  巴斯德的名言：“使我达到目标的奥秘，是我的坚持精神！” </a:t>
            </a: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28600" y="2286000"/>
            <a:ext cx="8534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33cc"/>
                </a:solidFill>
                <a:latin typeface="Times New Roman"/>
              </a:rPr>
              <a:t>、 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天行健，君子以自强不息。 ——《周易》</a:t>
            </a:r>
            <a:r>
              <a:rPr b="0" lang="zh-CN" sz="2400" spc="-1" strike="noStrike">
                <a:solidFill>
                  <a:srgbClr val="0033cc"/>
                </a:solidFill>
                <a:latin typeface="Times New Roman"/>
              </a:rPr>
              <a:t>（译：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</a:rPr>
              <a:t>作为君子，应该有坚强的意志，永不止息的奋斗精神，能这样做才体现了天的意志，不辜负宇宙给予君子的职责和才能。</a:t>
            </a:r>
            <a:r>
              <a:rPr b="0" lang="zh-CN" sz="2400" spc="-1" strike="noStrike">
                <a:solidFill>
                  <a:srgbClr val="0033cc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52280" y="4343400"/>
            <a:ext cx="8626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、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骐骥一跃，不能十步；驽马十驾，功在不舍；锲而舍之，朽木不折；锲而不舍，金石可镂。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（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荀况）</a:t>
            </a: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57200" y="152280"/>
            <a:ext cx="2386080" cy="6426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名人名言</a:t>
            </a: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0" y="1905120"/>
            <a:ext cx="8489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Arial"/>
              </a:rPr>
              <a:t>没有伟大的意志力，就不可能有雄</a:t>
            </a: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Arial"/>
              </a:rPr>
              <a:t>才大略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。                        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Arial"/>
              </a:rPr>
              <a:t>（巴尔扎克）</a:t>
            </a: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0" y="4876920"/>
            <a:ext cx="817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Arial"/>
              </a:rPr>
              <a:t>恒心是达到目的的最近通道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                                          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Arial"/>
              </a:rPr>
              <a:t>（土耳其）</a:t>
            </a: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0" y="3352680"/>
            <a:ext cx="891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   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人要有毅力，否则将一事无成。</a:t>
            </a: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                       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（法居里夫人）</a:t>
            </a: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0" y="380880"/>
            <a:ext cx="861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   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李嘉诚扼要地说出成功之道</a:t>
            </a:r>
            <a:r>
              <a:rPr b="1" lang="zh-CN" sz="3600" spc="-1" strike="noStrike">
                <a:solidFill>
                  <a:srgbClr val="0033cc"/>
                </a:solidFill>
                <a:latin typeface="宋体"/>
              </a:rPr>
              <a:t>：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“因为我  </a:t>
            </a: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  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勤奋，我节俭，有毅力。”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/>
          </p:nvPr>
        </p:nvSpPr>
        <p:spPr>
          <a:xfrm>
            <a:off x="0" y="115920"/>
            <a:ext cx="9144000" cy="674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66"/>
                </a:solidFill>
                <a:latin typeface="Arial"/>
              </a:rPr>
              <a:t>毅力乃成功之本，是一种韧劲，一种积累。</a:t>
            </a:r>
            <a:r>
              <a:rPr b="1" lang="zh-CN" sz="1600" spc="-1" strike="noStrike">
                <a:solidFill>
                  <a:srgbClr val="ff3300"/>
                </a:solidFill>
                <a:latin typeface="Arial"/>
              </a:rPr>
              <a:t>荀子有云：“锲而不舍，朽木不折；锲而不舍，金石可镂。” 　 　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33cc"/>
                </a:solidFill>
                <a:latin typeface="Arial"/>
              </a:rPr>
              <a:t>毅力的表现往往是一个人在挫折中所展示地惊人的一股力量，有了它，人们就不会向挫折和困难低头，更会坚强地去面对。</a:t>
            </a:r>
            <a:r>
              <a:rPr b="1" lang="zh-CN" sz="1600" spc="-1" strike="noStrike">
                <a:solidFill>
                  <a:srgbClr val="000066"/>
                </a:solidFill>
                <a:latin typeface="Arial"/>
              </a:rPr>
              <a:t>读了</a:t>
            </a:r>
            <a:r>
              <a:rPr b="1" lang="zh-CN" sz="1600" spc="-1" strike="noStrike">
                <a:solidFill>
                  <a:srgbClr val="ff3300"/>
                </a:solidFill>
                <a:latin typeface="Arial"/>
              </a:rPr>
              <a:t>《钢铁是怎样炼成的》</a:t>
            </a:r>
            <a:r>
              <a:rPr b="1" lang="zh-CN" sz="1600" spc="-1" strike="noStrike">
                <a:solidFill>
                  <a:srgbClr val="000066"/>
                </a:solidFill>
                <a:latin typeface="Arial"/>
              </a:rPr>
              <a:t>这本书后，我才领悟到：一个人的毅力对他的一生是有很大影响的。就说这本书中的主人公吧，他的一生非常坎坷，然而他凭什么使自己继续活下去呢？是毅力。毅力给了他无穷的力量，老天也使他有了三次生命。像他这样，十几岁就立足杀场，英勇杀敌，热爱祖国，在战场上，他被砍了好几刀都大难不死，为什么？仍然是毅力。年轻的帕唯尔后来疾病缠身，但他仍不停地忘我工作，有休假疗伤的机会他也不愿意放弃工作，毅力真是一种锲而不舍的精神啊！ 　 </a:t>
            </a:r>
            <a:br>
              <a:rPr sz="1600"/>
            </a:br>
            <a:r>
              <a:rPr b="1" lang="zh-CN" sz="1600" spc="-1" strike="noStrike">
                <a:solidFill>
                  <a:srgbClr val="000066"/>
                </a:solidFill>
                <a:latin typeface="Arial"/>
              </a:rPr>
              <a:t>　　生活在和平年代的我们，生活中一点小小的困难没什么大不了，只要勇敢地去面对，等事情一过，你会发觉，原来自己是有毅力的。 　 </a:t>
            </a:r>
            <a:br>
              <a:rPr sz="1600"/>
            </a:br>
            <a:r>
              <a:rPr b="1" lang="zh-CN" sz="1600" spc="-1" strike="noStrike">
                <a:solidFill>
                  <a:srgbClr val="000066"/>
                </a:solidFill>
                <a:latin typeface="Arial"/>
              </a:rPr>
              <a:t>　　</a:t>
            </a:r>
            <a:r>
              <a:rPr b="1" lang="zh-CN" sz="1600" spc="-1" strike="noStrike">
                <a:solidFill>
                  <a:srgbClr val="0033cc"/>
                </a:solidFill>
                <a:latin typeface="Arial"/>
              </a:rPr>
              <a:t>人生不如意十之八九，不要自卑，要有信心，因为挫折是培养毅力的必要前提。</a:t>
            </a:r>
            <a:r>
              <a:rPr b="1" lang="zh-CN" sz="1600" spc="-1" strike="noStrike">
                <a:solidFill>
                  <a:srgbClr val="ff3300"/>
                </a:solidFill>
                <a:latin typeface="Arial"/>
              </a:rPr>
              <a:t>巴尔扎克曾经说过：“挫折是块磨刀石。”</a:t>
            </a:r>
            <a:r>
              <a:rPr b="1" lang="zh-CN" sz="1600" spc="-1" strike="noStrike">
                <a:solidFill>
                  <a:srgbClr val="000066"/>
                </a:solidFill>
                <a:latin typeface="Arial"/>
              </a:rPr>
              <a:t>再锋利的刀一直不用，也会变得钝。这时，就需要“挫折”这块磨刀石使它重新锋利起来。人的一生很精彩，有酸甜苦辣，没有悲欢离别的伤心，又怎能有重逢的喜悦呢？ 　 </a:t>
            </a:r>
            <a:br>
              <a:rPr sz="1600"/>
            </a:br>
            <a:r>
              <a:rPr b="1" lang="zh-CN" sz="1600" spc="-1" strike="noStrike">
                <a:solidFill>
                  <a:srgbClr val="000066"/>
                </a:solidFill>
                <a:latin typeface="Arial"/>
              </a:rPr>
              <a:t>　　要想一步登天，那是不可能的——许多名人志士也是在挫折中锻炼了自己，考验了自己，使其成为千古佳话。不要以为当作家写一本书是件很容易的事情，因为往往在这过程中会有挫折和困难等着你去迎接。例如</a:t>
            </a:r>
            <a:r>
              <a:rPr b="1" lang="zh-CN" sz="1600" spc="-1" strike="noStrike">
                <a:solidFill>
                  <a:srgbClr val="ff3300"/>
                </a:solidFill>
                <a:latin typeface="Arial"/>
              </a:rPr>
              <a:t>马克思</a:t>
            </a:r>
            <a:r>
              <a:rPr b="1" lang="zh-CN" sz="1600" spc="-1" strike="noStrike">
                <a:solidFill>
                  <a:srgbClr val="000066"/>
                </a:solidFill>
                <a:latin typeface="Arial"/>
              </a:rPr>
              <a:t>写《资本论》用了</a:t>
            </a:r>
            <a:r>
              <a:rPr b="1" lang="zh-CN" sz="1600" spc="-1" strike="noStrike">
                <a:solidFill>
                  <a:srgbClr val="000066"/>
                </a:solidFill>
                <a:latin typeface="Arial"/>
              </a:rPr>
              <a:t>40</a:t>
            </a:r>
            <a:r>
              <a:rPr b="1" lang="zh-CN" sz="1600" spc="-1" strike="noStrike">
                <a:solidFill>
                  <a:srgbClr val="000066"/>
                </a:solidFill>
                <a:latin typeface="Arial"/>
              </a:rPr>
              <a:t>年，</a:t>
            </a:r>
            <a:r>
              <a:rPr b="1" lang="zh-CN" sz="1600" spc="-1" strike="noStrike">
                <a:solidFill>
                  <a:srgbClr val="ff3300"/>
                </a:solidFill>
                <a:latin typeface="Arial"/>
              </a:rPr>
              <a:t>李时珍</a:t>
            </a:r>
            <a:r>
              <a:rPr b="1" lang="zh-CN" sz="1600" spc="-1" strike="noStrike">
                <a:solidFill>
                  <a:srgbClr val="000066"/>
                </a:solidFill>
                <a:latin typeface="Arial"/>
              </a:rPr>
              <a:t>的《本草纲目》花了</a:t>
            </a:r>
            <a:r>
              <a:rPr b="1" lang="zh-CN" sz="1600" spc="-1" strike="noStrike">
                <a:solidFill>
                  <a:srgbClr val="000066"/>
                </a:solidFill>
                <a:latin typeface="Arial"/>
              </a:rPr>
              <a:t>30</a:t>
            </a:r>
            <a:r>
              <a:rPr b="1" lang="zh-CN" sz="1600" spc="-1" strike="noStrike">
                <a:solidFill>
                  <a:srgbClr val="000066"/>
                </a:solidFill>
                <a:latin typeface="Arial"/>
              </a:rPr>
              <a:t>年时间，</a:t>
            </a:r>
            <a:r>
              <a:rPr b="1" lang="zh-CN" sz="1600" spc="-1" strike="noStrike">
                <a:solidFill>
                  <a:srgbClr val="ff3300"/>
                </a:solidFill>
                <a:latin typeface="Arial"/>
              </a:rPr>
              <a:t>司马迁</a:t>
            </a:r>
            <a:r>
              <a:rPr b="1" lang="zh-CN" sz="1600" spc="-1" strike="noStrike">
                <a:solidFill>
                  <a:srgbClr val="000066"/>
                </a:solidFill>
                <a:latin typeface="Arial"/>
              </a:rPr>
              <a:t>编《史记》历史</a:t>
            </a:r>
            <a:r>
              <a:rPr b="1" lang="zh-CN" sz="1600" spc="-1" strike="noStrike">
                <a:solidFill>
                  <a:srgbClr val="000066"/>
                </a:solidFill>
                <a:latin typeface="Arial"/>
              </a:rPr>
              <a:t>20</a:t>
            </a:r>
            <a:r>
              <a:rPr b="1" lang="zh-CN" sz="1600" spc="-1" strike="noStrike">
                <a:solidFill>
                  <a:srgbClr val="000066"/>
                </a:solidFill>
                <a:latin typeface="Arial"/>
              </a:rPr>
              <a:t>多年等等。古今中外，有谁能够一步登天呢？ 　 </a:t>
            </a:r>
            <a:br>
              <a:rPr sz="1600"/>
            </a:br>
            <a:r>
              <a:rPr b="1" lang="zh-CN" sz="1600" spc="-1" strike="noStrike">
                <a:solidFill>
                  <a:srgbClr val="000066"/>
                </a:solidFill>
                <a:latin typeface="Arial"/>
              </a:rPr>
              <a:t>　　</a:t>
            </a:r>
            <a:r>
              <a:rPr b="1" lang="zh-CN" sz="1600" spc="-1" strike="noStrike">
                <a:solidFill>
                  <a:srgbClr val="0033cc"/>
                </a:solidFill>
                <a:latin typeface="Arial"/>
              </a:rPr>
              <a:t>毅力需要坚持，同时也需要毅然断然的决断，正所谓“当断不断，反受其害”。</a:t>
            </a:r>
            <a:r>
              <a:rPr b="1" lang="zh-CN" sz="1600" spc="-1" strike="noStrike">
                <a:solidFill>
                  <a:srgbClr val="000066"/>
                </a:solidFill>
                <a:latin typeface="Arial"/>
              </a:rPr>
              <a:t>有毅力的人面对严峻的考验是能断然处之的，而这种断然之处，又非常有利于持之以恒。 　 </a:t>
            </a:r>
            <a:br>
              <a:rPr sz="1600"/>
            </a:br>
            <a:r>
              <a:rPr b="1" lang="zh-CN" sz="1600" spc="-1" strike="noStrike">
                <a:solidFill>
                  <a:srgbClr val="000066"/>
                </a:solidFill>
                <a:latin typeface="Arial"/>
              </a:rPr>
              <a:t>　　在坚持的同时，还要有生活节律。提倡毅力并不是主张一味蛮干，是毅力和节律并行，两者都不容忽视。节律过快，频率过高，要一直坚持下去，是十分困难的。生活犹如长跑，一下冲在前面，并不一定就能夺标。相反，如果保持适中的节律，就能取得好成绩。 　 </a:t>
            </a:r>
            <a:br>
              <a:rPr sz="1600"/>
            </a:br>
            <a:r>
              <a:rPr b="1" lang="zh-CN" sz="1600" spc="-1" strike="noStrike">
                <a:solidFill>
                  <a:srgbClr val="000066"/>
                </a:solidFill>
                <a:latin typeface="Arial"/>
              </a:rPr>
              <a:t>　　为什么说毅力是成功之本呢？你想想，</a:t>
            </a:r>
            <a:r>
              <a:rPr b="1" lang="zh-CN" sz="1600" spc="-1" strike="noStrike">
                <a:solidFill>
                  <a:srgbClr val="ff3300"/>
                </a:solidFill>
                <a:latin typeface="Arial"/>
              </a:rPr>
              <a:t>如果没有坚强的毅力，又怎样克服前进道路中种种的困难呢？这样就永远没有成功；反之，坚强的毅力是通向成功的捷径。 　 </a:t>
            </a:r>
            <a:br>
              <a:rPr sz="1600"/>
            </a:br>
            <a:r>
              <a:rPr b="1" lang="zh-CN" sz="1600" spc="-1" strike="noStrike">
                <a:solidFill>
                  <a:srgbClr val="000066"/>
                </a:solidFill>
                <a:latin typeface="Arial"/>
              </a:rPr>
              <a:t>　　成功者前进的每一步也许是细小的，但他一直前进着，永不停滞，积之一年，十年，几十年，那就十分惊人，十分可贵了。忽冷、忽热、忽松、忽紧，说不上毅力。如果“一天打网，两天晒网”，其毅力何在？所以我们一定要坚持，坚持，再坚持！ 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54064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7572"/>
                </a:solidFill>
                <a:latin typeface="Arial"/>
              </a:rPr>
              <a:t>成功与毅力 </a:t>
            </a:r>
            <a:endParaRPr b="0" lang="en-US" sz="40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304920" y="981000"/>
            <a:ext cx="85406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人生的路途上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挫折与困难是难免的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眼前的道路总是泥泞曲折多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所以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只有去战胜挫折方为上策。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当一个人走完他坎坷不平的一生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想想所经历过的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他也会为自己留下的曲折坚实的脚步而欣慰。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人生的曲折给人以力量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催人奋进。古往今来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许多成功的人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他们的人生道路都是布满荆棘的。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司马迁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受宫刑在痛苦煎熬中凭着顽强的毅力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仍然完成了流传千古的巨著《史记》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;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失聪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意味着一个音乐家的音乐生涯结束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而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贝多芬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在耳朵聋后仍写出了许多震古烁今的不朽之作。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对于挫折困难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只要个人尽力了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即使没有完成预定目标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同样会受到人们尊敬。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诸葛亮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受刘备托孤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面对兴复汉室的种种挫折困难日夜操劳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不畏向前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九出祁山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最后因操劳过度而与世长辞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但是最后他还是流传百世。“出师未捷身先死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常使英雄泪满襟”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便是很好的写照。正是这些形形色色的挫折困难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使人变得充实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有意义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;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正是这种挫折中的抗争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成就了一位又一位伟人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也孕育了成功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.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" descr=""/>
          <p:cNvPicPr/>
          <p:nvPr/>
        </p:nvPicPr>
        <p:blipFill>
          <a:blip r:embed="rId2"/>
          <a:stretch/>
        </p:blipFill>
        <p:spPr>
          <a:xfrm>
            <a:off x="0" y="-603360"/>
            <a:ext cx="4648320" cy="68580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3"/>
          <a:stretch/>
        </p:blipFill>
        <p:spPr>
          <a:xfrm>
            <a:off x="4648320" y="-387360"/>
            <a:ext cx="4495680" cy="669600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 txBox="1"/>
          <p:nvPr/>
        </p:nvSpPr>
        <p:spPr>
          <a:xfrm>
            <a:off x="2700360" y="6021360"/>
            <a:ext cx="374472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梁启超故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790720" cy="685800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2819520" y="0"/>
            <a:ext cx="2520720" cy="685800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4230720" y="0"/>
            <a:ext cx="4913280" cy="685800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5"/>
          <a:stretch/>
        </p:blipFill>
        <p:spPr>
          <a:xfrm>
            <a:off x="0" y="14400"/>
            <a:ext cx="6858000" cy="684360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6"/>
          <a:stretch/>
        </p:blipFill>
        <p:spPr>
          <a:xfrm>
            <a:off x="1295280" y="0"/>
            <a:ext cx="7848720" cy="6858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0" y="0"/>
            <a:ext cx="2754360" cy="685800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8"/>
          <a:stretch/>
        </p:blipFill>
        <p:spPr>
          <a:xfrm>
            <a:off x="4549680" y="0"/>
            <a:ext cx="4594320" cy="685800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 txBox="1"/>
          <p:nvPr/>
        </p:nvSpPr>
        <p:spPr>
          <a:xfrm rot="516600">
            <a:off x="2916000" y="5589720"/>
            <a:ext cx="2286000" cy="126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梁启超墨宝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8839080" y="6392880"/>
            <a:ext cx="304920" cy="236520"/>
          </a:xfrm>
          <a:prstGeom prst="rect">
            <a:avLst/>
          </a:prstGeom>
          <a:ln w="0">
            <a:noFill/>
          </a:ln>
        </p:spPr>
      </p:pic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14400" y="457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3300"/>
                </a:solidFill>
                <a:latin typeface="Arial"/>
                <a:ea typeface="楷体_GB2312"/>
              </a:rPr>
              <a:t>学习要求</a:t>
            </a:r>
            <a:endParaRPr b="0" lang="en-US" sz="40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142640" y="837720"/>
            <a:ext cx="71629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24130"/>
                </a:solidFill>
                <a:latin typeface="宋体"/>
              </a:rPr>
              <a:t>语言知识：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99ff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读懂文意，辨识文中常见文言实词、虚词在特定的语言环境中的含义和用法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24130"/>
                </a:solidFill>
                <a:latin typeface="宋体"/>
              </a:rPr>
              <a:t>文学知识：</a:t>
            </a:r>
            <a:br>
              <a:rPr sz="3200"/>
            </a:b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了解梁启超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24130"/>
                </a:solidFill>
                <a:latin typeface="宋体"/>
              </a:rPr>
              <a:t>课文阅读分析：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把握本文的中心论点；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理解并说明文中正反对举的说理方法；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找出文中的比喻句和层递句，说明其含义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仿宋_GB2312"/>
              </a:rPr>
              <a:t>作者简介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8642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99ff"/>
                </a:solidFill>
                <a:latin typeface="仿宋_GB2312"/>
                <a:ea typeface="仿宋_GB2312"/>
              </a:rPr>
              <a:t>      </a:t>
            </a:r>
            <a:r>
              <a:rPr b="1" lang="zh-CN" sz="3600" spc="-1" strike="noStrike">
                <a:solidFill>
                  <a:srgbClr val="0033cc"/>
                </a:solidFill>
                <a:latin typeface="宋体"/>
              </a:rPr>
              <a:t>梁启超（</a:t>
            </a:r>
            <a:r>
              <a:rPr b="1" lang="zh-CN" sz="3600" spc="-1" strike="noStrike">
                <a:solidFill>
                  <a:srgbClr val="0033cc"/>
                </a:solidFill>
                <a:latin typeface="宋体"/>
              </a:rPr>
              <a:t>1873-1929</a:t>
            </a:r>
            <a:r>
              <a:rPr b="1" lang="zh-CN" sz="3600" spc="-1" strike="noStrike">
                <a:solidFill>
                  <a:srgbClr val="0033cc"/>
                </a:solidFill>
                <a:latin typeface="宋体"/>
              </a:rPr>
              <a:t>），字卓如， 号任公，别号“饮冰室主人”，广东新会人，光绪举人。</a:t>
            </a:r>
            <a:r>
              <a:rPr b="1" lang="zh-CN" sz="3600" spc="-1" strike="noStrike">
                <a:solidFill>
                  <a:srgbClr val="ff00ff"/>
                </a:solidFill>
                <a:latin typeface="宋体"/>
              </a:rPr>
              <a:t>我国近代资产阶级启蒙思想家，文学家，学者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749f3"/>
                </a:solidFill>
                <a:latin typeface="宋体"/>
              </a:rPr>
              <a:t>     </a:t>
            </a:r>
            <a:r>
              <a:rPr b="1" lang="zh-CN" sz="3600" spc="-1" strike="noStrike">
                <a:solidFill>
                  <a:srgbClr val="ff00ff"/>
                </a:solidFill>
                <a:latin typeface="宋体"/>
              </a:rPr>
              <a:t>梁启超是中国近代思想的一个主要代表人物，</a:t>
            </a:r>
            <a:r>
              <a:rPr b="1" lang="zh-CN" sz="3600" spc="-1" strike="noStrike">
                <a:solidFill>
                  <a:srgbClr val="000066"/>
                </a:solidFill>
                <a:latin typeface="宋体"/>
              </a:rPr>
              <a:t>最早用资产阶级史学观点和方法来研究中国历史，也是最早高度评价和极力提倡小说创作的人。</a:t>
            </a:r>
            <a:r>
              <a:rPr b="1" lang="zh-CN" sz="2800" spc="-1" strike="noStrike">
                <a:solidFill>
                  <a:srgbClr val="0033cc"/>
                </a:solidFill>
                <a:latin typeface="仿宋_GB2312"/>
                <a:ea typeface="仿宋_GB2312"/>
              </a:rPr>
              <a:t>          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739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宋体"/>
              </a:rPr>
              <a:t>     </a:t>
            </a:r>
            <a:r>
              <a:rPr b="1" lang="zh-CN" sz="4000" spc="-1" strike="noStrike">
                <a:solidFill>
                  <a:srgbClr val="0033cc"/>
                </a:solidFill>
                <a:latin typeface="宋体"/>
              </a:rPr>
              <a:t>梁启超自幼多学，据说六岁时读完</a:t>
            </a:r>
            <a:r>
              <a:rPr b="1" lang="zh-CN" sz="3600" spc="-1" strike="noStrike">
                <a:solidFill>
                  <a:srgbClr val="0033cc"/>
                </a:solidFill>
                <a:latin typeface="宋体"/>
              </a:rPr>
              <a:t>四书五经</a:t>
            </a:r>
            <a:r>
              <a:rPr b="1" lang="zh-CN" sz="4000" spc="-1" strike="noStrike">
                <a:solidFill>
                  <a:srgbClr val="0033cc"/>
                </a:solidFill>
                <a:latin typeface="宋体"/>
              </a:rPr>
              <a:t>，</a:t>
            </a:r>
            <a:r>
              <a:rPr b="1" lang="zh-CN" sz="4000" spc="-1" strike="noStrike">
                <a:solidFill>
                  <a:srgbClr val="0033cc"/>
                </a:solidFill>
                <a:latin typeface="宋体"/>
              </a:rPr>
              <a:t>12</a:t>
            </a:r>
            <a:r>
              <a:rPr b="1" lang="zh-CN" sz="4000" spc="-1" strike="noStrike">
                <a:solidFill>
                  <a:srgbClr val="0033cc"/>
                </a:solidFill>
                <a:latin typeface="宋体"/>
              </a:rPr>
              <a:t>岁中秀才，</a:t>
            </a:r>
            <a:r>
              <a:rPr b="1" lang="zh-CN" sz="4000" spc="-1" strike="noStrike">
                <a:solidFill>
                  <a:srgbClr val="0033cc"/>
                </a:solidFill>
                <a:latin typeface="宋体"/>
              </a:rPr>
              <a:t>17</a:t>
            </a:r>
            <a:r>
              <a:rPr b="1" lang="zh-CN" sz="4000" spc="-1" strike="noStrike">
                <a:solidFill>
                  <a:srgbClr val="0033cc"/>
                </a:solidFill>
                <a:latin typeface="宋体"/>
              </a:rPr>
              <a:t>岁中举人，奉康有为为师，世称“康梁”，早年鼓吹变法维新，是维新的中心人物。变法失败后留亡日本，一方面办报宣传君主立宪，坚持改良主义立场，反对资产阶级民主革命，一方面努力于对西方社会科学的介绍，和</a:t>
            </a:r>
            <a:r>
              <a:rPr b="1" lang="zh-CN" sz="3600" spc="-1" strike="noStrike">
                <a:solidFill>
                  <a:srgbClr val="0033cc"/>
                </a:solidFill>
                <a:latin typeface="宋体"/>
              </a:rPr>
              <a:t>对中国传统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title"/>
          </p:nvPr>
        </p:nvSpPr>
        <p:spPr>
          <a:xfrm>
            <a:off x="395280" y="-571680"/>
            <a:ext cx="7448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3300"/>
              </a:solidFill>
              <a:latin typeface="Arial"/>
              <a:ea typeface="仿宋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179280" y="475920"/>
            <a:ext cx="8964720" cy="63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宋体"/>
              </a:rPr>
              <a:t>  </a:t>
            </a:r>
            <a:r>
              <a:rPr b="1" lang="zh-CN" sz="3600" spc="-1" strike="noStrike">
                <a:solidFill>
                  <a:srgbClr val="0033cc"/>
                </a:solidFill>
                <a:latin typeface="宋体"/>
              </a:rPr>
              <a:t>学术思想，历史文化的整理研究，</a:t>
            </a:r>
            <a:r>
              <a:rPr b="1" lang="zh-CN" sz="3600" spc="-1" strike="noStrike">
                <a:solidFill>
                  <a:srgbClr val="0033cc"/>
                </a:solidFill>
                <a:latin typeface="宋体"/>
              </a:rPr>
              <a:t>1912</a:t>
            </a:r>
            <a:r>
              <a:rPr b="1" lang="zh-CN" sz="3600" spc="-1" strike="noStrike">
                <a:solidFill>
                  <a:srgbClr val="0033cc"/>
                </a:solidFill>
                <a:latin typeface="宋体"/>
              </a:rPr>
              <a:t>年</a:t>
            </a:r>
            <a:r>
              <a:rPr b="1" lang="zh-CN" sz="3600" spc="-1" strike="noStrike">
                <a:solidFill>
                  <a:srgbClr val="0033cc"/>
                </a:solidFill>
                <a:latin typeface="宋体"/>
              </a:rPr>
              <a:t>9</a:t>
            </a:r>
            <a:r>
              <a:rPr b="1" lang="zh-CN" sz="3600" spc="-1" strike="noStrike">
                <a:solidFill>
                  <a:srgbClr val="0033cc"/>
                </a:solidFill>
                <a:latin typeface="宋体"/>
              </a:rPr>
              <a:t>月回国，反对袁世凯称帝。</a:t>
            </a:r>
            <a:r>
              <a:rPr b="1" lang="zh-CN" sz="3600" spc="-1" strike="noStrike">
                <a:solidFill>
                  <a:srgbClr val="0033cc"/>
                </a:solidFill>
                <a:latin typeface="宋体"/>
              </a:rPr>
              <a:t>1918</a:t>
            </a:r>
            <a:r>
              <a:rPr b="1" lang="zh-CN" sz="3600" spc="-1" strike="noStrike">
                <a:solidFill>
                  <a:srgbClr val="0033cc"/>
                </a:solidFill>
                <a:latin typeface="宋体"/>
              </a:rPr>
              <a:t>年底，赴欧洲各国游历，并写下《欧游心影录》。辛亥革命后历任司法总长，财政总长等职。晚年任</a:t>
            </a:r>
            <a:r>
              <a:rPr b="1" lang="zh-CN" sz="3600" spc="-1" strike="noStrike">
                <a:solidFill>
                  <a:srgbClr val="ff3300"/>
                </a:solidFill>
                <a:latin typeface="宋体"/>
              </a:rPr>
              <a:t>清华大学教授（四大国学大师之一）</a:t>
            </a:r>
            <a:r>
              <a:rPr b="1" lang="zh-CN" sz="3600" spc="-1" strike="noStrike">
                <a:solidFill>
                  <a:srgbClr val="0033cc"/>
                </a:solidFill>
                <a:latin typeface="宋体"/>
              </a:rPr>
              <a:t>，出版过多种学术专著。文学创作上以政治，传记，杂文的成就最高，主要著述有</a:t>
            </a:r>
            <a:r>
              <a:rPr b="1" lang="zh-CN" sz="3600" spc="-1" strike="noStrike">
                <a:solidFill>
                  <a:srgbClr val="ff3300"/>
                </a:solidFill>
                <a:latin typeface="宋体"/>
              </a:rPr>
              <a:t>《饮冰室合集》</a:t>
            </a:r>
            <a:r>
              <a:rPr b="1" lang="zh-CN" sz="3600" spc="-1" strike="noStrike">
                <a:solidFill>
                  <a:srgbClr val="0033cc"/>
                </a:solidFill>
                <a:latin typeface="宋体"/>
              </a:rPr>
              <a:t>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619280" y="98064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 u="sng">
                <a:solidFill>
                  <a:srgbClr val="ff0000"/>
                </a:solidFill>
                <a:uFillTx/>
                <a:latin typeface="Arial"/>
              </a:rPr>
              <a:t>四大国学大师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339640" y="2707920"/>
            <a:ext cx="4259160" cy="22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梁启超  王国维  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陈寅恪  赵元任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2:02:43Z</dcterms:created>
  <dc:creator>asus</dc:creator>
  <dc:description/>
  <dc:language>en-US</dc:language>
  <cp:lastModifiedBy>番茄花园</cp:lastModifiedBy>
  <dcterms:modified xsi:type="dcterms:W3CDTF">2008-06-13T03:20:08Z</dcterms:modified>
  <cp:revision>41</cp:revision>
  <dc:subject/>
  <dc:title>PowerPoint 演示文稿</dc:title>
</cp:coreProperties>
</file>