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9ED-2B42-4471-ACC6-415DD275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6F0-4BB7-4DE9-995A-2D4775AA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E47-417F-470C-88F6-1F906465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1AC-CB52-480E-9C49-AB6AD154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BE2-5179-4D50-9C00-8A23E8C4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16C-49F3-4A1F-93A6-0DFF2B6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B74-3568-4E66-8A38-5F0A4E0A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66D1-D57C-42E3-A501-C0987FB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C80-8FAE-4BAD-8C7E-89393A84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819-A71A-47D1-8BEB-895F10C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EEE-219E-4C75-B454-DC9759FE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030-FBC7-4A4A-8B01-D553E09B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D43-BC41-4623-921E-47F629B6E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隶书"/>
                <a:ea typeface="隶书"/>
              </a:rPr>
              <a:t>论 毅 力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  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br>
              <a:rPr sz="4000"/>
            </a:b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梁启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3313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主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的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中心论点是：有毅力者成，反是者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纵观古今，强调了毅力的重要性，并告诫人们只要充分发挥主观能动性，创造性，以坚韧的毅力去战胜逆境，克服困难，就一定能够取得最终胜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4337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结构层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全文共二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（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全文中点论点：“有毅力者成，反是者败，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（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证论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第一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人生历程都有逆顺，论证阻力是无法回避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分析五种不同类型的人对待阻力、逆境的不同态度和结果，论证毅力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14340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5361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294920" y="990720"/>
            <a:ext cx="7162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第二层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“逆”，“顺”的转化进一步论毅力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从挫折而不退说起，辨证地阐明逆与顺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从如何对待“蹇”与“幸”的对比中，得出“毅力”是成功之关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以“操舟”喻对待逆境，没有毅力的人是不可                   能达到胜利彼岸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第三层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孔孟言论作结，归纳全文的结论，“成败之数，视此而已“（与第一段呼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结构层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15364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6385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8487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本文论述结构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起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出“成败之林”的话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出中心论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曰：有毅力者成，反是者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转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转入论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分论点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人生历程都有逆顺，毅力至强，才能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论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十六七逆境，十三四顺境，总有阻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志力薄弱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次弱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稍强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稍强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至强之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分论点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逆境可以转化成顺境，条件是要有毅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论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事情总是会变化的（逆境顺境会交替出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气一视同仁（不必总羡慕他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半途而废永远到不了终点（譬如操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分论点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古代圣贤对此早有定论（孔子说、孟子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应开头（成败之数，视此而已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7409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一、从思路上看，活泼开阔，自由畅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开头从天下古今成败之林着眼，总结了上下几千年的经验教训，字字千钧。接着又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从人生历程来论，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从各类人对困难阻力的变态来谈，或古或今，或远或近，围绕论点，无拘无束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二、结构上，环环相扣，层层递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：第二段第一层先以人生历程有顺有逆一般规律入手，说明人要有毅力，第二层在第一层基础上，以逆顺的转化，说明人必须要有毅力，第三层对一、二层次论证总结，点明中心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如：第一层中，五种不同类型的人对待阻力，逆境的不同态度和呈现的不同结果，环环相扣，层层递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7412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8433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三、从写法上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、论证方法灵活多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论证方法灵活多变，交互使用了归纳（“要”字）、对比（五种人，我与彼）、比喻（操舟）、引用（孔孟）等论证笔法。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、正反对举的说理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论证自始至终运用了正反对举的论证方法，说理十分透彻。文章开篇从“天下”，“古今”起笔，从“成败”落笔，中心论点有 “有毅力者成，反是者败” ，一正一反。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段利用顺与逆，强与弱，我与彼，蹇与幸，成与败对举论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 18436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9457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生动形象的比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以“操舟”比喻“有毅力者”“得从容以进度其顺”；“反是者”，“故彼岸终不可达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孔子“为山”之喻，无毅力者功亏一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以“平地”比喻有毅力者，“虽得一篑”，“吾往也”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孟子“掘井”之喻半途而废，事业无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图片 19460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0481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层递句的运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面对逆境与阻力的五种人的不同态度和结果，“志力薄弱之士”，“次弱者”“稍强者”，“更稍强者”，“至强之人”，一层由一层，层层递进，将“有毅力者”与“反是者”的不同层次都提到了，涵盖全面，说明周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操者，彼“从容以进度其顺”，“我则成一日而返焉，或二，三日而返焉或五之日，而返焉，故彼岸终不可达也”，三个层次的层递，将“反是者败”的道理说的明明白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矩形 20483"/>
          <p:cNvSpPr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艺术特色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097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学习要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2640" y="83772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语言知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懂文意，辨识文中常见文言实词、虚词在特定的语言环境中的含义和用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文学知识：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梁启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4130"/>
                </a:solidFill>
                <a:latin typeface="宋体"/>
              </a:rPr>
              <a:t>课文阅读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握本文的中心论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并说明文中正反对举的说理方法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文中的比喻句和层递句，说明其含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6145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作者简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仿宋_GB2312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梁启超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73-192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卓如， 号任公，别署饮冰室主人，广东新会人，光绪举人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国近代资产阶级启蒙思想家，文学家，学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梁启超是中国近代思想的一个主要代表人物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最早用资历产阶级史学观点和方法来研究中国历史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最早高度评价和极力提倡小说创作的人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图片 6149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7169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梁启超自幼多学，据说六岁时读完四书五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中秀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中举人，奉康有为为师，习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致用之学，两人号称“康梁”，早年鼓吹变法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新，是维新的中心人物。变法失败后留亡日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方面办报宣传君主立宪，坚持改良主义立场，反对资产阶级民主革命，一方面努力于对西方社会科学的介绍，和对中国传统学术思想，历史文化的整理研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回国，反对袁世凯称帝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底，赴欧洲各国游历，并写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欧游心影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辛亥革命后历任司法总长，财政总长等职。晚年任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清华大学教授（四大国学大师之一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出版过多种学术专著。文学创作上以政治，传记，杂文的成就最高，主要著述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饮冰室合集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作者简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7173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8193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题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节选自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饮冰室文集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专集，新民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写于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即变法第四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749f3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法失败后，志士同仁，损失惨重，环境险恶，在这种逆境下，梁启超想到了古今中外伟大的成功经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毅力，以此为突破口，证明只有凭着坚韧的毅力，才能征服逆境，实现人生的追求，以此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激励在变法之后处于逆境的同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1268" descr="H:\论毅力\梁启超图片\05a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269" descr="H:\论毅力\梁启超图片\lqc011901.jpg"/>
          <p:cNvPicPr/>
          <p:nvPr/>
        </p:nvPicPr>
        <p:blipFill>
          <a:blip r:embed="rId2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1507" descr="H:\论毅力\梁启超图片\1025356-asbz6qK2Ot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1508" descr="H:\论毅力\梁启超图片\1025356-rEhSBrH2wb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2531" descr="H:\论毅力\梁启超图片\1313523_435335.jpg"/>
          <p:cNvPicPr/>
          <p:nvPr/>
        </p:nvPicPr>
        <p:blipFill>
          <a:blip r:embed="rId1"/>
          <a:stretch/>
        </p:blipFill>
        <p:spPr>
          <a:xfrm>
            <a:off x="0" y="0"/>
            <a:ext cx="27907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2532" descr="H:\论毅力\梁启超图片\1046_2004859947.jpg"/>
          <p:cNvPicPr/>
          <p:nvPr/>
        </p:nvPicPr>
        <p:blipFill>
          <a:blip r:embed="rId2"/>
          <a:stretch/>
        </p:blipFill>
        <p:spPr>
          <a:xfrm>
            <a:off x="2819520" y="0"/>
            <a:ext cx="252072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2533" descr="H:\论毅力\梁启超图片\images_20031213_182559_43659.jpg"/>
          <p:cNvPicPr/>
          <p:nvPr/>
        </p:nvPicPr>
        <p:blipFill>
          <a:blip r:embed="rId3"/>
          <a:stretch/>
        </p:blipFill>
        <p:spPr>
          <a:xfrm>
            <a:off x="4230720" y="0"/>
            <a:ext cx="49132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2534" descr="H:\论毅力\梁启超图片\images_20031213_182615_54809.jpg"/>
          <p:cNvPicPr/>
          <p:nvPr/>
        </p:nvPicPr>
        <p:blipFill>
          <a:blip r:embed="rId4"/>
          <a:stretch/>
        </p:blipFill>
        <p:spPr>
          <a:xfrm>
            <a:off x="0" y="14400"/>
            <a:ext cx="6858000" cy="68436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2535" descr="H:\论毅力\梁启超图片\images_20031213_182624_22977.jpg"/>
          <p:cNvPicPr/>
          <p:nvPr/>
        </p:nvPicPr>
        <p:blipFill>
          <a:blip r:embed="rId5"/>
          <a:stretch/>
        </p:blipFill>
        <p:spPr>
          <a:xfrm>
            <a:off x="1295280" y="0"/>
            <a:ext cx="7848720" cy="6808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2536" descr="H:\论毅力\梁启超图片\images_20031213_182634_62575.jpg"/>
          <p:cNvPicPr/>
          <p:nvPr/>
        </p:nvPicPr>
        <p:blipFill>
          <a:blip r:embed="rId6"/>
          <a:stretch/>
        </p:blipFill>
        <p:spPr>
          <a:xfrm>
            <a:off x="0" y="0"/>
            <a:ext cx="275436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537" descr="H:\论毅力\梁启超图片\images_20031213_182657_1431.jpg"/>
          <p:cNvPicPr/>
          <p:nvPr/>
        </p:nvPicPr>
        <p:blipFill>
          <a:blip r:embed="rId7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2289" descr="D:\My Documents\bj01.gif"/>
          <p:cNvPicPr/>
          <p:nvPr/>
        </p:nvPicPr>
        <p:blipFill>
          <a:blip r:embed="rId1"/>
          <a:stretch/>
        </p:blipFill>
        <p:spPr>
          <a:xfrm>
            <a:off x="609480" y="228600"/>
            <a:ext cx="8229600" cy="6400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语言知识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762120"/>
            <a:ext cx="76197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一、重点词语解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天下古今成败之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若是其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莽然不一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也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 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林”：会集。“莽然”：广大众多的样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   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一” ：种种不同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  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途”，：途径、情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而顺逆两境，又常相间以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迭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　　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迭乘：交替的呈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旁观者徒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艳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其功之成，以为是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幸运儿，而天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有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宠彼也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艳羡：非常羡慕。殆：大概。有以：有用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办法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又以为我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于遭逢，故所就不彼若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原意是跛足，引申为艰难、困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其间风潮之或顺或逆，常相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参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参伍：交相错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成败之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视此而已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数：规律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图片 12292" descr="E:\My Pictures\dot.gif"/>
          <p:cNvPicPr/>
          <p:nvPr/>
        </p:nvPicPr>
        <p:blipFill>
          <a:blip r:embed="rId2"/>
          <a:stretch/>
        </p:blipFill>
        <p:spPr>
          <a:xfrm>
            <a:off x="8381880" y="6095880"/>
            <a:ext cx="4780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2:02:43Z</dcterms:created>
  <dc:creator>asus</dc:creator>
  <dc:description/>
  <dc:language>en-US</dc:language>
  <cp:lastModifiedBy>admin</cp:lastModifiedBy>
  <dcterms:modified xsi:type="dcterms:W3CDTF">2019-06-04T07:07:2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