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A55-F75E-4456-952A-F99F33B4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B17-7905-49A5-BF84-ADE22A28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7D1-F624-480D-A59A-A5DCB55C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0DF-B9A3-41F2-A9C0-CDEEF11C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9D4-1893-4221-AA6B-47A57595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2EF-D985-46FD-9D74-BCC0BD9F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8D6-FE73-4622-A375-52E55B5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CA1-8075-4CE7-87C0-6771C85F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55E-0285-4D7F-A265-D8460B38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993-E459-40BD-93EC-85742FC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85E-8C32-48DA-90E2-7133C85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05F-4D4B-4212-9B58-6896315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DE30-537E-4661-9972-44307DA943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论 毅 力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br>
              <a:rPr sz="4000"/>
            </a:br>
            <a:r>
              <a:rPr b="1" lang="zh-CN" sz="5400" spc="-1" strike="noStrike" u="sng">
                <a:solidFill>
                  <a:srgbClr val="ffcc00"/>
                </a:solidFill>
                <a:uFillTx/>
                <a:latin typeface="宋体"/>
              </a:rPr>
              <a:t>梁启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题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文节选自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《饮冰室文集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的《专集，新民说》。写于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，即变法第四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变法失败后，志士同仁，损失惨重，环境险恶，在这种逆境下，梁启超想到了古今中外伟大的成功经验——毅力，以此为突破口，证明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只有凭着坚韧的毅力，才能征服逆境，实现人生的追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以此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激励在变法之后处于逆境的同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0" y="-330120"/>
            <a:ext cx="108000" cy="838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3300"/>
              </a:solidFill>
              <a:latin typeface="Times New Roman"/>
              <a:ea typeface="仿宋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一、重点词语解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天下古今成败之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若是其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莽然不一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“林”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集。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“莽然”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广大众多的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不一”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种种不同  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“途”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途径、情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而顺逆两境，又常相间以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迭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　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迭乘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替的呈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旁观者徒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艳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功之成，以为是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幸运儿，而天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有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宠彼也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艳羡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非常羡慕。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殆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概。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有以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用来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办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又以为我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于遭逢，故所就不彼若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原意是跛足，引申为艰难、困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其间风潮之或顺或逆，常相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参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参伍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交相错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成败之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视此而已。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宋体"/>
              </a:rPr>
              <a:t>数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规律。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839080" y="662940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中心论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本文的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中心论点是：有毅力者成，反是者败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者纵观古今，强调了毅力的重要性，并告诫人们只要充分发挥主观能动性，创造性，以坚韧的毅力去战胜逆境，克服困难，就一定能够取得最终胜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39080" y="-792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结构层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全文共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（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全文中点论点：“有毅力者成，反是者败，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（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证论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第一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人生历程都有逆顺，论证阻力是无法回避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分析五种不同类型的人对待阻力、逆境的不同态度和结果，论证毅力的重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第二层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“逆”，“顺”的转化进一步论毅力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从挫折而不退说起，辨证地阐明逆与顺的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从如何对待“蹇”与“幸”的对比中，得出“毅力”是成功之关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以“操舟”喻对待逆境，没有毅力的人是不可能达到胜利彼岸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第三层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孔孟言论作结，归纳全文的结论，“成败之数，视此而已“（与第一段呼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3300"/>
              </a:solidFill>
              <a:latin typeface="Times New Roman"/>
              <a:ea typeface="仿宋_GB2312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0" y="-482760"/>
            <a:ext cx="1044720" cy="812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本文论述结构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起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“成败之林”的话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承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中心论点——“曰：有毅力者成，反是者败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转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转入论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分论点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人生历程都有逆顺，毅力至强，才能成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论据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六七逆境，十三四顺境，总有阻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志力薄弱者……其次弱者……稍强者……更稍强者……至强之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分论点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逆境可以转化成顺境，条件是要有毅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论据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事情总是会变化的（逆境顺境会交替出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气一视同仁（不必总羡慕他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途而废永远到不了终点（譬如操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分论点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古代圣贤对此早有定论（孔子说、孟子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应开头（成败之数，视此而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一、从思路上看，活泼开阔，自由畅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开头从天下古今成败之林着眼，总结了上下几千年的经验教训，字字千钧。接着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从人生历程来论，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从各类人对困难阻力的变态来谈，或古或今，或远或近，围绕论点，无拘无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二、结构上，环环相扣，层层递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：第二段第一层先以人生历程有顺有逆一般规律入手，说明人要有毅力，第二层在第一层基础上，以逆顺的转化，说明人必须要有毅力，第三层对一、二层次论证总结，点明中心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如：第一层中，五种不同类型的人对待阻力，逆境的不同态度和呈现的不同结果，环环相扣，层层递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144000" y="6502320"/>
            <a:ext cx="468360" cy="3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三、从写法上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、论证方法灵活多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的论证方法灵活多变，交互使用了归纳（“要”字）、对比（五种人，我与彼）、比喻（操舟）、引用（孔孟）等论证笔法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、正反对举的说理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论证自始至终运用了正反对举的论证方法，说理十分透彻。文章开篇从“天下”，“古今”起笔，从“成败”落笔，中心论点有 “有毅力者成，反是者败” ，一正一反。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利用顺与逆，强与弱，我与彼，蹇与幸，成与败对举论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0" y="-246240"/>
            <a:ext cx="684360" cy="532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生动形象的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以“操舟”比喻“有毅力者”“得从容以进度其顺”；“反是者”，“故彼岸终不可达也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孔子“为山”之喻，无毅力者功亏一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以“平地”比喻有毅力者，“虽得一篑”，“吾往也”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孟子“掘井”之喻半途而废，事业无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308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6308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132000" y="6093000"/>
            <a:ext cx="259092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梁启超肖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84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层递句的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面对逆境与阻力的五种人的不同态度和结果，“志力薄弱之士”，“次弱者”“稍强者”，“更稍强者”，“至强之人”，一层由一层，层层递进，将“有毅力者”与“反是者”的不同层次都提到了，涵盖全面，说明周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操者，彼“从容以进度其顺”，“我则成一日而返焉，或二，三日而返焉或五之日，而返焉，故彼岸终不可达也”，三个层次的层递，将“反是者败”的道理说的明明白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60336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8320" y="-387360"/>
            <a:ext cx="4495680" cy="669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700360" y="6021360"/>
            <a:ext cx="3744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梁启超故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90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2520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230720" y="0"/>
            <a:ext cx="4913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14400"/>
            <a:ext cx="6858000" cy="6843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29528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75436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516600">
            <a:off x="2916000" y="5589720"/>
            <a:ext cx="2286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梁启超墨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学习要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语言知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懂文意，辨识文中常见文言实词、虚词在特定的语言环境中的含义和用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文学知识：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梁启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课文阅读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握本文的中心论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并说明文中正反对举的说理方法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文中的比喻句和层递句，说明其含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75640" y="6629400"/>
            <a:ext cx="163440" cy="12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梁启超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873-192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，字卓如， 号任公，别号“饮冰室主人”，广东新会人，光绪举人。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我国近代资产阶级启蒙思想家，文学家，学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梁启超是中国近代思想的一个主要代表人物，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最早用资产阶级史学观点和方法来研究中国历史，也是最早高度评价和极力提倡小说创作的人。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840880" y="6621480"/>
            <a:ext cx="303120" cy="236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梁启超自幼多学，据说六岁时读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书五经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中秀才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岁中举人，奉康有为为师，世称“康梁”，早年鼓吹变法维新，是维新的中心人物。变法失败后留亡日本，一方面办报宣传君主立宪，坚持改良主义立场，反对资产阶级民主革命，一方面努力于对西方社会科学的介绍，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中国传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95280" y="-571680"/>
            <a:ext cx="7448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3300"/>
              </a:solidFill>
              <a:latin typeface="Times New Roman"/>
              <a:ea typeface="仿宋_GB2312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612360" y="6095880"/>
            <a:ext cx="73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-311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术思想，历史文化的整理研究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9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回国，反对袁世凯称帝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底，赴欧洲各国游历，并写下《欧游心影录》。辛亥革命后历任司法总长，财政总长等职。晚年任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清华大学教授（四大国学大师之一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出版过多种学术专著。文学创作上以政治，传记，杂文的成就最高，主要著述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《饮冰室合集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四大国学大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梁启超  王国维  陈寅恪  赵元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2:02:43Z</dcterms:created>
  <dc:creator>asus</dc:creator>
  <dc:description/>
  <dc:language>en-US</dc:language>
  <cp:lastModifiedBy>hjh</cp:lastModifiedBy>
  <dcterms:modified xsi:type="dcterms:W3CDTF">2005-12-11T15:44:15Z</dcterms:modified>
  <cp:revision>30</cp:revision>
  <dc:subject/>
  <dc:title>PowerPoint 演示文稿</dc:title>
</cp:coreProperties>
</file>