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315-E222-4BC8-B5F0-37D504EC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EF5-6F38-4BB5-84C9-76746B4D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1FE-C9BE-414B-846A-FCEC3349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785-668D-4E6D-8D2C-A9F6EFAA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591C-D902-48FC-836B-4BEE5BAC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044B-7C85-4CD4-81FB-BA76C62E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5153-DA37-406D-A55A-7BC1A081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BAD7-8CF0-4987-A069-46737B79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E079-A13B-46FA-80A2-983CDA5E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7D84-C098-4E74-B151-9DAAE649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185D-C472-4C88-954E-90F9024F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33C-1E26-4E13-A21C-3D7982CF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5F4A-D7CF-4BF7-A10F-02D026AD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C0FA-B7DE-4FBF-997F-DF8B68ED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3A9A-2F1F-4070-AF28-F1756E2E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3D0B-A381-4E6A-8F3A-E301C1D3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D709-E199-41D2-81CF-BFE41E2A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0B5-4C19-43E8-9B09-B7481AB7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57A-AE6E-41DF-84D8-A565A795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5DEA-D955-4805-B9CB-57E25960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FBCE-2599-4B9A-BD48-A42C8FC0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BF2-AF1A-4D9D-A996-23F428B4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E7F-9448-4F90-B614-C572AF7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D5E-21B2-4538-BFA9-B33C7661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8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6600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7B0-32A5-4613-80A5-E26B619D1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8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6600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EA5F-577B-4CF4-B8FE-7D209F01C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image.baidu.com/i?ct=503316480&amp;z=0&amp;tn=baiduimagedetail&amp;word=%B6%AF%BB%AD%C9%C1&#892;&amp;in=5634&amp;cl=2&amp;lm=-1&amp;pn=52&amp;rn=1&amp;di=15336843225&amp;ln=1&amp;fr=&amp;fmq=&amp;ic=0&amp;s=0&amp;se=1&amp;sme=0&amp;tab=&amp;width=&amp;height=&amp;face=0&amp;fb=0" TargetMode="Externa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21b4af84c0efdb9d9023d99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-1179360"/>
            <a:ext cx="8640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995640" y="422100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第一课时</a:t>
            </a:r>
            <a:endParaRPr b="1" lang="en-US" sz="48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484360" y="1916280"/>
            <a:ext cx="575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26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理想的风筝</a:t>
            </a:r>
            <a:endParaRPr b="1" lang="en-US" sz="66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31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提示</a:t>
            </a:r>
            <a:endParaRPr b="0" lang="en-US" sz="48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词典明确生字的读音和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老师是怎样的人，文中围绕了刘老师讲了哪几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文中令你感动的句子，想想为什么感动，写下感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不懂的语句，提出不明白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deefcfb492cef5c6c22ebc3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1240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56000" y="573408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翘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q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á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]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endParaRPr b="1" lang="en-US" sz="48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f559a33ad045036996ddd8d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ěnɡ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ān    wú  gōn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筝     哽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翩      蜈    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   哽咽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翩翩起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穹   膝盖酸涩   慷慨激昂                      女娲   气喘吁吁    扶摇直上    稚气   翱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f559a33ad045036996ddd8dd[1]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撒手</a:t>
            </a:r>
            <a:endParaRPr b="0" lang="en-US" sz="48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Sā: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放开，发出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～网。～谎（说  谎）。～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ǎ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散播，散布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散落：～播。把酒端平，别～了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559a33ad045036996ddd8d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19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咽</a:t>
            </a:r>
            <a:endParaRPr b="0" lang="en-US" sz="66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2133360"/>
            <a:ext cx="749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è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悲痛而说不出话来：哽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yà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嘴里的食物或别的东西通过咽头到食道里去：狼吞虎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ā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咽头，咽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咽喉要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76000" y="1052280"/>
            <a:ext cx="4537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文章共有几段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可以怎么分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u=470488555,1831137846&amp;fm=15&amp;gp=0[1]"/>
          <p:cNvPicPr/>
          <p:nvPr/>
        </p:nvPicPr>
        <p:blipFill>
          <a:blip r:embed="rId1"/>
          <a:stretch/>
        </p:blipFill>
        <p:spPr>
          <a:xfrm>
            <a:off x="6156360" y="4925880"/>
            <a:ext cx="1981080" cy="1146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9"/>
          <p:cNvSpPr/>
          <p:nvPr/>
        </p:nvSpPr>
        <p:spPr>
          <a:xfrm>
            <a:off x="611280" y="256536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课文可分为三部分：</a:t>
            </a:r>
            <a:endParaRPr b="1" lang="en-US" sz="32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第一部分：写春天柳枝染绿，连翘花开，风筝竞翔的美景。</a:t>
            </a:r>
            <a:endParaRPr b="1" lang="en-US" sz="32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第二部分：作者回忆与刘老师在一起的美好时光。</a:t>
            </a:r>
            <a:endParaRPr b="1" lang="en-US" sz="32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第三部分：抒发了作者对刘老师的怀念。</a:t>
            </a:r>
            <a:endParaRPr b="1" lang="en-US" sz="32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 rot="21285000">
            <a:off x="380520" y="456840"/>
            <a:ext cx="6477120" cy="2743200"/>
          </a:xfrm>
          <a:custGeom>
            <a:avLst/>
            <a:gdLst>
              <a:gd name="textAreaLeft" fmla="*/ 1477440 w 6477120"/>
              <a:gd name="textAreaRight" fmla="*/ 4999680 w 6477120"/>
              <a:gd name="textAreaTop" fmla="*/ 625680 h 2743200"/>
              <a:gd name="textAreaBottom" fmla="*/ 21175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47" y="12385"/>
                </a:lnTo>
                <a:lnTo>
                  <a:pt x="786" y="14846"/>
                </a:lnTo>
                <a:lnTo>
                  <a:pt x="3834" y="15324"/>
                </a:lnTo>
                <a:lnTo>
                  <a:pt x="3163" y="18437"/>
                </a:lnTo>
                <a:lnTo>
                  <a:pt x="6155" y="17686"/>
                </a:lnTo>
                <a:lnTo>
                  <a:pt x="6580" y="20741"/>
                </a:lnTo>
                <a:lnTo>
                  <a:pt x="9073" y="18924"/>
                </a:lnTo>
                <a:lnTo>
                  <a:pt x="10800" y="21600"/>
                </a:lnTo>
                <a:lnTo>
                  <a:pt x="12385" y="18953"/>
                </a:lnTo>
                <a:lnTo>
                  <a:pt x="14846" y="20814"/>
                </a:lnTo>
                <a:lnTo>
                  <a:pt x="15324" y="17766"/>
                </a:lnTo>
                <a:lnTo>
                  <a:pt x="18437" y="18437"/>
                </a:lnTo>
                <a:lnTo>
                  <a:pt x="17686" y="15445"/>
                </a:lnTo>
                <a:lnTo>
                  <a:pt x="20741" y="15020"/>
                </a:lnTo>
                <a:lnTo>
                  <a:pt x="18924" y="12527"/>
                </a:lnTo>
                <a:lnTo>
                  <a:pt x="21600" y="10800"/>
                </a:lnTo>
                <a:lnTo>
                  <a:pt x="18953" y="9215"/>
                </a:lnTo>
                <a:lnTo>
                  <a:pt x="20814" y="6754"/>
                </a:lnTo>
                <a:lnTo>
                  <a:pt x="17766" y="6276"/>
                </a:lnTo>
                <a:lnTo>
                  <a:pt x="18437" y="3163"/>
                </a:lnTo>
                <a:lnTo>
                  <a:pt x="15445" y="3914"/>
                </a:lnTo>
                <a:lnTo>
                  <a:pt x="15020" y="859"/>
                </a:lnTo>
                <a:lnTo>
                  <a:pt x="12527" y="2676"/>
                </a:lnTo>
                <a:lnTo>
                  <a:pt x="10800" y="0"/>
                </a:lnTo>
                <a:lnTo>
                  <a:pt x="9215" y="2647"/>
                </a:lnTo>
                <a:lnTo>
                  <a:pt x="6754" y="786"/>
                </a:lnTo>
                <a:lnTo>
                  <a:pt x="6276" y="3834"/>
                </a:lnTo>
                <a:lnTo>
                  <a:pt x="3163" y="3163"/>
                </a:lnTo>
                <a:lnTo>
                  <a:pt x="3914" y="6155"/>
                </a:lnTo>
                <a:lnTo>
                  <a:pt x="859" y="6580"/>
                </a:lnTo>
                <a:lnTo>
                  <a:pt x="2676" y="907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 rot="21053400">
            <a:off x="1447920" y="99036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01ca8"/>
                </a:solidFill>
                <a:latin typeface="Arial"/>
                <a:ea typeface="隶书"/>
              </a:rPr>
              <a:t>学法指导</a:t>
            </a:r>
            <a:endParaRPr b="1" lang="en-US" sz="8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00200" y="3581280"/>
            <a:ext cx="632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◆ </a:t>
            </a:r>
            <a:r>
              <a:rPr b="1" lang="zh-CN" sz="6600" spc="-1" strike="noStrike">
                <a:solidFill>
                  <a:srgbClr val="6600cc"/>
                </a:solidFill>
                <a:latin typeface="Arial"/>
              </a:rPr>
              <a:t>抓重点词</a:t>
            </a:r>
            <a:endParaRPr b="1" lang="en-US" sz="66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00200" y="518148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◆ </a:t>
            </a:r>
            <a:r>
              <a:rPr b="1" lang="zh-CN" sz="6600" spc="-1" strike="noStrike">
                <a:solidFill>
                  <a:srgbClr val="6600cc"/>
                </a:solidFill>
                <a:latin typeface="Arial"/>
              </a:rPr>
              <a:t>抓重点句</a:t>
            </a:r>
            <a:endParaRPr b="1" lang="en-US" sz="66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7772400" y="54864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7772400" y="5638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5" descr="图片3"/>
          <p:cNvPicPr/>
          <p:nvPr/>
        </p:nvPicPr>
        <p:blipFill>
          <a:blip r:embed="rId1"/>
          <a:stretch/>
        </p:blipFill>
        <p:spPr>
          <a:xfrm>
            <a:off x="0" y="-1143000"/>
            <a:ext cx="10620360" cy="7966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u=470488555,1831137846&amp;fm=15&amp;gp=0[1]"/>
          <p:cNvPicPr/>
          <p:nvPr/>
        </p:nvPicPr>
        <p:blipFill>
          <a:blip r:embed="rId2"/>
          <a:stretch/>
        </p:blipFill>
        <p:spPr>
          <a:xfrm>
            <a:off x="6300720" y="5010120"/>
            <a:ext cx="1836720" cy="1062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1042920" y="836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同学们快速默读课文，文章写了刘老师哪些事情？</a:t>
            </a:r>
            <a:r>
              <a:rPr b="1" lang="zh-CN" sz="3600" spc="-1" strike="noStrike">
                <a:solidFill>
                  <a:srgbClr val="ad2719"/>
                </a:solidFill>
                <a:latin typeface="Arial"/>
              </a:rPr>
              <a:t>请以拟小标题的形式概括出来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235240" y="4653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现了刘老师怎样的人？</a:t>
            </a: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5406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回忆了刘老师的哪几件事？分别在课文的哪些自然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的刘老师给你留下了怎样的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f7197cc53badfcf438db494b[1]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195640" y="1413000"/>
            <a:ext cx="4248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写了什么？在文章中起什么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u=1000122501,4065703542&amp;fm=15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365720"/>
            <a:ext cx="1744560" cy="249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3e9b96da7b5b5b1e95ee378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0920" y="333000"/>
            <a:ext cx="77058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激趣引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11280" y="1125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村 居</a:t>
            </a:r>
            <a:endParaRPr b="1" lang="en-US" sz="36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草长莺飞二月天，</a:t>
            </a:r>
            <a:endParaRPr b="1" lang="en-US" sz="36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拂堤杨柳醉春烟。</a:t>
            </a:r>
            <a:endParaRPr b="1" lang="en-US" sz="36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儿童散学归来早，</a:t>
            </a:r>
            <a:endParaRPr b="1" lang="en-US" sz="36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忙趁东风放纸鸢。</a:t>
            </a:r>
            <a:endParaRPr b="1" lang="en-US" sz="36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600200" y="45720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01ca8"/>
                </a:solidFill>
                <a:latin typeface="Arial"/>
                <a:ea typeface="隶书"/>
              </a:rPr>
              <a:t>自主探究：</a:t>
            </a:r>
            <a:endParaRPr b="1" lang="en-US" sz="88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0880" y="205740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1" lang="zh-CN" sz="6600" spc="-1" strike="noStrike">
                <a:solidFill>
                  <a:srgbClr val="301ca8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快速阅读课文，画出描写刘老师外貌的语句；你从外貌描写中看出刘老师是一个怎样的人？</a:t>
            </a:r>
            <a:endParaRPr b="1" lang="en-US" sz="6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304920" y="457200"/>
            <a:ext cx="1295280" cy="1295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0kwct10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971640" y="765000"/>
            <a:ext cx="741672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01ca8"/>
                </a:solidFill>
                <a:latin typeface="Arial"/>
              </a:rPr>
              <a:t>在 “谈腿疾”的品悟中体验“思念”之情。</a:t>
            </a:r>
            <a:endParaRPr b="1" lang="en-US" sz="36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01ca8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01ca8"/>
                </a:solidFill>
                <a:latin typeface="Arial"/>
              </a:rPr>
              <a:t>刘老师个子不高，微微发胖的脸上有一对时常眯起来的慈祥的眼睛，一头花白的头发</a:t>
            </a:r>
            <a:r>
              <a:rPr b="1" lang="en-US" sz="2400" spc="-1" strike="noStrike">
                <a:solidFill>
                  <a:srgbClr val="301ca8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301ca8"/>
                </a:solidFill>
                <a:latin typeface="Arial"/>
              </a:rPr>
              <a:t>但笑过之后，每个学生心里都泛起一股酸涩的感情，同时更增加了对刘老师的尊敬。”一段话。</a:t>
            </a:r>
            <a:endParaRPr b="1" lang="en-US" sz="24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ca8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301ca8"/>
                </a:solidFill>
                <a:latin typeface="Arial"/>
              </a:rPr>
              <a:t>哪些语句让你感受最深？</a:t>
            </a:r>
            <a:r>
              <a:rPr b="1" lang="zh-CN" sz="4000" spc="-1" strike="noStrike">
                <a:solidFill>
                  <a:srgbClr val="301ca8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01ca8"/>
                </a:solidFill>
                <a:latin typeface="Arial"/>
              </a:rPr>
              <a:t>在书中进行批注。</a:t>
            </a:r>
            <a:endParaRPr b="1" lang="en-US" sz="2400" spc="-1" strike="noStrike">
              <a:solidFill>
                <a:srgbClr val="301ca8"/>
              </a:solidFill>
              <a:latin typeface="Arial"/>
            </a:endParaRPr>
          </a:p>
        </p:txBody>
      </p:sp>
      <p:pic>
        <p:nvPicPr>
          <p:cNvPr id="147" name="纯音乐-童年(Childhood Memory).mp3" descr=""/>
          <p:cNvPicPr/>
          <p:nvPr/>
        </p:nvPicPr>
        <p:blipFill>
          <a:blip r:embed="rId2"/>
          <a:stretch/>
        </p:blipFill>
        <p:spPr>
          <a:xfrm>
            <a:off x="8172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184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28600" y="38088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01ca8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★ </a:t>
            </a:r>
            <a:r>
              <a:rPr b="1" lang="zh-CN" sz="6600" spc="-1" strike="noStrike">
                <a:solidFill>
                  <a:srgbClr val="301ca8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6600cc"/>
                </a:solidFill>
                <a:latin typeface="Arial"/>
              </a:rPr>
              <a:t>课文第二部分是从哪</a:t>
            </a: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两个</a:t>
            </a:r>
            <a:r>
              <a:rPr b="1" lang="zh-CN" sz="6600" spc="-1" strike="noStrike">
                <a:solidFill>
                  <a:srgbClr val="6600cc"/>
                </a:solidFill>
                <a:latin typeface="Arial"/>
              </a:rPr>
              <a:t>方面来写刘老师的？画出描写刘老师</a:t>
            </a: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语言</a:t>
            </a:r>
            <a:r>
              <a:rPr b="1" lang="zh-CN" sz="66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神态</a:t>
            </a:r>
            <a:r>
              <a:rPr b="1" lang="zh-CN" sz="66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动作</a:t>
            </a:r>
            <a:r>
              <a:rPr b="1" lang="zh-CN" sz="6600" spc="-1" strike="noStrike">
                <a:solidFill>
                  <a:srgbClr val="6600cc"/>
                </a:solidFill>
                <a:latin typeface="Arial"/>
              </a:rPr>
              <a:t>的词句，你从中看出刘老师是一个怎样的人？</a:t>
            </a:r>
            <a:endParaRPr b="1" lang="en-US" sz="66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7772400" y="5715000"/>
            <a:ext cx="990720" cy="838080"/>
          </a:xfrm>
          <a:custGeom>
            <a:avLst/>
            <a:gdLst>
              <a:gd name="textAreaLeft" fmla="*/ 0 w 990720"/>
              <a:gd name="textAreaRight" fmla="*/ 991080 w 99072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7772400" y="5867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93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4064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室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腾起一片笑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但笑过之后，每个学生心里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泛起一股酸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感情，同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更增加了对刘老师的尊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中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填空：教室里腾起一片笑声，是因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但笑过之后，每个学生心里都泛起一股酸涩的感情，是因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同时更增加了对刘老师的尊敬。又是因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8a00"/>
                </a:solidFill>
                <a:latin typeface="Arial"/>
              </a:rPr>
              <a:t>在“深情讲课”的品悟中体验“思念”之情。</a:t>
            </a:r>
            <a:r>
              <a:rPr b="0" lang="zh-CN" sz="4000" spc="-1" strike="noStrike">
                <a:solidFill>
                  <a:srgbClr val="e88a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54064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品读第五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中你感受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8a00"/>
                </a:solidFill>
                <a:latin typeface="Arial"/>
              </a:rPr>
              <a:t>从“提问学生”的品悟中体验“思念”之情。</a:t>
            </a:r>
            <a:r>
              <a:rPr b="0" lang="zh-CN" sz="4000" spc="-1" strike="noStrike">
                <a:solidFill>
                  <a:srgbClr val="e88a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3640" y="2349000"/>
            <a:ext cx="61196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抓住描写刘老师语言、动作、神态的语句，从中体会到刘老师是怎样的一个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88a00"/>
                </a:solidFill>
                <a:latin typeface="Arial"/>
              </a:rPr>
              <a:t>在“放风筝”的品悟中体验“思念”之情。</a:t>
            </a:r>
            <a:r>
              <a:rPr b="0" lang="zh-CN" sz="4000" spc="-1" strike="noStrike">
                <a:solidFill>
                  <a:srgbClr val="e88a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54064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—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品味刘老师的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品味刘老师的三个亲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88a00"/>
                </a:solidFill>
                <a:latin typeface="Arial"/>
              </a:rPr>
              <a:t>26  </a:t>
            </a:r>
            <a:r>
              <a:rPr b="0" lang="zh-CN" sz="5400" spc="-1" strike="noStrike">
                <a:solidFill>
                  <a:srgbClr val="e88a00"/>
                </a:solidFill>
                <a:latin typeface="Arial"/>
              </a:rPr>
              <a:t>理想的风筝</a:t>
            </a:r>
            <a:br>
              <a:rPr sz="5400"/>
            </a:br>
            <a:r>
              <a:rPr b="0" lang="zh-CN" sz="5400" spc="-1" strike="noStrike">
                <a:solidFill>
                  <a:srgbClr val="e88a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e88a00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100"/>
              </a:spcBef>
              <a:buClr>
                <a:srgbClr val="33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习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332000" y="2565360"/>
            <a:ext cx="6838920" cy="58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文章写了刘老师哪些事情？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01ca8"/>
                </a:solidFill>
                <a:latin typeface="Arial"/>
              </a:rPr>
              <a:t>谈笑残疾 讲课好 放风筝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现了刘老师怎样的人？</a:t>
            </a: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ca8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ab2719"/>
                </a:solidFill>
                <a:latin typeface="Arial"/>
              </a:rPr>
              <a:t>刘老师是一个忠厚、乐观、热爱教育事业，并给学生以深刻影响的人。</a:t>
            </a: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443480" y="3246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1" lang="en-US" sz="18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3e9b96da7b5b5b1e95ee378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笑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我们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用手捏泥人捏得累了，便用树枝沾起泥巴向地上一甩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68360" y="3429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腾起一片笑声，但笑过之后，每个学生的心里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起一股酸涩的感情，同时更增加了对刘老师的尊敬。</a:t>
            </a:r>
            <a:endParaRPr b="1" lang="en-US" sz="32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627280" y="620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ca8"/>
                </a:solidFill>
                <a:latin typeface="Arial"/>
              </a:rPr>
              <a:t>谈笑残疾  </a:t>
            </a: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301ca8"/>
              </a:solidFill>
              <a:latin typeface="宋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室里腾起一片笑声，但笑过之后，每个学生心里都泛起一股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酸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感情，同时更增加了对刘老师的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尊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同学们情感的变化由“笑”到“酸涩”、尊敬，充满着对老师的理解、同情、和尊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0fd84a585985adfd04358b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W020090807355488915542"/>
          <p:cNvPicPr/>
          <p:nvPr/>
        </p:nvPicPr>
        <p:blipFill>
          <a:blip r:embed="rId2"/>
          <a:stretch/>
        </p:blipFill>
        <p:spPr>
          <a:xfrm>
            <a:off x="0" y="0"/>
            <a:ext cx="3851280" cy="4076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851280" y="1413000"/>
            <a:ext cx="5003640" cy="55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01ca8"/>
                </a:solidFill>
                <a:latin typeface="Arial"/>
                <a:ea typeface="Adobe 楷体 Std R"/>
              </a:rPr>
              <a:t>不管我多么衰弱，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01ca8"/>
                </a:solidFill>
                <a:latin typeface="Arial"/>
                <a:ea typeface="Adobe 楷体 Std R"/>
              </a:rPr>
              <a:t>只要生命的烛火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01ca8"/>
                </a:solidFill>
                <a:latin typeface="Arial"/>
                <a:ea typeface="Adobe 楷体 Std R"/>
              </a:rPr>
              <a:t>还在烧着，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01ca8"/>
                </a:solidFill>
                <a:latin typeface="Arial"/>
                <a:ea typeface="Adobe 楷体 Std R"/>
              </a:rPr>
              <a:t>我就会走，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01ca8"/>
                </a:solidFill>
                <a:latin typeface="Arial"/>
                <a:ea typeface="Adobe 楷体 Std R"/>
              </a:rPr>
              <a:t>哪怕是爬行，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01ca8"/>
                </a:solidFill>
                <a:latin typeface="Arial"/>
                <a:ea typeface="Adobe 楷体 Std R"/>
              </a:rPr>
              <a:t>也还在这路上挣扎。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1ca8"/>
                </a:solidFill>
                <a:latin typeface="Adobe 楷体 Std R"/>
                <a:ea typeface="Adobe 楷体 Std R"/>
              </a:rPr>
              <a:t>——</a:t>
            </a:r>
            <a:r>
              <a:rPr b="1" lang="en-US" sz="3200" spc="-1" strike="noStrike">
                <a:solidFill>
                  <a:srgbClr val="301ca8"/>
                </a:solidFill>
                <a:latin typeface="Arial"/>
                <a:ea typeface="Adobe 楷体 Std R"/>
              </a:rPr>
              <a:t>《</a:t>
            </a:r>
            <a:r>
              <a:rPr b="1" lang="zh-CN" sz="3200" spc="-1" strike="noStrike">
                <a:solidFill>
                  <a:srgbClr val="301ca8"/>
                </a:solidFill>
                <a:latin typeface="Arial"/>
                <a:ea typeface="Adobe 楷体 Std R"/>
              </a:rPr>
              <a:t>苏叔阳文集  总序</a:t>
            </a:r>
            <a:r>
              <a:rPr b="1" lang="en-US" sz="3200" spc="-1" strike="noStrike">
                <a:solidFill>
                  <a:srgbClr val="301ca8"/>
                </a:solidFill>
                <a:latin typeface="Arial"/>
                <a:ea typeface="Adobe 楷体 Std R"/>
              </a:rPr>
              <a:t>》</a:t>
            </a:r>
            <a:endParaRPr b="1" lang="en-US" sz="32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95280" y="4437000"/>
            <a:ext cx="360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苏叔阳</a:t>
            </a:r>
            <a:endParaRPr b="1" lang="en-US" sz="6600" spc="-1" strike="noStrike">
              <a:solidFill>
                <a:srgbClr val="301ca8"/>
              </a:solidFill>
              <a:latin typeface="Arial"/>
            </a:endParaRPr>
          </a:p>
        </p:txBody>
      </p:sp>
      <p:pic>
        <p:nvPicPr>
          <p:cNvPr id="93" name="纯音乐-童年(Childhood Memory).mp3" descr=""/>
          <p:cNvPicPr/>
          <p:nvPr/>
        </p:nvPicPr>
        <p:blipFill>
          <a:blip r:embed="rId3"/>
          <a:stretch/>
        </p:blipFill>
        <p:spPr>
          <a:xfrm>
            <a:off x="7885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84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d14c14726709e9318601b0c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402920" y="2060280"/>
            <a:ext cx="727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他只靠着健壮的右腿和一枝圆木棍，一天站上好几个小时，为我们讲课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u=470488555,1831137846&amp;fm=15&amp;gp=0[1]"/>
          <p:cNvPicPr/>
          <p:nvPr/>
        </p:nvPicPr>
        <p:blipFill>
          <a:blip r:embed="rId2"/>
          <a:stretch/>
        </p:blipFill>
        <p:spPr>
          <a:xfrm>
            <a:off x="6300720" y="5337000"/>
            <a:ext cx="2629080" cy="1521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ca8"/>
                </a:solidFill>
                <a:latin typeface="宋体"/>
              </a:rPr>
              <a:t>讲课好</a:t>
            </a:r>
            <a:br>
              <a:rPr sz="4000"/>
            </a:br>
            <a:endParaRPr b="0" lang="en-US" sz="40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情景，已经过去了将近三十年，今天一想起来，依旧那么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清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亲切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将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年的时间过去了，刘老师听同学们回答问题时的神态、动作、语言还是那么清晰，让我倍感亲切，可见我对刘老师是多么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30fd84a585985adfd04358b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86920" y="1628640"/>
            <a:ext cx="5759640" cy="25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后来，我考入了历史系，和刘老师的影响有极大的关系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什么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5e367b13b5576e4b4b90a78b[1]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2923920"/>
            <a:ext cx="6623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刘老师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听发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这件事情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又读出了怎样的刘老师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01ca8"/>
                </a:solidFill>
                <a:latin typeface="Arial"/>
              </a:rPr>
              <a:t>放风筝</a:t>
            </a: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，留给我印象最深的，还是刘老师每年春天放风筝的情景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这句话在文中起到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情景使我深深感动。一个年过五十身有残疾的老师，对生活有着那样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纯朴、强烈的爱与追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个活泼的少年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又该怎么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呢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刘老师虽然是一个残疾人，并且岁数也比较大， 但他一直保持着对生活强烈的爱与追求，这是一个活泼的少年也很难具备的而一种品质。表达了作者对老师深深地敬佩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-1611360"/>
            <a:ext cx="7799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刘老师用自己的言行为学生树立了榜样，在学生心里播下了理想的种子，升起了一只只理想的风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这句活一方面表明了刘老师对学生的影响之远，另一方面表达了“我”对刘老师的思念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用那双写了无数个粉笔字的手，放起一只又一只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理想的风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那些风筝将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陪伴着我的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永远在祖国的蓝天上翱翔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刘老师用自己的言行为学生树立了榜样，在学生心里播下了理想的种子，升起了一只只理想的风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这句活一方面表明了刘老师对学生的影响之远，另一方面表达了“我”对刘老师的思念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中的刘老师是个怎样的老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971640" y="314172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ab2719"/>
                </a:solidFill>
                <a:latin typeface="Arial"/>
              </a:rPr>
              <a:t>刘老师是一个忠厚、乐观、热爱教育事业，并给学生以深刻影响的老师。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题目“理想的风筝”有什么含义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刘老师以自己的言行为学生树立了榜样，在学生心田播下理想的种子，升起了一只只理想的风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" descr="199a4fcb72b4adacc8176849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471600" y="-592200"/>
            <a:ext cx="850680" cy="82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东省潍坊市“</a:t>
            </a:r>
            <a:r>
              <a:rPr b="1" lang="zh-CN" sz="4400" spc="-1" strike="noStrike">
                <a:solidFill>
                  <a:srgbClr val="336600"/>
                </a:solidFill>
                <a:latin typeface="Impact"/>
                <a:ea typeface="隶书"/>
              </a:rPr>
              <a:t>潍坊风筝</a:t>
            </a:r>
            <a:r>
              <a:rPr b="1" lang="zh-CN" sz="4400" spc="-1" strike="noStrike">
                <a:solidFill>
                  <a:srgbClr val="336600"/>
                </a:solidFill>
                <a:latin typeface="Impact"/>
                <a:ea typeface="黑体"/>
              </a:rPr>
              <a:t>”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2" descr="2005631215927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763640" y="1412640"/>
            <a:ext cx="583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文章最后三个自然段中，是在写谁的心理感受？能概括一下这三    个自然段的内容吗？    思考一下这三个自然段 在文中的作用是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2005631215927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31640" y="907920"/>
            <a:ext cx="655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写刘老师，是写作者自已的心理感受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刘老师在作者自己心目中的重要地位，刘老师的崇高人格对我的影响之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龙点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总结刘老师的崇高人格，点明写作本文的目的，表达对老师的深深思念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23425cd83bfef92e32fa1c40[1]"/>
          <p:cNvPicPr/>
          <p:nvPr/>
        </p:nvPicPr>
        <p:blipFill>
          <a:blip r:embed="rId1"/>
          <a:stretch/>
        </p:blipFill>
        <p:spPr>
          <a:xfrm>
            <a:off x="0" y="0"/>
            <a:ext cx="8893080" cy="6597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68263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苏叔阳，在离开母校近三十年写下了这篇感念恩师的文章，那么课文中的刘老师是怎样的一个人，为什么苏叔阳离开母校近三十年还对他念念   不忘呢？苏叔阳是怎样           写刘老师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275112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1ca8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407664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苏省南通市</a:t>
            </a:r>
            <a:endParaRPr b="1" lang="en-US" sz="3200" spc="-1" strike="noStrike">
              <a:solidFill>
                <a:srgbClr val="301ca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南通板鹞风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” </a:t>
            </a:r>
            <a:endParaRPr b="1" lang="en-US" sz="3200" spc="-1" strike="noStrike">
              <a:solidFill>
                <a:srgbClr val="301ca8"/>
              </a:solidFill>
              <a:latin typeface="Arial"/>
            </a:endParaRPr>
          </a:p>
        </p:txBody>
      </p:sp>
      <p:pic>
        <p:nvPicPr>
          <p:cNvPr id="98" name="Picture 10" descr="xin_490304291911281097837"/>
          <p:cNvPicPr/>
          <p:nvPr/>
        </p:nvPicPr>
        <p:blipFill>
          <a:blip r:embed="rId1"/>
          <a:stretch/>
        </p:blipFill>
        <p:spPr>
          <a:xfrm>
            <a:off x="0" y="0"/>
            <a:ext cx="3564000" cy="3552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566d0fdfd9c62e53632798c8"/>
          <p:cNvPicPr/>
          <p:nvPr/>
        </p:nvPicPr>
        <p:blipFill>
          <a:blip r:embed="rId2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0019b91ebfe208f90d643c"/>
          <p:cNvPicPr/>
          <p:nvPr/>
        </p:nvPicPr>
        <p:blipFill>
          <a:blip r:embed="rId1"/>
          <a:stretch/>
        </p:blipFill>
        <p:spPr>
          <a:xfrm>
            <a:off x="0" y="0"/>
            <a:ext cx="7380360" cy="6923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7743960" y="-49320"/>
            <a:ext cx="100332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88a00"/>
                </a:solidFill>
                <a:latin typeface="Arial"/>
              </a:rPr>
              <a:t>北京“</a:t>
            </a:r>
            <a:r>
              <a:rPr b="1" lang="zh-CN" sz="5400" spc="-1" strike="noStrike">
                <a:solidFill>
                  <a:srgbClr val="336600"/>
                </a:solidFill>
                <a:latin typeface="Arial"/>
                <a:ea typeface="隶书"/>
              </a:rPr>
              <a:t>哈市风筝</a:t>
            </a:r>
            <a:r>
              <a:rPr b="1" lang="zh-CN" sz="5400" spc="-1" strike="noStrike">
                <a:solidFill>
                  <a:srgbClr val="e88a00"/>
                </a:solidFill>
                <a:latin typeface="Arial"/>
              </a:rPr>
              <a:t>”</a:t>
            </a:r>
            <a:endParaRPr b="1" lang="en-US" sz="54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120089181354191725118669"/>
          <p:cNvPicPr/>
          <p:nvPr/>
        </p:nvPicPr>
        <p:blipFill>
          <a:blip r:embed="rId1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926480" y="467640"/>
            <a:ext cx="10033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88a00"/>
                </a:solidFill>
                <a:latin typeface="Arial"/>
              </a:rPr>
              <a:t>天津“</a:t>
            </a:r>
            <a:r>
              <a:rPr b="1" lang="zh-CN" sz="5400" spc="-1" strike="noStrike">
                <a:solidFill>
                  <a:srgbClr val="336600"/>
                </a:solidFill>
                <a:latin typeface="Arial"/>
                <a:ea typeface="隶书"/>
              </a:rPr>
              <a:t>风筝魏</a:t>
            </a:r>
            <a:r>
              <a:rPr b="1" lang="zh-CN" sz="5400" spc="-1" strike="noStrike">
                <a:solidFill>
                  <a:srgbClr val="e88a00"/>
                </a:solidFill>
                <a:latin typeface="Arial"/>
              </a:rPr>
              <a:t>”</a:t>
            </a:r>
            <a:endParaRPr b="1" lang="en-US" sz="54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3321"/>
          <p:cNvPicPr/>
          <p:nvPr/>
        </p:nvPicPr>
        <p:blipFill>
          <a:blip r:embed="rId1"/>
          <a:stretch/>
        </p:blipFill>
        <p:spPr>
          <a:xfrm>
            <a:off x="0" y="0"/>
            <a:ext cx="4643280" cy="558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85e87ca23227a40f31fe7f9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5589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2277000" y="576108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作者：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  <a:ea typeface="楷体_GB2312"/>
              </a:rPr>
              <a:t>苏叔阳</a:t>
            </a:r>
            <a:endParaRPr b="1" lang="en-US" sz="4400" spc="-1" strike="noStrike">
              <a:solidFill>
                <a:srgbClr val="301ca8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图片1"/>
          <p:cNvPicPr/>
          <p:nvPr/>
        </p:nvPicPr>
        <p:blipFill>
          <a:blip r:embed="rId1"/>
          <a:stretch/>
        </p:blipFill>
        <p:spPr>
          <a:xfrm>
            <a:off x="0" y="-2416320"/>
            <a:ext cx="9144000" cy="9274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8a00"/>
                </a:solidFill>
                <a:latin typeface="Arial"/>
              </a:rPr>
              <a:t>简介作者：</a:t>
            </a:r>
            <a:endParaRPr b="0" lang="en-US" sz="4400" spc="-1" strike="noStrike">
              <a:solidFill>
                <a:srgbClr val="e88a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介作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苏叔阳，生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当代作家，笔名舒扬、余平夫。河北省保定人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中国人民大学历史系毕业。曾任中国作协理事、中国电影协会副主席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获国务院专家终生津贴待遇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想的风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备选入小学课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5:11:58Z</dcterms:created>
  <dc:creator>srsf</dc:creator>
  <dc:description/>
  <dc:language>en-US</dc:language>
  <cp:lastModifiedBy>个人用户</cp:lastModifiedBy>
  <dcterms:modified xsi:type="dcterms:W3CDTF">2016-05-25T00:47:29Z</dcterms:modified>
  <cp:revision>38</cp:revision>
  <dc:subject/>
  <dc:title>开封、北京、天津、潍坊、南通、阳江并称中国六大传统风筝产地。 </dc:title>
</cp:coreProperties>
</file>