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  <p:custShowLst>
    <p:custShow name="自定义放映 1" id="0">
      <p:sldLst>
        <p:sld r:id="rId5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B47B-21F2-45CA-BD33-685EB338F3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鼠标点击生字，依次出现该字的拼音和组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76F-65C3-407C-8618-79B645ED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458-B799-456E-AC36-B1AC697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33B-E71A-43B3-A3C1-E99E5A28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C37-08F2-41F6-85FB-26645B60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DB0-FF91-447D-8FA1-8E42DAC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A58-450B-45EC-803A-1EED370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3DE-D63B-4A3E-AEC8-5540344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AA3-7BF8-43EB-B0DB-33EB050D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51E-5E1D-4982-9784-F1C7BBC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4CD-288B-49AC-B9DE-37D3A84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51B-8CAE-4FB8-83C4-9BC509E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939-9B16-4AAF-9B75-31121C2D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491-0F1E-4C7E-99D9-CAE73A90C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197000"/>
            <a:ext cx="8667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只靠着健壮的右腿和一支圆木棍，一天站上好几个小时，为我们讲课。逢到要写板书的时候，他用圆木棍撑地，右腿离地，身体急速地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转（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转（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黑板。写完了粗壮的粉笔字，又以拐杖为圆心，再转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讲台。一个年过半百的老师，一天不知要这样跳跃旋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转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次。而他每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转（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次，就引起同学们一阵激动的心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09920" y="2209680"/>
            <a:ext cx="8384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huà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666880"/>
            <a:ext cx="1067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h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048120"/>
            <a:ext cx="1066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h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505320"/>
            <a:ext cx="1066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h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1295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h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转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zhuǎ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旋动，改换方向或情势。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zhuàn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旋转，围绕某物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翘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iǎ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81600" y="1895400"/>
            <a:ext cx="1771560" cy="15940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61642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4100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连翘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qiǎo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" y="38268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27360" y="4518000"/>
            <a:ext cx="39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49568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4343400"/>
            <a:ext cx="6553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撒（       ）脱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sā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，放开。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sǎ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，散播、散布。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267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s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92760" y="30636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90512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天穹    酸涩    翩翩起舞     扶摇直上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倘若    蜈蚣    翱翔盘旋     功德无量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刘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40" y="76320"/>
            <a:ext cx="4494240" cy="6705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谈残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旋转板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风筝、追风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88390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风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翘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眯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膝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2096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ē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209680"/>
            <a:ext cx="13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220968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22096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2670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3000" y="22096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91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337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蜈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蜈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倘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2209680"/>
            <a:ext cx="10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w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20968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ō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2209680"/>
            <a:ext cx="14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1337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426708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我能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295280" y="990720"/>
            <a:ext cx="965160" cy="75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905120" y="22096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31240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8332"/>
          <a:stretch/>
        </p:blipFill>
        <p:spPr>
          <a:xfrm>
            <a:off x="-22068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0" y="213372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再见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0" t="50002" r="0" b="0"/>
          <a:stretch/>
        </p:blipFill>
        <p:spPr>
          <a:xfrm>
            <a:off x="1752480" y="2286000"/>
            <a:ext cx="5867640" cy="394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895480" y="13716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理想的风筝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苏教版  六年级 语文  下册 第七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凭借具体的语言文字，理解刘老师的坚强与乐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在老师的引导下，体会作者感激刘老师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下面每组词，联系课文想一想每组词使你想起文中刘老师哪件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女娲造人      捏泥人      甩泥巴     丢了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旋转跳跃         撑          离        急速一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手持线拐   翩翩起舞   扶摇直上  翱翔盘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撒脱        蹦跳        气喘吁吁         得意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549360"/>
            <a:ext cx="8540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只是有一次，他在讲女娲造人的传说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笑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我们说：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女娲氏用手捏泥人捏得累了，便用树枝沾起泥巴向地上甩。甩到地上的泥巴变成了人，只是有的人，由于女娲甩的力量太大，被甩丢了腿和胳膊。我就是那时候被她甩掉一条腿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6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室里腾起一片笑声。但笑过之后，每个学生的心里都泛起一股酸涩的感情，同时更增加了对刘老师的尊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只靠着健壮的右腿和一支圆木棍，一天站上好几个小时，为我们讲课。逢到要写板书的时候，他用圆木棍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撑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右腿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离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身体急速地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便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转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板。写完了粗壮的粉笔字，又以拐杖为圆心，再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转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台。一个年过半百的老师，一天不知要这样跳跃旋转多少次。而他每转一次，就引起同学们一阵激动的心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腿自然不便于奔跑，但他却绝不肯失去亲手把风筝送上蓝天的欢乐。他总是自己手持线拐，让他的孩子或学生远远地擎着风筝。他喊声：“起！”便不断拉动手中的线绳，那纸糊的燕子便抖起翅膀，翩翩起舞，扶摇直上。他仰望白云，注视着那青黑的小燕在风中翱翔盘旋。他脸上漾出的那甜蜜的笑，使我觉得他不是一位老人，而是一个同我一样的少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他故意地撒脱手，任飞舞的纸燕带动长长的线绳和线拐在地上一蹦一跳地飞跑。他笑着、叫着，拄着拐杖，蹦跳着去追赶绳端，喊着：“你们不要管，我自己来！”终于，他气喘吁吁地抓住了线绳，脸上现出得意和满足的神气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49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4936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春天又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414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柳枝染上了嫩绿，在春风里尽情飘摆，舒展着自己的腰身。连翘花举起金黄的小喇叭，向着蓝天吹奏着春之歌。蓝天上，一架架风筝在同白云戏耍，引动无数的人仰望天空，让自己的心也飞上云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1414"/>
                </a:solidFill>
                <a:latin typeface="Arial"/>
              </a:rPr>
              <a:t>每逢这时候，我常常不由自主地想起我的刘老师，想起他放入天空的风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95280" y="476280"/>
            <a:ext cx="835344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765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15a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844640"/>
            <a:ext cx="820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刘老师啊，您在哪里？我深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、深深地思念您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1628640"/>
            <a:ext cx="6335640" cy="3115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练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让你在刘老师的风筝上写一句话，你会写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5400" y="-720"/>
            <a:ext cx="19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5400" y="-720"/>
            <a:ext cx="197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3789360"/>
            <a:ext cx="56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4437000"/>
            <a:ext cx="56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83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0" y="2133720"/>
            <a:ext cx="3733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再见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137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659640" y="189000"/>
            <a:ext cx="23288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勐糯教育网 </a:t>
            </a: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ttp://www.mnjy.myvdns.net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83480" y="4038480"/>
            <a:ext cx="2360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190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6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50002" r="0" b="0"/>
          <a:stretch/>
        </p:blipFill>
        <p:spPr>
          <a:xfrm>
            <a:off x="1752480" y="2286000"/>
            <a:ext cx="5867640" cy="394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895480" y="13716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黑体"/>
              </a:rPr>
              <a:t>理想的风筝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黑体"/>
              <a:ea typeface="黑体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304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苏教版  六年级 语文  下册 第七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609480"/>
            <a:ext cx="88394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" y="396252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苏叔阳出生于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38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年，大学毕业后当了一名教师，曾在多所大学任教。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年，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0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岁的他离开大学讲台，成为北京电影制片厂的专业编剧。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994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年，他因胃癌切除了部分胃，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年因为肺癌切除了左肺，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年又切除了脾脏。抗癌十多年，先后多次手术，可苏叔阳在七十多岁的年龄上仍笔耕不辍，积极乐观地过着每一天。苏叔阳竟然写出了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00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万字的作品，出版了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</a:rPr>
              <a:t>本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143000" y="1828800"/>
            <a:ext cx="6781680" cy="0"/>
          </a:xfrm>
          <a:prstGeom prst="line">
            <a:avLst/>
          </a:prstGeom>
          <a:ln w="381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00200"/>
            <a:ext cx="380880" cy="304920"/>
          </a:xfrm>
          <a:prstGeom prst="lightningBol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28800" y="1066680"/>
            <a:ext cx="2333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走近苏叔阳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cc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96080" y="762120"/>
            <a:ext cx="1143000" cy="113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12282" r="0" b="0"/>
          <a:stretch/>
        </p:blipFill>
        <p:spPr>
          <a:xfrm>
            <a:off x="152280" y="5410080"/>
            <a:ext cx="8839440" cy="121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22860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正确、流利、有感情的朗读课文。读准多音字“撒、转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828800" y="13716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隶书"/>
              </a:rPr>
              <a:t>教学目标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隶书"/>
              <a:ea typeface="隶书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429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本课生字。理解相关词语：酸涩、倘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4648320"/>
            <a:ext cx="739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整体感知课文，了解作者相关知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2120" y="1219320"/>
            <a:ext cx="777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7-03-18T14:12:01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