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34E-C0E6-4983-8D62-857CEF5D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FF5-98A4-4BA3-8D41-62A2A28D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14808-2762-4FA2-A78C-D751D475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3D7D6-F655-495F-89ED-86D62020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871CC-1931-4665-B712-D5205599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8EFB3-EC4E-42A9-AC75-18E94637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0C1AF-7521-4F5B-A73B-AB4EC95F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7824B-F0B4-4C45-A02C-961BB03E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6CB60-892C-4B59-8E09-02B544D6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5DE47-59FF-4B85-AB67-691DAA08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FAC04-5663-4245-B5D4-9E651A9F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637F7-3CC3-4E26-8A26-E4AC42FD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47D-E439-434A-86B8-6C3F2939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DB1A4-FBC3-468E-91BE-68A8545D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80F17-A253-4183-A8E4-009B922E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E9729-A530-4EAC-AE05-ACB17939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865F9-7672-4301-A74C-8E12157A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32E7B-86E6-44B8-A10D-EBE46724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64290-090C-416A-BAF7-C7CBFA73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34C35-5479-45B9-9739-200F6E13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8565D-A80C-4E8A-A6F7-46AA0606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812DD-D17E-47BB-8774-4A45EB69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7C1C0-CA91-4CB7-81E4-B9F2CD7B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5CE-2EA3-4D93-8059-9D76D736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BD085-C10A-43AD-B361-0DBEE8F5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F23FE-508D-4FFF-8EEA-C358C8D7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2C0E9-44B2-4F0B-827A-DA840462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83381-22D2-4E8C-81ED-71337268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8354A-2C82-48DB-9BD9-AB6BE751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A3622-489A-4EFB-855C-7F9C05D2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5926A-47B8-471A-9A14-81612560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7372B-C36F-4EB7-B782-1B584024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94310-D3EC-4D9F-9776-650084AF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C12FD-1955-4D10-B5FC-5A095D6C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9677-D230-4EEF-A467-95A6FEF8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701FC-27C2-488F-9E53-8FF47ADC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3369B-A745-4311-AE2C-EE161035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3F1D0-6E92-4267-96ED-6FC853A1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6EEE-ECE5-4B97-AB51-5A505693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C9CE-C7F3-4FD3-9457-4C6BCEF3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7F55-98EC-459B-9916-8DD92EF1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91A9-A284-4494-8611-9250C4F4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EB20-FC4C-44B3-B3FF-E6825FA3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0565-FB50-4A88-A584-6A7940A3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5D3-EA96-4952-B185-884612FD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DB87-8102-4119-A065-C7FEB88C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16F0-F649-4652-9DB0-3BC5CC1A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E58A-8C08-4BD9-B279-DAA30C27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700C-2F2A-4960-B3C8-60718028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EA86-D0A1-4644-82E4-A3294A13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6A1F-3048-419D-B47E-38229654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3CD97-7DCB-4035-B41E-F6D80D5B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CAC2D-9CFB-4FA6-96D4-973EF98F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B5520-DB87-4EAC-AFFD-7E0253F6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249F-6B89-45B4-AB8C-1AC8EC45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E0B-CC78-4AFA-932D-56085B28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DB7F3-E8B7-4F23-9857-3A236DB8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EB1E9-0615-4D87-89FD-C1146356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163E7-D918-4FF5-B240-38528065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29979-FCFE-401D-B68A-42B7B76C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2797-2AC8-466A-AFD7-3903BB72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B1CA7-B33E-4088-A52D-132EFD55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5DD5D-14CE-4B1B-9EAE-29EF952A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FAFC1-B858-41E6-B5ED-C65FD7AA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5F414-E9D5-484C-BB14-991FD4A3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C8A90-A5B9-49F4-A4E0-26FCAA62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051-8F65-4530-923B-03CDF756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73066-C257-49D2-ADEA-D4E85FA9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70739-5164-4DF5-AEBE-06C9327D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8211B-62A5-4584-84B9-7B122AA9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0FEE5-85D2-4E40-9A90-894EF313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5BA0F-FCF2-4F70-8EAC-BAA43B61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453F1-0E8D-46B1-A986-4BD5BFB1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BC9B0-3063-4379-A610-C632ACE6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E6382-026F-4EC4-A2D5-D0169D53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E40A4-43CD-4AB0-BA1C-67778B9C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A38F8-D15E-4DBF-AF72-42982776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81AA-9F69-4A3D-87E5-FB47AA17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BF2E3-562A-41E2-9456-AE295B76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0A067-9BE6-4EAB-B595-241DB9C3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34417-1806-4CF2-8B67-7D271B7C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6602C-23F4-482C-97CC-0472D13D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2F306-8D21-420A-8BE1-D62B9BFF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839FB-F2FA-4841-92A7-9307F9F7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290AB-4AE5-455C-B472-75C3973A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7BCB0-F40C-44E0-8C22-D4D6FD64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D25DD-8A66-4665-A88D-C9B6F195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A0151-B26E-45BC-AC2D-D9B6811A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087-1E73-412E-9E8C-E0E90A53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C4E79-C04A-4557-9BD6-3776692A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ED545-DA7B-400C-9A6F-620D0511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64C4D-3E30-47E4-B421-CBDD8B58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CE3B8-C02F-4B92-A217-C6184236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57219-C205-44AC-8127-5BCB9D89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8ECA3-2053-4822-983C-A0951DEE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7BB23-F34F-4708-AE63-6A7DB766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92072-5656-4D30-8CE5-0C2A4DD9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03A50-A17F-4CE1-B6DF-7D355774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B9274-913A-4AEE-8915-AAD33D00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EA6-698F-4A2F-905F-66E15A16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63C4C-A29C-4A8F-B797-335399FA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E8D1E-D655-4A8D-A2B5-7BC6A169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447F7-316B-4D86-AD08-5BD49E2B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02098-835A-4374-A5A9-51C40E8F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85E05-1B95-45A1-AD9D-88C74DDB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3EAD9-95B5-4637-A7F4-9695EC88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678F6-8BB4-4E04-A4E2-4C75F5D8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AD83D-00F8-4204-A8EF-01CBFB4B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CF965-8F0F-4868-AB18-E1FE48F5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15E87-0DB8-4432-AA2D-5FEA6CCB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795-8F5F-4FED-A961-552AE244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F7115-0F44-491E-A0E6-8CCA735C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6836B-8D95-47C2-B7C2-7B506A48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E204C-BFF0-4707-9710-D9A76E0F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4314A-EA9B-453F-96D6-AB7C246E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14DAF-E119-46AC-8CF3-3CA6BECD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D5366-0029-4E98-B91C-C51C29DA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75B16-3F25-45D9-AEA4-B4C9F17D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AE636-F785-422D-A6D9-BE068DED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90A56-C856-484E-9C52-2F661616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1E7A9-7C74-4A22-890F-76160436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39B-DAB3-43C2-BA59-D6F2BD9B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0D7E0-D2E2-4118-96B3-3FEF5E1E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5C187-C054-4323-ACA6-4F6A1EBF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B6397-0154-43ED-A6EC-6707BBC1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26F21-02FE-4D8D-B581-08F277B6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AC3E1-6C19-4357-8402-0B9282A5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6316A-E2A6-4898-91E6-1D11F6AC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2C5D4-DE5A-48A8-8904-04D729C7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9CAFA-328E-44C7-9E04-596A6407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1187F-AFDD-40D6-A7A8-66A0D4B4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77827-D2E6-47D4-BEF7-8DE848FC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986A-CF3A-4F54-A177-D1BDFE4D5642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124D-D0C3-4A03-97FE-D58369A67960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0583-8365-41C4-9BB1-0097D3481008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6CC2-F80E-4134-AF4E-E073624D4EA5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B8CB-08AF-4B2F-B1D1-B3825269F437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4122-6D67-48E2-A661-0D43648ACEFD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B59A-26C7-4905-B947-24521207EE13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FB7F-017C-440D-B27B-10D71941CC2E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35A3-282F-4848-B2DA-0DEA1720AD45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56FD-4DD9-426C-9BDE-1FD605734338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D8DB-F1AE-4BA8-B732-9951A0334047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WordArt 6" descr=""/>
          <p:cNvPicPr/>
          <p:nvPr/>
        </p:nvPicPr>
        <p:blipFill>
          <a:blip r:embed="rId1"/>
          <a:stretch/>
        </p:blipFill>
        <p:spPr>
          <a:xfrm>
            <a:off x="1609560" y="1573200"/>
            <a:ext cx="505944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初读感知"/>
          <p:cNvPicPr/>
          <p:nvPr/>
        </p:nvPicPr>
        <p:blipFill>
          <a:blip r:embed="rId1"/>
          <a:stretch/>
        </p:blipFill>
        <p:spPr>
          <a:xfrm>
            <a:off x="611280" y="126828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5"/>
          <p:cNvSpPr/>
          <p:nvPr/>
        </p:nvSpPr>
        <p:spPr>
          <a:xfrm>
            <a:off x="6084720" y="15573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Times New Roman"/>
                <a:ea typeface="楷体_GB2312"/>
              </a:rPr>
              <a:t>思考：文中讲了一些什么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8" descr="mypsd_22867_201104011241300008b"/>
          <p:cNvPicPr/>
          <p:nvPr/>
        </p:nvPicPr>
        <p:blipFill>
          <a:blip r:embed="rId2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40000"/>
                </a:solidFill>
                <a:latin typeface="Franklin Gothic Medium"/>
                <a:ea typeface="微软雅黑"/>
              </a:rPr>
              <a:t>将课文分为三个部分：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68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第一部分（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1~3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）：由春天放风筝的情形联想到刘老师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第二部分（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4~9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）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: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回忆刘老师讲课和放风筝时的情景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第三部分（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10~12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）：写对刘老师的怀念与赞美之情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9"/>
          <p:cNvSpPr/>
          <p:nvPr/>
        </p:nvSpPr>
        <p:spPr>
          <a:xfrm>
            <a:off x="1332000" y="1450080"/>
            <a:ext cx="71276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学习课文第一部分（</a:t>
            </a: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1~3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40000"/>
                </a:solidFill>
                <a:latin typeface="Times New Roman"/>
              </a:rPr>
              <a:t>思考：为什么每逢这时候，我就会不由自主地想起我的刘老师，想起他放上天空的风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332000" y="266796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40000"/>
                </a:solidFill>
                <a:latin typeface="Times New Roman"/>
              </a:rPr>
              <a:t>课文第二自然段的景物描写不是闲笔。春天万物复苏，充满生机与活力的景象，和春天里的风筝勾起了作者对爱放风筝的刘老师的回忆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Franklin Gothic Medium"/>
                <a:ea typeface="微软雅黑"/>
              </a:rPr>
              <a:t>默读思考，初步感知主要内容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25056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    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默读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4——10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自然段，思考：课文回忆了刘老师的几件事情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笑谈腿疾、上课情景、关爱学生、放风筝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3,-57,-57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7,-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  <a:ea typeface="微软雅黑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    </a:t>
            </a:r>
            <a:r>
              <a:rPr b="1" lang="zh-CN" sz="36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从这样几件事中我们可以看出刘老师是一个怎样的老师？课文是怎样表现这些特点的？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笑谈“丢”腿</a:t>
            </a:r>
            <a:br>
              <a:rPr sz="4000"/>
            </a:br>
            <a:r>
              <a:rPr b="0" lang="zh-CN" sz="40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（第</a:t>
            </a:r>
            <a:r>
              <a:rPr b="0" lang="en-US" sz="40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4</a:t>
            </a:r>
            <a:r>
              <a:rPr b="0" lang="zh-CN" sz="40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自然段） 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刘老师是笑着谈到自己残疾的身体，作者和在场的每一名同学听后，他们的情感发生了哪些变化？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  <a:ea typeface="微软雅黑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教室里升腾起一片</a:t>
            </a:r>
            <a:r>
              <a:rPr b="1" lang="zh-CN" sz="3200" spc="-1" strike="noStrike" u="sng">
                <a:solidFill>
                  <a:srgbClr val="040000"/>
                </a:solidFill>
                <a:uFillTx/>
                <a:latin typeface="Franklin Gothic Book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，是因为                      。 但笑过之后，每个学生的心头都泛起一股</a:t>
            </a:r>
            <a:r>
              <a:rPr b="1" lang="zh-CN" sz="3200" spc="-1" strike="noStrike" u="sng">
                <a:solidFill>
                  <a:srgbClr val="040000"/>
                </a:solidFill>
                <a:uFillTx/>
                <a:latin typeface="Franklin Gothic Book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的感情，是因为                               。同时更增加了对刘老师的尊敬，又是因为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5076720" y="1268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40000"/>
                </a:solidFill>
                <a:uFillTx/>
                <a:latin typeface="Times New Roman"/>
              </a:rPr>
              <a:t>笑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1403280" y="1773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刘老师的风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4643280" y="2205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40000"/>
                </a:solidFill>
                <a:uFillTx/>
                <a:latin typeface="Times New Roman"/>
              </a:rPr>
              <a:t>酸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1403280" y="2708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充满着理解与同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900000" y="378936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刘老师的坚强乐观，与孩子亲密无间，令孩子们敬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  <a:ea typeface="微软雅黑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这淡淡的同情与理解在学生心中渐渐地油然而生，你从哪个词感受到的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泛！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“泛”字用的准确，能感受到“慢慢产生”的复杂情感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在这简单的一句话中描写了学生心中不同情感的微妙变化，这就是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细节描写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0000"/>
                </a:solidFill>
                <a:latin typeface="Franklin Gothic Medium"/>
                <a:ea typeface="微软雅黑"/>
              </a:rPr>
              <a:t>笑谈“丢”腿</a:t>
            </a:r>
            <a:br>
              <a:rPr sz="4000"/>
            </a:br>
            <a:r>
              <a:rPr b="0" lang="zh-CN" sz="32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（第</a:t>
            </a:r>
            <a:r>
              <a:rPr b="0" lang="en-US" sz="32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4</a:t>
            </a:r>
            <a:r>
              <a:rPr b="0" lang="zh-CN" sz="32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自然段）</a:t>
            </a:r>
            <a:r>
              <a:rPr b="0" lang="zh-CN" sz="40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 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042560" y="2565360"/>
            <a:ext cx="748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笑谈“丢”腿</a:t>
            </a:r>
            <a:r>
              <a:rPr b="1" lang="en-US" sz="36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刘老师是一位</a:t>
            </a:r>
            <a:r>
              <a:rPr b="1" lang="zh-CN" sz="36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乐观幽默</a:t>
            </a:r>
            <a:r>
              <a:rPr b="1" lang="zh-CN" sz="36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的老师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  <a:ea typeface="微软雅黑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8360" y="33336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203"/>
                </a:solidFill>
                <a:latin typeface="Franklin Gothic Book"/>
                <a:ea typeface="黑体"/>
              </a:rPr>
              <a:t>1</a:t>
            </a:r>
            <a:r>
              <a:rPr b="1" lang="zh-CN" sz="2800" spc="-1" strike="noStrike">
                <a:solidFill>
                  <a:srgbClr val="010203"/>
                </a:solidFill>
                <a:latin typeface="Franklin Gothic Book"/>
                <a:ea typeface="黑体"/>
              </a:rPr>
              <a:t>、有感情地朗读课文，背诵自己喜欢的段落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203"/>
                </a:solidFill>
                <a:latin typeface="Franklin Gothic Book"/>
                <a:ea typeface="黑体"/>
              </a:rPr>
              <a:t>2</a:t>
            </a:r>
            <a:r>
              <a:rPr b="1" lang="zh-CN" sz="2800" spc="-1" strike="noStrike">
                <a:solidFill>
                  <a:srgbClr val="010203"/>
                </a:solidFill>
                <a:latin typeface="Franklin Gothic Book"/>
                <a:ea typeface="黑体"/>
              </a:rPr>
              <a:t>、引导学生把握课文内容，</a:t>
            </a:r>
            <a:r>
              <a:rPr b="1" lang="zh-CN" sz="28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体会刘老师是一个对工作、对生活有着强烈的爱与崇高的追求的人</a:t>
            </a:r>
            <a:r>
              <a:rPr b="1" lang="zh-CN" sz="2800" spc="-1" strike="noStrike">
                <a:solidFill>
                  <a:srgbClr val="010203"/>
                </a:solidFill>
                <a:latin typeface="Franklin Gothic Book"/>
                <a:ea typeface="黑体"/>
              </a:rPr>
              <a:t>；感悟作者的思想感情，体会描写“我”的心情、想法与表现刘老师的精神、品质之间的关系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203"/>
                </a:solidFill>
                <a:latin typeface="Franklin Gothic Book"/>
                <a:ea typeface="黑体"/>
              </a:rPr>
              <a:t>3</a:t>
            </a:r>
            <a:r>
              <a:rPr b="1" lang="zh-CN" sz="2800" spc="-1" strike="noStrike">
                <a:solidFill>
                  <a:srgbClr val="010203"/>
                </a:solidFill>
                <a:latin typeface="Franklin Gothic Book"/>
                <a:ea typeface="黑体"/>
              </a:rPr>
              <a:t>、会认“哽、蜈、蚣、翩”</a:t>
            </a:r>
            <a:r>
              <a:rPr b="1" lang="en-US" sz="2800" spc="-1" strike="noStrike">
                <a:solidFill>
                  <a:srgbClr val="010203"/>
                </a:solidFill>
                <a:latin typeface="Franklin Gothic Book"/>
                <a:ea typeface="黑体"/>
              </a:rPr>
              <a:t>4</a:t>
            </a:r>
            <a:r>
              <a:rPr b="1" lang="zh-CN" sz="2800" spc="-1" strike="noStrike">
                <a:solidFill>
                  <a:srgbClr val="010203"/>
                </a:solidFill>
                <a:latin typeface="Franklin Gothic Book"/>
                <a:ea typeface="黑体"/>
              </a:rPr>
              <a:t>个字，会认写“筝、哽、翩”</a:t>
            </a:r>
            <a:r>
              <a:rPr b="1" lang="en-US" sz="2800" spc="-1" strike="noStrike">
                <a:solidFill>
                  <a:srgbClr val="010203"/>
                </a:solidFill>
                <a:latin typeface="Franklin Gothic Book"/>
                <a:ea typeface="黑体"/>
              </a:rPr>
              <a:t>3</a:t>
            </a:r>
            <a:r>
              <a:rPr b="1" lang="zh-CN" sz="2800" spc="-1" strike="noStrike">
                <a:solidFill>
                  <a:srgbClr val="010203"/>
                </a:solidFill>
                <a:latin typeface="Franklin Gothic Book"/>
                <a:ea typeface="黑体"/>
              </a:rPr>
              <a:t>个字，掌握“风筝、哽咽、翩翩起舞、忠厚、酸涩、沉醉、精妙”等词语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  <a:ea typeface="微软雅黑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    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讲课时，刘老师“自豪、慷慨激昂、哽咽”，学生“激动得落泪、沉重地低下头”，从刘老师和同学们情感变化中体会到刘老师的什么品质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才华横溢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826920" y="76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Arial"/>
              </a:rPr>
              <a:t>上课情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上课情景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90000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上课时慷慨激昂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刘老师是一位课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讲得极好、爱国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的老师</a:t>
            </a:r>
            <a:r>
              <a:rPr b="0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提问时认真倾听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①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倘若同学回答得正确、深刻，他便静静地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微仰着头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细细的听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②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倘若有的同学回答得不好，他就吃惊地瞪大眼睛，关切地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一边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一边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这时候，他比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紧张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语言、神态、动作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 描写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关爱学生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提问时认真倾听 </a:t>
            </a:r>
            <a:r>
              <a:rPr b="0" lang="zh-CN" sz="32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（第</a:t>
            </a:r>
            <a:r>
              <a:rPr b="0" lang="en-US" sz="32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6</a:t>
            </a:r>
            <a:r>
              <a:rPr b="0" lang="zh-CN" sz="32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自然段）</a:t>
            </a:r>
            <a:r>
              <a:rPr b="0" lang="zh-CN" sz="44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 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826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提问时认真倾听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刘老师是一位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热爱学生、与学生心心相印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的好老师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92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     </a:t>
            </a:r>
            <a:r>
              <a:rPr b="1" lang="zh-CN" sz="32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用心品读第</a:t>
            </a:r>
            <a:r>
              <a:rPr b="1" lang="en-US" sz="32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7——10</a:t>
            </a:r>
            <a:r>
              <a:rPr b="1" lang="zh-CN" sz="32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自然段，找出刘老师放风筝时的感人细节</a:t>
            </a:r>
            <a:r>
              <a:rPr b="0" lang="zh-CN" sz="40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 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2f2f"/>
                </a:solidFill>
                <a:latin typeface="Arial"/>
              </a:rPr>
              <a:t>课余放风筝</a:t>
            </a:r>
            <a:br>
              <a:rPr sz="4000"/>
            </a:br>
            <a:r>
              <a:rPr b="0" lang="zh-CN" sz="2800" spc="-1" strike="noStrike">
                <a:solidFill>
                  <a:srgbClr val="2f2f2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2f2f2f"/>
                </a:solidFill>
                <a:latin typeface="Arial"/>
              </a:rPr>
              <a:t>7——10</a:t>
            </a:r>
            <a:r>
              <a:rPr b="0" lang="zh-CN" sz="2800" spc="-1" strike="noStrike">
                <a:solidFill>
                  <a:srgbClr val="2f2f2f"/>
                </a:solidFill>
                <a:latin typeface="Arial"/>
              </a:rPr>
              <a:t>自然段）</a:t>
            </a:r>
            <a:r>
              <a:rPr b="0" lang="zh-CN" sz="4000" spc="-1" strike="noStrike">
                <a:solidFill>
                  <a:srgbClr val="2f2f2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  <a:ea typeface="微软雅黑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①“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他的腿自然不便于奔跑，但他却决不肯失去亲手把风筝送上蓝天的快乐。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…… 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他仰望白云，看那青黑的小燕在风中翱翔盘旋，仿佛他的心也一齐跃上了蓝天。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…… 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有一次，他故意撒手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他笑着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蹦跳着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脸上飘起得意和满意足的稚气。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感到了生命的力量。”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  <a:ea typeface="微软雅黑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通过对刘老师放风筝时的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动作、神态、欢声笑语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，体现出刘老师对生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活的热爱与追求 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  <a:ea typeface="微软雅黑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②“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这情景使我深深感动。一个年过五十身有残疾的老师，对生活有着那样</a:t>
            </a:r>
            <a:r>
              <a:rPr b="1" lang="zh-CN" sz="3200" spc="-1" strike="noStrike" u="sng">
                <a:solidFill>
                  <a:srgbClr val="040000"/>
                </a:solidFill>
                <a:uFillTx/>
                <a:latin typeface="Franklin Gothic Book"/>
                <a:ea typeface="黑体"/>
              </a:rPr>
              <a:t>纯朴、强烈的爱与追求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，一个活泼的少年</a:t>
            </a:r>
            <a:r>
              <a:rPr b="1" lang="zh-CN" sz="3200" spc="-1" strike="noStrike" u="sng">
                <a:solidFill>
                  <a:srgbClr val="040000"/>
                </a:solidFill>
                <a:uFillTx/>
                <a:latin typeface="Franklin Gothic Book"/>
                <a:ea typeface="黑体"/>
              </a:rPr>
              <a:t>又该怎么样呢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？”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热爱生活   自信坚强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  <a:ea typeface="微软雅黑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刘老师“身教”给学生的影响，使“我”在心灵里升起了理想的风筝</a:t>
            </a:r>
            <a:r>
              <a:rPr b="1" lang="en-US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要像刘老师那样意志坚强、乐观向上、热爱生活。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课余放风筝</a:t>
            </a:r>
            <a:br>
              <a:rPr sz="4000"/>
            </a:br>
            <a:r>
              <a:rPr b="0" lang="zh-CN" sz="28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（</a:t>
            </a:r>
            <a:r>
              <a:rPr b="0" lang="en-US" sz="28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7——10</a:t>
            </a:r>
            <a:r>
              <a:rPr b="0" lang="zh-CN" sz="28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自然段）</a:t>
            </a:r>
            <a:r>
              <a:rPr b="0" lang="zh-CN" sz="40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  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75564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课余放风筝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刘老师是一位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黑体"/>
              </a:rPr>
              <a:t>热爱生活、意志坚强、有理想、有追求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的老师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6" descr="读一读"/>
          <p:cNvPicPr/>
          <p:nvPr/>
        </p:nvPicPr>
        <p:blipFill>
          <a:blip r:embed="rId1"/>
          <a:stretch/>
        </p:blipFill>
        <p:spPr>
          <a:xfrm>
            <a:off x="250920" y="333360"/>
            <a:ext cx="1089000" cy="129528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7"/>
          <p:cNvSpPr/>
          <p:nvPr/>
        </p:nvSpPr>
        <p:spPr>
          <a:xfrm>
            <a:off x="395280" y="1916280"/>
            <a:ext cx="84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风筝  喇叭  天穹   支撑   哽咽  屈辱  忠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酸涩  述说  倘若  蜈蚣  擎着  云霄  连翘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沉醉  精妙  慷慨陈辞  气喘吁吁    翩翩起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2f2f"/>
                </a:solidFill>
                <a:latin typeface="Franklin Gothic Medium"/>
                <a:ea typeface="微软雅黑"/>
              </a:rPr>
              <a:t>总结升华，感悟品质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上课笑谈“丢”腿，这就是</a:t>
            </a:r>
            <a:r>
              <a:rPr b="1" lang="zh-CN" sz="3200" spc="-1" strike="noStrike" u="sng">
                <a:solidFill>
                  <a:srgbClr val="040000"/>
                </a:solidFill>
                <a:uFillTx/>
                <a:latin typeface="Franklin Gothic Book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的刘老师；为祖国的历史而自豪，为祖国历史的屈辱而哽咽，这就是</a:t>
            </a:r>
            <a:r>
              <a:rPr b="1" lang="zh-CN" sz="3200" spc="-1" strike="noStrike" u="sng">
                <a:solidFill>
                  <a:srgbClr val="040000"/>
                </a:solidFill>
                <a:uFillTx/>
                <a:latin typeface="Franklin Gothic Book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的刘老师；关心每一位学生的成长进步，这就是</a:t>
            </a:r>
            <a:r>
              <a:rPr b="1" lang="zh-CN" sz="3200" spc="-1" strike="noStrike" u="sng">
                <a:solidFill>
                  <a:srgbClr val="040000"/>
                </a:solidFill>
                <a:uFillTx/>
                <a:latin typeface="Franklin Gothic Book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的刘老师；拄着拐杖放飞、追赶风筝，这就是</a:t>
            </a:r>
            <a:r>
              <a:rPr b="1" lang="zh-CN" sz="3200" spc="-1" strike="noStrike" u="sng">
                <a:solidFill>
                  <a:srgbClr val="040000"/>
                </a:solidFill>
                <a:uFillTx/>
                <a:latin typeface="Franklin Gothic Book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的刘老师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0"/>
          <p:cNvSpPr/>
          <p:nvPr/>
        </p:nvSpPr>
        <p:spPr>
          <a:xfrm>
            <a:off x="1835280" y="2276640"/>
            <a:ext cx="50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0000"/>
                </a:solidFill>
                <a:latin typeface="Times New Roman"/>
              </a:rPr>
              <a:t>题目为什么要加上“理想的”？理想的风筝什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1" descr="阅读质疑"/>
          <p:cNvPicPr/>
          <p:nvPr/>
        </p:nvPicPr>
        <p:blipFill>
          <a:blip r:embed="rId1"/>
          <a:stretch/>
        </p:blipFill>
        <p:spPr>
          <a:xfrm>
            <a:off x="179280" y="333360"/>
            <a:ext cx="29624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  <a:ea typeface="微软雅黑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964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理想的风筝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000"/>
                </a:solidFill>
                <a:latin typeface="Franklin Gothic Book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40000"/>
                </a:solidFill>
                <a:latin typeface="Franklin Gothic Book"/>
                <a:ea typeface="方正楷体_GBK"/>
              </a:rPr>
              <a:t>文中刘老师放飞的风筝是他对生活无限热爱的标志，刘老师腿有残疾、行动不便，但他借自由翱翔的风筝来寄托自己要在广阔天地间大有作为的理想。题目中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  <a:ea typeface="方正楷体_GBK"/>
              </a:rPr>
              <a:t>理想的风筝是指刘老师对生活的乐观态度与不懈追求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风筝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"/>
          <p:cNvSpPr/>
          <p:nvPr/>
        </p:nvSpPr>
        <p:spPr>
          <a:xfrm>
            <a:off x="971640" y="404640"/>
            <a:ext cx="741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0" y="5240880"/>
            <a:ext cx="914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著名作家苏叔阳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患肾癌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癌细胞转移到肺部，先后多次手术。如今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仍笔耕不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5" descr="苏叔阳个人照片"/>
          <p:cNvPicPr/>
          <p:nvPr/>
        </p:nvPicPr>
        <p:blipFill>
          <a:blip r:embed="rId2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12"/>
          <p:cNvPicPr/>
          <p:nvPr/>
        </p:nvPicPr>
        <p:blipFill>
          <a:blip r:embed="rId1"/>
          <a:stretch/>
        </p:blipFill>
        <p:spPr>
          <a:xfrm>
            <a:off x="1447920" y="533520"/>
            <a:ext cx="6400800" cy="43765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58" name="Text Box 3"/>
          <p:cNvSpPr/>
          <p:nvPr/>
        </p:nvSpPr>
        <p:spPr>
          <a:xfrm>
            <a:off x="1066680" y="5257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个仅剩下一个手指头能活动的科学巨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霍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13"/>
          <p:cNvPicPr/>
          <p:nvPr/>
        </p:nvPicPr>
        <p:blipFill>
          <a:blip r:embed="rId1"/>
          <a:stretch/>
        </p:blipFill>
        <p:spPr>
          <a:xfrm>
            <a:off x="1143000" y="457200"/>
            <a:ext cx="7010280" cy="46832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60" name="Rectangle 3"/>
          <p:cNvSpPr/>
          <p:nvPr/>
        </p:nvSpPr>
        <p:spPr>
          <a:xfrm>
            <a:off x="533520" y="5410080"/>
            <a:ext cx="78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她是坐在轮椅上的作家、医生和硕士研究生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张海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14"/>
          <p:cNvPicPr/>
          <p:nvPr/>
        </p:nvPicPr>
        <p:blipFill>
          <a:blip r:embed="rId1"/>
          <a:stretch/>
        </p:blipFill>
        <p:spPr>
          <a:xfrm>
            <a:off x="3632040" y="457200"/>
            <a:ext cx="4826160" cy="5791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562" name="Rectangle 3"/>
          <p:cNvSpPr/>
          <p:nvPr/>
        </p:nvSpPr>
        <p:spPr>
          <a:xfrm>
            <a:off x="7010280" y="5486400"/>
            <a:ext cx="12956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528200" y="609480"/>
            <a:ext cx="13993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　　他听不见声音，但却是历史上最伟大的音乐 家之一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-----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贝多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19"/>
          <p:cNvPicPr/>
          <p:nvPr/>
        </p:nvPicPr>
        <p:blipFill>
          <a:blip r:embed="rId1"/>
          <a:stretch/>
        </p:blipFill>
        <p:spPr>
          <a:xfrm>
            <a:off x="457200" y="685800"/>
            <a:ext cx="4346640" cy="53341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65" name="Text Box 3"/>
          <p:cNvSpPr/>
          <p:nvPr/>
        </p:nvSpPr>
        <p:spPr>
          <a:xfrm>
            <a:off x="4952880" y="228600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海伦 凯勒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她创造了一个奇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20"/>
          <p:cNvPicPr/>
          <p:nvPr/>
        </p:nvPicPr>
        <p:blipFill>
          <a:blip r:embed="rId1"/>
          <a:stretch/>
        </p:blipFill>
        <p:spPr>
          <a:xfrm>
            <a:off x="4270320" y="609480"/>
            <a:ext cx="4568760" cy="5943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67" name="Text Box 3"/>
          <p:cNvSpPr/>
          <p:nvPr/>
        </p:nvSpPr>
        <p:spPr>
          <a:xfrm>
            <a:off x="152280" y="1584360"/>
            <a:ext cx="3962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　　陆康永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他是一个残疾的乡村教师，他“跪”着给学生上课，一“跪”就是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3886200" cy="2657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69" name="Picture 3" descr="14"/>
          <p:cNvPicPr/>
          <p:nvPr/>
        </p:nvPicPr>
        <p:blipFill>
          <a:blip r:embed="rId2"/>
          <a:stretch/>
        </p:blipFill>
        <p:spPr>
          <a:xfrm>
            <a:off x="6032520" y="0"/>
            <a:ext cx="3111480" cy="3733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70" name="Rectangle 4"/>
          <p:cNvSpPr/>
          <p:nvPr/>
        </p:nvSpPr>
        <p:spPr>
          <a:xfrm>
            <a:off x="990720" y="5486400"/>
            <a:ext cx="7162560" cy="1219320"/>
          </a:xfrm>
          <a:prstGeom prst="rect">
            <a:avLst/>
          </a:prstGeom>
          <a:solidFill>
            <a:srgbClr val="9184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13"/>
          <p:cNvPicPr/>
          <p:nvPr/>
        </p:nvPicPr>
        <p:blipFill>
          <a:blip r:embed="rId3"/>
          <a:srcRect l="47948" t="0" r="0" b="0"/>
          <a:stretch/>
        </p:blipFill>
        <p:spPr>
          <a:xfrm>
            <a:off x="152280" y="2971800"/>
            <a:ext cx="2895840" cy="38862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72" name="Picture 6" descr="19"/>
          <p:cNvPicPr/>
          <p:nvPr/>
        </p:nvPicPr>
        <p:blipFill>
          <a:blip r:embed="rId4"/>
          <a:srcRect l="3605" t="0" r="13390" b="11764"/>
          <a:stretch/>
        </p:blipFill>
        <p:spPr>
          <a:xfrm>
            <a:off x="3276720" y="3276720"/>
            <a:ext cx="2454120" cy="320040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573" name="Picture 7" descr="20"/>
          <p:cNvPicPr/>
          <p:nvPr/>
        </p:nvPicPr>
        <p:blipFill>
          <a:blip r:embed="rId5"/>
          <a:stretch/>
        </p:blipFill>
        <p:spPr>
          <a:xfrm>
            <a:off x="6400800" y="3390840"/>
            <a:ext cx="2562120" cy="346716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sp>
        <p:nvSpPr>
          <p:cNvPr id="574" name="Rectangle 8"/>
          <p:cNvSpPr/>
          <p:nvPr/>
        </p:nvSpPr>
        <p:spPr>
          <a:xfrm>
            <a:off x="914400" y="5486400"/>
            <a:ext cx="7010280" cy="1371600"/>
          </a:xfrm>
          <a:prstGeom prst="rect">
            <a:avLst/>
          </a:prstGeom>
          <a:solidFill>
            <a:srgbClr val="ff99ff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WordArt 9"/>
          <p:cNvSpPr txBox="1"/>
          <p:nvPr/>
        </p:nvSpPr>
        <p:spPr>
          <a:xfrm>
            <a:off x="914400" y="571500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放飞我们的理想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6" name="Picture 10" descr="苏叔阳个人照片"/>
          <p:cNvPicPr/>
          <p:nvPr/>
        </p:nvPicPr>
        <p:blipFill>
          <a:blip r:embed="rId6"/>
          <a:stretch/>
        </p:blipFill>
        <p:spPr>
          <a:xfrm>
            <a:off x="3851280" y="0"/>
            <a:ext cx="22683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cdeefcfb492cef5c6c22ebc3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3"/>
          <p:cNvSpPr/>
          <p:nvPr/>
        </p:nvSpPr>
        <p:spPr>
          <a:xfrm>
            <a:off x="212400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2556000" y="573408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连翘</a:t>
            </a:r>
            <a:r>
              <a:rPr b="0" lang="en-US" sz="4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[qi</a:t>
            </a:r>
            <a:r>
              <a:rPr b="0" lang="en-US" sz="4800" spc="-1" strike="noStrike">
                <a:solidFill>
                  <a:srgbClr val="800000"/>
                </a:solidFill>
                <a:latin typeface="Arial"/>
                <a:ea typeface="楷体_GB2312"/>
              </a:rPr>
              <a:t>á</a:t>
            </a:r>
            <a:r>
              <a:rPr b="0" lang="en-US" sz="4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o]</a:t>
            </a:r>
            <a:r>
              <a:rPr b="0" lang="zh-CN" sz="4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7"/>
          <p:cNvSpPr/>
          <p:nvPr/>
        </p:nvSpPr>
        <p:spPr>
          <a:xfrm>
            <a:off x="3995640" y="1413000"/>
            <a:ext cx="44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苏叔阳（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1938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～ ）当代作家，笔名舒扬、余平夫。河北省保定人。他创作的话剧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丹心谱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，获庆祝中华人民共和国成立三十周年献礼演出创作一等奖。近年来代表作有电影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夕照街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，长篇小说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故土</a:t>
            </a:r>
            <a:r>
              <a:rPr b="1" lang="en-US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8" descr="W020080916673111124740"/>
          <p:cNvPicPr/>
          <p:nvPr/>
        </p:nvPicPr>
        <p:blipFill>
          <a:blip r:embed="rId2"/>
          <a:srcRect l="2749" t="1814" r="612" b="7469"/>
          <a:stretch/>
        </p:blipFill>
        <p:spPr>
          <a:xfrm>
            <a:off x="611280" y="1268280"/>
            <a:ext cx="3240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199a4fcb72b4adacc8176849"/>
          <p:cNvPicPr/>
          <p:nvPr/>
        </p:nvPicPr>
        <p:blipFill>
          <a:blip r:embed="rId1"/>
          <a:stretch/>
        </p:blipFill>
        <p:spPr>
          <a:xfrm>
            <a:off x="1332000" y="0"/>
            <a:ext cx="7812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3"/>
          <p:cNvSpPr/>
          <p:nvPr/>
        </p:nvSpPr>
        <p:spPr>
          <a:xfrm>
            <a:off x="471600" y="-1074960"/>
            <a:ext cx="850680" cy="82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山东省潍坊市“</a:t>
            </a:r>
            <a:r>
              <a:rPr b="1" lang="zh-CN" sz="4400" spc="-1" strike="noStrike">
                <a:solidFill>
                  <a:srgbClr val="040000"/>
                </a:solidFill>
                <a:latin typeface="Impact"/>
                <a:ea typeface="隶书"/>
              </a:rPr>
              <a:t>潍坊风筝</a:t>
            </a:r>
            <a:r>
              <a:rPr b="1" lang="zh-CN" sz="4400" spc="-1" strike="noStrike">
                <a:solidFill>
                  <a:srgbClr val="ff0000"/>
                </a:solidFill>
                <a:latin typeface="Impact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2751120" y="113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95280" y="371628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江苏省南通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40000"/>
                </a:solidFill>
                <a:latin typeface="Arial"/>
              </a:rPr>
              <a:t>南通板鹞风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" descr="xin_490304291911281097837"/>
          <p:cNvPicPr/>
          <p:nvPr/>
        </p:nvPicPr>
        <p:blipFill>
          <a:blip r:embed="rId1"/>
          <a:stretch/>
        </p:blipFill>
        <p:spPr>
          <a:xfrm>
            <a:off x="0" y="0"/>
            <a:ext cx="3564000" cy="35528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5" descr="566d0fdfd9c62e53632798c8"/>
          <p:cNvPicPr/>
          <p:nvPr/>
        </p:nvPicPr>
        <p:blipFill>
          <a:blip r:embed="rId2"/>
          <a:stretch/>
        </p:blipFill>
        <p:spPr>
          <a:xfrm>
            <a:off x="349236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0019b91ebfe208f90d643c"/>
          <p:cNvPicPr/>
          <p:nvPr/>
        </p:nvPicPr>
        <p:blipFill>
          <a:blip r:embed="rId1"/>
          <a:stretch/>
        </p:blipFill>
        <p:spPr>
          <a:xfrm>
            <a:off x="0" y="0"/>
            <a:ext cx="7380360" cy="692316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3"/>
          <p:cNvSpPr/>
          <p:nvPr/>
        </p:nvSpPr>
        <p:spPr>
          <a:xfrm>
            <a:off x="7743960" y="-52560"/>
            <a:ext cx="100332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f2f2f"/>
                </a:solidFill>
                <a:latin typeface="Arial"/>
              </a:rPr>
              <a:t>北京“</a:t>
            </a:r>
            <a:r>
              <a:rPr b="1" lang="zh-CN" sz="5400" spc="-1" strike="noStrike">
                <a:solidFill>
                  <a:srgbClr val="040000"/>
                </a:solidFill>
                <a:latin typeface="Arial"/>
                <a:ea typeface="隶书"/>
              </a:rPr>
              <a:t>哈市风筝</a:t>
            </a:r>
            <a:r>
              <a:rPr b="1" lang="zh-CN" sz="5400" spc="-1" strike="noStrike">
                <a:solidFill>
                  <a:srgbClr val="0400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120089181354191725118669"/>
          <p:cNvPicPr/>
          <p:nvPr/>
        </p:nvPicPr>
        <p:blipFill>
          <a:blip r:embed="rId1"/>
          <a:stretch/>
        </p:blipFill>
        <p:spPr>
          <a:xfrm>
            <a:off x="0" y="0"/>
            <a:ext cx="745164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3"/>
          <p:cNvSpPr/>
          <p:nvPr/>
        </p:nvSpPr>
        <p:spPr>
          <a:xfrm>
            <a:off x="7926480" y="465480"/>
            <a:ext cx="100332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f2f2f"/>
                </a:solidFill>
                <a:latin typeface="Arial"/>
              </a:rPr>
              <a:t>天津“</a:t>
            </a:r>
            <a:r>
              <a:rPr b="1" lang="zh-CN" sz="5400" spc="-1" strike="noStrike">
                <a:solidFill>
                  <a:srgbClr val="040000"/>
                </a:solidFill>
                <a:latin typeface="Arial"/>
                <a:ea typeface="隶书"/>
              </a:rPr>
              <a:t>风筝魏</a:t>
            </a:r>
            <a:r>
              <a:rPr b="1" lang="zh-CN" sz="5400" spc="-1" strike="noStrike">
                <a:solidFill>
                  <a:srgbClr val="0400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1:31:59Z</dcterms:created>
  <dc:creator/>
  <dc:description/>
  <cp:keywords/>
  <dc:language>en-US</dc:language>
  <cp:lastModifiedBy>微软用户</cp:lastModifiedBy>
  <dcterms:modified xsi:type="dcterms:W3CDTF">2019-03-23T11:08:07Z</dcterms:modified>
  <cp:revision>15</cp:revision>
  <dc:subject/>
  <dc:title>幻灯片 1</dc:title>
</cp:coreProperties>
</file>