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C01-1524-4A40-A5AE-B3AE973C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646-15EF-4A4D-9F8E-CF12196E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7B3-470D-4C45-87D7-17739662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06C-5719-4494-9058-9D16B204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824-2659-450D-A6D1-8A5E9432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F1B-317A-435B-9A74-32876698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DB2-5E38-4114-A9E3-51026F0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0DE-1B69-44F5-A95B-F9DF0B2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3E3-904C-44CA-83FA-2FC0DE33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615-3A77-487F-8117-5E11DBF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67B-C222-4F63-90EF-3B45BD4C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A05-1F5F-48D7-8899-9629D36E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766D-E1CA-4B1A-8C9D-E0BDF2A2E6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562720" cy="3727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33920" y="5334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风  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柳枝染上了嫩绿，在春风里尽情摇摆，舒展着自己的腰身。连翘花举起金黄的小喇叭，向着长天吹奏者生命之歌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句采用了什么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对下文描写刘老师积极向上的生活态度起到了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12193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刘老师给你留下了怎样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86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刘老师个子不高，微微发胖的脸上有一对时常眯起来的慈祥的眼睛，一头花白的头发更衬出他的忠厚。他有一条强壮的右腿，而左腿，膝以下被全部截去了，靠一根已经用得油亮的圆木拐杖支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572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隶书"/>
              </a:rPr>
              <a:t>请同学们齐读这段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476280"/>
            <a:ext cx="835344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7650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15a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765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215a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215a0"/>
                </a:solidFill>
                <a:latin typeface="楷体_GB2312"/>
                <a:ea typeface="楷体_GB2312"/>
              </a:rPr>
              <a:t>教室里腾起一片笑声。但笑过之后，每个学生心里都泛起一股酸涩的感情，同时更增加了对刘老师的尊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3141720"/>
            <a:ext cx="7561080" cy="2952720"/>
            <a:chOff x="684360" y="3141720"/>
            <a:chExt cx="7561080" cy="2952720"/>
          </a:xfrm>
        </p:grpSpPr>
        <p:sp>
          <p:nvSpPr>
            <p:cNvPr id="91" name=""/>
            <p:cNvSpPr/>
            <p:nvPr/>
          </p:nvSpPr>
          <p:spPr>
            <a:xfrm>
              <a:off x="684360" y="3141720"/>
              <a:ext cx="756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6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教室里腾起一片笑声，</a:t>
              </a:r>
              <a:r>
                <a:rPr b="1" lang="zh-CN" sz="3600" spc="-1" strike="noStrike">
                  <a:solidFill>
                    <a:srgbClr val="9d4605"/>
                  </a:solidFill>
                  <a:latin typeface="楷体_GB2312"/>
                  <a:ea typeface="楷体_GB2312"/>
                </a:rPr>
                <a:t>是因为</a:t>
              </a:r>
              <a:r>
                <a:rPr b="1" lang="zh-CN" sz="3600" spc="-1" strike="noStrike" u="sng">
                  <a:solidFill>
                    <a:srgbClr val="9d4605"/>
                  </a:solidFill>
                  <a:uFillTx/>
                  <a:latin typeface="楷体_GB2312"/>
                  <a:ea typeface="楷体_GB2312"/>
                </a:rPr>
                <a:t>         </a:t>
              </a:r>
              <a:r>
                <a:rPr b="1" lang="zh-CN" sz="3600" spc="-1" strike="noStrike">
                  <a:solidFill>
                    <a:srgbClr val="9d4605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36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但笑过之后，每个学生心里都泛起一股酸涩的感情，</a:t>
              </a:r>
              <a:r>
                <a:rPr b="1" lang="zh-CN" sz="3600" spc="-1" strike="noStrike">
                  <a:solidFill>
                    <a:srgbClr val="9d4605"/>
                  </a:solidFill>
                  <a:latin typeface="楷体_GB2312"/>
                  <a:ea typeface="楷体_GB2312"/>
                </a:rPr>
                <a:t>是因为</a:t>
              </a:r>
              <a:r>
                <a:rPr b="1" lang="zh-CN" sz="3600" spc="-1" strike="noStrike" u="sng">
                  <a:solidFill>
                    <a:srgbClr val="9d4605"/>
                  </a:solidFill>
                  <a:uFillTx/>
                  <a:latin typeface="楷体_GB2312"/>
                  <a:ea typeface="楷体_GB2312"/>
                </a:rPr>
                <a:t>             </a:t>
              </a:r>
              <a:r>
                <a:rPr b="1" lang="zh-CN" sz="3600" spc="-1" strike="noStrike">
                  <a:solidFill>
                    <a:srgbClr val="9d4605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36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同时更增加了对刘老师的尊敬，</a:t>
              </a:r>
              <a:r>
                <a:rPr b="1" lang="zh-CN" sz="3600" spc="-1" strike="noStrike">
                  <a:solidFill>
                    <a:srgbClr val="9d4605"/>
                  </a:solidFill>
                  <a:latin typeface="楷体_GB2312"/>
                  <a:ea typeface="楷体_GB2312"/>
                </a:rPr>
                <a:t>是因为</a:t>
              </a:r>
              <a:r>
                <a:rPr b="1" lang="zh-CN" sz="3600" spc="-1" strike="noStrike" u="sng">
                  <a:solidFill>
                    <a:srgbClr val="9d4605"/>
                  </a:solidFill>
                  <a:uFillTx/>
                  <a:latin typeface="楷体_GB2312"/>
                  <a:ea typeface="楷体_GB2312"/>
                </a:rPr>
                <a:t>         </a:t>
              </a:r>
              <a:r>
                <a:rPr b="1" lang="zh-CN" sz="3600" spc="-1" strike="noStrike">
                  <a:solidFill>
                    <a:srgbClr val="9d4605"/>
                  </a:solidFill>
                  <a:latin typeface="楷体_GB2312"/>
                  <a:ea typeface="楷体_GB2312"/>
                </a:rPr>
                <a:t>。</a:t>
              </a:r>
              <a:r>
                <a:rPr b="1" lang="zh-CN" sz="36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843280" y="3716280"/>
              <a:ext cx="2808360" cy="2378160"/>
              <a:chOff x="2843280" y="3716280"/>
              <a:chExt cx="2808360" cy="23781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5076720" y="3716280"/>
                <a:ext cx="574920" cy="144360"/>
                <a:chOff x="5076720" y="3716280"/>
                <a:chExt cx="574920" cy="144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076720" y="3716280"/>
                  <a:ext cx="142920" cy="144360"/>
                </a:xfrm>
                <a:prstGeom prst="ellipse">
                  <a:avLst/>
                </a:prstGeom>
                <a:solidFill>
                  <a:srgbClr val="c11503"/>
                </a:solidFill>
                <a:ln w="9360">
                  <a:solidFill>
                    <a:srgbClr val="c115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508720" y="3716280"/>
                  <a:ext cx="142920" cy="144360"/>
                </a:xfrm>
                <a:prstGeom prst="ellipse">
                  <a:avLst/>
                </a:prstGeom>
                <a:solidFill>
                  <a:srgbClr val="c11503"/>
                </a:solidFill>
                <a:ln w="9360">
                  <a:solidFill>
                    <a:srgbClr val="c115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43280" y="4797360"/>
                <a:ext cx="574920" cy="144360"/>
                <a:chOff x="4643280" y="4797360"/>
                <a:chExt cx="574920" cy="144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643280" y="4797360"/>
                  <a:ext cx="142920" cy="144360"/>
                </a:xfrm>
                <a:prstGeom prst="ellipse">
                  <a:avLst/>
                </a:prstGeom>
                <a:solidFill>
                  <a:srgbClr val="c11503"/>
                </a:solidFill>
                <a:ln w="9360">
                  <a:solidFill>
                    <a:srgbClr val="c115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75280" y="4797360"/>
                  <a:ext cx="142920" cy="144360"/>
                </a:xfrm>
                <a:prstGeom prst="ellipse">
                  <a:avLst/>
                </a:prstGeom>
                <a:solidFill>
                  <a:srgbClr val="c11503"/>
                </a:solidFill>
                <a:ln w="9360">
                  <a:solidFill>
                    <a:srgbClr val="c115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843280" y="5950080"/>
                <a:ext cx="574200" cy="144360"/>
                <a:chOff x="2843280" y="5950080"/>
                <a:chExt cx="574200" cy="144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843280" y="5950080"/>
                  <a:ext cx="142560" cy="144360"/>
                </a:xfrm>
                <a:prstGeom prst="ellipse">
                  <a:avLst/>
                </a:prstGeom>
                <a:solidFill>
                  <a:srgbClr val="c11503"/>
                </a:solidFill>
                <a:ln w="9360">
                  <a:solidFill>
                    <a:srgbClr val="c115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274920" y="5950080"/>
                  <a:ext cx="142560" cy="144360"/>
                </a:xfrm>
                <a:prstGeom prst="ellipse">
                  <a:avLst/>
                </a:prstGeom>
                <a:solidFill>
                  <a:srgbClr val="c11503"/>
                </a:solidFill>
                <a:ln w="9360">
                  <a:solidFill>
                    <a:srgbClr val="c115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2" name=""/>
          <p:cNvSpPr/>
          <p:nvPr/>
        </p:nvSpPr>
        <p:spPr>
          <a:xfrm>
            <a:off x="4932360" y="1268280"/>
            <a:ext cx="431640" cy="792360"/>
          </a:xfrm>
          <a:prstGeom prst="ellipse">
            <a:avLst/>
          </a:prstGeom>
          <a:noFill/>
          <a:ln w="38160">
            <a:solidFill>
              <a:srgbClr val="c115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453360"/>
            <a:ext cx="40672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692280"/>
            <a:ext cx="8353440" cy="55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98100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215a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215a0"/>
                </a:solidFill>
                <a:latin typeface="楷体_GB2312"/>
                <a:ea typeface="楷体_GB2312"/>
              </a:rPr>
              <a:t>他只靠着健壮的右腿和一支圆木棍，一天站上好几个小时，为我们讲课。逢到要写板书的时候，他用圆木棍撑地，右腿离地，身体急速地一转，便转向黑板，写完了粗壮的粉笔字，又以拐杖为圆心，再转向讲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4360" y="2205000"/>
            <a:ext cx="7343640" cy="3240000"/>
            <a:chOff x="684360" y="2205000"/>
            <a:chExt cx="7343640" cy="3240000"/>
          </a:xfrm>
        </p:grpSpPr>
        <p:sp>
          <p:nvSpPr>
            <p:cNvPr id="107" name=""/>
            <p:cNvSpPr/>
            <p:nvPr/>
          </p:nvSpPr>
          <p:spPr>
            <a:xfrm>
              <a:off x="2843280" y="342900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20500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8000" y="342900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2720" y="342900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67280" y="342900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68360" y="400536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530064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360" y="4005360"/>
              <a:ext cx="14256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85080" y="3429000"/>
              <a:ext cx="142920" cy="14436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4355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76280"/>
            <a:ext cx="8642160" cy="568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4360" y="1700280"/>
            <a:ext cx="7705440" cy="3166920"/>
            <a:chOff x="684360" y="1700280"/>
            <a:chExt cx="7705440" cy="3166920"/>
          </a:xfrm>
        </p:grpSpPr>
        <p:sp>
          <p:nvSpPr>
            <p:cNvPr id="121" name=""/>
            <p:cNvSpPr/>
            <p:nvPr/>
          </p:nvSpPr>
          <p:spPr>
            <a:xfrm>
              <a:off x="684360" y="1700280"/>
              <a:ext cx="7705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8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一个年过半百的老师，一天不知要这样跳跃旋转多少次。而他每次的一转，都引起学生们一次激动的心跳。</a:t>
              </a:r>
              <a:r>
                <a:rPr b="0" lang="zh-CN" sz="4800" spc="-1" strike="noStrike">
                  <a:solidFill>
                    <a:srgbClr val="0215a0"/>
                  </a:solidFill>
                  <a:latin typeface="楷体_GB2312"/>
                  <a:ea typeface="楷体_GB2312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92720" y="4724280"/>
              <a:ext cx="144360" cy="14292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4724280"/>
              <a:ext cx="144720" cy="142920"/>
            </a:xfrm>
            <a:prstGeom prst="ellipse">
              <a:avLst/>
            </a:prstGeom>
            <a:solidFill>
              <a:srgbClr val="c11503"/>
            </a:solidFill>
            <a:ln w="9360">
              <a:solidFill>
                <a:srgbClr val="c115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2438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同学们自学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6—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然段，用自己的话说说刘老师当时放风筝的情景以及自己的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628640" y="1676520"/>
            <a:ext cx="233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ccff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隶书"/>
              </a:rPr>
              <a:t>自学小能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66ccff"/>
                  </a:gs>
                  <a:gs pos="100000">
                    <a:srgbClr val="ffcc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09480" y="1495440"/>
            <a:ext cx="76212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12952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讲刘老师在课上讲课和在课下放风筝的情景，二者有什么关系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8954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课上讲课，课下放风筝都体现了刘老师虽然是个残疾人，但是对生活充满了爱，对理想有不懈的追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2590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这情景使我深深感动。一个年过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50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身有残疾的老师，对生活有着那样淳朴、强烈的爱与追求，一个活泼泼的少年又该怎么样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838160" y="1447920"/>
            <a:ext cx="372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读句子、谈体会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96760" y="1219320"/>
            <a:ext cx="7509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2590920"/>
            <a:ext cx="8153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句话既是对刘老师身残志坚的赞叹，又是在告诫我们：应该像刘老师那样热爱生活，不断地追求、创造生活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43280" y="160020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学生反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10098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题目“理想的风筝”有什么含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文中刘老师放飞的风筝是他对生活无限热爱的标志，刘老师腿有残疾、行动不便，但他借自由翱翔的风筝来寄托自己要在广阔天地间大有作为的理想。题目中“理想的风筝”是指刘老师对生活的乐观态度与不懈追求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3800" y="457200"/>
            <a:ext cx="1143000" cy="1133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28954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然而作者对风筝却有一种特殊的感情，在他的心中风筝就是理想的象征。为什么呢？今天，我们一起来学习《理想的风筝》，相信大家一定能从文中找到答案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981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同学们对风筝有哪些认识呢？简单地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2819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在文中找出让你感动的句子并说说令你感动的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666880" y="1828800"/>
            <a:ext cx="221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隶书"/>
              </a:rPr>
              <a:t>集体交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62120" y="1676520"/>
            <a:ext cx="160956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3520" y="2133720"/>
            <a:ext cx="8076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这篇略读课文是一篇回忆性的文章，以一个学生的语气，描写了一位残疾教师的形象。文中的刘老师乐观开朗、爱学生、爱工作、爱祖国，对生活充满了强烈的爱与执着的追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76520" y="1343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总结全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888840" cy="704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666880" y="4724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请同学们有感情地齐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152280" y="609480"/>
            <a:ext cx="8839440" cy="6019920"/>
            <a:chOff x="152280" y="609480"/>
            <a:chExt cx="8839440" cy="6019920"/>
          </a:xfrm>
        </p:grpSpPr>
        <p:sp>
          <p:nvSpPr>
            <p:cNvPr id="166" name=""/>
            <p:cNvSpPr/>
            <p:nvPr/>
          </p:nvSpPr>
          <p:spPr>
            <a:xfrm>
              <a:off x="152280" y="609480"/>
              <a:ext cx="8839440" cy="601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696080" y="762120"/>
              <a:ext cx="11430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rcRect l="0" t="12282" r="0" b="0"/>
            <a:stretch/>
          </p:blipFill>
          <p:spPr>
            <a:xfrm>
              <a:off x="152280" y="5410080"/>
              <a:ext cx="883944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>
            <a:off x="1981080" y="2558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．熟读课文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3549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．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写一篇读后感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019240" y="1600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课外作业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1009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19520" y="2438280"/>
            <a:ext cx="3733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50002" r="0" b="0"/>
          <a:stretch/>
        </p:blipFill>
        <p:spPr>
          <a:xfrm>
            <a:off x="2209680" y="2438280"/>
            <a:ext cx="5181840" cy="348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895480" y="13716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理想的风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09480"/>
            <a:ext cx="88394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1828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筝”同学们并不陌生，放风筝是许多同学的爱好。今天我们学习“理想的风筝”一课，你们有什么疑问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6576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⑴ “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理想的风筝”是什么样的？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4343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⑵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为什么叫“理想的风筝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33720" y="2362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叔阳又名余平夫，生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河北保定人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中国人民大学党史系毕业，曾在中医研究院工作，现为北京电影制片厂编剧。他创作的话剧《丹心谱》，获庆祝中华人民共和国成立三十周年献礼演出创作一等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828800"/>
            <a:ext cx="6781680" cy="0"/>
          </a:xfrm>
          <a:prstGeom prst="line">
            <a:avLst/>
          </a:prstGeom>
          <a:ln w="381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380880" cy="304920"/>
          </a:xfrm>
          <a:prstGeom prst="lightningBol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828800" y="10666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走近苏叔阳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1214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22860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轻声朗读课文，读准生字的字音，读通句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0640" y="13716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整体感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429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默读课文，体会课文主要讲了什么事，说说读懂了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6483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同桌交流各自的收获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7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1905120"/>
            <a:ext cx="83059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028960" cy="1739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14479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课文讲了刘老师的哪几件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438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刘老师上课生动而富有激情，体现出他对祖国深深的爱，对学生循循善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6576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刘老师课下放风筝，表现出他像孩子一样的欢快和稚气，体现了他对生活纯朴、强烈的爱与追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3520" y="12952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为什么“我”一看到春天的一些景物，就不由自主地想到刘老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743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楷体_GB2312"/>
              </a:rPr>
              <a:t>春天是美好的，是充满蓬勃生机的，是战胜严寒后到来的。刘老师恰似春天，不因自己残疾而灰心丧志，时时与年老残疾做顽强的斗争，以自己的实际行动，唱出了一支生命之歌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03-18T14:11:34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