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8AB-6499-4EA1-BA21-CD6F5D6F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CD8-06D0-4AED-B933-6F4D33C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63FA-1F94-41EF-AB50-9E81F9FA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C5FDE-D074-435B-B706-1C9413B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E50CA-A12F-4D24-959F-642351D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E8332-4B3F-4CFD-9622-9C8DFE46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0359B-628F-4272-BD99-8C2FA30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0E26B-9F4C-4FB3-A999-F0EFAA6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64A5B-4CAA-49C8-AAE5-0B319F1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445A7-7C8F-4D61-A9DC-7C11CDF6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ACD61-EDA4-40F1-A411-832DE7FC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CE728-DF23-4F70-BF35-7A2F02FD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718-F458-48D1-BB3C-B19B9FFF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95B79-35ED-460B-B66F-98FB0E53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EF915-CE26-46BC-A695-1B328CFD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6022-F758-46AC-88EF-26E70161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E639-E55C-47A3-B0FC-768266DC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248C6-929A-4AD8-B510-A939A62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CEBE3-87FE-48C5-9CED-1438035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9D83F-E0DE-4171-9448-0BE1A3D7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66E47-E6E9-4B85-9FC4-31D3EF1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DE4A-4778-4197-A829-12728799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70024-51C6-4F19-986D-144CCD10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C04-9941-4829-8848-7456AE89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0F945-2705-4A2B-9E15-74E61607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BDB18-D02E-4840-B974-14440158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6EFD9-102C-4518-A043-976F7460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7DE49-CE09-49B5-BBC5-3D7CA55F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7593D-0E49-409A-983E-7BFCA54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6569C-4C3E-4494-A4C7-91A8A68E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501F4-B8FC-413E-9CE4-7E3A9BA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DC2FA-1A22-4FE6-A1D0-227E740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73777-983F-4E68-B52D-478E93A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30A21-1E53-47B8-A1A8-7FE7AAA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D01-CE2E-4CEE-892B-1D964949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45A1A-8EEA-4E74-81C5-1DEB12D9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24FB-C185-4B6D-9D50-C9593AD4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FA8F-C8A7-42C3-9047-F824A7AF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9B99-31C4-43BD-A65A-A16BC896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2BB7-F679-4D1D-99AE-90B209FE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42A-FD34-437B-8328-16BBF70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B0BB-5AF8-42A3-A5B6-B2CD1EAC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4A8-5770-42B8-A900-26F8AA0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8302-1B87-43E4-804A-0319373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157-86B9-4244-A3D3-F412937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EFD-88F3-48DA-B8FA-ECE474A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277E-239A-40C4-82CA-A6594FB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E2C-EE7B-4129-81A0-1BADCAE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981E-1BC8-4562-B302-7C9CA799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E6F4-C490-44D9-991C-A5993A1A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C59D-FDF7-4E21-9C7D-6B088B60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41B2-7577-405C-8D4C-4670769C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565E-6DA7-44C0-9800-08B9B45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59B6-ACBA-474E-84D8-F5F51AA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E048-F0AC-47C3-8616-7DD2D1CB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4DE-AC4F-4D0B-A8D4-0717F4D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E042-3C17-4CEF-964B-97BF4B29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56D1-08C6-4560-B1D8-61DBA21A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3493-592D-45C7-881A-1FABB8A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4049-7900-4F06-8239-7771661C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F19B-26C7-4A13-B1A1-D39FA5B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8BA67-0BEC-4741-ADC8-E86374B2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33F8-54B5-44D2-BFFA-804E8C70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B3FF-1992-473C-B118-46F28B06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732F-FBD0-4F32-86A0-8BBBB7A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24E95-7A9C-4500-96DA-FF4D108E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A63-A077-48C8-B4D5-1EE8A39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C9A7-BC95-42CB-A272-2ECA32CF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9CDCA-0B1C-498B-B640-A01D225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F853-9A37-4EBD-909F-0332A8E7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ABBD-1473-4D96-A682-C1552D5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0BB2-20BA-4F3E-BBA9-C376D4D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B8F3-C41E-4FF9-945B-20DABD1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01857-A386-46FB-947A-1207C52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98F3E-FA5D-4832-AC80-3202F0B5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B990-1CC6-4831-A164-7B5A224A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7521-54DF-4E94-9DE2-F33E4F42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50C-CFAC-4C4B-A0B7-1BADF309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DF8D-C206-4A3A-92F6-C86F7F9B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9D53-96B2-4F8E-8B83-648FF3DC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C16F-6858-46E8-8F96-8461BAB7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5E2F-4F57-4A14-8830-9C98774C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A958-1872-4745-A5FB-B265BA9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AF61A-8197-48B9-8350-CF3D9B7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6DA75-FA1E-4FA6-B993-0A88C15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46947-37A6-4144-A836-F595504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E352-6F71-4DDE-A373-94BD1D16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8BE3-F5E5-4726-A9EA-02BEC94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5A-8705-44EB-AA31-9BCCF42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29044-99D2-4029-9F0D-2E1E8C93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62C2A-D97C-4966-8094-B35140F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6E36-893F-46F7-BAC5-A25125D6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CD411-F139-47D2-9195-D037BFE9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9E450-8E55-491C-B614-1DCE4AD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0A1B-4356-44F5-B41A-8E566099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B9DE-4B06-4F08-8E71-F7B556F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E41F-25DB-4AE7-9893-DF9F228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D24C-9978-4E19-9AA0-3E5F914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992F6-67E5-4AB7-85B5-81C4849B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13A-79E1-4626-A209-68536F7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617C7-48F1-490A-92A1-27209EFE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724B-BA76-4417-AE32-EB4F3002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0EF7-FFA0-44E2-8BE5-F6A5F0D3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D010-575A-4FAD-BC89-3F0DA03A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B832-2BAD-4CC6-8E13-71168846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9EDF-4DF6-48EC-A2B7-BD90883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50C2A-C179-48DC-A9B7-1D749CBC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BF53A-8998-4DE3-B2C6-4744FDEA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1CDA-AE58-4A7B-B436-048A7781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B7CA5-E5FA-48C1-9020-AE1B137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A85-B277-44F3-8FBB-3C21860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0F708-3002-41C2-8647-2B5FE17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01F6-9233-4CDD-8189-52B6D17A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BF746-00CE-48B2-9C01-2ECC3C15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99B9-06B7-4D33-8A43-42E12CE7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06B4-D4DA-408D-BD29-1F9D2B78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869A7-CE19-487C-8B50-120800CC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C39B1-95F4-44DD-AD54-B94782E4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0A123-BBE3-4F21-B118-5A54A0E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0169-E72C-4E3D-BB50-9E7A2C5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9455-7612-4B1F-A764-81B5031C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655-64A7-4FFE-BD13-46CA4CA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8AC3-F794-4603-AC1D-EAB5ECB7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C3D8-55B6-40EF-96FC-7EDA944C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DCF37-349D-4010-899C-0BFEA03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BC87-5C68-4668-BF76-8B53533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46343-0ED8-42C9-B70B-BB44D7B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3FC5-C6F2-4E79-9BA6-27CE4D05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E0357-7FED-4D56-AAE7-66863BDF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B0923-5393-4C24-B391-46018940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F4F10-5CCA-4B40-8FEB-92DABE1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F39AB-CB08-4BC2-B8B5-D53522B8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E953-15E1-4187-BAC6-D233A26FE9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6BE8-069B-427B-9D72-06BAD9C12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0635-4849-46F2-9D4E-911B438F8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E3CB-3C50-4E71-A051-898050E6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BCCA-7B88-4E5D-B2AF-1B4C40C18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B202-7150-4EB3-A890-E5508B0C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AF55-8BAF-410D-BEA5-A4F2D3AD9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257-6F4C-44AE-A060-860AEA81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DBC-0C40-4AC8-9E10-201A5C84A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D330-3C76-4D96-A7F3-5D2D47884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5345-9410-4C8A-9E6F-0155028BB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BBFB-0F13-4D2D-948F-D22BF546F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27995200&amp;tn=baiduimagedetail&amp;word=&#32769;&#33293;&amp;in=5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368240851&amp;tn=baiduimagedetail&amp;word=&#32769;&#33293;&amp;in=6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文本占位符 6147" descr="老舍《骆驼祥子》剧照"/>
          <p:cNvPicPr/>
          <p:nvPr/>
        </p:nvPicPr>
        <p:blipFill>
          <a:blip r:embed="rId1"/>
          <a:stretch/>
        </p:blipFill>
        <p:spPr>
          <a:xfrm>
            <a:off x="0" y="19080"/>
            <a:ext cx="9142560" cy="6819840"/>
          </a:xfrm>
          <a:prstGeom prst="rect">
            <a:avLst/>
          </a:prstGeom>
          <a:ln w="0">
            <a:noFill/>
          </a:ln>
        </p:spPr>
      </p:pic>
      <p:sp>
        <p:nvSpPr>
          <p:cNvPr id="453" name="文本框 3"/>
          <p:cNvSpPr/>
          <p:nvPr/>
        </p:nvSpPr>
        <p:spPr>
          <a:xfrm>
            <a:off x="2554200" y="141912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4"/>
          <p:cNvSpPr/>
          <p:nvPr/>
        </p:nvSpPr>
        <p:spPr>
          <a:xfrm>
            <a:off x="0" y="2143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名著阅读 《骆驼祥子》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——圈点与批注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图片 18435" descr="e3abc1c5512b7ea3e925291b40c7ec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18436"/>
          <p:cNvSpPr/>
          <p:nvPr/>
        </p:nvSpPr>
        <p:spPr>
          <a:xfrm>
            <a:off x="0" y="533412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北京丰富胡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丹柿小园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19459" descr="0c384b434c094aa5e73ba65477d432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0483" descr="b589db3a0b53340b9ecef72e433a1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21507" descr="im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-360" y="29880"/>
            <a:ext cx="91407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推出的代表作《骆驼祥子》是老舍最有代表性的作品，也是现代长篇小说的一部杰作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18434" descr="老舍《骆驼祥子》海报"/>
          <p:cNvPicPr/>
          <p:nvPr/>
        </p:nvPicPr>
        <p:blipFill>
          <a:blip r:embed="rId1"/>
          <a:stretch/>
        </p:blipFill>
        <p:spPr>
          <a:xfrm>
            <a:off x="5935680" y="1590840"/>
            <a:ext cx="2921040" cy="42130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8435" descr="老舍《骆驼祥子》剧照"/>
          <p:cNvPicPr/>
          <p:nvPr/>
        </p:nvPicPr>
        <p:blipFill>
          <a:blip r:embed="rId2"/>
          <a:stretch/>
        </p:blipFill>
        <p:spPr>
          <a:xfrm>
            <a:off x="914400" y="2286000"/>
            <a:ext cx="4724280" cy="322884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18436"/>
          <p:cNvSpPr/>
          <p:nvPr/>
        </p:nvSpPr>
        <p:spPr>
          <a:xfrm>
            <a:off x="0" y="5803920"/>
            <a:ext cx="91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剧照；右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电影海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13315"/>
          <p:cNvSpPr/>
          <p:nvPr/>
        </p:nvSpPr>
        <p:spPr>
          <a:xfrm>
            <a:off x="-34920" y="189000"/>
            <a:ext cx="917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请结合《骆驼祥子》的背景，总结小说的思想主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-3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年代正是中国现代史上最黑暗、最混乱的多灾多难的年代。新旧军阀不断的争权夺势的混战，再加上各种自然灾害的横行，使得中国农村迅速走向破产。而成批破产的农民，为了谋求生路便纷纷涌入城市。祥子就是这些涌入城市的破产农民中的一个典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小说主要讲述了人力车夫祥子人生中三起三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由人堕落为“兽”的悲惨遭遇，表达了作者对当时黑暗社会的批判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对像祥子一样社会最底层的劳动者苦难命运的同情和关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文本框 10243"/>
          <p:cNvSpPr/>
          <p:nvPr/>
        </p:nvSpPr>
        <p:spPr>
          <a:xfrm>
            <a:off x="539640" y="76500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请问小说的题目“骆驼祥子”主要包含哪些含义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0244"/>
          <p:cNvSpPr/>
          <p:nvPr/>
        </p:nvSpPr>
        <p:spPr>
          <a:xfrm>
            <a:off x="395280" y="2565360"/>
            <a:ext cx="8137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以“骆驼祥子”来命名有三层含义：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点明小说的主人公——祥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概括著作的一个主要情节——骆驼祥子称号的得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揭示主人公的性格——像骆驼一样吃苦耐劳、沉默憨厚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文本框 11267"/>
          <p:cNvSpPr/>
          <p:nvPr/>
        </p:nvSpPr>
        <p:spPr>
          <a:xfrm>
            <a:off x="53964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请简单介绍小说围绕祥子主要讲述了哪些故事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1268"/>
          <p:cNvSpPr/>
          <p:nvPr/>
        </p:nvSpPr>
        <p:spPr>
          <a:xfrm>
            <a:off x="395280" y="2060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三起三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奋斗三年挣钱买了车→被十几个大兵抢了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卖骆驼又攒了买车钱→被孙侦探抢了买车钱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结婚后靠虎妞买了车→最后下葬虎妞卖了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文本框 3075"/>
          <p:cNvSpPr/>
          <p:nvPr/>
        </p:nvSpPr>
        <p:spPr>
          <a:xfrm>
            <a:off x="49320" y="880920"/>
            <a:ext cx="8785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一流车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 祥子十八岁带着乡下的足壮与诚实来到北平，成了当时一流的人力车夫。他立志要买一辆属于自己的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祥子买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经过三年努力，祥子终于凑足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块钱。他马上用其中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块钱买上了自己的新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文本框 1" descr=""/>
          <p:cNvPicPr/>
          <p:nvPr/>
        </p:nvPicPr>
        <p:blipFill>
          <a:blip r:embed="rId1"/>
          <a:stretch/>
        </p:blipFill>
        <p:spPr>
          <a:xfrm>
            <a:off x="2298600" y="158760"/>
            <a:ext cx="407844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文本框 1"/>
          <p:cNvSpPr/>
          <p:nvPr/>
        </p:nvSpPr>
        <p:spPr>
          <a:xfrm>
            <a:off x="38160" y="55440"/>
            <a:ext cx="908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丢车与卖骆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不到半年，军阀乱兵就抢走了祥子的车并让他做苦力。后来祥子逃出来并顺手牵走了部队丢下的三匹骆驼，用它们换了三十五块钱回到了北平。由于在梦话中透露了自己的经历，从此人们开始叫他“骆驼祥子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  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在虎妞的威逼利诱下，他只好再一次回到了人和车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第一课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了解作者、作品以及创作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掌握作品的基本情节及其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4099"/>
          <p:cNvSpPr/>
          <p:nvPr/>
        </p:nvSpPr>
        <p:spPr>
          <a:xfrm>
            <a:off x="250920" y="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二次奋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祥子回到了人和车厂，老板刘四爷家三十七八岁的闺女虎妞十分喜欢祥子。祥子租了他家的一辆车，又开始为自己第二次买车而没命的赚钱。后来在杨宅拉车，整天紧得发昏，受不了折磨后又回到了人和车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被敲钱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回来受到虎妞的诱惑，为躲避虎妞，祥子到曹先生家拉包月。而曹先生因为学生阮明陷害，被迫离开北平。也是因为这件事，祥子被孙侦探勒索，积蓄一空。在虎妞的威逼利诱下，他只好再一次回到了人和车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文本框 5123"/>
          <p:cNvSpPr/>
          <p:nvPr/>
        </p:nvSpPr>
        <p:spPr>
          <a:xfrm>
            <a:off x="32400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被迫结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祥子认了命，只好把自己交给刘家父女了。可刘四爷并不肯“便宜了这个臭拉车的”招他做女婿。于是刘四爷在与虎妞激烈争吵后，把女儿也一同赶出家门。虎妞靠着自己的私房钱与祥子在一个大杂院里租房完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再次买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和虎妞结婚，进而忍受家庭生活的牵系与精神上的痛苦。虎妞终于拗不过祥子，为祥子买了一辆二手车，可是祥子想做一流车夫的信心已被不愉快的婚姻生活所磨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6148"/>
          <p:cNvSpPr/>
          <p:nvPr/>
        </p:nvSpPr>
        <p:spPr>
          <a:xfrm>
            <a:off x="250920" y="1746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妻死卖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虎妞因为难产而死。祥子为了办丧事，无奈又卖了洋车。同时因为生活的压力，又拒绝了心爱的小福子再次和祥子组建家庭的请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彻底堕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虎妞去世后，祥子对拥有一辆自己的车已经失去信心。特别是在小福子吊死以后，祥子对生活的最后一线希望也破灭了。从此，祥子憎恨任何人。他染上了恶习，吃喝嫖赌。拉车不勤快，干脆不拉车。他开始骗钱，借钱不还，甚至为钱出卖人命，彻底堕落成一具行尸走肉，由“人”变成了“兽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60" y="876240"/>
            <a:ext cx="61801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一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丰富的思想意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920" y="1514520"/>
            <a:ext cx="912816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思想意蕴极为丰富，我们可以从不同的视角用不同阐释方法去解读。从社会学视角读，小说控诉的是当时吃人社会的黑暗不公；从文化学视角读，小说揭露了城市文明对人性的腐蚀与毒化；从哲学视角读，小说又在深深地慨叹人类逃不开命运的拨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1"/>
          <p:cNvSpPr/>
          <p:nvPr/>
        </p:nvSpPr>
        <p:spPr>
          <a:xfrm>
            <a:off x="1486080" y="6660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思想艺术价值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）真实反映旧中国城市底层市民的苦难生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24000" y="1752120"/>
            <a:ext cx="8496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描写城市贫民悲剧命运的代表作，作品真实反映了旧中国城市底层市民的苦难生活，揭示了一个破产了的农民如何市民化，又如何被社会抛入流氓无产者行列的过程，以及这一过程中所经历的精神毁灭的悲剧。就作品描写的生活情状及主要人物的典型性而言，这部作品的确有助于人们认识二三十年代中国城市社会的黑暗图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艺术特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7920" y="9694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京味”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取材：丰富的北京生活经验，写大小杂院，四合院和胡同，写市民凡俗生活中所呈现的场景风致，提供了丰富多彩的北京画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语言艺术：运用北京市民俗白浅易的口语，成功地把语言的通俗性与文学性统一起来，做到了干净利落，鲜活纯熟，平易而不粗俗，精制而不雕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-152640" y="480600"/>
            <a:ext cx="88930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二）采用传统小说的单线索结构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围绕祥子希望－－奋斗－－绝望直到堕落（三起三落）这条生活道路的主线，安排事件，展开情节，并引出其他人物，单线严谨，不枝不蔓，既充分展示了祥子性格发展变化的轨迹，又深刻揭示祥子与其所处的广阔而复杂的社会环境之间的密切联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文本框 7171"/>
          <p:cNvSpPr/>
          <p:nvPr/>
        </p:nvSpPr>
        <p:spPr>
          <a:xfrm>
            <a:off x="179280" y="2919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下面请你根据作品中不同人物的简介，猜一猜他们分别是哪一位重要的人物形象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7172"/>
          <p:cNvSpPr/>
          <p:nvPr/>
        </p:nvSpPr>
        <p:spPr>
          <a:xfrm>
            <a:off x="179280" y="184464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他二十来岁的人，个子很大很高。圆眼，肉鼻子，两条眉很短很粗，头上永远剃得发亮。腮上没有多余的肉，脖子可是几乎与头一边儿粗；脸上永远红扑扑的，特别亮的是颧骨与右耳之间一块不小的疤——小时侯在树下睡觉，被驴啃了一口。他以拉洋车为生，他最大的希望就是能够挣钱买到属于自己的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7173"/>
          <p:cNvSpPr/>
          <p:nvPr/>
        </p:nvSpPr>
        <p:spPr>
          <a:xfrm>
            <a:off x="1778040" y="5686560"/>
            <a:ext cx="22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PMingLiU"/>
              </a:rPr>
              <a:t>祥子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文本框 8195"/>
          <p:cNvSpPr/>
          <p:nvPr/>
        </p:nvSpPr>
        <p:spPr>
          <a:xfrm>
            <a:off x="1187280" y="98100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8196"/>
          <p:cNvSpPr/>
          <p:nvPr/>
        </p:nvSpPr>
        <p:spPr>
          <a:xfrm>
            <a:off x="0" y="765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她是一个三十七八岁的虎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虎头虎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一对虎牙，长的像个大黑塔。帮助父亲办事是把好手，可是没人敢娶她做太太。她霸道泼辣，心理变态，却有着自己的苦闷和追求幸福的愿望。她敢作敢为，甚至为了和祥子结婚不惜与有钱的父亲——人和车厂的主人刘四爷决裂。她可鄙而又可怜的命运让人感叹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8197"/>
          <p:cNvSpPr/>
          <p:nvPr/>
        </p:nvSpPr>
        <p:spPr>
          <a:xfrm>
            <a:off x="2044800" y="4724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虎妞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9219"/>
          <p:cNvSpPr/>
          <p:nvPr/>
        </p:nvSpPr>
        <p:spPr>
          <a:xfrm>
            <a:off x="39528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她十九岁，圆脸，眉眼长得很匀调，没有什么特别出色的地方，可是结结实实并不难看。上唇很短，无论是要生气，还是要笑，就先张了唇，露出些很白而齐整的牙来。她年轻，她要强，她勤俭。她为家庭牺牲了一切，但也有着对自己幸福生活的追求。假若祥子想再娶，她是个理想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9220"/>
          <p:cNvSpPr/>
          <p:nvPr/>
        </p:nvSpPr>
        <p:spPr>
          <a:xfrm>
            <a:off x="2298600" y="55641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小福子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图片 16385" descr="031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29160" y="1521000"/>
            <a:ext cx="36576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457" name="组合 16386"/>
          <p:cNvGrpSpPr/>
          <p:nvPr/>
        </p:nvGrpSpPr>
        <p:grpSpPr>
          <a:xfrm>
            <a:off x="1893960" y="2395440"/>
            <a:ext cx="5357880" cy="2027160"/>
            <a:chOff x="1893960" y="2395440"/>
            <a:chExt cx="5357880" cy="2027160"/>
          </a:xfrm>
        </p:grpSpPr>
        <p:sp>
          <p:nvSpPr>
            <p:cNvPr id="458" name="矩形 16387"/>
            <p:cNvSpPr/>
            <p:nvPr/>
          </p:nvSpPr>
          <p:spPr>
            <a:xfrm>
              <a:off x="1893960" y="23954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388"/>
            <p:cNvSpPr/>
            <p:nvPr/>
          </p:nvSpPr>
          <p:spPr>
            <a:xfrm>
              <a:off x="1893960" y="2395440"/>
              <a:ext cx="535788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矩形 16389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组合 16390"/>
          <p:cNvGrpSpPr/>
          <p:nvPr/>
        </p:nvGrpSpPr>
        <p:grpSpPr>
          <a:xfrm>
            <a:off x="1893960" y="2395440"/>
            <a:ext cx="5357880" cy="2027160"/>
            <a:chOff x="1893960" y="2395440"/>
            <a:chExt cx="5357880" cy="2027160"/>
          </a:xfrm>
        </p:grpSpPr>
        <p:sp>
          <p:nvSpPr>
            <p:cNvPr id="462" name="矩形 16391"/>
            <p:cNvSpPr/>
            <p:nvPr/>
          </p:nvSpPr>
          <p:spPr>
            <a:xfrm>
              <a:off x="1893960" y="23954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16392"/>
            <p:cNvSpPr/>
            <p:nvPr/>
          </p:nvSpPr>
          <p:spPr>
            <a:xfrm>
              <a:off x="1893960" y="2395440"/>
              <a:ext cx="535788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16393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6394"/>
          <p:cNvSpPr/>
          <p:nvPr/>
        </p:nvSpPr>
        <p:spPr>
          <a:xfrm>
            <a:off x="3668760" y="3116160"/>
            <a:ext cx="1760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6395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16396" descr="wri07"/>
          <p:cNvPicPr/>
          <p:nvPr/>
        </p:nvPicPr>
        <p:blipFill>
          <a:blip r:embed="rId2"/>
          <a:stretch/>
        </p:blipFill>
        <p:spPr>
          <a:xfrm>
            <a:off x="2743200" y="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16397" descr="lan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49520" y="1521000"/>
            <a:ext cx="2274840" cy="1382400"/>
          </a:xfrm>
          <a:prstGeom prst="rect">
            <a:avLst/>
          </a:prstGeom>
          <a:ln w="0">
            <a:noFill/>
          </a:ln>
        </p:spPr>
      </p:pic>
      <p:grpSp>
        <p:nvGrpSpPr>
          <p:cNvPr id="469" name="组合 16398"/>
          <p:cNvGrpSpPr/>
          <p:nvPr/>
        </p:nvGrpSpPr>
        <p:grpSpPr>
          <a:xfrm>
            <a:off x="179280" y="3068640"/>
            <a:ext cx="4753080" cy="3571920"/>
            <a:chOff x="179280" y="3068640"/>
            <a:chExt cx="4753080" cy="3571920"/>
          </a:xfrm>
        </p:grpSpPr>
        <p:sp>
          <p:nvSpPr>
            <p:cNvPr id="470" name="矩形 16399"/>
            <p:cNvSpPr/>
            <p:nvPr/>
          </p:nvSpPr>
          <p:spPr>
            <a:xfrm>
              <a:off x="179280" y="3068640"/>
              <a:ext cx="347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16400"/>
            <p:cNvSpPr/>
            <p:nvPr/>
          </p:nvSpPr>
          <p:spPr>
            <a:xfrm>
              <a:off x="179280" y="3068640"/>
              <a:ext cx="4753080" cy="357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最多产的作家：著述洋洋千万言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最全面的作家：小说、散文、诗歌、戏剧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最有味道的作家：执京味小说之牛耳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敢于面对死亡并且一定能够在死亡的黑洞中透析生命的作家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被国际文坛久久关注并不断被神话的作家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图片 16401" descr="lao1"/>
          <p:cNvPicPr/>
          <p:nvPr/>
        </p:nvPicPr>
        <p:blipFill>
          <a:blip r:embed="rId5"/>
          <a:stretch/>
        </p:blipFill>
        <p:spPr>
          <a:xfrm>
            <a:off x="5292720" y="133200"/>
            <a:ext cx="2895480" cy="1295640"/>
          </a:xfrm>
          <a:prstGeom prst="rect">
            <a:avLst/>
          </a:prstGeom>
          <a:ln w="0">
            <a:noFill/>
          </a:ln>
        </p:spPr>
      </p:pic>
      <p:sp>
        <p:nvSpPr>
          <p:cNvPr id="473" name="动作按钮: 信息 16403">
            <a:hlinkClick r:id="" action="ppaction://hlinkshowjump?jump=las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12291"/>
          <p:cNvSpPr/>
          <p:nvPr/>
        </p:nvSpPr>
        <p:spPr>
          <a:xfrm>
            <a:off x="684360" y="26028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试结合祥子的相关事例分析其形象性格前后有着怎样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由人变“兽”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人生道路上的三部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自食其力的劳动中充满自信与好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畸形结合的家庭中痛苦无奈地挣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极度绝望中扭曲了灵魂堕落成走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文本框 14339"/>
          <p:cNvSpPr/>
          <p:nvPr/>
        </p:nvSpPr>
        <p:spPr>
          <a:xfrm>
            <a:off x="395280" y="907920"/>
            <a:ext cx="8496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请结合小说内容简单介绍《骆驼祥子》在语言表达上有哪些特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京味、幽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片断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5490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嗨！”她（虎妞）往前凑了一步，声音不高的说：“别楞着！去，把车放下，赶紧回来，有话跟你说。屋里见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平日帮她办惯了事，他（祥子）只好服从。但是今天她和往日不同，他很想要思索一下；楞在那里去想，又怪僵得慌；他没主意，把车拉了进去。看看南屋，没有灯光，大概是都睡了；或者还有没收车的。把车放好，他折回到她的门前。忽然，他的心跳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“进来呀，有话跟你说！”她探出头来，半笑半恼的说。他慢慢走了进去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桌上有几个还不甚熟的白梨，皮儿还发青。一把酒壶，三个白磁酒盅。一个头号大盘子，摆着半只酱鸡，和些熏肝酱肚之类的吃食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14760" y="-9360"/>
            <a:ext cx="9132840" cy="679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-14760" y="-9360"/>
            <a:ext cx="9132840" cy="67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瞧，”虎姑娘指给他一个椅子，看他坐下了，才说：“你瞧，我今天吃犒劳，你也吃点！”说着，她给他斟上一杯酒；白干酒的辣味，混合上熏酱肉味，显着特别的浓厚沉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喝吧，吃了这个鸡；我已早吃过了，不必让！我刚才用骨牌打了一卦，准知道你回来，灵不灵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不喝酒！”祥子看着酒盅出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不喝就滚出去；好心好意，不领情是怎着？你个傻骆驼！辣不死你！连我还能喝四两呢。不信，你看看！”她把酒盅端起来，灌了多半盅，一闭眼，哈了一声。举着盅儿：“你喝！要不我揪耳朵灌你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文本框 29697"/>
          <p:cNvSpPr/>
          <p:nvPr/>
        </p:nvSpPr>
        <p:spPr>
          <a:xfrm>
            <a:off x="2780280" y="11253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骆驼祥子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主要情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用了整整三年的时间，凑足了一百块钱，他认为不能再等了，应该及早买车。恰巧车铺有辆别人定做而没钱取货的车，经过讨价还价，祥子最终以九十六元买下了这辆车。祥子拥有了真正属于自己的车，非常激动，把买车的这天定为自己和车的生日，他要开始全新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30722"/>
          <p:cNvSpPr/>
          <p:nvPr/>
        </p:nvSpPr>
        <p:spPr>
          <a:xfrm>
            <a:off x="3420000" y="333360"/>
            <a:ext cx="32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 祥子的第一辆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匪兵抢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阀混战，百姓也不得安宁。一天，有人要去清华，祥子心里清楚去那里风险很大，但因为客人出的价钱高，他和一个年轻光头的矮子抱着侥幸的心理揽下了这桩生意。结果还没到目的地，他们被十几个兵捉了去，祥子的衣服鞋帽、洋车、甚至于系腰的布带，都被匪兵抢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祥子绰号的来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趁匪兵退却时，逃了出来，并牵回了三匹骆驼，他在路上把骆驼卖了，换回了三十五元钱。祥子生了一场大病，在一家小店里躺了三天。恐怕就是在这三天里，他与三匹骆驼的关系由梦话或胡话被人家听了去。一清醒过来，他已经是“骆驼祥子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怒辞杨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在杨先生家拉包月。杨先生有两位太太，还有一大群孩子。祥子每天接送完这个，又要去伺候那个，同时还要干杂活。更可恨的是，主人不把仆人当人看，食宿很差。祥子有一天在送走一位女客人后，因为女主人的无理，忍无可忍，一怒之下，辞去了这份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祥子的失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天气寒冷，曹先生同朋友去看夜场电影，祥子以及一些拉包月的车夫在一家茶馆喝茶聊天。这时，进来一位老车夫，说“沏一壶”，茶还没沏来，人已倒下了。大家把他救活，了解到他的家境。老车夫和他的孙儿小马儿拥有自己的车，命运却这样悲惨，祥子异常悲观，似乎看到了自己的将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749160" y="974880"/>
            <a:ext cx="2243160" cy="3054240"/>
          </a:xfrm>
          <a:prstGeom prst="rect">
            <a:avLst/>
          </a:prstGeom>
          <a:ln w="0">
            <a:noFill/>
          </a:ln>
        </p:spPr>
      </p:pic>
      <p:sp>
        <p:nvSpPr>
          <p:cNvPr id="475" name="矩形 1"/>
          <p:cNvSpPr/>
          <p:nvPr/>
        </p:nvSpPr>
        <p:spPr>
          <a:xfrm>
            <a:off x="3378240" y="44280"/>
            <a:ext cx="4865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(1899—1966)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著名作家、人民艺术家、杰出的语言大师。原名舒庆春，字舍予。满族。生于北京一个贫民家庭，父早丧，由母亲抚养成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他曾考上北京师范学校，毕业后任小学校长，“五四”爆发后他辞去待遇优厚的职位，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年赴英国伦敦任教，并在异国开始了文学创作，回国后决定“以文学为终生职业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孙侦探的敲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和雇主曹先生被孙侦探跟踪。曹先生叫祥子拉到左宅，并派祥子回家报信。在曹先生家门口，孙侦探拉住祥子，说曹先生是乱党，同时对祥子威胁恐吓。祥子六神无主，稀里糊涂把自己积攒准备买车的血汗钱交给了孙侦探，他的希望破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在烈日和暴雨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月十五那天，先是烈日当空，晒得人喘不过气来；午后狂风大作，暴雨倾盆。在这冰火两重天里，祥子没有闲着，还在拉着车，他终于病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感受经典名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3"/>
          <p:cNvSpPr/>
          <p:nvPr/>
        </p:nvSpPr>
        <p:spPr>
          <a:xfrm>
            <a:off x="3708360" y="1012680"/>
            <a:ext cx="482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是公认的语言大师。他创造性地运用北京市民的口语，“把顶平凡的话调动得生动有力”，给通俗朴素的文字又增添了“亲切，新鲜、恰当、活泼的味儿”，使人一读就能感受小说的地方特色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8" descr=""/>
          <p:cNvPicPr/>
          <p:nvPr/>
        </p:nvPicPr>
        <p:blipFill>
          <a:blip r:embed="rId1"/>
          <a:stretch/>
        </p:blipFill>
        <p:spPr>
          <a:xfrm>
            <a:off x="1000080" y="895320"/>
            <a:ext cx="26812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3080" y="36792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500" spc="-1" strike="noStrike">
              <a:solidFill>
                <a:srgbClr val="ff0000"/>
              </a:solidFill>
              <a:latin typeface="Arial"/>
              <a:ea typeface="黑体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248040" y="1844280"/>
            <a:ext cx="90457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非常熟悉社会底层的市民生活，喜欢流传于市井巷里的民间艺术，这种生活阅历也促成了他日后创作的平民化和“京味”（用北京方言书写北京的风土人情）小说的形成。他的代表作有著名小说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骆驼祥子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四世同堂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分别被拍成电影和电视剧。同时，老舍还是一位出色的话剧家。代表作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茶馆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龙须沟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等。除此之外，还有许多优秀作品。老舍堪称是我国文学史上的一位巨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17411" descr="u=4052797344,101899659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32400" y="198360"/>
            <a:ext cx="3608280" cy="164628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17412" descr="u=3205116566,2420836675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198360"/>
            <a:ext cx="15955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7171" descr="20076202569379"/>
          <p:cNvPicPr/>
          <p:nvPr/>
        </p:nvPicPr>
        <p:blipFill>
          <a:blip r:embed="rId1"/>
          <a:stretch/>
        </p:blipFill>
        <p:spPr>
          <a:xfrm>
            <a:off x="4108320" y="0"/>
            <a:ext cx="503568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7172" descr="20061008120852383"/>
          <p:cNvPicPr/>
          <p:nvPr/>
        </p:nvPicPr>
        <p:blipFill>
          <a:blip r:embed="rId2"/>
          <a:stretch/>
        </p:blipFill>
        <p:spPr>
          <a:xfrm>
            <a:off x="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8197" descr="photo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8198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夏天   左起：舒济  舒雨  老舍 舒立 舒乙 胡絜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标题 31747" descr="老舍最后的照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文本框 31749"/>
          <p:cNvSpPr/>
          <p:nvPr/>
        </p:nvSpPr>
        <p:spPr>
          <a:xfrm>
            <a:off x="7395480" y="121932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老舍最后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14:00Z</dcterms:created>
  <dc:creator>Administrator</dc:creator>
  <dc:description/>
  <dc:language>en-US</dc:language>
  <cp:lastModifiedBy>teacher</cp:lastModifiedBy>
  <dcterms:modified xsi:type="dcterms:W3CDTF">2019-03-14T07:17:37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