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051-A802-481A-A714-FC5B698A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559-AA11-432D-8CA5-5AEF9A7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53DA8-3B62-41C1-9475-C88200DF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CF58D-4CDC-4C2C-B0DA-27BFF348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5803A-5275-46DA-BE63-330AF98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A0E28-28B2-4E6E-88D1-88609F00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9084F-A889-4C92-A307-8E977E34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72571-8434-4570-A2EB-195C1446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ED3E3-DAEB-4C6C-88CD-A3C5C519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69DE2-8518-4685-BB11-97759BE0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55F1F-9402-49F5-A8DE-D4A370A2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4EB14-B776-4B07-B840-87719315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EC5-75E9-4533-A2B8-2B12104A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035ED-2144-4256-BA17-7F37D8CF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C408D-7A32-41CA-87D4-A1150D8F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0CFF3-B74B-468D-BEDD-C1040671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0BFB2-76ED-432E-8089-DAF6F413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BF1E0-C1AF-4C48-A075-7CB71014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7A2FD-E4CA-4913-9D0C-49596B9D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2ECFA-AB52-4EE0-A9A9-02D895CD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10785-33CD-4FAB-91BA-E0CA6157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BC93E-571D-453E-ABD4-BCFC08DD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9ECD6-C998-4D7A-A30B-BA9079D1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206-B8E5-4ECB-BBC8-4FE01B31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3C517-FB94-4D29-AAB9-9E8F0770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1C6D-FF28-4D89-B66F-C84B003B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533B6-9206-4673-AD49-A9C6767C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36F99-4A9B-42DF-B570-6ACF0213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7025B-DD6F-4C41-B6C2-DE36B851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8AF0A-2BC7-446F-8541-3722B7BB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1CDFE-9221-4BD6-90D0-CAEF747F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4A8E0-8F46-44A8-9352-B1C09CB1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04DC7-60FC-4709-A364-11F4F5B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60B69-D05B-407D-AD80-3CCEB456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7D9E-54CD-46C2-BF9A-4B369D0D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13866-FA2D-4583-A011-016DE09B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5B250-98A3-4B49-9FB1-867C640C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5F48E-C406-4596-8DB2-9E40B6A7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41EAF-3752-4870-8545-24FFCC73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36EB2-9062-4002-AC58-66FD8FE7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1A90F-E439-4DCE-B9B8-94CE81AA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26F3D-E61D-454C-B4EC-2E89DF92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EFE49-A815-4F25-A295-90CCFAD0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CAB1E-8664-4869-8A2F-EE616481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D4BE7-6858-4B46-AFB5-2CDD14CB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F079-8ECA-4CCC-B4F8-AACC44AF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4EFDC-45D8-4EDF-B5B9-965026F8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102E1-D6A2-45E7-9FFC-A22069A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646FB-6276-42EB-A72E-00A5B028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16386-E56C-4BD6-8877-59D1CF2C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7488D-8E1C-4EDF-A3DF-20FE338F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7F0B-EBA0-4A1D-BBE6-C2C9027B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F922-0DFF-4C32-B127-D740AD5B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29F5-86AE-4B16-B088-7C27D1B8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AAEB-AC50-4638-9DE0-DEEB60FC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52CB-1502-45D7-A6AD-C0F62E81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3A1-A47E-44CA-9A3D-3997F385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1B5E-D227-424E-9742-B0C35C4B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8D07-1B61-466A-8D45-1576BDAF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BCE4-19EC-4390-B92A-D66635C2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7CFB-6A80-4C28-A868-E76B3296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051C-B88D-4EC0-AAD3-E62264BE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D32A-03A7-4500-A67B-BAE6A0E2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8F77-B35E-49D1-8509-D32EBC60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07F9-DD41-46AB-8550-52C02CD6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1B4B-06B8-42BA-90B6-9887165D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8E50-CF13-471E-AAFE-AAAF44A5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C86-0B36-4B89-8103-7A4B322C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FD67-328A-4027-9B5A-1F0EE428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3886-B131-48C9-B25E-BFF67CF2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796A1-487A-4569-9E7E-C1CD670F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9767-8C33-4AF4-9D9A-EC3D8DF1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5E38-824F-4820-BA6B-E74AB13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05AE-AB1A-47F8-8F86-BE79EA8B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C621-3BBE-4857-A4F3-57F4A650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CB93-12A1-488A-94ED-3241E1E2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9A1C-5E1B-41F9-8F69-8D22CD08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DC49-8384-456C-8B40-CC2F1043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E08-BD53-4260-9CDC-23AC7E39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0FAF-87AD-4A10-8495-A5A8C49B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85ED-DD12-4392-907E-42953C19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0DB44-0E27-49D6-9598-A968FA5A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F680D-0991-437D-9703-A042E39A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63B1-B3A3-4555-A7E0-16013C3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9450-5209-4985-AC35-A946A4EA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D68D-26D1-4437-9172-401EE0C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A44D-C14E-44C0-88A6-09533E98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349A-28C3-455A-BF61-61C3BC02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99C6-EE17-4EBF-87FF-8207464F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8FD-3A54-4949-AD96-F05CB79E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FEAC4-3190-4AD9-A42A-66B59061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72AE-6AFA-481F-84AB-25AF28A1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06DB8-3745-417B-82ED-2A06C99D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D7FEC-55AF-4A7C-B1B4-5867193F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75DB8-01EB-4312-9EC6-59DF1679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69A9-B480-4265-B4A9-94212F8D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8D31A-113B-4019-9A22-296EDB3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EC0A7-2C56-4290-B448-21268CCB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397C6-FE6D-4186-8A68-5BE12401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40C35-B6BD-4945-90F0-A468869E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838-9804-4E95-852C-4580DCD4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E8CE3-8A3E-4AD6-BA1F-25C4BFB5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2BE1E-E4E9-4CD4-9E43-494B2834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93280-95CB-4567-BAE5-0519A23D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2A25D-8C95-4B52-80BE-BB067FDD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6290-59A1-41A8-99C0-22F75D12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63E5-6B31-4017-A63C-910311B7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FE4AD-D341-47DC-8C9E-54D96294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6581-DBE0-464A-B220-852C4D9C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05F9A-1267-4C4A-949C-0769915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875AF-884D-456C-87A0-979AB134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166-4AF3-4738-8E9C-4BAF86A8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202F-4CEF-4C6F-A944-67734BF6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EB57-1C00-4E36-AB8F-8811BDFD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CFFBB-FEA1-4E2F-A514-EC0D0599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F5308-AC12-4E29-BFA4-2923E590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2424D-7D50-4D2F-BC39-C416C1F5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93220-2CA4-45A9-872F-92E8385E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405CB-3B9A-4492-AA13-FE2C7223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0B3B-95BB-44B0-A7BE-0D0E3419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D0C2F-A566-410B-9911-65B0D0EC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DB195-4B1C-4F7F-AAA8-F422B03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CA8-2EF9-4AFB-BC62-3F789EF6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8A018-09B9-4F74-9F6D-5A6C769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93F59-7AD9-43A1-86E9-930937CA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E8A12-A71A-4223-985B-9E78D258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AD33E-A65F-4E76-9929-C2A2617A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B619E-66D6-4E53-82D4-174244AF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08656-D52D-493C-A802-B4EA88CE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23447-060A-4A76-AA31-9801AFFA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E3766-1F61-4713-B2BE-61FC4914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F6FB3-2AAA-4674-AFDB-C9937B87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F618E-310E-4083-80E9-76F1DEEB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E39-0824-4BCE-8AEB-26CA1C27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1E9C7-0F9A-483F-A64D-950EB560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627C6-A1B5-452B-96F4-D77D16F9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8F690-F539-46B1-8E70-9E6DA95C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55A57-3963-429E-A9CD-E5F04268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7B2EA-4476-4B8A-B0FA-27F748F0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04623-979A-4EB4-BD48-C5576E71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1D792-17AE-4E7E-BFB3-B2F67F45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2EF37-D00D-4C42-B215-A0802E5B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65DD7-DBEE-441C-BE06-DC395957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2FF64-326A-4DEE-BDD7-312FE1F5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EBAF-703C-4B68-9FB1-F3A8573614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F240-2E9A-4CC7-AB41-60DEC4061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F664-2117-4AE1-B423-1F2C7522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1444-FE8C-4F2B-8998-27418AA05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C171-0AEB-48D1-BA05-F48EAFFBB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6346-6074-439C-9F65-E0B65F97E9D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29FC-3FA8-4CC6-931A-03268A8AB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BE6F-264C-40B2-B41C-4BF30F39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E931-342E-4C5A-AB06-0EF91ABC2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8CB1-5718-4850-A686-11F53C140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869F-F363-4742-9B83-E5D59E79B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5F7-0AAC-430D-973F-BCE7A6523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1CB4-8731-4401-AD15-B3B0B30D5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C109-29E1-4142-B981-36B02F9FB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27995200&amp;tn=baiduimagedetail&amp;word=&#32769;&#33293;&amp;in=5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368240851&amp;tn=baiduimagedetail&amp;word=&#32769;&#33293;&amp;in=6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文本占位符 6147" descr="老舍《骆驼祥子》剧照"/>
          <p:cNvPicPr/>
          <p:nvPr/>
        </p:nvPicPr>
        <p:blipFill>
          <a:blip r:embed="rId1"/>
          <a:stretch/>
        </p:blipFill>
        <p:spPr>
          <a:xfrm>
            <a:off x="0" y="19080"/>
            <a:ext cx="9142560" cy="681984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3"/>
          <p:cNvSpPr/>
          <p:nvPr/>
        </p:nvSpPr>
        <p:spPr>
          <a:xfrm>
            <a:off x="2554200" y="141912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4"/>
          <p:cNvSpPr/>
          <p:nvPr/>
        </p:nvSpPr>
        <p:spPr>
          <a:xfrm>
            <a:off x="0" y="214308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名著阅读 《骆驼祥子》</a:t>
            </a:r>
            <a:br>
              <a:rPr sz="6600"/>
            </a:b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——圈点与批注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图片 18435" descr="e3abc1c5512b7ea3e925291b40c7ec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文本框 18436"/>
          <p:cNvSpPr/>
          <p:nvPr/>
        </p:nvSpPr>
        <p:spPr>
          <a:xfrm>
            <a:off x="0" y="533412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北京丰富胡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号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丹柿小园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 19459" descr="0c384b434c094aa5e73ba65477d432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0483" descr="b589db3a0b53340b9ecef72e433a1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21507" descr="img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-360" y="29880"/>
            <a:ext cx="91407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推出的代表作《骆驼祥子》是老舍最有代表性的作品，也是现代长篇小说的一部杰作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18434" descr="老舍《骆驼祥子》海报"/>
          <p:cNvPicPr/>
          <p:nvPr/>
        </p:nvPicPr>
        <p:blipFill>
          <a:blip r:embed="rId1"/>
          <a:stretch/>
        </p:blipFill>
        <p:spPr>
          <a:xfrm>
            <a:off x="5935680" y="1590840"/>
            <a:ext cx="2921040" cy="421308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18435" descr="老舍《骆驼祥子》剧照"/>
          <p:cNvPicPr/>
          <p:nvPr/>
        </p:nvPicPr>
        <p:blipFill>
          <a:blip r:embed="rId2"/>
          <a:stretch/>
        </p:blipFill>
        <p:spPr>
          <a:xfrm>
            <a:off x="914400" y="2286000"/>
            <a:ext cx="4724280" cy="3228840"/>
          </a:xfrm>
          <a:prstGeom prst="rect">
            <a:avLst/>
          </a:prstGeom>
          <a:ln w="0">
            <a:noFill/>
          </a:ln>
        </p:spPr>
      </p:pic>
      <p:sp>
        <p:nvSpPr>
          <p:cNvPr id="538" name="文本框 18436"/>
          <p:cNvSpPr/>
          <p:nvPr/>
        </p:nvSpPr>
        <p:spPr>
          <a:xfrm>
            <a:off x="0" y="5803920"/>
            <a:ext cx="91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骆驼祥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剧照；右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骆驼祥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影海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文本框 13315"/>
          <p:cNvSpPr/>
          <p:nvPr/>
        </p:nvSpPr>
        <p:spPr>
          <a:xfrm>
            <a:off x="-34920" y="189000"/>
            <a:ext cx="917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请结合《骆驼祥子》的背景，总结小说的思想主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 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-30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年代正是中国现代史上最黑暗、最混乱的多灾多难的年代。新旧军阀不断的争权夺势的混战，再加上各种自然灾害的横行，使得中国农村迅速走向破产。而成批破产的农民，为了谋求生路便纷纷涌入城市。祥子就是这些涌入城市的破产农民中的一个典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 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小说主要讲述了人力车夫祥子人生中三起三落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由人堕落为“兽”的悲惨遭遇，表达了作者对当时黑暗社会的批判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对像祥子一样社会最底层的劳动者苦难命运的同情和关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10243"/>
          <p:cNvSpPr/>
          <p:nvPr/>
        </p:nvSpPr>
        <p:spPr>
          <a:xfrm>
            <a:off x="539640" y="76500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请问小说的题目“骆驼祥子”主要包含哪些含义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0244"/>
          <p:cNvSpPr/>
          <p:nvPr/>
        </p:nvSpPr>
        <p:spPr>
          <a:xfrm>
            <a:off x="395280" y="2565360"/>
            <a:ext cx="8137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以“骆驼祥子”来命名有三层含义：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点明小说的主人公——祥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概括著作的一个主要情节——骆驼祥子称号的得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揭示主人公的性格——像骆驼一样吃苦耐劳、沉默憨厚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文本框 11267"/>
          <p:cNvSpPr/>
          <p:nvPr/>
        </p:nvSpPr>
        <p:spPr>
          <a:xfrm>
            <a:off x="539640" y="62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请简单介绍小说围绕祥子主要讲述了哪些故事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1268"/>
          <p:cNvSpPr/>
          <p:nvPr/>
        </p:nvSpPr>
        <p:spPr>
          <a:xfrm>
            <a:off x="395280" y="2060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三起三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奋斗三年挣钱买了车→被十几个大兵抢了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卖骆驼又攒了买车钱→被孙侦探抢了买车钱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结婚后靠虎妞买了车→最后下葬虎妞卖了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文本框 3075"/>
          <p:cNvSpPr/>
          <p:nvPr/>
        </p:nvSpPr>
        <p:spPr>
          <a:xfrm>
            <a:off x="49320" y="880920"/>
            <a:ext cx="8785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一流车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： 祥子十八岁带着乡下的足壮与诚实来到北平，成了当时一流的人力车夫。他立志要买一辆属于自己的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祥子买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：经过三年努力，祥子终于凑足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块钱。他马上用其中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块钱买上了自己的新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文本框 1" descr=""/>
          <p:cNvPicPr/>
          <p:nvPr/>
        </p:nvPicPr>
        <p:blipFill>
          <a:blip r:embed="rId1"/>
          <a:stretch/>
        </p:blipFill>
        <p:spPr>
          <a:xfrm>
            <a:off x="2593800" y="328680"/>
            <a:ext cx="3778560" cy="7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文本框 1"/>
          <p:cNvSpPr/>
          <p:nvPr/>
        </p:nvSpPr>
        <p:spPr>
          <a:xfrm>
            <a:off x="38160" y="55440"/>
            <a:ext cx="908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丢车与卖骆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：不到半年，军阀乱兵就抢走了祥子的车并让他做苦力。后来祥子逃出来并顺手牵走了部队丢下的三匹骆驼，用它们换了三十五块钱回到了北平。由于在梦话中透露了自己的经历，从此人们开始叫他“骆驼祥子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  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在虎妞的威逼利诱下，他只好再一次回到了人和车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第一课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了解作者、作品以及创作背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掌握作品的基本情节及其主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4099"/>
          <p:cNvSpPr/>
          <p:nvPr/>
        </p:nvSpPr>
        <p:spPr>
          <a:xfrm>
            <a:off x="250920" y="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二次奋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：祥子回到了人和车厂，老板刘四爷家三十七八岁的闺女虎妞十分喜欢祥子。祥子租了他家的一辆车，又开始为自己第二次买车而没命的赚钱。后来在杨宅拉车，整天紧得发昏，受不了折磨后又回到了人和车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被敲钱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回来受到虎妞的诱惑，为躲避虎妞，祥子到曹先生家拉包月。而曹先生因为学生阮明陷害，被迫离开北平。也是因为这件事，祥子被孙侦探勒索，积蓄一空。在虎妞的威逼利诱下，他只好再一次回到了人和车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5123"/>
          <p:cNvSpPr/>
          <p:nvPr/>
        </p:nvSpPr>
        <p:spPr>
          <a:xfrm>
            <a:off x="324000" y="40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被迫结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祥子认了命，只好把自己交给刘家父女了。可刘四爷并不肯“便宜了这个臭拉车的”招他做女婿。于是刘四爷在与虎妞激烈争吵后，把女儿也一同赶出家门。虎妞靠着自己的私房钱与祥子在一个大杂院里租房完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再次买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：和虎妞结婚，进而忍受家庭生活的牵系与精神上的痛苦。虎妞终于拗不过祥子，为祥子买了一辆二手车，可是祥子想做一流车夫的信心已被不愉快的婚姻生活所磨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文本框 6148"/>
          <p:cNvSpPr/>
          <p:nvPr/>
        </p:nvSpPr>
        <p:spPr>
          <a:xfrm>
            <a:off x="250920" y="17460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妻死卖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虎妞因为难产而死。祥子为了办丧事，无奈又卖了洋车。同时因为生活的压力，又拒绝了心爱的小福子再次和祥子组建家庭的请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彻底堕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：虎妞去世后，祥子对拥有一辆自己的车已经失去信心。特别是在小福子吊死以后，祥子对生活的最后一线希望也破灭了。从此，祥子憎恨任何人。他染上了恶习，吃喝嫖赌。拉车不勤快，干脆不拉车。他开始骗钱，借钱不还，甚至为钱出卖人命，彻底堕落成一具行尸走肉，由“人”变成了“兽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60" y="876240"/>
            <a:ext cx="61801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一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丰富的思想意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920" y="1514520"/>
            <a:ext cx="912816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思想意蕴极为丰富，我们可以从不同的视角用不同阐释方法去解读。从社会学视角读，小说控诉的是当时吃人社会的黑暗不公；从文化学视角读，小说揭露了城市文明对人性的腐蚀与毒化；从哲学视角读，小说又在深深地慨叹人类逃不开命运的拨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1486080" y="6660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思想艺术价值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二）真实反映旧中国城市底层市民的苦难生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24000" y="1752120"/>
            <a:ext cx="84960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描写城市贫民悲剧命运的代表作，作品真实反映了旧中国城市底层市民的苦难生活，揭示了一个破产了的农民如何市民化，又如何被社会抛入流氓无产者行列的过程，以及这一过程中所经历的精神毁灭的悲剧。就作品描写的生活情状及主要人物的典型性而言，这部作品的确有助于人们认识二三十年代中国城市社会的黑暗图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艺术特色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97920" y="96948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“京味”特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取材：丰富的北京生活经验，写大小杂院，四合院和胡同，写市民凡俗生活中所呈现的场景风致，提供了丰富多彩的北京画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语言艺术：运用北京市民俗白浅易的口语，成功地把语言的通俗性与文学性统一起来，做到了干净利落，鲜活纯熟，平易而不粗俗，精制而不雕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-152640" y="480600"/>
            <a:ext cx="8893080" cy="64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（二）采用传统小说的单线索结构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　　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围绕祥子希望－－奋斗－－绝望直到堕落（三起三落）这条生活道路的主线，安排事件，展开情节，并引出其他人物，单线严谨，不枝不蔓，既充分展示了祥子性格发展变化的轨迹，又深刻揭示祥子与其所处的广阔而复杂的社会环境之间的密切联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文本框 7171"/>
          <p:cNvSpPr/>
          <p:nvPr/>
        </p:nvSpPr>
        <p:spPr>
          <a:xfrm>
            <a:off x="179280" y="2919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下面请你根据作品中不同人物的简介，猜一猜他们分别是哪一位重要的人物形象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7172"/>
          <p:cNvSpPr/>
          <p:nvPr/>
        </p:nvSpPr>
        <p:spPr>
          <a:xfrm>
            <a:off x="179280" y="184464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他二十来岁的人，个子很大很高。圆眼，肉鼻子，两条眉很短很粗，头上永远剃得发亮。腮上没有多余的肉，脖子可是几乎与头一边儿粗；脸上永远红扑扑的，特别亮的是颧骨与右耳之间一块不小的疤——小时侯在树下睡觉，被驴啃了一口。他以拉洋车为生，他最大的希望就是能够挣钱买到属于自己的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7173"/>
          <p:cNvSpPr/>
          <p:nvPr/>
        </p:nvSpPr>
        <p:spPr>
          <a:xfrm>
            <a:off x="1778040" y="5686560"/>
            <a:ext cx="22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PMingLiU"/>
              </a:rPr>
              <a:t>祥子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文本框 8195"/>
          <p:cNvSpPr/>
          <p:nvPr/>
        </p:nvSpPr>
        <p:spPr>
          <a:xfrm>
            <a:off x="1187280" y="98100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96"/>
          <p:cNvSpPr/>
          <p:nvPr/>
        </p:nvSpPr>
        <p:spPr>
          <a:xfrm>
            <a:off x="0" y="765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她是一个三十七八岁的虎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虎头虎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一对虎牙，长的像个大黑塔。帮助父亲办事是把好手，可是没人敢娶她做太太。她霸道泼辣，心理变态，却有着自己的苦闷和追求幸福的愿望。她敢作敢为，甚至为了和祥子结婚不惜与有钱的父亲——人和车厂的主人刘四爷决裂。她可鄙而又可怜的命运让人感叹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197"/>
          <p:cNvSpPr/>
          <p:nvPr/>
        </p:nvSpPr>
        <p:spPr>
          <a:xfrm>
            <a:off x="2044800" y="4724280"/>
            <a:ext cx="29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虎妞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文本框 9219"/>
          <p:cNvSpPr/>
          <p:nvPr/>
        </p:nvSpPr>
        <p:spPr>
          <a:xfrm>
            <a:off x="395280" y="333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她十九岁，圆脸，眉眼长得很匀调，没有什么特别出色的地方，可是结结实实并不难看。上唇很短，无论是要生气，还是要笑，就先张了唇，露出些很白而齐整的牙来。她年轻，她要强，她勤俭。她为家庭牺牲了一切，但也有着对自己幸福生活的追求。假若祥子想再娶，她是个理想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9220"/>
          <p:cNvSpPr/>
          <p:nvPr/>
        </p:nvSpPr>
        <p:spPr>
          <a:xfrm>
            <a:off x="2298600" y="556416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小福子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图片 16385" descr="0318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29160" y="1521000"/>
            <a:ext cx="36576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498" name="组合 16386"/>
          <p:cNvGrpSpPr/>
          <p:nvPr/>
        </p:nvGrpSpPr>
        <p:grpSpPr>
          <a:xfrm>
            <a:off x="1893960" y="2395440"/>
            <a:ext cx="5357880" cy="2027160"/>
            <a:chOff x="1893960" y="2395440"/>
            <a:chExt cx="5357880" cy="2027160"/>
          </a:xfrm>
        </p:grpSpPr>
        <p:sp>
          <p:nvSpPr>
            <p:cNvPr id="499" name="矩形 16387"/>
            <p:cNvSpPr/>
            <p:nvPr/>
          </p:nvSpPr>
          <p:spPr>
            <a:xfrm>
              <a:off x="1893960" y="239544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6388"/>
            <p:cNvSpPr/>
            <p:nvPr/>
          </p:nvSpPr>
          <p:spPr>
            <a:xfrm>
              <a:off x="1893960" y="2395440"/>
              <a:ext cx="535788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矩形 16389"/>
          <p:cNvSpPr/>
          <p:nvPr/>
        </p:nvSpPr>
        <p:spPr>
          <a:xfrm>
            <a:off x="3684600" y="2441520"/>
            <a:ext cx="1496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16390"/>
          <p:cNvGrpSpPr/>
          <p:nvPr/>
        </p:nvGrpSpPr>
        <p:grpSpPr>
          <a:xfrm>
            <a:off x="1893960" y="2395440"/>
            <a:ext cx="5357880" cy="2027160"/>
            <a:chOff x="1893960" y="2395440"/>
            <a:chExt cx="5357880" cy="2027160"/>
          </a:xfrm>
        </p:grpSpPr>
        <p:sp>
          <p:nvSpPr>
            <p:cNvPr id="503" name="矩形 16391"/>
            <p:cNvSpPr/>
            <p:nvPr/>
          </p:nvSpPr>
          <p:spPr>
            <a:xfrm>
              <a:off x="1893960" y="2395440"/>
              <a:ext cx="5357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16392"/>
            <p:cNvSpPr/>
            <p:nvPr/>
          </p:nvSpPr>
          <p:spPr>
            <a:xfrm>
              <a:off x="1893960" y="2395440"/>
              <a:ext cx="535788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矩形 16393"/>
          <p:cNvSpPr/>
          <p:nvPr/>
        </p:nvSpPr>
        <p:spPr>
          <a:xfrm>
            <a:off x="3684600" y="2441520"/>
            <a:ext cx="1496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6394"/>
          <p:cNvSpPr/>
          <p:nvPr/>
        </p:nvSpPr>
        <p:spPr>
          <a:xfrm>
            <a:off x="3668760" y="3116160"/>
            <a:ext cx="17604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16395"/>
          <p:cNvSpPr/>
          <p:nvPr/>
        </p:nvSpPr>
        <p:spPr>
          <a:xfrm>
            <a:off x="3684600" y="2441520"/>
            <a:ext cx="1496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16396" descr="wri07"/>
          <p:cNvPicPr/>
          <p:nvPr/>
        </p:nvPicPr>
        <p:blipFill>
          <a:blip r:embed="rId2"/>
          <a:stretch/>
        </p:blipFill>
        <p:spPr>
          <a:xfrm>
            <a:off x="2743200" y="0"/>
            <a:ext cx="2057400" cy="281952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16397" descr="lan8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49520" y="1521000"/>
            <a:ext cx="2274840" cy="1382400"/>
          </a:xfrm>
          <a:prstGeom prst="rect">
            <a:avLst/>
          </a:prstGeom>
          <a:ln w="0">
            <a:noFill/>
          </a:ln>
        </p:spPr>
      </p:pic>
      <p:grpSp>
        <p:nvGrpSpPr>
          <p:cNvPr id="510" name="组合 16398"/>
          <p:cNvGrpSpPr/>
          <p:nvPr/>
        </p:nvGrpSpPr>
        <p:grpSpPr>
          <a:xfrm>
            <a:off x="179280" y="3068640"/>
            <a:ext cx="4753080" cy="3571920"/>
            <a:chOff x="179280" y="3068640"/>
            <a:chExt cx="4753080" cy="3571920"/>
          </a:xfrm>
        </p:grpSpPr>
        <p:sp>
          <p:nvSpPr>
            <p:cNvPr id="511" name="矩形 16399"/>
            <p:cNvSpPr/>
            <p:nvPr/>
          </p:nvSpPr>
          <p:spPr>
            <a:xfrm>
              <a:off x="179280" y="3068640"/>
              <a:ext cx="347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16400"/>
            <p:cNvSpPr/>
            <p:nvPr/>
          </p:nvSpPr>
          <p:spPr>
            <a:xfrm>
              <a:off x="179280" y="3068640"/>
              <a:ext cx="4753080" cy="357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个最多产的作家：著述洋洋千万言 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个最全面的作家：小说、散文、诗歌、戏剧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个最有味道的作家：执京味小说之牛耳 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个敢于面对死亡并且一定能够在死亡的黑洞中透析生命的作家 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一个被国际文坛久久关注并不断被神话的作家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图片 16401" descr="lao1"/>
          <p:cNvPicPr/>
          <p:nvPr/>
        </p:nvPicPr>
        <p:blipFill>
          <a:blip r:embed="rId5"/>
          <a:stretch/>
        </p:blipFill>
        <p:spPr>
          <a:xfrm>
            <a:off x="5292720" y="133200"/>
            <a:ext cx="2895480" cy="1295640"/>
          </a:xfrm>
          <a:prstGeom prst="rect">
            <a:avLst/>
          </a:prstGeom>
          <a:ln w="0">
            <a:noFill/>
          </a:ln>
        </p:spPr>
      </p:pic>
      <p:sp>
        <p:nvSpPr>
          <p:cNvPr id="514" name="动作按钮: 信息 16403">
            <a:hlinkClick r:id="" action="ppaction://hlinkshowjump?jump=last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文本框 12291"/>
          <p:cNvSpPr/>
          <p:nvPr/>
        </p:nvSpPr>
        <p:spPr>
          <a:xfrm>
            <a:off x="684360" y="26028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试结合祥子的相关事例分析其形象性格前后有着怎样的变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由人变“兽”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人生道路上的三部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在自食其力的劳动中充满自信与好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在畸形结合的家庭中痛苦无奈地挣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）在极度绝望中扭曲了灵魂堕落成走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14339"/>
          <p:cNvSpPr/>
          <p:nvPr/>
        </p:nvSpPr>
        <p:spPr>
          <a:xfrm>
            <a:off x="395280" y="907920"/>
            <a:ext cx="8496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请结合小说内容简单介绍《骆驼祥子》在语言表达上有哪些特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京味、幽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1280" y="-171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片断欣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54900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嗨！”她（虎妞）往前凑了一步，声音不高的说：“别楞着！去，把车放下，赶紧回来，有话跟你说。屋里见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平日帮她办惯了事，他（祥子）只好服从。但是今天她和往日不同，他很想要思索一下；楞在那里去想，又怪僵得慌；他没主意，把车拉了进去。看看南屋，没有灯光，大概是都睡了；或者还有没收车的。把车放好，他折回到她的门前。忽然，他的心跳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“进来呀，有话跟你说！”她探出头来，半笑半恼的说。他慢慢走了进去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桌上有几个还不甚熟的白梨，皮儿还发青。一把酒壶，三个白磁酒盅。一个头号大盘子，摆着半只酱鸡，和些熏肝酱肚之类的吃食。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-14760" y="-9360"/>
            <a:ext cx="9132840" cy="67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-14760" y="-9360"/>
            <a:ext cx="9132840" cy="67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瞧，”虎姑娘指给他一个椅子，看他坐下了，才说：“你瞧，我今天吃犒劳，你也吃点！”说着，她给他斟上一杯酒；白干酒的辣味，混合上熏酱肉味，显着特别的浓厚沉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喝吧，吃了这个鸡；我已早吃过了，不必让！我刚才用骨牌打了一卦，准知道你回来，灵不灵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不喝酒！”祥子看着酒盅出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不喝就滚出去；好心好意，不领情是怎着？你个傻骆驼！辣不死你！连我还能喝四两呢。不信，你看看！”她把酒盅端起来，灌了多半盅，一闭眼，哈了一声。举着盅儿：“你喝！要不我揪耳朵灌你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文本框 29697"/>
          <p:cNvSpPr/>
          <p:nvPr/>
        </p:nvSpPr>
        <p:spPr>
          <a:xfrm>
            <a:off x="2780280" y="11253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骆驼祥子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主要情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子用了整整三年的时间，凑足了一百块钱，他认为不能再等了，应该及早买车。恰巧车铺有辆别人定做而没钱取货的车，经过讨价还价，祥子最终以九十六元买下了这辆车。祥子拥有了真正属于自己的车，非常激动，把买车的这天定为自己和车的生日，他要开始全新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30722"/>
          <p:cNvSpPr/>
          <p:nvPr/>
        </p:nvSpPr>
        <p:spPr>
          <a:xfrm>
            <a:off x="3420000" y="333360"/>
            <a:ext cx="32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、 祥子的第一辆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匪兵抢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阀混战，百姓也不得安宁。一天，有人要去清华，祥子心里清楚去那里风险很大，但因为客人出的价钱高，他和一个年轻光头的矮子抱着侥幸的心理揽下了这桩生意。结果还没到目的地，他们被十几个兵捉了去，祥子的衣服鞋帽、洋车、甚至于系腰的布带，都被匪兵抢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祥子绰号的来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子趁匪兵退却时，逃了出来，并牵回了三匹骆驼，他在路上把骆驼卖了，换回了三十五元钱。祥子生了一场大病，在一家小店里躺了三天。恐怕就是在这三天里，他与三匹骆驼的关系由梦话或胡话被人家听了去。一清醒过来，他已经是“骆驼祥子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怒辞杨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子在杨先生家拉包月。杨先生有两位太太，还有一大群孩子。祥子每天接送完这个，又要去伺候那个，同时还要干杂活。更可恨的是，主人不把仆人当人看，食宿很差。祥子有一天在送走一位女客人后，因为女主人的无理，忍无可忍，一怒之下，辞去了这份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祥子的失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天，天气寒冷，曹先生同朋友去看夜场电影，祥子以及一些拉包月的车夫在一家茶馆喝茶聊天。这时，进来一位老车夫，说“沏一壶”，茶还没沏来，人已倒下了。大家把他救活，了解到他的家境。老车夫和他的孙儿小马儿拥有自己的车，命运却这样悲惨，祥子异常悲观，似乎看到了自己的将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233800" cy="3041640"/>
          </a:xfrm>
          <a:prstGeom prst="rect">
            <a:avLst/>
          </a:prstGeom>
          <a:ln w="0">
            <a:noFill/>
          </a:ln>
        </p:spPr>
      </p:pic>
      <p:sp>
        <p:nvSpPr>
          <p:cNvPr id="516" name="矩形 1"/>
          <p:cNvSpPr/>
          <p:nvPr/>
        </p:nvSpPr>
        <p:spPr>
          <a:xfrm>
            <a:off x="3378240" y="44280"/>
            <a:ext cx="4865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老舍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(1899—1966)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著名作家、人民艺术家、杰出的语言大师。原名舒庆春，字舍予。满族。生于北京一个贫民家庭，父早丧，由母亲抚养成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他曾考上北京师范学校，毕业后任小学校长，“五四”爆发后他辞去待遇优厚的职位，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1924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年赴英国伦敦任教，并在异国开始了文学创作，回国后决定“以文学为终生职业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孙侦探的敲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祥子和雇主曹先生被孙侦探跟踪。曹先生叫祥子拉到左宅，并派祥子回家报信。在曹先生家门口，孙侦探拉住祥子，说曹先生是乱党，同时对祥子威胁恐吓。祥子六神无主，稀里糊涂把自己积攒准备买车的血汗钱交给了孙侦探，他的希望破灭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 在烈日和暴雨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月十五那天，先是烈日当空，晒得人喘不过气来；午后狂风大作，暴雨倾盆。在这冰火两重天里，祥子没有闲着，还在拉着车，他终于病倒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感受经典名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3"/>
          <p:cNvSpPr/>
          <p:nvPr/>
        </p:nvSpPr>
        <p:spPr>
          <a:xfrm>
            <a:off x="3708360" y="1012680"/>
            <a:ext cx="482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老舍是公认的语言大师。他创造性地运用北京市民的口语，“把顶平凡的话调动得生动有力”，给通俗朴素的文字又增添了“亲切，新鲜、恰当、活泼的味儿”，使人一读就能感受小说的地方特色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8" descr=""/>
          <p:cNvPicPr/>
          <p:nvPr/>
        </p:nvPicPr>
        <p:blipFill>
          <a:blip r:embed="rId1"/>
          <a:stretch/>
        </p:blipFill>
        <p:spPr>
          <a:xfrm>
            <a:off x="1023840" y="920880"/>
            <a:ext cx="26337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3080" y="367920"/>
            <a:ext cx="7543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500" spc="-1" strike="noStrike">
              <a:solidFill>
                <a:srgbClr val="ff0000"/>
              </a:solidFill>
              <a:latin typeface="Arial"/>
              <a:ea typeface="黑体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248040" y="1844280"/>
            <a:ext cx="90457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老舍非常熟悉社会底层的市民生活，喜欢流传于市井巷里的民间艺术，这种生活阅历也促成了他日后创作的平民化和“京味”（用北京方言书写北京的风土人情）小说的形成。他的代表作有著名小说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骆驼祥子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四世同堂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分别被拍成电影和电视剧。同时，老舍还是一位出色的话剧家。代表作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茶馆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龙须沟</a:t>
            </a:r>
            <a:r>
              <a:rPr b="1" lang="en-US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汉仪菱心体简"/>
                <a:ea typeface="汉仪菱心体简"/>
              </a:rPr>
              <a:t>等。除此之外，还有许多优秀作品。老舍堪称是我国文学史上的一位巨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17411" descr="u=4052797344,101899659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32400" y="198360"/>
            <a:ext cx="3608280" cy="164628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17412" descr="u=3205116566,2420836675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198360"/>
            <a:ext cx="15955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7171" descr="20076202569379"/>
          <p:cNvPicPr/>
          <p:nvPr/>
        </p:nvPicPr>
        <p:blipFill>
          <a:blip r:embed="rId1"/>
          <a:stretch/>
        </p:blipFill>
        <p:spPr>
          <a:xfrm>
            <a:off x="4108320" y="0"/>
            <a:ext cx="503568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7172" descr="20061008120852383"/>
          <p:cNvPicPr/>
          <p:nvPr/>
        </p:nvPicPr>
        <p:blipFill>
          <a:blip r:embed="rId2"/>
          <a:stretch/>
        </p:blipFill>
        <p:spPr>
          <a:xfrm>
            <a:off x="0" y="0"/>
            <a:ext cx="45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8197" descr="photo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文本框 8198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夏天   左起：舒济  舒雨  老舍 舒立 舒乙 胡絜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标题 31747" descr="老舍最后的照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文本框 31749"/>
          <p:cNvSpPr/>
          <p:nvPr/>
        </p:nvSpPr>
        <p:spPr>
          <a:xfrm>
            <a:off x="7395480" y="1219320"/>
            <a:ext cx="1399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老舍最后的照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14:00Z</dcterms:created>
  <dc:creator/>
  <dc:description/>
  <cp:keywords/>
  <dc:language>en-US</dc:language>
  <cp:lastModifiedBy>微软用户</cp:lastModifiedBy>
  <dcterms:modified xsi:type="dcterms:W3CDTF">2018-03-28T14:38:28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