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27.png" ContentType="image/png"/>
  <Override PartName="/ppt/media/chimes.wav" ContentType="audio/x-wav"/>
  <Override PartName="/ppt/media/image16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5.jpeg" ContentType="image/jpeg"/>
  <Override PartName="/ppt/media/image20.wmf" ContentType="image/x-wmf"/>
  <Override PartName="/ppt/media/image21.png" ContentType="image/png"/>
  <Override PartName="/ppt/media/image13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637-619D-4581-84FB-66EBF5F9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88E-B091-4259-8C0E-F256BF11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B98E-2638-49E6-B42F-88D4EE8D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C05-A72D-4EE9-AF7F-BFE67B4D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966-F6A1-4B6C-9C9C-ED88E88B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1CD-3E18-40D5-9493-6F576A89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E9A-74D6-41B1-A070-CAD4CC80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C8E-B0BB-4644-987D-CCF1B481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058-DE5C-430B-BEC1-3BE3CD0B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191-AC97-4841-8E54-127F723D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110-9F43-4F0D-BD63-6BE0C331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E0A-B747-4BB5-9A10-E48D9A6C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8B52-FD27-457F-8093-4ED562B3EA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08225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058619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039770.jpg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xxyw.com/bbs/UploadFile/2004-12/20041226161049955.jpg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927615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749705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165480" y="113184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按此在新窗口浏览图片"/>
          <p:cNvPicPr/>
          <p:nvPr/>
        </p:nvPicPr>
        <p:blipFill>
          <a:blip r:embed="rId3"/>
          <a:stretch/>
        </p:blipFill>
        <p:spPr>
          <a:xfrm>
            <a:off x="205092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按此在新窗口浏览图片"/>
          <p:cNvPicPr/>
          <p:nvPr/>
        </p:nvPicPr>
        <p:blipFill>
          <a:blip r:embed="rId4"/>
          <a:stretch/>
        </p:blipFill>
        <p:spPr>
          <a:xfrm>
            <a:off x="205092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按此在新窗口浏览图片"/>
          <p:cNvPicPr/>
          <p:nvPr/>
        </p:nvPicPr>
        <p:blipFill>
          <a:blip r:embed="rId5"/>
          <a:stretch/>
        </p:blipFill>
        <p:spPr>
          <a:xfrm>
            <a:off x="1752480" y="0"/>
            <a:ext cx="65534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按此在新窗口浏览图片"/>
          <p:cNvPicPr/>
          <p:nvPr/>
        </p:nvPicPr>
        <p:blipFill>
          <a:blip r:embed="rId6"/>
          <a:stretch/>
        </p:blipFill>
        <p:spPr>
          <a:xfrm>
            <a:off x="110664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8667720" y="639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0248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1e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0920" y="38088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那些缠绕在半山的云雾，又像是系在腰间的一条条玉带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2000" y="3924360"/>
            <a:ext cx="898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</a:rPr>
              <a:t>云雾弥漫山谷，它是茫茫的大海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e4f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7560" y="4149720"/>
            <a:ext cx="85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</a:rPr>
              <a:t>云雾遮挡山峰，它又是巨大的天幕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22360"/>
            <a:ext cx="914400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en-GB" sz="6600" spc="-1" strike="noStrike">
                <a:solidFill>
                  <a:srgbClr val="0033cc"/>
                </a:solidFill>
                <a:latin typeface="Times New Roman"/>
              </a:rPr>
              <a:t>__________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云雾缠绕半山，它像</a:t>
            </a: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___________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云雾弥漫山谷，它像</a:t>
            </a: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___________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云雾遮挡山峰，它像</a:t>
            </a:r>
            <a:r>
              <a:rPr b="0" lang="zh-CN" sz="66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  </a:t>
            </a:r>
            <a:r>
              <a:rPr b="1" lang="zh-CN" sz="6600" spc="-1" strike="noStrike">
                <a:solidFill>
                  <a:srgbClr val="0033cc"/>
                </a:solidFill>
                <a:latin typeface="Times New Roman"/>
              </a:rPr>
              <a:t>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3490920"/>
            <a:ext cx="4495680" cy="33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0" y="0"/>
          <a:ext cx="4495680" cy="3505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495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按此在新窗口浏览图片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按此在新窗口浏览图片"/>
          <p:cNvPicPr/>
          <p:nvPr/>
        </p:nvPicPr>
        <p:blipFill>
          <a:blip r:embed="rId5"/>
          <a:stretch/>
        </p:blipFill>
        <p:spPr>
          <a:xfrm>
            <a:off x="4495680" y="350532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31640" y="954000"/>
            <a:ext cx="837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庐山的云雾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瞬息万变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98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庐山的云雾瞬息万变。眼前的云雾，刚刚还是随风飘荡的一缕轻烟，转眼间就变成了一泻千里的九天银河；明明是一匹四蹄生风的白马，还没等你完全看清楚，它又变成了漂浮在北冰洋上的一座冰山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1720" y="5229360"/>
            <a:ext cx="800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4680" y="5994360"/>
            <a:ext cx="80769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3720" y="2303640"/>
            <a:ext cx="815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1640" y="1628640"/>
            <a:ext cx="675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6280" y="6715080"/>
            <a:ext cx="44960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720" y="4508640"/>
            <a:ext cx="800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1720" y="3789360"/>
            <a:ext cx="800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640" y="3068640"/>
            <a:ext cx="8001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庐山的云雾</a:t>
            </a: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瞬息万变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眼前的云雾，刚刚还是随风飘荡的一缕轻烟，转眼间就变成了一泻千里的九天银河；明明是一匹四蹄生风的白马，还没等你完全看清楚，它又变成了漂浮在北冰洋上的一座冰山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27000" y="2168640"/>
            <a:ext cx="6840720" cy="46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5859360"/>
            <a:ext cx="8280360" cy="765360"/>
            <a:chOff x="250920" y="5859360"/>
            <a:chExt cx="8280360" cy="765360"/>
          </a:xfrm>
        </p:grpSpPr>
        <p:sp>
          <p:nvSpPr>
            <p:cNvPr id="118" name=""/>
            <p:cNvSpPr/>
            <p:nvPr/>
          </p:nvSpPr>
          <p:spPr>
            <a:xfrm flipV="1">
              <a:off x="250920" y="6578640"/>
              <a:ext cx="1305000" cy="46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5560" y="5859360"/>
              <a:ext cx="76057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06280" y="3654360"/>
            <a:ext cx="8190000" cy="809640"/>
            <a:chOff x="206280" y="3654360"/>
            <a:chExt cx="8190000" cy="809640"/>
          </a:xfrm>
        </p:grpSpPr>
        <p:sp>
          <p:nvSpPr>
            <p:cNvPr id="121" name=""/>
            <p:cNvSpPr/>
            <p:nvPr/>
          </p:nvSpPr>
          <p:spPr>
            <a:xfrm flipV="1">
              <a:off x="7047000" y="3654360"/>
              <a:ext cx="1349280" cy="44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6280" y="4419720"/>
              <a:ext cx="5130720" cy="44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50920" y="2889360"/>
            <a:ext cx="8082000" cy="809640"/>
            <a:chOff x="250920" y="2889360"/>
            <a:chExt cx="8082000" cy="809640"/>
          </a:xfrm>
        </p:grpSpPr>
        <p:sp>
          <p:nvSpPr>
            <p:cNvPr id="124" name=""/>
            <p:cNvSpPr/>
            <p:nvPr/>
          </p:nvSpPr>
          <p:spPr>
            <a:xfrm>
              <a:off x="5516640" y="2889360"/>
              <a:ext cx="2816280" cy="44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0920" y="3654360"/>
              <a:ext cx="3735360" cy="44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082000" y="6354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3165480" y="80640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406520" y="806400"/>
            <a:ext cx="360" cy="4906800"/>
            <a:chOff x="1406520" y="806400"/>
            <a:chExt cx="360" cy="4906800"/>
          </a:xfrm>
        </p:grpSpPr>
        <p:sp>
          <p:nvSpPr>
            <p:cNvPr id="130" name=""/>
            <p:cNvSpPr/>
            <p:nvPr/>
          </p:nvSpPr>
          <p:spPr>
            <a:xfrm>
              <a:off x="1406520" y="80640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406520" y="806400"/>
              <a:ext cx="360" cy="4906800"/>
              <a:chOff x="1406520" y="806400"/>
              <a:chExt cx="360" cy="4906800"/>
            </a:xfrm>
          </p:grpSpPr>
          <p:sp>
            <p:nvSpPr>
              <p:cNvPr id="132" name=""/>
              <p:cNvSpPr/>
              <p:nvPr/>
            </p:nvSpPr>
            <p:spPr>
              <a:xfrm>
                <a:off x="1406520" y="806400"/>
                <a:ext cx="360" cy="49068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06520" y="806400"/>
                <a:ext cx="360" cy="49068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30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4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3165480" y="77148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06520" y="771480"/>
            <a:ext cx="360" cy="4968720"/>
            <a:chOff x="1406520" y="771480"/>
            <a:chExt cx="360" cy="4968720"/>
          </a:xfrm>
        </p:grpSpPr>
        <p:sp>
          <p:nvSpPr>
            <p:cNvPr id="137" name=""/>
            <p:cNvSpPr/>
            <p:nvPr/>
          </p:nvSpPr>
          <p:spPr>
            <a:xfrm>
              <a:off x="1406520" y="77148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406520" y="771480"/>
              <a:ext cx="360" cy="4968720"/>
              <a:chOff x="1406520" y="771480"/>
              <a:chExt cx="360" cy="4968720"/>
            </a:xfrm>
          </p:grpSpPr>
          <p:sp>
            <p:nvSpPr>
              <p:cNvPr id="139" name=""/>
              <p:cNvSpPr/>
              <p:nvPr/>
            </p:nvSpPr>
            <p:spPr>
              <a:xfrm>
                <a:off x="1406520" y="771480"/>
                <a:ext cx="360" cy="49687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06520" y="771480"/>
                <a:ext cx="360" cy="49687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31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1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714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2576520" y="-1825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95480" y="-182520"/>
            <a:ext cx="360" cy="6811920"/>
            <a:chOff x="1995480" y="-182520"/>
            <a:chExt cx="360" cy="6811920"/>
          </a:xfrm>
        </p:grpSpPr>
        <p:sp>
          <p:nvSpPr>
            <p:cNvPr id="51" name=""/>
            <p:cNvSpPr/>
            <p:nvPr/>
          </p:nvSpPr>
          <p:spPr>
            <a:xfrm>
              <a:off x="1995480" y="-18252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1995480" y="-182520"/>
              <a:ext cx="360" cy="6811920"/>
              <a:chOff x="1995480" y="-182520"/>
              <a:chExt cx="360" cy="6811920"/>
            </a:xfrm>
          </p:grpSpPr>
          <p:sp>
            <p:nvSpPr>
              <p:cNvPr id="53" name=""/>
              <p:cNvSpPr/>
              <p:nvPr/>
            </p:nvSpPr>
            <p:spPr>
              <a:xfrm>
                <a:off x="199548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99548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43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5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2000" y="1719360"/>
            <a:ext cx="69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庐山的云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246400" y="-1825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325600" y="-182520"/>
            <a:ext cx="360" cy="6811920"/>
            <a:chOff x="2325600" y="-182520"/>
            <a:chExt cx="360" cy="6811920"/>
          </a:xfrm>
        </p:grpSpPr>
        <p:sp>
          <p:nvSpPr>
            <p:cNvPr id="145" name=""/>
            <p:cNvSpPr/>
            <p:nvPr/>
          </p:nvSpPr>
          <p:spPr>
            <a:xfrm>
              <a:off x="2325600" y="-18252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325600" y="-182520"/>
              <a:ext cx="360" cy="6811920"/>
              <a:chOff x="2325600" y="-182520"/>
              <a:chExt cx="360" cy="6811920"/>
            </a:xfrm>
          </p:grpSpPr>
          <p:sp>
            <p:nvSpPr>
              <p:cNvPr id="147" name=""/>
              <p:cNvSpPr/>
              <p:nvPr/>
            </p:nvSpPr>
            <p:spPr>
              <a:xfrm>
                <a:off x="232560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32560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zh-CN" sz="43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-3165480" y="9097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06520" y="909720"/>
            <a:ext cx="360" cy="4708440"/>
            <a:chOff x="1406520" y="909720"/>
            <a:chExt cx="360" cy="4708440"/>
          </a:xfrm>
        </p:grpSpPr>
        <p:sp>
          <p:nvSpPr>
            <p:cNvPr id="151" name=""/>
            <p:cNvSpPr/>
            <p:nvPr/>
          </p:nvSpPr>
          <p:spPr>
            <a:xfrm>
              <a:off x="1406520" y="90972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406520" y="909720"/>
              <a:ext cx="360" cy="4708440"/>
              <a:chOff x="1406520" y="909720"/>
              <a:chExt cx="360" cy="4708440"/>
            </a:xfrm>
          </p:grpSpPr>
          <p:sp>
            <p:nvSpPr>
              <p:cNvPr id="153" name=""/>
              <p:cNvSpPr/>
              <p:nvPr/>
            </p:nvSpPr>
            <p:spPr>
              <a:xfrm>
                <a:off x="1406520" y="909720"/>
                <a:ext cx="360" cy="470844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06520" y="909720"/>
                <a:ext cx="360" cy="470844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29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5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179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庐山的云雾瞬息万变。眼前的云雾，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刚刚还是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随风飘荡的一缕轻烟，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转眼间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就变成了一泻千里的九天银河；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明明是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匹四蹄生风的白马，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还没等你完全看清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，它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又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变成了漂浮在北冰洋上的一座冰山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8847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云雾一会儿变成……一会儿又变成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明明还是……转眼就变成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宋体"/>
              </a:rPr>
              <a:t>    </a:t>
            </a:r>
            <a:r>
              <a:rPr b="1" lang="zh-CN" sz="6000" spc="-1" strike="noStrike">
                <a:solidFill>
                  <a:srgbClr val="ff0066"/>
                </a:solidFill>
                <a:latin typeface="宋体"/>
              </a:rPr>
              <a:t>刚才还是……刹那间就变成……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3165480" y="8701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406520" y="870120"/>
            <a:ext cx="360" cy="4784400"/>
            <a:chOff x="1406520" y="870120"/>
            <a:chExt cx="360" cy="4784400"/>
          </a:xfrm>
        </p:grpSpPr>
        <p:sp>
          <p:nvSpPr>
            <p:cNvPr id="168" name=""/>
            <p:cNvSpPr/>
            <p:nvPr/>
          </p:nvSpPr>
          <p:spPr>
            <a:xfrm>
              <a:off x="1406520" y="87012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406520" y="870120"/>
              <a:ext cx="360" cy="4784400"/>
              <a:chOff x="1406520" y="870120"/>
              <a:chExt cx="360" cy="4784400"/>
            </a:xfrm>
          </p:grpSpPr>
          <p:sp>
            <p:nvSpPr>
              <p:cNvPr id="170" name=""/>
              <p:cNvSpPr/>
              <p:nvPr/>
            </p:nvSpPr>
            <p:spPr>
              <a:xfrm>
                <a:off x="1406520" y="870120"/>
                <a:ext cx="360" cy="47844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06520" y="870120"/>
                <a:ext cx="360" cy="47844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29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2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47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遮雾罩的庐山，真令人流连忘返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79400" y="10890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流连忘返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0" y="0"/>
            <a:ext cx="8703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西林壁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苏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横看成岭侧成峰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远近高低各不同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识庐山真面目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缘身在此山中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-192960" y="0"/>
            <a:ext cx="8409960" cy="65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望庐山瀑布   李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日照香炉生紫烟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遥看瀑布挂前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飞流直下三千尺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疑是银河落九天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97000" y="142920"/>
            <a:ext cx="368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词语闯关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14360"/>
            <a:ext cx="9144000" cy="55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幽谷  游览   弥漫   飘荡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笼罩  缠绕   遮挡   漂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变幻无常  腾云驾雾   飘飘欲仙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千姿百态  瞬息万变   一泻千里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四蹄生风  云遮雾罩   流连忘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景色秀丽的庐山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高峰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幽谷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瀑布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溪流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变幻无常的云雾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给它增添了几分神秘的色彩。在山上游览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似乎随手就能摸到飘来的云雾。漫步山道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常常会有一种腾云驾雾、飘飘欲仙的感觉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762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04080" y="6116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庐山的云雾千姿百态。那些笼罩在山头的云雾，像是戴在山顶上的白色绒帽；那些缠绕在半山的云雾，又像是系在腰间的一条条玉带。云雾弥漫山谷，它是茫茫的大海；云雾遮挡山峰，它又是巨大的天幕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838080"/>
            <a:ext cx="6324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460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152f1"/>
                </a:solidFill>
                <a:latin typeface="Times New Roman"/>
                <a:ea typeface="楷体_GB2312"/>
              </a:rPr>
              <a:t>千姿百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13360" y="5724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些笼罩在山头的云雾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是戴在山顶上的白色绒帽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些缠绕在半山的云雾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像是系在腰间的一条条玉带。云雾弥漫山谷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是茫茫的大海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;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雾遮挡山峰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又是巨大的天幕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172200" y="6477120"/>
            <a:ext cx="380880" cy="380880"/>
          </a:xfrm>
          <a:prstGeom prst="star5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01000" y="6477120"/>
            <a:ext cx="380880" cy="380880"/>
          </a:xfrm>
          <a:prstGeom prst="star5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6477120"/>
            <a:ext cx="380880" cy="380880"/>
          </a:xfrm>
          <a:prstGeom prst="star5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6477120"/>
            <a:ext cx="381240" cy="380880"/>
          </a:xfrm>
          <a:prstGeom prst="star5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202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0248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e4f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880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33cc"/>
                </a:solidFill>
                <a:latin typeface="Times New Roman"/>
              </a:rPr>
              <a:t>那些笼罩在山头的云雾，像是戴在山顶上的白色绒帽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02:50:25Z</dcterms:created>
  <dc:creator>A</dc:creator>
  <dc:description/>
  <dc:language>en-US</dc:language>
  <cp:lastModifiedBy>微软用户</cp:lastModifiedBy>
  <dcterms:modified xsi:type="dcterms:W3CDTF">2016-01-19T02:19:17Z</dcterms:modified>
  <cp:revision>19</cp:revision>
  <dc:subject/>
  <dc:title>PowerPoint 演示文稿</dc:title>
</cp:coreProperties>
</file>