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png" ContentType="image/png"/>
  <Override PartName="/ppt/media/image6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17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27B-985F-4D85-B3AE-94BA4D50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790-2A00-4C34-AA9A-A3424912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815-BF37-4A99-8D79-93759452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1CF-D57A-4BEB-A2DA-D477523E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FE3-55B8-44C4-8538-2AB0F1C1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004-D636-43B3-A64C-4684E54E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251-18CF-417B-882E-0B351143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A19-4EC8-4C80-B51D-2AF15F93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6E3-0902-4389-A2E0-565CC3B9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6BC-D58D-413A-BD7B-A3D8DD66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243-C2C4-42CE-ACF6-9ABD0C00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E44-8BB2-4509-9079-C1461F88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8E0A-2BD6-44B1-84CF-DD0DBD2C8B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8.wmf"/><Relationship Id="rId4" Type="http://schemas.openxmlformats.org/officeDocument/2006/relationships/image" Target="../media/image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83265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0822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058619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xxyw.com/bbs/UploadFile/2004-12/20041226161049955.jpg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927615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85119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123539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91882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01890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xyw.com/bbs/UploadFile/2004-12/20041226161039770.jpg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165480" y="113184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庐山的云雾千姿百态。那些笼罩在山头的云雾，像是戴在山顶上的白色绒帽；那些缠绕在半山的云雾，又像是系在腰间的一条条玉带。云雾弥漫山谷，它是茫茫的大海；云雾遮挡山峰，它又是巨大的天幕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838080"/>
            <a:ext cx="6324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46040" y="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152f1"/>
                </a:solidFill>
                <a:latin typeface="Times New Roman"/>
                <a:ea typeface="楷体_GB2312"/>
              </a:rPr>
              <a:t>千姿百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13360" y="5724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5335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些笼罩在山头的云雾，像是戴在山顶上的白色绒帽；那些缠绕在半山的云雾，又像是系在腰间的一条条玉带。云雾弥漫山谷，它是茫茫的大海；云雾遮挡山峰，它又是巨大的天幕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6477120"/>
            <a:ext cx="380880" cy="380880"/>
          </a:xfrm>
          <a:prstGeom prst="star5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6477120"/>
            <a:ext cx="380880" cy="380880"/>
          </a:xfrm>
          <a:prstGeom prst="star5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6477120"/>
            <a:ext cx="380880" cy="380880"/>
          </a:xfrm>
          <a:prstGeom prst="star5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6477120"/>
            <a:ext cx="381240" cy="380880"/>
          </a:xfrm>
          <a:prstGeom prst="star5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e4f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那些笼罩在山头的云雾，像是戴在山顶上的白色绒帽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按此在新窗口浏览图片"/>
          <p:cNvPicPr/>
          <p:nvPr/>
        </p:nvPicPr>
        <p:blipFill>
          <a:blip r:embed="rId1"/>
          <a:stretch/>
        </p:blipFill>
        <p:spPr>
          <a:xfrm>
            <a:off x="1371600" y="1886040"/>
            <a:ext cx="6629400" cy="497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1e4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那些缠绕在半山的云雾，又像是系在腰间的一条条玉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按此在新窗口浏览图片"/>
          <p:cNvPicPr/>
          <p:nvPr/>
        </p:nvPicPr>
        <p:blipFill>
          <a:blip r:embed="rId2"/>
          <a:stretch/>
        </p:blipFill>
        <p:spPr>
          <a:xfrm>
            <a:off x="1600200" y="2133720"/>
            <a:ext cx="5638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8380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云雾弥漫山谷，它是茫茫的大海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219320" y="171468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e4f3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9907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云雾遮挡山峰，它又是巨大的天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553080" cy="5029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533520"/>
            <a:ext cx="80010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云雾笼罩山头，它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___________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云雾缠绕半山，它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___________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云雾弥漫山谷，它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___________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云雾遮挡山峰，它像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3490920"/>
            <a:ext cx="4495680" cy="337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0" y="0"/>
          <a:ext cx="4495680" cy="35053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495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按此在新窗口浏览图片"/>
          <p:cNvPicPr/>
          <p:nvPr/>
        </p:nvPicPr>
        <p:blipFill>
          <a:blip r:embed="rId4"/>
          <a:stretch/>
        </p:blipFill>
        <p:spPr>
          <a:xfrm>
            <a:off x="4495680" y="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按此在新窗口浏览图片"/>
          <p:cNvPicPr/>
          <p:nvPr/>
        </p:nvPicPr>
        <p:blipFill>
          <a:blip r:embed="rId5"/>
          <a:stretch/>
        </p:blipFill>
        <p:spPr>
          <a:xfrm>
            <a:off x="4495680" y="3505320"/>
            <a:ext cx="464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庐山的云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姿百态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那些笼罩在山头的云雾，像是戴在山顶上的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白色绒帽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；那些缠绕在半山的云雾，又像是系在山腰间的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条条玉带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云雾弥漫山谷，它是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茫茫的大海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；云雾遮挡山峰，它又是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巨大的天幕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165480" y="97776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406520" y="977760"/>
            <a:ext cx="360" cy="4572000"/>
            <a:chOff x="1406520" y="977760"/>
            <a:chExt cx="360" cy="4572000"/>
          </a:xfrm>
        </p:grpSpPr>
        <p:sp>
          <p:nvSpPr>
            <p:cNvPr id="45" name=""/>
            <p:cNvSpPr/>
            <p:nvPr/>
          </p:nvSpPr>
          <p:spPr>
            <a:xfrm>
              <a:off x="1406520" y="97776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1406520" y="977760"/>
              <a:ext cx="360" cy="4572000"/>
              <a:chOff x="1406520" y="977760"/>
              <a:chExt cx="360" cy="4572000"/>
            </a:xfrm>
          </p:grpSpPr>
          <p:sp>
            <p:nvSpPr>
              <p:cNvPr id="47" name=""/>
              <p:cNvSpPr/>
              <p:nvPr/>
            </p:nvSpPr>
            <p:spPr>
              <a:xfrm>
                <a:off x="1406520" y="977760"/>
                <a:ext cx="360" cy="45720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06520" y="977760"/>
                <a:ext cx="360" cy="45720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28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9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47320" y="137160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庐山的云雾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瞬息万变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685800"/>
            <a:ext cx="8458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庐山的云雾瞬息万变。眼前的云雾，刚刚还是随风飘荡的一缕轻烟，转眼间就变成了一泻千里的九天银河；明明是一匹四蹄生风的白马，还没等你完全看清楚，它又变成了漂浮在北冰洋上的一座冰山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59092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124080"/>
            <a:ext cx="8076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90512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29528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733920"/>
            <a:ext cx="449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609480"/>
            <a:ext cx="853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庐山的云雾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瞬息万变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眼前的云雾，刚刚还是随风飘荡的一缕轻烟，转眼间就变成了一泻千里的九天银河；明明是一匹四蹄生风的白马，还没等你完全看清楚，它又变成了漂浮在北冰洋上的一座冰山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1905120"/>
            <a:ext cx="3581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438280"/>
            <a:ext cx="3581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880" y="2514600"/>
            <a:ext cx="8458200" cy="533520"/>
            <a:chOff x="380880" y="2514600"/>
            <a:chExt cx="8458200" cy="533520"/>
          </a:xfrm>
        </p:grpSpPr>
        <p:sp>
          <p:nvSpPr>
            <p:cNvPr id="149" name=""/>
            <p:cNvSpPr/>
            <p:nvPr/>
          </p:nvSpPr>
          <p:spPr>
            <a:xfrm>
              <a:off x="6161040" y="2514600"/>
              <a:ext cx="267804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0880" y="3048120"/>
              <a:ext cx="129564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57200" y="3048120"/>
            <a:ext cx="8077320" cy="609480"/>
            <a:chOff x="457200" y="3048120"/>
            <a:chExt cx="8077320" cy="609480"/>
          </a:xfrm>
        </p:grpSpPr>
        <p:sp>
          <p:nvSpPr>
            <p:cNvPr id="152" name=""/>
            <p:cNvSpPr/>
            <p:nvPr/>
          </p:nvSpPr>
          <p:spPr>
            <a:xfrm>
              <a:off x="457200" y="3657600"/>
              <a:ext cx="43434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53280" y="3048120"/>
              <a:ext cx="38124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3165480" y="80640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406520" y="806400"/>
            <a:ext cx="360" cy="4906800"/>
            <a:chOff x="1406520" y="806400"/>
            <a:chExt cx="360" cy="4906800"/>
          </a:xfrm>
        </p:grpSpPr>
        <p:sp>
          <p:nvSpPr>
            <p:cNvPr id="156" name=""/>
            <p:cNvSpPr/>
            <p:nvPr/>
          </p:nvSpPr>
          <p:spPr>
            <a:xfrm>
              <a:off x="1406520" y="80640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406520" y="806400"/>
              <a:ext cx="360" cy="4906800"/>
              <a:chOff x="1406520" y="806400"/>
              <a:chExt cx="360" cy="4906800"/>
            </a:xfrm>
          </p:grpSpPr>
          <p:sp>
            <p:nvSpPr>
              <p:cNvPr id="158" name=""/>
              <p:cNvSpPr/>
              <p:nvPr/>
            </p:nvSpPr>
            <p:spPr>
              <a:xfrm>
                <a:off x="1406520" y="806400"/>
                <a:ext cx="360" cy="49068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406520" y="806400"/>
                <a:ext cx="360" cy="49068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30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0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165480" y="77148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406520" y="771480"/>
            <a:ext cx="360" cy="4968720"/>
            <a:chOff x="1406520" y="771480"/>
            <a:chExt cx="360" cy="4968720"/>
          </a:xfrm>
        </p:grpSpPr>
        <p:sp>
          <p:nvSpPr>
            <p:cNvPr id="163" name=""/>
            <p:cNvSpPr/>
            <p:nvPr/>
          </p:nvSpPr>
          <p:spPr>
            <a:xfrm>
              <a:off x="1406520" y="77148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406520" y="771480"/>
              <a:ext cx="360" cy="4968720"/>
              <a:chOff x="1406520" y="771480"/>
              <a:chExt cx="360" cy="4968720"/>
            </a:xfrm>
          </p:grpSpPr>
          <p:sp>
            <p:nvSpPr>
              <p:cNvPr id="165" name=""/>
              <p:cNvSpPr/>
              <p:nvPr/>
            </p:nvSpPr>
            <p:spPr>
              <a:xfrm>
                <a:off x="1406520" y="771480"/>
                <a:ext cx="360" cy="49687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06520" y="771480"/>
                <a:ext cx="360" cy="49687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31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7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71470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2246400" y="-1825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325600" y="-182520"/>
            <a:ext cx="360" cy="6811920"/>
            <a:chOff x="2325600" y="-182520"/>
            <a:chExt cx="360" cy="6811920"/>
          </a:xfrm>
        </p:grpSpPr>
        <p:sp>
          <p:nvSpPr>
            <p:cNvPr id="171" name=""/>
            <p:cNvSpPr/>
            <p:nvPr/>
          </p:nvSpPr>
          <p:spPr>
            <a:xfrm>
              <a:off x="2325600" y="-18252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325600" y="-182520"/>
              <a:ext cx="360" cy="6811920"/>
              <a:chOff x="2325600" y="-182520"/>
              <a:chExt cx="360" cy="6811920"/>
            </a:xfrm>
          </p:grpSpPr>
          <p:sp>
            <p:nvSpPr>
              <p:cNvPr id="173" name=""/>
              <p:cNvSpPr/>
              <p:nvPr/>
            </p:nvSpPr>
            <p:spPr>
              <a:xfrm>
                <a:off x="232560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2560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zh-CN" sz="43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advTm="2000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-3165480" y="9097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406520" y="909720"/>
            <a:ext cx="360" cy="4708440"/>
            <a:chOff x="1406520" y="909720"/>
            <a:chExt cx="360" cy="4708440"/>
          </a:xfrm>
        </p:grpSpPr>
        <p:sp>
          <p:nvSpPr>
            <p:cNvPr id="177" name=""/>
            <p:cNvSpPr/>
            <p:nvPr/>
          </p:nvSpPr>
          <p:spPr>
            <a:xfrm>
              <a:off x="1406520" y="90972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406520" y="909720"/>
              <a:ext cx="360" cy="4708440"/>
              <a:chOff x="1406520" y="909720"/>
              <a:chExt cx="360" cy="4708440"/>
            </a:xfrm>
          </p:grpSpPr>
          <p:sp>
            <p:nvSpPr>
              <p:cNvPr id="179" name=""/>
              <p:cNvSpPr/>
              <p:nvPr/>
            </p:nvSpPr>
            <p:spPr>
              <a:xfrm>
                <a:off x="1406520" y="909720"/>
                <a:ext cx="360" cy="470844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06520" y="909720"/>
                <a:ext cx="360" cy="470844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29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1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30492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庐山的云雾瞬息万变。眼前的云雾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刚刚还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随风飘荡的一缕轻烟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转眼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就变成了一泻千里的九天银河；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明明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匹四蹄生风的白马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还没等你完全看清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，它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又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变成了漂浮在北冰洋上的一座冰山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773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429000"/>
            <a:ext cx="714384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云雾一会儿变成……一会儿又变成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明明还是……转眼就变成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刚才还是……刹那间就变成……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3165480" y="8701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406520" y="870120"/>
            <a:ext cx="360" cy="4784400"/>
            <a:chOff x="1406520" y="870120"/>
            <a:chExt cx="360" cy="4784400"/>
          </a:xfrm>
        </p:grpSpPr>
        <p:sp>
          <p:nvSpPr>
            <p:cNvPr id="190" name=""/>
            <p:cNvSpPr/>
            <p:nvPr/>
          </p:nvSpPr>
          <p:spPr>
            <a:xfrm>
              <a:off x="1406520" y="87012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406520" y="870120"/>
              <a:ext cx="360" cy="4784400"/>
              <a:chOff x="1406520" y="870120"/>
              <a:chExt cx="360" cy="4784400"/>
            </a:xfrm>
          </p:grpSpPr>
          <p:sp>
            <p:nvSpPr>
              <p:cNvPr id="192" name=""/>
              <p:cNvSpPr/>
              <p:nvPr/>
            </p:nvSpPr>
            <p:spPr>
              <a:xfrm>
                <a:off x="1406520" y="870120"/>
                <a:ext cx="360" cy="47844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06520" y="870120"/>
                <a:ext cx="360" cy="478440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29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4" name="" descr="按此在新窗口浏览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40040" y="504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云遮雾罩的庐山，真令人流连忘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59640" y="457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流连忘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017800" y="37800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554200" y="378000"/>
            <a:ext cx="360" cy="5730840"/>
            <a:chOff x="2554200" y="378000"/>
            <a:chExt cx="360" cy="5730840"/>
          </a:xfrm>
        </p:grpSpPr>
        <p:sp>
          <p:nvSpPr>
            <p:cNvPr id="52" name=""/>
            <p:cNvSpPr/>
            <p:nvPr/>
          </p:nvSpPr>
          <p:spPr>
            <a:xfrm>
              <a:off x="2554200" y="37800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554200" y="378000"/>
              <a:ext cx="360" cy="5730840"/>
              <a:chOff x="2554200" y="378000"/>
              <a:chExt cx="360" cy="5730840"/>
            </a:xfrm>
          </p:grpSpPr>
          <p:sp>
            <p:nvSpPr>
              <p:cNvPr id="54" name=""/>
              <p:cNvSpPr/>
              <p:nvPr/>
            </p:nvSpPr>
            <p:spPr>
              <a:xfrm>
                <a:off x="2554200" y="378000"/>
                <a:ext cx="360" cy="573084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54200" y="378000"/>
                <a:ext cx="360" cy="573084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36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" name="" descr="按此在新窗口浏览图片"/>
          <p:cNvPicPr/>
          <p:nvPr/>
        </p:nvPicPr>
        <p:blipFill>
          <a:blip r:embed="rId2"/>
          <a:stretch/>
        </p:blipFill>
        <p:spPr>
          <a:xfrm>
            <a:off x="220968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29480" y="533520"/>
            <a:ext cx="5712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望庐山瀑布   李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日照香炉生紫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遥看瀑布挂前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飞流直下三千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疑是银河落九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991600" y="380880"/>
            <a:ext cx="5712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题西林壁  苏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横看成岭侧成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远近高低各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识庐山真面目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只缘身在此山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239920" y="-1825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332080" y="-182520"/>
            <a:ext cx="360" cy="6811920"/>
            <a:chOff x="2332080" y="-182520"/>
            <a:chExt cx="360" cy="6811920"/>
          </a:xfrm>
        </p:grpSpPr>
        <p:sp>
          <p:nvSpPr>
            <p:cNvPr id="59" name=""/>
            <p:cNvSpPr/>
            <p:nvPr/>
          </p:nvSpPr>
          <p:spPr>
            <a:xfrm>
              <a:off x="2332080" y="-18252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2332080" y="-182520"/>
              <a:ext cx="360" cy="6811920"/>
              <a:chOff x="2332080" y="-182520"/>
              <a:chExt cx="360" cy="6811920"/>
            </a:xfrm>
          </p:grpSpPr>
          <p:sp>
            <p:nvSpPr>
              <p:cNvPr id="61" name=""/>
              <p:cNvSpPr/>
              <p:nvPr/>
            </p:nvSpPr>
            <p:spPr>
              <a:xfrm>
                <a:off x="2332080" y="-182520"/>
                <a:ext cx="360" cy="681192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332080" y="-182520"/>
                <a:ext cx="360" cy="681192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43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3" name="" descr="按此在新窗口浏览图片"/>
          <p:cNvPicPr/>
          <p:nvPr/>
        </p:nvPicPr>
        <p:blipFill>
          <a:blip r:embed="rId2"/>
          <a:stretch/>
        </p:blipFill>
        <p:spPr>
          <a:xfrm>
            <a:off x="220968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3165480" y="97776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406520" y="977760"/>
            <a:ext cx="360" cy="4572000"/>
            <a:chOff x="1406520" y="977760"/>
            <a:chExt cx="360" cy="4572000"/>
          </a:xfrm>
        </p:grpSpPr>
        <p:sp>
          <p:nvSpPr>
            <p:cNvPr id="66" name=""/>
            <p:cNvSpPr/>
            <p:nvPr/>
          </p:nvSpPr>
          <p:spPr>
            <a:xfrm>
              <a:off x="1406520" y="97776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406520" y="977760"/>
              <a:ext cx="360" cy="4572000"/>
              <a:chOff x="1406520" y="977760"/>
              <a:chExt cx="360" cy="4572000"/>
            </a:xfrm>
          </p:grpSpPr>
          <p:sp>
            <p:nvSpPr>
              <p:cNvPr id="68" name=""/>
              <p:cNvSpPr/>
              <p:nvPr/>
            </p:nvSpPr>
            <p:spPr>
              <a:xfrm>
                <a:off x="1406520" y="977760"/>
                <a:ext cx="360" cy="457200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06520" y="977760"/>
                <a:ext cx="360" cy="457200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28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" descr="按此在新窗口浏览图片"/>
          <p:cNvPicPr/>
          <p:nvPr/>
        </p:nvPicPr>
        <p:blipFill>
          <a:blip r:embed="rId2"/>
          <a:stretch/>
        </p:blipFill>
        <p:spPr>
          <a:xfrm>
            <a:off x="1752480" y="0"/>
            <a:ext cx="65534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3165480" y="89856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06520" y="898560"/>
            <a:ext cx="360" cy="4724280"/>
            <a:chOff x="1406520" y="898560"/>
            <a:chExt cx="360" cy="4724280"/>
          </a:xfrm>
        </p:grpSpPr>
        <p:sp>
          <p:nvSpPr>
            <p:cNvPr id="73" name=""/>
            <p:cNvSpPr/>
            <p:nvPr/>
          </p:nvSpPr>
          <p:spPr>
            <a:xfrm>
              <a:off x="1406520" y="898560"/>
              <a:ext cx="360" cy="360"/>
            </a:xfrm>
            <a:prstGeom prst="rect">
              <a:avLst/>
            </a:prstGeom>
            <a:solidFill>
              <a:srgbClr val="f4f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406520" y="898560"/>
              <a:ext cx="360" cy="4724280"/>
              <a:chOff x="1406520" y="898560"/>
              <a:chExt cx="360" cy="4724280"/>
            </a:xfrm>
          </p:grpSpPr>
          <p:sp>
            <p:nvSpPr>
              <p:cNvPr id="75" name=""/>
              <p:cNvSpPr/>
              <p:nvPr/>
            </p:nvSpPr>
            <p:spPr>
              <a:xfrm>
                <a:off x="1406520" y="898560"/>
                <a:ext cx="360" cy="472428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406520" y="898560"/>
                <a:ext cx="360" cy="4724280"/>
              </a:xfrm>
              <a:prstGeom prst="rect">
                <a:avLst/>
              </a:prstGeom>
              <a:solidFill>
                <a:srgbClr val="f4fc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29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7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2576520" y="-182520"/>
            <a:ext cx="9144000" cy="360"/>
          </a:xfrm>
          <a:prstGeom prst="rect">
            <a:avLst/>
          </a:prstGeom>
          <a:solidFill>
            <a:srgbClr val="44a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95480" y="-182520"/>
            <a:ext cx="360" cy="6811920"/>
            <a:chOff x="1995480" y="-182520"/>
            <a:chExt cx="360" cy="6811920"/>
          </a:xfrm>
        </p:grpSpPr>
        <p:sp>
          <p:nvSpPr>
            <p:cNvPr id="80" name=""/>
            <p:cNvSpPr/>
            <p:nvPr/>
          </p:nvSpPr>
          <p:spPr>
            <a:xfrm>
              <a:off x="1995480" y="-182520"/>
              <a:ext cx="360" cy="360"/>
            </a:xfrm>
            <a:prstGeom prst="rect">
              <a:avLst/>
            </a:prstGeom>
            <a:solidFill>
              <a:srgbClr val="e8f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995480" y="-182520"/>
              <a:ext cx="360" cy="6811920"/>
              <a:chOff x="1995480" y="-182520"/>
              <a:chExt cx="360" cy="6811920"/>
            </a:xfrm>
          </p:grpSpPr>
          <p:sp>
            <p:nvSpPr>
              <p:cNvPr id="82" name=""/>
              <p:cNvSpPr/>
              <p:nvPr/>
            </p:nvSpPr>
            <p:spPr>
              <a:xfrm>
                <a:off x="199548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95480" y="-182520"/>
                <a:ext cx="360" cy="6811920"/>
              </a:xfrm>
              <a:prstGeom prst="rect">
                <a:avLst/>
              </a:prstGeom>
              <a:solidFill>
                <a:srgbClr val="e8f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zh-CN" sz="43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4" name="" descr="按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14680" y="1981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庐山的云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庐山的景色十分秀丽。那里有高山，有幽谷，有瀑布，有溪流，尤其是变幻无常的云雾，更跟它增添了几分神秘的色彩。在山上游览，似乎随手就能摸到飘来的云雾。漫步山道，常常会有一种腾云驾雾、飘飘欲仙的感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7621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762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9810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152f1"/>
                </a:solidFill>
                <a:latin typeface="Times New Roman"/>
                <a:ea typeface="楷体_GB2312"/>
              </a:rPr>
              <a:t>尤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04080" y="6116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37840" y="4952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腾云驾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29240" y="5638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飘飘欲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732880" y="6365880"/>
            <a:ext cx="41112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02:50:25Z</dcterms:created>
  <dc:creator>A</dc:creator>
  <dc:description/>
  <dc:language>en-US</dc:language>
  <cp:lastModifiedBy>微软用户</cp:lastModifiedBy>
  <dcterms:modified xsi:type="dcterms:W3CDTF">2016-01-19T02:19:44Z</dcterms:modified>
  <cp:revision>12</cp:revision>
  <dc:subject/>
  <dc:title>PowerPoint 演示文稿</dc:title>
</cp:coreProperties>
</file>