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png" ContentType="image/png"/>
  <Override PartName="/ppt/media/image6.jpeg" ContentType="image/jpeg"/>
  <Override PartName="/ppt/media/image21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931-E058-4992-ABC8-F48BA1B3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4C8-C811-42D8-931C-84CB996A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7E3-0A5B-4922-9028-8F23B78D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4A2-ECBC-44A2-A5D3-F3639FB9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59F-8262-4180-98D7-F9270DAB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5D9-1624-4892-9C35-0993F9A4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941-B304-49FF-A11C-6592F889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890-3AAD-488C-86EC-A88028B9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529-6F1F-41C7-9D8C-D86F2FF2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94D-E2DE-4EEA-BDEE-4438FA3D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A13-BE42-41C9-BDE8-59AC4B40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B46-E3E2-42F6-B4F1-DCD17C4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B93D-5429-445D-BE5D-C077F519DF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8.wmf"/><Relationship Id="rId4" Type="http://schemas.openxmlformats.org/officeDocument/2006/relationships/image" Target="../media/image1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822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58619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xxyw.com/bbs/UploadFile/2004-12/20041226161049955.jpg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927615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83265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85119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123539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91882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1890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39770.jpg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628640"/>
            <a:ext cx="5759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rnd" w="93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  <a:solidFill>
                  <a:srgbClr val="ff9900"/>
                </a:solidFill>
                <a:latin typeface="华文行楷"/>
              </a:rPr>
              <a:t>庐山的云雾</a:t>
            </a:r>
            <a:endParaRPr b="1" lang="en-US" sz="2400" spc="1" strike="noStrike"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6567480" y="557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山的云雾千姿百态。那些笼罩在山头的云雾，就像是戴在山顶上的白色绒帽；那些缠绕在半山的云雾，又像是系在山腰间的一条条玉带。云雾弥漫山谷，它是茫茫的大海；云雾遮挡山峰，它又是巨大的天幕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838080"/>
            <a:ext cx="6324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0"/>
            <a:ext cx="329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152f1"/>
                </a:solidFill>
                <a:latin typeface="Times New Roman"/>
                <a:ea typeface="楷体_GB2312"/>
              </a:rPr>
              <a:t>千姿百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3360" y="5724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5335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些笼罩在山头的云雾，像是戴在山顶上的白色绒帽；那些缠绕在半山的云雾，又像是系在腰间的一条条玉带。云雾弥漫山谷，它是茫茫的大海；云雾遮挡山峰，它又是巨大的天幕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6477120"/>
            <a:ext cx="380880" cy="380880"/>
          </a:xfrm>
          <a:prstGeom prst="star5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6477120"/>
            <a:ext cx="380880" cy="380880"/>
          </a:xfrm>
          <a:prstGeom prst="star5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6477120"/>
            <a:ext cx="380880" cy="380880"/>
          </a:xfrm>
          <a:prstGeom prst="star5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6477120"/>
            <a:ext cx="381240" cy="380880"/>
          </a:xfrm>
          <a:prstGeom prst="star5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e4f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些笼罩在山头的云雾，就像是戴在山顶上的白色绒帽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按此在新窗口浏览图片"/>
          <p:cNvPicPr/>
          <p:nvPr/>
        </p:nvPicPr>
        <p:blipFill>
          <a:blip r:embed="rId1"/>
          <a:stretch/>
        </p:blipFill>
        <p:spPr>
          <a:xfrm>
            <a:off x="1371600" y="1886040"/>
            <a:ext cx="6629400" cy="4971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1e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些缠绕在半山的云雾，又像是系在山腰间的一条条玉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按此在新窗口浏览图片"/>
          <p:cNvPicPr/>
          <p:nvPr/>
        </p:nvPicPr>
        <p:blipFill>
          <a:blip r:embed="rId2"/>
          <a:stretch/>
        </p:blipFill>
        <p:spPr>
          <a:xfrm>
            <a:off x="1600200" y="2133720"/>
            <a:ext cx="5638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8380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云雾弥漫山谷，它是茫茫的大海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19320" y="1989000"/>
            <a:ext cx="6858000" cy="486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e4f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9907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云雾遮挡山峰，它又是巨大的天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6553440" cy="465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533520"/>
            <a:ext cx="80010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云雾笼罩山头，它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___________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云雾缠绕半山，它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___________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云雾弥漫山谷，它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___________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云雾遮挡山峰，它像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3490920"/>
            <a:ext cx="4495680" cy="33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0" y="0"/>
          <a:ext cx="4495680" cy="3505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495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按此在新窗口浏览图片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按此在新窗口浏览图片"/>
          <p:cNvPicPr/>
          <p:nvPr/>
        </p:nvPicPr>
        <p:blipFill>
          <a:blip r:embed="rId5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165480" y="113184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庐山的云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姿百态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那些笼罩在山头的云雾，就像是戴在山顶上的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白色绒帽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；那些缠绕在半山的云雾，又像是系在山腰间的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条条玉带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云雾弥漫山谷，它是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茫茫的大海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；云雾遮挡山峰，它又是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巨大的天幕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47320" y="137160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庐山的云雾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瞬息万变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685800"/>
            <a:ext cx="8458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山的云雾瞬息万变。眼前的云雾，刚刚还是随风飘荡的一缕轻烟，转眼间就变成了一泻千里的九天银河；明明是一匹四蹄生风的白马，还没等你完全看清楚，它又变成了漂浮在北冰洋上的一座冰山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59092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124080"/>
            <a:ext cx="8076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90512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12952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733920"/>
            <a:ext cx="449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04920" y="60948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庐山的云雾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瞬息万变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眼前的云雾，刚刚还是随风飘荡的一缕轻烟，转眼间就变成了一泻千里的九天银河；明明是一匹四蹄生风的白马，还没等你完全看清楚，它又变成了漂浮在北冰洋上的一座冰山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905120"/>
            <a:ext cx="3581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3581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0880" y="2514600"/>
            <a:ext cx="8458200" cy="533520"/>
            <a:chOff x="380880" y="2514600"/>
            <a:chExt cx="8458200" cy="533520"/>
          </a:xfrm>
        </p:grpSpPr>
        <p:sp>
          <p:nvSpPr>
            <p:cNvPr id="151" name=""/>
            <p:cNvSpPr/>
            <p:nvPr/>
          </p:nvSpPr>
          <p:spPr>
            <a:xfrm>
              <a:off x="6161040" y="2514600"/>
              <a:ext cx="26780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3048120"/>
              <a:ext cx="12956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57200" y="3048120"/>
            <a:ext cx="8077320" cy="609480"/>
            <a:chOff x="457200" y="3048120"/>
            <a:chExt cx="8077320" cy="609480"/>
          </a:xfrm>
        </p:grpSpPr>
        <p:sp>
          <p:nvSpPr>
            <p:cNvPr id="154" name=""/>
            <p:cNvSpPr/>
            <p:nvPr/>
          </p:nvSpPr>
          <p:spPr>
            <a:xfrm>
              <a:off x="457200" y="3657600"/>
              <a:ext cx="43434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53280" y="3048120"/>
              <a:ext cx="3812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165480" y="80640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06520" y="806400"/>
            <a:ext cx="360" cy="4906800"/>
            <a:chOff x="1406520" y="806400"/>
            <a:chExt cx="360" cy="4906800"/>
          </a:xfrm>
        </p:grpSpPr>
        <p:sp>
          <p:nvSpPr>
            <p:cNvPr id="158" name=""/>
            <p:cNvSpPr/>
            <p:nvPr/>
          </p:nvSpPr>
          <p:spPr>
            <a:xfrm>
              <a:off x="1406520" y="80640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406520" y="806400"/>
              <a:ext cx="360" cy="4906800"/>
              <a:chOff x="1406520" y="806400"/>
              <a:chExt cx="360" cy="4906800"/>
            </a:xfrm>
          </p:grpSpPr>
          <p:sp>
            <p:nvSpPr>
              <p:cNvPr id="160" name=""/>
              <p:cNvSpPr/>
              <p:nvPr/>
            </p:nvSpPr>
            <p:spPr>
              <a:xfrm>
                <a:off x="1406520" y="806400"/>
                <a:ext cx="360" cy="49068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06520" y="806400"/>
                <a:ext cx="360" cy="49068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30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2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3165480" y="77148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06520" y="771480"/>
            <a:ext cx="360" cy="4968720"/>
            <a:chOff x="1406520" y="771480"/>
            <a:chExt cx="360" cy="4968720"/>
          </a:xfrm>
        </p:grpSpPr>
        <p:sp>
          <p:nvSpPr>
            <p:cNvPr id="165" name=""/>
            <p:cNvSpPr/>
            <p:nvPr/>
          </p:nvSpPr>
          <p:spPr>
            <a:xfrm>
              <a:off x="1406520" y="77148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406520" y="771480"/>
              <a:ext cx="360" cy="4968720"/>
              <a:chOff x="1406520" y="771480"/>
              <a:chExt cx="360" cy="496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1406520" y="771480"/>
                <a:ext cx="360" cy="49687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06520" y="771480"/>
                <a:ext cx="360" cy="49687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31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9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2246400" y="-1825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25600" y="-182520"/>
            <a:ext cx="360" cy="6811920"/>
            <a:chOff x="2325600" y="-182520"/>
            <a:chExt cx="360" cy="6811920"/>
          </a:xfrm>
        </p:grpSpPr>
        <p:sp>
          <p:nvSpPr>
            <p:cNvPr id="173" name=""/>
            <p:cNvSpPr/>
            <p:nvPr/>
          </p:nvSpPr>
          <p:spPr>
            <a:xfrm>
              <a:off x="2325600" y="-18252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325600" y="-182520"/>
              <a:ext cx="360" cy="6811920"/>
              <a:chOff x="2325600" y="-182520"/>
              <a:chExt cx="360" cy="6811920"/>
            </a:xfrm>
          </p:grpSpPr>
          <p:sp>
            <p:nvSpPr>
              <p:cNvPr id="175" name=""/>
              <p:cNvSpPr/>
              <p:nvPr/>
            </p:nvSpPr>
            <p:spPr>
              <a:xfrm>
                <a:off x="232560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2560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zh-CN" sz="43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advTm="2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3165480" y="9097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06520" y="909720"/>
            <a:ext cx="360" cy="4708440"/>
            <a:chOff x="1406520" y="909720"/>
            <a:chExt cx="360" cy="4708440"/>
          </a:xfrm>
        </p:grpSpPr>
        <p:sp>
          <p:nvSpPr>
            <p:cNvPr id="179" name=""/>
            <p:cNvSpPr/>
            <p:nvPr/>
          </p:nvSpPr>
          <p:spPr>
            <a:xfrm>
              <a:off x="1406520" y="90972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06520" y="909720"/>
              <a:ext cx="360" cy="4708440"/>
              <a:chOff x="1406520" y="909720"/>
              <a:chExt cx="360" cy="4708440"/>
            </a:xfrm>
          </p:grpSpPr>
          <p:sp>
            <p:nvSpPr>
              <p:cNvPr id="181" name=""/>
              <p:cNvSpPr/>
              <p:nvPr/>
            </p:nvSpPr>
            <p:spPr>
              <a:xfrm>
                <a:off x="1406520" y="909720"/>
                <a:ext cx="360" cy="47084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06520" y="909720"/>
                <a:ext cx="360" cy="47084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9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3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30492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山的云雾瞬息万变。眼前的云雾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刚刚还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随风飘荡的一缕轻烟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转眼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就变成了一泻千里的九天银河；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明明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匹四蹄生风的白马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还没等你完全看清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，它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变成了漂浮在北冰洋上的一座冰山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429000"/>
            <a:ext cx="714384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云雾一会儿变成……一会儿又变成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明明还是……转眼就变成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刚才还是……刹那间就变成…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165480" y="97776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06520" y="977760"/>
            <a:ext cx="360" cy="4572000"/>
            <a:chOff x="1406520" y="977760"/>
            <a:chExt cx="360" cy="4572000"/>
          </a:xfrm>
        </p:grpSpPr>
        <p:sp>
          <p:nvSpPr>
            <p:cNvPr id="47" name=""/>
            <p:cNvSpPr/>
            <p:nvPr/>
          </p:nvSpPr>
          <p:spPr>
            <a:xfrm>
              <a:off x="1406520" y="97776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406520" y="977760"/>
              <a:ext cx="360" cy="4572000"/>
              <a:chOff x="1406520" y="977760"/>
              <a:chExt cx="360" cy="4572000"/>
            </a:xfrm>
          </p:grpSpPr>
          <p:sp>
            <p:nvSpPr>
              <p:cNvPr id="49" name=""/>
              <p:cNvSpPr/>
              <p:nvPr/>
            </p:nvSpPr>
            <p:spPr>
              <a:xfrm>
                <a:off x="1406520" y="977760"/>
                <a:ext cx="360" cy="45720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06520" y="977760"/>
                <a:ext cx="360" cy="45720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8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1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3165480" y="8701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06520" y="870120"/>
            <a:ext cx="360" cy="4784400"/>
            <a:chOff x="1406520" y="870120"/>
            <a:chExt cx="360" cy="4784400"/>
          </a:xfrm>
        </p:grpSpPr>
        <p:sp>
          <p:nvSpPr>
            <p:cNvPr id="192" name=""/>
            <p:cNvSpPr/>
            <p:nvPr/>
          </p:nvSpPr>
          <p:spPr>
            <a:xfrm>
              <a:off x="1406520" y="87012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406520" y="870120"/>
              <a:ext cx="360" cy="4784400"/>
              <a:chOff x="1406520" y="870120"/>
              <a:chExt cx="360" cy="4784400"/>
            </a:xfrm>
          </p:grpSpPr>
          <p:sp>
            <p:nvSpPr>
              <p:cNvPr id="194" name=""/>
              <p:cNvSpPr/>
              <p:nvPr/>
            </p:nvSpPr>
            <p:spPr>
              <a:xfrm>
                <a:off x="1406520" y="870120"/>
                <a:ext cx="360" cy="47844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06520" y="870120"/>
                <a:ext cx="360" cy="47844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29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6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640040" y="504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云遮雾罩的庐山，真令人流连忘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457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流连忘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29480" y="533520"/>
            <a:ext cx="5712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望庐山瀑布   李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e4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855720"/>
            <a:ext cx="8207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做课外小导游</a:t>
            </a: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向身边的朋友介绍庐山的云雾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2017800" y="37800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54200" y="378000"/>
            <a:ext cx="360" cy="5730840"/>
            <a:chOff x="2554200" y="378000"/>
            <a:chExt cx="360" cy="5730840"/>
          </a:xfrm>
        </p:grpSpPr>
        <p:sp>
          <p:nvSpPr>
            <p:cNvPr id="54" name=""/>
            <p:cNvSpPr/>
            <p:nvPr/>
          </p:nvSpPr>
          <p:spPr>
            <a:xfrm>
              <a:off x="2554200" y="37800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554200" y="378000"/>
              <a:ext cx="360" cy="5730840"/>
              <a:chOff x="2554200" y="378000"/>
              <a:chExt cx="360" cy="5730840"/>
            </a:xfrm>
          </p:grpSpPr>
          <p:sp>
            <p:nvSpPr>
              <p:cNvPr id="56" name=""/>
              <p:cNvSpPr/>
              <p:nvPr/>
            </p:nvSpPr>
            <p:spPr>
              <a:xfrm>
                <a:off x="2554200" y="378000"/>
                <a:ext cx="360" cy="57308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54200" y="378000"/>
                <a:ext cx="360" cy="57308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36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2239920" y="-1825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332080" y="-182520"/>
            <a:ext cx="360" cy="6811920"/>
            <a:chOff x="2332080" y="-182520"/>
            <a:chExt cx="360" cy="6811920"/>
          </a:xfrm>
        </p:grpSpPr>
        <p:sp>
          <p:nvSpPr>
            <p:cNvPr id="61" name=""/>
            <p:cNvSpPr/>
            <p:nvPr/>
          </p:nvSpPr>
          <p:spPr>
            <a:xfrm>
              <a:off x="2332080" y="-18252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2332080" y="-182520"/>
              <a:ext cx="360" cy="6811920"/>
              <a:chOff x="2332080" y="-182520"/>
              <a:chExt cx="360" cy="6811920"/>
            </a:xfrm>
          </p:grpSpPr>
          <p:sp>
            <p:nvSpPr>
              <p:cNvPr id="63" name=""/>
              <p:cNvSpPr/>
              <p:nvPr/>
            </p:nvSpPr>
            <p:spPr>
              <a:xfrm>
                <a:off x="2332080" y="-182520"/>
                <a:ext cx="360" cy="681192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-182520"/>
                <a:ext cx="360" cy="681192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43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3165480" y="97776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406520" y="977760"/>
            <a:ext cx="360" cy="4572000"/>
            <a:chOff x="1406520" y="977760"/>
            <a:chExt cx="360" cy="4572000"/>
          </a:xfrm>
        </p:grpSpPr>
        <p:sp>
          <p:nvSpPr>
            <p:cNvPr id="68" name=""/>
            <p:cNvSpPr/>
            <p:nvPr/>
          </p:nvSpPr>
          <p:spPr>
            <a:xfrm>
              <a:off x="1406520" y="97776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406520" y="977760"/>
              <a:ext cx="360" cy="4572000"/>
              <a:chOff x="1406520" y="977760"/>
              <a:chExt cx="360" cy="4572000"/>
            </a:xfrm>
          </p:grpSpPr>
          <p:sp>
            <p:nvSpPr>
              <p:cNvPr id="70" name=""/>
              <p:cNvSpPr/>
              <p:nvPr/>
            </p:nvSpPr>
            <p:spPr>
              <a:xfrm>
                <a:off x="1406520" y="977760"/>
                <a:ext cx="360" cy="457200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06520" y="977760"/>
                <a:ext cx="360" cy="457200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8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2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3165480" y="89856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06520" y="898560"/>
            <a:ext cx="360" cy="4724280"/>
            <a:chOff x="1406520" y="898560"/>
            <a:chExt cx="360" cy="4724280"/>
          </a:xfrm>
        </p:grpSpPr>
        <p:sp>
          <p:nvSpPr>
            <p:cNvPr id="75" name=""/>
            <p:cNvSpPr/>
            <p:nvPr/>
          </p:nvSpPr>
          <p:spPr>
            <a:xfrm>
              <a:off x="1406520" y="89856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1406520" y="898560"/>
              <a:ext cx="360" cy="4724280"/>
              <a:chOff x="1406520" y="898560"/>
              <a:chExt cx="360" cy="4724280"/>
            </a:xfrm>
          </p:grpSpPr>
          <p:sp>
            <p:nvSpPr>
              <p:cNvPr id="77" name=""/>
              <p:cNvSpPr/>
              <p:nvPr/>
            </p:nvSpPr>
            <p:spPr>
              <a:xfrm>
                <a:off x="1406520" y="898560"/>
                <a:ext cx="360" cy="472428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06520" y="898560"/>
                <a:ext cx="360" cy="472428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9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9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2576520" y="-1825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995480" y="-182520"/>
            <a:ext cx="360" cy="6811920"/>
            <a:chOff x="1995480" y="-182520"/>
            <a:chExt cx="360" cy="6811920"/>
          </a:xfrm>
        </p:grpSpPr>
        <p:sp>
          <p:nvSpPr>
            <p:cNvPr id="82" name=""/>
            <p:cNvSpPr/>
            <p:nvPr/>
          </p:nvSpPr>
          <p:spPr>
            <a:xfrm>
              <a:off x="1995480" y="-18252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995480" y="-182520"/>
              <a:ext cx="360" cy="6811920"/>
              <a:chOff x="1995480" y="-182520"/>
              <a:chExt cx="360" cy="6811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9548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9548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43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3514680" y="1981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山的云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92360" y="260280"/>
            <a:ext cx="59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4583e"/>
                </a:solidFill>
                <a:latin typeface="Times New Roman"/>
                <a:ea typeface="楷体_GB2312"/>
              </a:rPr>
              <a:t>庐山的云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景色秀丽的庐山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高峰，有幽谷，有瀑布，有溪流，那变幻无常的云雾，更给它增添了几分神秘的色彩。在山上游览，似乎随手就能摸到飘来的云雾。漫步山道，常常会有一种腾云驾雾、飘飘欲仙的感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7621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762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1981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04080" y="611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580536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02:50:25Z</dcterms:created>
  <dc:creator>A</dc:creator>
  <dc:description/>
  <dc:language>en-US</dc:language>
  <cp:lastModifiedBy>微软用户</cp:lastModifiedBy>
  <dcterms:modified xsi:type="dcterms:W3CDTF">2016-01-19T02:20:54Z</dcterms:modified>
  <cp:revision>19</cp:revision>
  <dc:subject/>
  <dc:title>PowerPoint 演示文稿</dc:title>
</cp:coreProperties>
</file>