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ED6-1FCB-4287-8544-2DDC7F57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8D7-6456-4CCD-8EFA-D1C2DB05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096-41B4-4E82-BD31-33FAF114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7B7-98CE-4C1D-B7B5-FCB989BD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7FE-D059-4E68-A98D-2F06FE3B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0A9-D67B-43E7-97F3-0015CD4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DB0-AE77-423B-AEDD-3182F7A2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48F-9E26-4599-97AD-17C96CE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164-EB0F-4C83-89CA-D7F7D0B6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1A-A6C0-41DF-A8FA-BBFD428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418-EE60-48A6-B4BA-E66E316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E3B-D6C2-4C91-A2F9-A2588B2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987-042D-4088-84BF-AFFC59CCB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438280" y="260280"/>
            <a:ext cx="40388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通假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2022480"/>
            <a:ext cx="441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可得闻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今王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田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猎于此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今之乐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由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古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直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好世俗之乐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5600" y="1989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与，通“欤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7400" y="270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田，通“畋”，打猎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0560" y="35002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由”通“犹”，如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0560" y="42782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直”通“只”，只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557360"/>
            <a:ext cx="374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王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语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暴以好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独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乐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乐，与人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乐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与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少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乐乐，与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众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乐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则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王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仿宋_GB2312"/>
              </a:rPr>
              <a:t>矣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1557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名词作动词，告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20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名词作动词，欣赏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2852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形容词作名词，少数人，多数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414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名词作动词，成就王业，取得天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07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鼓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Times New Roman"/>
                <a:ea typeface="仿宋_GB2312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407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名词用作动词，演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40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见梁惠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沼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鸿雁麋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贤者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乎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对曰：“贤者而后乐此，不贤者虽有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乐也。《诗》云：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始灵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庶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不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成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经始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庶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。王在灵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麀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伏。麀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濯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白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鹤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王在灵沼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於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跃。’文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沼，而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欢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灵台，谓其沼曰灵沼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有麋鹿鱼鳖。古之人与民偕乐，故能乐也。《汤誓》曰：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时日害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偕亡。’民欲与之偕亡，虽有台池鸟兽，岂能独乐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齐宣王见孟子于雪宫。王曰：“贤者亦有此乐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孟子对曰：“有。人不得，则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矣。不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而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上者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与民同乐者，亦非也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乐民之乐者，民亦乐其乐；忧民之忧者，民亦忧其忧。乐以天下，忧以天下。然而不王者，未之有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昔者齐景公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晏子曰：‘吾欲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转附、朝舞。遵海而南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琅邪。吾何修而可以比于先王观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晏子对曰：‘善哉问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子适诸侯曰巡狩，巡狩者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所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：诸侯朝于天子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职，述职者迷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所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无非事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春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耕而补不足，秋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夏谚曰：吾王不游，吾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何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吾王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吾何以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游一豫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诸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今也不然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师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粮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饥者弗食，劳者弗息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睊睊胥谗，民乃作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方命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。饮食若流。流连荒亡。为诸侯忧。从流下而忘反谓之流，从流上而忘反谓之连，从兽无厌谓之荒，乐酒无厌谓之亡。先王无流连之乐，荒亡之行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’景公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大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国，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郊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兴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补不足。召大师曰：‘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作君臣相说之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《徵招》《角招》是也。其诗曰：‘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何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’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者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836640"/>
            <a:ext cx="374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王语暴以好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1773360"/>
            <a:ext cx="59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王之 好乐甚，则齐国其庶几乎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341360"/>
            <a:ext cx="56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ff"/>
                </a:solidFill>
                <a:latin typeface="Arial"/>
              </a:rPr>
              <a:t>大王把他爱好音乐的事告诉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20500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大王非常爱好音乐，那么齐国就该治理得差不多了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67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下面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2560" y="358776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独乐乐，与人乐乐，孰 乐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732200"/>
            <a:ext cx="388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（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）不若与人。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）不若与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149720"/>
            <a:ext cx="71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独自一个人欣赏音乐的快乐，和同别人一起欣赏音乐的快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哪一种更快乐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724280"/>
            <a:ext cx="4933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不如同别人一起欣赏音乐快乐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不如同许多人一起欣赏音乐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652840"/>
            <a:ext cx="66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王尝语庄子以好乐，有诸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?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141720"/>
            <a:ext cx="70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大王曾经告诉庄暴说您爱好音乐，有这回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661000"/>
            <a:ext cx="49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、今王与百姓同乐，则王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6316560"/>
            <a:ext cx="817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假如君王您能同百姓一起娱乐，那么就能称王于天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6000" y="620640"/>
            <a:ext cx="6588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问题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、读第一段：庄暴见齐王，王语暴以好乐，暴为何未有以对也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这样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2933640"/>
            <a:ext cx="679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出一段庄暴与孟子的对话，至少有这样几个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正面提出论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制造议论悬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以庄暴无言以对齐王，说明此论题的难度，反衬孟子论辩术的高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0360" y="255600"/>
            <a:ext cx="76676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问题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、齐宣王“变乎色”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77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齐王变了脸色，并称自己喜好的不是先王之乐，只是世俗之乐。齐王变了脸色，固然是“惭其好之不正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朱熹《孟子集注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为自己不喜欢先王之乐而爱好世俗之乐而羞愧，但他也知道孟子是主张先王之乐反对世俗之乐的，他正面承认自己爱好世俗之乐，也就把自己和孟子的立场对立起来了。这时的谈话气氛并不融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080" y="44280"/>
            <a:ext cx="66592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问题探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、“王之好乐甚，则齐国庶几乎。今之乐犹古之乐也。”在整个论辩过程中起到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86048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    “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王之好乐甚，则齐国庶几乎。”不仅迎合了齐王，引起了齐王的兴趣，改变了谈话的气氛，而且巧妙地把谈话由音乐引入政治领域。然后再补充一句“今之乐犹古之乐也。”既是既是承接齐王“先王之乐”“世俗之乐”之言而来，又改变了原来的概念，进一步转换话题。先王之乐、世俗之乐和“古之乐”“今之乐”既相同又不同，两者雅俗的区分明显，无论今乐古乐，都有雅有俗。在偷换概念中，孟子巧妙地转换了话题。“其实，今乐古乐何可同也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?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但与民同乐之意，则无古今之异耳。”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朱熹《孟子集注》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500" spc="-1" strike="noStrike">
                <a:solidFill>
                  <a:srgbClr val="ff3300"/>
                </a:solidFill>
                <a:latin typeface="宋体"/>
              </a:rPr>
              <a:t>避开容易引起齐王反感的音乐的雅俗问题，借题发挥，巧妙地把音乐话题转为政治话题，既不丧失自己对音乐的一贯立场，又把谈话引入了自己想说的领域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1932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继之庄暴，提出话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2133720"/>
            <a:ext cx="58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齐王变色，话不投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571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奉承齐王，借题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38400" y="4038480"/>
            <a:ext cx="56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齐王有兴，情绪好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292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浓化谈资，步步诱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7913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齐王就范，落入圈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提出与民同乐的主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32000" y="47628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问题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81000"/>
            <a:ext cx="6491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、孟子描绘了人民个个“疾首蹙頞”“父子不相见，兄弟妻子 离散”的悲惨图景和人人都“欣欣然有喜色”，祝福国君身体健康的太平景象这两幅画面，其作用是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41497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避免直接的、枯燥的说教。通过描写来说理，在议论文中可以借鉴使用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227808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针对春秋战国朝代连年战争、生民涂炭的现实，孟子继承并发展了孔子的“仁政”思想，使之成为一种政治思想体系。它对两千年来的中国封建社会的历史，产生了异乎寻常的影响。孟子的“仁政”学说虽然以维护封建制度为出发点，但是对于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稳定经济，发展生产，减轻人民负担，减少农民因丧失土地而迁徙流离的痛苦，却有一定的进步意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；但同时统治阶级的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享乐是建立在下层人民的痛苦之上的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又有谁愿意轻易放弃自己的这种权利呢？这种思想不过是空想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8985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思考：孟子“与民同乐”的思想有什么意义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在当时能否实现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91628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乐民之乐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 </a:t>
            </a: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忧民之忧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66880" y="990720"/>
            <a:ext cx="3657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词语认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2563920"/>
            <a:ext cx="60958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王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暴以好乐       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庶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独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乐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孰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乐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臣请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王言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管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音                  疾首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蹙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旄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则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492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67320" y="25304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hù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3281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1840" y="3281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uè 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6920" y="4000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0040" y="4000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wèi l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4721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27640" y="4721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ù’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19200" y="5440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9120" y="544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w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3T02:50:5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