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16.jpeg" ContentType="image/jpeg"/>
  <Override PartName="/ppt/media/chimes.wav" ContentType="audio/x-wav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4E088-AFFD-4503-9C90-5BA196533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5F84D-7E7B-4C06-8C65-47647412B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2C082-A5A1-45B1-9D57-BD617D471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09715-94C4-44CE-AD28-77A564169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1300E-688F-4FDE-AFF3-08668C9D1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3E6ED-361B-4454-8DBB-4DCDA891B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9496C-C2BF-4107-A1F6-CA1757460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91993-D5A2-47F3-8B66-0D74BB8E1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EF2A7-C4A2-417B-BB21-46F82CC03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5D581-7490-4A1C-B4B0-93B2CDAA1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3525B-CDF8-449C-9D6A-93F191AF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62604-175E-43CA-AEC2-1E0B92AAB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75456-4EB8-4E97-9FFE-BE3C4D6A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77822-57AA-4513-B462-853ABE0F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F2CEA-C765-4331-A763-3624A8919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C9637-E146-434C-80B7-668716020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BF366-E632-4366-AC87-E7027C599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F37B5C-2E26-4C56-986C-6B61FCF91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968812-5F2A-4E0C-9774-4FD728015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8E8A19-384F-4B1F-8895-B73F13C31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DD596D-8D6C-4E30-B56D-3DE58E8FC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89390E-7F3D-4FA0-9F5B-CBDAC0DB2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C3B2C-8C3C-4586-A7DC-E5BE3BEA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D57A01-CA5D-4019-A016-16CFAA162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62C1E7-6BE9-44B1-B458-7E9C8985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08D649-CE7C-4D47-B35E-28FEEF7C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E06136-26FD-477D-86AC-F9C500D2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F5341A-CB91-4294-B4E8-62A00BCAB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6DB9EC-F6AB-475A-8E11-6E7A54F84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2B812E-D17C-4389-8CD3-E97596525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96769-E040-43C9-A7C4-8BD28A2FA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8A2DC-6E06-4228-A6A1-132988074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2C18F-C24A-4D9D-9630-71726F1C2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4BEBD-1EE8-40EE-8815-402457437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902AF-781B-4CA5-966C-A4738CF8B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88BB7-5DB5-4379-95F1-C688524F4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6631A-1985-42D6-9FBF-68E3AB0EA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ADD2B-CCC2-470D-B5B5-235E9E5F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04742-84D8-4F9B-A810-642CA4D1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A6CB0-EB8A-47A8-A7BC-77027AA8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4D254-3B83-47B6-A966-3D64B8DDC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8EE2B-4EF2-427F-A892-E24C39C0A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AA09E-CEE5-44BF-889E-B29D56177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367C4-3A39-4967-8E9D-217161030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358D6-9FA3-4A69-ADCA-660CBE436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F990E-422A-4DB5-8AD5-5531B6476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7D430-EF6E-4520-8E07-CE9D04B4D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D1A7B-A86B-496A-AD65-04A32D5B4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67D53-08C5-4ED7-8765-44E2072F6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BE5FF-1720-46C0-847A-34AFDA7F0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905DF-5024-49DA-86D3-5D294865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0D12D-5DC1-4A0A-84D0-DF976331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DDF3F-C4E9-4733-8DF0-2FF97D88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D24ED-84CA-4A29-8161-8A348F21A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DC5E1-9C2C-450E-8389-D71AD1876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6D8B5-F694-45A5-AF18-3777E3427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B1296-644A-495D-8AE5-F1651DB84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9A6B4-18AF-479A-8112-D6710D16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7AC9B-6515-4FB9-8E16-F7B37F63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E3FBA-320D-4D1B-9C42-5E0654FC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B11EA-7E5F-4ABE-B0D4-B21A55C3109E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组合 55299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矩形 55300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矩形 55301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矩形 55302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矩形 55303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矩形 55304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矩形 55305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矩形 55306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矩形 55307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矩形 55308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29480" indent="42948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5932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9160" indent="-4294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19000" indent="-85932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19000" indent="-85932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19000" indent="-85932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08368-594B-44A2-B6E8-086117E106A7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29C3E-A25A-48CE-82BB-FCEEBCD3BD0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6F964-D363-43EF-8FE1-B4BD90CC08B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05DAA-4FD2-40F8-9207-DBF0107B3639}" type="slidenum">
              <a:rPr b="0" lang="zh-CN" sz="1200" spc="-1" strike="noStrike">
                <a:solidFill>
                  <a:srgbClr val="000000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组合 55299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5" name="矩形 55300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矩形 55301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矩形 55302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矩形 55303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矩形 55304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矩形 55305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矩形 55306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矩形 55307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矩形 55308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29480" indent="42948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5932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9160" indent="-4294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19000" indent="-85932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19000" indent="-85932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19000" indent="-85932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610E3-E1A5-46E3-B3D3-5BAA9C50ADBB}" type="datetime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组合 5632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44" name="矩形 56322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矩形 56323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组合 56324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47" name="矩形 56325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矩形 56326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矩形 56327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矩形 56328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矩形 56329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矩形 56330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矩形 56331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矩形 56332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矩形 56333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矩形 56334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29480" indent="42948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5932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9160" indent="-4294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19000" indent="-85932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19000" indent="-85932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19000" indent="-85932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4BE5B-6826-4420-B163-60B1B9530740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FBC27-865F-4349-A03F-F4A998A17A53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组合 5632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99" name="矩形 56322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矩形 56323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" name="组合 56324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02" name="矩形 56325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矩形 56326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矩形 56327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矩形 56328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矩形 56329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矩形 56330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矩形 56331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矩形 56332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矩形 56333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矩形 56334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29480" indent="42948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5932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9160" indent="-4294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19000" indent="-85932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19000" indent="-85932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19000" indent="-85932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F56EA-E504-48B5-A72D-C64530836AA2}" type="datetime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2F4F1-248D-46BE-BDD9-A33D333C1B3D}" type="slidenum">
              <a:rPr b="0" lang="zh-CN" sz="1200" spc="-1" strike="noStrike">
                <a:solidFill>
                  <a:srgbClr val="000000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news.qq.com/a/20091124/001735.htm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文本框 58369"/>
          <p:cNvSpPr/>
          <p:nvPr/>
        </p:nvSpPr>
        <p:spPr>
          <a:xfrm>
            <a:off x="1762200" y="2921040"/>
            <a:ext cx="707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方正启体简体"/>
                <a:ea typeface="华文隶书"/>
              </a:rPr>
              <a:t>乐民之乐，忧民之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文本框 58370"/>
          <p:cNvSpPr/>
          <p:nvPr/>
        </p:nvSpPr>
        <p:spPr>
          <a:xfrm>
            <a:off x="1179360" y="579600"/>
            <a:ext cx="75614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高中语文选修</a:t>
            </a:r>
            <a:r>
              <a:rPr b="1" lang="en-US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先秦诸子选读</a:t>
            </a:r>
            <a:r>
              <a:rPr b="1" lang="en-US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第二单元</a:t>
            </a:r>
            <a:r>
              <a:rPr b="1" lang="en-US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孟子</a:t>
            </a:r>
            <a:r>
              <a:rPr b="1" lang="en-US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选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58372" descr="chema"/>
          <p:cNvPicPr/>
          <p:nvPr/>
        </p:nvPicPr>
        <p:blipFill>
          <a:blip r:embed="rId1"/>
          <a:stretch/>
        </p:blipFill>
        <p:spPr>
          <a:xfrm>
            <a:off x="7451640" y="5443560"/>
            <a:ext cx="1692360" cy="123192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58373" descr="chema"/>
          <p:cNvPicPr/>
          <p:nvPr/>
        </p:nvPicPr>
        <p:blipFill>
          <a:blip r:embed="rId2"/>
          <a:stretch/>
        </p:blipFill>
        <p:spPr>
          <a:xfrm>
            <a:off x="7451640" y="5443560"/>
            <a:ext cx="1692360" cy="1231920"/>
          </a:xfrm>
          <a:prstGeom prst="rect">
            <a:avLst/>
          </a:prstGeom>
          <a:ln w="0">
            <a:noFill/>
          </a:ln>
        </p:spPr>
      </p:pic>
      <p:pic>
        <p:nvPicPr>
          <p:cNvPr id="257" name="图片 58374" descr="孔子头像 副本"/>
          <p:cNvPicPr/>
          <p:nvPr/>
        </p:nvPicPr>
        <p:blipFill>
          <a:blip r:embed="rId3"/>
          <a:stretch/>
        </p:blipFill>
        <p:spPr>
          <a:xfrm>
            <a:off x="0" y="0"/>
            <a:ext cx="11793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0" y="101520"/>
            <a:ext cx="9028080" cy="2028960"/>
          </a:xfrm>
          <a:prstGeom prst="rect">
            <a:avLst/>
          </a:prstGeom>
          <a:solidFill>
            <a:srgbClr val="ffff00"/>
          </a:solidFill>
          <a:ln w="9360">
            <a:solidFill>
              <a:srgbClr val="c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曰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王之好乐甚，则齐其庶几乎！今之乐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由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古之乐也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曰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可得闻与？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曰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独乐乐，与人乐乐，孰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？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曰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不若与人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曰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与少乐乐，与众乐乐，孰乐？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曰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不若与众。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"/>
          <p:cNvSpPr/>
          <p:nvPr/>
        </p:nvSpPr>
        <p:spPr>
          <a:xfrm>
            <a:off x="34920" y="2360520"/>
            <a:ext cx="8893080" cy="155628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孟子说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大王如果非常喜好音乐，那齐国恐怕就很不错了！在这件事上，现在的音乐与古代的音乐差不多。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宜王说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能让我知道是什么道理吗？孟子说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独自一人娱乐，与和他人一起娱乐，哪个更快乐？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宣王说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不如与他人一起娱乐更快乐。孟子说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和少数人一起娱乐，与和多数人一起娱乐，哪个更快乐？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宣王说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不如与多数人一起娱乐更快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直接连接符 10244"/>
          <p:cNvSpPr/>
          <p:nvPr/>
        </p:nvSpPr>
        <p:spPr>
          <a:xfrm flipV="1">
            <a:off x="214200" y="2130120"/>
            <a:ext cx="8713800" cy="730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108000" y="0"/>
            <a:ext cx="9036000" cy="2781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臣请为王言乐。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王鼓乐于此，百姓闻王钟鼓之声、管籥之音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举疾首蹙頞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而相告曰：吾王之好鼓乐，夫何使我至于此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也，父子不相见，兄弟妻子离散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今王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田猎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于此，百姓闻王车马之音，见羽旄之美，举疾首蹙頞相告曰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‘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吾王之好田猎，夫何使我至于此极也？父子不相见，兄弟妻子离散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此无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他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不与民同乐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3"/>
          <p:cNvSpPr/>
          <p:nvPr/>
        </p:nvSpPr>
        <p:spPr>
          <a:xfrm>
            <a:off x="0" y="2852640"/>
            <a:ext cx="9144000" cy="2226960"/>
          </a:xfrm>
          <a:prstGeom prst="rect">
            <a:avLst/>
          </a:pr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孟子说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那就让我来为大王讲讲娱乐吧！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假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王在这里奏乐，百姓们听到大王鸣钟击鼓、吹箫奏笛的音声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都愁眉苦脸地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相互诉苦说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‘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们大王喜好音乐，为什么使我们这般穷困呢？父亲和儿子不能相见，兄弟和妻儿分离流散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假如大王在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围猎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百姓们听到大王车马的声音，见到旗帜的华丽，都愁眉苦脸地相互诉说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‘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们大王喜好围猎，为什么要使我们这般穷困呢，父亲和儿子不能相见，兄弟和妻儿分离流散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没有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别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原因，是由于不和民众一起娱乐的缘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直接连接符 11267"/>
          <p:cNvSpPr/>
          <p:nvPr/>
        </p:nvSpPr>
        <p:spPr>
          <a:xfrm flipV="1">
            <a:off x="179280" y="2707920"/>
            <a:ext cx="8713800" cy="730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-19080" y="45720"/>
            <a:ext cx="9182160" cy="22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今王鼓乐于此，百姓闻王钟鼓之声、管籥之音，举欣欣然有喜色而相告曰</a:t>
            </a:r>
            <a:r>
              <a:rPr b="1" lang="en-US" sz="1400" spc="-1" strike="noStrike">
                <a:solidFill>
                  <a:srgbClr val="0000ff"/>
                </a:solidFill>
                <a:latin typeface="黑体"/>
                <a:ea typeface="黑体"/>
              </a:rPr>
              <a:t>:‘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吾王庶几无疾病与，何以能鼓乐也？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’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今王田猎于此，百姓闻王车马之音，见羽旄之美，举欣欣然有喜色而相告曰</a:t>
            </a:r>
            <a:r>
              <a:rPr b="1" lang="zh-CN" sz="1600" spc="-1" strike="noStrike">
                <a:solidFill>
                  <a:srgbClr val="0000ff"/>
                </a:solidFill>
                <a:latin typeface="黑体"/>
                <a:ea typeface="黑体"/>
              </a:rPr>
              <a:t>：</a:t>
            </a:r>
            <a:r>
              <a:rPr b="1" lang="en-US" sz="1600" spc="-1" strike="noStrike">
                <a:solidFill>
                  <a:srgbClr val="0000ff"/>
                </a:solidFill>
                <a:latin typeface="黑体"/>
                <a:ea typeface="黑体"/>
              </a:rPr>
              <a:t>‘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吾王庶几无疾病与，何能田猎也？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’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此无他，与民同乐也。今王与百姓同乐，则王矣！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3"/>
          <p:cNvSpPr/>
          <p:nvPr/>
        </p:nvSpPr>
        <p:spPr>
          <a:xfrm>
            <a:off x="-19080" y="2305080"/>
            <a:ext cx="9182160" cy="1556280"/>
          </a:xfrm>
          <a:prstGeom prst="rect">
            <a:avLst/>
          </a:pr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假如大王在这奏乐，百姓们听到大王鸣钟击鼓、吹箫奏笛的音声，都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眉开眼笑地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相互告诉说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‘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们大王大概没有疾病吧，要不怎么能奏乐呢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’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假如大王在围猎，百姓们听到大 王车马的声音，见到旗帜的华丽，都眉开眼笑地相互告诉说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‘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们大王大概没有疾病吧，要不怎么能围猎呢？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’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这没有别的原因，是由于和民众一起娱乐的缘故。 倘若大王与百姓一起娱乐，那么就会受到天下人的拥戴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直接连接符 12292"/>
          <p:cNvSpPr/>
          <p:nvPr/>
        </p:nvSpPr>
        <p:spPr>
          <a:xfrm flipV="1">
            <a:off x="322200" y="2304720"/>
            <a:ext cx="8713800" cy="730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组合 17409"/>
          <p:cNvGrpSpPr/>
          <p:nvPr/>
        </p:nvGrpSpPr>
        <p:grpSpPr>
          <a:xfrm>
            <a:off x="179280" y="333360"/>
            <a:ext cx="8352720" cy="620640"/>
            <a:chOff x="179280" y="333360"/>
            <a:chExt cx="8352720" cy="620640"/>
          </a:xfrm>
        </p:grpSpPr>
        <p:sp>
          <p:nvSpPr>
            <p:cNvPr id="311" name="Rectangle 3"/>
            <p:cNvSpPr/>
            <p:nvPr/>
          </p:nvSpPr>
          <p:spPr>
            <a:xfrm>
              <a:off x="195120" y="407520"/>
              <a:ext cx="8336880" cy="422280"/>
            </a:xfrm>
            <a:prstGeom prst="rect">
              <a:avLst/>
            </a:prstGeom>
            <a:solidFill>
              <a:srgbClr val="8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ahoma"/>
                </a:rPr>
                <a:t>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2" name="Picture 4" descr="花卉"/>
            <p:cNvPicPr/>
            <p:nvPr/>
          </p:nvPicPr>
          <p:blipFill>
            <a:blip r:embed="rId1"/>
            <a:stretch/>
          </p:blipFill>
          <p:spPr>
            <a:xfrm>
              <a:off x="179280" y="333360"/>
              <a:ext cx="2016360" cy="62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3" name="WordArt 5"/>
          <p:cNvSpPr txBox="1"/>
          <p:nvPr/>
        </p:nvSpPr>
        <p:spPr>
          <a:xfrm>
            <a:off x="650880" y="2479680"/>
            <a:ext cx="7626240" cy="233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333300"/>
                </a:solidFill>
                <a:latin typeface="方正水柱简体"/>
              </a:rPr>
              <a:t>探 究 文 本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333300"/>
              </a:solidFill>
              <a:latin typeface="方正水柱简体"/>
              <a:ea typeface="方正水柱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178920" y="1196640"/>
            <a:ext cx="8907480" cy="785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孟子是如何调控与齐王谈话的气氛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847800" y="2276640"/>
            <a:ext cx="162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引入话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4"/>
          <p:cNvSpPr/>
          <p:nvPr/>
        </p:nvSpPr>
        <p:spPr>
          <a:xfrm>
            <a:off x="500040" y="2990880"/>
            <a:ext cx="241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→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转换话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5"/>
          <p:cNvSpPr/>
          <p:nvPr/>
        </p:nvSpPr>
        <p:spPr>
          <a:xfrm>
            <a:off x="428760" y="3705120"/>
            <a:ext cx="257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→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直切正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6"/>
          <p:cNvSpPr/>
          <p:nvPr/>
        </p:nvSpPr>
        <p:spPr>
          <a:xfrm>
            <a:off x="818640" y="4348080"/>
            <a:ext cx="133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→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得出结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7"/>
          <p:cNvSpPr/>
          <p:nvPr/>
        </p:nvSpPr>
        <p:spPr>
          <a:xfrm>
            <a:off x="3285720" y="2276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投其所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矩形 8"/>
          <p:cNvSpPr/>
          <p:nvPr/>
        </p:nvSpPr>
        <p:spPr>
          <a:xfrm>
            <a:off x="3276720" y="29192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请君入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9"/>
          <p:cNvSpPr/>
          <p:nvPr/>
        </p:nvSpPr>
        <p:spPr>
          <a:xfrm>
            <a:off x="3000240" y="35733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形象生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10"/>
          <p:cNvSpPr/>
          <p:nvPr/>
        </p:nvSpPr>
        <p:spPr>
          <a:xfrm>
            <a:off x="3276720" y="43480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水到渠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4857840" y="2909880"/>
            <a:ext cx="42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由谈乐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(yuè)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而言乐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(lè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7"/>
          <p:cNvSpPr/>
          <p:nvPr/>
        </p:nvSpPr>
        <p:spPr>
          <a:xfrm>
            <a:off x="4786200" y="3645000"/>
            <a:ext cx="433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正反对照引出与众乐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4859280" y="43657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今王与百姓同乐则王矣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785880" y="5357880"/>
            <a:ext cx="7473960" cy="70344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实行仁政，与民同乐，可王天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文本框 18446"/>
          <p:cNvSpPr/>
          <p:nvPr/>
        </p:nvSpPr>
        <p:spPr>
          <a:xfrm>
            <a:off x="324000" y="333360"/>
            <a:ext cx="18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00"/>
                </a:solidFill>
                <a:latin typeface="Arial"/>
                <a:ea typeface="华文隶书"/>
              </a:rPr>
              <a:t>合作探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文本框 18447"/>
          <p:cNvSpPr/>
          <p:nvPr/>
        </p:nvSpPr>
        <p:spPr>
          <a:xfrm>
            <a:off x="5488920" y="2276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好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课文层次及内容初步理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162160"/>
            <a:ext cx="822960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第一层：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庄暴向孟子讨教“王之好乐，则何如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第二层：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孟子缓解齐宣王的窘态，借题发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第三层：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孟子通过引导及描述讲解“与民同乐”的道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文本框 434177"/>
          <p:cNvSpPr/>
          <p:nvPr/>
        </p:nvSpPr>
        <p:spPr>
          <a:xfrm>
            <a:off x="174600" y="144360"/>
            <a:ext cx="8601120" cy="2147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问题探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、读第一层：庄暴见齐王，王语暴以好乐，暴为何未有以对也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?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这样写有什么好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434178"/>
          <p:cNvSpPr/>
          <p:nvPr/>
        </p:nvSpPr>
        <p:spPr>
          <a:xfrm>
            <a:off x="174600" y="3191040"/>
            <a:ext cx="8601120" cy="2592720"/>
          </a:xfrm>
          <a:prstGeom prst="rect">
            <a:avLst/>
          </a:pr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正面引出论题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以庄暴无言以对齐王，说明此论题的难度，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反衬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孟子论辩术的高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文本框 435201"/>
          <p:cNvSpPr/>
          <p:nvPr/>
        </p:nvSpPr>
        <p:spPr>
          <a:xfrm>
            <a:off x="361800" y="198360"/>
            <a:ext cx="8418600" cy="1537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问题探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齐宣王“变乎色”说明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435202"/>
          <p:cNvSpPr/>
          <p:nvPr/>
        </p:nvSpPr>
        <p:spPr>
          <a:xfrm>
            <a:off x="228600" y="2438280"/>
            <a:ext cx="8651880" cy="1983240"/>
          </a:xfrm>
          <a:prstGeom prst="rect">
            <a:avLst/>
          </a:pr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齐王变了脸色，是因为喜好的不是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先王之乐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，只是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世俗之乐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。 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“惭其好之不正”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。 但他也知道孟子是主张先王之乐反对世俗之乐的，他尊敬孟子怕他说自己喜欢俗乐，而荒于国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文本框 438273"/>
          <p:cNvSpPr/>
          <p:nvPr/>
        </p:nvSpPr>
        <p:spPr>
          <a:xfrm>
            <a:off x="1332000" y="476280"/>
            <a:ext cx="583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文本框 438274"/>
          <p:cNvSpPr/>
          <p:nvPr/>
        </p:nvSpPr>
        <p:spPr>
          <a:xfrm>
            <a:off x="395280" y="165240"/>
            <a:ext cx="8412120" cy="76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问题探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矩形 438275"/>
          <p:cNvSpPr/>
          <p:nvPr/>
        </p:nvSpPr>
        <p:spPr>
          <a:xfrm>
            <a:off x="395280" y="981000"/>
            <a:ext cx="8412120" cy="24764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、孟子描绘了人民个个“疾首蹙頞”“父子不相见，兄弟妻子 离散”的悲惨图景和人人都“欣欣然有喜色”，祝福国君身体健康的太平景象这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两幅画面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，其作用是什么？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矩形 438276"/>
          <p:cNvSpPr/>
          <p:nvPr/>
        </p:nvSpPr>
        <p:spPr>
          <a:xfrm>
            <a:off x="395280" y="3505320"/>
            <a:ext cx="8412120" cy="703440"/>
          </a:xfrm>
          <a:prstGeom prst="rect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    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避免直接的、枯燥的说教。通过描写来说理，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形象，生动，直观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，通过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对比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说理，更加突出观点，在议论文中可以借鉴使用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152280" y="156528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孟子的“与民同乐”思想劝告统治者为民着想，了解人民的苦乐，爱惜民力，对于稳定经济，发展生产，减轻人民负担，减少农民因丧失土地而迁徙流离的痛苦，却有一定的进步意义；但同时统治阶级的享乐是建立在下层人民的痛苦之上的，又有谁愿意轻易放弃自己的这种权利呢？这种思想不会真正的实现，仅是空想而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439298"/>
          <p:cNvSpPr/>
          <p:nvPr/>
        </p:nvSpPr>
        <p:spPr>
          <a:xfrm>
            <a:off x="279360" y="165240"/>
            <a:ext cx="8585280" cy="11912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a50021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4.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思考：孟子“与民同乐”的思想有什么意义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?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在当时能否实现？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文本框 73730"/>
          <p:cNvSpPr/>
          <p:nvPr/>
        </p:nvSpPr>
        <p:spPr>
          <a:xfrm>
            <a:off x="3419640" y="3068640"/>
            <a:ext cx="4679640" cy="8251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ff33"/>
                </a:solidFill>
                <a:latin typeface="Arial"/>
                <a:ea typeface="华文隶书"/>
              </a:rPr>
              <a:t>第一课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73731" descr="chema"/>
          <p:cNvPicPr/>
          <p:nvPr/>
        </p:nvPicPr>
        <p:blipFill>
          <a:blip r:embed="rId1"/>
          <a:stretch/>
        </p:blipFill>
        <p:spPr>
          <a:xfrm>
            <a:off x="7451640" y="5443560"/>
            <a:ext cx="1692360" cy="123192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3732" descr="孔子头像 副本"/>
          <p:cNvPicPr/>
          <p:nvPr/>
        </p:nvPicPr>
        <p:blipFill>
          <a:blip r:embed="rId2"/>
          <a:stretch/>
        </p:blipFill>
        <p:spPr>
          <a:xfrm>
            <a:off x="0" y="0"/>
            <a:ext cx="1179360" cy="1871640"/>
          </a:xfrm>
          <a:prstGeom prst="rect">
            <a:avLst/>
          </a:prstGeom>
          <a:ln w="0">
            <a:noFill/>
          </a:ln>
        </p:spPr>
      </p:pic>
      <p:sp>
        <p:nvSpPr>
          <p:cNvPr id="261" name="文本框 73733"/>
          <p:cNvSpPr/>
          <p:nvPr/>
        </p:nvSpPr>
        <p:spPr>
          <a:xfrm>
            <a:off x="2771640" y="2133720"/>
            <a:ext cx="59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cc00"/>
                </a:solidFill>
                <a:latin typeface="方正启体简体"/>
                <a:ea typeface="华文隶书"/>
              </a:rPr>
              <a:t>乐民之乐，忧民之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文本框 72705"/>
          <p:cNvSpPr/>
          <p:nvPr/>
        </p:nvSpPr>
        <p:spPr>
          <a:xfrm>
            <a:off x="2411280" y="1989000"/>
            <a:ext cx="59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cc00"/>
                </a:solidFill>
                <a:latin typeface="方正启体简体"/>
                <a:ea typeface="方正启体简体"/>
              </a:rPr>
              <a:t>乐民之乐，忧民之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文本框 72708"/>
          <p:cNvSpPr/>
          <p:nvPr/>
        </p:nvSpPr>
        <p:spPr>
          <a:xfrm>
            <a:off x="2916360" y="314172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ff33"/>
                </a:solidFill>
                <a:latin typeface="Arial"/>
                <a:ea typeface="方正水柱简体"/>
              </a:rPr>
              <a:t>第二课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72709" descr="chema"/>
          <p:cNvPicPr/>
          <p:nvPr/>
        </p:nvPicPr>
        <p:blipFill>
          <a:blip r:embed="rId1"/>
          <a:stretch/>
        </p:blipFill>
        <p:spPr>
          <a:xfrm>
            <a:off x="7451640" y="5443560"/>
            <a:ext cx="1692360" cy="123192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2710" descr="孔子头像 副本"/>
          <p:cNvPicPr/>
          <p:nvPr/>
        </p:nvPicPr>
        <p:blipFill>
          <a:blip r:embed="rId2"/>
          <a:stretch/>
        </p:blipFill>
        <p:spPr>
          <a:xfrm>
            <a:off x="0" y="0"/>
            <a:ext cx="11793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6" descr="mengzi"/>
          <p:cNvPicPr/>
          <p:nvPr/>
        </p:nvPicPr>
        <p:blipFill>
          <a:blip r:embed="rId1"/>
          <a:stretch/>
        </p:blipFill>
        <p:spPr>
          <a:xfrm>
            <a:off x="-322200" y="3240"/>
            <a:ext cx="9466200" cy="6854760"/>
          </a:xfrm>
          <a:prstGeom prst="rect">
            <a:avLst/>
          </a:prstGeom>
          <a:ln w="0">
            <a:noFill/>
          </a:ln>
        </p:spPr>
      </p:pic>
      <p:sp>
        <p:nvSpPr>
          <p:cNvPr id="346" name="WordArt 8"/>
          <p:cNvSpPr txBox="1"/>
          <p:nvPr/>
        </p:nvSpPr>
        <p:spPr>
          <a:xfrm>
            <a:off x="1192320" y="255600"/>
            <a:ext cx="54896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黑体"/>
              </a:rPr>
              <a:t>孟子见梁惠王</a:t>
            </a:r>
            <a:endParaRPr b="1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WordArt 2"/>
          <p:cNvSpPr txBox="1"/>
          <p:nvPr/>
        </p:nvSpPr>
        <p:spPr>
          <a:xfrm>
            <a:off x="2987640" y="620640"/>
            <a:ext cx="3384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方正粗倩简体"/>
              </a:rPr>
              <a:t>检测预习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方正粗倩简体"/>
              <a:ea typeface="方正粗倩简体"/>
            </a:endParaRPr>
          </a:p>
        </p:txBody>
      </p:sp>
      <p:sp>
        <p:nvSpPr>
          <p:cNvPr id="348" name="矩形 5"/>
          <p:cNvSpPr/>
          <p:nvPr/>
        </p:nvSpPr>
        <p:spPr>
          <a:xfrm>
            <a:off x="1116360" y="17715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经始勿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矩形 6"/>
          <p:cNvSpPr/>
          <p:nvPr/>
        </p:nvSpPr>
        <p:spPr>
          <a:xfrm>
            <a:off x="5289840" y="1781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王在灵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 7"/>
          <p:cNvSpPr/>
          <p:nvPr/>
        </p:nvSpPr>
        <p:spPr>
          <a:xfrm>
            <a:off x="1074960" y="2495520"/>
            <a:ext cx="103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麀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鹿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攸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矩形 8"/>
          <p:cNvSpPr/>
          <p:nvPr/>
        </p:nvSpPr>
        <p:spPr>
          <a:xfrm>
            <a:off x="5433120" y="2424240"/>
            <a:ext cx="10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麀鹿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濯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矩形 9"/>
          <p:cNvSpPr/>
          <p:nvPr/>
        </p:nvSpPr>
        <p:spPr>
          <a:xfrm>
            <a:off x="1116360" y="3211560"/>
            <a:ext cx="10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於牣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鱼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10"/>
          <p:cNvSpPr/>
          <p:nvPr/>
        </p:nvSpPr>
        <p:spPr>
          <a:xfrm>
            <a:off x="2877480" y="1700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j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12"/>
          <p:cNvSpPr/>
          <p:nvPr/>
        </p:nvSpPr>
        <p:spPr>
          <a:xfrm>
            <a:off x="2352240" y="2421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ō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13"/>
          <p:cNvSpPr/>
          <p:nvPr/>
        </p:nvSpPr>
        <p:spPr>
          <a:xfrm>
            <a:off x="6848640" y="1628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ò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14"/>
          <p:cNvSpPr/>
          <p:nvPr/>
        </p:nvSpPr>
        <p:spPr>
          <a:xfrm>
            <a:off x="3504960" y="2421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ō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15"/>
          <p:cNvSpPr/>
          <p:nvPr/>
        </p:nvSpPr>
        <p:spPr>
          <a:xfrm>
            <a:off x="6726960" y="23479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u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16"/>
          <p:cNvSpPr/>
          <p:nvPr/>
        </p:nvSpPr>
        <p:spPr>
          <a:xfrm>
            <a:off x="2627280" y="3213000"/>
            <a:ext cx="79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17"/>
          <p:cNvSpPr/>
          <p:nvPr/>
        </p:nvSpPr>
        <p:spPr>
          <a:xfrm>
            <a:off x="3708360" y="321300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è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18"/>
          <p:cNvSpPr/>
          <p:nvPr/>
        </p:nvSpPr>
        <p:spPr>
          <a:xfrm>
            <a:off x="1157040" y="4869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时日害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矩形 19"/>
          <p:cNvSpPr/>
          <p:nvPr/>
        </p:nvSpPr>
        <p:spPr>
          <a:xfrm>
            <a:off x="1197720" y="55720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予及女偕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矩形 20" descr=""/>
          <p:cNvPicPr/>
          <p:nvPr/>
        </p:nvPicPr>
        <p:blipFill>
          <a:blip r:embed="rId1"/>
          <a:stretch/>
        </p:blipFill>
        <p:spPr>
          <a:xfrm>
            <a:off x="395280" y="4005360"/>
            <a:ext cx="3289320" cy="64440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4"/>
          <p:cNvSpPr/>
          <p:nvPr/>
        </p:nvSpPr>
        <p:spPr>
          <a:xfrm>
            <a:off x="2857680" y="4929120"/>
            <a:ext cx="55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害</a:t>
            </a:r>
            <a:r>
              <a:rPr b="1" lang="zh-CN" sz="2800" spc="-1" strike="noStrike">
                <a:solidFill>
                  <a:srgbClr val="ff0000"/>
                </a:solidFill>
                <a:latin typeface="方正粗圆简体"/>
                <a:ea typeface="方正粗圆简体"/>
              </a:rPr>
              <a:t>，通“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曷</a:t>
            </a:r>
            <a:r>
              <a:rPr b="1" lang="zh-CN" sz="2800" spc="-1" strike="noStrike">
                <a:solidFill>
                  <a:srgbClr val="ff0000"/>
                </a:solidFill>
                <a:latin typeface="方正粗圆简体"/>
                <a:ea typeface="方正粗圆简体"/>
              </a:rPr>
              <a:t>”，何日，何时。</a:t>
            </a:r>
            <a:r>
              <a:rPr b="0" lang="zh-CN" sz="2800" spc="-1" strike="noStrike">
                <a:solidFill>
                  <a:srgbClr val="6600cc"/>
                </a:solidFill>
                <a:latin typeface="方正粗圆简体"/>
                <a:ea typeface="方正粗圆简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3132000" y="558972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女，通“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汝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”。</a:t>
            </a:r>
            <a:r>
              <a:rPr b="0" lang="zh-CN" sz="2800" spc="-1" strike="noStrike">
                <a:solidFill>
                  <a:srgbClr val="6600cc"/>
                </a:solidFill>
                <a:latin typeface="方正粗圆简体"/>
                <a:ea typeface="方正粗圆简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文本框 22547"/>
          <p:cNvSpPr/>
          <p:nvPr/>
        </p:nvSpPr>
        <p:spPr>
          <a:xfrm>
            <a:off x="324000" y="333360"/>
            <a:ext cx="18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00"/>
                </a:solidFill>
                <a:latin typeface="Arial"/>
                <a:ea typeface="华文隶书"/>
              </a:rPr>
              <a:t>自主学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组合 23553"/>
          <p:cNvGrpSpPr/>
          <p:nvPr/>
        </p:nvGrpSpPr>
        <p:grpSpPr>
          <a:xfrm>
            <a:off x="0" y="404640"/>
            <a:ext cx="8748360" cy="621000"/>
            <a:chOff x="0" y="404640"/>
            <a:chExt cx="8748360" cy="621000"/>
          </a:xfrm>
        </p:grpSpPr>
        <p:sp>
          <p:nvSpPr>
            <p:cNvPr id="367" name="Rectangle 9"/>
            <p:cNvSpPr/>
            <p:nvPr/>
          </p:nvSpPr>
          <p:spPr>
            <a:xfrm>
              <a:off x="16920" y="478800"/>
              <a:ext cx="8731440" cy="422640"/>
            </a:xfrm>
            <a:prstGeom prst="rect">
              <a:avLst/>
            </a:prstGeom>
            <a:solidFill>
              <a:srgbClr val="8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ahoma"/>
                </a:rPr>
                <a:t>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8" name="Picture 10" descr="花卉"/>
            <p:cNvPicPr/>
            <p:nvPr/>
          </p:nvPicPr>
          <p:blipFill>
            <a:blip r:embed="rId1"/>
            <a:stretch/>
          </p:blipFill>
          <p:spPr>
            <a:xfrm>
              <a:off x="0" y="404640"/>
              <a:ext cx="2111760" cy="62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WordArt 11"/>
          <p:cNvSpPr txBox="1"/>
          <p:nvPr/>
        </p:nvSpPr>
        <p:spPr>
          <a:xfrm>
            <a:off x="1415880" y="2422440"/>
            <a:ext cx="6312240" cy="220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333300"/>
                </a:solidFill>
                <a:latin typeface="方正细珊瑚简体"/>
              </a:rPr>
              <a:t>梳 理 文 意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333300"/>
              </a:solidFill>
              <a:latin typeface="方正细珊瑚简体"/>
              <a:ea typeface="方正细珊瑚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0" y="0"/>
            <a:ext cx="9144000" cy="6453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孟子见梁惠王。王立于沼上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顾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鸿雁麋鹿，曰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贤者亦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乐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此乎？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”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孟子对曰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贤者而后乐此，不贤者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虽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有此，不乐也。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诗云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‘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经始灵台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经之营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庶民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攻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之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不日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成之。经始勿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亟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，庶民子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楷体"/>
                <a:ea typeface="楷体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孟子拜见梁惠王。梁惠王站在池塘边上，一面环视着鸿雁麋鹿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，一面说：“贤人也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以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此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为乐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吗？”孟子回答说：“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先成为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贤人才能够以此为乐，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不贤的人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即使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有这些东西，也不能够快乐的。 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诗经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说：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‘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开始规划造灵台，于是反复地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度量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。天下百姓都来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建造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几天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建成，速度快。建台本来不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着急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，老百姓如子女趋事父母，不召自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直接连接符 24580"/>
          <p:cNvSpPr/>
          <p:nvPr/>
        </p:nvSpPr>
        <p:spPr>
          <a:xfrm>
            <a:off x="0" y="2637000"/>
            <a:ext cx="86425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0" y="0"/>
            <a:ext cx="8966160" cy="30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王在灵囿，麀鹿攸伏，麀鹿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濯濯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白鸟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鹤鹤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王在灵沼，於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牣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鱼跃。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’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文王以民力为台为沼，而民欢乐之，谓其台曰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‘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灵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’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谓其沼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‘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灵沼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’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乐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其有麋鹿鱼鳖。古之人与民偕乐，故能乐也。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汤誓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曰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‘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时日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害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丧？予及女偕亡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’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民欲与之偕亡，虽有台池鸟兽，岂能独乐哉？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矩形 3"/>
          <p:cNvSpPr/>
          <p:nvPr/>
        </p:nvSpPr>
        <p:spPr>
          <a:xfrm>
            <a:off x="106200" y="3170160"/>
            <a:ext cx="8929800" cy="155412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国王游览灵园中，母鹿伏在深草丛。母鹿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肥大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毛色润，白鸟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洁净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羽毛丰。国王游览到灵沼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满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池鱼儿欢跳跃。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’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周文王虽然用了老百姓的劳力来修建高台深池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可是老百姓非常高兴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把 那个台叫做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‘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灵台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’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，把那个池叫做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‘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灵沼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’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以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那里面有麋鹿鱼鳖等珍禽异兽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为快乐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。古代的君王与民同乐，所以能真正快乐。相反，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汤誓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说：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‘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你这太阳啊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什麽时候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毁灭呢？我宁肯与你一起毁灭！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’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老百姓恨不得与你同归于尽，即使你有高墙深池、珍禽异兽，难道能独自享受快乐吗？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直接连接符 25604"/>
          <p:cNvSpPr/>
          <p:nvPr/>
        </p:nvSpPr>
        <p:spPr>
          <a:xfrm>
            <a:off x="0" y="3068640"/>
            <a:ext cx="86425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组合 61441"/>
          <p:cNvGrpSpPr/>
          <p:nvPr/>
        </p:nvGrpSpPr>
        <p:grpSpPr>
          <a:xfrm>
            <a:off x="179280" y="333360"/>
            <a:ext cx="8352720" cy="620640"/>
            <a:chOff x="179280" y="333360"/>
            <a:chExt cx="8352720" cy="620640"/>
          </a:xfrm>
        </p:grpSpPr>
        <p:sp>
          <p:nvSpPr>
            <p:cNvPr id="376" name="Rectangle 3"/>
            <p:cNvSpPr/>
            <p:nvPr/>
          </p:nvSpPr>
          <p:spPr>
            <a:xfrm>
              <a:off x="195120" y="407520"/>
              <a:ext cx="8336880" cy="422280"/>
            </a:xfrm>
            <a:prstGeom prst="rect">
              <a:avLst/>
            </a:prstGeom>
            <a:solidFill>
              <a:srgbClr val="8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ahoma"/>
                </a:rPr>
                <a:t>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7" name="Picture 4" descr="花卉"/>
            <p:cNvPicPr/>
            <p:nvPr/>
          </p:nvPicPr>
          <p:blipFill>
            <a:blip r:embed="rId1"/>
            <a:stretch/>
          </p:blipFill>
          <p:spPr>
            <a:xfrm>
              <a:off x="179280" y="333360"/>
              <a:ext cx="2016360" cy="62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8" name="WordArt 5"/>
          <p:cNvSpPr txBox="1"/>
          <p:nvPr/>
        </p:nvSpPr>
        <p:spPr>
          <a:xfrm>
            <a:off x="1704960" y="2673360"/>
            <a:ext cx="60102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333300"/>
                </a:solidFill>
                <a:latin typeface="方正水柱简体"/>
              </a:rPr>
              <a:t>探 究 文 本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333300"/>
              </a:solidFill>
              <a:latin typeface="方正水柱简体"/>
              <a:ea typeface="方正水柱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0" y="907920"/>
            <a:ext cx="8964720" cy="5531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黑体"/>
                <a:ea typeface="黑体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孟子是如何提出自己的政治主张的？该主张的具体内涵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正反对比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以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周文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夏桀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典型例证作为论据，提出了当政者应“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与民同乐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”的思想主张，从而又一次教育了梁惠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孟子的基本思想是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仁慈的政治领导人与民同乐，所以能享受到真正的快乐。残暴专制独裁者穷奢极欲，不顾老百姓的死活，其结果是自己也得不到真正的快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文本框 29699"/>
          <p:cNvSpPr/>
          <p:nvPr/>
        </p:nvSpPr>
        <p:spPr>
          <a:xfrm>
            <a:off x="324000" y="333360"/>
            <a:ext cx="18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00"/>
                </a:solidFill>
                <a:latin typeface="Arial"/>
                <a:ea typeface="华文隶书"/>
              </a:rPr>
              <a:t>合作探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142920" y="69840"/>
            <a:ext cx="8858160" cy="774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请结合历史和现实谈谈你对“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贤者而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乐此，不贤者虽有此不乐也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”的理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文本框 1"/>
          <p:cNvSpPr/>
          <p:nvPr/>
        </p:nvSpPr>
        <p:spPr>
          <a:xfrm>
            <a:off x="142920" y="1949400"/>
            <a:ext cx="8628120" cy="193536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从历史的情况看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夏桀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王固然没有好下场，后世的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殷纣王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造酒池肉林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秦始皇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建阿房宫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隋炀帝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修迷楼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慈禧太后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建颐和园等，大兴土木，原本都是为了享受快乐，但由于贪婪残暴，不顾人民死活，结果是民怨鼎沸，几乎没有一个有好结局，也没有一个享受到了真正的舒心的快乐。这些都证实了孟子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与民同乐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思想的正确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文本框 88067"/>
          <p:cNvSpPr/>
          <p:nvPr/>
        </p:nvSpPr>
        <p:spPr>
          <a:xfrm>
            <a:off x="144360" y="203040"/>
            <a:ext cx="8898120" cy="155628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其实与民同乐的思想对各级领导人来说都很重要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比如说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作为一个单位的领导人，是一心想中饱私囊，捞它一把，还是想致力于改善广大职工的福利，走大家共同富裕的道路，这的确是一块试金石。而实际情况是，往往那些只顾自己，不惜铤而走险的人，虽然也可能在短时间内满足自己的欲望，真的捞上了一把。但是，欲壑难填，其最终结果多半是以身试法，并不能获得真正的快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只有行为方式对了，人才能获得快乐。行为方式不对，那么永远得不到快乐。俗话说：“一步错，步步错”，又说：“一步走错，全盘皆输”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6" descr="mengzi"/>
          <p:cNvPicPr/>
          <p:nvPr/>
        </p:nvPicPr>
        <p:blipFill>
          <a:blip r:embed="rId1"/>
          <a:stretch/>
        </p:blipFill>
        <p:spPr>
          <a:xfrm>
            <a:off x="0" y="3240"/>
            <a:ext cx="9466200" cy="6854760"/>
          </a:xfrm>
          <a:prstGeom prst="rect">
            <a:avLst/>
          </a:prstGeom>
          <a:ln w="0">
            <a:noFill/>
          </a:ln>
        </p:spPr>
      </p:pic>
      <p:sp>
        <p:nvSpPr>
          <p:cNvPr id="263" name="WordArt 8"/>
          <p:cNvSpPr txBox="1"/>
          <p:nvPr/>
        </p:nvSpPr>
        <p:spPr>
          <a:xfrm>
            <a:off x="2289240" y="620640"/>
            <a:ext cx="45147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方正水柱简体"/>
              </a:rPr>
              <a:t>庄暴见孟子</a:t>
            </a:r>
            <a:endParaRPr b="1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方正水柱简体"/>
              <a:ea typeface="方正水柱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文本框 74753"/>
          <p:cNvSpPr/>
          <p:nvPr/>
        </p:nvSpPr>
        <p:spPr>
          <a:xfrm>
            <a:off x="2411280" y="1989000"/>
            <a:ext cx="59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cc00"/>
                </a:solidFill>
                <a:latin typeface="黑体"/>
                <a:ea typeface="黑体"/>
              </a:rPr>
              <a:t>乐民之乐，忧民之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文本框 74754"/>
          <p:cNvSpPr/>
          <p:nvPr/>
        </p:nvSpPr>
        <p:spPr>
          <a:xfrm>
            <a:off x="2916360" y="314172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ff33"/>
                </a:solidFill>
                <a:latin typeface="Arial"/>
                <a:ea typeface="方正水柱简体"/>
              </a:rPr>
              <a:t>第三课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图片 74755" descr="chema"/>
          <p:cNvPicPr/>
          <p:nvPr/>
        </p:nvPicPr>
        <p:blipFill>
          <a:blip r:embed="rId1"/>
          <a:stretch/>
        </p:blipFill>
        <p:spPr>
          <a:xfrm>
            <a:off x="7451640" y="5443560"/>
            <a:ext cx="1692360" cy="1231920"/>
          </a:xfrm>
          <a:prstGeom prst="rect">
            <a:avLst/>
          </a:prstGeom>
          <a:ln w="0">
            <a:noFill/>
          </a:ln>
        </p:spPr>
      </p:pic>
      <p:pic>
        <p:nvPicPr>
          <p:cNvPr id="387" name="图片 74756" descr="孔子头像 副本"/>
          <p:cNvPicPr/>
          <p:nvPr/>
        </p:nvPicPr>
        <p:blipFill>
          <a:blip r:embed="rId2"/>
          <a:stretch/>
        </p:blipFill>
        <p:spPr>
          <a:xfrm>
            <a:off x="0" y="0"/>
            <a:ext cx="11793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6" descr="mengzi"/>
          <p:cNvPicPr/>
          <p:nvPr/>
        </p:nvPicPr>
        <p:blipFill>
          <a:blip r:embed="rId1"/>
          <a:stretch/>
        </p:blipFill>
        <p:spPr>
          <a:xfrm>
            <a:off x="-322200" y="3240"/>
            <a:ext cx="9466200" cy="6854760"/>
          </a:xfrm>
          <a:prstGeom prst="rect">
            <a:avLst/>
          </a:prstGeom>
          <a:ln w="0">
            <a:noFill/>
          </a:ln>
        </p:spPr>
      </p:pic>
      <p:sp>
        <p:nvSpPr>
          <p:cNvPr id="389" name="WordArt 8"/>
          <p:cNvSpPr txBox="1"/>
          <p:nvPr/>
        </p:nvSpPr>
        <p:spPr>
          <a:xfrm>
            <a:off x="1928880" y="500040"/>
            <a:ext cx="4753080" cy="102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333300"/>
                </a:solid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方正水柱简体"/>
              </a:rPr>
              <a:t>齐宣王见孟子</a:t>
            </a:r>
            <a:endParaRPr b="0" lang="en-US" sz="1800" spc="-1" strike="noStrike">
              <a:ln w="0">
                <a:noFill/>
              </a:ln>
              <a:solidFill>
                <a:srgbClr val="333300"/>
              </a:solid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方正水柱简体"/>
              <a:ea typeface="方正水柱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WordArt 2"/>
          <p:cNvSpPr txBox="1"/>
          <p:nvPr/>
        </p:nvSpPr>
        <p:spPr>
          <a:xfrm>
            <a:off x="3132000" y="476280"/>
            <a:ext cx="26434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方正细倩简体"/>
              </a:rPr>
              <a:t>诵读正音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方正细倩简体"/>
              <a:ea typeface="方正细倩简体"/>
            </a:endParaRPr>
          </a:p>
        </p:txBody>
      </p:sp>
      <p:sp>
        <p:nvSpPr>
          <p:cNvPr id="391" name="矩形 23"/>
          <p:cNvSpPr/>
          <p:nvPr/>
        </p:nvSpPr>
        <p:spPr>
          <a:xfrm>
            <a:off x="1401480" y="17859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放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于琅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矩形 24"/>
          <p:cNvSpPr/>
          <p:nvPr/>
        </p:nvSpPr>
        <p:spPr>
          <a:xfrm>
            <a:off x="1648800" y="2500200"/>
            <a:ext cx="188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秋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敛而助不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矩形 25"/>
          <p:cNvSpPr/>
          <p:nvPr/>
        </p:nvSpPr>
        <p:spPr>
          <a:xfrm>
            <a:off x="1237320" y="3214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睊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矩形 26"/>
          <p:cNvSpPr/>
          <p:nvPr/>
        </p:nvSpPr>
        <p:spPr>
          <a:xfrm>
            <a:off x="1225800" y="4000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矩形 27"/>
          <p:cNvSpPr/>
          <p:nvPr/>
        </p:nvSpPr>
        <p:spPr>
          <a:xfrm>
            <a:off x="1308600" y="4786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徵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矩形 28"/>
          <p:cNvSpPr/>
          <p:nvPr/>
        </p:nvSpPr>
        <p:spPr>
          <a:xfrm>
            <a:off x="3190320" y="1700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fǎ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矩形 29"/>
          <p:cNvSpPr/>
          <p:nvPr/>
        </p:nvSpPr>
        <p:spPr>
          <a:xfrm>
            <a:off x="4859280" y="17002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y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矩形 30"/>
          <p:cNvSpPr/>
          <p:nvPr/>
        </p:nvSpPr>
        <p:spPr>
          <a:xfrm>
            <a:off x="4500720" y="2421000"/>
            <a:ext cx="174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xǐ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矩形 31"/>
          <p:cNvSpPr/>
          <p:nvPr/>
        </p:nvSpPr>
        <p:spPr>
          <a:xfrm>
            <a:off x="5643720" y="2421000"/>
            <a:ext cx="101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j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矩形 32"/>
          <p:cNvSpPr/>
          <p:nvPr/>
        </p:nvSpPr>
        <p:spPr>
          <a:xfrm>
            <a:off x="2324880" y="3141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juà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矩形 33"/>
          <p:cNvSpPr/>
          <p:nvPr/>
        </p:nvSpPr>
        <p:spPr>
          <a:xfrm>
            <a:off x="1979640" y="39337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t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矩形 34"/>
          <p:cNvSpPr/>
          <p:nvPr/>
        </p:nvSpPr>
        <p:spPr>
          <a:xfrm>
            <a:off x="2287440" y="472428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zhǐ shá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文本框 32782"/>
          <p:cNvSpPr/>
          <p:nvPr/>
        </p:nvSpPr>
        <p:spPr>
          <a:xfrm>
            <a:off x="395280" y="33336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00"/>
                </a:solidFill>
                <a:latin typeface="Arial"/>
                <a:ea typeface="华文隶书"/>
              </a:rPr>
              <a:t>自主学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6840" y="1196640"/>
            <a:ext cx="8496360" cy="4930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、解释下列加点词的意义。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遵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海而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秋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敛而助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不给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为诸侯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                 ）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④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民乃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慝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          ）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⑤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行而粮食（          ）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⑥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人不得，则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非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其上（                ）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矩形 3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908000" y="260280"/>
            <a:ext cx="5077080" cy="1144800"/>
          </a:xfrm>
          <a:prstGeom prst="rect">
            <a:avLst/>
          </a:prstGeom>
          <a:ln w="0">
            <a:noFill/>
          </a:ln>
        </p:spPr>
      </p:pic>
      <p:sp>
        <p:nvSpPr>
          <p:cNvPr id="406" name="矩形 4"/>
          <p:cNvSpPr/>
          <p:nvPr/>
        </p:nvSpPr>
        <p:spPr>
          <a:xfrm>
            <a:off x="4979520" y="1714680"/>
            <a:ext cx="170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cc"/>
                </a:solidFill>
                <a:latin typeface="方正粗圆简体"/>
                <a:ea typeface="方正粗圆简体"/>
              </a:rPr>
              <a:t>（</a:t>
            </a:r>
            <a:r>
              <a:rPr b="1" lang="zh-CN" sz="3200" spc="-1" strike="noStrike">
                <a:solidFill>
                  <a:srgbClr val="6600cc"/>
                </a:solidFill>
                <a:latin typeface="方正粗圆简体"/>
                <a:ea typeface="方正粗圆简体"/>
              </a:rPr>
              <a:t>遵：沿着</a:t>
            </a:r>
            <a:r>
              <a:rPr b="0" lang="zh-CN" sz="3200" spc="-1" strike="noStrike">
                <a:solidFill>
                  <a:srgbClr val="6600cc"/>
                </a:solidFill>
                <a:latin typeface="方正粗圆简体"/>
                <a:ea typeface="方正粗圆简体"/>
              </a:rPr>
              <a:t>。）</a:t>
            </a:r>
            <a:r>
              <a:rPr b="0" lang="en-US" sz="3200" spc="-1" strike="noStrike">
                <a:solidFill>
                  <a:srgbClr val="6600cc"/>
                </a:solidFill>
                <a:latin typeface="方正粗圆简体"/>
                <a:ea typeface="方正粗圆简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矩形 5"/>
          <p:cNvSpPr/>
          <p:nvPr/>
        </p:nvSpPr>
        <p:spPr>
          <a:xfrm>
            <a:off x="5786280" y="2273400"/>
            <a:ext cx="62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cc"/>
                </a:solidFill>
                <a:latin typeface="方正粗圆简体"/>
                <a:ea typeface="方正粗圆简体"/>
              </a:rPr>
              <a:t>（</a:t>
            </a:r>
            <a:r>
              <a:rPr b="1" lang="zh-CN" sz="3200" spc="-1" strike="noStrike">
                <a:solidFill>
                  <a:srgbClr val="6600cc"/>
                </a:solidFill>
                <a:latin typeface="方正粗圆简体"/>
                <a:ea typeface="方正粗圆简体"/>
              </a:rPr>
              <a:t>省：视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矩形 6"/>
          <p:cNvSpPr/>
          <p:nvPr/>
        </p:nvSpPr>
        <p:spPr>
          <a:xfrm>
            <a:off x="7737480" y="2286000"/>
            <a:ext cx="62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方正粗圆简体"/>
                <a:ea typeface="方正粗圆简体"/>
              </a:rPr>
              <a:t>不足。</a:t>
            </a:r>
            <a:r>
              <a:rPr b="0" lang="zh-CN" sz="3200" spc="-1" strike="noStrike">
                <a:solidFill>
                  <a:srgbClr val="6600cc"/>
                </a:solidFill>
                <a:latin typeface="方正粗圆简体"/>
                <a:ea typeface="方正粗圆简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矩形 7"/>
          <p:cNvSpPr/>
          <p:nvPr/>
        </p:nvSpPr>
        <p:spPr>
          <a:xfrm>
            <a:off x="4175280" y="2921040"/>
            <a:ext cx="208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方正粗圆简体"/>
                <a:ea typeface="方正粗圆简体"/>
              </a:rPr>
              <a:t>度：法度，准则</a:t>
            </a:r>
            <a:r>
              <a:rPr b="0" lang="zh-CN" sz="3200" spc="-1" strike="noStrike">
                <a:solidFill>
                  <a:srgbClr val="6600cc"/>
                </a:solidFill>
                <a:latin typeface="方正粗圆简体"/>
                <a:ea typeface="方正粗圆简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矩形 8"/>
          <p:cNvSpPr/>
          <p:nvPr/>
        </p:nvSpPr>
        <p:spPr>
          <a:xfrm>
            <a:off x="4714560" y="35701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方正粗圆简体"/>
                <a:ea typeface="方正粗圆简体"/>
              </a:rPr>
              <a:t>慝：邪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矩形 9"/>
          <p:cNvSpPr/>
          <p:nvPr/>
        </p:nvSpPr>
        <p:spPr>
          <a:xfrm>
            <a:off x="4210920" y="4149720"/>
            <a:ext cx="135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方正粗圆简体"/>
                <a:ea typeface="方正粗圆简体"/>
              </a:rPr>
              <a:t>师：众人</a:t>
            </a:r>
            <a:r>
              <a:rPr b="0" lang="zh-CN" sz="3200" spc="-1" strike="noStrike">
                <a:solidFill>
                  <a:srgbClr val="6600cc"/>
                </a:solidFill>
                <a:latin typeface="方正粗圆简体"/>
                <a:ea typeface="方正粗圆简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矩形 10"/>
          <p:cNvSpPr/>
          <p:nvPr/>
        </p:nvSpPr>
        <p:spPr>
          <a:xfrm>
            <a:off x="6528960" y="47149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方正粗圆简体"/>
                <a:ea typeface="方正粗圆简体"/>
              </a:rPr>
              <a:t>非：责怪，非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文本框 37901"/>
          <p:cNvSpPr/>
          <p:nvPr/>
        </p:nvSpPr>
        <p:spPr>
          <a:xfrm>
            <a:off x="395280" y="33336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00"/>
                </a:solidFill>
                <a:latin typeface="Arial"/>
                <a:ea typeface="华文隶书"/>
              </a:rPr>
              <a:t>问题归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0" y="1125000"/>
            <a:ext cx="8964720" cy="537372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2.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归纳词类活用现象。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民之乐者，民亦乐其乐。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民之忧者，民亦忧其忧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（乐、忧</a:t>
            </a:r>
            <a:r>
              <a:rPr b="1" lang="zh-CN" sz="3200" spc="-1" strike="noStrike">
                <a:solidFill>
                  <a:srgbClr val="6600cc"/>
                </a:solidFill>
                <a:latin typeface="黑体"/>
                <a:ea typeface="黑体"/>
              </a:rPr>
              <a:t>：形容词意动用法，以</a:t>
            </a:r>
            <a:r>
              <a:rPr b="1" lang="en-US" sz="3200" spc="-1" strike="noStrike">
                <a:solidFill>
                  <a:srgbClr val="6600cc"/>
                </a:solidFill>
                <a:latin typeface="黑体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6600cc"/>
                </a:solidFill>
                <a:latin typeface="黑体"/>
                <a:ea typeface="黑体"/>
              </a:rPr>
              <a:t>为欢乐，以</a:t>
            </a:r>
            <a:r>
              <a:rPr b="1" lang="en-US" sz="3200" spc="-1" strike="noStrike">
                <a:solidFill>
                  <a:srgbClr val="6600cc"/>
                </a:solidFill>
                <a:latin typeface="黑体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6600cc"/>
                </a:solidFill>
                <a:latin typeface="黑体"/>
                <a:ea typeface="黑体"/>
              </a:rPr>
              <a:t>为忧愁。）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出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舍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于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舍</a:t>
            </a:r>
            <a:r>
              <a:rPr b="1" lang="zh-CN" sz="3200" spc="-1" strike="noStrike">
                <a:solidFill>
                  <a:srgbClr val="6600cc"/>
                </a:solidFill>
                <a:latin typeface="黑体"/>
                <a:ea typeface="黑体"/>
              </a:rPr>
              <a:t>：名词活用为动词，居住。）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文本框 38917"/>
          <p:cNvSpPr/>
          <p:nvPr/>
        </p:nvSpPr>
        <p:spPr>
          <a:xfrm>
            <a:off x="395280" y="33336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00"/>
                </a:solidFill>
                <a:latin typeface="Arial"/>
                <a:ea typeface="华文隶书"/>
              </a:rPr>
              <a:t>问题归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981000"/>
            <a:ext cx="8539200" cy="544824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分类列举本文出现的文言句式。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黑体"/>
                <a:ea typeface="黑体"/>
              </a:rPr>
              <a:t>①</a:t>
            </a:r>
            <a:r>
              <a:rPr b="1" lang="zh-CN" sz="3200" spc="-1" strike="noStrike">
                <a:solidFill>
                  <a:srgbClr val="6600cc"/>
                </a:solidFill>
                <a:latin typeface="黑体"/>
                <a:ea typeface="黑体"/>
              </a:rPr>
              <a:t>宾语前置句：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吾何修而可以比于先王之观也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吾王不游，吾何以休？吾王不豫，吾何以助？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黑体"/>
                <a:ea typeface="黑体"/>
              </a:rPr>
              <a:t>②</a:t>
            </a:r>
            <a:r>
              <a:rPr b="1" lang="zh-CN" sz="3200" spc="-1" strike="noStrike">
                <a:solidFill>
                  <a:srgbClr val="6600cc"/>
                </a:solidFill>
                <a:latin typeface="黑体"/>
                <a:ea typeface="黑体"/>
              </a:rPr>
              <a:t>介词短语后置（状语后置）句：</a:t>
            </a:r>
            <a:r>
              <a:rPr b="0" lang="en-US" sz="3200" spc="-1" strike="noStrike">
                <a:solidFill>
                  <a:srgbClr val="6600cc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齐宣王见孟子于雪宫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乐以天下，忧以天下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吾欲观于转附、朝儛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文本框 39940"/>
          <p:cNvSpPr/>
          <p:nvPr/>
        </p:nvSpPr>
        <p:spPr>
          <a:xfrm>
            <a:off x="395280" y="33336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00"/>
                </a:solidFill>
                <a:latin typeface="Arial"/>
                <a:ea typeface="华文隶书"/>
              </a:rPr>
              <a:t>问题归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组合 59393"/>
          <p:cNvGrpSpPr/>
          <p:nvPr/>
        </p:nvGrpSpPr>
        <p:grpSpPr>
          <a:xfrm>
            <a:off x="0" y="404640"/>
            <a:ext cx="8748360" cy="621000"/>
            <a:chOff x="0" y="404640"/>
            <a:chExt cx="8748360" cy="621000"/>
          </a:xfrm>
        </p:grpSpPr>
        <p:sp>
          <p:nvSpPr>
            <p:cNvPr id="419" name="Rectangle 9"/>
            <p:cNvSpPr/>
            <p:nvPr/>
          </p:nvSpPr>
          <p:spPr>
            <a:xfrm>
              <a:off x="16920" y="478800"/>
              <a:ext cx="8731440" cy="422640"/>
            </a:xfrm>
            <a:prstGeom prst="rect">
              <a:avLst/>
            </a:prstGeom>
            <a:solidFill>
              <a:srgbClr val="8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ahoma"/>
                </a:rPr>
                <a:t>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0" name="Picture 10" descr="花卉"/>
            <p:cNvPicPr/>
            <p:nvPr/>
          </p:nvPicPr>
          <p:blipFill>
            <a:blip r:embed="rId1"/>
            <a:stretch/>
          </p:blipFill>
          <p:spPr>
            <a:xfrm>
              <a:off x="0" y="404640"/>
              <a:ext cx="2111760" cy="62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WordArt 11"/>
          <p:cNvSpPr txBox="1"/>
          <p:nvPr/>
        </p:nvSpPr>
        <p:spPr>
          <a:xfrm>
            <a:off x="622440" y="2816280"/>
            <a:ext cx="7799400" cy="16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333300"/>
                </a:solidFill>
                <a:latin typeface="方正细珊瑚简体"/>
              </a:rPr>
              <a:t>梳 理 文 意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333300"/>
              </a:solidFill>
              <a:latin typeface="方正细珊瑚简体"/>
              <a:ea typeface="方正细珊瑚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0" y="115560"/>
            <a:ext cx="9036000" cy="2203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楷体_GB2312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齐宣王见孟子于雪宫。王曰：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贤者亦有此乐乎？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孟子对曰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。人不得，则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非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其上矣。不得而非其上者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非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也；为民上而不与民同乐者，亦非也。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民之乐者，民亦乐其乐；忧民之忧者，民亦忧其忧。乐以天下，忧以天下，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然而不王者，未之有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矩形 4"/>
          <p:cNvSpPr/>
          <p:nvPr/>
        </p:nvSpPr>
        <p:spPr>
          <a:xfrm>
            <a:off x="0" y="2478240"/>
            <a:ext cx="9036000" cy="2226960"/>
          </a:xfrm>
          <a:prstGeom prst="rect">
            <a:avLst/>
          </a:pr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齐宣王在别墅雪宫里接见孟子。宣王说：“贤人也有在这样的别墅里居住游玩的快乐吗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孟子回答说：“有。人们要是得不到这种快乐，就会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埋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他们的国君。得不到这种快乐就埋怨国君是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不对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；可是作为老百姓的领导人而不与民同乐也是不对的。国君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老百姓的快乐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为快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老百姓也会以国君的快乐为快乐。国君以老百姓的忧愁为忧愁，老百姓也会以国君的忧愁为忧愁。以天下人的快乐为快乐，以天下人的忧愁为忧愁，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这样还不能够使天下归服，是没有过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直接连接符 34820"/>
          <p:cNvSpPr/>
          <p:nvPr/>
        </p:nvSpPr>
        <p:spPr>
          <a:xfrm>
            <a:off x="250920" y="247824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0" y="188640"/>
            <a:ext cx="9144000" cy="2501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昔者齐景公问于晏子曰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‘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吾欲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观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于转附、朝儛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遵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海而南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放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于琅邪。吾何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修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而可以比于先王观也？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’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晏子对曰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‘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善哉问也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！天子适诸侯曰巡狩，巡狩者巡所守也；诸侯朝于天子曰述职，述职者述所职也。无非事者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矩形 3"/>
          <p:cNvSpPr/>
          <p:nvPr/>
        </p:nvSpPr>
        <p:spPr>
          <a:xfrm>
            <a:off x="179280" y="2982960"/>
            <a:ext cx="8713800" cy="1198800"/>
          </a:xfrm>
          <a:prstGeom prst="rect">
            <a:avLst/>
          </a:pr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“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从前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齐景公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问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晏子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说：‘我想到转附、朝儛两座山去观光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游览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，然后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沿着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海岸向南行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一直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到琅邪。我该怎样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做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才能够和古代圣贤君王的巡游相比呢？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晏子回答说：‘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问得好呀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！天子到诸侯国家去叫做巡狩。巡狩就是巡视各诸侯所守疆土的意思。诸侯去朝见天子叫述职。述职就是报告在他职责内的工作的意思。没有不和工作有关系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直接连接符 35843"/>
          <p:cNvSpPr/>
          <p:nvPr/>
        </p:nvSpPr>
        <p:spPr>
          <a:xfrm>
            <a:off x="179280" y="2781360"/>
            <a:ext cx="87138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0" y="71280"/>
            <a:ext cx="9144000" cy="197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春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耕而补不足，秋省敛而助不给。夏谚曰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吾王不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游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吾何以休？吾王不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豫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吾何以助？一游一豫，为诸侯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今也不然。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师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粮食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，饥者弗食，劳者弗息。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睊睊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胥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谗，民乃作慝。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方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命虐民， 饮食若流。流连荒亡，为诸侯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矩形 4"/>
          <p:cNvSpPr/>
          <p:nvPr/>
        </p:nvSpPr>
        <p:spPr>
          <a:xfrm>
            <a:off x="0" y="2174760"/>
            <a:ext cx="9144000" cy="83052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春天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巡视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耕种情况，对粮食不够吃的给予补助；秋天里巡视收获情况，对歉收的给予补助。夏朝的谚语说：“我王不出来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巡游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，我怎么能得到休息？我王不出来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游乐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，我怎么能得到赏赐？一游历一巡视，足以作为诸侯的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法度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。”现在可不是这样了。国君一出游就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兴师动众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索取粮食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。饥饿的人得不到粮食补助，劳苦的人得不到休息。大家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侧目而视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，怨声载道，违法乱记的事情也就做出来了。这种出游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违背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天意，虐待百姓，大吃大喝如同流水一样浪费。真是流连荒亡，连诸侯们都为此而忧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直接连接符 36868"/>
          <p:cNvSpPr/>
          <p:nvPr/>
        </p:nvSpPr>
        <p:spPr>
          <a:xfrm>
            <a:off x="214200" y="2174760"/>
            <a:ext cx="87138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3"/>
          <p:cNvSpPr/>
          <p:nvPr/>
        </p:nvSpPr>
        <p:spPr>
          <a:xfrm>
            <a:off x="469800" y="1844640"/>
            <a:ext cx="8364600" cy="452916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王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语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暴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以好乐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庶几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有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诸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  独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乐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孰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乐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  臣请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为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王言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管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籥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之音        疾首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蹙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羽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旄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  则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矣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3635280" y="1844640"/>
            <a:ext cx="165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5940360" y="1844640"/>
            <a:ext cx="211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hùj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2124000" y="2708280"/>
            <a:ext cx="183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h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6084720" y="2708280"/>
            <a:ext cx="202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u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l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1979640" y="3500280"/>
            <a:ext cx="183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7308720" y="3573360"/>
            <a:ext cx="221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è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2843280" y="4365720"/>
            <a:ext cx="137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u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1"/>
          <p:cNvSpPr/>
          <p:nvPr/>
        </p:nvSpPr>
        <p:spPr>
          <a:xfrm>
            <a:off x="6443640" y="4362480"/>
            <a:ext cx="23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2"/>
          <p:cNvSpPr/>
          <p:nvPr/>
        </p:nvSpPr>
        <p:spPr>
          <a:xfrm>
            <a:off x="2050920" y="5157720"/>
            <a:ext cx="119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á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3"/>
          <p:cNvSpPr/>
          <p:nvPr/>
        </p:nvSpPr>
        <p:spPr>
          <a:xfrm>
            <a:off x="6012000" y="5157720"/>
            <a:ext cx="165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4"/>
          <p:cNvSpPr/>
          <p:nvPr/>
        </p:nvSpPr>
        <p:spPr>
          <a:xfrm>
            <a:off x="3508200" y="635040"/>
            <a:ext cx="279252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生字认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7181"/>
          <p:cNvSpPr/>
          <p:nvPr/>
        </p:nvSpPr>
        <p:spPr>
          <a:xfrm>
            <a:off x="468360" y="33336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00"/>
                </a:solidFill>
                <a:latin typeface="Arial"/>
                <a:ea typeface="华文隶书"/>
              </a:rPr>
              <a:t>自主学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文本框 89091"/>
          <p:cNvSpPr/>
          <p:nvPr/>
        </p:nvSpPr>
        <p:spPr>
          <a:xfrm>
            <a:off x="0" y="101520"/>
            <a:ext cx="9144000" cy="339228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从流下而忘反谓之流，从流上而忘反谓之连，从兽无厌谓之荒，乐酒无厌谓之亡。先王无流连之乐，荒亡之行。惟君所行也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景公说，大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戒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于国，出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舍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于郊。于是始兴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发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补不足。召大师曰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‘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我作君臣相说之乐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盖《徴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招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》、《角招》是也。其诗曰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‘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君何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尤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？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畜君者，好君也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什么叫流连荒亡呢？从上游向下游游玩乐而忘返叫做</a:t>
            </a: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流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；从下游向上游游玩乐而忘返叫做</a:t>
            </a: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连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；打猎不知厌倦叫做</a:t>
            </a: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荒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；嗜酒不加节制叫做</a:t>
            </a: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亡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。古代圣贤君王既无流连的享乐，也无荒亡的行为。至于大王您的行为，只有您自己选择了。’齐景公听了晏子的话非常高兴，先在都城内作了充分的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准备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，然后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驻扎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在郊外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打开仓库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赈济贫困的人。又召集乐官说：‘给我创作一些君臣同乐的乐曲！’这就是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徴招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角招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。其中的歌词说：‘畜君有什么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不对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呢？’‘畜君’，就是热爱国君的意思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2" name="组合 62465"/>
          <p:cNvGrpSpPr/>
          <p:nvPr/>
        </p:nvGrpSpPr>
        <p:grpSpPr>
          <a:xfrm>
            <a:off x="179280" y="333360"/>
            <a:ext cx="8352720" cy="620640"/>
            <a:chOff x="179280" y="333360"/>
            <a:chExt cx="8352720" cy="620640"/>
          </a:xfrm>
        </p:grpSpPr>
        <p:sp>
          <p:nvSpPr>
            <p:cNvPr id="433" name="Rectangle 3"/>
            <p:cNvSpPr/>
            <p:nvPr/>
          </p:nvSpPr>
          <p:spPr>
            <a:xfrm>
              <a:off x="195120" y="407520"/>
              <a:ext cx="8336880" cy="422280"/>
            </a:xfrm>
            <a:prstGeom prst="rect">
              <a:avLst/>
            </a:prstGeom>
            <a:solidFill>
              <a:srgbClr val="8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ahoma"/>
                </a:rPr>
                <a:t>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4" name="Picture 4" descr="花卉"/>
            <p:cNvPicPr/>
            <p:nvPr/>
          </p:nvPicPr>
          <p:blipFill>
            <a:blip r:embed="rId1"/>
            <a:stretch/>
          </p:blipFill>
          <p:spPr>
            <a:xfrm>
              <a:off x="179280" y="333360"/>
              <a:ext cx="2016360" cy="62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5" name="WordArt 5"/>
          <p:cNvSpPr txBox="1"/>
          <p:nvPr/>
        </p:nvSpPr>
        <p:spPr>
          <a:xfrm>
            <a:off x="968400" y="2827440"/>
            <a:ext cx="6848280" cy="17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333300"/>
                </a:solidFill>
                <a:latin typeface="方正水柱简体"/>
              </a:rPr>
              <a:t>探 究 文 本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333300"/>
              </a:solidFill>
              <a:latin typeface="方正水柱简体"/>
              <a:ea typeface="方正水柱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69640" y="182160"/>
            <a:ext cx="8561160" cy="79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课文结构分析理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69640" y="1114560"/>
            <a:ext cx="855972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中心句：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乐以天下，忧以天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第一层：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借回答齐宣王问题，提出论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第二层：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借景公和晏子的对话，来讲解君民相乐的道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本段总结：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孟子借景公和晏子对话阐明君子应“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乐以天下忧以天下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”的道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88920" y="1052280"/>
            <a:ext cx="8966160" cy="4405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1.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简要概括本则的主旨。</a:t>
            </a: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孟子引用齐景公想出去游玩，晏子劝谏的故事，阐明了君王应“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乐以天下，忧以天下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”的道理。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文本框 41987"/>
          <p:cNvSpPr/>
          <p:nvPr/>
        </p:nvSpPr>
        <p:spPr>
          <a:xfrm>
            <a:off x="324000" y="333360"/>
            <a:ext cx="18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00"/>
                </a:solidFill>
                <a:latin typeface="Arial"/>
                <a:ea typeface="华文隶书"/>
              </a:rPr>
              <a:t>合作探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356760" y="999720"/>
            <a:ext cx="8535960" cy="5681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这三则材料的核心思想是什么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与民同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这三则材料写法上的共同点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对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请结合文章说一说对比手法的好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采用对比手法可使“乐以天下，忧以天下”的主旨更加突出。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文本框 45058"/>
          <p:cNvSpPr/>
          <p:nvPr/>
        </p:nvSpPr>
        <p:spPr>
          <a:xfrm>
            <a:off x="324000" y="333360"/>
            <a:ext cx="18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隶书"/>
              </a:rPr>
              <a:t>合作探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8" dur="500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3" dur="500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4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0240" y="579240"/>
            <a:ext cx="9023400" cy="125244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思考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：孟子“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与民同乐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”的思想在当时能否实现？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0" y="1832040"/>
            <a:ext cx="9144000" cy="5013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针对春秋战国朝代连年战争、生民涂炭的现实，孟子继承并发展了孔子的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仁政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”思想，使之成为一种政治思想体系。它对两千年来的中国封建社会的历史，产生了异乎寻常的影响。孟子的“仁政”学说虽然以维护封建制度为出发点，但是对于稳定经济，发展生产，减轻人民负担，减少农民因丧失土地而迁徙流离的痛苦，却有一定的进步意义；但同时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统治阶级的享乐是建立在下层人民的痛苦之上的，又有谁愿意轻易放弃自己的这种权利呢？这种思想不过是空想而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文本框 48131"/>
          <p:cNvSpPr/>
          <p:nvPr/>
        </p:nvSpPr>
        <p:spPr>
          <a:xfrm>
            <a:off x="324000" y="0"/>
            <a:ext cx="187308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合作探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0" dur="5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507DC-77F1-4E66-B6D5-B4C9A3931F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2" descr=""/>
          <p:cNvPicPr/>
          <p:nvPr/>
        </p:nvPicPr>
        <p:blipFill>
          <a:blip r:embed="rId1"/>
          <a:stretch/>
        </p:blipFill>
        <p:spPr>
          <a:xfrm>
            <a:off x="214200" y="857160"/>
            <a:ext cx="4537080" cy="367056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3" descr=""/>
          <p:cNvPicPr/>
          <p:nvPr/>
        </p:nvPicPr>
        <p:blipFill>
          <a:blip r:embed="rId2"/>
          <a:stretch/>
        </p:blipFill>
        <p:spPr>
          <a:xfrm>
            <a:off x="4786200" y="2286000"/>
            <a:ext cx="3888000" cy="3960720"/>
          </a:xfrm>
          <a:prstGeom prst="rect">
            <a:avLst/>
          </a:prstGeom>
          <a:ln w="0">
            <a:noFill/>
          </a:ln>
        </p:spPr>
      </p:pic>
      <p:sp>
        <p:nvSpPr>
          <p:cNvPr id="448" name="Text Box 4"/>
          <p:cNvSpPr/>
          <p:nvPr/>
        </p:nvSpPr>
        <p:spPr>
          <a:xfrm>
            <a:off x="250920" y="4797360"/>
            <a:ext cx="4392360" cy="581400"/>
          </a:xfrm>
          <a:prstGeom prst="rect">
            <a:avLst/>
          </a:pr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黑体"/>
                <a:ea typeface="黑体"/>
              </a:rPr>
              <a:t>1962</a:t>
            </a:r>
            <a:r>
              <a:rPr b="1" lang="zh-CN" sz="3200" spc="-1" strike="noStrike">
                <a:solidFill>
                  <a:srgbClr val="6600cc"/>
                </a:solidFill>
                <a:latin typeface="黑体"/>
                <a:ea typeface="黑体"/>
              </a:rPr>
              <a:t>年</a:t>
            </a:r>
            <a:r>
              <a:rPr b="1" lang="en-US" sz="3200" spc="-1" strike="noStrike">
                <a:solidFill>
                  <a:srgbClr val="6600cc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6600cc"/>
                </a:solidFill>
                <a:latin typeface="黑体"/>
                <a:ea typeface="黑体"/>
              </a:rPr>
              <a:t>月，周恩来在云南西双版纳和傣族群众欢度泼水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矩形 7" descr=""/>
          <p:cNvPicPr/>
          <p:nvPr/>
        </p:nvPicPr>
        <p:blipFill>
          <a:blip r:embed="rId3"/>
          <a:stretch/>
        </p:blipFill>
        <p:spPr>
          <a:xfrm>
            <a:off x="5148360" y="620640"/>
            <a:ext cx="3706560" cy="1150920"/>
          </a:xfrm>
          <a:prstGeom prst="rect">
            <a:avLst/>
          </a:prstGeom>
          <a:ln w="0">
            <a:noFill/>
          </a:ln>
        </p:spPr>
      </p:pic>
      <p:pic>
        <p:nvPicPr>
          <p:cNvPr id="450" name="矩形 8" descr=""/>
          <p:cNvPicPr/>
          <p:nvPr/>
        </p:nvPicPr>
        <p:blipFill>
          <a:blip r:embed="rId4"/>
          <a:stretch/>
        </p:blipFill>
        <p:spPr>
          <a:xfrm>
            <a:off x="-114480" y="-163440"/>
            <a:ext cx="3291120" cy="101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BDE90-9EFD-410F-808B-BA487DEF78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2" descr=""/>
          <p:cNvPicPr/>
          <p:nvPr/>
        </p:nvPicPr>
        <p:blipFill>
          <a:blip r:embed="rId1"/>
          <a:stretch/>
        </p:blipFill>
        <p:spPr>
          <a:xfrm>
            <a:off x="357120" y="357120"/>
            <a:ext cx="4889520" cy="276552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3"/>
          <p:cNvSpPr/>
          <p:nvPr/>
        </p:nvSpPr>
        <p:spPr>
          <a:xfrm>
            <a:off x="0" y="5013360"/>
            <a:ext cx="9023400" cy="58140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2008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5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月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13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日，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温家宝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总理在四川都江堰市新建小学察看灾情时，看见救援人员正在教学楼废墟里抢救一名被困的小学生。温家宝蹲坐在废墟上对着孩子说，我是温家宝爷爷，孩子们一定要挺住，一定会得救！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6600cc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Picture 2" descr="http://ido.3mt.com.cn/article/upload/200806/0806080836938313.jpg"/>
          <p:cNvPicPr/>
          <p:nvPr/>
        </p:nvPicPr>
        <p:blipFill>
          <a:blip r:embed="rId2"/>
          <a:stretch/>
        </p:blipFill>
        <p:spPr>
          <a:xfrm>
            <a:off x="4071960" y="1928880"/>
            <a:ext cx="4572000" cy="3047760"/>
          </a:xfrm>
          <a:prstGeom prst="rect">
            <a:avLst/>
          </a:prstGeom>
          <a:ln w="0">
            <a:noFill/>
          </a:ln>
        </p:spPr>
      </p:pic>
      <p:pic>
        <p:nvPicPr>
          <p:cNvPr id="455" name="矩形 7" descr=""/>
          <p:cNvPicPr/>
          <p:nvPr/>
        </p:nvPicPr>
        <p:blipFill>
          <a:blip r:embed="rId3"/>
          <a:stretch/>
        </p:blipFill>
        <p:spPr>
          <a:xfrm>
            <a:off x="5200560" y="371520"/>
            <a:ext cx="3705480" cy="115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4" descr="http://img1.gtimg.com/news/pics/24377/2437721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2680" y="166680"/>
            <a:ext cx="8858160" cy="4548240"/>
          </a:xfrm>
          <a:prstGeom prst="rect">
            <a:avLst/>
          </a:prstGeom>
          <a:ln w="0">
            <a:noFill/>
          </a:ln>
        </p:spPr>
      </p:pic>
      <p:sp>
        <p:nvSpPr>
          <p:cNvPr id="457" name="矩形 5"/>
          <p:cNvSpPr/>
          <p:nvPr/>
        </p:nvSpPr>
        <p:spPr>
          <a:xfrm>
            <a:off x="3841560" y="48578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共克时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矩形 7" descr=""/>
          <p:cNvPicPr/>
          <p:nvPr/>
        </p:nvPicPr>
        <p:blipFill>
          <a:blip r:embed="rId3">
            <a:grayscl/>
            <a:lum contrast="2000"/>
          </a:blip>
          <a:stretch/>
        </p:blipFill>
        <p:spPr>
          <a:xfrm>
            <a:off x="112680" y="5564160"/>
            <a:ext cx="885816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2" descr="萨瓦纳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0" name="Text Box 3"/>
          <p:cNvSpPr/>
          <p:nvPr/>
        </p:nvSpPr>
        <p:spPr>
          <a:xfrm>
            <a:off x="5876280" y="549360"/>
            <a:ext cx="219132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99cc00"/>
                </a:solidFill>
                <a:latin typeface="Times New Roman"/>
                <a:ea typeface="方正水柱简体"/>
              </a:rPr>
              <a:t>孟子是棵大树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WordArt 2"/>
          <p:cNvSpPr txBox="1"/>
          <p:nvPr/>
        </p:nvSpPr>
        <p:spPr>
          <a:xfrm>
            <a:off x="2987640" y="1844640"/>
            <a:ext cx="2664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方正粗倩简体"/>
              </a:rPr>
              <a:t>找出通假字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方正粗倩简体"/>
              <a:ea typeface="方正粗倩简体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1332000" y="2787480"/>
            <a:ext cx="441936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可得闻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今王田猎于此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1407960" y="354960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与，通“欤”。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1332000" y="5451480"/>
            <a:ext cx="496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田，通“畋”，打猎。</a:t>
            </a:r>
            <a:r>
              <a:rPr b="0" lang="zh-CN" sz="2400" spc="-1" strike="noStrike">
                <a:solidFill>
                  <a:srgbClr val="0000ff"/>
                </a:solidFill>
                <a:latin typeface="方正粗圆简体"/>
                <a:ea typeface="方正粗圆简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文本框 13319"/>
          <p:cNvSpPr/>
          <p:nvPr/>
        </p:nvSpPr>
        <p:spPr>
          <a:xfrm>
            <a:off x="395280" y="33336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00"/>
                </a:solidFill>
                <a:latin typeface="Arial"/>
                <a:ea typeface="华文隶书"/>
              </a:rPr>
              <a:t>问题归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矩形 3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979640" y="907920"/>
            <a:ext cx="446544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WordArt 2"/>
          <p:cNvSpPr txBox="1"/>
          <p:nvPr/>
        </p:nvSpPr>
        <p:spPr>
          <a:xfrm>
            <a:off x="3203640" y="527040"/>
            <a:ext cx="273672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3300"/>
                  </a:solidFill>
                  <a:round/>
                </a:ln>
                <a:gradFill rotWithShape="0">
                  <a:gsLst>
                    <a:gs pos="0">
                      <a:srgbClr val="3b3b00"/>
                    </a:gs>
                    <a:gs pos="50000">
                      <a:srgbClr val="808000">
                        <a:alpha val="62352"/>
                      </a:srgbClr>
                    </a:gs>
                    <a:gs pos="100000">
                      <a:srgbClr val="3b3b00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方正细倩简体"/>
              </a:rPr>
              <a:t>词类活用</a:t>
            </a:r>
            <a:endParaRPr b="1" lang="en-US" sz="1800" spc="1" strike="noStrike">
              <a:ln w="12600">
                <a:solidFill>
                  <a:srgbClr val="003300"/>
                </a:solidFill>
                <a:round/>
              </a:ln>
              <a:gradFill rotWithShape="0">
                <a:gsLst>
                  <a:gs pos="0">
                    <a:srgbClr val="3b3b00"/>
                  </a:gs>
                  <a:gs pos="50000">
                    <a:srgbClr val="808000">
                      <a:alpha val="62352"/>
                    </a:srgbClr>
                  </a:gs>
                  <a:gs pos="100000">
                    <a:srgbClr val="3b3b00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方正细倩简体"/>
              <a:ea typeface="方正细倩简体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57240" y="1441440"/>
            <a:ext cx="457200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独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乐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乐，与人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乐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与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少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乐乐，与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众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乐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今王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鼓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乐于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则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3564000" y="4017960"/>
            <a:ext cx="5400720" cy="642600"/>
          </a:xfrm>
          <a:prstGeom prst="rect">
            <a:avLst/>
          </a:pr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方正隶书简体"/>
              </a:rPr>
              <a:t>名词作动词，弹奏、敲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5"/>
          <p:cNvSpPr/>
          <p:nvPr/>
        </p:nvSpPr>
        <p:spPr>
          <a:xfrm>
            <a:off x="3876840" y="1441440"/>
            <a:ext cx="5014800" cy="642600"/>
          </a:xfrm>
          <a:prstGeom prst="rect">
            <a:avLst/>
          </a:pr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方正隶书简体"/>
              </a:rPr>
              <a:t>名词作动词，欣赏音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6"/>
          <p:cNvSpPr/>
          <p:nvPr/>
        </p:nvSpPr>
        <p:spPr>
          <a:xfrm>
            <a:off x="4284720" y="2246400"/>
            <a:ext cx="4680000" cy="642600"/>
          </a:xfrm>
          <a:prstGeom prst="rect">
            <a:avLst/>
          </a:pr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Times New Roman"/>
                <a:ea typeface="方正隶书简体"/>
              </a:rPr>
              <a:t>形容词作名词，少数人，多数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7"/>
          <p:cNvSpPr/>
          <p:nvPr/>
        </p:nvSpPr>
        <p:spPr>
          <a:xfrm>
            <a:off x="1835280" y="5734080"/>
            <a:ext cx="7308720" cy="64260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Times New Roman"/>
                <a:ea typeface="方正隶书简体"/>
              </a:rPr>
              <a:t>名词作动词，成就王业，取得天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本框 14344"/>
          <p:cNvSpPr/>
          <p:nvPr/>
        </p:nvSpPr>
        <p:spPr>
          <a:xfrm>
            <a:off x="395280" y="33336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00"/>
                </a:solidFill>
                <a:latin typeface="Arial"/>
                <a:ea typeface="华文隶书"/>
              </a:rPr>
              <a:t>问题归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14"/>
          <p:cNvSpPr/>
          <p:nvPr/>
        </p:nvSpPr>
        <p:spPr>
          <a:xfrm>
            <a:off x="380880" y="2111400"/>
            <a:ext cx="8153640" cy="42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暴见于王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王语暴以好乐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何以能鼓乐也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5"/>
          <p:cNvSpPr/>
          <p:nvPr/>
        </p:nvSpPr>
        <p:spPr>
          <a:xfrm>
            <a:off x="108000" y="760320"/>
            <a:ext cx="8839080" cy="642600"/>
          </a:xfrm>
          <a:prstGeom prst="rect">
            <a:avLst/>
          </a:pr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辨析下列句子的句式特点，并把它们译成现代汉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7"/>
          <p:cNvSpPr/>
          <p:nvPr/>
        </p:nvSpPr>
        <p:spPr>
          <a:xfrm>
            <a:off x="324000" y="2806560"/>
            <a:ext cx="88455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黑体"/>
                <a:ea typeface="黑体"/>
              </a:rPr>
              <a:t>我被齐王召见，（被动句</a:t>
            </a:r>
            <a:r>
              <a:rPr b="1" lang="en-US" sz="3200" spc="-1" strike="noStrike">
                <a:solidFill>
                  <a:srgbClr val="6600cc"/>
                </a:solidFill>
                <a:latin typeface="黑体"/>
                <a:ea typeface="黑体"/>
              </a:rPr>
              <a:t>,“</a:t>
            </a:r>
            <a:r>
              <a:rPr b="1" lang="zh-CN" sz="3200" spc="-1" strike="noStrike">
                <a:solidFill>
                  <a:srgbClr val="6600cc"/>
                </a:solidFill>
                <a:latin typeface="黑体"/>
                <a:ea typeface="黑体"/>
              </a:rPr>
              <a:t>于”表示被动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黑体"/>
                <a:ea typeface="黑体"/>
              </a:rPr>
              <a:t>齐王把（他）爱好音乐的事告诉我</a:t>
            </a:r>
            <a:r>
              <a:rPr b="1" lang="en-US" sz="3200" spc="-1" strike="noStrike">
                <a:solidFill>
                  <a:srgbClr val="6600cc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6600cc"/>
                </a:solidFill>
                <a:latin typeface="黑体"/>
                <a:ea typeface="黑体"/>
              </a:rPr>
              <a:t>（状语后置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黑体"/>
                <a:ea typeface="黑体"/>
              </a:rPr>
              <a:t>凭什么（为什么）能奏乐呢？（宾语前置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文本框 16388"/>
          <p:cNvSpPr/>
          <p:nvPr/>
        </p:nvSpPr>
        <p:spPr>
          <a:xfrm>
            <a:off x="324000" y="260280"/>
            <a:ext cx="18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00"/>
                </a:solidFill>
                <a:latin typeface="Arial"/>
                <a:ea typeface="华文隶书"/>
              </a:rPr>
              <a:t>合作探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组合 8193"/>
          <p:cNvGrpSpPr/>
          <p:nvPr/>
        </p:nvGrpSpPr>
        <p:grpSpPr>
          <a:xfrm>
            <a:off x="179280" y="333360"/>
            <a:ext cx="8748360" cy="934920"/>
            <a:chOff x="179280" y="333360"/>
            <a:chExt cx="8748360" cy="934920"/>
          </a:xfrm>
        </p:grpSpPr>
        <p:sp>
          <p:nvSpPr>
            <p:cNvPr id="295" name="Rectangle 9"/>
            <p:cNvSpPr/>
            <p:nvPr/>
          </p:nvSpPr>
          <p:spPr>
            <a:xfrm>
              <a:off x="196200" y="445320"/>
              <a:ext cx="8731440" cy="636120"/>
            </a:xfrm>
            <a:prstGeom prst="rect">
              <a:avLst/>
            </a:prstGeom>
            <a:solidFill>
              <a:srgbClr val="8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ahoma"/>
                </a:rPr>
                <a:t>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6" name="Picture 10" descr="花卉"/>
            <p:cNvPicPr/>
            <p:nvPr/>
          </p:nvPicPr>
          <p:blipFill>
            <a:blip r:embed="rId1"/>
            <a:stretch/>
          </p:blipFill>
          <p:spPr>
            <a:xfrm>
              <a:off x="179280" y="333360"/>
              <a:ext cx="2111760" cy="93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WordArt 11"/>
          <p:cNvSpPr txBox="1"/>
          <p:nvPr/>
        </p:nvSpPr>
        <p:spPr>
          <a:xfrm>
            <a:off x="1479600" y="2755800"/>
            <a:ext cx="6573960" cy="205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333300"/>
                  </a:solidFill>
                  <a:round/>
                </a:ln>
                <a:solidFill>
                  <a:srgbClr val="333300"/>
                </a:solidFill>
                <a:latin typeface="方正水柱简体"/>
              </a:rPr>
              <a:t>梳 理 文 意</a:t>
            </a:r>
            <a:endParaRPr b="0" lang="en-US" sz="4800" spc="1" strike="noStrike">
              <a:ln w="9360">
                <a:solidFill>
                  <a:srgbClr val="333300"/>
                </a:solidFill>
                <a:round/>
              </a:ln>
              <a:solidFill>
                <a:srgbClr val="333300"/>
              </a:solidFill>
              <a:latin typeface="方正水柱简体"/>
              <a:ea typeface="方正水柱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34560" y="73080"/>
            <a:ext cx="8929800" cy="2286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庄暴见孟子，曰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暴见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于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王，王语暴以好乐，暴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未有以对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也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曰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好乐何如？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孟子曰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王之好乐甚，则齐国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其庶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乎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他日，见于王曰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王尝语庄子以好乐，有诸？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王变乎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色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曰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寡人非能好先王之乐也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直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好世俗之乐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耳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3"/>
          <p:cNvSpPr/>
          <p:nvPr/>
        </p:nvSpPr>
        <p:spPr>
          <a:xfrm>
            <a:off x="179280" y="2521080"/>
            <a:ext cx="8785440" cy="2531160"/>
          </a:xfrm>
          <a:prstGeom prst="rect">
            <a:avLst/>
          </a:pr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庄暴进见孟子，说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被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大王接见，大王和我谈论喜好音乐的事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我没有话应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接着问道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喜好音乐怎么样啊？”孟子说：“大王如果非常喜好音乐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那齐国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也许就很不错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了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！几天后，孟子在进见宣王时问道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大王曾经和庄暴谈论过爱好音乐，有这回事吗？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宣王变了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脸色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他说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并不是喜好先王的音乐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只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不过喜好世俗的音乐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罢了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直接连接符 9221"/>
          <p:cNvSpPr/>
          <p:nvPr/>
        </p:nvSpPr>
        <p:spPr>
          <a:xfrm flipV="1">
            <a:off x="250920" y="2358720"/>
            <a:ext cx="8713800" cy="730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9T15:28:04Z</dcterms:created>
  <dc:creator>PC-201007170854</dc:creator>
  <dc:description/>
  <dc:language>en-US</dc:language>
  <cp:lastModifiedBy>芬</cp:lastModifiedBy>
  <dcterms:modified xsi:type="dcterms:W3CDTF">2019-03-12T02:51:28Z</dcterms:modified>
  <cp:revision>14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527</vt:lpwstr>
  </property>
</Properties>
</file>