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257A-14AD-46F8-B2B8-47FDB8018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5AC4-F517-4DD7-9C54-355403F5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C29B-343C-497A-9ABE-1F29DF01A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5E63-4F9B-4612-814A-E536EA371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5652-4871-4128-913C-B37E84C43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28FDF-91DB-40E7-B2D5-8E00FA89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84B8-9C6F-4EDE-AC5A-D59EBE24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60E7-43D8-45AA-9F24-7969E41C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A5A3-1B70-4988-BDF8-9A55150C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DB5A-AD68-4F7E-B402-CF3A198C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E5A38-EBC3-42DD-A107-26F639D7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98CF-4CCA-4A2D-9DAF-D3E4AC0F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7F25C-6414-4782-A253-B98CB0E8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5CAA-6479-4027-B895-BA4B3DE8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A82C-65D9-404D-8E5B-994C5639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BD47-F1E1-410D-B21D-9B042C32D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8A935-F6F2-4E02-8601-D68C01D76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5923-A488-478E-B3B0-D4BE629A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0875-C9DC-42F0-BD2F-9DF3AF86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5EC7-33FA-4DE0-851B-671AF64F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26BB-44EC-4D54-946C-38E17AE9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F99B-77C9-44FB-9818-D8D6844A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2F4D-7EAC-459D-A2BA-E3391A2A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F24B-D414-4B0D-9FEF-FBDA9518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8C1A-971C-40DD-A147-1F95EFC1CBC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0D30-6F61-4CDB-83B9-A31C1FBB038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hyperlink" Target="http://baike.baidu.com/albums/160814/160814/0/0.html#0$c8ab0bce15def46ab600c8c5" TargetMode="External"/><Relationship Id="rId4" Type="http://schemas.openxmlformats.org/officeDocument/2006/relationships/hyperlink" Target="http://baike.baidu.com/view/160814.htm" TargetMode="External"/><Relationship Id="rId5" Type="http://schemas.openxmlformats.org/officeDocument/2006/relationships/hyperlink" Target="http://baike.baidu.com/view/1928506.htm" TargetMode="External"/><Relationship Id="rId6" Type="http://schemas.openxmlformats.org/officeDocument/2006/relationships/hyperlink" Target="http://baike.baidu.com/view/10382.htm" TargetMode="Externa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la_pic?fid=150072378301240448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WordArt 9"/>
          <p:cNvSpPr txBox="1"/>
          <p:nvPr/>
        </p:nvSpPr>
        <p:spPr>
          <a:xfrm>
            <a:off x="1295280" y="2209680"/>
            <a:ext cx="66294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绿色环保  垃圾分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5029200" y="54100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常平中学高三年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垃圾分类目录"/>
          <p:cNvPicPr/>
          <p:nvPr/>
        </p:nvPicPr>
        <p:blipFill>
          <a:blip r:embed="rId1"/>
          <a:stretch/>
        </p:blipFill>
        <p:spPr>
          <a:xfrm>
            <a:off x="3352680" y="0"/>
            <a:ext cx="57657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5"/>
          <p:cNvGrpSpPr/>
          <p:nvPr/>
        </p:nvGrpSpPr>
        <p:grpSpPr>
          <a:xfrm>
            <a:off x="152280" y="1066680"/>
            <a:ext cx="3353040" cy="3796920"/>
            <a:chOff x="152280" y="1066680"/>
            <a:chExt cx="3353040" cy="3796920"/>
          </a:xfrm>
        </p:grpSpPr>
        <p:sp>
          <p:nvSpPr>
            <p:cNvPr id="119" name="Text Box 3"/>
            <p:cNvSpPr/>
            <p:nvPr/>
          </p:nvSpPr>
          <p:spPr>
            <a:xfrm>
              <a:off x="152280" y="1066680"/>
              <a:ext cx="320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00"/>
                  </a:solidFill>
                  <a:latin typeface="Arial"/>
                </a:rPr>
                <a:t>三</a:t>
              </a:r>
              <a:r>
                <a:rPr b="0" lang="en-US" sz="3600" spc="-1" strike="noStrike">
                  <a:solidFill>
                    <a:srgbClr val="ff3300"/>
                  </a:solidFill>
                  <a:latin typeface="Arial"/>
                </a:rPr>
                <a:t>.</a:t>
              </a:r>
              <a:r>
                <a:rPr b="0" lang="zh-CN" sz="3600" spc="-1" strike="noStrike">
                  <a:solidFill>
                    <a:srgbClr val="ff3300"/>
                  </a:solidFill>
                  <a:latin typeface="Arial"/>
                </a:rPr>
                <a:t>垃圾的分类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4"/>
            <p:cNvSpPr/>
            <p:nvPr/>
          </p:nvSpPr>
          <p:spPr>
            <a:xfrm>
              <a:off x="304920" y="2057400"/>
              <a:ext cx="3200400" cy="28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可回收垃圾 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厨余垃圾 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有害垃圾 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其他垃圾。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6" descr="DSC01846"/>
          <p:cNvPicPr/>
          <p:nvPr/>
        </p:nvPicPr>
        <p:blipFill>
          <a:blip r:embed="rId1"/>
          <a:stretch/>
        </p:blipFill>
        <p:spPr>
          <a:xfrm>
            <a:off x="0" y="171468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2"/>
          <p:cNvSpPr/>
          <p:nvPr/>
        </p:nvSpPr>
        <p:spPr>
          <a:xfrm>
            <a:off x="920160" y="227880"/>
            <a:ext cx="204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可回收垃圾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914400" y="8380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包括废纸、塑料、玻璃、金属和布料五大类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2094480" y="843480"/>
            <a:ext cx="50878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废纸：主要包括报纸、期刊、图书、各种包装纸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办公用纸、广告纸、纸盒等等，但是要注意纸巾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厕所纸由于水溶性太强不可回收。塑料：主要包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各种塑料袋、塑料包装物、一次性塑料餐盒和餐具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牙刷、杯子、矿泉水瓶等。 玻璃：主要包括各种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璃瓶、碎玻璃片、镜子、灯泡、暖瓶等。金属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主要包括易拉罐、罐头盒、牙膏皮等。布料：主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包括废弃衣服、桌布、洗脸巾、书包、鞋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1473840" y="536400"/>
            <a:ext cx="63468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每回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吨废纸可造好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公斤，节省木材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公斤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减少污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％；每回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吨塑料饮料瓶可获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二级原料；每回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吨废钢铁可炼好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吨，比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矿石冶炼节约成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％，减少空气污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％，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％的水污染和固体废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533520" y="3042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厨余垃圾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4171320" y="990000"/>
            <a:ext cx="68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包括剩菜剩饭、骨头、菜根菜叶等食品类废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2731320" y="1751760"/>
            <a:ext cx="42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经生物技术就地处理，每吨可生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吨有机肥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0" descr="垃圾分类示意图"/>
          <p:cNvPicPr/>
          <p:nvPr/>
        </p:nvPicPr>
        <p:blipFill>
          <a:blip r:embed="rId1"/>
          <a:stretch/>
        </p:blipFill>
        <p:spPr>
          <a:xfrm>
            <a:off x="-4587840" y="2198520"/>
            <a:ext cx="1457280" cy="2095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垃圾分类"/>
          <p:cNvPicPr/>
          <p:nvPr/>
        </p:nvPicPr>
        <p:blipFill>
          <a:blip r:embed="rId2"/>
          <a:stretch/>
        </p:blipFill>
        <p:spPr>
          <a:xfrm>
            <a:off x="-4587840" y="4933800"/>
            <a:ext cx="2047680" cy="20955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4"/>
          <p:cNvSpPr/>
          <p:nvPr/>
        </p:nvSpPr>
        <p:spPr>
          <a:xfrm>
            <a:off x="-4372920" y="4293360"/>
            <a:ext cx="820800" cy="641520"/>
          </a:xfrm>
          <a:prstGeom prst="rect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垃圾分类示意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3798720" y="7094880"/>
            <a:ext cx="1546200" cy="873720"/>
          </a:xfrm>
          <a:prstGeom prst="rect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垃圾分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767ff"/>
                </a:solidFill>
                <a:uFillTx/>
                <a:latin typeface="Times New Roman"/>
                <a:hlinkClick r:id="rId4"/>
              </a:rPr>
              <a:t>编辑本段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分类处理的优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目前我国的垃圾处理多采用卫生填埋甚至简易填埋的方式，占用上万亩土地；并且虫蝇乱飞，污水四溢，臭气熏天，严重地污染环境。因此进行</a:t>
            </a:r>
            <a:r>
              <a:rPr b="0" lang="zh-CN" sz="1200" spc="-1" strike="noStrike" u="sng">
                <a:solidFill>
                  <a:srgbClr val="6767ff"/>
                </a:solidFill>
                <a:uFillTx/>
                <a:latin typeface="Times New Roman"/>
                <a:hlinkClick r:id="rId5"/>
              </a:rPr>
              <a:t>垃圾分类收集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可以减少垃圾处理量和处理设备，降低处理成本，减少土地资源的消耗，具有社会、经济、</a:t>
            </a:r>
            <a:r>
              <a:rPr b="0" lang="zh-CN" sz="1200" spc="-1" strike="noStrike" u="sng">
                <a:solidFill>
                  <a:srgbClr val="6767ff"/>
                </a:solidFill>
                <a:uFillTx/>
                <a:latin typeface="Times New Roman"/>
                <a:hlinkClick r:id="rId6"/>
              </a:rPr>
              <a:t>生态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三方面的效益。垃圾分类处理的优点如下：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6"/>
          <p:cNvSpPr/>
          <p:nvPr/>
        </p:nvSpPr>
        <p:spPr>
          <a:xfrm>
            <a:off x="1884960" y="2419200"/>
            <a:ext cx="55436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居民可以用它种花养菜。用他们施种出的蔬菜，比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化肥食品来，既安全又健康，在超市还挺受欢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生物垃圾通常占了垃圾总量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如果他们都能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成有机肥，既省下用做填埋场的土地，又节约运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它们的车辆和能源，还防止他们滋生蚊蝇和细菌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948240" y="837720"/>
            <a:ext cx="212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有害垃圾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4253040" y="1600920"/>
            <a:ext cx="6699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包括废电池、废日光灯管、废水银温度计、过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药品等。这些垃圾需要特殊安全处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679320" y="3352320"/>
            <a:ext cx="297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4.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其他垃圾 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4379040" y="4267800"/>
            <a:ext cx="621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包括除上述几类垃圾之外的砖瓦陶瓷、渣土、卫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间废纸等难以回收的废弃物，采取卫生填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9" descr="垃圾分类目录"/>
          <p:cNvPicPr/>
          <p:nvPr/>
        </p:nvPicPr>
        <p:blipFill>
          <a:blip r:embed="rId1"/>
          <a:stretch/>
        </p:blipFill>
        <p:spPr>
          <a:xfrm>
            <a:off x="-4587840" y="-536400"/>
            <a:ext cx="1762200" cy="20952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垃圾分类示意图"/>
          <p:cNvPicPr/>
          <p:nvPr/>
        </p:nvPicPr>
        <p:blipFill>
          <a:blip r:embed="rId2"/>
          <a:stretch/>
        </p:blipFill>
        <p:spPr>
          <a:xfrm>
            <a:off x="-4587840" y="2198520"/>
            <a:ext cx="1457280" cy="2095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垃圾分类"/>
          <p:cNvPicPr/>
          <p:nvPr/>
        </p:nvPicPr>
        <p:blipFill>
          <a:blip r:embed="rId3"/>
          <a:stretch/>
        </p:blipFill>
        <p:spPr>
          <a:xfrm>
            <a:off x="-4587840" y="4933800"/>
            <a:ext cx="2047680" cy="20955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2"/>
          <p:cNvSpPr/>
          <p:nvPr/>
        </p:nvSpPr>
        <p:spPr>
          <a:xfrm>
            <a:off x="-157320" y="-1177200"/>
            <a:ext cx="810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其它垃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包括除上述几类垃圾之外的砖瓦陶瓷、渣土、卫生间废纸、纸巾等难以回收的废弃物，通常根据垃圾特性采取焚烧或者填埋的方式处理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36ec2"/>
                </a:solidFill>
                <a:latin typeface="Arial"/>
              </a:rPr>
              <a:t>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-4403520" y="1558080"/>
            <a:ext cx="729360" cy="641520"/>
          </a:xfrm>
          <a:prstGeom prst="rect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垃圾分类目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36ec2"/>
                </a:solidFill>
                <a:latin typeface="Arial"/>
              </a:rPr>
              <a:t>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-4372920" y="4293360"/>
            <a:ext cx="820800" cy="641520"/>
          </a:xfrm>
          <a:prstGeom prst="rect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垃圾分类示意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36ec2"/>
                </a:solidFill>
                <a:latin typeface="Arial"/>
              </a:rPr>
              <a:t>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5"/>
          <p:cNvSpPr/>
          <p:nvPr/>
        </p:nvSpPr>
        <p:spPr>
          <a:xfrm>
            <a:off x="3798720" y="7119720"/>
            <a:ext cx="1546200" cy="824040"/>
          </a:xfrm>
          <a:prstGeom prst="rect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垃圾分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36ec2"/>
                </a:solidFill>
                <a:latin typeface="Times New Roman"/>
              </a:rPr>
              <a:t>编辑本段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分类处理的优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目前我国的垃圾处理多采用卫生填埋甚至简易填埋的方式，占用上万亩土地；并且虫蝇乱飞，污水四溢，臭气熏天，严重地污染环境。因此进行</a:t>
            </a:r>
            <a:r>
              <a:rPr b="0" lang="zh-CN" sz="1200" spc="-1" strike="noStrike">
                <a:solidFill>
                  <a:srgbClr val="136ec2"/>
                </a:solidFill>
                <a:latin typeface="Times New Roman"/>
              </a:rPr>
              <a:t>垃圾分类收集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可以减少垃圾处理量和处理设备，降低处理成本，减少土地资源的消耗，具有社会、经济、</a:t>
            </a:r>
            <a:r>
              <a:rPr b="0" lang="zh-CN" sz="1200" spc="-1" strike="noStrike">
                <a:solidFill>
                  <a:srgbClr val="136ec2"/>
                </a:solidFill>
                <a:latin typeface="Times New Roman"/>
              </a:rPr>
              <a:t>生态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三方面的效益。垃圾分类处理的优点如下：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DSC01850"/>
          <p:cNvPicPr/>
          <p:nvPr/>
        </p:nvPicPr>
        <p:blipFill>
          <a:blip r:embed="rId1"/>
          <a:stretch/>
        </p:blipFill>
        <p:spPr>
          <a:xfrm>
            <a:off x="380880" y="1752480"/>
            <a:ext cx="8229600" cy="46292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"/>
          <p:cNvSpPr/>
          <p:nvPr/>
        </p:nvSpPr>
        <p:spPr>
          <a:xfrm>
            <a:off x="609480" y="45612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工宿舍楼前摆的分类拉圾桶有三个桶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可回收垃圾；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厨余垃圾；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其它拉圾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DSC01844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3"/>
          <p:cNvSpPr/>
          <p:nvPr/>
        </p:nvSpPr>
        <p:spPr>
          <a:xfrm>
            <a:off x="304920" y="304920"/>
            <a:ext cx="8610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学校教学楼前摆放的垃圾桶分为三格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右边是可回收物；左边是其它垃圾；中间是可害垃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8"/>
          <p:cNvGrpSpPr/>
          <p:nvPr/>
        </p:nvGrpSpPr>
        <p:grpSpPr>
          <a:xfrm>
            <a:off x="228600" y="2362320"/>
            <a:ext cx="1295280" cy="1143000"/>
            <a:chOff x="228600" y="2362320"/>
            <a:chExt cx="1295280" cy="1143000"/>
          </a:xfrm>
        </p:grpSpPr>
        <p:sp>
          <p:nvSpPr>
            <p:cNvPr id="150" name="Rectangle 2"/>
            <p:cNvSpPr/>
            <p:nvPr/>
          </p:nvSpPr>
          <p:spPr>
            <a:xfrm>
              <a:off x="228600" y="2362320"/>
              <a:ext cx="1295280" cy="11430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7"/>
            <p:cNvSpPr/>
            <p:nvPr/>
          </p:nvSpPr>
          <p:spPr>
            <a:xfrm>
              <a:off x="380880" y="240660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垃圾分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21"/>
          <p:cNvGrpSpPr/>
          <p:nvPr/>
        </p:nvGrpSpPr>
        <p:grpSpPr>
          <a:xfrm>
            <a:off x="1523880" y="1143000"/>
            <a:ext cx="2895840" cy="1218960"/>
            <a:chOff x="1523880" y="1143000"/>
            <a:chExt cx="2895840" cy="1218960"/>
          </a:xfrm>
        </p:grpSpPr>
        <p:sp>
          <p:nvSpPr>
            <p:cNvPr id="153" name="Line 3"/>
            <p:cNvSpPr/>
            <p:nvPr/>
          </p:nvSpPr>
          <p:spPr>
            <a:xfrm flipV="1">
              <a:off x="1523880" y="1523520"/>
              <a:ext cx="914400" cy="838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8"/>
            <p:cNvSpPr/>
            <p:nvPr/>
          </p:nvSpPr>
          <p:spPr>
            <a:xfrm>
              <a:off x="2438280" y="1143000"/>
              <a:ext cx="1828800" cy="6858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0"/>
            <p:cNvSpPr/>
            <p:nvPr/>
          </p:nvSpPr>
          <p:spPr>
            <a:xfrm>
              <a:off x="2514600" y="121932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可回收垃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27"/>
          <p:cNvGrpSpPr/>
          <p:nvPr/>
        </p:nvGrpSpPr>
        <p:grpSpPr>
          <a:xfrm>
            <a:off x="1523880" y="2133720"/>
            <a:ext cx="2743200" cy="685800"/>
            <a:chOff x="1523880" y="2133720"/>
            <a:chExt cx="2743200" cy="685800"/>
          </a:xfrm>
        </p:grpSpPr>
        <p:sp>
          <p:nvSpPr>
            <p:cNvPr id="157" name="Line 4"/>
            <p:cNvSpPr/>
            <p:nvPr/>
          </p:nvSpPr>
          <p:spPr>
            <a:xfrm flipV="1">
              <a:off x="1523880" y="2437920"/>
              <a:ext cx="91440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9"/>
            <p:cNvSpPr/>
            <p:nvPr/>
          </p:nvSpPr>
          <p:spPr>
            <a:xfrm>
              <a:off x="2438280" y="2133720"/>
              <a:ext cx="1828800" cy="6858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22"/>
            <p:cNvSpPr/>
            <p:nvPr/>
          </p:nvSpPr>
          <p:spPr>
            <a:xfrm>
              <a:off x="2514600" y="220968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厨余垃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26"/>
          <p:cNvGrpSpPr/>
          <p:nvPr/>
        </p:nvGrpSpPr>
        <p:grpSpPr>
          <a:xfrm>
            <a:off x="1523880" y="2971800"/>
            <a:ext cx="2743200" cy="685800"/>
            <a:chOff x="1523880" y="2971800"/>
            <a:chExt cx="2743200" cy="685800"/>
          </a:xfrm>
        </p:grpSpPr>
        <p:sp>
          <p:nvSpPr>
            <p:cNvPr id="161" name="Line 5"/>
            <p:cNvSpPr/>
            <p:nvPr/>
          </p:nvSpPr>
          <p:spPr>
            <a:xfrm>
              <a:off x="1523880" y="2971800"/>
              <a:ext cx="91440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0"/>
            <p:cNvSpPr/>
            <p:nvPr/>
          </p:nvSpPr>
          <p:spPr>
            <a:xfrm>
              <a:off x="2438280" y="2971800"/>
              <a:ext cx="1828800" cy="6858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3"/>
            <p:cNvSpPr/>
            <p:nvPr/>
          </p:nvSpPr>
          <p:spPr>
            <a:xfrm>
              <a:off x="2514600" y="30481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有害垃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25"/>
          <p:cNvGrpSpPr/>
          <p:nvPr/>
        </p:nvGrpSpPr>
        <p:grpSpPr>
          <a:xfrm>
            <a:off x="1523880" y="3505320"/>
            <a:ext cx="2743200" cy="1066680"/>
            <a:chOff x="1523880" y="3505320"/>
            <a:chExt cx="2743200" cy="1066680"/>
          </a:xfrm>
        </p:grpSpPr>
        <p:sp>
          <p:nvSpPr>
            <p:cNvPr id="165" name="Line 6"/>
            <p:cNvSpPr/>
            <p:nvPr/>
          </p:nvSpPr>
          <p:spPr>
            <a:xfrm>
              <a:off x="1523880" y="3505320"/>
              <a:ext cx="914400" cy="761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1"/>
            <p:cNvSpPr/>
            <p:nvPr/>
          </p:nvSpPr>
          <p:spPr>
            <a:xfrm>
              <a:off x="2438280" y="3886200"/>
              <a:ext cx="1828800" cy="6858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24"/>
            <p:cNvSpPr/>
            <p:nvPr/>
          </p:nvSpPr>
          <p:spPr>
            <a:xfrm>
              <a:off x="2514600" y="397656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其它垃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33"/>
          <p:cNvGrpSpPr/>
          <p:nvPr/>
        </p:nvGrpSpPr>
        <p:grpSpPr>
          <a:xfrm>
            <a:off x="4267080" y="1143000"/>
            <a:ext cx="4419720" cy="685800"/>
            <a:chOff x="4267080" y="1143000"/>
            <a:chExt cx="4419720" cy="685800"/>
          </a:xfrm>
        </p:grpSpPr>
        <p:sp>
          <p:nvSpPr>
            <p:cNvPr id="169" name="Line 12"/>
            <p:cNvSpPr/>
            <p:nvPr/>
          </p:nvSpPr>
          <p:spPr>
            <a:xfrm>
              <a:off x="4267080" y="1447920"/>
              <a:ext cx="838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16"/>
            <p:cNvSpPr/>
            <p:nvPr/>
          </p:nvSpPr>
          <p:spPr>
            <a:xfrm>
              <a:off x="5105520" y="1143000"/>
              <a:ext cx="3504960" cy="6858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9"/>
            <p:cNvSpPr/>
            <p:nvPr/>
          </p:nvSpPr>
          <p:spPr>
            <a:xfrm>
              <a:off x="5181480" y="1219320"/>
              <a:ext cx="350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再生资源公司回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34"/>
          <p:cNvGrpSpPr/>
          <p:nvPr/>
        </p:nvGrpSpPr>
        <p:grpSpPr>
          <a:xfrm>
            <a:off x="4267080" y="2057400"/>
            <a:ext cx="4572000" cy="685800"/>
            <a:chOff x="4267080" y="2057400"/>
            <a:chExt cx="4572000" cy="685800"/>
          </a:xfrm>
        </p:grpSpPr>
        <p:sp>
          <p:nvSpPr>
            <p:cNvPr id="173" name="Line 13"/>
            <p:cNvSpPr/>
            <p:nvPr/>
          </p:nvSpPr>
          <p:spPr>
            <a:xfrm>
              <a:off x="4267080" y="2438280"/>
              <a:ext cx="838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7"/>
            <p:cNvSpPr/>
            <p:nvPr/>
          </p:nvSpPr>
          <p:spPr>
            <a:xfrm>
              <a:off x="5105520" y="2057400"/>
              <a:ext cx="3504960" cy="6858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30"/>
            <p:cNvSpPr/>
            <p:nvPr/>
          </p:nvSpPr>
          <p:spPr>
            <a:xfrm>
              <a:off x="5181480" y="213372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散在田地作为有机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35"/>
          <p:cNvGrpSpPr/>
          <p:nvPr/>
        </p:nvGrpSpPr>
        <p:grpSpPr>
          <a:xfrm>
            <a:off x="4267080" y="2971800"/>
            <a:ext cx="4343400" cy="685800"/>
            <a:chOff x="4267080" y="2971800"/>
            <a:chExt cx="4343400" cy="685800"/>
          </a:xfrm>
        </p:grpSpPr>
        <p:sp>
          <p:nvSpPr>
            <p:cNvPr id="177" name="Line 14"/>
            <p:cNvSpPr/>
            <p:nvPr/>
          </p:nvSpPr>
          <p:spPr>
            <a:xfrm>
              <a:off x="4267080" y="3276720"/>
              <a:ext cx="838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8"/>
            <p:cNvSpPr/>
            <p:nvPr/>
          </p:nvSpPr>
          <p:spPr>
            <a:xfrm>
              <a:off x="5105520" y="2971800"/>
              <a:ext cx="3504960" cy="6858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31"/>
            <p:cNvSpPr/>
            <p:nvPr/>
          </p:nvSpPr>
          <p:spPr>
            <a:xfrm>
              <a:off x="5181480" y="3048120"/>
              <a:ext cx="327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专门公司处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36"/>
          <p:cNvGrpSpPr/>
          <p:nvPr/>
        </p:nvGrpSpPr>
        <p:grpSpPr>
          <a:xfrm>
            <a:off x="4267080" y="3886200"/>
            <a:ext cx="4572000" cy="685800"/>
            <a:chOff x="4267080" y="3886200"/>
            <a:chExt cx="4572000" cy="685800"/>
          </a:xfrm>
        </p:grpSpPr>
        <p:sp>
          <p:nvSpPr>
            <p:cNvPr id="181" name="Line 15"/>
            <p:cNvSpPr/>
            <p:nvPr/>
          </p:nvSpPr>
          <p:spPr>
            <a:xfrm>
              <a:off x="4267080" y="4267080"/>
              <a:ext cx="838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9"/>
            <p:cNvSpPr/>
            <p:nvPr/>
          </p:nvSpPr>
          <p:spPr>
            <a:xfrm>
              <a:off x="5105520" y="3886200"/>
              <a:ext cx="3504960" cy="6858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32"/>
            <p:cNvSpPr/>
            <p:nvPr/>
          </p:nvSpPr>
          <p:spPr>
            <a:xfrm>
              <a:off x="5181480" y="396252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环卫部门焚烧、填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7" descr="18d8bc3eb13533faf4369f0da8d3fd1f41345b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WordArt 5"/>
          <p:cNvSpPr txBox="1"/>
          <p:nvPr/>
        </p:nvSpPr>
        <p:spPr>
          <a:xfrm>
            <a:off x="685800" y="380880"/>
            <a:ext cx="6858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抢答题：判断下列说法是否正确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0"/>
          <p:cNvGrpSpPr/>
          <p:nvPr/>
        </p:nvGrpSpPr>
        <p:grpSpPr>
          <a:xfrm>
            <a:off x="0" y="0"/>
            <a:ext cx="9372600" cy="6858000"/>
            <a:chOff x="0" y="0"/>
            <a:chExt cx="9372600" cy="6858000"/>
          </a:xfrm>
        </p:grpSpPr>
        <p:grpSp>
          <p:nvGrpSpPr>
            <p:cNvPr id="99" name="Group 19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00" name="Picture 13" descr="4174803"/>
              <p:cNvPicPr/>
              <p:nvPr/>
            </p:nvPicPr>
            <p:blipFill>
              <a:blip r:embed="rId1"/>
              <a:stretch/>
            </p:blipFill>
            <p:spPr>
              <a:xfrm>
                <a:off x="6172200" y="3352680"/>
                <a:ext cx="2971800" cy="3505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1" name="Group 8"/>
              <p:cNvGrpSpPr/>
              <p:nvPr/>
            </p:nvGrpSpPr>
            <p:grpSpPr>
              <a:xfrm>
                <a:off x="0" y="0"/>
                <a:ext cx="6172200" cy="6858000"/>
                <a:chOff x="0" y="0"/>
                <a:chExt cx="6172200" cy="6858000"/>
              </a:xfrm>
            </p:grpSpPr>
            <p:pic>
              <p:nvPicPr>
                <p:cNvPr id="102" name="Picture 2" descr="DSC01850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3386160"/>
                  <a:ext cx="6172200" cy="3471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" name="Picture 4" descr="DSC01844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0"/>
                  <a:ext cx="6019920" cy="3386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4" name="Rectangle 16"/>
              <p:cNvSpPr/>
              <p:nvPr/>
            </p:nvSpPr>
            <p:spPr>
              <a:xfrm>
                <a:off x="7010280" y="6095880"/>
                <a:ext cx="1905120" cy="60984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18"/>
              <p:cNvSpPr/>
              <p:nvPr/>
            </p:nvSpPr>
            <p:spPr>
              <a:xfrm>
                <a:off x="6934320" y="6095880"/>
                <a:ext cx="198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33cc"/>
                    </a:solidFill>
                    <a:latin typeface="Arial"/>
                  </a:rPr>
                  <a:t>老式垃圾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AutoShape 11"/>
            <p:cNvSpPr/>
            <p:nvPr/>
          </p:nvSpPr>
          <p:spPr>
            <a:xfrm>
              <a:off x="5791320" y="0"/>
              <a:ext cx="3581280" cy="3505320"/>
            </a:xfrm>
            <a:prstGeom prst="cloudCallout">
              <a:avLst>
                <a:gd name="adj1" fmla="val -38166"/>
                <a:gd name="adj2" fmla="val 43023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2"/>
            <p:cNvSpPr/>
            <p:nvPr/>
          </p:nvSpPr>
          <p:spPr>
            <a:xfrm>
              <a:off x="6172200" y="515880"/>
              <a:ext cx="28195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33cc"/>
                  </a:solidFill>
                  <a:latin typeface="Arial"/>
                </a:rPr>
                <a:t>现在到处都摆上了新式的垃圾桶</a:t>
              </a:r>
              <a:r>
                <a:rPr b="0" lang="en-US" sz="2800" spc="-1" strike="noStrike">
                  <a:solidFill>
                    <a:srgbClr val="0033cc"/>
                  </a:solidFill>
                  <a:latin typeface="Arial"/>
                </a:rPr>
                <a:t>,</a:t>
              </a:r>
              <a:r>
                <a:rPr b="0" lang="zh-CN" sz="2800" spc="-1" strike="noStrike">
                  <a:solidFill>
                    <a:srgbClr val="0033cc"/>
                  </a:solidFill>
                  <a:latin typeface="Arial"/>
                </a:rPr>
                <a:t>替换了原先的垃圾桶</a:t>
              </a:r>
              <a:r>
                <a:rPr b="0" lang="en-US" sz="2800" spc="-1" strike="noStrike">
                  <a:solidFill>
                    <a:srgbClr val="0033cc"/>
                  </a:solidFill>
                  <a:latin typeface="Arial"/>
                </a:rPr>
                <a:t>.</a:t>
              </a:r>
              <a:r>
                <a:rPr b="0" lang="zh-CN" sz="2800" spc="-1" strike="noStrike">
                  <a:solidFill>
                    <a:srgbClr val="0033cc"/>
                  </a:solidFill>
                  <a:latin typeface="Arial"/>
                </a:rPr>
                <a:t>你知道为什么吗</a:t>
              </a:r>
              <a:r>
                <a:rPr b="0" lang="en-US" sz="2800" spc="-1" strike="noStrike">
                  <a:solidFill>
                    <a:srgbClr val="0033cc"/>
                  </a:solidFill>
                  <a:latin typeface="Arial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228600" y="10962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啤酒瓶收破烂的都不要了，算其它垃圾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533520" y="2134080"/>
            <a:ext cx="8001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答：错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啤酒瓶能卖钱，属于可回收物。只不过它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头大、利润低，遭嫌弃罢了。所以还是要和报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等放在一起，收集多了一起卖掉。如果嫌它放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阳台上占地方，就拎下来投在小区里蓝色的“可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收物”箱里，环卫工人会来收的。集中之后，进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现有废品回收渠道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228600" y="53316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钱阿姨说，星期六打扫卫生，扫出几颗不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纽扣，塑料做的，应该是可回收物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2397960" y="2212920"/>
            <a:ext cx="48747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答：对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塑料制品，比如泡沫塑料、塑料瓶、硬塑料、橡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及橡胶制品，都属于可回收物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固废中心专家说，如果数量不大的话，纽扣也可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投在“其他垃圾”里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304920" y="60876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速冻饺子、豆腐包装泡沫盒，都是厨房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产生的垃圾，当然是厨余垃圾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3820680" y="2423880"/>
            <a:ext cx="20232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答：错。 一次性餐具、食品包装袋都归类“可回收垃圾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另外，用过的餐巾纸、卫生间的纸，还有抽过的烟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属于“其他垃圾”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2478240" y="701280"/>
            <a:ext cx="109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花生壳算其他垃圾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2770560" y="1829520"/>
            <a:ext cx="34376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答：错。“果壳瓜皮” 属于厨房垃圾。家里用剩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废弃食用油，目前也归类在“厨房垃圾”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304920" y="487800"/>
            <a:ext cx="88390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热水瓶胆和废旧灯管一样，属于有害垃圾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2037600" y="1220760"/>
            <a:ext cx="5087880" cy="50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答：错。 热水瓶胆本身是玻璃的，有一层很薄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水银，应该划为其他垃圾。另外，像修正液之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毒性不强，也可以归为其他垃圾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般，有危害性、传染性、易燃易爆的才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有害垃圾之列。居民生活中产生的有毒有害垃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是很多，像头发上擦的摩丝，里面有压力容器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易燃易爆；再比如用剩的香水，里面的酒精成分多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易挥发，这一类可以作为有害垃圾处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4"/>
          <p:cNvSpPr/>
          <p:nvPr/>
        </p:nvSpPr>
        <p:spPr>
          <a:xfrm>
            <a:off x="2478240" y="1066320"/>
            <a:ext cx="109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尘土算其他垃圾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2167200" y="2102400"/>
            <a:ext cx="4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答：对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4120920" y="1019880"/>
            <a:ext cx="8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厕纸卫生纸，是纸张，属于可回收垃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3774240" y="2604240"/>
            <a:ext cx="20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厕纸、卫生纸遇水即溶，不算可回收的“纸张”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4"/>
          <p:cNvSpPr/>
          <p:nvPr/>
        </p:nvSpPr>
        <p:spPr>
          <a:xfrm>
            <a:off x="304920" y="38088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四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情景模拟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54"/>
          <p:cNvGrpSpPr/>
          <p:nvPr/>
        </p:nvGrpSpPr>
        <p:grpSpPr>
          <a:xfrm>
            <a:off x="304920" y="1219320"/>
            <a:ext cx="8686800" cy="5486400"/>
            <a:chOff x="304920" y="1219320"/>
            <a:chExt cx="8686800" cy="5486400"/>
          </a:xfrm>
        </p:grpSpPr>
        <p:sp>
          <p:nvSpPr>
            <p:cNvPr id="202" name="Text Box 5"/>
            <p:cNvSpPr/>
            <p:nvPr/>
          </p:nvSpPr>
          <p:spPr>
            <a:xfrm>
              <a:off x="304920" y="1219320"/>
              <a:ext cx="868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情景模拟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：把下列垃圾分类，看你能得多少分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Group 53"/>
            <p:cNvGrpSpPr/>
            <p:nvPr/>
          </p:nvGrpSpPr>
          <p:grpSpPr>
            <a:xfrm>
              <a:off x="339480" y="2133360"/>
              <a:ext cx="8423640" cy="4572360"/>
              <a:chOff x="339480" y="2133360"/>
              <a:chExt cx="8423640" cy="4572360"/>
            </a:xfrm>
          </p:grpSpPr>
          <p:grpSp>
            <p:nvGrpSpPr>
              <p:cNvPr id="204" name="Group 26"/>
              <p:cNvGrpSpPr/>
              <p:nvPr/>
            </p:nvGrpSpPr>
            <p:grpSpPr>
              <a:xfrm>
                <a:off x="685800" y="2133360"/>
                <a:ext cx="8077320" cy="990720"/>
                <a:chOff x="685800" y="2133360"/>
                <a:chExt cx="8077320" cy="990720"/>
              </a:xfrm>
            </p:grpSpPr>
            <p:grpSp>
              <p:nvGrpSpPr>
                <p:cNvPr id="205" name="Group 9"/>
                <p:cNvGrpSpPr/>
                <p:nvPr/>
              </p:nvGrpSpPr>
              <p:grpSpPr>
                <a:xfrm>
                  <a:off x="685800" y="2133360"/>
                  <a:ext cx="1447920" cy="990720"/>
                  <a:chOff x="685800" y="2133360"/>
                  <a:chExt cx="1447920" cy="990720"/>
                </a:xfrm>
              </p:grpSpPr>
              <p:sp>
                <p:nvSpPr>
                  <p:cNvPr id="206" name="Line 6"/>
                  <p:cNvSpPr/>
                  <p:nvPr/>
                </p:nvSpPr>
                <p:spPr>
                  <a:xfrm>
                    <a:off x="685800" y="2133720"/>
                    <a:ext cx="0" cy="9903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Line 7"/>
                  <p:cNvSpPr/>
                  <p:nvPr/>
                </p:nvSpPr>
                <p:spPr>
                  <a:xfrm>
                    <a:off x="685800" y="3124080"/>
                    <a:ext cx="144792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Line 8"/>
                  <p:cNvSpPr/>
                  <p:nvPr/>
                </p:nvSpPr>
                <p:spPr>
                  <a:xfrm flipV="1">
                    <a:off x="2133720" y="2133360"/>
                    <a:ext cx="0" cy="9903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Group 10"/>
                <p:cNvGrpSpPr/>
                <p:nvPr/>
              </p:nvGrpSpPr>
              <p:grpSpPr>
                <a:xfrm>
                  <a:off x="2743200" y="2133360"/>
                  <a:ext cx="1447920" cy="990720"/>
                  <a:chOff x="2743200" y="2133360"/>
                  <a:chExt cx="1447920" cy="990720"/>
                </a:xfrm>
              </p:grpSpPr>
              <p:sp>
                <p:nvSpPr>
                  <p:cNvPr id="210" name="Line 11"/>
                  <p:cNvSpPr/>
                  <p:nvPr/>
                </p:nvSpPr>
                <p:spPr>
                  <a:xfrm>
                    <a:off x="2743200" y="2133720"/>
                    <a:ext cx="0" cy="9903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Line 12"/>
                  <p:cNvSpPr/>
                  <p:nvPr/>
                </p:nvSpPr>
                <p:spPr>
                  <a:xfrm>
                    <a:off x="2743200" y="3124080"/>
                    <a:ext cx="144792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Line 13"/>
                  <p:cNvSpPr/>
                  <p:nvPr/>
                </p:nvSpPr>
                <p:spPr>
                  <a:xfrm flipV="1">
                    <a:off x="4191120" y="2133360"/>
                    <a:ext cx="0" cy="9903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Group 14"/>
                <p:cNvGrpSpPr/>
                <p:nvPr/>
              </p:nvGrpSpPr>
              <p:grpSpPr>
                <a:xfrm>
                  <a:off x="4876920" y="2133360"/>
                  <a:ext cx="1447560" cy="990720"/>
                  <a:chOff x="4876920" y="2133360"/>
                  <a:chExt cx="1447560" cy="990720"/>
                </a:xfrm>
              </p:grpSpPr>
              <p:sp>
                <p:nvSpPr>
                  <p:cNvPr id="214" name="Line 15"/>
                  <p:cNvSpPr/>
                  <p:nvPr/>
                </p:nvSpPr>
                <p:spPr>
                  <a:xfrm>
                    <a:off x="4876920" y="2133720"/>
                    <a:ext cx="0" cy="9903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16"/>
                  <p:cNvSpPr/>
                  <p:nvPr/>
                </p:nvSpPr>
                <p:spPr>
                  <a:xfrm>
                    <a:off x="4876920" y="3124080"/>
                    <a:ext cx="144756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17"/>
                  <p:cNvSpPr/>
                  <p:nvPr/>
                </p:nvSpPr>
                <p:spPr>
                  <a:xfrm flipV="1">
                    <a:off x="6324480" y="2133360"/>
                    <a:ext cx="0" cy="9903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" name="Group 18"/>
                <p:cNvGrpSpPr/>
                <p:nvPr/>
              </p:nvGrpSpPr>
              <p:grpSpPr>
                <a:xfrm>
                  <a:off x="7010280" y="2133360"/>
                  <a:ext cx="1447920" cy="990720"/>
                  <a:chOff x="7010280" y="2133360"/>
                  <a:chExt cx="1447920" cy="990720"/>
                </a:xfrm>
              </p:grpSpPr>
              <p:sp>
                <p:nvSpPr>
                  <p:cNvPr id="218" name="Line 19"/>
                  <p:cNvSpPr/>
                  <p:nvPr/>
                </p:nvSpPr>
                <p:spPr>
                  <a:xfrm>
                    <a:off x="7010280" y="2133720"/>
                    <a:ext cx="0" cy="9903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Line 20"/>
                  <p:cNvSpPr/>
                  <p:nvPr/>
                </p:nvSpPr>
                <p:spPr>
                  <a:xfrm>
                    <a:off x="7010280" y="3124080"/>
                    <a:ext cx="144792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21"/>
                  <p:cNvSpPr/>
                  <p:nvPr/>
                </p:nvSpPr>
                <p:spPr>
                  <a:xfrm flipV="1">
                    <a:off x="8458200" y="2133360"/>
                    <a:ext cx="0" cy="9903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1" name="Text Box 22"/>
                <p:cNvSpPr/>
                <p:nvPr/>
              </p:nvSpPr>
              <p:spPr>
                <a:xfrm>
                  <a:off x="762120" y="2361960"/>
                  <a:ext cx="1676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Arial"/>
                    </a:rPr>
                    <a:t>可回收物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Text Box 23"/>
                <p:cNvSpPr/>
                <p:nvPr/>
              </p:nvSpPr>
              <p:spPr>
                <a:xfrm>
                  <a:off x="2819520" y="2361960"/>
                  <a:ext cx="1752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Arial"/>
                    </a:rPr>
                    <a:t>厨余垃圾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Text Box 24"/>
                <p:cNvSpPr/>
                <p:nvPr/>
              </p:nvSpPr>
              <p:spPr>
                <a:xfrm>
                  <a:off x="4952880" y="2361960"/>
                  <a:ext cx="1676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Arial"/>
                    </a:rPr>
                    <a:t>有害垃圾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Text Box 25"/>
                <p:cNvSpPr/>
                <p:nvPr/>
              </p:nvSpPr>
              <p:spPr>
                <a:xfrm>
                  <a:off x="7086600" y="2376360"/>
                  <a:ext cx="1676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Arial"/>
                    </a:rPr>
                    <a:t>其它垃圾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5" name="Text Box 27"/>
              <p:cNvSpPr/>
              <p:nvPr/>
            </p:nvSpPr>
            <p:spPr>
              <a:xfrm>
                <a:off x="7319520" y="4114800"/>
                <a:ext cx="606960" cy="23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一只破碗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 Box 28"/>
              <p:cNvSpPr/>
              <p:nvPr/>
            </p:nvSpPr>
            <p:spPr>
              <a:xfrm>
                <a:off x="6054480" y="4267080"/>
                <a:ext cx="1033560" cy="243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旧水银温度计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Text Box 29"/>
              <p:cNvSpPr/>
              <p:nvPr/>
            </p:nvSpPr>
            <p:spPr>
              <a:xfrm>
                <a:off x="2441160" y="4191120"/>
                <a:ext cx="606960" cy="175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一瓶香水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 Box 30"/>
              <p:cNvSpPr/>
              <p:nvPr/>
            </p:nvSpPr>
            <p:spPr>
              <a:xfrm>
                <a:off x="2776320" y="4267080"/>
                <a:ext cx="1033560" cy="144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水果皮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Text Box 32"/>
              <p:cNvSpPr/>
              <p:nvPr/>
            </p:nvSpPr>
            <p:spPr>
              <a:xfrm>
                <a:off x="4041360" y="4267080"/>
                <a:ext cx="606960" cy="182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香烟盒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33"/>
              <p:cNvSpPr/>
              <p:nvPr/>
            </p:nvSpPr>
            <p:spPr>
              <a:xfrm>
                <a:off x="4376520" y="4267080"/>
                <a:ext cx="1033560" cy="137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旧灯泡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 Box 36"/>
              <p:cNvSpPr/>
              <p:nvPr/>
            </p:nvSpPr>
            <p:spPr>
              <a:xfrm>
                <a:off x="5214960" y="4267080"/>
                <a:ext cx="1033560" cy="23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旧日光灯管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Text Box 38"/>
              <p:cNvSpPr/>
              <p:nvPr/>
            </p:nvSpPr>
            <p:spPr>
              <a:xfrm>
                <a:off x="1604520" y="4343400"/>
                <a:ext cx="606960" cy="167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旧衣服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Text Box 40"/>
              <p:cNvSpPr/>
              <p:nvPr/>
            </p:nvSpPr>
            <p:spPr>
              <a:xfrm>
                <a:off x="339480" y="4343400"/>
                <a:ext cx="1033560" cy="144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牙膏皮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Text Box 41"/>
              <p:cNvSpPr/>
              <p:nvPr/>
            </p:nvSpPr>
            <p:spPr>
              <a:xfrm>
                <a:off x="7578720" y="4191120"/>
                <a:ext cx="1033560" cy="160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塑料 袋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Line 43"/>
          <p:cNvSpPr/>
          <p:nvPr/>
        </p:nvSpPr>
        <p:spPr>
          <a:xfrm flipV="1">
            <a:off x="1905120" y="32767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44"/>
          <p:cNvSpPr/>
          <p:nvPr/>
        </p:nvSpPr>
        <p:spPr>
          <a:xfrm flipV="1">
            <a:off x="1066680" y="32004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45"/>
          <p:cNvSpPr/>
          <p:nvPr/>
        </p:nvSpPr>
        <p:spPr>
          <a:xfrm flipV="1">
            <a:off x="2819520" y="3276360"/>
            <a:ext cx="259056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46"/>
          <p:cNvSpPr/>
          <p:nvPr/>
        </p:nvSpPr>
        <p:spPr>
          <a:xfrm flipV="1">
            <a:off x="3505320" y="320004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47"/>
          <p:cNvSpPr/>
          <p:nvPr/>
        </p:nvSpPr>
        <p:spPr>
          <a:xfrm flipV="1">
            <a:off x="4419720" y="3200040"/>
            <a:ext cx="297180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48"/>
          <p:cNvSpPr/>
          <p:nvPr/>
        </p:nvSpPr>
        <p:spPr>
          <a:xfrm flipH="1" flipV="1">
            <a:off x="2133360" y="3200040"/>
            <a:ext cx="297180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49"/>
          <p:cNvSpPr/>
          <p:nvPr/>
        </p:nvSpPr>
        <p:spPr>
          <a:xfrm flipV="1">
            <a:off x="5867280" y="31240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50"/>
          <p:cNvSpPr/>
          <p:nvPr/>
        </p:nvSpPr>
        <p:spPr>
          <a:xfrm flipH="1" flipV="1">
            <a:off x="6324120" y="3200400"/>
            <a:ext cx="38124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51"/>
          <p:cNvSpPr/>
          <p:nvPr/>
        </p:nvSpPr>
        <p:spPr>
          <a:xfrm flipV="1">
            <a:off x="7620120" y="32000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52"/>
          <p:cNvSpPr/>
          <p:nvPr/>
        </p:nvSpPr>
        <p:spPr>
          <a:xfrm flipH="1" flipV="1">
            <a:off x="2209680" y="3124080"/>
            <a:ext cx="609624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5"/>
          <p:cNvSpPr/>
          <p:nvPr/>
        </p:nvSpPr>
        <p:spPr>
          <a:xfrm>
            <a:off x="4191120" y="45720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你的得分为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______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533520" y="45720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7"/>
          <p:cNvGrpSpPr/>
          <p:nvPr/>
        </p:nvGrpSpPr>
        <p:grpSpPr>
          <a:xfrm>
            <a:off x="533520" y="685800"/>
            <a:ext cx="8610480" cy="2083680"/>
            <a:chOff x="533520" y="685800"/>
            <a:chExt cx="8610480" cy="2083680"/>
          </a:xfrm>
        </p:grpSpPr>
        <p:sp>
          <p:nvSpPr>
            <p:cNvPr id="248" name="Text Box 5"/>
            <p:cNvSpPr/>
            <p:nvPr/>
          </p:nvSpPr>
          <p:spPr>
            <a:xfrm>
              <a:off x="533520" y="685800"/>
              <a:ext cx="2971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</a:rPr>
                <a:t>情景模拟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4000" spc="-1" strike="noStrike">
                  <a:solidFill>
                    <a:srgbClr val="000000"/>
                  </a:solidFill>
                  <a:latin typeface="Arial"/>
                </a:rPr>
                <a:t>：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6"/>
            <p:cNvSpPr/>
            <p:nvPr/>
          </p:nvSpPr>
          <p:spPr>
            <a:xfrm>
              <a:off x="609480" y="1600200"/>
              <a:ext cx="853452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你用塑料袋装了果皮和一只打碎了的磁花盆下去扔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怎样进行垃圾分类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Text Box 8"/>
          <p:cNvSpPr/>
          <p:nvPr/>
        </p:nvSpPr>
        <p:spPr>
          <a:xfrm>
            <a:off x="457200" y="3200400"/>
            <a:ext cx="8458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答：果皮放在厨余垃圾箱内；碎花盆放在其它垃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箱内；并注意：塑料袋放入可回收垃圾箱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6"/>
          <p:cNvSpPr/>
          <p:nvPr/>
        </p:nvSpPr>
        <p:spPr>
          <a:xfrm>
            <a:off x="1523880" y="16002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请看视频：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垃圾分类模式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685800" y="53352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五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垃圾分类模式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8"/>
          <p:cNvSpPr/>
          <p:nvPr/>
        </p:nvSpPr>
        <p:spPr>
          <a:xfrm>
            <a:off x="3048120" y="2743200"/>
            <a:ext cx="1600200" cy="914400"/>
          </a:xfrm>
          <a:custGeom>
            <a:avLst/>
            <a:gdLst>
              <a:gd name="textAreaLeft" fmla="*/ 59040 w 1600200"/>
              <a:gd name="textAreaRight" fmla="*/ 1541160 w 16002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7301"/>
                </a:moveTo>
                <a:lnTo>
                  <a:pt x="12804" y="7301"/>
                </a:lnTo>
                <a:lnTo>
                  <a:pt x="13187" y="7667"/>
                </a:lnTo>
                <a:lnTo>
                  <a:pt x="22396" y="7667"/>
                </a:lnTo>
                <a:lnTo>
                  <a:pt x="22953" y="8224"/>
                </a:lnTo>
                <a:lnTo>
                  <a:pt x="22953" y="8772"/>
                </a:lnTo>
                <a:lnTo>
                  <a:pt x="24798" y="8772"/>
                </a:lnTo>
                <a:lnTo>
                  <a:pt x="25163" y="8224"/>
                </a:lnTo>
                <a:lnTo>
                  <a:pt x="25903" y="8224"/>
                </a:lnTo>
                <a:lnTo>
                  <a:pt x="25903" y="13376"/>
                </a:lnTo>
                <a:lnTo>
                  <a:pt x="25163" y="13376"/>
                </a:lnTo>
                <a:lnTo>
                  <a:pt x="24798" y="12828"/>
                </a:lnTo>
                <a:lnTo>
                  <a:pt x="22953" y="12828"/>
                </a:lnTo>
                <a:lnTo>
                  <a:pt x="22953" y="14107"/>
                </a:lnTo>
                <a:lnTo>
                  <a:pt x="13370" y="14107"/>
                </a:lnTo>
                <a:lnTo>
                  <a:pt x="13370" y="9877"/>
                </a:lnTo>
                <a:lnTo>
                  <a:pt x="13187" y="9877"/>
                </a:lnTo>
                <a:lnTo>
                  <a:pt x="12804" y="10243"/>
                </a:lnTo>
                <a:lnTo>
                  <a:pt x="11890" y="10243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228600" y="4255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一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垃圾处理的现状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1863720" y="1428480"/>
            <a:ext cx="53974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目前由于垃圾不分类，所以不能分类处理，回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利用，导致垃圾量巨大，只能随处堆放、就地填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占用上万亩土地，并且虫蝇乱飞，污水四溢，臭气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天，严重地污染环境，脏了我们的家园，坏了我们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心情！请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5"/>
          <p:cNvSpPr/>
          <p:nvPr/>
        </p:nvSpPr>
        <p:spPr>
          <a:xfrm>
            <a:off x="380880" y="2286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六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垃圾分类还任重道远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2178360" y="823320"/>
            <a:ext cx="434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公民素质达不到，价值观也达不到！虽然三个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摆放整齐整整齐齐，可居民就是把垃圾不分类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而随手扔掉垃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2178360" y="2512440"/>
            <a:ext cx="434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居民按分类提示把各类拉圾放入各种桶里，可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清洁工每天耍把全栋楼的拉圾合到一个桶里，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三种桶统合成了一个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914400" y="4343400"/>
            <a:ext cx="76201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有些领导或相关部分不重视。有领导认为：有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搞这个，还不如建几个废品收购站更实用呢！大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废旧电池被收集起来后，最后还是被有关部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填埋在地下，因为这样省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4"/>
          <p:cNvSpPr/>
          <p:nvPr/>
        </p:nvSpPr>
        <p:spPr>
          <a:xfrm>
            <a:off x="457200" y="1522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七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他山之石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可以攻玉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228600" y="833040"/>
            <a:ext cx="8763120" cy="55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美国，垃圾回收作为一种产业得到了迅速发展，回收产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正在全国产业结构中占有越来越重要的位置。以美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城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巴尔的摩、华盛顿和里奇蒙为例，过去回收垃圾每处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吨需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美圆，分类处理以后，这些回收的垃圾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就创造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1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就业机会。在美国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城市只是很小的一个地区，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垃圾回收不仅节约了处理垃圾的费用，而且创造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亿美圆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财富。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被称为垃圾生产大国的美国，垃圾分类逐渐深入公民的生活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走在大街上，各式各样色彩缤纷的分类垃圾桶随处可见。政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为垃圾分类提供了各种便利的条件，除了在街道两旁设立分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垃圾桶以外，每个社区都定期派专人负责清运各户分类出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垃圾。居民对政府的垃圾分类工作也表示了极大的支持。这不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表现在他们每个人对垃圾分类的知识耳熟能详；而且，在这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为垃圾分类处理出钱，就像为能饮用到洁净的自来水付费一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天经地义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10"/>
          <p:cNvGrpSpPr/>
          <p:nvPr/>
        </p:nvGrpSpPr>
        <p:grpSpPr>
          <a:xfrm>
            <a:off x="1523880" y="152280"/>
            <a:ext cx="5105520" cy="6263640"/>
            <a:chOff x="1523880" y="152280"/>
            <a:chExt cx="5105520" cy="6263640"/>
          </a:xfrm>
        </p:grpSpPr>
        <p:sp>
          <p:nvSpPr>
            <p:cNvPr id="261" name="Rectangle 6"/>
            <p:cNvSpPr/>
            <p:nvPr/>
          </p:nvSpPr>
          <p:spPr>
            <a:xfrm>
              <a:off x="3328200" y="835560"/>
              <a:ext cx="2494080" cy="55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垃圾分类就成宝， </a:t>
              </a:r>
              <a:br>
                <a:rPr sz="3600"/>
              </a:b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分门别类少不了！ </a:t>
              </a:r>
              <a:br>
                <a:rPr sz="3600"/>
              </a:b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分类一小步 </a:t>
              </a:r>
              <a:br>
                <a:rPr sz="3600"/>
              </a:b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文明一大步 </a:t>
              </a:r>
              <a:br>
                <a:rPr sz="3600"/>
              </a:b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垃圾分分类， </a:t>
              </a:r>
              <a:br>
                <a:rPr sz="3600"/>
              </a:b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资源不浪费。 </a:t>
              </a:r>
              <a:br>
                <a:rPr sz="3600"/>
              </a:b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垃圾也有宝， </a:t>
              </a:r>
              <a:br>
                <a:rPr sz="3600"/>
              </a:b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分类不可少。 </a:t>
              </a:r>
              <a:br>
                <a:rPr sz="3600"/>
              </a:b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垃圾不分类， </a:t>
              </a:r>
              <a:br>
                <a:rPr sz="3600"/>
              </a:b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环境在呼救。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8"/>
            <p:cNvSpPr/>
            <p:nvPr/>
          </p:nvSpPr>
          <p:spPr>
            <a:xfrm>
              <a:off x="1523880" y="152280"/>
              <a:ext cx="510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00"/>
                  </a:solidFill>
                  <a:latin typeface="Arial"/>
                </a:rPr>
                <a:t>八</a:t>
              </a:r>
              <a:r>
                <a:rPr b="0" lang="en-US" sz="3600" spc="-1" strike="noStrike">
                  <a:solidFill>
                    <a:srgbClr val="ff3300"/>
                  </a:solidFill>
                  <a:latin typeface="Arial"/>
                </a:rPr>
                <a:t>.</a:t>
              </a:r>
              <a:r>
                <a:rPr b="0" lang="zh-CN" sz="3600" spc="-1" strike="noStrike">
                  <a:solidFill>
                    <a:srgbClr val="ff3300"/>
                  </a:solidFill>
                  <a:latin typeface="Arial"/>
                </a:rPr>
                <a:t>请大家一起读一读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5"/>
          <p:cNvSpPr/>
          <p:nvPr/>
        </p:nvSpPr>
        <p:spPr>
          <a:xfrm>
            <a:off x="2175840" y="766440"/>
            <a:ext cx="4874760" cy="38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今我们的生活好了起来，于是我们便不再吝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卖破烂换回的那几毛钱。勤俭节约，废物利用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中华民族的传统美德，现在却不能丢失。我们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人都是垃圾的制造者，又是垃圾的受害者，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们更应是垃圾公害的治理者，我们每个人都可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通过垃圾分类来战胜垃圾公害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3" descr="3415356_133337465335_2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1295280" y="27432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垃圾分类让我们的环境鸟语花香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3" descr="U5801P704DT201109301122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4"/>
          <p:cNvSpPr/>
          <p:nvPr/>
        </p:nvSpPr>
        <p:spPr>
          <a:xfrm>
            <a:off x="1447920" y="2286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垃圾分类让我们的环境山青水秀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6647776_122835393187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3"/>
          <p:cNvSpPr/>
          <p:nvPr/>
        </p:nvSpPr>
        <p:spPr>
          <a:xfrm>
            <a:off x="990720" y="52578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垃圾分类让我们的环境令人心旷神怡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4"/>
          <p:cNvSpPr/>
          <p:nvPr/>
        </p:nvSpPr>
        <p:spPr>
          <a:xfrm>
            <a:off x="533520" y="5778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八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郑重誓言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1295280" y="1399680"/>
            <a:ext cx="4496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郑重留下自己的誓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环境关系你我他，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垃圾分类靠大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垃圾分类一小步，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健康文明一大步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垃圾分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利国利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从我做起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从此做起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WordArt 7"/>
          <p:cNvSpPr txBox="1"/>
          <p:nvPr/>
        </p:nvSpPr>
        <p:spPr>
          <a:xfrm>
            <a:off x="1600200" y="2057400"/>
            <a:ext cx="59436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赶快行动吧，从我做起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垃圾中转箱已经四个月没人清理了。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0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228600" y="2039040"/>
            <a:ext cx="89154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垃圾分类，回收利用其中的有用部分，减少垃圾数量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0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以上。可以减少处理设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降低处理成本，减少土地资源的消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304920" y="6541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二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垃圾分类的好处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228600" y="690480"/>
            <a:ext cx="8610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减少环境污染。一颗钮扣电池弃入大自然后，可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污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升水，相当于一个人一生的用水量。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国每年要消耗这样的电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亿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…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是多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惊人的数字啊！！废电池的其主要成分为锰、汞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锌、铬等重金属。废电池无论埋在大气中还是深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地下，其重金属成分都会随渗液溢出，造成地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水和土壤的污染，日积月累，会严重危害人类健康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1598760" y="381960"/>
            <a:ext cx="5978160" cy="34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每天被我们丢弃的可乐瓶和被称为白色垃圾的塑料袋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次性塑料餐盒，属于高分子聚合有机物，如果埋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地下的话，就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也烂不掉，它还会使土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板结，降低土壤的肥力，甚至使土壤失去耕种的能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496880" y="462600"/>
            <a:ext cx="638496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变废为宝：中国每年使用塑料快餐盒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亿个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方便面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—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亿个，废塑料占生活垃圾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—7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吨废塑料可回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公斤的柴油。回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吨废纸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可免于砍伐用于生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吨纸的林木。一吨易拉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熔化后能结成一吨很好的铝块，可少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吨铝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生活垃圾中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%—40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可以回收利用，应珍惜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小本大利的资源。 大家也可以利用易拉罐制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笔盒，既环保，又节约资源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Administrator</cp:lastModifiedBy>
  <dcterms:modified xsi:type="dcterms:W3CDTF">2016-10-10T11:04:53Z</dcterms:modified>
  <cp:revision>1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