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84F-4D06-41BC-9473-974C6816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2C9-A6F3-411B-A8CE-C3CC3BDF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CD8-57E8-4884-8B0E-FF4BA9A0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61A-CD23-4FCF-97FA-89598BB2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DF0-BE5D-49F5-B1C5-47AA2E8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3EB-37C4-4F94-908F-F50DFACF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D9E-9570-403D-A7F5-5445159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EF8-1FB1-4414-82BD-7D3C07E2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FC9-4A7C-433F-B309-BED4210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715-8BE1-4CC0-833E-F0E64C0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98B-E996-4CCB-AB95-BC50270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44D-E03D-4D72-A531-7088860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06D6-5E74-47E9-A1BE-17904D2464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642960" y="1785960"/>
            <a:ext cx="778680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垃圾分类，从我身边做起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饭、面食、过期食品、肉类鱼虾贝壳、骨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蔬菜、瓜皮、茶渣、及家庭盆栽废弃的树枝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 rot="360000">
            <a:off x="611280" y="47628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楷体"/>
              </a:rPr>
              <a:t>厨余垃圾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7451640" y="5589720"/>
            <a:ext cx="577800" cy="576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弃的、纸尿裤、卫生纸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蒂、   陶瓷制品     衣物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棉质床上用品（床单、床罩、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468360" y="622440"/>
            <a:ext cx="31687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854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其他垃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7740720" y="580536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焊锡丝、铅丝、铜丝、电线等一切生产所产生的垃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687240" y="549360"/>
            <a:ext cx="3453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"/>
              </a:rPr>
              <a:t>生产垃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7596360" y="558972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新魏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新魏"/>
              </a:rPr>
              <a:t>     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新魏"/>
              </a:rPr>
              <a:t>知识竞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3" descr=""/>
          <p:cNvPicPr/>
          <p:nvPr/>
        </p:nvPicPr>
        <p:blipFill>
          <a:blip r:embed="rId1"/>
          <a:stretch/>
        </p:blipFill>
        <p:spPr>
          <a:xfrm>
            <a:off x="884160" y="2992320"/>
            <a:ext cx="578484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595440" y="691920"/>
            <a:ext cx="821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新魏"/>
              </a:rPr>
              <a:t>一、抢答环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对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，答错不扣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持人叫抢答开始，方能举手示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接下来你们的得分关系到你们可不可以优先选择垃圾进行分类，所以请同学们仔细思考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11280" y="2708280"/>
            <a:ext cx="208764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游戏规则：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7360"/>
            <a:ext cx="8159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840" y="1000080"/>
            <a:ext cx="8750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民家庭生活垃圾分为四类，除了厨余垃圾、有害垃圾、其他垃圾外，还有（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回收物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干垃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可回收物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湿垃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57120" y="3643200"/>
            <a:ext cx="8143920" cy="1738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哪些不属于可回收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废纸类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废玻璃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废塑料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废金属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矩形 9" descr=""/>
          <p:cNvPicPr/>
          <p:nvPr/>
        </p:nvPicPr>
        <p:blipFill>
          <a:blip r:embed="rId1"/>
          <a:stretch/>
        </p:blipFill>
        <p:spPr>
          <a:xfrm>
            <a:off x="5943600" y="1328760"/>
            <a:ext cx="2451240" cy="1963800"/>
          </a:xfrm>
          <a:prstGeom prst="rect">
            <a:avLst/>
          </a:prstGeom>
          <a:ln w="0">
            <a:noFill/>
          </a:ln>
        </p:spPr>
      </p:pic>
      <p:pic>
        <p:nvPicPr>
          <p:cNvPr id="88" name="矩形 10" descr=""/>
          <p:cNvPicPr/>
          <p:nvPr/>
        </p:nvPicPr>
        <p:blipFill>
          <a:blip r:embed="rId2"/>
          <a:stretch/>
        </p:blipFill>
        <p:spPr>
          <a:xfrm>
            <a:off x="6114960" y="4260960"/>
            <a:ext cx="238284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186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面哪些属于可回收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双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易拉罐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饭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纸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温度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面哪些属于有害垃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双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化妆品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期食品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废血压计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面哪个是可回收垃圾收集容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       B      C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$15%L6_8W36`33~4N$U3OFW"/>
          <p:cNvPicPr/>
          <p:nvPr/>
        </p:nvPicPr>
        <p:blipFill>
          <a:blip r:embed="rId1"/>
          <a:stretch/>
        </p:blipFill>
        <p:spPr>
          <a:xfrm>
            <a:off x="1143000" y="4357800"/>
            <a:ext cx="93024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56`(21STVU4WEHODC4]D1SR"/>
          <p:cNvPicPr/>
          <p:nvPr/>
        </p:nvPicPr>
        <p:blipFill>
          <a:blip r:embed="rId2"/>
          <a:stretch/>
        </p:blipFill>
        <p:spPr>
          <a:xfrm>
            <a:off x="2643120" y="4357800"/>
            <a:ext cx="87336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GJ(N$)BN45P(Y857@%C{KXU"/>
          <p:cNvPicPr/>
          <p:nvPr/>
        </p:nvPicPr>
        <p:blipFill>
          <a:blip r:embed="rId3"/>
          <a:stretch/>
        </p:blipFill>
        <p:spPr>
          <a:xfrm>
            <a:off x="4143240" y="435780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QUA1~(9YX)@}X~8`0I8S%A"/>
          <p:cNvPicPr/>
          <p:nvPr/>
        </p:nvPicPr>
        <p:blipFill>
          <a:blip r:embed="rId4"/>
          <a:stretch/>
        </p:blipFill>
        <p:spPr>
          <a:xfrm>
            <a:off x="5643720" y="4357800"/>
            <a:ext cx="857160" cy="715680"/>
          </a:xfrm>
          <a:prstGeom prst="rect">
            <a:avLst/>
          </a:prstGeom>
          <a:ln w="0">
            <a:noFill/>
          </a:ln>
        </p:spPr>
      </p:pic>
      <p:pic>
        <p:nvPicPr>
          <p:cNvPr id="94" name="矩形 9" descr=""/>
          <p:cNvPicPr/>
          <p:nvPr/>
        </p:nvPicPr>
        <p:blipFill>
          <a:blip r:embed="rId5"/>
          <a:stretch/>
        </p:blipFill>
        <p:spPr>
          <a:xfrm>
            <a:off x="4138560" y="-30240"/>
            <a:ext cx="4511880" cy="19623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0" descr=""/>
          <p:cNvPicPr/>
          <p:nvPr/>
        </p:nvPicPr>
        <p:blipFill>
          <a:blip r:embed="rId6"/>
          <a:stretch/>
        </p:blipFill>
        <p:spPr>
          <a:xfrm>
            <a:off x="5718240" y="1616040"/>
            <a:ext cx="3328920" cy="1962360"/>
          </a:xfrm>
          <a:prstGeom prst="rect">
            <a:avLst/>
          </a:prstGeom>
          <a:ln w="0">
            <a:noFill/>
          </a:ln>
        </p:spPr>
      </p:pic>
      <p:pic>
        <p:nvPicPr>
          <p:cNvPr id="96" name="矩形 11" descr=""/>
          <p:cNvPicPr/>
          <p:nvPr/>
        </p:nvPicPr>
        <p:blipFill>
          <a:blip r:embed="rId7"/>
          <a:stretch/>
        </p:blipFill>
        <p:spPr>
          <a:xfrm>
            <a:off x="6370560" y="3541680"/>
            <a:ext cx="2449440" cy="1963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356760"/>
            <a:ext cx="82184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玻璃窗、牙膏皮属于可回收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庭盆栽废弃的枝叶属于其他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错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球类属于有害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废弃消毒剂直接扔进厨房的垃圾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可回收物收集容器是绿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285840"/>
            <a:ext cx="80136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剩菜等厨余垃圾可以放进绿色的收集容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灰色的垃圾收集容器可以收集茶叶渣、骨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厨余垃圾经生物技术就地处理堆肥，每吨可生产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吨有机肥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害垃圾应投放到指定的垃圾回收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过的报纸、杂志可以整理好再当废品卖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对）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工业废水可以用来浇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矩形 3" descr=""/>
          <p:cNvPicPr/>
          <p:nvPr/>
        </p:nvPicPr>
        <p:blipFill>
          <a:blip r:embed="rId1"/>
          <a:stretch/>
        </p:blipFill>
        <p:spPr>
          <a:xfrm>
            <a:off x="-512640" y="1255680"/>
            <a:ext cx="1047420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3840" y="128556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今的中国，只能从全民参与的程度才能取得预想的效果，但是全民参与的时机没有成熟。即使这样，也不能成为我们不立刻开始着手垃圾分类的理由。我们认为推动民众参与垃圾分类，正确认识垃圾丢弃的方法都对环境以及将来的生态有着推动作用，这个作用的大小取决于我们的垃圾分类的质量，工作质量取决于我们所付出的努力，智慧及热情。我们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该立即停止空谈，从现在开始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95280" y="47628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引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6491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怎样处理你家的厨余垃圾的？你觉得这样处理环保吗？你认为你以后应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觉得我们平时应该怎样做到垃圾分类处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觉得校园内垃圾分类这一习惯形成了吗？学校应该怎样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692360" y="2421000"/>
            <a:ext cx="5040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 rot="5400000">
            <a:off x="-108720" y="1915200"/>
            <a:ext cx="2805120" cy="65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谢谢！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04" name="WordArt 3"/>
          <p:cNvSpPr txBox="1"/>
          <p:nvPr/>
        </p:nvSpPr>
        <p:spPr>
          <a:xfrm rot="5400000">
            <a:off x="233640" y="2654640"/>
            <a:ext cx="4572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希望大家从身边做起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WordArt 4"/>
          <p:cNvSpPr txBox="1"/>
          <p:nvPr/>
        </p:nvSpPr>
        <p:spPr>
          <a:xfrm rot="5400000">
            <a:off x="1798200" y="2384280"/>
            <a:ext cx="38880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注意垃圾分类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=2284919270,745926833&amp;fm=23&amp;gp=0[1]"/>
          <p:cNvPicPr/>
          <p:nvPr/>
        </p:nvPicPr>
        <p:blipFill>
          <a:blip r:embed="rId1"/>
          <a:stretch/>
        </p:blipFill>
        <p:spPr>
          <a:xfrm>
            <a:off x="4932360" y="-155520"/>
            <a:ext cx="3308400" cy="217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20110816184350685"/>
          <p:cNvPicPr/>
          <p:nvPr/>
        </p:nvPicPr>
        <p:blipFill>
          <a:blip r:embed="rId2"/>
          <a:stretch/>
        </p:blipFill>
        <p:spPr>
          <a:xfrm>
            <a:off x="179280" y="141300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482da0bb5898b38c7b8b5568cde9b2b8"/>
          <p:cNvPicPr/>
          <p:nvPr/>
        </p:nvPicPr>
        <p:blipFill>
          <a:blip r:embed="rId3"/>
          <a:stretch/>
        </p:blipFill>
        <p:spPr>
          <a:xfrm>
            <a:off x="6948360" y="2133720"/>
            <a:ext cx="2011320" cy="218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736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请同学们认真观看这些图片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u=440750463,3483168303&amp;fm=23&amp;gp=0[1]"/>
          <p:cNvPicPr/>
          <p:nvPr/>
        </p:nvPicPr>
        <p:blipFill>
          <a:blip r:embed="rId4"/>
          <a:stretch/>
        </p:blipFill>
        <p:spPr>
          <a:xfrm>
            <a:off x="3265560" y="1917720"/>
            <a:ext cx="3684600" cy="233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u=3532835895,3639478888&amp;fm=23&amp;gp=0[1]"/>
          <p:cNvPicPr/>
          <p:nvPr/>
        </p:nvPicPr>
        <p:blipFill>
          <a:blip r:embed="rId5"/>
          <a:stretch/>
        </p:blipFill>
        <p:spPr>
          <a:xfrm>
            <a:off x="108000" y="3789360"/>
            <a:ext cx="414180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u=980577174,452548405&amp;fm=23&amp;gp=0[1]"/>
          <p:cNvPicPr/>
          <p:nvPr/>
        </p:nvPicPr>
        <p:blipFill>
          <a:blip r:embed="rId6"/>
          <a:stretch/>
        </p:blipFill>
        <p:spPr>
          <a:xfrm>
            <a:off x="4788000" y="422100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班得瑞乐团 - 重新爱过 - 轻音乐 超好听的轻音乐.mp3" descr="班得瑞乐团 - 重新爱过 - 轻音乐 超好听的轻音乐"/>
          <p:cNvPicPr/>
          <p:nvPr/>
        </p:nvPicPr>
        <p:blipFill>
          <a:blip r:embed="rId7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1.</a:t>
            </a:r>
            <a:r>
              <a:rPr b="1" lang="zh-CN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有害垃圾应该放进什么颜色的回收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可回收垃圾有哪些？请列举三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废杀虫剂、废荧光灯、废温度计、废电池都是有害垃圾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矩形 3" descr=""/>
          <p:cNvPicPr/>
          <p:nvPr/>
        </p:nvPicPr>
        <p:blipFill>
          <a:blip r:embed="rId1"/>
          <a:stretch/>
        </p:blipFill>
        <p:spPr>
          <a:xfrm>
            <a:off x="55440" y="-79200"/>
            <a:ext cx="88138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</a:t>
            </a:r>
            <a:r>
              <a:rPr b="1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把厨余垃圾直接放进垃圾桶里的做法，对吗？你因该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</a:t>
            </a:r>
            <a:r>
              <a:rPr b="1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目前常用的垃圾处理方法主要有，请说出一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6.</a:t>
            </a:r>
            <a:r>
              <a:rPr b="1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进行垃圾分类有什么好处啊？请说出一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3"/>
          <p:cNvSpPr txBox="1"/>
          <p:nvPr/>
        </p:nvSpPr>
        <p:spPr>
          <a:xfrm>
            <a:off x="755640" y="1197000"/>
            <a:ext cx="400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收集容器的颜色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" name="椭圆形标注 8"/>
          <p:cNvSpPr/>
          <p:nvPr/>
        </p:nvSpPr>
        <p:spPr>
          <a:xfrm>
            <a:off x="5286240" y="2857680"/>
            <a:ext cx="1928880" cy="1071360"/>
          </a:xfrm>
          <a:prstGeom prst="wedgeEllipseCallout">
            <a:avLst>
              <a:gd name="adj1" fmla="val -34597"/>
              <a:gd name="adj2" fmla="val 63874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回收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形标注 9"/>
          <p:cNvSpPr/>
          <p:nvPr/>
        </p:nvSpPr>
        <p:spPr>
          <a:xfrm>
            <a:off x="3643200" y="3000240"/>
            <a:ext cx="1928880" cy="1071720"/>
          </a:xfrm>
          <a:prstGeom prst="wedgeEllipseCallout">
            <a:avLst>
              <a:gd name="adj1" fmla="val -29245"/>
              <a:gd name="adj2" fmla="val 6800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厨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形标注 10"/>
          <p:cNvSpPr/>
          <p:nvPr/>
        </p:nvSpPr>
        <p:spPr>
          <a:xfrm>
            <a:off x="2000160" y="3286080"/>
            <a:ext cx="1928880" cy="1071720"/>
          </a:xfrm>
          <a:prstGeom prst="wedgeEllipseCallout">
            <a:avLst>
              <a:gd name="adj1" fmla="val -23125"/>
              <a:gd name="adj2" fmla="val 63874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形标注 11"/>
          <p:cNvSpPr/>
          <p:nvPr/>
        </p:nvSpPr>
        <p:spPr>
          <a:xfrm>
            <a:off x="357120" y="3429000"/>
            <a:ext cx="1928880" cy="1071720"/>
          </a:xfrm>
          <a:prstGeom prst="wedgeEllipseCallout">
            <a:avLst>
              <a:gd name="adj1" fmla="val -11657"/>
              <a:gd name="adj2" fmla="val 6937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垃圾分类无非就是分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可回收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有毒有害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厨余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其他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们来到了实习工厂，就还要面临一个垃圾，那就是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生产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826920" y="620640"/>
            <a:ext cx="18288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垃圾分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3" name="AutoShape 4">
            <a:hlinkClick r:id="rId6" action="ppaction://hlinksldjump"/>
          </p:cNvPr>
          <p:cNvSpPr/>
          <p:nvPr/>
        </p:nvSpPr>
        <p:spPr>
          <a:xfrm>
            <a:off x="7740720" y="580536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纸类：未严重玷污的文字用纸、其他纸制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塑料：废容器塑料、包装塑料等塑料制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塑料瓶、泡沫塑料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属：各种类别的废金属物品。如易拉罐、铁皮罐头盒、铅皮牙膏皮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玻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 rot="21000000">
            <a:off x="469800" y="477720"/>
            <a:ext cx="287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"/>
              </a:rPr>
              <a:t>可回收垃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7740720" y="580536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药品及其包装物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杀虫剂、废荧光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温度计、废电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油漆废胶片及废相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WordArt 3" descr="weave"/>
          <p:cNvPicPr/>
          <p:nvPr/>
        </p:nvPicPr>
        <p:blipFill>
          <a:blip r:embed="rId1"/>
          <a:stretch/>
        </p:blipFill>
        <p:spPr>
          <a:xfrm>
            <a:off x="652320" y="274680"/>
            <a:ext cx="3926160" cy="11271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7740720" y="580536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6:13:31Z</dcterms:created>
  <dc:creator>微软用户</dc:creator>
  <dc:description/>
  <cp:keywords/>
  <dc:language>en-US</dc:language>
  <cp:lastModifiedBy>裘晓红</cp:lastModifiedBy>
  <dcterms:modified xsi:type="dcterms:W3CDTF">2018-07-09T03:43:19Z</dcterms:modified>
  <cp:revision>1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