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387-4132-4D45-8F90-EA32265B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9B8-700F-4136-BD51-B0398373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7BB-C403-409B-BF42-963071E2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AAF-4B2C-4F9E-A8FF-3F82D679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3E82-5267-483B-8F2D-1DD94B1F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06C6-EBAE-408B-8F8A-57B125A1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11DD-5F2A-455D-A6DF-5AF89495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D971-CC58-4C83-BAD6-738E34C9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5AC4-9BBF-4451-BA95-D36FFC17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9378-F914-4303-9642-1B7E28FF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ABE6-AD24-4CDC-84B7-3497EF51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305-A4D3-4ED0-9257-16CE1A26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6766-9259-4EE9-BBC5-A7C1F6EE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35A1-C3AF-4176-A75A-A1CA959C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1A2E-2868-4282-B5F2-E720DA15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7121-AA5F-49FC-8BC7-8C29151E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084D-24EC-4AE8-9E41-5EBE19C4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836-50E6-4005-8AE6-82F0525E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E00-ECDC-497B-B0A8-F84603B2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5BB-C398-4C07-8D60-BC1742CD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CC2-E3B6-4E6D-B83A-E706A387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14F-EA9B-4BE1-9CAB-476C6187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0EF-3815-43E2-B179-9E2EED75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DE9-3519-432D-9A13-AE04C650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3396-2477-4040-B134-02E2D85A282A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DA1C-57D1-4084-88DC-1677D1C597C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00C1-55A3-4AD2-9C62-590BCDC71C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60840" y="2212560"/>
            <a:ext cx="2124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溜 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3" descr="3"/>
          <p:cNvPicPr/>
          <p:nvPr/>
        </p:nvPicPr>
        <p:blipFill>
          <a:blip r:embed="rId1"/>
          <a:stretch/>
        </p:blipFill>
        <p:spPr>
          <a:xfrm>
            <a:off x="1168560" y="1316160"/>
            <a:ext cx="1307880" cy="912600"/>
          </a:xfrm>
          <a:prstGeom prst="rect">
            <a:avLst/>
          </a:prstGeom>
          <a:ln w="0">
            <a:noFill/>
          </a:ln>
        </p:spPr>
      </p:pic>
      <p:sp>
        <p:nvSpPr>
          <p:cNvPr id="126" name="横卷形 4"/>
          <p:cNvSpPr/>
          <p:nvPr/>
        </p:nvSpPr>
        <p:spPr>
          <a:xfrm>
            <a:off x="1290600" y="1806480"/>
            <a:ext cx="5992920" cy="31449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首领是一个认真负责、关爱他人、身手非凡、从容不迫、具有领袖气质的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9"/>
          <p:cNvGrpSpPr/>
          <p:nvPr/>
        </p:nvGrpSpPr>
        <p:grpSpPr>
          <a:xfrm>
            <a:off x="144360" y="547560"/>
            <a:ext cx="2319120" cy="700200"/>
            <a:chOff x="144360" y="547560"/>
            <a:chExt cx="2319120" cy="700200"/>
          </a:xfrm>
        </p:grpSpPr>
        <p:pic>
          <p:nvPicPr>
            <p:cNvPr id="128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44360" y="54756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2"/>
            <p:cNvSpPr/>
            <p:nvPr/>
          </p:nvSpPr>
          <p:spPr>
            <a:xfrm>
              <a:off x="680760" y="62388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写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6"/>
          <p:cNvSpPr/>
          <p:nvPr/>
        </p:nvSpPr>
        <p:spPr>
          <a:xfrm>
            <a:off x="587520" y="1360440"/>
            <a:ext cx="74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本文语言很有特色，找出你喜欢的句子进行分享，说明分享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http://www.royaloc.cn/admin/up/asp/upload/image/20170626/14984415539576994.png"/>
          <p:cNvPicPr/>
          <p:nvPr/>
        </p:nvPicPr>
        <p:blipFill>
          <a:blip r:embed="rId2"/>
          <a:stretch/>
        </p:blipFill>
        <p:spPr>
          <a:xfrm>
            <a:off x="1434960" y="2909880"/>
            <a:ext cx="5353200" cy="28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4"/>
          <p:cNvSpPr/>
          <p:nvPr/>
        </p:nvSpPr>
        <p:spPr>
          <a:xfrm>
            <a:off x="449280" y="641520"/>
            <a:ext cx="76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用词精妙传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393840" y="3297240"/>
            <a:ext cx="805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峡谷的陡峭：“万丈绝壁飞快垂下去”。“绝壁”本是静止不动，但在马帮的汉子们眼里，却是“飞快地垂下去”的，化静为动，赋予绝壁以动态感，有力地表现了峡谷的深邃陡峭的特点，让人触目惊心，为后文写牛马的胆怯做了有力的铺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/>
          <p:cNvSpPr/>
          <p:nvPr/>
        </p:nvSpPr>
        <p:spPr>
          <a:xfrm>
            <a:off x="522360" y="1409760"/>
            <a:ext cx="772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说开篇写马帮首领“用小腿磕一下马”，用“磕”字，不用“打”“抽”等词，写出了首领与马的默契关系，表现出马帮首领对马的熟练驾驭和埋在心底的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1"/>
          <p:cNvSpPr/>
          <p:nvPr/>
        </p:nvSpPr>
        <p:spPr>
          <a:xfrm>
            <a:off x="668160" y="690480"/>
            <a:ext cx="7428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汉子过溜索的动作，三次使用“小”字：第一次，写精瘦的汉子“脚一用力，飞身离岸，嗖的一下小过去”；第二次，“三个汉子一个一个小过去”；第三次，“之后是运驮子，就玩一般了。这岸边的汉子们也一个接一个飞身小过去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几个“小”字的活用，将人在溜索之上，快速划过怒江峡谷时，人愈来愈小的视觉感受和情状传神地表现出来，作者将普通的“小”字用得这般有创意，堪称运用语言的高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504720" y="838080"/>
            <a:ext cx="767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比喻新奇，构思巧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"/>
          <p:cNvSpPr/>
          <p:nvPr/>
        </p:nvSpPr>
        <p:spPr>
          <a:xfrm>
            <a:off x="662040" y="1739880"/>
            <a:ext cx="73850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铃铛们又慌慌响起来，马帮如极稠的粥，慢慢流向那个山口”。将马帮缓慢行进的状态喻为“极稠的粥”，多么新颖别致的比喻啊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"/>
          <p:cNvSpPr/>
          <p:nvPr/>
        </p:nvSpPr>
        <p:spPr>
          <a:xfrm>
            <a:off x="662040" y="752400"/>
            <a:ext cx="7723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再如，“首领与两个汉子走到绝壁前，扯下裤腰，弯弯地撒出一道尿，落下不到几尺，就被风吹得散开，顺峡向东南飘走。万丈下的怒江，倒像是一股尿水，细细流着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里作者将马帮汉子对怒江撒尿的情景，写得很逼真，而且将“万丈下的怒江”喻为“像是一股尿水，细细流着”，看似粗俗，实则很有表现力。马帮汉子的豪放粗野，俯瞰万丈峡谷之下的怒江情景，不用这样的比喻，似乎难以表现出来，这就是阿城语言艺术的高明之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612720" y="936720"/>
            <a:ext cx="76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灵活运用衬托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936720" y="1797120"/>
            <a:ext cx="65404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文章对牛在靠近怒江、准备进行溜索以及溜索中和溜索后的表现都不遗余力的进行描写，衬托出怒江的险峻，溜索的刺激震撼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通过“我”的反应和感受来衬托马帮汉子的身手矫健、无所畏惧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"/>
          <p:cNvSpPr/>
          <p:nvPr/>
        </p:nvSpPr>
        <p:spPr>
          <a:xfrm>
            <a:off x="1610280" y="824040"/>
            <a:ext cx="39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人物语言简洁明快，干净洗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853920" y="1525680"/>
            <a:ext cx="6988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首领哑声说道：‘可还歇？’余下的汉子们漫声应道：‘不消。’”多么简洁的对白！汉子们之间的默契，尽在不言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再如，“（首领）曲着眼望那鹰，说：‘蛇？’几个汉子也望那鹰，都说：‘是呢，蛇。’”每句对话，惜墨如金，又鲜明地突出了马帮汉子彪悍而朴讷的性格特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1"/>
          <p:cNvSpPr/>
          <p:nvPr/>
        </p:nvSpPr>
        <p:spPr>
          <a:xfrm>
            <a:off x="1382760" y="2436840"/>
            <a:ext cx="51444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溜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272880" y="581040"/>
            <a:ext cx="2319120" cy="700200"/>
            <a:chOff x="272880" y="581040"/>
            <a:chExt cx="2319120" cy="700200"/>
          </a:xfrm>
        </p:grpSpPr>
        <p:pic>
          <p:nvPicPr>
            <p:cNvPr id="145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272880" y="581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2"/>
            <p:cNvSpPr/>
            <p:nvPr/>
          </p:nvSpPr>
          <p:spPr>
            <a:xfrm>
              <a:off x="809280" y="657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板书设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文本框 2"/>
          <p:cNvSpPr/>
          <p:nvPr/>
        </p:nvSpPr>
        <p:spPr>
          <a:xfrm>
            <a:off x="2324160" y="1916280"/>
            <a:ext cx="505764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：险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：哀叫、恐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领队、汉子们：沉着、果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左大括号 7"/>
          <p:cNvSpPr/>
          <p:nvPr/>
        </p:nvSpPr>
        <p:spPr>
          <a:xfrm>
            <a:off x="2022480" y="2044800"/>
            <a:ext cx="279360" cy="1832040"/>
          </a:xfrm>
          <a:custGeom>
            <a:avLst/>
            <a:gdLst>
              <a:gd name="textAreaLeft" fmla="*/ 178560 w 279360"/>
              <a:gd name="textAreaRight" fmla="*/ 279720 w 279360"/>
              <a:gd name="textAreaTop" fmla="*/ 33840 h 1832040"/>
              <a:gd name="textAreaBottom" fmla="*/ 1798200 h 183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4"/>
                  <a:pt x="10800" y="1288"/>
                </a:cubicBezTo>
                <a:lnTo>
                  <a:pt x="10800" y="9512"/>
                </a:lnTo>
                <a:cubicBezTo>
                  <a:pt x="10800" y="10156"/>
                  <a:pt x="5400" y="10800"/>
                  <a:pt x="0" y="10800"/>
                </a:cubicBezTo>
                <a:cubicBezTo>
                  <a:pt x="5400" y="10800"/>
                  <a:pt x="10800" y="11444"/>
                  <a:pt x="10800" y="12088"/>
                </a:cubicBezTo>
                <a:lnTo>
                  <a:pt x="10800" y="20312"/>
                </a:lnTo>
                <a:cubicBezTo>
                  <a:pt x="10800" y="2095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4"/>
          <p:cNvSpPr/>
          <p:nvPr/>
        </p:nvSpPr>
        <p:spPr>
          <a:xfrm>
            <a:off x="1009800" y="1676520"/>
            <a:ext cx="690696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够把握文章情节脉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会品味文章语言，体会语言风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够抓住细节，分析人物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241200" y="515880"/>
            <a:ext cx="2319120" cy="700200"/>
            <a:chOff x="241200" y="515880"/>
            <a:chExt cx="2319120" cy="700200"/>
          </a:xfrm>
        </p:grpSpPr>
        <p:pic>
          <p:nvPicPr>
            <p:cNvPr id="85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241200" y="5158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文本框 2"/>
            <p:cNvSpPr/>
            <p:nvPr/>
          </p:nvSpPr>
          <p:spPr>
            <a:xfrm>
              <a:off x="777600" y="5922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9"/>
          <p:cNvGrpSpPr/>
          <p:nvPr/>
        </p:nvGrpSpPr>
        <p:grpSpPr>
          <a:xfrm>
            <a:off x="166680" y="365040"/>
            <a:ext cx="2319120" cy="700200"/>
            <a:chOff x="166680" y="365040"/>
            <a:chExt cx="2319120" cy="700200"/>
          </a:xfrm>
        </p:grpSpPr>
        <p:pic>
          <p:nvPicPr>
            <p:cNvPr id="90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6680" y="365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文本框 2"/>
            <p:cNvSpPr/>
            <p:nvPr/>
          </p:nvSpPr>
          <p:spPr>
            <a:xfrm>
              <a:off x="703080" y="441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96258"/>
          <p:cNvSpPr/>
          <p:nvPr/>
        </p:nvSpPr>
        <p:spPr>
          <a:xfrm>
            <a:off x="358920" y="1254240"/>
            <a:ext cx="4603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怒江在高黎贡山和碧罗雪山的夹击下，愤怒至极，在大山之中前撞后闯，左冲右突，十分磅礴险峻！如果依靠一根铁索，从奔腾咆哮的怒江上滑过会有怎样的感受呢？今天让我们跟随作家阿城一起去体验一下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2"/>
          <a:stretch/>
        </p:blipFill>
        <p:spPr>
          <a:xfrm>
            <a:off x="4829040" y="566640"/>
            <a:ext cx="4097520" cy="26798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" descr=""/>
          <p:cNvPicPr/>
          <p:nvPr/>
        </p:nvPicPr>
        <p:blipFill>
          <a:blip r:embed="rId3"/>
          <a:stretch/>
        </p:blipFill>
        <p:spPr>
          <a:xfrm>
            <a:off x="4840200" y="3265560"/>
            <a:ext cx="4075200" cy="269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9"/>
          <p:cNvGrpSpPr/>
          <p:nvPr/>
        </p:nvGrpSpPr>
        <p:grpSpPr>
          <a:xfrm>
            <a:off x="166680" y="365040"/>
            <a:ext cx="2319120" cy="700200"/>
            <a:chOff x="166680" y="365040"/>
            <a:chExt cx="2319120" cy="700200"/>
          </a:xfrm>
        </p:grpSpPr>
        <p:pic>
          <p:nvPicPr>
            <p:cNvPr id="96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6680" y="365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文本框 2"/>
            <p:cNvSpPr/>
            <p:nvPr/>
          </p:nvSpPr>
          <p:spPr>
            <a:xfrm>
              <a:off x="703080" y="441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矩形 4"/>
          <p:cNvSpPr/>
          <p:nvPr/>
        </p:nvSpPr>
        <p:spPr>
          <a:xfrm>
            <a:off x="595440" y="1274760"/>
            <a:ext cx="440352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阿城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原名钟阿城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949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年于清明节出生在北京，籍贯为四川江津，中国当代作家。发表小说集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棋王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获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984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年福建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中短篇小说选刊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优秀作品奖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983-1984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年全国优秀中篇小说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5267160" y="1566720"/>
            <a:ext cx="3125880" cy="7815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9"/>
          <p:cNvGrpSpPr/>
          <p:nvPr/>
        </p:nvGrpSpPr>
        <p:grpSpPr>
          <a:xfrm>
            <a:off x="101520" y="419040"/>
            <a:ext cx="2319120" cy="700200"/>
            <a:chOff x="101520" y="419040"/>
            <a:chExt cx="2319120" cy="700200"/>
          </a:xfrm>
        </p:grpSpPr>
        <p:pic>
          <p:nvPicPr>
            <p:cNvPr id="101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0152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文本框 2"/>
            <p:cNvSpPr/>
            <p:nvPr/>
          </p:nvSpPr>
          <p:spPr>
            <a:xfrm>
              <a:off x="63792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文本框 1"/>
          <p:cNvSpPr/>
          <p:nvPr/>
        </p:nvSpPr>
        <p:spPr>
          <a:xfrm>
            <a:off x="719280" y="1309680"/>
            <a:ext cx="72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阅读全文，并用一句话概括主要内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797040" y="2303640"/>
            <a:ext cx="7186320" cy="733680"/>
          </a:xfrm>
          <a:prstGeom prst="rect">
            <a:avLst/>
          </a:prstGeom>
          <a:solidFill>
            <a:srgbClr val="e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领队带领驮队和“我”一起溜索过怒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703440" y="3395520"/>
            <a:ext cx="761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用简洁的语言概括本文的开端、发展、高潮和结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"/>
          <p:cNvSpPr/>
          <p:nvPr/>
        </p:nvSpPr>
        <p:spPr>
          <a:xfrm>
            <a:off x="622440" y="766800"/>
            <a:ext cx="7183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98840" indent="-259884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开端（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1-9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）：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“我”和驮队抵达怒江边，等待溜索过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"/>
          <p:cNvSpPr/>
          <p:nvPr/>
        </p:nvSpPr>
        <p:spPr>
          <a:xfrm>
            <a:off x="544680" y="2033640"/>
            <a:ext cx="8042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7760" indent="-268776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发展（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10-17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）：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驮队的汉子们溜索，将牛们以及驮子熟练沉着地运到对岸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"/>
          <p:cNvSpPr/>
          <p:nvPr/>
        </p:nvSpPr>
        <p:spPr>
          <a:xfrm>
            <a:off x="555480" y="3424320"/>
            <a:ext cx="7901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7760" indent="-2687760">
              <a:lnSpc>
                <a:spcPct val="120000"/>
              </a:lnSpc>
              <a:tabLst>
                <a:tab algn="l" pos="0"/>
                <a:tab algn="l" pos="304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高潮（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18-22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）：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“我”在领队的指导下胆颤心惊地溜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506520" y="4835520"/>
            <a:ext cx="821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结局（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23-25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）：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全队顺利到达对岸，再次上路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87280" y="1177920"/>
            <a:ext cx="8332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这篇文章人物众多，有第一人称的“我”，首先溜索的精瘦短小汉子，驮队的首领以及驮队中的其他人。这些人中，谁才是文章的主人公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6147"/>
          <p:cNvSpPr/>
          <p:nvPr/>
        </p:nvSpPr>
        <p:spPr>
          <a:xfrm>
            <a:off x="1946160" y="3071880"/>
            <a:ext cx="2916360" cy="55080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驮队的首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9"/>
          <p:cNvGrpSpPr/>
          <p:nvPr/>
        </p:nvGrpSpPr>
        <p:grpSpPr>
          <a:xfrm>
            <a:off x="101520" y="419040"/>
            <a:ext cx="2319120" cy="700200"/>
            <a:chOff x="101520" y="419040"/>
            <a:chExt cx="2319120" cy="700200"/>
          </a:xfrm>
        </p:grpSpPr>
        <p:pic>
          <p:nvPicPr>
            <p:cNvPr id="113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0152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文本框 2"/>
            <p:cNvSpPr/>
            <p:nvPr/>
          </p:nvSpPr>
          <p:spPr>
            <a:xfrm>
              <a:off x="63792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细读感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矩形 7"/>
          <p:cNvSpPr/>
          <p:nvPr/>
        </p:nvSpPr>
        <p:spPr>
          <a:xfrm>
            <a:off x="527040" y="4000680"/>
            <a:ext cx="585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默读课文，从文章找出描写主人公的语句，分析其性格特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http://thumbs.dreamstime.com/x/none-4194502.jpg"/>
          <p:cNvPicPr/>
          <p:nvPr/>
        </p:nvPicPr>
        <p:blipFill>
          <a:blip r:embed="rId2"/>
          <a:stretch/>
        </p:blipFill>
        <p:spPr>
          <a:xfrm>
            <a:off x="6170760" y="3046320"/>
            <a:ext cx="2797200" cy="247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6147"/>
          <p:cNvSpPr/>
          <p:nvPr/>
        </p:nvSpPr>
        <p:spPr>
          <a:xfrm>
            <a:off x="590400" y="569880"/>
            <a:ext cx="619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首领稳稳坐在马上，笑一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6147"/>
          <p:cNvSpPr/>
          <p:nvPr/>
        </p:nvSpPr>
        <p:spPr>
          <a:xfrm>
            <a:off x="404640" y="1392120"/>
            <a:ext cx="8071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稳稳”“笑一笑”，与“我”和牛的恐惧形成对比，衬托出领队从容不迫、胸有成竹的性格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6147"/>
          <p:cNvSpPr/>
          <p:nvPr/>
        </p:nvSpPr>
        <p:spPr>
          <a:xfrm>
            <a:off x="490680" y="3033720"/>
            <a:ext cx="796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首领缓缓移下马，拐着腿走到索前，举手敲一敲那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6147"/>
          <p:cNvSpPr/>
          <p:nvPr/>
        </p:nvSpPr>
        <p:spPr>
          <a:xfrm>
            <a:off x="378000" y="3819600"/>
            <a:ext cx="7773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溜索前领队下马用手“敲一敲那索”，体现了他细心、认真、负责的性格特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6147"/>
          <p:cNvSpPr/>
          <p:nvPr/>
        </p:nvSpPr>
        <p:spPr>
          <a:xfrm>
            <a:off x="641520" y="507960"/>
            <a:ext cx="708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我）战战兢兢跨上角框，首领吼一声：“往下看不得，命在天上！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147"/>
          <p:cNvSpPr/>
          <p:nvPr/>
        </p:nvSpPr>
        <p:spPr>
          <a:xfrm>
            <a:off x="590400" y="1574640"/>
            <a:ext cx="7783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带“我”溜索时提醒“我”不要看下面，体现了对他人的关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6147"/>
          <p:cNvSpPr/>
          <p:nvPr/>
        </p:nvSpPr>
        <p:spPr>
          <a:xfrm>
            <a:off x="550800" y="2844720"/>
            <a:ext cx="752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猛听得空中一声呼哨，尖得直入脑髓，腰背颤一下。回身却见首领早已飞到索头，抽身跃下，拐着腿弹一弹，走到汉子们跟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6147"/>
          <p:cNvSpPr/>
          <p:nvPr/>
        </p:nvSpPr>
        <p:spPr>
          <a:xfrm>
            <a:off x="635040" y="4572000"/>
            <a:ext cx="7337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表现出领队非凡的身手、粗犷的为人、领袖的气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5:53:56Z</dcterms:created>
  <dc:creator> </dc:creator>
  <dc:description/>
  <cp:keywords/>
  <dc:language>en-US</dc:language>
  <cp:lastModifiedBy>微软用户</cp:lastModifiedBy>
  <dcterms:modified xsi:type="dcterms:W3CDTF">2018-11-16T07:09:48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648</vt:lpwstr>
  </property>
</Properties>
</file>