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32E-3B97-4D90-A036-C6A77832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1DF-6126-40D7-8E9F-6F0A1D6F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D12-7D71-4FCE-8026-36C235EF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F69-D42A-4C97-8514-59F1E48F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6B83-B960-4323-B9EE-00E45940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25E5-954F-477F-9E1E-8C0309B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1A9A-DAA9-4A77-A9E7-D9FE60E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359C-F2BD-4168-A5CB-A0B210AD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18F1-A07D-47E5-A1E6-6F48297B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0769-F633-4389-A84B-1562CBB4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A4B7-D1A0-47C3-B5B2-A8F5A00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F6A-2976-4C79-A7E6-3D320FE5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54C8-DA3F-4085-95AC-310A9BB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0ACD-7130-42E7-A7C6-44B1242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0DA7-F6FD-4CC6-AF87-FD3276AA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2CE-5005-460B-8E53-88DE401F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2834-8DA9-44B0-9C93-3C128690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C70-FF32-400D-AA90-5F07267D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F1D-0F69-4A04-8BA3-99959ACF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2BF-B203-4B88-83D2-B991B569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48E-5C13-4566-A9D0-8F33C5F6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954-38C8-4836-AD4B-9E26B922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8C7-B406-4B74-9122-AF4A4B5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BDC-E577-4D2D-BC87-AE07A42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7B9F-E94F-483F-A163-9861AD1A97C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B4CB-2452-4684-9169-A58852A81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857240" y="9936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溜  索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Calibri"/>
              </a:rPr>
              <a:t>阿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1269314196_bOyxcI"/>
          <p:cNvPicPr/>
          <p:nvPr/>
        </p:nvPicPr>
        <p:blipFill>
          <a:blip r:embed="rId1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W020110324574310810810"/>
          <p:cNvPicPr/>
          <p:nvPr/>
        </p:nvPicPr>
        <p:blipFill>
          <a:blip r:embed="rId2"/>
          <a:stretch/>
        </p:blipFill>
        <p:spPr>
          <a:xfrm>
            <a:off x="4343400" y="3333600"/>
            <a:ext cx="4800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79280" y="429840"/>
            <a:ext cx="878544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本文写了驮队飞渡峡谷的故事，请探究其中的深刻意蕴和作者的情感取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9280" y="2688120"/>
            <a:ext cx="889344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角度一：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Times New Roman"/>
              </a:rPr>
              <a:t>整体把握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驮队飞渡峡谷代表战胜自然和艰险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角度二：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Times New Roman"/>
              </a:rPr>
              <a:t>领队和汉子们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表现团结协作，相互信任，关心爱护以及无畏勇敢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角度三：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Times New Roman"/>
              </a:rPr>
              <a:t>雄鹰、骏马、牛等动物形象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正反对比，隐喻人应该有雄鹰、骏马那样的精神，而不能想牛那样软弱畏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角度四：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Times New Roman"/>
              </a:rPr>
              <a:t>“我”和领队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Times New Roman"/>
              </a:rPr>
              <a:t>表现艰苦环境能磨练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79280" y="304920"/>
            <a:ext cx="878544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本文写了驮队飞渡峡谷的故事，请探究其中的深刻意蕴和作者的情感取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79280" y="1771920"/>
            <a:ext cx="8893440" cy="435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深刻意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飞渡峡谷的情景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表现人在自然面前接受挑战，战胜艰险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驮队的人际关系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体现团结协作，互相信任，关心爱护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动物形象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隐喻人应该像雄鹰飞翔、像骏马奔驰，而不是像牛那样软弱畏缩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⑷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我”与领队的对照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表示人会在艰苦磨练中成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情感取向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⑴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骏马、雄鹰、高山峡谷：对雄奇险峻崇高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赞美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⑵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领队、精瘦汉子：对乐观向上的人生态度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赞美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⑶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牛的恐惧、发抖：对平庸、畏难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厌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⑷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本文所写生存画面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Times New Roman"/>
              </a:rPr>
              <a:t>张扬了原始、野性的阳刚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9"/>
          <p:cNvGrpSpPr/>
          <p:nvPr/>
        </p:nvGrpSpPr>
        <p:grpSpPr>
          <a:xfrm>
            <a:off x="144360" y="547560"/>
            <a:ext cx="2319120" cy="700200"/>
            <a:chOff x="144360" y="547560"/>
            <a:chExt cx="2319120" cy="700200"/>
          </a:xfrm>
        </p:grpSpPr>
        <p:pic>
          <p:nvPicPr>
            <p:cNvPr id="12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44360" y="54756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文本框 2"/>
            <p:cNvSpPr/>
            <p:nvPr/>
          </p:nvSpPr>
          <p:spPr>
            <a:xfrm>
              <a:off x="680760" y="6238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法探究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6"/>
          <p:cNvSpPr/>
          <p:nvPr/>
        </p:nvSpPr>
        <p:spPr>
          <a:xfrm>
            <a:off x="587520" y="136044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本文语言很有特色，找出你喜欢的句子进行分享，说明分享理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http://www.royaloc.cn/admin/up/asp/upload/image/20170626/14984415539576994.png"/>
          <p:cNvPicPr/>
          <p:nvPr/>
        </p:nvPicPr>
        <p:blipFill>
          <a:blip r:embed="rId2"/>
          <a:stretch/>
        </p:blipFill>
        <p:spPr>
          <a:xfrm>
            <a:off x="1434960" y="2909880"/>
            <a:ext cx="5353200" cy="28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449280" y="641520"/>
            <a:ext cx="76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词精妙传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393840" y="3297240"/>
            <a:ext cx="80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峡谷的陡峭：“万丈绝壁飞快垂下去”。“绝壁”本是静止不动，但在马帮的汉子们眼里，却是“飞快地垂下去”的，化静为动，赋予绝壁以动态感，有力地表现了峡谷的深邃陡峭的特点，让人触目惊心，为后文写牛马的胆怯做了有力的铺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522360" y="1409760"/>
            <a:ext cx="77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说开篇写马帮首领“用小腿磕一下马”，用“磕”字，不用“打”“抽”等词，写出了首领与马的默契关系，表现出马帮首领对马的熟练驾驭和埋在心底的怜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668160" y="690480"/>
            <a:ext cx="742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汉子过溜索的动作，三次使用“小”字：第一次，写精瘦的汉子“脚一用力，飞身离岸，嗖的一下小过去”；第二次，“三个汉子一个一个小过去”；第三次，“之后是运驮子，就玩一般了。这岸边的汉子们也一个接一个飞身小过去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几个“小”字的活用，将人在溜索之上，快速划过怒江峡谷时，人愈来愈小的视觉感受和情状传神地表现出来，作者将普通的“小”字用得这般有创意，堪称运用语言的高手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504720" y="838080"/>
            <a:ext cx="767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比喻新奇，构思巧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662040" y="1739880"/>
            <a:ext cx="73850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铃铛们又慌慌响起来，马帮如极稠的粥，慢慢流向那个山口”。将马帮缓慢行进的状态喻为“极稠的粥”，多么新颖别致的比喻啊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662040" y="752400"/>
            <a:ext cx="7723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如，“首领与两个汉子走到绝壁前，扯下裤腰，弯弯地撒出一道尿，落下不到几尺，就被风吹得散开，顺峡向东南飘走。万丈下的怒江，倒像是一股尿水，细细流着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里作者将马帮汉子对怒江撒尿的情景，写得很逼真，而且将“万丈下的怒江”喻为“像是一股尿水，细细流着”，看似粗俗，实则很有表现力。马帮汉子的豪放粗野，俯瞰万丈峡谷之下的怒江情景，不用这样的比喻，似乎难以表现出来，这就是阿城语言艺术的高明之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612720" y="936720"/>
            <a:ext cx="76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灵活运用衬托手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36720" y="1797120"/>
            <a:ext cx="65404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文章对牛在靠近怒江、准备进行溜索以及溜索中和溜索后的表现都不遗余力的进行描写，衬托出怒江的险峻，溜索的刺激震撼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通过“我”的反应和感受来衬托马帮汉子的身手矫健、无所畏惧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1679760" y="824040"/>
            <a:ext cx="379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物语言简洁明快，干净洗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853920" y="1525680"/>
            <a:ext cx="6988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首领哑声说道：‘可还歇？’余下的汉子们漫声应道：‘不消。’”多么简洁的对白！汉子们之间的默契，尽在不言中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再如，“（首领）曲着眼望那鹰，说：‘蛇？’几个汉子也望那鹰，都说：‘是呢，蛇。’”每句对话，惜墨如金，又鲜明地突出了马帮汉子彪悍而朴讷的性格特点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"/>
          <p:cNvSpPr/>
          <p:nvPr/>
        </p:nvSpPr>
        <p:spPr>
          <a:xfrm>
            <a:off x="1382760" y="2436840"/>
            <a:ext cx="51444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溜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272880" y="581040"/>
            <a:ext cx="2319120" cy="700200"/>
            <a:chOff x="272880" y="581040"/>
            <a:chExt cx="2319120" cy="700200"/>
          </a:xfrm>
        </p:grpSpPr>
        <p:pic>
          <p:nvPicPr>
            <p:cNvPr id="143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272880" y="581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2"/>
            <p:cNvSpPr/>
            <p:nvPr/>
          </p:nvSpPr>
          <p:spPr>
            <a:xfrm>
              <a:off x="809280" y="657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文本框 2"/>
          <p:cNvSpPr/>
          <p:nvPr/>
        </p:nvSpPr>
        <p:spPr>
          <a:xfrm>
            <a:off x="2324160" y="1916280"/>
            <a:ext cx="505764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：险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：哀叫、恐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领队、汉子们：沉着、果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左大括号 7"/>
          <p:cNvSpPr/>
          <p:nvPr/>
        </p:nvSpPr>
        <p:spPr>
          <a:xfrm>
            <a:off x="2022480" y="2044800"/>
            <a:ext cx="279360" cy="1832040"/>
          </a:xfrm>
          <a:custGeom>
            <a:avLst/>
            <a:gdLst>
              <a:gd name="textAreaLeft" fmla="*/ 178560 w 279360"/>
              <a:gd name="textAreaRight" fmla="*/ 279720 w 279360"/>
              <a:gd name="textAreaTop" fmla="*/ 33840 h 1832040"/>
              <a:gd name="textAreaBottom" fmla="*/ 1798200 h 18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4"/>
                  <a:pt x="10800" y="1288"/>
                </a:cubicBezTo>
                <a:lnTo>
                  <a:pt x="10800" y="9512"/>
                </a:lnTo>
                <a:cubicBezTo>
                  <a:pt x="10800" y="10156"/>
                  <a:pt x="5400" y="10800"/>
                  <a:pt x="0" y="10800"/>
                </a:cubicBezTo>
                <a:cubicBezTo>
                  <a:pt x="5400" y="10800"/>
                  <a:pt x="10800" y="11444"/>
                  <a:pt x="10800" y="12088"/>
                </a:cubicBezTo>
                <a:lnTo>
                  <a:pt x="10800" y="20312"/>
                </a:lnTo>
                <a:cubicBezTo>
                  <a:pt x="10800" y="2095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040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9"/>
          <p:cNvGrpSpPr/>
          <p:nvPr/>
        </p:nvGrpSpPr>
        <p:grpSpPr>
          <a:xfrm>
            <a:off x="166680" y="365040"/>
            <a:ext cx="2319120" cy="700200"/>
            <a:chOff x="166680" y="365040"/>
            <a:chExt cx="2319120" cy="700200"/>
          </a:xfrm>
        </p:grpSpPr>
        <p:pic>
          <p:nvPicPr>
            <p:cNvPr id="8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6680" y="365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2"/>
            <p:cNvSpPr/>
            <p:nvPr/>
          </p:nvSpPr>
          <p:spPr>
            <a:xfrm>
              <a:off x="703080" y="441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文本框 96258"/>
          <p:cNvSpPr/>
          <p:nvPr/>
        </p:nvSpPr>
        <p:spPr>
          <a:xfrm>
            <a:off x="358920" y="1254240"/>
            <a:ext cx="4603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怒江在高黎贡山和碧罗雪山的夹击下，愤怒至极，在大山之中前撞后闯，左冲右突，十分磅礴险峻！如果依靠一根铁索，从奔腾咆哮的怒江上滑过会有怎样的感受呢？今天让我们跟随作家阿城一起去体验一下吧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4797360" y="536400"/>
            <a:ext cx="4151520" cy="27306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"/>
          <p:cNvPicPr/>
          <p:nvPr/>
        </p:nvPicPr>
        <p:blipFill>
          <a:blip r:embed="rId3"/>
          <a:stretch/>
        </p:blipFill>
        <p:spPr>
          <a:xfrm>
            <a:off x="4809960" y="3230640"/>
            <a:ext cx="4125960" cy="27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9"/>
          <p:cNvGrpSpPr/>
          <p:nvPr/>
        </p:nvGrpSpPr>
        <p:grpSpPr>
          <a:xfrm>
            <a:off x="166680" y="365040"/>
            <a:ext cx="2319120" cy="700200"/>
            <a:chOff x="166680" y="365040"/>
            <a:chExt cx="2319120" cy="700200"/>
          </a:xfrm>
        </p:grpSpPr>
        <p:pic>
          <p:nvPicPr>
            <p:cNvPr id="9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6680" y="365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2"/>
            <p:cNvSpPr/>
            <p:nvPr/>
          </p:nvSpPr>
          <p:spPr>
            <a:xfrm>
              <a:off x="703080" y="441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4"/>
          <p:cNvSpPr/>
          <p:nvPr/>
        </p:nvSpPr>
        <p:spPr>
          <a:xfrm>
            <a:off x="595440" y="1274760"/>
            <a:ext cx="440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阿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名钟阿城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于清明节出生在北京，籍贯为四川江津，中国当代作家。发表小说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棋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福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短篇小说选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优秀作品奖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83-198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全国优秀中篇小说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254560" y="1560600"/>
            <a:ext cx="3151080" cy="783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9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文本框 1"/>
          <p:cNvSpPr/>
          <p:nvPr/>
        </p:nvSpPr>
        <p:spPr>
          <a:xfrm>
            <a:off x="719280" y="1309680"/>
            <a:ext cx="72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阅读全文，并用一句话概括主要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449280" y="2303640"/>
            <a:ext cx="8113680" cy="8251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领队带领驮队和“我”一起溜索过怒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74640" y="3844800"/>
            <a:ext cx="76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简洁的语言概括本文的开端、发展、高潮和结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"/>
          <p:cNvSpPr/>
          <p:nvPr/>
        </p:nvSpPr>
        <p:spPr>
          <a:xfrm>
            <a:off x="579600" y="419040"/>
            <a:ext cx="718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98840" indent="-259884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开端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-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我”和驮队抵达怒江边，等待溜索过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530280" y="1700280"/>
            <a:ext cx="8323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7760" indent="-268776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发展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6-17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驮队的汉子们溜索，将牛们以及驮子熟练沉着地运到对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555480" y="3424320"/>
            <a:ext cx="7901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7760" indent="-2687760">
              <a:lnSpc>
                <a:spcPct val="120000"/>
              </a:lnSpc>
              <a:tabLst>
                <a:tab algn="l" pos="0"/>
                <a:tab algn="l" pos="304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高潮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-2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我”在领队的指导下胆颤心惊地溜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506520" y="4835520"/>
            <a:ext cx="821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结局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-2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队顺利到达对岸，再次上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87280" y="1177920"/>
            <a:ext cx="8332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篇文章人物众多，有第一人称的“我”，首先溜索的精瘦短小汉子，驮队的首领以及驮队中的其他人。这些人中，谁才是文章的主人公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6147"/>
          <p:cNvSpPr/>
          <p:nvPr/>
        </p:nvSpPr>
        <p:spPr>
          <a:xfrm>
            <a:off x="1932120" y="3841920"/>
            <a:ext cx="29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驮队的首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10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7"/>
          <p:cNvSpPr/>
          <p:nvPr/>
        </p:nvSpPr>
        <p:spPr>
          <a:xfrm>
            <a:off x="555480" y="495792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默读课文，从文章找出描写主人公的语句，分析其性格特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6147"/>
          <p:cNvSpPr/>
          <p:nvPr/>
        </p:nvSpPr>
        <p:spPr>
          <a:xfrm>
            <a:off x="590400" y="569880"/>
            <a:ext cx="61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首领稳稳坐在马上，笑一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6147"/>
          <p:cNvSpPr/>
          <p:nvPr/>
        </p:nvSpPr>
        <p:spPr>
          <a:xfrm>
            <a:off x="404640" y="1392120"/>
            <a:ext cx="807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稳稳”“笑一笑”，与“我”和牛的恐惧形成对比，衬托出领队从容不迫、胸有成竹的性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6147"/>
          <p:cNvSpPr/>
          <p:nvPr/>
        </p:nvSpPr>
        <p:spPr>
          <a:xfrm>
            <a:off x="490680" y="3033720"/>
            <a:ext cx="79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首领缓缓移下马，拐着腿走到索前，举手敲一敲那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6147"/>
          <p:cNvSpPr/>
          <p:nvPr/>
        </p:nvSpPr>
        <p:spPr>
          <a:xfrm>
            <a:off x="436680" y="4356000"/>
            <a:ext cx="777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溜索前领队下马用手“敲一敲那索”，体现了他细心、认真、负责的性格特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6147"/>
          <p:cNvSpPr/>
          <p:nvPr/>
        </p:nvSpPr>
        <p:spPr>
          <a:xfrm>
            <a:off x="641520" y="5079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我）战战兢兢跨上角框，首领吼一声：“往下看不得，命在天上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6147"/>
          <p:cNvSpPr/>
          <p:nvPr/>
        </p:nvSpPr>
        <p:spPr>
          <a:xfrm>
            <a:off x="590400" y="1574640"/>
            <a:ext cx="7783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带“我”溜索时提醒“我”不要看下面，体现了对他人的关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6147"/>
          <p:cNvSpPr/>
          <p:nvPr/>
        </p:nvSpPr>
        <p:spPr>
          <a:xfrm>
            <a:off x="550800" y="2844720"/>
            <a:ext cx="824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猛听得空中一声呼哨，尖得直入脑髓，腰背颤一下。回身却见首领早已飞到索头，抽身跃下，拐着腿弹一弹，走到汉子们跟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6147"/>
          <p:cNvSpPr/>
          <p:nvPr/>
        </p:nvSpPr>
        <p:spPr>
          <a:xfrm>
            <a:off x="649440" y="4848120"/>
            <a:ext cx="7337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现出领队非凡的身手、粗犷的为人、领袖的气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横卷形 4"/>
          <p:cNvSpPr/>
          <p:nvPr/>
        </p:nvSpPr>
        <p:spPr>
          <a:xfrm>
            <a:off x="1290600" y="1806480"/>
            <a:ext cx="6620040" cy="34909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首领是一个认真负责、关爱他人、身手非凡、从容不迫、具有领袖气质的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 </dc:creator>
  <dc:description/>
  <cp:keywords/>
  <dc:language>en-US</dc:language>
  <cp:lastModifiedBy>xbany</cp:lastModifiedBy>
  <dcterms:modified xsi:type="dcterms:W3CDTF">2019-02-25T09:24:23Z</dcterms:modified>
  <cp:revision>7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648</vt:lpwstr>
  </property>
</Properties>
</file>