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13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31856-0F34-445D-A446-2C4F41BDC1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2B0CD-2045-4CD7-A3D5-2EE6F12D4D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04D1B-DB33-4FDD-911F-11743E4425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B7E-7534-4AAF-B2AF-C428EE03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9D5-ED6B-4641-B101-3F9AC56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EE8-B845-4BB1-AF7C-E17D357B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E42-210E-4058-96C4-AA75BFAC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48D-3D53-4DBC-A115-A32FAC7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E26-908A-47C2-8580-A4B0841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82FB-D187-41D6-89B6-30985FE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24BF-1543-4D31-A330-0874060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C1B-1980-4789-AA57-D2D09D2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7F21-2E9B-4C2D-97BB-23762D2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131-03B3-4F29-9AFA-EBB54FF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8813-F306-4C40-8BBF-122FA0B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4A3-EE72-446D-8E7C-D8FBF942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C68-74E1-4E50-B9E5-C733534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F738-D3FD-42F3-B21A-89F3F9E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25E3-EE5B-468D-8439-CEB77782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76CF-5AD1-49C3-80AD-4BC0DBCE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E58E-6908-40A9-B2C0-480FDF26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2AF-8D7E-4B3A-B04E-99F4AF4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A02-181A-40E4-99DE-781C3C7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26F-45AB-4A0D-B47F-1096A25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6F2B-A5D9-4A3F-8EAF-682D200B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B55B-B6B0-4E90-B1A2-1D8F7BF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FF0D-58CE-44CE-9085-6C26584F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5E16-DECA-4011-B9A7-593008D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60F6-591A-4662-BC80-3BAB947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CF81-3DD4-433C-A8B7-001B2AB4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1CC2-6502-4BB4-8EDB-0F4AC94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B170-7233-4EA0-8FA3-01DB852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9A95-8534-4AFF-AEC4-8BA6370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06C-58A3-4A8C-8349-3E46A1B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F9A4-D5A1-4798-AB08-6ABF750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18FE-E558-4EA6-AAC3-AC5EA608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7078-B11F-4D4A-A878-A0331458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4311-1679-4071-8E98-35F2B6F1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5B72-5B16-443C-BB93-2D24D6D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0097-D7D8-4278-BF53-204C98A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AF53-286D-4453-A027-8E70B2A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B142-C988-4AAE-845C-22275DD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A632-6A28-43F7-A819-2F83DEAE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CF1F-F926-425D-A024-58E93002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A7E-CC69-43B9-AA4C-DD025696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815A-7C42-43CE-AA63-DC41419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5938-98CB-4413-A085-5D7D838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A4F6-19F1-49E5-B3C0-8054A29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6200-A268-4525-BFCE-797CF67A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5BC5-F53B-47EF-BF31-1CE92750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6008-1286-4D0F-B86D-F7D9226C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678B-35D5-426C-B1FB-6FBD82D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54A8-AB63-4BEB-89D1-C3646483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BD00-254D-4FB2-8928-CD55248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6129-9FBF-48EF-AD75-D7C3E79B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BFA-F333-4D1E-9214-A6BECDC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C66B-3280-4A86-80FD-C246443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7D26-F916-416C-90E8-DD74337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DF07-B68A-4B9A-A0BE-20241BA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838A-C40D-49E0-9D33-5E0FBA9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7975-96E8-430F-990A-2AAA326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A3F6-135E-46C8-B54E-9BA8E287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B7000-8BFE-434E-A905-31D92B11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C9D80-F507-484C-8042-0DF0F71E50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直接连接符 19"/>
          <p:cNvSpPr/>
          <p:nvPr/>
        </p:nvSpPr>
        <p:spPr>
          <a:xfrm>
            <a:off x="792000" y="4757760"/>
            <a:ext cx="75600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A27CE-B190-416A-9BCF-3E71FB9EDB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0" descr="D:\我的文档\Tencent Files\923213587\FileRecv\预习反馈.gif"/>
          <p:cNvPicPr/>
          <p:nvPr/>
        </p:nvPicPr>
        <p:blipFill>
          <a:blip r:embed="rId2"/>
          <a:stretch/>
        </p:blipFill>
        <p:spPr>
          <a:xfrm>
            <a:off x="3156120" y="136440"/>
            <a:ext cx="2831760" cy="554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14DB8-55A8-404E-B4C7-6E7C87026D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2" descr="D:\我的文档\Tencent Files\923213587\FileRecv\初读感知.gif"/>
          <p:cNvPicPr/>
          <p:nvPr/>
        </p:nvPicPr>
        <p:blipFill>
          <a:blip r:embed="rId2"/>
          <a:stretch/>
        </p:blipFill>
        <p:spPr>
          <a:xfrm>
            <a:off x="3295800" y="85680"/>
            <a:ext cx="2552400" cy="59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3A949-E130-4F73-AD7A-06B23C6282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1" descr="D:\我的文档\Tencent Files\923213587\FileRecv\精读品味.gif"/>
          <p:cNvPicPr/>
          <p:nvPr/>
        </p:nvPicPr>
        <p:blipFill>
          <a:blip r:embed="rId2"/>
          <a:stretch/>
        </p:blipFill>
        <p:spPr>
          <a:xfrm>
            <a:off x="3156120" y="76320"/>
            <a:ext cx="2831760" cy="61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2A88B-C84E-4863-BA97-B350329830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24" descr="山底3.png"/>
          <p:cNvPicPr/>
          <p:nvPr/>
        </p:nvPicPr>
        <p:blipFill>
          <a:blip r:embed="rId2"/>
          <a:stretch/>
        </p:blipFill>
        <p:spPr>
          <a:xfrm>
            <a:off x="0" y="266076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3.&#35199;&#33457;&#21381;&#30340;&#28023;&#26848;&#33457;&#21448;&#24320;&#20102;%20&#26391;&#35835;.mp3" TargetMode="External"/><Relationship Id="rId2" Type="http://schemas.openxmlformats.org/officeDocument/2006/relationships/hyperlink" Target="file:///7.&#28316;&#32034;%20&#26391;&#35835;.mp3" TargetMode="External"/><Relationship Id="rId3" Type="http://schemas.openxmlformats.org/officeDocument/2006/relationships/hyperlink" Target="file:///7.&#28316;&#32034;%20&#26391;&#35835;.mp3" TargetMode="External"/><Relationship Id="rId4" Type="http://schemas.openxmlformats.org/officeDocument/2006/relationships/hyperlink" Target="file:///7.&#28316;&#32034;%20&#26391;&#35835;.mp3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3"/>
          <p:cNvSpPr/>
          <p:nvPr/>
        </p:nvSpPr>
        <p:spPr>
          <a:xfrm>
            <a:off x="7787160" y="3567600"/>
            <a:ext cx="667800" cy="120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ei"/>
              </a:rPr>
              <a:t>小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641760" y="449280"/>
            <a:ext cx="24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溜 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圆角矩形 21"/>
          <p:cNvSpPr/>
          <p:nvPr/>
        </p:nvSpPr>
        <p:spPr>
          <a:xfrm>
            <a:off x="958680" y="1281240"/>
            <a:ext cx="7226640" cy="10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18"/>
          <p:cNvSpPr/>
          <p:nvPr/>
        </p:nvSpPr>
        <p:spPr>
          <a:xfrm>
            <a:off x="14436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20"/>
          <p:cNvSpPr/>
          <p:nvPr/>
        </p:nvSpPr>
        <p:spPr>
          <a:xfrm>
            <a:off x="14436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1979640" y="1606680"/>
            <a:ext cx="517680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1"/>
          <p:cNvSpPr/>
          <p:nvPr/>
        </p:nvSpPr>
        <p:spPr>
          <a:xfrm>
            <a:off x="1508040" y="1941480"/>
            <a:ext cx="691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c9337"/>
                </a:solidFill>
                <a:latin typeface="方正姚体"/>
                <a:ea typeface="方正姚体"/>
              </a:rPr>
              <a:t>f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身     </a:t>
            </a:r>
            <a:r>
              <a:rPr b="1" lang="en-US" sz="2800" spc="-1" strike="noStrike">
                <a:solidFill>
                  <a:srgbClr val="0c9337"/>
                </a:solidFill>
                <a:latin typeface="方正姚体"/>
                <a:ea typeface="方正姚体"/>
              </a:rPr>
              <a:t>qǐ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r>
              <a:rPr b="1" lang="en-US" sz="2800" spc="-1" strike="noStrike">
                <a:solidFill>
                  <a:srgbClr val="0c9337"/>
                </a:solidFill>
                <a:latin typeface="方正姚体"/>
                <a:ea typeface="方正姚体"/>
              </a:rPr>
              <a:t>jū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）之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战战</a:t>
            </a:r>
            <a:r>
              <a:rPr b="1" lang="en-US" sz="2800" spc="-1" strike="noStrike">
                <a:solidFill>
                  <a:srgbClr val="0c9337"/>
                </a:solidFill>
                <a:latin typeface="方正姚体"/>
                <a:ea typeface="方正姚体"/>
              </a:rPr>
              <a:t>jīngjī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BS00554_"/>
          <p:cNvPicPr/>
          <p:nvPr/>
        </p:nvPicPr>
        <p:blipFill>
          <a:blip r:embed="rId1"/>
          <a:stretch/>
        </p:blipFill>
        <p:spPr>
          <a:xfrm>
            <a:off x="3211560" y="1351080"/>
            <a:ext cx="503280" cy="330120"/>
          </a:xfrm>
          <a:prstGeom prst="rect">
            <a:avLst/>
          </a:prstGeom>
          <a:ln w="0">
            <a:noFill/>
          </a:ln>
        </p:spPr>
      </p:pic>
      <p:grpSp>
        <p:nvGrpSpPr>
          <p:cNvPr id="415" name="组 53"/>
          <p:cNvGrpSpPr/>
          <p:nvPr/>
        </p:nvGrpSpPr>
        <p:grpSpPr>
          <a:xfrm>
            <a:off x="735120" y="1284120"/>
            <a:ext cx="3122640" cy="459720"/>
            <a:chOff x="735120" y="1284120"/>
            <a:chExt cx="3122640" cy="459720"/>
          </a:xfrm>
        </p:grpSpPr>
        <p:sp>
          <p:nvSpPr>
            <p:cNvPr id="416" name="圆角矩形 54"/>
            <p:cNvSpPr/>
            <p:nvPr/>
          </p:nvSpPr>
          <p:spPr>
            <a:xfrm>
              <a:off x="1220760" y="1347480"/>
              <a:ext cx="189720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椭圆 55"/>
            <p:cNvSpPr/>
            <p:nvPr/>
          </p:nvSpPr>
          <p:spPr>
            <a:xfrm>
              <a:off x="755640" y="1347480"/>
              <a:ext cx="461880" cy="34632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文本框 56"/>
            <p:cNvSpPr/>
            <p:nvPr/>
          </p:nvSpPr>
          <p:spPr>
            <a:xfrm>
              <a:off x="735120" y="128412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一写字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矩形 20"/>
          <p:cNvSpPr/>
          <p:nvPr/>
        </p:nvSpPr>
        <p:spPr>
          <a:xfrm>
            <a:off x="2303640" y="2201760"/>
            <a:ext cx="9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21"/>
          <p:cNvSpPr/>
          <p:nvPr/>
        </p:nvSpPr>
        <p:spPr>
          <a:xfrm>
            <a:off x="5460840" y="220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22"/>
          <p:cNvSpPr/>
          <p:nvPr/>
        </p:nvSpPr>
        <p:spPr>
          <a:xfrm>
            <a:off x="2830320" y="3057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23"/>
          <p:cNvSpPr/>
          <p:nvPr/>
        </p:nvSpPr>
        <p:spPr>
          <a:xfrm>
            <a:off x="4306320" y="393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兢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文本框 34"/>
          <p:cNvSpPr/>
          <p:nvPr/>
        </p:nvSpPr>
        <p:spPr>
          <a:xfrm>
            <a:off x="150840" y="11916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记一记词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1"/>
          <p:cNvSpPr/>
          <p:nvPr/>
        </p:nvSpPr>
        <p:spPr>
          <a:xfrm>
            <a:off x="808200" y="963720"/>
            <a:ext cx="76165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睹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矩形 1"/>
          <p:cNvSpPr/>
          <p:nvPr/>
        </p:nvSpPr>
        <p:spPr>
          <a:xfrm>
            <a:off x="1682640" y="963720"/>
            <a:ext cx="7182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颊的下半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两股以上条状物扭在一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力踏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犹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拿不定主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逗留；徘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1"/>
          <p:cNvSpPr/>
          <p:nvPr/>
        </p:nvSpPr>
        <p:spPr>
          <a:xfrm>
            <a:off x="952200" y="143028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腮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2"/>
          <p:cNvSpPr/>
          <p:nvPr/>
        </p:nvSpPr>
        <p:spPr>
          <a:xfrm>
            <a:off x="952200" y="201456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3"/>
          <p:cNvSpPr/>
          <p:nvPr/>
        </p:nvSpPr>
        <p:spPr>
          <a:xfrm>
            <a:off x="107624880" y="2598840"/>
            <a:ext cx="3593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绞：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4"/>
          <p:cNvSpPr/>
          <p:nvPr/>
        </p:nvSpPr>
        <p:spPr>
          <a:xfrm>
            <a:off x="947520" y="314964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5"/>
          <p:cNvSpPr/>
          <p:nvPr/>
        </p:nvSpPr>
        <p:spPr>
          <a:xfrm>
            <a:off x="1045800" y="373392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疑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矩形 6"/>
          <p:cNvSpPr/>
          <p:nvPr/>
        </p:nvSpPr>
        <p:spPr>
          <a:xfrm>
            <a:off x="1004400" y="417024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盘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1"/>
          <p:cNvSpPr/>
          <p:nvPr/>
        </p:nvSpPr>
        <p:spPr>
          <a:xfrm>
            <a:off x="0" y="922320"/>
            <a:ext cx="74851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8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探视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俯身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顷刻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千钧之力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2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战战兢兢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"/>
          <p:cNvSpPr/>
          <p:nvPr/>
        </p:nvSpPr>
        <p:spPr>
          <a:xfrm>
            <a:off x="1898640" y="922320"/>
            <a:ext cx="74851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弯腰向前向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极短的时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十斤为一钧，千钧即三万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来形容力量之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因害怕而微微发抖的样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14"/>
          <p:cNvSpPr/>
          <p:nvPr/>
        </p:nvSpPr>
        <p:spPr>
          <a:xfrm>
            <a:off x="10561680" y="3127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1263600" y="1374480"/>
            <a:ext cx="70009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请同学们听读课文，并在课本上及时做好旁批和圈点。体会作者感情，感受文章的风格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1"/>
              </a:rPr>
              <a:t>   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2"/>
              </a:rPr>
              <a:t>《溜索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3"/>
              </a:rPr>
              <a:t>》课文朗读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4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5" descr="https://timgsa.baidu.com/timg?image&amp;quality=80&amp;size=b9999_10000&amp;sec=1490781609684&amp;di=5f59ea6c0c5d3749bf1385d631e9f078&amp;imgtype=0&amp;src=http%3A%2F%2Fimg11.360buyimg.com%2FpopWaterMark%2Fjfs%2Ft262%2F327%2F20100319%2F157599%2F392cd51b%2F53e353b8N6d1ef2cf.jpg"/>
          <p:cNvPicPr/>
          <p:nvPr/>
        </p:nvPicPr>
        <p:blipFill>
          <a:blip r:embed="rId5"/>
          <a:stretch/>
        </p:blipFill>
        <p:spPr>
          <a:xfrm>
            <a:off x="1305000" y="2111400"/>
            <a:ext cx="674640" cy="506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"/>
          <p:cNvPicPr/>
          <p:nvPr/>
        </p:nvPicPr>
        <p:blipFill>
          <a:blip r:embed="rId6"/>
          <a:stretch/>
        </p:blipFill>
        <p:spPr>
          <a:xfrm>
            <a:off x="355680" y="738360"/>
            <a:ext cx="4035240" cy="642600"/>
          </a:xfrm>
          <a:prstGeom prst="rect">
            <a:avLst/>
          </a:prstGeom>
          <a:ln w="0">
            <a:noFill/>
          </a:ln>
        </p:spPr>
      </p:pic>
      <p:sp>
        <p:nvSpPr>
          <p:cNvPr id="439" name="矩形 14"/>
          <p:cNvSpPr/>
          <p:nvPr/>
        </p:nvSpPr>
        <p:spPr>
          <a:xfrm>
            <a:off x="1266840" y="3094200"/>
            <a:ext cx="6853320" cy="1652400"/>
          </a:xfrm>
          <a:prstGeom prst="rect">
            <a:avLst/>
          </a:prstGeom>
          <a:solidFill>
            <a:srgbClr val="26e606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2686680" y="3082320"/>
            <a:ext cx="3260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划分文章部分、层次分别用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双竖线、单竖线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认为用得好的词语用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方框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关键语句（或写得好的语句）用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波浪线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疑问的地方，用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问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标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 1"/>
          <p:cNvGrpSpPr/>
          <p:nvPr/>
        </p:nvGrpSpPr>
        <p:grpSpPr>
          <a:xfrm>
            <a:off x="606600" y="2630520"/>
            <a:ext cx="2579400" cy="482040"/>
            <a:chOff x="606600" y="2630520"/>
            <a:chExt cx="2579400" cy="482040"/>
          </a:xfrm>
        </p:grpSpPr>
        <p:sp>
          <p:nvSpPr>
            <p:cNvPr id="442" name="圆角矩形 17"/>
            <p:cNvSpPr/>
            <p:nvPr/>
          </p:nvSpPr>
          <p:spPr>
            <a:xfrm>
              <a:off x="1374840" y="2712960"/>
              <a:ext cx="1811160" cy="336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30"/>
            <p:cNvSpPr/>
            <p:nvPr/>
          </p:nvSpPr>
          <p:spPr>
            <a:xfrm>
              <a:off x="1622880" y="26528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圈点要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4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606600" y="2630520"/>
              <a:ext cx="1019520" cy="46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8"/>
          <p:cNvSpPr/>
          <p:nvPr/>
        </p:nvSpPr>
        <p:spPr>
          <a:xfrm>
            <a:off x="623880" y="1449360"/>
            <a:ext cx="7694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第①段有什么作用？（对应教材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6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页旁批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"/>
          <p:cNvSpPr/>
          <p:nvPr/>
        </p:nvSpPr>
        <p:spPr>
          <a:xfrm>
            <a:off x="623880" y="2187720"/>
            <a:ext cx="728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①段起笔突兀，用马、牛们的表现，一下子就把读者带入特定的情境之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3"/>
          <p:cNvSpPr/>
          <p:nvPr/>
        </p:nvSpPr>
        <p:spPr>
          <a:xfrm>
            <a:off x="957240" y="92088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②段主要运用了什么修辞手法？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"/>
          <p:cNvSpPr/>
          <p:nvPr/>
        </p:nvSpPr>
        <p:spPr>
          <a:xfrm>
            <a:off x="307800" y="1631880"/>
            <a:ext cx="83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本题运用比喻作用分析法。主要运用了比喻的修辞手法，将马帮缓慢行进的状态喻为“极稠的粥”，写出马帮的密集和移动的缓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4"/>
          <p:cNvSpPr/>
          <p:nvPr/>
        </p:nvSpPr>
        <p:spPr>
          <a:xfrm>
            <a:off x="792000" y="34920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何理解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首领也只懒懒说是怒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这句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"/>
          <p:cNvSpPr/>
          <p:nvPr/>
        </p:nvSpPr>
        <p:spPr>
          <a:xfrm>
            <a:off x="504720" y="1359000"/>
            <a:ext cx="782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句话表现首领从容不迫、胸有成竹的性格。首领的冷静、沉着与下文“我”和牛的惊恐万状形成鲜明对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4"/>
          <p:cNvSpPr/>
          <p:nvPr/>
        </p:nvSpPr>
        <p:spPr>
          <a:xfrm>
            <a:off x="415800" y="79200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④段语言有什么特点？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矩形 1"/>
          <p:cNvSpPr/>
          <p:nvPr/>
        </p:nvSpPr>
        <p:spPr>
          <a:xfrm>
            <a:off x="157320" y="1854360"/>
            <a:ext cx="867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段文字多用短句，读来节奏感强。如“山不高，口极狭”“心下大惑”“抽一口气”语言干净、洗练，写出了山势的险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8"/>
          <p:cNvSpPr/>
          <p:nvPr/>
        </p:nvSpPr>
        <p:spPr>
          <a:xfrm>
            <a:off x="426960" y="22212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⑤段运用了什么表现手法写绝壁？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矩形 1"/>
          <p:cNvSpPr/>
          <p:nvPr/>
        </p:nvSpPr>
        <p:spPr>
          <a:xfrm>
            <a:off x="176040" y="1008000"/>
            <a:ext cx="862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里作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化静为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赋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绝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态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有力地表现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峡谷的深邃陡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的特点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让人触目惊心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后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写牛们的胆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作了铺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如何理解第⑥段中的画线句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"/>
          <p:cNvSpPr/>
          <p:nvPr/>
        </p:nvSpPr>
        <p:spPr>
          <a:xfrm>
            <a:off x="1263600" y="180972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了烘托的手法，通过“我”远眺怒江感觉“深远似涓涓细流”、俯望那江“蓦地心中一颤”“惨叫一声”烘托出峡谷的险峻，让读者如临其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1290600" y="879480"/>
            <a:ext cx="65628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里直接写“索”，有什么作用？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7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"/>
          <p:cNvSpPr/>
          <p:nvPr/>
        </p:nvSpPr>
        <p:spPr>
          <a:xfrm>
            <a:off x="1263600" y="24620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表明索的结实；二表明索所处位置的险要；三突出索的重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如何理解“首领瞟一眼汉子们”中的“瞟”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1"/>
          <p:cNvSpPr/>
          <p:nvPr/>
        </p:nvSpPr>
        <p:spPr>
          <a:xfrm>
            <a:off x="1179360" y="21574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首领的“瞟”是无声命令，表现了首领受人尊敬的地位，也体现出他和汉子们配合默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会第⑩段中，写瘦小汉子溜索过程中“小”字的精妙。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1"/>
          <p:cNvSpPr/>
          <p:nvPr/>
        </p:nvSpPr>
        <p:spPr>
          <a:xfrm>
            <a:off x="1179360" y="215748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写瘦小汉子“脚一用力，飞身离岸，嗖的一下小过去”，将人在溜索之上，快速经过怒江峡谷时，人愈来愈小的视觉感受和情状传神地表现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⑫段运用了什么描写方法写溜索的瘦小汉子？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1"/>
          <p:cNvSpPr/>
          <p:nvPr/>
        </p:nvSpPr>
        <p:spPr>
          <a:xfrm>
            <a:off x="1179360" y="23511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了动作描写，表现了瘦小汉子溜索动作的熟练、利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3"/>
          <p:cNvSpPr/>
          <p:nvPr/>
        </p:nvSpPr>
        <p:spPr>
          <a:xfrm>
            <a:off x="730080" y="9320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第⑮ ⑯段作者为什么细写牛的情状？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1"/>
          <p:cNvSpPr/>
          <p:nvPr/>
        </p:nvSpPr>
        <p:spPr>
          <a:xfrm>
            <a:off x="1179360" y="23511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细写牛的情状，一方面是写出牛溜索前后惊恐失态之状，烘托出峡谷的险恶；另一方面用这些牛反衬出溜索的汉子们的动作熟练，性格沉着、果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3"/>
          <p:cNvSpPr/>
          <p:nvPr/>
        </p:nvSpPr>
        <p:spPr>
          <a:xfrm>
            <a:off x="730080" y="932040"/>
            <a:ext cx="745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哪些词句写出了“我”溜索时的惊险？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9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矩形 1"/>
          <p:cNvSpPr/>
          <p:nvPr/>
        </p:nvSpPr>
        <p:spPr>
          <a:xfrm>
            <a:off x="1179360" y="235116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 聋了一般”“ 僵着脖颈盯住天”“又透远得欲呕”“手划出血来”“撕得钻心一疼”“血溅到唇上、鼻子”等词句写出了“我”溜索时的惊险情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3"/>
          <p:cNvSpPr/>
          <p:nvPr/>
        </p:nvSpPr>
        <p:spPr>
          <a:xfrm>
            <a:off x="730080" y="113508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眼纹一直扯到耳边”中的“扯”字有何表达效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"/>
          <p:cNvSpPr/>
          <p:nvPr/>
        </p:nvSpPr>
        <p:spPr>
          <a:xfrm>
            <a:off x="1179360" y="23511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“扯”字，活画出汉子笑看胆小者的神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3"/>
          <p:cNvSpPr/>
          <p:nvPr/>
        </p:nvSpPr>
        <p:spPr>
          <a:xfrm>
            <a:off x="730080" y="113508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回身却见首领早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飞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到索头，抽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跃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腿弹一弹，走到汉子们跟前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赏析加线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1"/>
          <p:cNvSpPr/>
          <p:nvPr/>
        </p:nvSpPr>
        <p:spPr>
          <a:xfrm>
            <a:off x="1179360" y="235116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飞”“跃”“拐”“弹”等词语，将马帮首领溜索、下索的麻利动作和气定神闲刻画得非常鲜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3"/>
          <p:cNvSpPr/>
          <p:nvPr/>
        </p:nvSpPr>
        <p:spPr>
          <a:xfrm>
            <a:off x="730080" y="90648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里描写马帮汉子对怒江撒尿的情景有何表达效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矩形 1"/>
          <p:cNvSpPr/>
          <p:nvPr/>
        </p:nvSpPr>
        <p:spPr>
          <a:xfrm>
            <a:off x="1179360" y="171612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里作者将马帮汉子对怒江撒尿的情景，写得很逼真，而且将“万丈下的怒江”喻为“一股尿水，细细流着”，看似粗俗，实则很有表现力，将马帮汉子的豪放粗野，俯瞰万丈峡谷之下的怒江的情景逼真地表现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3"/>
          <p:cNvSpPr/>
          <p:nvPr/>
        </p:nvSpPr>
        <p:spPr>
          <a:xfrm>
            <a:off x="730080" y="90648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文章第三次写鹰，有什么作用？（对应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9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页旁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矩形 1"/>
          <p:cNvSpPr/>
          <p:nvPr/>
        </p:nvSpPr>
        <p:spPr>
          <a:xfrm>
            <a:off x="1179360" y="22622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鹰映衬首领的形象，也表明首领的眼力好、经验丰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4"/>
          <p:cNvSpPr/>
          <p:nvPr/>
        </p:nvSpPr>
        <p:spPr>
          <a:xfrm>
            <a:off x="10561680" y="3127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1555920" y="934920"/>
            <a:ext cx="603216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3"/>
          <p:cNvSpPr/>
          <p:nvPr/>
        </p:nvSpPr>
        <p:spPr>
          <a:xfrm>
            <a:off x="730080" y="906480"/>
            <a:ext cx="75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文章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段，写牛们“急急地要离开这里”，“我”“才觉出一身黏汗”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"/>
          <p:cNvSpPr/>
          <p:nvPr/>
        </p:nvSpPr>
        <p:spPr>
          <a:xfrm>
            <a:off x="1179360" y="226224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答案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写牛们溜索后急急地要离开峡谷边，显示出它们仍然惊魂未定，写“我”出一身黏汗，显示出“我”刚才经历的惊险刺激，从侧面更加烘托出怒江峡谷的非同寻常的险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4"/>
          <p:cNvSpPr/>
          <p:nvPr/>
        </p:nvSpPr>
        <p:spPr>
          <a:xfrm>
            <a:off x="896760" y="2313000"/>
            <a:ext cx="7507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【答案】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写牛不肯挪动半步的恐惧和溜索时流泪发抖的情状，从侧面表现怒江峡谷的高峻、险恶；与“我”“战战兢兢”互相映衬；又与首领及汉子的勇敢无畏形成反衬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569880" y="1512720"/>
            <a:ext cx="784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难点探究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文中用不少笔墨写牛，说说这对表现环境和刻画人物各有什么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968400" y="1716120"/>
            <a:ext cx="74008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【答案】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深刻意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飞渡峡谷的情景：表现人在自然面前接受挑战，战胜艰险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马帮的人际关系：体现团结协作，相互信任，关心爱护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动物形象：隐喻人应该像雄鹰飞翔、像骏马奔驰，而不是像牛那样软弱畏缩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“我”与首领的对照：表示人会在艰苦磨练中成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608040" y="857160"/>
            <a:ext cx="7862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难点探究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本文写了马帮飞渡峡谷的故事，请探究其中的深刻意蕴和作者的情感倾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4"/>
          <p:cNvSpPr/>
          <p:nvPr/>
        </p:nvSpPr>
        <p:spPr>
          <a:xfrm>
            <a:off x="968400" y="1596960"/>
            <a:ext cx="74008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情感倾向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骏马、雄鹰、高山峡谷：对雄奇、险峻、崇高的赞美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首领、瘦小汉子：对乐观向上的人生态度的赞美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牛的恐惧、发抖：对平庸、畏难的厌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Times New Roman"/>
              </a:rPr>
              <a:t>）本文所写生存画面：张扬了原始、野性的阳刚之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9"/>
          <p:cNvSpPr/>
          <p:nvPr/>
        </p:nvSpPr>
        <p:spPr>
          <a:xfrm>
            <a:off x="6676920" y="1917720"/>
            <a:ext cx="1057320" cy="1935000"/>
          </a:xfrm>
          <a:custGeom>
            <a:avLst/>
            <a:gdLst>
              <a:gd name="textAreaLeft" fmla="*/ 40320 w 1057320"/>
              <a:gd name="textAreaRight" fmla="*/ 1017000 w 1057320"/>
              <a:gd name="textAreaTop" fmla="*/ 40320 h 1935000"/>
              <a:gd name="textAreaBottom" fmla="*/ 1894680 h 1935000"/>
            </a:gdLst>
            <a:ahLst/>
            <a:rect l="textAreaLeft" t="textAreaTop" r="textAreaRight" b="textAreaBottom"/>
            <a:pathLst>
              <a:path w="21600" h="39524">
                <a:moveTo>
                  <a:pt x="2835" y="0"/>
                </a:moveTo>
                <a:arcTo wR="2835" hR="2835" stAng="16200000" swAng="-5400000"/>
                <a:lnTo>
                  <a:pt x="0" y="36689"/>
                </a:lnTo>
                <a:arcTo wR="2835" hR="2835" stAng="10800000" swAng="-5400000"/>
                <a:lnTo>
                  <a:pt x="18765" y="39524"/>
                </a:lnTo>
                <a:arcTo wR="2835" hR="2835" stAng="5400000" swAng="-5400000"/>
                <a:lnTo>
                  <a:pt x="21600" y="2835"/>
                </a:lnTo>
                <a:arcTo wR="2835" hR="2835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13"/>
          <p:cNvSpPr/>
          <p:nvPr/>
        </p:nvSpPr>
        <p:spPr>
          <a:xfrm>
            <a:off x="10761840" y="16905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组合 23"/>
          <p:cNvGrpSpPr/>
          <p:nvPr/>
        </p:nvGrpSpPr>
        <p:grpSpPr>
          <a:xfrm>
            <a:off x="1208160" y="2619360"/>
            <a:ext cx="840960" cy="488880"/>
            <a:chOff x="1208160" y="2619360"/>
            <a:chExt cx="840960" cy="488880"/>
          </a:xfrm>
        </p:grpSpPr>
        <p:sp>
          <p:nvSpPr>
            <p:cNvPr id="487" name="AutoShape 9"/>
            <p:cNvSpPr/>
            <p:nvPr/>
          </p:nvSpPr>
          <p:spPr>
            <a:xfrm rot="5400000">
              <a:off x="1384560" y="2443680"/>
              <a:ext cx="488880" cy="839880"/>
            </a:xfrm>
            <a:custGeom>
              <a:avLst/>
              <a:gdLst>
                <a:gd name="textAreaLeft" fmla="*/ 18720 w 488880"/>
                <a:gd name="textAreaRight" fmla="*/ 470160 w 488880"/>
                <a:gd name="textAreaTop" fmla="*/ 18720 h 839880"/>
                <a:gd name="textAreaBottom" fmla="*/ 821160 h 839880"/>
              </a:gdLst>
              <a:ahLst/>
              <a:rect l="textAreaLeft" t="textAreaTop" r="textAreaRight" b="textAreaBottom"/>
              <a:pathLst>
                <a:path w="21600" h="37097">
                  <a:moveTo>
                    <a:pt x="2835" y="0"/>
                  </a:moveTo>
                  <a:arcTo wR="2835" hR="2835" stAng="16200000" swAng="-5400000"/>
                  <a:lnTo>
                    <a:pt x="0" y="34262"/>
                  </a:lnTo>
                  <a:arcTo wR="2835" hR="2835" stAng="10800000" swAng="-5400000"/>
                  <a:lnTo>
                    <a:pt x="18765" y="37097"/>
                  </a:lnTo>
                  <a:arcTo wR="2835" hR="2835" stAng="5400000" swAng="-5400000"/>
                  <a:lnTo>
                    <a:pt x="21600" y="2835"/>
                  </a:lnTo>
                  <a:arcTo wR="2835" hR="2835" stAng="0" swAng="-5400000"/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47"/>
            <p:cNvSpPr/>
            <p:nvPr/>
          </p:nvSpPr>
          <p:spPr>
            <a:xfrm>
              <a:off x="1208160" y="2628720"/>
              <a:ext cx="8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c9337"/>
                  </a:solidFill>
                  <a:latin typeface="宋体"/>
                </a:rPr>
                <a:t>溜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Rectangle 23"/>
          <p:cNvSpPr/>
          <p:nvPr/>
        </p:nvSpPr>
        <p:spPr>
          <a:xfrm>
            <a:off x="0" y="-126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矩形 49"/>
          <p:cNvSpPr/>
          <p:nvPr/>
        </p:nvSpPr>
        <p:spPr>
          <a:xfrm>
            <a:off x="6775560" y="1908000"/>
            <a:ext cx="9586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镇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勇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左大括号 36"/>
          <p:cNvSpPr/>
          <p:nvPr/>
        </p:nvSpPr>
        <p:spPr>
          <a:xfrm flipH="1" rot="10800000">
            <a:off x="2190600" y="1837800"/>
            <a:ext cx="325440" cy="2001960"/>
          </a:xfrm>
          <a:custGeom>
            <a:avLst/>
            <a:gdLst>
              <a:gd name="textAreaLeft" fmla="*/ 208440 w 325440"/>
              <a:gd name="textAreaRight" fmla="*/ 326160 w 325440"/>
              <a:gd name="textAreaTop" fmla="*/ 8280 h 2001960"/>
              <a:gd name="textAreaBottom" fmla="*/ 1993680 h 200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296"/>
                </a:lnTo>
                <a:cubicBezTo>
                  <a:pt x="10800" y="10443"/>
                  <a:pt x="5400" y="10589"/>
                  <a:pt x="0" y="10589"/>
                </a:cubicBezTo>
                <a:cubicBezTo>
                  <a:pt x="5400" y="10589"/>
                  <a:pt x="10800" y="10736"/>
                  <a:pt x="10800" y="10882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左大括号 73"/>
          <p:cNvSpPr/>
          <p:nvPr/>
        </p:nvSpPr>
        <p:spPr>
          <a:xfrm rot="10800000">
            <a:off x="6362640" y="1854000"/>
            <a:ext cx="230400" cy="2006280"/>
          </a:xfrm>
          <a:custGeom>
            <a:avLst/>
            <a:gdLst>
              <a:gd name="textAreaLeft" fmla="*/ 147240 w 230400"/>
              <a:gd name="textAreaRight" fmla="*/ 230760 w 230400"/>
              <a:gd name="textAreaTop" fmla="*/ 5760 h 2006280"/>
              <a:gd name="textAreaBottom" fmla="*/ 2000520 h 200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6"/>
                </a:cubicBezTo>
                <a:lnTo>
                  <a:pt x="10800" y="10383"/>
                </a:lnTo>
                <a:cubicBezTo>
                  <a:pt x="10800" y="10486"/>
                  <a:pt x="5400" y="10589"/>
                  <a:pt x="0" y="10589"/>
                </a:cubicBezTo>
                <a:cubicBezTo>
                  <a:pt x="5400" y="10589"/>
                  <a:pt x="10800" y="10692"/>
                  <a:pt x="10800" y="10795"/>
                </a:cubicBezTo>
                <a:lnTo>
                  <a:pt x="10800" y="21394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49"/>
          <p:cNvSpPr/>
          <p:nvPr/>
        </p:nvSpPr>
        <p:spPr>
          <a:xfrm>
            <a:off x="2478240" y="1706400"/>
            <a:ext cx="517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开端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达怒江，准备溜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发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首领指挥，决定溜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高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溜索过程，惊险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结局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顺利完成，再次上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12" descr=""/>
          <p:cNvPicPr/>
          <p:nvPr/>
        </p:nvPicPr>
        <p:blipFill>
          <a:blip r:embed="rId1"/>
          <a:stretch/>
        </p:blipFill>
        <p:spPr>
          <a:xfrm>
            <a:off x="604800" y="958680"/>
            <a:ext cx="403560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文本框 13"/>
          <p:cNvSpPr/>
          <p:nvPr/>
        </p:nvSpPr>
        <p:spPr>
          <a:xfrm>
            <a:off x="10748880" y="170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965160" y="15764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本文讲述马帮飞渡峡谷的故事，既突出了怒江峡谷的孤悬、高峻、险恶，又表现了马帮汉子沉着、冷静、从容的姿态，写出了作者对马帮汉子粗犷豪迈、勇敢无畏的精神的钦敬和赞颂，突出表现了人在自然面前接受挑战，战胜艰险的气定神闲的姿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12" descr=""/>
          <p:cNvPicPr/>
          <p:nvPr/>
        </p:nvPicPr>
        <p:blipFill>
          <a:blip r:embed="rId1"/>
          <a:stretch/>
        </p:blipFill>
        <p:spPr>
          <a:xfrm>
            <a:off x="743040" y="1046160"/>
            <a:ext cx="403524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13"/>
          <p:cNvSpPr/>
          <p:nvPr/>
        </p:nvSpPr>
        <p:spPr>
          <a:xfrm>
            <a:off x="10761840" y="17668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14"/>
          <p:cNvSpPr/>
          <p:nvPr/>
        </p:nvSpPr>
        <p:spPr>
          <a:xfrm>
            <a:off x="10561680" y="31399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893880" y="1270080"/>
            <a:ext cx="2817720" cy="376200"/>
          </a:xfrm>
          <a:custGeom>
            <a:avLst/>
            <a:gdLst>
              <a:gd name="textAreaLeft" fmla="*/ 0 w 2817720"/>
              <a:gd name="textAreaRight" fmla="*/ 2818080 w 2817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2" y="0"/>
                </a:lnTo>
                <a:lnTo>
                  <a:pt x="21600" y="10800"/>
                </a:lnTo>
                <a:lnTo>
                  <a:pt x="20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855720" y="1130400"/>
            <a:ext cx="7488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侧面烘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文想通过写怒江峡谷的地势险恶反衬马帮汉子沉着冷静、从容淡定的姿态。而对怒江峡谷地势险恶直接描写的句子很少，都是通过动物的反应、“我”的观察和感觉来表现的。牛的恐惧，“我”的恐惧，“我”看汉子溜索时的恐惧，诸多恐惧叠加在一起，更加从侧面烘托出怒江峡谷的地势险恶，烘托出溜索难度之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48164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13"/>
          <p:cNvSpPr/>
          <p:nvPr/>
        </p:nvSpPr>
        <p:spPr>
          <a:xfrm>
            <a:off x="10761840" y="17542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0561680" y="3127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885960" y="1046160"/>
            <a:ext cx="2946240" cy="37620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8" y="0"/>
                </a:lnTo>
                <a:lnTo>
                  <a:pt x="21600" y="10800"/>
                </a:lnTo>
                <a:lnTo>
                  <a:pt x="205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906480" y="919080"/>
            <a:ext cx="7407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传神的描写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本文对诸多事物都有传神的描写，首领的“懒懒”是一种沉着、从容的表现，“死也不肯再走”“皮肉乱抖”表现出牛们的极端恐惧，“惨叫”“手划出血来”“腿子抖得站不住”突出“我”的恐惧，“一缕黑烟”“弯弯”描摹了马帮汉子溜索的利索、洒脱，鹰的“斜移着”“一栽身”“一鼓一鼓地扇动”等，写出了鹰的从容淡定、自由翱翔的姿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806400" y="861840"/>
            <a:ext cx="739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阿城的小说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溜索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，以其独特的视角，用传神凝练的语言，舒徐有致的节奏，层层烘托，表现了滇西马帮的生活。小说的语言艺术值得体味。具体表现在以下几个方面。用词凝练，以上胜多。诗歌的语言讲究凝练含蓄，小说同样如此。这有利于节省笔墨，以少胜多，传神地刻画人物形象。“阿城的小说语言，近乎中国文学中的古典诗的手法。明白一点说，阿城的小说语言的特色是：说的少，说的淡，说的轻。”（郭枫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超以象外，得其环中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略测钟阿城的小说世界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）这个评价是切中肯綮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7" descr="画卷.png"/>
          <p:cNvPicPr/>
          <p:nvPr/>
        </p:nvPicPr>
        <p:blipFill>
          <a:blip r:embed="rId1"/>
          <a:stretch/>
        </p:blipFill>
        <p:spPr>
          <a:xfrm>
            <a:off x="266760" y="1089000"/>
            <a:ext cx="8597880" cy="38098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949320" y="2127960"/>
            <a:ext cx="7232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亦余心之所善兮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虽九死其犹未悔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屈原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离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生当作人杰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死亦为鬼雄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宋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清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夏日绝句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长风破浪会有时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直挂云帆济沧海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白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行路难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生自古谁无死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留取丹心照汗青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宋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文天祥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过零丁洋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14" descr=""/>
          <p:cNvPicPr/>
          <p:nvPr/>
        </p:nvPicPr>
        <p:blipFill>
          <a:blip r:embed="rId2"/>
          <a:stretch/>
        </p:blipFill>
        <p:spPr>
          <a:xfrm>
            <a:off x="601560" y="919080"/>
            <a:ext cx="48164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14"/>
          <p:cNvSpPr/>
          <p:nvPr/>
        </p:nvSpPr>
        <p:spPr>
          <a:xfrm>
            <a:off x="10561680" y="3127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1270080" y="965160"/>
            <a:ext cx="654516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14"/>
          <p:cNvSpPr/>
          <p:nvPr/>
        </p:nvSpPr>
        <p:spPr>
          <a:xfrm>
            <a:off x="10561680" y="3127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3"/>
          <p:cNvSpPr/>
          <p:nvPr/>
        </p:nvSpPr>
        <p:spPr>
          <a:xfrm>
            <a:off x="179280" y="693720"/>
            <a:ext cx="878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云南怒江大峡谷，被称为“东方大峡谷”，世界三大峡谷之一。峡谷的东面是被称为“万瀑千湖之山”的碧罗雪山，西部是中缅边境千里之防的高黎贡山，谷底是奔腾咆哮的怒江。怒江没有船，惊涛怒浪上小船无法横渡，两岸居民过江，从前主要靠“溜索”桥。那么，什么是溜索呢？请大家自由朗读课文，跟随作者的描述去感受这种让人惊心动魄的过河方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1"/>
          <p:cNvSpPr/>
          <p:nvPr/>
        </p:nvSpPr>
        <p:spPr>
          <a:xfrm>
            <a:off x="655560" y="3322800"/>
            <a:ext cx="468360" cy="35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47640" y="2763720"/>
            <a:ext cx="468360" cy="35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47640" y="2228760"/>
            <a:ext cx="468360" cy="35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647640" y="1679400"/>
            <a:ext cx="468360" cy="35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1"/>
          <p:cNvSpPr/>
          <p:nvPr/>
        </p:nvSpPr>
        <p:spPr>
          <a:xfrm>
            <a:off x="698400" y="1498680"/>
            <a:ext cx="753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了解作者，熟读课文，从整体上把握文章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品味文章语言，体会传神的描写和用词的精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掌握并灵活运用化静为动的写作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学会运用语言、动作、神态描写等多种描写方法综合写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16"/>
          <p:cNvSpPr/>
          <p:nvPr/>
        </p:nvSpPr>
        <p:spPr>
          <a:xfrm>
            <a:off x="7812720" y="1506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7795440" y="20638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18"/>
          <p:cNvSpPr/>
          <p:nvPr/>
        </p:nvSpPr>
        <p:spPr>
          <a:xfrm>
            <a:off x="6483960" y="26082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文本框 13"/>
          <p:cNvSpPr/>
          <p:nvPr/>
        </p:nvSpPr>
        <p:spPr>
          <a:xfrm>
            <a:off x="10761840" y="175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4"/>
          <p:cNvSpPr/>
          <p:nvPr/>
        </p:nvSpPr>
        <p:spPr>
          <a:xfrm>
            <a:off x="10561680" y="3127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0" y="-126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019400" y="1515960"/>
            <a:ext cx="45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城，原名钟阿城，中国当代作家。北京人，出生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49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8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开始创作。主要作品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棋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遍地风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识与通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闲话闲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96800" y="884160"/>
            <a:ext cx="4035600" cy="644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2"/>
          <a:stretch/>
        </p:blipFill>
        <p:spPr>
          <a:xfrm>
            <a:off x="1017720" y="1617840"/>
            <a:ext cx="279216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1"/>
          <p:cNvSpPr/>
          <p:nvPr/>
        </p:nvSpPr>
        <p:spPr>
          <a:xfrm>
            <a:off x="1000080" y="1249200"/>
            <a:ext cx="74660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文选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遍地风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略有改动。云南怒江大峡谷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被称为“东方大峡谷”。峡谷的东面是被称为“万瀑千湖之山”的碧罗雪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西面是中缅边境千里边防的高黎贡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谷底是奔腾咆哮的怒江。怒江没有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惊涛怒浪上小船无法横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岸居民过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从前主要靠“溜索”桥。小说以其独特的视角，用传神凝练的语言，舒徐有致的节奏，层层烘托，表现了滇西马帮的生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682560" y="744480"/>
            <a:ext cx="4035600" cy="64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"/>
          <p:cNvSpPr/>
          <p:nvPr/>
        </p:nvSpPr>
        <p:spPr>
          <a:xfrm>
            <a:off x="1366920" y="218448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刻    盘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桓</a:t>
            </a: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绞</a:t>
            </a:r>
            <a:r>
              <a:rPr b="1" lang="zh-CN" sz="2800" spc="-1" strike="noStrike">
                <a:solidFill>
                  <a:srgbClr val="0c9337"/>
                </a:solidFill>
                <a:latin typeface="宋体"/>
              </a:rPr>
              <a:t>      </a:t>
            </a:r>
            <a:r>
              <a:rPr b="1" lang="zh-CN" sz="2800" spc="-1" strike="noStrike" u="sng">
                <a:solidFill>
                  <a:srgbClr val="0c9337"/>
                </a:solidFill>
                <a:uFillTx/>
                <a:latin typeface="宋体"/>
              </a:rPr>
              <a:t>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6" descr="BS00554_"/>
          <p:cNvPicPr/>
          <p:nvPr/>
        </p:nvPicPr>
        <p:blipFill>
          <a:blip r:embed="rId1"/>
          <a:stretch/>
        </p:blipFill>
        <p:spPr>
          <a:xfrm>
            <a:off x="3097080" y="1033560"/>
            <a:ext cx="503280" cy="330120"/>
          </a:xfrm>
          <a:prstGeom prst="rect">
            <a:avLst/>
          </a:prstGeom>
          <a:ln w="0">
            <a:noFill/>
          </a:ln>
        </p:spPr>
      </p:pic>
      <p:grpSp>
        <p:nvGrpSpPr>
          <p:cNvPr id="404" name="组 53"/>
          <p:cNvGrpSpPr/>
          <p:nvPr/>
        </p:nvGrpSpPr>
        <p:grpSpPr>
          <a:xfrm>
            <a:off x="608040" y="1004760"/>
            <a:ext cx="3122640" cy="459720"/>
            <a:chOff x="608040" y="1004760"/>
            <a:chExt cx="3122640" cy="459720"/>
          </a:xfrm>
        </p:grpSpPr>
        <p:sp>
          <p:nvSpPr>
            <p:cNvPr id="405" name="圆角矩形 54"/>
            <p:cNvSpPr/>
            <p:nvPr/>
          </p:nvSpPr>
          <p:spPr>
            <a:xfrm>
              <a:off x="1106280" y="1029960"/>
              <a:ext cx="189720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 55"/>
            <p:cNvSpPr/>
            <p:nvPr/>
          </p:nvSpPr>
          <p:spPr>
            <a:xfrm>
              <a:off x="641160" y="1029960"/>
              <a:ext cx="461880" cy="346320"/>
            </a:xfrm>
            <a:prstGeom prst="ellipse">
              <a:avLst/>
            </a:prstGeom>
            <a:gradFill rotWithShape="0">
              <a:gsLst>
                <a:gs pos="0">
                  <a:srgbClr val="c3dd96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文本框 56"/>
            <p:cNvSpPr/>
            <p:nvPr/>
          </p:nvSpPr>
          <p:spPr>
            <a:xfrm>
              <a:off x="608040" y="100476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黑体 Std R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一读字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矩形 30"/>
          <p:cNvSpPr/>
          <p:nvPr/>
        </p:nvSpPr>
        <p:spPr>
          <a:xfrm>
            <a:off x="1174680" y="2106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ǐ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1"/>
          <p:cNvSpPr/>
          <p:nvPr/>
        </p:nvSpPr>
        <p:spPr>
          <a:xfrm>
            <a:off x="2931480" y="21319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32"/>
          <p:cNvSpPr/>
          <p:nvPr/>
        </p:nvSpPr>
        <p:spPr>
          <a:xfrm>
            <a:off x="4165920" y="21319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35"/>
          <p:cNvSpPr/>
          <p:nvPr/>
        </p:nvSpPr>
        <p:spPr>
          <a:xfrm>
            <a:off x="5550840" y="213192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ā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"/>
          <p:cNvSpPr/>
          <p:nvPr/>
        </p:nvSpPr>
        <p:spPr>
          <a:xfrm>
            <a:off x="9804240" y="2446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23:26Z</dcterms:created>
  <dc:creator>apple apple</dc:creator>
  <dc:description/>
  <dc:language>en-US</dc:language>
  <cp:lastModifiedBy>微软用户</cp:lastModifiedBy>
  <dcterms:modified xsi:type="dcterms:W3CDTF">2019-03-02T02:03:56Z</dcterms:modified>
  <cp:revision>449</cp:revision>
  <dc:subject/>
  <dc:title>PowerPoint 演示文稿</dc:title>
</cp:coreProperties>
</file>