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type.wav" ContentType="audio/x-wav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4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e8f3fe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90720"/>
            <a:ext cx="914400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86200"/>
            <a:ext cx="9144000" cy="29718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391520" y="152280"/>
            <a:ext cx="258480" cy="2383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94640" y="611280"/>
            <a:ext cx="358920" cy="3222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4880" y="120600"/>
            <a:ext cx="509760" cy="4683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556000" y="2205000"/>
            <a:ext cx="5472000" cy="10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楷体_GB2312"/>
              </a:rPr>
              <a:t>懒惰的智慧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3" name=""/>
          <p:cNvSpPr/>
          <p:nvPr/>
        </p:nvSpPr>
        <p:spPr>
          <a:xfrm>
            <a:off x="6588000" y="424332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4"/>
                </a:solidFill>
                <a:latin typeface="Times New Roman"/>
                <a:ea typeface="楷体_GB2312"/>
              </a:rPr>
              <a:t>凯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3" name="typ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4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68360" y="260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梳理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1197000"/>
            <a:ext cx="77040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第一部分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1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自然段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提出论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正是懒惰激励了发明，促进了人类进步。并侧重论证懒惰激励了发明，即没有我们的这些懒汉，勤劳的人面对的恐怕只会是单调乏味的劳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500544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第二部分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6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段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论证“懒惰促进了人类进步”，即没有我们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的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这些懒汉，恐怕就没有社会的进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19920" y="3637080"/>
            <a:ext cx="279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第一层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1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段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论据：社会普遍现象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第二层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4-5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段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论据：个别典型事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11200016736984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71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4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39640" y="1890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自主探究    品味语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054080"/>
            <a:ext cx="8642160" cy="31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例一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：第四自然段举了汉弗莱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波特发明阀门的事例，以“人家雇他整天坐在一台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讨厌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的蒸汽发动机旁边”写波特发明前工作的无奈；以“他是个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懒汉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，觉得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这活太累人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”写他萌发发明念头的初衷；以“不但他可以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脱身走人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玩个痛快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，而且发动机的功率也提高了一倍”写他发明后的潇洒；以“他就这样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懒洋洋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地发现了往复式发动机活塞的原理”总结他的成果。在此，“懒汉”波特其人，简直呼之欲出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体会上述红色部分的文字有什么表达效果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558972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特点一：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生动传神又不乏幽默的反映了波特“懒汉的智慧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4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66560" y="1197000"/>
            <a:ext cx="81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楷体_GB2312"/>
                <a:ea typeface="楷体_GB2312"/>
              </a:rPr>
              <a:t>例二：（</a:t>
            </a:r>
            <a:r>
              <a:rPr b="1" lang="zh-CN" sz="3200" spc="-1" strike="noStrike">
                <a:solidFill>
                  <a:srgbClr val="3366cc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3366cc"/>
                </a:solidFill>
                <a:latin typeface="楷体_GB2312"/>
                <a:ea typeface="楷体_GB2312"/>
              </a:rPr>
              <a:t>）他总是一次就把餐具都送到餐桌上，他讨厌哪怕多走半步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9640" y="5086440"/>
            <a:ext cx="8062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Tahoma"/>
                <a:ea typeface="楷体_GB2312"/>
              </a:rPr>
              <a:t>特点三：</a:t>
            </a:r>
            <a:r>
              <a:rPr b="1" lang="zh-CN" sz="3200" spc="-1" strike="noStrike">
                <a:solidFill>
                  <a:srgbClr val="ff0066"/>
                </a:solidFill>
                <a:latin typeface="Tahoma"/>
                <a:ea typeface="楷体_GB2312"/>
              </a:rPr>
              <a:t>语言亲切动人，如话家常，具有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  <a:ea typeface="楷体_GB2312"/>
              </a:rPr>
              <a:t>郁的生活气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2880" y="3530520"/>
            <a:ext cx="860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Arial"/>
                <a:ea typeface="楷体_GB2312"/>
              </a:rPr>
              <a:t>例三：</a:t>
            </a:r>
            <a:r>
              <a:rPr b="1" lang="zh-CN" sz="3200" spc="-1" strike="noStrike">
                <a:solidFill>
                  <a:srgbClr val="3366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3366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3366cc"/>
                </a:solidFill>
                <a:latin typeface="楷体_GB2312"/>
                <a:ea typeface="楷体_GB2312"/>
              </a:rPr>
              <a:t>）她小心翼翼地把碗摞得高高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楷体_GB2312"/>
                <a:ea typeface="楷体_GB2312"/>
              </a:rPr>
              <a:t>这时妈妈冷言冷语地责备说：“真是懒汉干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楷体_GB2312"/>
                <a:ea typeface="楷体_GB2312"/>
              </a:rPr>
              <a:t>儿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37760" y="2347560"/>
            <a:ext cx="505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Arial"/>
                <a:ea typeface="楷体_GB2312"/>
              </a:rPr>
              <a:t>特点二：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这个句子闪烁着俏皮的智慧的光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表意准确，生动传神，幽默风趣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4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7576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系实际  拓展思维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136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作者在文章中证明了这样一个观点：正是懒惰激励了发明。你能结合日常所见的事例来证实作者的这一观点吗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2889360"/>
            <a:ext cx="8567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联系课文，本文中的“懒惰”是指我们通常所理解的不爱劳动，不爱工作吗？若不是，请你尽可能用形象、通俗、富于哲理的话说说文中“懒惰”的含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4724280"/>
            <a:ext cx="7632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结合文中“懒惰”的含义，请你谈谈这篇文章对我们的学习有什么启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4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2928240"/>
            <a:ext cx="88200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．人们研究发现，我们生活中所消费的新商品</a:t>
            </a: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40%</a:t>
            </a: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以上都是原有商品不同功能的叠加——以满足消费者贪图“懒惰”的愿望。如我们习以为常的方便碗面，不过是将加工熟的面条与聚酯碗、调料、塑料叉加在一起而已，但运用了创新思维就诞生了一个巨大的快餐市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四川的农民贪图“懒惰”用洗衣机洗榨菜，常常造成出水管堵塞。为了满足农民的需要，海尔研究人员将销往四川的洗衣机出水管加粗到洗蔬菜不堵塞。海尔洗衣机顺理成章在四川畅销。（傻瓜照相机、不粘胶贴纸、点钞机、银行卡、带轮子和拉手的箱包，现代农业使用的喷灌、滴灌，一次性针筒、尿布、消毒纸巾</a:t>
            </a:r>
            <a:r>
              <a:rPr b="1" lang="en-US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4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63640" y="1279440"/>
            <a:ext cx="745344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、还有最近比较流行的懒人部落里的一些产品，比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6920" y="2492280"/>
            <a:ext cx="33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懒人擦地拖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6920" y="321300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绿色环保床上电脑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26920" y="3857760"/>
            <a:ext cx="380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懒汉洗脚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01080" y="44370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4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3168360" cy="28670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55640" y="461160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款拖鞋的特别处就是可以一边走路，一边拖地，令您的居家环境更干净、更舒适。分为单层、双层两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4360" y="388368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懒人擦地拖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788000" y="836640"/>
            <a:ext cx="3760560" cy="31449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924360" y="3931200"/>
            <a:ext cx="52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美丽绒保暖擦地拖（双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4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50920" y="18900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绿色环保床上电脑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3671640" cy="28796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356000" y="2261520"/>
            <a:ext cx="453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产品特点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桌面翻起的一块可以调节角度，让你上网，看书，画画，写字，看电视轻松自如，防滑挡条让你的书本和笔记本电脑不会向下滑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固定的面板可以放置鼠标任意滑动，可放置茶水和笔筒两不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5295240"/>
            <a:ext cx="83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边上的小抽屉可以放置文具，手机，杂物等方便实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中国首例：桌腿随意加高，不用时可以折叠起来让你轻松自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4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39640" y="1890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懒汉洗脚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59280" y="112536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形似微型浴缸，除了盛水的盆缸之外，还有一个座椅，并配有冷、热水自动开关装置。洗脚时，只需坐在椅子上按动按钮，盆里就会注入热水。洗完脚，再按一下，盆里的水会自动排入下水道。此外，“懒汉洗脚盆”还有吹风和按摩功能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20781" t="3052" r="21276" b="4736"/>
          <a:stretch/>
        </p:blipFill>
        <p:spPr>
          <a:xfrm>
            <a:off x="179280" y="1484280"/>
            <a:ext cx="4681800" cy="4969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4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9840" y="1125360"/>
            <a:ext cx="903924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中的“懒惰”不能理解为“不爱劳动，不爱工作”。这里的 懒惰”应该与智慧划等号，它讨厌的是机械的重复的低效率的劳动与工作，而且想法设法用心智去偷懒取巧，“懒惰”的含义应该是尽可能花费最少的体力与精力去获得最大的成效，“懒惰”是人类进步的希望。“懒惰”就是低投入高回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4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9640" y="189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楷体_GB2312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07240" y="1268280"/>
            <a:ext cx="111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、知识与技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）理解文章内容，能分析本文的论点、论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）学习本文新颖、独到的立意，培养创新的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）学习举例论证、对比论证的论证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）学习本文幽默的语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71080" y="3502080"/>
            <a:ext cx="128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、过程与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本文可采用多种形式的朗读，学生相互讨论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辩论、质疑、教师提示等多种方法完成文章的学习</a:t>
            </a:r>
            <a:r>
              <a:rPr b="0" lang="zh-CN" sz="1800" spc="-1" strike="noStrike">
                <a:solidFill>
                  <a:srgbClr val="80008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60000" y="4941720"/>
            <a:ext cx="135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、情感态度与价值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激励学生要有创新、创造精神，要动脑筋，适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时代的要求</a:t>
            </a:r>
            <a:r>
              <a:rPr b="0" lang="zh-CN" sz="1800" spc="-1" strike="noStrike">
                <a:solidFill>
                  <a:srgbClr val="80008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4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50920" y="525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我们还可以这样理解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000" y="903240"/>
            <a:ext cx="8785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文为懒汉们正名，作者以幽默的笔触抨击传统思维的观念，“懒惰”的含义可以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懒惰”是指讨厌吃苦受累，想在脑力劳动上寻找捷径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懒惰”即不满足于悉心操作技能，而潜心于心智技能提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懒惰”是指勤于动脑想主意，懒于动手出力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懒惰”指不满足现状，不因循守旧；不懈进取，不断创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懒惰”指不断迸发省时省力的愿望，寻求聪明的“懒”办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，追求科技进步与创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懒惰”是“智博”而非“拼搏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懒惰”从某种意义上讲，就是有问题意识，等等。但并不是不去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4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971640" y="1125360"/>
            <a:ext cx="745812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完这篇文章后，我们知道题目中的“懒惰”并不是真正意义上的懒惰，而是人们在生活实践中，为了提高效率、节省时间的一种表现。并将这种表现转化为发明、创造，其发明创造就是智慧的结晶。对我们学习的启发有：我们提倡勤奋学习，但不能死读书。要多动脑筋，寻求最佳学习方法，寻找提高学习效率的捷径，不满足现状，不因循守旧，不断提高学业成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4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4360" y="18900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比一比  赛一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86080" y="1268280"/>
            <a:ext cx="613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男女同学各分为一组，看哪一组的同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说的有关于勤劳、懒惰的格言最多，以轮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方式比试，在两秒中内未对答上就为输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3094200"/>
            <a:ext cx="7777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勤天下无难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汗水的河才能冲开理想之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勤勉是好运之母（英国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懒汉争食，好汉争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勤劳可以战胜一切困难（日本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根红线两枝花，勤劳节俭不分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勤是摇钱树，俭是聚宝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4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890360" y="1052640"/>
            <a:ext cx="4661280" cy="52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勤能补拙，俭能助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只有勤来没有俭，好比有针没有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勤劳是穷人的财富，节俭是富人的智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闲散如酸醋，会软化精神的钙质；勤奋像火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能燃起智慧的火焰（藏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勤奋和智慧是双胞胎，懒惰和愚蠢是亲兄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智慧源于勤奋，伟大出自平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勤奋出天才，实践出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工作着的傻子比睡在床上的聪明人强（苏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懒惰不过是未疲乏就休息的习惯（印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懒惰没有药医（朝鲜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4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560" y="4428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激活思维  求异创新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本文告诉我们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从一个新的角度思考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就可以引出新的观点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请从下列成语中任选一个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变换角度提炼出言之有理的观点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a.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铁杵磨成针   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b.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近朱者赤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近墨者黑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c.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班门弄斧     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d.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名师出高徒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e.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亡羊补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尝试着做一个生活和学习中善于思考的有心人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从生活中许多可以“偷懒”的事件中想一些</a:t>
            </a:r>
            <a:r>
              <a:rPr b="1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“聪明的懒办法”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大胆提出你的设想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搞一些小发明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小创造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4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847800" y="18900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总结反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03160" y="839520"/>
            <a:ext cx="5813640" cy="57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凯利用一系列的事实说明了一个常为习惯思维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忽视的道理：讨厌吃苦受累的“懒惰”情绪，激励了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；想在脑力劳动中寻找捷径的“懒汉”，促进人类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步。在人们越来越认识到 创新已成为人类进步不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力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纪，我们更要认识到“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世界上最大的未开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的疆域，是我们两耳之间的空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”用这篇课文来培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的创新观念，激励我们的创新思维，可以说是一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难得的机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后，请同学们在学习和生活中，别忘了做个善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思考的有心人，想一些“聪明的懒办法”，做一个有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慧的懒汉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4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rcRect l="4514" t="0" r="0" b="3299"/>
          <a:stretch/>
        </p:blipFill>
        <p:spPr>
          <a:xfrm>
            <a:off x="611280" y="1474920"/>
            <a:ext cx="813744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4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8360" y="1566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创设情景 导入新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83356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有一家世界知名的宾馆年终评选了十位“最懒惰”的工作人员作为“年度最优秀的员工”，这是为什么呢</a:t>
            </a: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?  </a:t>
            </a: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宾馆经理是这样说：“他们的懒突出表现在总是一次性就把餐具送到餐桌上，习惯一次性把餐桌收拾干净，一次性就把工作干完，讨厌做第二次。因为他们懒，连一个多余的动作也懒得去做，而勤快的员工整天在为多余的事情忙碌，所以他们是最优秀的。”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同学们，你们可能都觉得很奇怪？千百年来，人们都赞美勤劳，反对懒惰，这个宾馆经理却反其道而行之，这是为什么呢</a:t>
            </a: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这样做有没有道理呢</a:t>
            </a: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无独有偶，美国作家凯利也和这位经理一样，一反常理，对懒惰和懒惰者有着自己的诠释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4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93080" y="1341360"/>
            <a:ext cx="565596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凯利，美国作家，是</a:t>
            </a:r>
            <a:r>
              <a:rPr b="1" lang="en-US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纽约时报</a:t>
            </a:r>
            <a:r>
              <a:rPr b="1" lang="en-US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》《</a:t>
            </a: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新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周报</a:t>
            </a:r>
            <a:r>
              <a:rPr b="1" lang="en-US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》《</a:t>
            </a: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家政</a:t>
            </a:r>
            <a:r>
              <a:rPr b="1" lang="en-US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以及其他妇女杂志的自由撰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人，擅长披露名人秘史。对于她的写作风格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不少美国人都不认同，她因此被一些人认为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遭人非议”的作家。但也有不少人喜欢她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作品，她所写的传记大都很畅销，美国记者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作家协会还曾授予她</a:t>
            </a:r>
            <a:r>
              <a:rPr b="1" lang="en-US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1987</a:t>
            </a: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年度的“杰出作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奖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89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Arial"/>
                <a:ea typeface="楷体_GB2312"/>
              </a:rPr>
              <a:t>走近作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4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244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预习检查</a:t>
            </a:r>
            <a:r>
              <a:rPr b="1" lang="zh-CN" sz="32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08000" y="134136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给下列的字注音，并组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2276640"/>
            <a:ext cx="8964720" cy="40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摞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(     )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（    </a:t>
            </a:r>
            <a:r>
              <a:rPr b="1" lang="en-US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   ） </a:t>
            </a:r>
            <a:r>
              <a:rPr b="1" lang="en-US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②惫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(    </a:t>
            </a:r>
            <a:r>
              <a:rPr b="1" lang="en-US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（  </a:t>
            </a:r>
            <a:r>
              <a:rPr b="1" lang="en-US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）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循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(    </a:t>
            </a:r>
            <a:r>
              <a:rPr b="1" lang="en-US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（        ） </a:t>
            </a:r>
            <a:r>
              <a:rPr b="1" lang="en-US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④诞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(    </a:t>
            </a:r>
            <a:r>
              <a:rPr b="1" lang="en-US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⑤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躬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(     )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（        ） </a:t>
            </a:r>
            <a:r>
              <a:rPr b="1" lang="en-US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⑥涸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(    </a:t>
            </a:r>
            <a:r>
              <a:rPr b="1" lang="en-US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)</a:t>
            </a:r>
            <a:r>
              <a:rPr b="1" lang="en-US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(   </a:t>
            </a:r>
            <a:r>
              <a:rPr b="1" lang="en-US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⑦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诫（    ）（       ） ⑧泵（    ）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87280" y="2205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u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11280" y="22050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补丁摞补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881680" y="2205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è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14280" y="3141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ú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84360" y="32130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序渐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00800" y="314172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d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406224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ō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6000" y="414972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事必亲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41497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32520" y="226224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疲惫不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9640" y="31417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华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96000" y="4076640"/>
            <a:ext cx="12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50846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08720" y="5013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71640" y="501336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训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48360" y="501336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4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68360" y="1571760"/>
            <a:ext cx="820908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楷体_GB2312"/>
              </a:rPr>
              <a:t>摞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楷体_GB2312"/>
              </a:rPr>
              <a:t>捷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楷体_GB2312"/>
              </a:rPr>
              <a:t>亲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楷体_GB2312"/>
              </a:rPr>
              <a:t>诞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楷体_GB2312"/>
              </a:rPr>
              <a:t>称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楷体_GB2312"/>
              </a:rPr>
              <a:t>水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楷体_GB2312"/>
              </a:rPr>
              <a:t>循规蹈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楷体_GB2312"/>
              </a:rPr>
              <a:t>疲惫不堪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楷体_GB2312"/>
              </a:rPr>
              <a:t>筋疲力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97956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解释下面的字或词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16988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楷体_GB2312"/>
              </a:rPr>
              <a:t>重叠地往上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03280" y="22035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楷体_GB2312"/>
              </a:rPr>
              <a:t>近路，比喻能较快地达到目的的巧妙手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03280" y="27068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楷体_GB2312"/>
              </a:rPr>
              <a:t>亲自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03280" y="32115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楷体_GB2312"/>
              </a:rPr>
              <a:t>出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03280" y="3773520"/>
            <a:ext cx="74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楷体_GB2312"/>
              </a:rPr>
              <a:t>思想水平和工作能力都能胜任所担任的职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6360" y="4364280"/>
            <a:ext cx="64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楷体_GB2312"/>
              </a:rPr>
              <a:t>用来抽水或压水的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24000" y="48675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楷体_GB2312"/>
              </a:rPr>
              <a:t>遵守规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24000" y="5372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楷体_GB2312"/>
              </a:rPr>
              <a:t>非常疲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24000" y="59342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楷体_GB2312"/>
              </a:rPr>
              <a:t>形容非常疲乏，一点力气都没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4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1052280"/>
            <a:ext cx="921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一、快速阅读课文，从文中找出作者评价懒汉的句子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393372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Verdana"/>
                <a:ea typeface="楷体_GB2312"/>
              </a:rPr>
              <a:t>正是懒惰激励了发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Verdana"/>
                <a:ea typeface="楷体_GB2312"/>
              </a:rPr>
              <a:t>精神的懒惰也同样促进了人类的进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Verdana"/>
                <a:ea typeface="楷体_GB2312"/>
              </a:rPr>
              <a:t>概括为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202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自读课文 整体感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50920" y="494064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新宋体"/>
              </a:rPr>
              <a:t>懒惰激励发明，懒惰促进进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205452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没有我们的这些懒汉，恐怕就没有社会的进步；没有我们的这些懒汉，勤劳的人面对的恐怕只会是单调乏味的劳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306864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二、用“——”划出本文的中心论点（即作者的观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4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55640" y="1159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  <a:ea typeface="楷体_GB2312"/>
              </a:rPr>
              <a:t>事例如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4920" y="465264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E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证实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是懒惰激励了发明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；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G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证实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的懒惰也同样促进了人类的进步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10512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.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露茜帮助妈妈收拾餐具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234072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C.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祖先取水、渡水的事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69632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B.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懒惰的饭店服务员一次性把餐具送到餐桌上；勤快的伙计每趟只拿一样东西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27727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D.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波特发明阀门的初衷是为了能“偷懒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551520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G.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懒汉建立“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+2=4”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的数学规则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34243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E.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最优秀的工人都是懒汉，推断称职领导也同样懒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399744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F.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发明万有引力定律的人准是懒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4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-667080" y="1916280"/>
            <a:ext cx="15210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懒惰的智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1909800"/>
            <a:ext cx="431640" cy="3895560"/>
          </a:xfrm>
          <a:custGeom>
            <a:avLst/>
            <a:gdLst>
              <a:gd name="textAreaLeft" fmla="*/ 275760 w 431640"/>
              <a:gd name="textAreaRight" fmla="*/ 432000 w 431640"/>
              <a:gd name="textAreaTop" fmla="*/ 101520 h 3895560"/>
              <a:gd name="textAreaBottom" fmla="*/ 3794040 h 3895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17064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懒惰激励发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544464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懒惰促进进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1280" y="843120"/>
            <a:ext cx="216000" cy="2374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61920 h 2374920"/>
              <a:gd name="textAreaBottom" fmla="*/ 2313000 h 23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10000" y="907200"/>
            <a:ext cx="14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家务劳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08560" y="1556640"/>
            <a:ext cx="14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职业劳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10720" y="2059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社会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40720" y="905040"/>
            <a:ext cx="144360" cy="1296720"/>
          </a:xfrm>
          <a:custGeom>
            <a:avLst/>
            <a:gdLst>
              <a:gd name="textAreaLeft" fmla="*/ 0 w 144360"/>
              <a:gd name="textAreaRight" fmla="*/ 52200 w 144360"/>
              <a:gd name="textAreaTop" fmla="*/ 33480 h 1296720"/>
              <a:gd name="textAreaBottom" fmla="*/ 126324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32240" y="25646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④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阀门发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37640" y="3067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⑤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动机研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102520" y="836640"/>
            <a:ext cx="86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社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普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现象</a:t>
            </a:r>
            <a:r>
              <a:rPr b="0" lang="zh-CN" sz="1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2637000"/>
            <a:ext cx="142920" cy="936360"/>
          </a:xfrm>
          <a:custGeom>
            <a:avLst/>
            <a:gdLst>
              <a:gd name="textAreaLeft" fmla="*/ 0 w 142920"/>
              <a:gd name="textAreaRight" fmla="*/ 51480 w 1429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5373720"/>
            <a:ext cx="287280" cy="799920"/>
          </a:xfrm>
          <a:custGeom>
            <a:avLst/>
            <a:gdLst>
              <a:gd name="textAreaLeft" fmla="*/ 183600 w 287280"/>
              <a:gd name="textAreaRight" fmla="*/ 287640 w 287280"/>
              <a:gd name="textAreaTop" fmla="*/ 20520 h 799920"/>
              <a:gd name="textAreaBottom" fmla="*/ 779400 h 79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21800" y="5299920"/>
            <a:ext cx="157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楷体_GB2312"/>
              </a:rPr>
              <a:t>⑥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万有引力</a:t>
            </a:r>
            <a:r>
              <a:rPr b="0" lang="zh-CN" sz="1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67280" y="5733360"/>
            <a:ext cx="201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楷体_GB2312"/>
              </a:rPr>
              <a:t>⑦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数学规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12000" y="5300640"/>
            <a:ext cx="215640" cy="936720"/>
          </a:xfrm>
          <a:custGeom>
            <a:avLst/>
            <a:gdLst>
              <a:gd name="textAreaLeft" fmla="*/ 0 w 215640"/>
              <a:gd name="textAreaRight" fmla="*/ 77760 w 215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56360" y="544500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寄托希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26760" y="59500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举例论证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25440" y="2933640"/>
            <a:ext cx="27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举例论证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72360" y="234936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典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事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02160" y="907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（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29080" y="1557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（正反对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9440" y="1916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（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87280" y="3573360"/>
            <a:ext cx="79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作用：①②③这些社会普遍现象的范围由小到大，说服力不断递增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71680" y="2349360"/>
            <a:ext cx="20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对比论证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97080" y="4354560"/>
            <a:ext cx="784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 ④⑤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列举了个别的典型事例，有详有略地证明论点，使文章更富有说服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21:49:30Z</dcterms:created>
  <dc:creator>NeverMore</dc:creator>
  <dc:description/>
  <dc:language>en-US</dc:language>
  <cp:lastModifiedBy>微软用户</cp:lastModifiedBy>
  <dcterms:modified xsi:type="dcterms:W3CDTF">2015-10-26T03:55:23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