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14.jpeg" ContentType="image/jpeg"/>
  <Override PartName="/ppt/media/image8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9.png" ContentType="image/png"/>
  <Override PartName="/ppt/media/image27.png" ContentType="image/png"/>
  <Override PartName="/ppt/media/image5.png" ContentType="image/png"/>
  <Override PartName="/ppt/media/applause.wav" ContentType="audio/x-wav"/>
  <Override PartName="/ppt/media/image30.jpeg" ContentType="image/jpeg"/>
  <Override PartName="/ppt/media/image7.wmf" ContentType="image/x-wmf"/>
  <Override PartName="/ppt/media/image29.png" ContentType="image/png"/>
  <Override PartName="/ppt/media/chimes.wav" ContentType="audio/x-wav"/>
  <Override PartName="/ppt/media/image16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5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007-7E0D-4908-810F-0711A267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690-CAD9-4532-838F-A66C52BE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3B3-751A-4A6E-A065-FA676B66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562-0CE7-4A86-A085-34CEB581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404-F538-4D21-BE3F-E5F1D005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304-7ACE-4B71-ADB1-D4BF2F4B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5B8-2594-418E-BC64-ED9BCDB7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084-A31B-4357-A04C-32C68A10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FE0-11A1-4AEC-96D0-EFEBDCD8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044-9F2B-4C52-8965-3C886E3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B85-F35C-4E6C-8733-79C28E9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6A3-1915-4369-82BA-98B29DF3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6F0-0C5A-44B5-8AD2-2D86701374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re.cas.cn/Images/2004/2/10/1934104.535276E-02.jpg&amp;imgrefurl=http://www.bre.cas.cn/unitweb/3/311311/detailnews.asp%3FinfoNo%3D67649&amp;h=215&amp;w=305&amp;sz=17&amp;tbnid=mAKYZB1MyNDW-M:&amp;tbnh=78&amp;tbnw=112&amp;hl=zh-CN&amp;start=7&amp;prev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hitachizosen.co.jp/news-release/h09/img/1884p~1.gif&amp;imgrefurl=http://www.hitachizosen.co.jp/news-release/h09/1884.html&amp;h=319&amp;w=453&amp;sz=93&amp;tbnid=uGsL1Gf3WceOjM:&amp;tbnh=87&amp;tbnw=124&amp;hl=zh-CN&amp;start=1&amp;prev=/images%3Fq%25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/imgres?imgurl=http://www.365pic.com/bq__pic9/battle/plane/800/airae1.jpg&amp;imgrefurl=http://www.365pic.com/cn/plane.asp%3Fpage%3D5&amp;h=600&amp;w=800&amp;sz=115&amp;tbnid=8rfxJ1zn-6an0M:&amp;tbnh=106&amp;tbnw=142&amp;hl=zh-CN&amp;start=7&amp;prev=/images%3Fq%3D%25E9%25A3%25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com/imgres?imgurl=http://www.cheshi.com.cn/news/images/11050/11065_4.jpg&amp;imgrefurl=http://www.cheshi.com.cn/news/2005/7/11081.asp&amp;h=450&amp;w=600&amp;sz=66&amp;tbnid=oFU2F5isTUlApM:&amp;tbnh=99&amp;tbnw=133&amp;hl=zh-CN&amp;start=3&amp;prev=/images%3Fq%3D%25E6%25B1%25BD%25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yantaimarket.com/BackAdmin/ProductImages/20054716401494288.jpg&amp;imgrefurl=http://www.yantaimarket.com/cn/product/list.asp%3FIndustryID%3D12&amp;h=329&amp;w=272&amp;sz=6&amp;tbnid=0AemmBRVnT389M:&amp;tbnh=114&amp;tbnw=94&amp;hl=zh-CN&amp;start=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m/imgres?imgurl=http://news.xinhuanet.com/photo/2005-03/08/xinsrc_042030208110271822050150.jpg&amp;imgrefurl=http://news.xinhuanet.com/photo/2005-03/08/content_2666858.htm&amp;h=500&amp;w=332&amp;sz=41&amp;tbnid=sduPcwwm7_3ecM:&amp;tbnh=127&amp;tbnw=84&amp;hl=zh-CN&amp;sta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m/imgres?imgurl=http://www.henannews.com.cn/news/images/2005-05/self_22_385.jpg&amp;imgrefurl=http://www.henannews.com.cn/news/41/2005-05-22/20050522-32940-41.shtml&amp;h=257&amp;w=400&amp;sz=51&amp;tbnid=Yj2AgJR-BAtxyM:&amp;tbnh=77&amp;tbnw=120&amp;hl=zh-CN&amp;start=17&amp;p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m/imgres?imgurl=http://photos16.flickr.com/22737767_30cf20cc3f_m.jpg&amp;imgrefurl=http://www.postshow.net/archive/2005/7/1&amp;h=208&amp;w=240&amp;sz=22&amp;tbnid=Jbw7_jznojiDnM:&amp;tbnh=90&amp;tbnw=104&amp;hl=zh-CN&amp;start=1&amp;prev=/images%3Fq%3D%25E6%2596%25B9%25E4%25B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images.google.com/imgres?imgurl=http://www.5aschool.com/www/image/picture/b054a.jpg&amp;imgrefurl=http://www.5aschool.com/www/image/bmore.htm&amp;h=446&amp;w=430&amp;sz=52&amp;tbnid=ZFp3zUejPXpqTM:&amp;tbnh=124&amp;tbnw=119&amp;hl=zh-CN&amp;start=1&amp;prev=/images%3Fq%3D%25E7%2594%25B5%25E9%25" TargetMode="External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3276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58960" indent="-228600">
              <a:spcBef>
                <a:spcPts val="1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900" spc="-1" strike="noStrike">
                <a:solidFill>
                  <a:srgbClr val="000000"/>
                </a:solidFill>
                <a:latin typeface="Arial"/>
                <a:ea typeface="隶书"/>
              </a:rPr>
              <a:t>凯利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450720" y="1146240"/>
            <a:ext cx="82425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19341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4640"/>
            <a:ext cx="4608360" cy="288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884p~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068640"/>
            <a:ext cx="4679640" cy="32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airae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76720" y="404640"/>
            <a:ext cx="3598920" cy="295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1065_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148360" y="4149720"/>
            <a:ext cx="3527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00547164014942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0792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xinsrc_0420302081102718220501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3500280"/>
            <a:ext cx="2520720" cy="259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self_22_3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95640" y="2997360"/>
            <a:ext cx="3816360" cy="316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22737767_30cf20cc3f_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3789360"/>
            <a:ext cx="180000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054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16720" y="105264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100_0045"/>
          <p:cNvPicPr/>
          <p:nvPr/>
        </p:nvPicPr>
        <p:blipFill>
          <a:blip r:embed="rId12"/>
          <a:stretch/>
        </p:blipFill>
        <p:spPr>
          <a:xfrm>
            <a:off x="2627280" y="981000"/>
            <a:ext cx="3238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685800"/>
            <a:ext cx="5181480" cy="5562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181480" y="15228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懒汉洗脚盆（四川成都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13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岁懒娃娃发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181480" y="1447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形式微型浴缸，除了盛水的盆缸之外，还有一个座椅，并配有冷、热水自动开关装置。洗脚时，只需坐在椅子上按动按钮，盆里就会注入热水。洗完脚，再按一下，盆里的水会自动排入下水道。此外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懒汉洗脚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还有吹风和按摩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作者为了证明自己的观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在文中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用了哪些论证方法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作者所举事例有何代表性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有何作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895320" y="701640"/>
            <a:ext cx="805356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/>
          <p:cNvSpPr/>
          <p:nvPr/>
        </p:nvSpPr>
        <p:spPr>
          <a:xfrm>
            <a:off x="5791320" y="0"/>
            <a:ext cx="3047760" cy="1523880"/>
          </a:xfrm>
          <a:prstGeom prst="cloudCallout">
            <a:avLst>
              <a:gd name="adj1" fmla="val -95625"/>
              <a:gd name="adj2" fmla="val 2004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二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045"/>
          <p:cNvSpPr/>
          <p:nvPr/>
        </p:nvSpPr>
        <p:spPr>
          <a:xfrm>
            <a:off x="1981080" y="1143000"/>
            <a:ext cx="505080" cy="2448000"/>
          </a:xfrm>
          <a:custGeom>
            <a:avLst/>
            <a:gdLst>
              <a:gd name="textAreaLeft" fmla="*/ 322920 w 505080"/>
              <a:gd name="textAreaRight" fmla="*/ 505440 w 5050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44"/>
          <p:cNvSpPr/>
          <p:nvPr/>
        </p:nvSpPr>
        <p:spPr>
          <a:xfrm>
            <a:off x="1449360" y="905040"/>
            <a:ext cx="65556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43"/>
          <p:cNvSpPr/>
          <p:nvPr/>
        </p:nvSpPr>
        <p:spPr>
          <a:xfrm>
            <a:off x="990720" y="1447920"/>
            <a:ext cx="117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懒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激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了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42"/>
          <p:cNvSpPr/>
          <p:nvPr/>
        </p:nvSpPr>
        <p:spPr>
          <a:xfrm>
            <a:off x="2484360" y="836640"/>
            <a:ext cx="262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普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039"/>
          <p:cNvGrpSpPr/>
          <p:nvPr/>
        </p:nvGrpSpPr>
        <p:grpSpPr>
          <a:xfrm>
            <a:off x="3276720" y="308160"/>
            <a:ext cx="3187800" cy="2278440"/>
            <a:chOff x="3276720" y="308160"/>
            <a:chExt cx="3187800" cy="2278440"/>
          </a:xfrm>
        </p:grpSpPr>
        <p:sp>
          <p:nvSpPr>
            <p:cNvPr id="89" name="AutoShape 1041"/>
            <p:cNvSpPr/>
            <p:nvPr/>
          </p:nvSpPr>
          <p:spPr>
            <a:xfrm>
              <a:off x="3276720" y="549000"/>
              <a:ext cx="288000" cy="1872000"/>
            </a:xfrm>
            <a:custGeom>
              <a:avLst/>
              <a:gdLst>
                <a:gd name="textAreaLeft" fmla="*/ 183960 w 288000"/>
                <a:gd name="textAreaRight" fmla="*/ 288360 w 288000"/>
                <a:gd name="textAreaTop" fmla="*/ 48600 h 1872000"/>
                <a:gd name="textAreaBottom" fmla="*/ 1823400 h 18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40"/>
            <p:cNvSpPr/>
            <p:nvPr/>
          </p:nvSpPr>
          <p:spPr>
            <a:xfrm rot="21540000">
              <a:off x="3564360" y="333000"/>
              <a:ext cx="28807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、家务劳动的例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、职业劳动的例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、社会发展中的例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038"/>
          <p:cNvSpPr/>
          <p:nvPr/>
        </p:nvSpPr>
        <p:spPr>
          <a:xfrm>
            <a:off x="6172200" y="380880"/>
            <a:ext cx="242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正反对比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（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35"/>
          <p:cNvGrpSpPr/>
          <p:nvPr/>
        </p:nvGrpSpPr>
        <p:grpSpPr>
          <a:xfrm>
            <a:off x="7620120" y="380880"/>
            <a:ext cx="1152360" cy="2159280"/>
            <a:chOff x="7620120" y="380880"/>
            <a:chExt cx="1152360" cy="2159280"/>
          </a:xfrm>
        </p:grpSpPr>
        <p:sp>
          <p:nvSpPr>
            <p:cNvPr id="93" name="AutoShape 1037"/>
            <p:cNvSpPr/>
            <p:nvPr/>
          </p:nvSpPr>
          <p:spPr>
            <a:xfrm>
              <a:off x="7620120" y="380880"/>
              <a:ext cx="216360" cy="2159280"/>
            </a:xfrm>
            <a:custGeom>
              <a:avLst/>
              <a:gdLst>
                <a:gd name="textAreaLeft" fmla="*/ 0 w 216360"/>
                <a:gd name="textAreaRight" fmla="*/ 78120 w 21636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36"/>
            <p:cNvSpPr/>
            <p:nvPr/>
          </p:nvSpPr>
          <p:spPr>
            <a:xfrm>
              <a:off x="7980120" y="668880"/>
              <a:ext cx="79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由小到大说服力增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034"/>
          <p:cNvSpPr/>
          <p:nvPr/>
        </p:nvSpPr>
        <p:spPr>
          <a:xfrm>
            <a:off x="2514600" y="2895480"/>
            <a:ext cx="19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个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典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31"/>
          <p:cNvGrpSpPr/>
          <p:nvPr/>
        </p:nvGrpSpPr>
        <p:grpSpPr>
          <a:xfrm>
            <a:off x="3203640" y="2897280"/>
            <a:ext cx="3600000" cy="1008720"/>
            <a:chOff x="3203640" y="2897280"/>
            <a:chExt cx="3600000" cy="1008720"/>
          </a:xfrm>
        </p:grpSpPr>
        <p:sp>
          <p:nvSpPr>
            <p:cNvPr id="97" name="AutoShape 1033"/>
            <p:cNvSpPr/>
            <p:nvPr/>
          </p:nvSpPr>
          <p:spPr>
            <a:xfrm>
              <a:off x="3203640" y="2997360"/>
              <a:ext cx="288000" cy="863640"/>
            </a:xfrm>
            <a:custGeom>
              <a:avLst/>
              <a:gdLst>
                <a:gd name="textAreaLeft" fmla="*/ 183960 w 288000"/>
                <a:gd name="textAreaRight" fmla="*/ 288360 w 28800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32"/>
            <p:cNvSpPr/>
            <p:nvPr/>
          </p:nvSpPr>
          <p:spPr>
            <a:xfrm>
              <a:off x="3485880" y="2897280"/>
              <a:ext cx="331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D</a:t>
              </a: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、少年波特发明阀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E</a:t>
              </a: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、吉尔布莱思的动机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030"/>
          <p:cNvSpPr/>
          <p:nvPr/>
        </p:nvSpPr>
        <p:spPr>
          <a:xfrm>
            <a:off x="1044720" y="4292640"/>
            <a:ext cx="144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懒惰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进了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类的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027"/>
          <p:cNvGrpSpPr/>
          <p:nvPr/>
        </p:nvGrpSpPr>
        <p:grpSpPr>
          <a:xfrm>
            <a:off x="2286000" y="4343400"/>
            <a:ext cx="3800160" cy="1313640"/>
            <a:chOff x="2286000" y="4343400"/>
            <a:chExt cx="3800160" cy="1313640"/>
          </a:xfrm>
        </p:grpSpPr>
        <p:sp>
          <p:nvSpPr>
            <p:cNvPr id="101" name="AutoShape 1029"/>
            <p:cNvSpPr/>
            <p:nvPr/>
          </p:nvSpPr>
          <p:spPr>
            <a:xfrm>
              <a:off x="2286000" y="4487760"/>
              <a:ext cx="359280" cy="1078920"/>
            </a:xfrm>
            <a:custGeom>
              <a:avLst/>
              <a:gdLst>
                <a:gd name="textAreaLeft" fmla="*/ 229680 w 359280"/>
                <a:gd name="textAreaRight" fmla="*/ 359640 w 359280"/>
                <a:gd name="textAreaTop" fmla="*/ 28080 h 1078920"/>
                <a:gd name="textAreaBottom" fmla="*/ 1050840 h 10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28"/>
            <p:cNvSpPr/>
            <p:nvPr/>
          </p:nvSpPr>
          <p:spPr>
            <a:xfrm>
              <a:off x="2644560" y="4343400"/>
              <a:ext cx="3441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F</a:t>
              </a: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、万有引力的例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G</a:t>
              </a: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、数学规则的例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024"/>
          <p:cNvGrpSpPr/>
          <p:nvPr/>
        </p:nvGrpSpPr>
        <p:grpSpPr>
          <a:xfrm>
            <a:off x="5292720" y="4581360"/>
            <a:ext cx="2260080" cy="1008720"/>
            <a:chOff x="5292720" y="4581360"/>
            <a:chExt cx="2260080" cy="1008720"/>
          </a:xfrm>
        </p:grpSpPr>
        <p:sp>
          <p:nvSpPr>
            <p:cNvPr id="104" name="AutoShape 1026"/>
            <p:cNvSpPr/>
            <p:nvPr/>
          </p:nvSpPr>
          <p:spPr>
            <a:xfrm>
              <a:off x="5292720" y="458136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25"/>
            <p:cNvSpPr/>
            <p:nvPr/>
          </p:nvSpPr>
          <p:spPr>
            <a:xfrm>
              <a:off x="5652360" y="4581360"/>
              <a:ext cx="1900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有详有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富有说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</a:rPr>
                <a:t>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048"/>
          <p:cNvSpPr/>
          <p:nvPr/>
        </p:nvSpPr>
        <p:spPr>
          <a:xfrm>
            <a:off x="6705720" y="297180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49"/>
          <p:cNvSpPr/>
          <p:nvPr/>
        </p:nvSpPr>
        <p:spPr>
          <a:xfrm>
            <a:off x="70102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Tahoma"/>
              </a:rPr>
              <a:t>有说服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-85680" y="987480"/>
            <a:ext cx="8626320" cy="2676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295280" y="435600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可以运用正反两面的事例加以对比论证，增强说服力（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对比论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1066680" y="838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自主探究   体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838080" y="57913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特点一：生动传神又不乏幽默的反映了波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懒汉的智慧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914400" y="2057400"/>
            <a:ext cx="7391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一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自然段举了汉弗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特发明阀门的事例，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家雇他整天坐在一台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讨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蒸汽发动机旁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波特发明前工作的无奈；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懒汉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得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活太累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他萌发发明念头的初衷；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但他可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脱身走人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玩个痛快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发动机的功率也提高了一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他发明后的潇洒；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就这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懒洋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发现了往复式发动机活塞的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他的成果。在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特其人，简直呼之欲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上述彩色部分有什么表达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095880" y="228600"/>
            <a:ext cx="3048120" cy="1523880"/>
          </a:xfrm>
          <a:prstGeom prst="cloudCallout">
            <a:avLst>
              <a:gd name="adj1" fmla="val -95625"/>
              <a:gd name="adj2" fmla="val 2004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三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143000" y="2895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真是懒汉干活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609480" y="3733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他讨厌哪怕多走半步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685800" y="2057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0"/>
          <p:cNvSpPr/>
          <p:nvPr/>
        </p:nvSpPr>
        <p:spPr>
          <a:xfrm>
            <a:off x="685800" y="45720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特点二：语言亲切动人，如话家常，具有浓郁的生活气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320" y="1219320"/>
            <a:ext cx="6899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125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66ff"/>
                </a:solidFill>
                <a:latin typeface="Arial"/>
                <a:ea typeface="华文行楷"/>
              </a:rPr>
              <a:t>纵观全文，文中的</a:t>
            </a:r>
            <a:r>
              <a:rPr b="0" lang="zh-CN" sz="45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“</a:t>
            </a:r>
            <a:r>
              <a:rPr b="0" lang="zh-CN" sz="4500" spc="-1" strike="noStrike">
                <a:solidFill>
                  <a:srgbClr val="0066ff"/>
                </a:solidFill>
                <a:latin typeface="Arial"/>
                <a:ea typeface="华文行楷"/>
              </a:rPr>
              <a:t>懒惰</a:t>
            </a:r>
            <a:r>
              <a:rPr b="0" lang="zh-CN" sz="45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”</a:t>
            </a:r>
            <a:r>
              <a:rPr b="0" lang="zh-CN" sz="4500" spc="-1" strike="noStrike">
                <a:solidFill>
                  <a:srgbClr val="0066ff"/>
                </a:solidFill>
                <a:latin typeface="Arial"/>
                <a:ea typeface="华文行楷"/>
              </a:rPr>
              <a:t>与我们平时所说的</a:t>
            </a:r>
            <a:r>
              <a:rPr b="0" lang="zh-CN" sz="45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“</a:t>
            </a:r>
            <a:r>
              <a:rPr b="0" lang="zh-CN" sz="4500" spc="-1" strike="noStrike">
                <a:solidFill>
                  <a:srgbClr val="0066ff"/>
                </a:solidFill>
                <a:latin typeface="Arial"/>
                <a:ea typeface="华文行楷"/>
              </a:rPr>
              <a:t>懒惰</a:t>
            </a:r>
            <a:r>
              <a:rPr b="0" lang="zh-CN" sz="45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’</a:t>
            </a:r>
            <a:r>
              <a:rPr b="0" lang="zh-CN" sz="4500" spc="-1" strike="noStrike">
                <a:solidFill>
                  <a:srgbClr val="0066ff"/>
                </a:solidFill>
                <a:latin typeface="Arial"/>
                <a:ea typeface="华文行楷"/>
              </a:rPr>
              <a:t>的含义一样吗？</a:t>
            </a: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华文行楷"/>
              </a:rPr>
              <a:t> 请你尽可能用形象、通俗、幽默、富于哲理的话说说文中</a:t>
            </a:r>
            <a:r>
              <a:rPr b="0" lang="zh-CN" sz="45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“</a:t>
            </a: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华文行楷"/>
              </a:rPr>
              <a:t>懒惰</a:t>
            </a:r>
            <a:r>
              <a:rPr b="0" lang="zh-CN" sz="45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”</a:t>
            </a: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华文行楷"/>
              </a:rPr>
              <a:t>的含义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76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文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懒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含义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是指懒于动手出力气，勤于动脑想主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是指讨厌吃苦受累，想在脑力劳动上寻找捷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指不满足现状，不因循守旧；不懈进取，不断     创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指不断产生省时省力的愿望，寻求聪明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办法，追求科技进步与创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智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而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拼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是有问题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f8fd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d2b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f8fd2b"/>
                </a:solidFill>
                <a:latin typeface="Arial"/>
                <a:ea typeface="黑体"/>
              </a:rPr>
              <a:t>小结：</a:t>
            </a:r>
            <a:r>
              <a:rPr b="1" lang="zh-CN" sz="2400" spc="-1" strike="noStrike">
                <a:solidFill>
                  <a:srgbClr val="f8fd2b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f8fd2b"/>
                </a:solidFill>
                <a:latin typeface="Arial"/>
                <a:ea typeface="黑体"/>
              </a:rPr>
              <a:t>懒惰</a:t>
            </a:r>
            <a:r>
              <a:rPr b="1" lang="zh-CN" sz="2400" spc="-1" strike="noStrike">
                <a:solidFill>
                  <a:srgbClr val="f8fd2b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f8fd2b"/>
                </a:solidFill>
                <a:latin typeface="Arial"/>
                <a:ea typeface="黑体"/>
              </a:rPr>
              <a:t>与智慧联在了一起，其结果是激励了发明，促进了人类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、 知识目标 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使学生学会作者不同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的的选题立意，学习本文新颖别致的论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，欣赏文章幽默传神的语言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、 能力目标 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启发学生从多个角度看待事物和解决问题，培养他们的逆向思维和创新意识。 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、 情感态度价值观 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培养学生的创新观念，激发他们的创新思维，养成勤于思考的习惯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440" y="1980720"/>
            <a:ext cx="79930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975"/>
              </a:spcBef>
              <a:buClr>
                <a:srgbClr val="10f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用令人信服的事例作论据，用归纳推理展开论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叙例语言幽默俏皮，亲切动人，又充满睿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观点新颖，见解深刻，别出心裁，反弹琵琶。新鲜！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14400" y="106668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Tahoma"/>
                <a:ea typeface="华文行楷"/>
              </a:rPr>
              <a:t>学习本文对你写议论文有什么启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2"/>
          <a:stretch/>
        </p:blipFill>
        <p:spPr>
          <a:xfrm>
            <a:off x="950760" y="1925640"/>
            <a:ext cx="74548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3360" y="4191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话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、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班门弄斧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、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说谎是可耻的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Rectangle 2" descr=""/>
          <p:cNvPicPr/>
          <p:nvPr/>
        </p:nvPicPr>
        <p:blipFill>
          <a:blip r:embed="rId2"/>
          <a:stretch/>
        </p:blipFill>
        <p:spPr>
          <a:xfrm>
            <a:off x="457200" y="1852560"/>
            <a:ext cx="7974000" cy="293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990720" y="762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激活思维 求异创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7467480" y="6019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44080" y="1170000"/>
            <a:ext cx="88995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华文中宋"/>
              </a:rPr>
              <a:t>反面观点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华文中宋"/>
              </a:rPr>
              <a:t>:</a:t>
            </a:r>
            <a:r>
              <a:rPr b="1" lang="zh-CN" sz="3500" spc="-1" strike="noStrike">
                <a:solidFill>
                  <a:srgbClr val="ff00ff"/>
                </a:solidFill>
                <a:latin typeface="Arial"/>
                <a:ea typeface="华文中宋"/>
              </a:rPr>
              <a:t>有斧不妨弄一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如何处理手中的“斧子”？能不能在行家面前大显身手呢？我觉得在行家面前，既要敢于弄斧，又要善于弄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先，要敢于弄斧。斧子这种工具本来就是供人使用的，手持利斧，却前怕狼后怕虎，不知所措。待日晒雨淋，天长日久后，斧子却生了锈，甚至成了一块废铁，才想起斧子还不曾用过，那简直是天大遗憾和笑话。有斧就要用。在行家面前，应该敢于弄斧，并从中吸取经验教训，这样方能推动社会的发展。瓦特改过蒸汽机，揭开了“蒸汽时代”的序幕，可谓“一代宗师”，而霍恩布鲁渥、特列维蒂克两人却敢于“班门弄斧”，前者发明了“双筒蒸汽机”，后者发明了“高压蒸汽机”，利“斧”所至，开创了“蒸汽时代”的新纪元，为人类社会的发展做出了巨大贡献。这种勇于在行家面前创新的“弄斧人”，难道不值得赞扬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3360" y="1066680"/>
            <a:ext cx="854064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3300"/>
                </a:solidFill>
                <a:latin typeface="Arial"/>
                <a:ea typeface="隶书"/>
              </a:rPr>
              <a:t>反面观点</a:t>
            </a:r>
            <a:r>
              <a:rPr b="1" lang="zh-CN" sz="4300" spc="-1" strike="noStrike">
                <a:solidFill>
                  <a:srgbClr val="003300"/>
                </a:solidFill>
                <a:latin typeface="Arial"/>
                <a:ea typeface="隶书"/>
              </a:rPr>
              <a:t>:</a:t>
            </a:r>
            <a:r>
              <a:rPr b="1" lang="zh-CN" sz="4300" spc="-1" strike="noStrike">
                <a:solidFill>
                  <a:srgbClr val="99cc00"/>
                </a:solidFill>
                <a:latin typeface="Arial"/>
                <a:ea typeface="隶书"/>
              </a:rPr>
              <a:t>说谎也能表现人的高尚品德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22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  <a:ea typeface="黑体"/>
              </a:rPr>
              <a:t>论据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：面对生命垂危的人，家人、亲戚朋友说的大多是谎话，连作风严谨的医生也不例外，这些谎话显示了人们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爱心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；做了好事不肯留下真实姓名、地址的人，具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美好的心灵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；《藤野先生》中鲁迅也说了谎话，他决心弃医从文，但当先生问起时，他却说要去学生物，说先生教给他的知识还能用得到，他的谎话体现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师生情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754380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612720" y="1904760"/>
            <a:ext cx="945504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371600" indent="-228600">
              <a:spcBef>
                <a:spcPts val="1199"/>
              </a:spcBef>
              <a:buClr>
                <a:srgbClr val="bd0ba4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d0ba4"/>
                </a:solidFill>
                <a:latin typeface="Arial"/>
                <a:ea typeface="黑体"/>
              </a:rPr>
              <a:t>    </a:t>
            </a:r>
            <a:r>
              <a:rPr b="1" lang="zh-CN" sz="4800" spc="-1" strike="noStrike">
                <a:solidFill>
                  <a:srgbClr val="f22ad5"/>
                </a:solidFill>
                <a:latin typeface="Arial"/>
                <a:ea typeface="黑体"/>
              </a:rPr>
              <a:t>同学们，你能举出写文章以外，生活中人们运用逆向思维获得成功的事例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1199"/>
              </a:spcBef>
              <a:buClr>
                <a:srgbClr val="f22a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371600" y="6094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华文行楷"/>
              </a:rPr>
              <a:t>习作练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7543800" y="5943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5300" spc="-1" strike="noStrike">
                <a:solidFill>
                  <a:srgbClr val="808080"/>
                </a:solidFill>
                <a:latin typeface="Arial"/>
                <a:ea typeface="楷体_GB2312"/>
              </a:rPr>
              <a:t>“</a:t>
            </a:r>
            <a:r>
              <a:rPr b="0" lang="zh-CN" sz="5300" spc="-1" strike="noStrike">
                <a:solidFill>
                  <a:srgbClr val="808080"/>
                </a:solidFill>
                <a:latin typeface="Arial"/>
                <a:ea typeface="楷体_GB2312"/>
              </a:rPr>
              <a:t>杂交水稻之父”袁隆平最初研究杂交水稻的设想与学术界流行的观点大相径庭，他却矢志不移，获得了巨大成功。他的研究闪耀着创新思维的光辉</a:t>
            </a:r>
            <a:r>
              <a:rPr b="0" lang="zh-CN" sz="5300" spc="-1" strike="noStrike">
                <a:solidFill>
                  <a:srgbClr val="808080"/>
                </a:solidFill>
                <a:latin typeface="Arial"/>
                <a:ea typeface="黑体"/>
              </a:rPr>
              <a:t>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77724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2"/>
          <a:stretch/>
        </p:blipFill>
        <p:spPr>
          <a:xfrm>
            <a:off x="189000" y="-463680"/>
            <a:ext cx="9010440" cy="6870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6"/>
          <p:cNvSpPr/>
          <p:nvPr/>
        </p:nvSpPr>
        <p:spPr>
          <a:xfrm>
            <a:off x="78487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2421000"/>
            <a:ext cx="838368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152280" y="2054160"/>
            <a:ext cx="8455320" cy="14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2"/>
          <a:stretch/>
        </p:blipFill>
        <p:spPr>
          <a:xfrm>
            <a:off x="171360" y="-6480"/>
            <a:ext cx="888696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钢琴曲-世界名曲-秋日的私语.mp3" descr=""/>
          <p:cNvPicPr/>
          <p:nvPr/>
        </p:nvPicPr>
        <p:blipFill>
          <a:blip r:embed="rId2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-406440" y="304920"/>
            <a:ext cx="1521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课后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00200" y="609480"/>
            <a:ext cx="71629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学家华罗庚曾用“烧水泡茶”为例通俗地介绍了“统筹方法”。这种方法也是一种提高效率的“懒”办法。阅读附文，并和同学交流：你有什么聪明的“懒”办法，你发现别人有什么聪明的“懒”办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1D96BFAD803C8E76E41B3A810C6EC27E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590920" y="27432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ahoma"/>
                <a:ea typeface="华文行楷"/>
              </a:rPr>
              <a:t>再 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026" descr=""/>
          <p:cNvPicPr/>
          <p:nvPr/>
        </p:nvPicPr>
        <p:blipFill>
          <a:blip r:embed="rId2"/>
          <a:stretch/>
        </p:blipFill>
        <p:spPr>
          <a:xfrm>
            <a:off x="927000" y="792000"/>
            <a:ext cx="8021880" cy="9763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031"/>
          <p:cNvGrpSpPr/>
          <p:nvPr/>
        </p:nvGrpSpPr>
        <p:grpSpPr>
          <a:xfrm>
            <a:off x="762120" y="1600200"/>
            <a:ext cx="8001000" cy="4114800"/>
            <a:chOff x="762120" y="1600200"/>
            <a:chExt cx="8001000" cy="4114800"/>
          </a:xfrm>
        </p:grpSpPr>
        <p:sp>
          <p:nvSpPr>
            <p:cNvPr id="49" name="Rectangle 1027"/>
            <p:cNvSpPr/>
            <p:nvPr/>
          </p:nvSpPr>
          <p:spPr>
            <a:xfrm>
              <a:off x="762120" y="1600200"/>
              <a:ext cx="80010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9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、你能以最快的速度找出本文举了哪些事例吗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然后再与同桌或前后桌讨论，议一议这些事例分别证实了作者的哪些观点。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讨论后师生共同解决问题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3048120" y="3581280"/>
              <a:ext cx="457200" cy="228600"/>
            </a:xfrm>
            <a:custGeom>
              <a:avLst/>
              <a:gdLst>
                <a:gd name="textAreaLeft" fmla="*/ 14760 w 457200"/>
                <a:gd name="textAreaRight" fmla="*/ 442440 w 45720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43166" h="21600">
                  <a:moveTo>
                    <a:pt x="0" y="0"/>
                  </a:moveTo>
                  <a:lnTo>
                    <a:pt x="43166" y="0"/>
                  </a:lnTo>
                  <a:lnTo>
                    <a:pt x="43166" y="21600"/>
                  </a:lnTo>
                  <a:lnTo>
                    <a:pt x="0" y="21600"/>
                  </a:lnTo>
                  <a:close/>
                </a:path>
                <a:path fill="lightenLess" w="43166" h="21600">
                  <a:moveTo>
                    <a:pt x="0" y="0"/>
                  </a:moveTo>
                  <a:lnTo>
                    <a:pt x="43166" y="0"/>
                  </a:lnTo>
                  <a:lnTo>
                    <a:pt x="41766" y="1400"/>
                  </a:lnTo>
                  <a:lnTo>
                    <a:pt x="1400" y="1400"/>
                  </a:lnTo>
                  <a:close/>
                </a:path>
                <a:path fill="darken" w="43166" h="21600">
                  <a:moveTo>
                    <a:pt x="43166" y="0"/>
                  </a:moveTo>
                  <a:lnTo>
                    <a:pt x="43166" y="21600"/>
                  </a:lnTo>
                  <a:lnTo>
                    <a:pt x="41766" y="20200"/>
                  </a:lnTo>
                  <a:lnTo>
                    <a:pt x="41766" y="1400"/>
                  </a:lnTo>
                  <a:close/>
                </a:path>
                <a:path fill="darkenLess" w="43166" h="21600">
                  <a:moveTo>
                    <a:pt x="431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766" y="20200"/>
                  </a:lnTo>
                  <a:close/>
                </a:path>
                <a:path fill="lighten" w="431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166" h="21600">
                  <a:moveTo>
                    <a:pt x="14577" y="3794"/>
                  </a:moveTo>
                  <a:lnTo>
                    <a:pt x="28590" y="10800"/>
                  </a:lnTo>
                  <a:lnTo>
                    <a:pt x="14577" y="178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032"/>
          <p:cNvGrpSpPr/>
          <p:nvPr/>
        </p:nvGrpSpPr>
        <p:grpSpPr>
          <a:xfrm>
            <a:off x="609480" y="4114800"/>
            <a:ext cx="7925040" cy="1295280"/>
            <a:chOff x="609480" y="4114800"/>
            <a:chExt cx="7925040" cy="1295280"/>
          </a:xfrm>
        </p:grpSpPr>
        <p:sp>
          <p:nvSpPr>
            <p:cNvPr id="52" name="Text Box 1028"/>
            <p:cNvSpPr/>
            <p:nvPr/>
          </p:nvSpPr>
          <p:spPr>
            <a:xfrm>
              <a:off x="609480" y="4114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、请浏览全文，结合上一问找出表达作者观点的句子。（请注意这句话的分号，以及第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段的首句，特别是其中的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也同样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三个字。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030"/>
            <p:cNvSpPr/>
            <p:nvPr/>
          </p:nvSpPr>
          <p:spPr>
            <a:xfrm>
              <a:off x="6248520" y="5181480"/>
              <a:ext cx="533160" cy="228600"/>
            </a:xfrm>
            <a:custGeom>
              <a:avLst/>
              <a:gdLst>
                <a:gd name="textAreaLeft" fmla="*/ 14760 w 533160"/>
                <a:gd name="textAreaRight" fmla="*/ 518400 w 5331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50332" h="21600">
                  <a:moveTo>
                    <a:pt x="0" y="0"/>
                  </a:moveTo>
                  <a:lnTo>
                    <a:pt x="50332" y="0"/>
                  </a:lnTo>
                  <a:lnTo>
                    <a:pt x="50332" y="21600"/>
                  </a:lnTo>
                  <a:lnTo>
                    <a:pt x="0" y="21600"/>
                  </a:lnTo>
                  <a:close/>
                </a:path>
                <a:path fill="lightenLess" w="50332" h="21600">
                  <a:moveTo>
                    <a:pt x="0" y="0"/>
                  </a:moveTo>
                  <a:lnTo>
                    <a:pt x="50332" y="0"/>
                  </a:lnTo>
                  <a:lnTo>
                    <a:pt x="48932" y="1400"/>
                  </a:lnTo>
                  <a:lnTo>
                    <a:pt x="1400" y="1400"/>
                  </a:lnTo>
                  <a:close/>
                </a:path>
                <a:path fill="darken" w="50332" h="21600">
                  <a:moveTo>
                    <a:pt x="50332" y="0"/>
                  </a:moveTo>
                  <a:lnTo>
                    <a:pt x="50332" y="21600"/>
                  </a:lnTo>
                  <a:lnTo>
                    <a:pt x="48932" y="20200"/>
                  </a:lnTo>
                  <a:lnTo>
                    <a:pt x="48932" y="1400"/>
                  </a:lnTo>
                  <a:close/>
                </a:path>
                <a:path fill="darkenLess" w="50332" h="21600">
                  <a:moveTo>
                    <a:pt x="5033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932" y="20200"/>
                  </a:lnTo>
                  <a:close/>
                </a:path>
                <a:path fill="lighten" w="5033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0332" h="21600">
                  <a:moveTo>
                    <a:pt x="18160" y="3794"/>
                  </a:moveTo>
                  <a:lnTo>
                    <a:pt x="32173" y="10800"/>
                  </a:lnTo>
                  <a:lnTo>
                    <a:pt x="18160" y="178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1035"/>
          <p:cNvSpPr/>
          <p:nvPr/>
        </p:nvSpPr>
        <p:spPr>
          <a:xfrm>
            <a:off x="5791320" y="0"/>
            <a:ext cx="3047760" cy="1523880"/>
          </a:xfrm>
          <a:prstGeom prst="cloudCallout">
            <a:avLst>
              <a:gd name="adj1" fmla="val -95625"/>
              <a:gd name="adj2" fmla="val 2004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9840" y="1707840"/>
            <a:ext cx="8713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露茜帮妈妈收拾餐具遭责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懒惰的饭店服务员一次把餐具送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远祖取水、渡水之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波特懒洋洋发明了往复式发动机活塞原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弗兰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吉尔布莱思发现最优秀的工人毫无例外地都是懒汉，推断称职的领导也同样是懒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f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发明万有引力定律的人准是懒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．懒汉建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的规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c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证实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正是懒惰激励了发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证实了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精神的懒惰也同样促进了人类的进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26"/>
          <p:cNvSpPr/>
          <p:nvPr/>
        </p:nvSpPr>
        <p:spPr>
          <a:xfrm>
            <a:off x="1371600" y="990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5"/>
          <p:cNvSpPr/>
          <p:nvPr/>
        </p:nvSpPr>
        <p:spPr>
          <a:xfrm>
            <a:off x="1371600" y="990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事例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24"/>
          <p:cNvSpPr/>
          <p:nvPr/>
        </p:nvSpPr>
        <p:spPr>
          <a:xfrm>
            <a:off x="8305920" y="62485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7493"/>
                </a:moveTo>
                <a:lnTo>
                  <a:pt x="15398" y="7493"/>
                </a:lnTo>
                <a:lnTo>
                  <a:pt x="15398" y="12828"/>
                </a:lnTo>
                <a:cubicBezTo>
                  <a:pt x="15398" y="13751"/>
                  <a:pt x="16199" y="14482"/>
                  <a:pt x="17234" y="14482"/>
                </a:cubicBezTo>
                <a:lnTo>
                  <a:pt x="18897" y="14482"/>
                </a:lnTo>
                <a:cubicBezTo>
                  <a:pt x="19933" y="14482"/>
                  <a:pt x="20733" y="13751"/>
                  <a:pt x="20733" y="12828"/>
                </a:cubicBezTo>
                <a:lnTo>
                  <a:pt x="20733" y="7493"/>
                </a:lnTo>
                <a:lnTo>
                  <a:pt x="18897" y="7493"/>
                </a:lnTo>
                <a:lnTo>
                  <a:pt x="22404" y="3985"/>
                </a:lnTo>
                <a:lnTo>
                  <a:pt x="26077" y="7493"/>
                </a:lnTo>
                <a:lnTo>
                  <a:pt x="24241" y="7493"/>
                </a:lnTo>
                <a:lnTo>
                  <a:pt x="24241" y="12828"/>
                </a:lnTo>
                <a:cubicBezTo>
                  <a:pt x="24241" y="15596"/>
                  <a:pt x="21665" y="18155"/>
                  <a:pt x="18897" y="18155"/>
                </a:cubicBezTo>
                <a:lnTo>
                  <a:pt x="17234" y="18155"/>
                </a:lnTo>
                <a:cubicBezTo>
                  <a:pt x="14467" y="18155"/>
                  <a:pt x="11890" y="15596"/>
                  <a:pt x="11890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归纳议论文中心论点的方法：                </a:t>
            </a:r>
            <a:br>
              <a:rPr sz="3900"/>
            </a:b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、阅读全文，弄清文中事实。                                                                                                     </a:t>
            </a:r>
            <a:br>
              <a:rPr sz="3900"/>
            </a:b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、再抓住文章的题目、开头、结尾以及每段中心句进行分析，作出判断。</a:t>
            </a:r>
            <a:br>
              <a:rPr sz="3900"/>
            </a:b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、用简洁的语言归纳出作者的观点。</a:t>
            </a:r>
            <a:br>
              <a:rPr sz="3900"/>
            </a:b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102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实际上，没有我们的这些懒汉，恐怕就没有社会的进步；没有我们的这些懒汉，勤劳的人面对的恐怕只会是单调乏味的劳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（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～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段对应的是论点分号之后的那句话；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段则论证了论点中分号前的部分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0"/>
          <p:cNvSpPr/>
          <p:nvPr/>
        </p:nvSpPr>
        <p:spPr>
          <a:xfrm>
            <a:off x="1219320" y="914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表达作者观点的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图片12"/>
          <p:cNvPicPr/>
          <p:nvPr/>
        </p:nvPicPr>
        <p:blipFill>
          <a:blip r:embed="rId2"/>
          <a:stretch/>
        </p:blipFill>
        <p:spPr>
          <a:xfrm>
            <a:off x="1523880" y="2438280"/>
            <a:ext cx="6900840" cy="36576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2" descr=""/>
          <p:cNvPicPr/>
          <p:nvPr/>
        </p:nvPicPr>
        <p:blipFill>
          <a:blip r:embed="rId3"/>
          <a:stretch/>
        </p:blipFill>
        <p:spPr>
          <a:xfrm>
            <a:off x="1090440" y="1103400"/>
            <a:ext cx="67676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2"/>
          <a:stretch/>
        </p:blipFill>
        <p:spPr>
          <a:xfrm>
            <a:off x="493560" y="1627200"/>
            <a:ext cx="7991640" cy="170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28600" y="3200400"/>
            <a:ext cx="907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参考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人们懒于爬楼，发明了电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洗衣太累人，发明了洗衣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在烈日下挥汗如雨割麦太辛苦，发明了收割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播种机、喷灌也可看作是懒汉的发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汽车、火车、飞机、方便面、电视遥控器、电风扇、带轮子的箱包、傻瓜照相机、一次性物品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华文行楷"/>
              </a:rPr>
              <a:t>联系实际 拓展思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USER</cp:lastModifiedBy>
  <dcterms:modified xsi:type="dcterms:W3CDTF">2015-08-31T08:32:16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