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chimes.wav" ContentType="audio/x-wav"/>
  <Override PartName="/ppt/media/image13.png" ContentType="image/png"/>
  <Override PartName="/ppt/media/image12.jpeg" ContentType="image/jpeg"/>
  <Override PartName="/ppt/media/image7.jpeg" ContentType="image/jpeg"/>
  <Override PartName="/ppt/media/image1.jpeg" ContentType="image/jpeg"/>
  <Override PartName="/ppt/media/image2.wmf" ContentType="image/x-wmf"/>
  <Override PartName="/ppt/media/image6.jpeg" ContentType="image/jpeg"/>
  <Override PartName="/ppt/media/applause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2B23-203D-4BA5-A81E-A983C085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E2A3-D471-48E9-9A99-4A362457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3D31-7905-42B9-B491-316B3B72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55418-3487-46F4-93DB-E8DFFD92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6E08-6395-44E0-BF30-86A12A4D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262D-3C68-4A5B-8ECC-FCDFA86E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EB1B-1F42-41C2-A7B1-105F9174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DC7B-0E8C-4C1D-8780-14F9C099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BDF4-12D7-4CE9-82E8-FE0D12F9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41C9-C9C1-4D5F-B906-03156DA2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A8E9-BA1A-4058-A2E3-C775F749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8796-1CA6-456A-8D8C-23CB5D96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0702-BC6E-4963-8803-7C3F703A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337F-2AFA-4218-A6CC-06CAD921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E023-F2A2-48D0-A2A7-EC4FEA9E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1A77-1EBB-4834-9C34-A509428A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61FB-9651-431B-BB1F-FC10C1BA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4F3B-96AE-4AE7-B9E2-31C184ED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50F9-65B5-4858-B540-F86069B5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EB92E-5A4E-4B56-A58C-B3E394B2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3A372-71C6-4595-9748-D24AD4BB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01DC-888C-4BFC-ABE2-4E73346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A0015-1E96-4A54-AB4C-EB32844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3BC5-B898-45A8-B1EC-56D2D795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1E19-AFFC-4226-9750-6A797F510DB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组合 1027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矩形 1028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矩形 1029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矩形 1030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矩形 1031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矩形 1032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矩形 1033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矩形 1034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矩形 1035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矩形 1036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204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矩形 2050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051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组合 205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矩形 2053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矩形 2054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矩形 2055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矩形 2056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矩形 2057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矩形 2058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矩形 2059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矩形 2060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矩形 2061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矩形 2062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0BA3-8DDF-43F4-A686-20C274A11427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itachizosen.co.jp/news-release/h09/img/1884p~1.gif&amp;imgrefurl=http://www.hitachizosen.co.jp/news-release/h09/1884.html&amp;h=319&amp;w=453&amp;sz=93&amp;tbnid=uGsL1Gf3WceOjM:&amp;tbnh=87&amp;tbnw=124&amp;hl=zh-CN&amp;start=1&amp;prev=/images%3Fq%25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365pic.com/bq__pic9/battle/plane/800/airae1.jpg&amp;imgrefurl=http://www.365pic.com/cn/plane.asp%3Fpage%3D5&amp;h=600&amp;w=800&amp;sz=115&amp;tbnid=8rfxJ1zn-6an0M:&amp;tbnh=106&amp;tbnw=142&amp;hl=zh-CN&amp;start=7&amp;prev=/images%3Fq%3D%25E9%25A3%25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www.cheshi.com.cn/news/images/11050/11065_4.jpg&amp;imgrefurl=http://www.cheshi.com.cn/news/2005/7/11081.asp&amp;h=450&amp;w=600&amp;sz=66&amp;tbnid=oFU2F5isTUlApM:&amp;tbnh=99&amp;tbnw=133&amp;hl=zh-CN&amp;start=3&amp;prev=/images%3Fq%3D%25E6%25B1%25BD%25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bre.cas.cn/Images/2004/2/10/1934104.535276E-02.jpg&amp;imgrefurl=http://www.bre.cas.cn/unitweb/3/311311/detailnews.asp%3FinfoNo%3D67649&amp;h=215&amp;w=305&amp;sz=17&amp;tbnid=mAKYZB1MyNDW-M:&amp;tbnh=78&amp;tbnw=112&amp;hl=zh-CN&amp;start=7&amp;prev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antaimarket.com/BackAdmin/ProductImages/20054716401494288.jpg&amp;imgrefurl=http://www.yantaimarket.com/cn/product/list.asp%3FIndustryID%3D12&amp;h=329&amp;w=272&amp;sz=6&amp;tbnid=0AemmBRVnT389M:&amp;tbnh=114&amp;tbnw=94&amp;hl=zh-CN&amp;start=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news.xinhuanet.com/photo/2005-03/08/xinsrc_042030208110271822050150.jpg&amp;imgrefurl=http://news.xinhuanet.com/photo/2005-03/08/content_2666858.htm&amp;h=500&amp;w=332&amp;sz=41&amp;tbnid=sduPcwwm7_3ecM:&amp;tbnh=127&amp;tbnw=84&amp;hl=zh-CN&amp;sta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henannews.com.cn/news/images/2005-05/self_22_385.jpg&amp;imgrefurl=http://www.henannews.com.cn/news/41/2005-05-22/20050522-32940-41.shtml&amp;h=257&amp;w=400&amp;sz=51&amp;tbnid=Yj2AgJR-BAtxyM:&amp;tbnh=77&amp;tbnw=120&amp;hl=zh-CN&amp;start=17&amp;p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photos16.flickr.com/22737767_30cf20cc3f_m.jpg&amp;imgrefurl=http://www.postshow.net/archive/2005/7/1&amp;h=208&amp;w=240&amp;sz=22&amp;tbnid=Jbw7_jznojiDnM:&amp;tbnh=90&amp;tbnw=104&amp;hl=zh-CN&amp;start=1&amp;prev=/images%3Fq%3D%25E6%2596%25B9%25E4%25B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www.5aschool.com/www/image/picture/b054a.jpg&amp;imgrefurl=http://www.5aschool.com/www/image/bmore.htm&amp;h=446&amp;w=430&amp;sz=52&amp;tbnid=ZFp3zUejPXpqTM:&amp;tbnh=124&amp;tbnw=119&amp;hl=zh-CN&amp;start=1&amp;prev=/images%3Fq%3D%25E7%2594%25B5%25E9%25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www.pyshy.com/100_0045.JPG&amp;imgrefurl=http://www.pyshy.com/w33.htm&amp;h=480&amp;w=640&amp;sz=66&amp;tbnid=jexD-CNbqClGRM:&amp;tbnh=101&amp;tbnw=135&amp;hl=zh-CN&amp;start=13&amp;prev=/images%3Fq%3D%25E6%25B6%25B2%25E5%258C%2596%25E6%25B0%2594%25E7%25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废寝忘食  分秒必争  焚膏继晷 手不释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孜孜不倦  宵衣旰食  悬梁刺骨  凿壁偷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囊萤映雪 闻鸡起舞  牛角挂书  韦编三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夙兴夜寐  锲而不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一、整体感知，掌握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预习：归纳事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事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露茜帮妈妈收拾餐具遭责备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懒惰的饭店服务员一次把餐具送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远祖取水、渡水之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波特发明了往复式发动机活塞原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弗兰克发现最优秀的工人毫无例外地都是懒汉，推断称职的领导也同样是懒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发明万有引力定律的人准是懒汉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懒汉建立“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+2=4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规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50177"/>
          <p:cNvSpPr/>
          <p:nvPr/>
        </p:nvSpPr>
        <p:spPr>
          <a:xfrm>
            <a:off x="468360" y="404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速读课文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梳理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50178"/>
          <p:cNvSpPr/>
          <p:nvPr/>
        </p:nvSpPr>
        <p:spPr>
          <a:xfrm>
            <a:off x="611280" y="1197000"/>
            <a:ext cx="770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第一部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1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然段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50179"/>
          <p:cNvSpPr/>
          <p:nvPr/>
        </p:nvSpPr>
        <p:spPr>
          <a:xfrm>
            <a:off x="468360" y="335772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第二部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6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7)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论证“懒惰促进了人类进步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即没有我们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些懒汉，恐怕就没有社会的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1265"/>
          <p:cNvSpPr/>
          <p:nvPr/>
        </p:nvSpPr>
        <p:spPr>
          <a:xfrm>
            <a:off x="179280" y="2060640"/>
            <a:ext cx="896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用自己喜欢的方式速读课文，勾画圈点出文中对“懒惰”与“懒汉”看法的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9966"/>
                </a:solidFill>
                <a:latin typeface="Arial"/>
              </a:rPr>
              <a:t>寻找关键句</a:t>
            </a: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用最简练的语句归纳出文章的中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论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266"/>
          <p:cNvSpPr/>
          <p:nvPr/>
        </p:nvSpPr>
        <p:spPr>
          <a:xfrm>
            <a:off x="395280" y="4292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1267"/>
          <p:cNvSpPr/>
          <p:nvPr/>
        </p:nvSpPr>
        <p:spPr>
          <a:xfrm>
            <a:off x="1258920" y="69228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</a:rPr>
              <a:t>感知课文   归纳论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34817" descr="淡紫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34818"/>
          <p:cNvSpPr/>
          <p:nvPr/>
        </p:nvSpPr>
        <p:spPr>
          <a:xfrm>
            <a:off x="1143000" y="1905120"/>
            <a:ext cx="8001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什么是关键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文中的中心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能表明观点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能给我们以启迪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在结构上起承上启下作用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25880"/>
            <a:ext cx="2662200" cy="143460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2289"/>
          <p:cNvSpPr/>
          <p:nvPr/>
        </p:nvSpPr>
        <p:spPr>
          <a:xfrm>
            <a:off x="179280" y="504720"/>
            <a:ext cx="8541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没有我们的这些懒汉，恐怕就没有社会的进步；没有我们的这些懒汉，勤劳的人面对的恐怕只会是单调乏味的劳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懒惰的饭店服务员往往是最令人满意，最优秀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人类的一切进步想必都出自懒汉们想少走几步路的良苦用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正是懒惰激励了发明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最优秀的工人毫无例外地都是懒汉，他们懒得连一个多余的动作都不肯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精神的懒惰也同样促进了人类的进步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许多重要的规则和定理都是懒汉想出来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正是懒汉承担了促进文明发展的重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7649"/>
          <p:cNvSpPr/>
          <p:nvPr/>
        </p:nvSpPr>
        <p:spPr>
          <a:xfrm>
            <a:off x="250920" y="189000"/>
            <a:ext cx="854064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没有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我们的这些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懒汉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，恐怕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就没有社会的进步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；没有我们的这些懒汉，勤劳的人面对的恐怕只会是单调乏味的劳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懒惰的饭店服务员往往是最令人满意，最优秀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人类的一切进步想必都出自懒汉们想少走几步路的良苦用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正是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懒惰激励了发明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最优秀的工人毫无例外地都是懒汉，他们懒得连一个多余的动作都不肯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精神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懒惰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也同样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促进了人类的进步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许多重要的规则和定理都是懒汉想出来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正是懒汉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承担了促进文明发展的重任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77825"/>
          <p:cNvSpPr/>
          <p:nvPr/>
        </p:nvSpPr>
        <p:spPr>
          <a:xfrm>
            <a:off x="468360" y="404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速读课文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梳理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77826"/>
          <p:cNvSpPr/>
          <p:nvPr/>
        </p:nvSpPr>
        <p:spPr>
          <a:xfrm>
            <a:off x="611280" y="1197000"/>
            <a:ext cx="770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第一部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1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然段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侧重论证懒惰激励了发明，即没有我们的这些懒汉，勤劳的人面对的恐怕只会是单调乏味的劳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正是懒惰激励了发明，促进了人类进步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77827"/>
          <p:cNvSpPr/>
          <p:nvPr/>
        </p:nvSpPr>
        <p:spPr>
          <a:xfrm>
            <a:off x="611280" y="458136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第二部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6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段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论证“懒惰促进了人类进步”，即没有我们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些懒汉，恐怕就没有社会的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64771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本文观点：</a:t>
            </a:r>
            <a:br>
              <a:rPr sz="6600"/>
            </a:b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黑体"/>
              </a:rPr>
              <a:t>懒惰激励了发明，促进了人类进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内容占位符 55298" descr="图片12"/>
          <p:cNvPicPr/>
          <p:nvPr/>
        </p:nvPicPr>
        <p:blipFill>
          <a:blip r:embed="rId1"/>
          <a:stretch/>
        </p:blipFill>
        <p:spPr>
          <a:xfrm>
            <a:off x="1042920" y="3500280"/>
            <a:ext cx="6900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题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课文阐述了一个常被惯性思维忽视的道理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讨厌吃苦受累的“懒汉”情绪，促使懒汉在脑力劳动中寻找捷径，同时促进了人类进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读书破万卷，下笔如有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黑发不知勤学早，白首方悔读书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勤能补拙是良训，一分辛劳一分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业精于勤而荒于嬉，行成于思而毁于随。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更灯火五更鸡，正是男儿读书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书山有路勤为径，学海无涯苦作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4337"/>
          <p:cNvSpPr/>
          <p:nvPr/>
        </p:nvSpPr>
        <p:spPr>
          <a:xfrm>
            <a:off x="179280" y="1484280"/>
            <a:ext cx="9144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、作者为了证明自己的观点，选取了哪些事例？（用简洁的语言概括出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、这些事例涉及到了哪些方面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?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、文中主要用了哪些论证方法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?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339"/>
          <p:cNvSpPr/>
          <p:nvPr/>
        </p:nvSpPr>
        <p:spPr>
          <a:xfrm>
            <a:off x="2484360" y="260280"/>
            <a:ext cx="54007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分析论据 学会论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竖卷形 51201"/>
          <p:cNvSpPr/>
          <p:nvPr/>
        </p:nvSpPr>
        <p:spPr>
          <a:xfrm>
            <a:off x="0" y="549360"/>
            <a:ext cx="9325080" cy="6048360"/>
          </a:xfrm>
          <a:prstGeom prst="verticalScroll">
            <a:avLst>
              <a:gd name="adj" fmla="val 11152"/>
            </a:avLst>
          </a:prstGeom>
          <a:gradFill rotWithShape="0">
            <a:gsLst>
              <a:gs pos="0">
                <a:srgbClr val="66ccff">
                  <a:alpha val="50196"/>
                </a:srgbClr>
              </a:gs>
              <a:gs pos="50000">
                <a:srgbClr val="ecf9ff"/>
              </a:gs>
              <a:gs pos="100000">
                <a:srgbClr val="66ccff">
                  <a:alpha val="50196"/>
                </a:srgbClr>
              </a:gs>
            </a:gsLst>
            <a:lin ang="5400000"/>
          </a:gradFill>
          <a:ln cap="rnd" w="28440">
            <a:solidFill>
              <a:srgbClr val="ff33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51202"/>
          <p:cNvSpPr/>
          <p:nvPr/>
        </p:nvSpPr>
        <p:spPr>
          <a:xfrm>
            <a:off x="1981080" y="19810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深入探读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新颖别致的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51203"/>
          <p:cNvSpPr/>
          <p:nvPr/>
        </p:nvSpPr>
        <p:spPr>
          <a:xfrm>
            <a:off x="971640" y="2708280"/>
            <a:ext cx="70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者用了哪些事例来证明中心论点呢？请以“举‘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什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怎么样’的例子”的形式概括事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事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露茜帮妈妈收拾餐具遭责备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懒惰的饭店服务员一次把餐具送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远祖取水、渡水之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波特发明了往复式发动机活塞原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弗兰克发现最优秀的工人毫无例外地都是懒汉，推断称职的领导也同样是懒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发明万有引力定律的人准是懒汉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．懒汉建立“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+2=4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规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横卷形 53249"/>
          <p:cNvSpPr/>
          <p:nvPr/>
        </p:nvSpPr>
        <p:spPr>
          <a:xfrm>
            <a:off x="250920" y="0"/>
            <a:ext cx="8713800" cy="6858000"/>
          </a:xfrm>
          <a:prstGeom prst="horizontalScroll">
            <a:avLst>
              <a:gd name="adj" fmla="val 7712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53250"/>
          <p:cNvSpPr/>
          <p:nvPr/>
        </p:nvSpPr>
        <p:spPr>
          <a:xfrm>
            <a:off x="1116000" y="404640"/>
            <a:ext cx="7632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宋体"/>
              </a:rPr>
              <a:t>作者所举的事例有何特色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宋体"/>
              </a:rPr>
              <a:t>代表性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)?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宋体"/>
              </a:rPr>
              <a:t>有何作用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?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自然段列举的是家务劳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自然段列举的是职业劳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三自然段列举的是社会发展进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作用是：这些社会普遍现象的范围由小到大，说服力不断递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四、五自然段列举了个别典型事例，有详有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109548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914400" y="1676520"/>
            <a:ext cx="73915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           </a:t>
            </a:r>
            <a:r>
              <a:rPr b="1" lang="zh-CN" sz="3200" spc="-1" strike="noStrike">
                <a:solidFill>
                  <a:srgbClr val="c00000"/>
                </a:solidFill>
                <a:latin typeface="华文仿宋"/>
                <a:ea typeface="华文仿宋"/>
              </a:rPr>
              <a:t>事实论证</a:t>
            </a:r>
            <a:r>
              <a:rPr b="1" lang="en-US" sz="3200" spc="-1" strike="noStrike">
                <a:solidFill>
                  <a:srgbClr val="c00000"/>
                </a:solidFill>
                <a:latin typeface="华文仿宋"/>
                <a:ea typeface="华文仿宋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华文仿宋"/>
                <a:ea typeface="华文仿宋"/>
              </a:rPr>
              <a:t>略</a:t>
            </a:r>
            <a:r>
              <a:rPr b="1" lang="en-US" sz="3200" spc="-1" strike="noStrike">
                <a:solidFill>
                  <a:srgbClr val="c00000"/>
                </a:solidFill>
                <a:latin typeface="华文仿宋"/>
                <a:ea typeface="华文仿宋"/>
              </a:rPr>
              <a:t>)</a:t>
            </a:r>
            <a:r>
              <a:rPr b="1" lang="zh-CN" sz="3200" spc="-1" strike="noStrike">
                <a:solidFill>
                  <a:srgbClr val="c00000"/>
                </a:solidFill>
                <a:latin typeface="华文仿宋"/>
                <a:ea typeface="华文仿宋"/>
              </a:rPr>
              <a:t>和对比论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华文仿宋"/>
                <a:ea typeface="华文仿宋"/>
              </a:rPr>
              <a:t>露茜帮妈妈收拾餐具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遭责备的例子和她向来少拿多跑几趟路的例子，两个例子一反一正，形成了</a:t>
            </a:r>
            <a:r>
              <a:rPr b="1" lang="zh-CN" sz="3200" spc="-1" strike="noStrike">
                <a:solidFill>
                  <a:srgbClr val="c00000"/>
                </a:solidFill>
                <a:latin typeface="华文仿宋"/>
                <a:ea typeface="华文仿宋"/>
              </a:rPr>
              <a:t>对比论证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</a:t>
            </a:r>
            <a:r>
              <a:rPr b="1" lang="zh-CN" sz="3200" spc="-1" strike="noStrike">
                <a:solidFill>
                  <a:srgbClr val="c00000"/>
                </a:solidFill>
                <a:latin typeface="华文仿宋"/>
                <a:ea typeface="华文仿宋"/>
              </a:rPr>
              <a:t>饭店中勤快和懒惰服务员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不同表现，也形成了</a:t>
            </a:r>
            <a:r>
              <a:rPr b="1" lang="zh-CN" sz="3200" spc="-1" strike="noStrike">
                <a:solidFill>
                  <a:srgbClr val="c00000"/>
                </a:solidFill>
                <a:latin typeface="华文仿宋"/>
                <a:ea typeface="华文仿宋"/>
              </a:rPr>
              <a:t>对比论证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048120" y="1295280"/>
            <a:ext cx="27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762120" y="5335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作者为了证明自己的观点，在文中主要用了哪些论证方法</a:t>
            </a:r>
            <a:r>
              <a:rPr b="1" lang="en-US" sz="3600" spc="-1" strike="noStrike">
                <a:solidFill>
                  <a:srgbClr val="0033cc"/>
                </a:solidFill>
                <a:latin typeface="楷体"/>
                <a:ea typeface="楷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76320" y="260280"/>
            <a:ext cx="92203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明确：议论文在证明观点时可以：</a:t>
            </a:r>
            <a:br>
              <a:rPr sz="4400"/>
            </a:br>
            <a:r>
              <a:rPr b="1" i="1" lang="zh-CN" sz="4000" spc="-1" strike="noStrike">
                <a:solidFill>
                  <a:srgbClr val="000000"/>
                </a:solidFill>
                <a:latin typeface="宋体"/>
              </a:rPr>
              <a:t>      </a:t>
            </a:r>
            <a:br>
              <a:rPr sz="4000"/>
            </a:b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举事例进行论证（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举例论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注：事例必须有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普遍性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典型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3010"/>
          <p:cNvSpPr/>
          <p:nvPr/>
        </p:nvSpPr>
        <p:spPr>
          <a:xfrm>
            <a:off x="324000" y="4356000"/>
            <a:ext cx="84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可以运用正反两面的事例加以对比论证，增强说服力（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对比论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br>
              <a:rPr sz="44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文本框 58369"/>
          <p:cNvSpPr/>
          <p:nvPr/>
        </p:nvSpPr>
        <p:spPr>
          <a:xfrm>
            <a:off x="-667080" y="1916280"/>
            <a:ext cx="1521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懒惰的智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左大括号 58370"/>
          <p:cNvSpPr/>
          <p:nvPr/>
        </p:nvSpPr>
        <p:spPr>
          <a:xfrm>
            <a:off x="755640" y="1909800"/>
            <a:ext cx="431640" cy="3895560"/>
          </a:xfrm>
          <a:custGeom>
            <a:avLst/>
            <a:gdLst>
              <a:gd name="textAreaLeft" fmla="*/ 275760 w 431640"/>
              <a:gd name="textAreaRight" fmla="*/ 432000 w 431640"/>
              <a:gd name="textAreaTop" fmla="*/ 101520 h 3895560"/>
              <a:gd name="textAreaBottom" fmla="*/ 3794040 h 389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58371"/>
          <p:cNvSpPr/>
          <p:nvPr/>
        </p:nvSpPr>
        <p:spPr>
          <a:xfrm>
            <a:off x="971640" y="17064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懒惰激励发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58372"/>
          <p:cNvSpPr/>
          <p:nvPr/>
        </p:nvSpPr>
        <p:spPr>
          <a:xfrm>
            <a:off x="971640" y="544464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懒惰促进进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左大括号 58373"/>
          <p:cNvSpPr/>
          <p:nvPr/>
        </p:nvSpPr>
        <p:spPr>
          <a:xfrm>
            <a:off x="3851280" y="843120"/>
            <a:ext cx="216000" cy="237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560 h 2374920"/>
              <a:gd name="textAreaBottom" fmla="*/ 231336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374"/>
          <p:cNvSpPr/>
          <p:nvPr/>
        </p:nvSpPr>
        <p:spPr>
          <a:xfrm>
            <a:off x="4410000" y="907200"/>
            <a:ext cx="14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家务劳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8375"/>
          <p:cNvSpPr/>
          <p:nvPr/>
        </p:nvSpPr>
        <p:spPr>
          <a:xfrm>
            <a:off x="4410720" y="15566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职业劳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8376"/>
          <p:cNvSpPr/>
          <p:nvPr/>
        </p:nvSpPr>
        <p:spPr>
          <a:xfrm>
            <a:off x="4410720" y="2059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社会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右大括号 58377"/>
          <p:cNvSpPr/>
          <p:nvPr/>
        </p:nvSpPr>
        <p:spPr>
          <a:xfrm>
            <a:off x="7740720" y="905040"/>
            <a:ext cx="144360" cy="1296720"/>
          </a:xfrm>
          <a:custGeom>
            <a:avLst/>
            <a:gdLst>
              <a:gd name="textAreaLeft" fmla="*/ 0 w 144360"/>
              <a:gd name="textAreaRight" fmla="*/ 52200 w 14436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58378"/>
          <p:cNvSpPr/>
          <p:nvPr/>
        </p:nvSpPr>
        <p:spPr>
          <a:xfrm>
            <a:off x="4337640" y="25646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阀门发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8379"/>
          <p:cNvSpPr/>
          <p:nvPr/>
        </p:nvSpPr>
        <p:spPr>
          <a:xfrm>
            <a:off x="4337640" y="3067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⑤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动机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8380"/>
          <p:cNvSpPr/>
          <p:nvPr/>
        </p:nvSpPr>
        <p:spPr>
          <a:xfrm>
            <a:off x="8102520" y="836640"/>
            <a:ext cx="86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社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普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现象</a:t>
            </a:r>
            <a:r>
              <a:rPr b="0" lang="zh-CN" sz="1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右大括号 58381"/>
          <p:cNvSpPr/>
          <p:nvPr/>
        </p:nvSpPr>
        <p:spPr>
          <a:xfrm>
            <a:off x="6156360" y="2637000"/>
            <a:ext cx="142920" cy="936360"/>
          </a:xfrm>
          <a:custGeom>
            <a:avLst/>
            <a:gdLst>
              <a:gd name="textAreaLeft" fmla="*/ 0 w 142920"/>
              <a:gd name="textAreaRight" fmla="*/ 514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左大括号 58382"/>
          <p:cNvSpPr/>
          <p:nvPr/>
        </p:nvSpPr>
        <p:spPr>
          <a:xfrm>
            <a:off x="3851280" y="5373720"/>
            <a:ext cx="287280" cy="799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0520 h 799920"/>
              <a:gd name="textAreaBottom" fmla="*/ 779400 h 79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8383"/>
          <p:cNvSpPr/>
          <p:nvPr/>
        </p:nvSpPr>
        <p:spPr>
          <a:xfrm>
            <a:off x="4326480" y="529992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⑥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万有引力</a:t>
            </a:r>
            <a:r>
              <a:rPr b="0" lang="zh-CN" sz="1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58384"/>
          <p:cNvSpPr/>
          <p:nvPr/>
        </p:nvSpPr>
        <p:spPr>
          <a:xfrm>
            <a:off x="4067280" y="5733360"/>
            <a:ext cx="20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⑦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学规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右大括号 58385"/>
          <p:cNvSpPr/>
          <p:nvPr/>
        </p:nvSpPr>
        <p:spPr>
          <a:xfrm>
            <a:off x="6012000" y="530064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58386"/>
          <p:cNvSpPr/>
          <p:nvPr/>
        </p:nvSpPr>
        <p:spPr>
          <a:xfrm>
            <a:off x="6156360" y="5445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寄托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8387"/>
          <p:cNvSpPr/>
          <p:nvPr/>
        </p:nvSpPr>
        <p:spPr>
          <a:xfrm>
            <a:off x="1526760" y="5950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举例论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58388"/>
          <p:cNvSpPr/>
          <p:nvPr/>
        </p:nvSpPr>
        <p:spPr>
          <a:xfrm>
            <a:off x="1225440" y="2933640"/>
            <a:ext cx="27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举例论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58389"/>
          <p:cNvSpPr/>
          <p:nvPr/>
        </p:nvSpPr>
        <p:spPr>
          <a:xfrm>
            <a:off x="6372360" y="23493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个人典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事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58390"/>
          <p:cNvSpPr/>
          <p:nvPr/>
        </p:nvSpPr>
        <p:spPr>
          <a:xfrm>
            <a:off x="6302160" y="907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（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58391"/>
          <p:cNvSpPr/>
          <p:nvPr/>
        </p:nvSpPr>
        <p:spPr>
          <a:xfrm>
            <a:off x="6229080" y="1557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（正反对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58392"/>
          <p:cNvSpPr/>
          <p:nvPr/>
        </p:nvSpPr>
        <p:spPr>
          <a:xfrm>
            <a:off x="6229440" y="1916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（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58393"/>
          <p:cNvSpPr/>
          <p:nvPr/>
        </p:nvSpPr>
        <p:spPr>
          <a:xfrm>
            <a:off x="1187280" y="357336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作用：①②③这些社会普遍现象的范围由小到大，说服力不断递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58394"/>
          <p:cNvSpPr/>
          <p:nvPr/>
        </p:nvSpPr>
        <p:spPr>
          <a:xfrm>
            <a:off x="1470240" y="234936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比论证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58395"/>
          <p:cNvSpPr/>
          <p:nvPr/>
        </p:nvSpPr>
        <p:spPr>
          <a:xfrm>
            <a:off x="1297080" y="4354560"/>
            <a:ext cx="78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④⑤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列举了个别的典型事例，有详有略地证明论点，使文章更富有说服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文本框 17409"/>
          <p:cNvSpPr/>
          <p:nvPr/>
        </p:nvSpPr>
        <p:spPr>
          <a:xfrm>
            <a:off x="324000" y="1773360"/>
            <a:ext cx="856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请你说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文中“懒惰”的含义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7410"/>
          <p:cNvSpPr/>
          <p:nvPr/>
        </p:nvSpPr>
        <p:spPr>
          <a:xfrm>
            <a:off x="611280" y="62064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再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3"/>
          <p:cNvSpPr/>
          <p:nvPr/>
        </p:nvSpPr>
        <p:spPr>
          <a:xfrm>
            <a:off x="533520" y="765000"/>
            <a:ext cx="8610480" cy="5616720"/>
          </a:xfrm>
          <a:prstGeom prst="wedgeEllipseCallout">
            <a:avLst>
              <a:gd name="adj1" fmla="val -35638"/>
              <a:gd name="adj2" fmla="val 14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763640" y="2852640"/>
            <a:ext cx="6126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懒于动手出力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勤于动脑想主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18"/>
          <p:cNvSpPr txBox="1"/>
          <p:nvPr/>
        </p:nvSpPr>
        <p:spPr>
          <a:xfrm>
            <a:off x="304920" y="76320"/>
            <a:ext cx="4190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明确“懒惰”的含义：</a:t>
            </a:r>
            <a:endParaRPr b="0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468360" y="50133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dobe 楷体 Std R"/>
                <a:ea typeface="Adobe 楷体 Std R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60417"/>
          <p:cNvSpPr/>
          <p:nvPr/>
        </p:nvSpPr>
        <p:spPr>
          <a:xfrm>
            <a:off x="1042920" y="83664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题目中的“懒惰”并不是真正意义上的懒惰，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_GB2312"/>
              </a:rPr>
              <a:t>而是人们在生活实践中，为了提高效率、节省时间的一种表现。并将这种表现转化为发明、创造，其发明创造就是智慧的结晶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不是指那种在行动上、思想上都懒惰，懒于做任何事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懒得聪明，懒中充满了智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勤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我们提倡勤奋学习，但不能死读书。要多动脑筋，寻求最佳学习方法，寻找提高学习效率的接径，不满足现状，不因循守旧，不断提高学业成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61442"/>
          <p:cNvSpPr/>
          <p:nvPr/>
        </p:nvSpPr>
        <p:spPr>
          <a:xfrm>
            <a:off x="914400" y="990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_GB2312"/>
              </a:rPr>
              <a:t>对我们学习的启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9457"/>
          <p:cNvSpPr/>
          <p:nvPr/>
        </p:nvSpPr>
        <p:spPr>
          <a:xfrm>
            <a:off x="34920" y="2205000"/>
            <a:ext cx="8748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作者在文中举了大量的事例来证明“正是懒惰激励了发明”，我们能不能也生活中举出几个这样的事例呢？（试用“人们正是懒于</a:t>
            </a:r>
            <a:r>
              <a:rPr b="1" lang="zh-CN" sz="36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，才发明了</a:t>
            </a:r>
            <a:r>
              <a:rPr b="1" lang="zh-CN" sz="36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。”这句式说说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9458"/>
          <p:cNvSpPr/>
          <p:nvPr/>
        </p:nvSpPr>
        <p:spPr>
          <a:xfrm>
            <a:off x="755640" y="83664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48"/>
                </a:solidFill>
                <a:latin typeface="黑体"/>
                <a:ea typeface="黑体"/>
              </a:rPr>
              <a:t>联系实际   拓展思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56322" descr="1884p~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068640"/>
            <a:ext cx="4679640" cy="32400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56323" descr="airae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04640"/>
            <a:ext cx="3598920" cy="295308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56324" descr="11065_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8360" y="4149720"/>
            <a:ext cx="3527280" cy="2158920"/>
          </a:xfrm>
          <a:prstGeom prst="rect">
            <a:avLst/>
          </a:prstGeom>
          <a:ln w="0">
            <a:noFill/>
          </a:ln>
        </p:spPr>
      </p:pic>
      <p:pic>
        <p:nvPicPr>
          <p:cNvPr id="231" name="内容占位符 56325" descr="193410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404640"/>
            <a:ext cx="4608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57347" descr="200547164014942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0792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7348" descr="xinsrc_042030208110271822050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3500280"/>
            <a:ext cx="2520720" cy="259272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57349" descr="self_22_38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5640" y="2997360"/>
            <a:ext cx="3816360" cy="31683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57350" descr="22737767_30cf20cc3f_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3789360"/>
            <a:ext cx="1800000" cy="19447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57351" descr="b054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16720" y="1052640"/>
            <a:ext cx="2232000" cy="216036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57352" descr="100_004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627280" y="981000"/>
            <a:ext cx="3238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6"/>
          <p:cNvSpPr txBox="1"/>
          <p:nvPr/>
        </p:nvSpPr>
        <p:spPr>
          <a:xfrm>
            <a:off x="395280" y="69228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也能举出例子来支撑作者的观点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50920" y="1413000"/>
            <a:ext cx="861048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39e5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0039e5"/>
                </a:solidFill>
                <a:latin typeface="楷体"/>
                <a:ea typeface="楷体"/>
              </a:rPr>
              <a:t>参考答案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人们懒于爬楼，发明了电梯。洗衣太累人，发明了洗衣机。在烈日下挥汗如雨割麦太辛苦，发明了收割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9e5"/>
                </a:solidFill>
                <a:latin typeface="Arial"/>
              </a:rPr>
              <a:t>方便碗面、洗衣机、带轮的箱包、电梯、炸药、复印机、洗衣机等等。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汽车、火车、飞机、方便面、电视遥控器、电风扇、带轮子的箱包、傻瓜照相机、一次性物品。</a:t>
            </a:r>
            <a:r>
              <a:rPr b="1" lang="en-US" sz="2800" spc="-1" strike="noStrike">
                <a:solidFill>
                  <a:srgbClr val="0039e5"/>
                </a:solidFill>
                <a:latin typeface="楷体"/>
                <a:ea typeface="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2004123193250924"/>
          <p:cNvPicPr/>
          <p:nvPr/>
        </p:nvPicPr>
        <p:blipFill>
          <a:blip r:embed="rId1"/>
          <a:stretch/>
        </p:blipFill>
        <p:spPr>
          <a:xfrm>
            <a:off x="2438280" y="5562720"/>
            <a:ext cx="47628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46081"/>
          <p:cNvSpPr/>
          <p:nvPr/>
        </p:nvSpPr>
        <p:spPr>
          <a:xfrm>
            <a:off x="863640" y="1279440"/>
            <a:ext cx="74534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还有最近比较流行的懒人部落里的一些产品，比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46082"/>
          <p:cNvSpPr/>
          <p:nvPr/>
        </p:nvSpPr>
        <p:spPr>
          <a:xfrm>
            <a:off x="826920" y="2492280"/>
            <a:ext cx="33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懒人擦地拖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46083"/>
          <p:cNvSpPr/>
          <p:nvPr/>
        </p:nvSpPr>
        <p:spPr>
          <a:xfrm>
            <a:off x="826920" y="3213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绿色环保床上电脑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46084"/>
          <p:cNvSpPr/>
          <p:nvPr/>
        </p:nvSpPr>
        <p:spPr>
          <a:xfrm>
            <a:off x="826920" y="3857760"/>
            <a:ext cx="38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懒汉洗脚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46085"/>
          <p:cNvSpPr/>
          <p:nvPr/>
        </p:nvSpPr>
        <p:spPr>
          <a:xfrm>
            <a:off x="901080" y="4437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62465"/>
          <p:cNvSpPr/>
          <p:nvPr/>
        </p:nvSpPr>
        <p:spPr>
          <a:xfrm>
            <a:off x="1042920" y="4762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自主探究   体味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62466"/>
          <p:cNvSpPr/>
          <p:nvPr/>
        </p:nvSpPr>
        <p:spPr>
          <a:xfrm>
            <a:off x="755640" y="4941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特点一：生动传神又不乏幽默的反映了波特“懒汉的智慧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62467"/>
          <p:cNvSpPr/>
          <p:nvPr/>
        </p:nvSpPr>
        <p:spPr>
          <a:xfrm>
            <a:off x="900000" y="126828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例一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自然段举了汉弗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发明阀门的事例，以“人家雇他整天坐在一台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讨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蒸汽发动机旁边”写波特发明前工作的无奈；以“他是个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懒汉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觉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这活太累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写他萌发发明念头的初衷；以“不但他可以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脱身走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玩个痛快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且发动机的功率也提高了一倍”写他发明后的潇洒；以“他就这样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懒洋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地发现了往复式发动机活塞的原理”总结他的成果。在此，“懒汉”波特其人，简直呼之欲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会上述彩色部分有什么表达效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文本框 63489"/>
          <p:cNvSpPr/>
          <p:nvPr/>
        </p:nvSpPr>
        <p:spPr>
          <a:xfrm>
            <a:off x="1143000" y="2205000"/>
            <a:ext cx="67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真是懒汉干活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63490"/>
          <p:cNvSpPr/>
          <p:nvPr/>
        </p:nvSpPr>
        <p:spPr>
          <a:xfrm>
            <a:off x="609480" y="3284640"/>
            <a:ext cx="69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他讨厌哪怕多走半步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63491"/>
          <p:cNvSpPr/>
          <p:nvPr/>
        </p:nvSpPr>
        <p:spPr>
          <a:xfrm>
            <a:off x="1692360" y="981000"/>
            <a:ext cx="31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例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63492"/>
          <p:cNvSpPr/>
          <p:nvPr/>
        </p:nvSpPr>
        <p:spPr>
          <a:xfrm>
            <a:off x="684360" y="458136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特点二：语言亲切动人，如话家常，具有浓郁的生活气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466560" y="119700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例三</a:t>
            </a: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：他总是一次就把餐具都送到餐桌上，他讨厌哪怕多走半步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951920" y="2996280"/>
            <a:ext cx="50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特点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三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这个句子闪烁着俏皮的智慧的光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表意准确，生动传神，幽默风趣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二、各抒己见，能力迁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4097"/>
          <p:cNvSpPr/>
          <p:nvPr/>
        </p:nvSpPr>
        <p:spPr>
          <a:xfrm>
            <a:off x="684360" y="7650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导入新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098"/>
          <p:cNvSpPr/>
          <p:nvPr/>
        </p:nvSpPr>
        <p:spPr>
          <a:xfrm>
            <a:off x="684360" y="1700280"/>
            <a:ext cx="82296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许同学们都有此感受，家长喜欢勤劳的孩子，老师喜欢勤奋的学生，上司喜欢勤快的下级。勤劳者时时、处处得到表扬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爱劳动，不爱学习，不爱工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懒惰的本义，懒汉成了人人指责的对象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古往今来，懒惰成为地地道道的贬义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美国作家凯利别出心裁、富有创意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为懒汉正名，为“懒惰”分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我们不妨一起来关注一下，作者对懒惰持什么样的观点或者有什么样的解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下面的话题中任选一个，用逆向思维提出观点，并举出可以论证观点的事例，把它写在笔记本上准备进行交流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3360" y="3933720"/>
            <a:ext cx="8540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话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 “班门弄斧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 “说谎是可耻的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69635"/>
          <p:cNvSpPr/>
          <p:nvPr/>
        </p:nvSpPr>
        <p:spPr>
          <a:xfrm>
            <a:off x="990720" y="54936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激活思维 求异创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0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5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5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44080" y="404640"/>
            <a:ext cx="88995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反面观点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有斧不妨弄一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处理手中的“斧子”？能不能在行家面前大显身手呢？我觉得在行家面前，既要敢于弄斧，又要善于弄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首先，要敢于弄斧。斧子这种工具本来就是供人使用的，手持利斧，却前怕狼后怕虎，不知所措。待日晒雨淋，天长日久后，斧子却生了锈，甚至成了一块废铁，才想起斧子还不曾用过，那简直是天大遗憾和笑话。有斧就要用。在行家面前，应该敢于弄斧，并从中吸取经验教训，这样方能推动社会的发展。瓦特改过蒸汽机，揭开了“蒸汽时代”的序幕，可谓“一代宗师”，而霍恩布鲁渥、特列维蒂克两人却敢于“班门弄斧”，前者发明了“双筒蒸汽机”，后者发明了“高压蒸汽机”，利“斧”所至，开创了“蒸汽时代”的新纪元，为人类社会的发展做出了巨大贡献。这种勇于在行家面前创新的“弄斧人”，难道不值得赞扬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··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96472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反面观点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说谎也能表现人的高尚品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论据：面对生命垂危的人，家人、亲戚朋友说的大多是谎话，连作风严谨的医生也不例外，这些谎话显示了人们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爱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；做了好事不肯留下真实姓名、地址的人，具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美好的心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藤野先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中鲁迅也说了谎话，他决心弃医从文，但当先生问起时，他却说要去学生物，说先生教给他的知识还能用得到，他的谎话体现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师生情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三、拓展思维，体验创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25601"/>
          <p:cNvSpPr/>
          <p:nvPr/>
        </p:nvSpPr>
        <p:spPr>
          <a:xfrm>
            <a:off x="0" y="1268280"/>
            <a:ext cx="9144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本文告诉我们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从一个新的角度思考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就可以引出新的观点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请从下列成语中任选一个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变换角度提炼出言之成理的观点，把它写成一篇议论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、近朱者赤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近墨者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、旁观者清，当局者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、开卷有益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、名师出高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5602"/>
          <p:cNvSpPr/>
          <p:nvPr/>
        </p:nvSpPr>
        <p:spPr>
          <a:xfrm>
            <a:off x="971640" y="189000"/>
            <a:ext cx="604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课外作业：求异创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26625" descr="middlet2tbw0hq"/>
          <p:cNvPicPr/>
          <p:nvPr/>
        </p:nvPicPr>
        <p:blipFill>
          <a:blip r:embed="rId1"/>
          <a:stretch/>
        </p:blipFill>
        <p:spPr>
          <a:xfrm>
            <a:off x="34920" y="4428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5121"/>
          <p:cNvSpPr txBox="1"/>
          <p:nvPr/>
        </p:nvSpPr>
        <p:spPr>
          <a:xfrm>
            <a:off x="684360" y="1197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5840">
                  <a:solidFill>
                    <a:srgbClr val="333333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懒惰的智慧</a:t>
            </a:r>
            <a:endParaRPr b="1" lang="en-US" sz="9600" spc="1" strike="noStrike">
              <a:ln w="15840">
                <a:solidFill>
                  <a:srgbClr val="333333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5" name="文本框 5122"/>
          <p:cNvSpPr/>
          <p:nvPr/>
        </p:nvSpPr>
        <p:spPr>
          <a:xfrm>
            <a:off x="5003640" y="3068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凯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5123"/>
          <p:cNvSpPr/>
          <p:nvPr/>
        </p:nvSpPr>
        <p:spPr>
          <a:xfrm>
            <a:off x="0" y="4435560"/>
            <a:ext cx="88930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泉州开发区实验学校 语文组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47105"/>
          <p:cNvSpPr/>
          <p:nvPr/>
        </p:nvSpPr>
        <p:spPr>
          <a:xfrm>
            <a:off x="324000" y="1916280"/>
            <a:ext cx="8820000" cy="2325600"/>
          </a:xfrm>
          <a:prstGeom prst="ellipse">
            <a:avLst/>
          </a:prstGeom>
          <a:gradFill rotWithShape="0">
            <a:gsLst>
              <a:gs pos="0">
                <a:srgbClr val="ffccff">
                  <a:alpha val="62352"/>
                </a:srgbClr>
              </a:gs>
              <a:gs pos="50000">
                <a:srgbClr val="ffffff"/>
              </a:gs>
              <a:gs pos="100000">
                <a:srgbClr val="ffccff">
                  <a:alpha val="62352"/>
                </a:srgbClr>
              </a:gs>
            </a:gsLst>
            <a:lin ang="5400000"/>
          </a:gradFill>
          <a:ln cap="rnd" w="3816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7106"/>
          <p:cNvSpPr/>
          <p:nvPr/>
        </p:nvSpPr>
        <p:spPr>
          <a:xfrm>
            <a:off x="3915360" y="205740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 解 作 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7107"/>
          <p:cNvSpPr/>
          <p:nvPr/>
        </p:nvSpPr>
        <p:spPr>
          <a:xfrm>
            <a:off x="1692360" y="2781360"/>
            <a:ext cx="63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作者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_________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国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7108"/>
          <p:cNvSpPr/>
          <p:nvPr/>
        </p:nvSpPr>
        <p:spPr>
          <a:xfrm>
            <a:off x="3203640" y="263700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凯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7109"/>
          <p:cNvSpPr/>
          <p:nvPr/>
        </p:nvSpPr>
        <p:spPr>
          <a:xfrm>
            <a:off x="5292720" y="2637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7169"/>
          <p:cNvSpPr/>
          <p:nvPr/>
        </p:nvSpPr>
        <p:spPr>
          <a:xfrm>
            <a:off x="611280" y="1700280"/>
            <a:ext cx="799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8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48"/>
                </a:solidFill>
                <a:latin typeface="黑体"/>
                <a:ea typeface="黑体"/>
              </a:rPr>
              <a:t>、领会作者不同凡响的立意，学会逆向思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8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48"/>
                </a:solidFill>
                <a:latin typeface="黑体"/>
                <a:ea typeface="黑体"/>
              </a:rPr>
              <a:t>、学会归纳论点、分析论据；并能指出文中的论证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8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48"/>
                </a:solidFill>
                <a:latin typeface="黑体"/>
                <a:ea typeface="黑体"/>
              </a:rPr>
              <a:t>、正确理解文中“懒惰”的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170"/>
          <p:cNvSpPr/>
          <p:nvPr/>
        </p:nvSpPr>
        <p:spPr>
          <a:xfrm>
            <a:off x="395280" y="260280"/>
            <a:ext cx="71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48"/>
                </a:solidFill>
                <a:latin typeface="黑体"/>
                <a:ea typeface="黑体"/>
              </a:rPr>
              <a:t>学习目标</a:t>
            </a:r>
            <a:r>
              <a:rPr b="1" lang="en-US" sz="4400" spc="-1" strike="noStrike">
                <a:solidFill>
                  <a:srgbClr val="000048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48129"/>
          <p:cNvGrpSpPr/>
          <p:nvPr/>
        </p:nvGrpSpPr>
        <p:grpSpPr>
          <a:xfrm>
            <a:off x="901800" y="990720"/>
            <a:ext cx="2298600" cy="761760"/>
            <a:chOff x="901800" y="990720"/>
            <a:chExt cx="2298600" cy="761760"/>
          </a:xfrm>
        </p:grpSpPr>
        <p:grpSp>
          <p:nvGrpSpPr>
            <p:cNvPr id="125" name="组合 48130"/>
            <p:cNvGrpSpPr/>
            <p:nvPr/>
          </p:nvGrpSpPr>
          <p:grpSpPr>
            <a:xfrm>
              <a:off x="901800" y="990720"/>
              <a:ext cx="2298600" cy="761760"/>
              <a:chOff x="901800" y="990720"/>
              <a:chExt cx="2298600" cy="761760"/>
            </a:xfrm>
          </p:grpSpPr>
          <p:sp>
            <p:nvSpPr>
              <p:cNvPr id="126" name="双波形 48131"/>
              <p:cNvSpPr/>
              <p:nvPr/>
            </p:nvSpPr>
            <p:spPr>
              <a:xfrm>
                <a:off x="901800" y="990720"/>
                <a:ext cx="2298600" cy="761760"/>
              </a:xfrm>
              <a:custGeom>
                <a:avLst/>
                <a:gdLst>
                  <a:gd name="textAreaLeft" fmla="*/ 0 w 2298600"/>
                  <a:gd name="textAreaRight" fmla="*/ 2298960 w 2298600"/>
                  <a:gd name="textAreaTop" fmla="*/ 99000 h 761760"/>
                  <a:gd name="textAreaBottom" fmla="*/ 66276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4"/>
                    </a:moveTo>
                    <a:cubicBezTo>
                      <a:pt x="3600" y="-3570"/>
                      <a:pt x="7200" y="6378"/>
                      <a:pt x="10800" y="1404"/>
                    </a:cubicBezTo>
                    <a:cubicBezTo>
                      <a:pt x="14400" y="-3570"/>
                      <a:pt x="18000" y="6378"/>
                      <a:pt x="21600" y="1404"/>
                    </a:cubicBezTo>
                    <a:lnTo>
                      <a:pt x="21600" y="20196"/>
                    </a:lnTo>
                    <a:cubicBezTo>
                      <a:pt x="18000" y="25170"/>
                      <a:pt x="14400" y="15222"/>
                      <a:pt x="10800" y="20196"/>
                    </a:cubicBezTo>
                    <a:cubicBezTo>
                      <a:pt x="7200" y="25170"/>
                      <a:pt x="3600" y="15222"/>
                      <a:pt x="0" y="2019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99">
                      <a:alpha val="60000"/>
                    </a:srgbClr>
                  </a:gs>
                  <a:gs pos="50000">
                    <a:srgbClr val="ffffff"/>
                  </a:gs>
                  <a:gs pos="100000">
                    <a:srgbClr val="ffcc99">
                      <a:alpha val="6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矩形 48132"/>
              <p:cNvSpPr/>
              <p:nvPr/>
            </p:nvSpPr>
            <p:spPr>
              <a:xfrm>
                <a:off x="932040" y="1067040"/>
                <a:ext cx="223308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文本框 48133"/>
            <p:cNvSpPr/>
            <p:nvPr/>
          </p:nvSpPr>
          <p:spPr>
            <a:xfrm>
              <a:off x="1351800" y="108720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读 准 字 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48134"/>
          <p:cNvGrpSpPr/>
          <p:nvPr/>
        </p:nvGrpSpPr>
        <p:grpSpPr>
          <a:xfrm>
            <a:off x="539640" y="1773360"/>
            <a:ext cx="8604000" cy="5084280"/>
            <a:chOff x="539640" y="1773360"/>
            <a:chExt cx="8604000" cy="5084280"/>
          </a:xfrm>
        </p:grpSpPr>
        <p:sp>
          <p:nvSpPr>
            <p:cNvPr id="130" name="矩形 48135"/>
            <p:cNvSpPr/>
            <p:nvPr/>
          </p:nvSpPr>
          <p:spPr>
            <a:xfrm>
              <a:off x="539640" y="1773360"/>
              <a:ext cx="8604000" cy="5084280"/>
            </a:xfrm>
            <a:prstGeom prst="rect">
              <a:avLst/>
            </a:prstGeom>
            <a:gradFill rotWithShape="0">
              <a:gsLst>
                <a:gs pos="0">
                  <a:srgbClr val="ccffff">
                    <a:alpha val="79215"/>
                  </a:srgbClr>
                </a:gs>
                <a:gs pos="50000">
                  <a:srgbClr val="f9ffff"/>
                </a:gs>
                <a:gs pos="100000">
                  <a:srgbClr val="ccffff">
                    <a:alpha val="79215"/>
                  </a:srgbClr>
                </a:gs>
              </a:gsLst>
              <a:lin ang="5400000"/>
            </a:gradFill>
            <a:ln w="34920">
              <a:solidFill>
                <a:srgbClr val="ffcc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4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48136"/>
            <p:cNvSpPr/>
            <p:nvPr/>
          </p:nvSpPr>
          <p:spPr>
            <a:xfrm>
              <a:off x="973800" y="2174760"/>
              <a:ext cx="77353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倦（     ）容     训诫（     ）  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碗碟（     ）     水泵（     ）  </a:t>
              </a:r>
              <a:br>
                <a:rPr sz="3200"/>
              </a:b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阀（    ）门      螺（    ）栓  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亲躬（     ）     捷（    ）径 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48137"/>
          <p:cNvSpPr/>
          <p:nvPr/>
        </p:nvSpPr>
        <p:spPr>
          <a:xfrm>
            <a:off x="1828800" y="2255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j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8138"/>
          <p:cNvSpPr/>
          <p:nvPr/>
        </p:nvSpPr>
        <p:spPr>
          <a:xfrm>
            <a:off x="5796000" y="227664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ji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8139"/>
          <p:cNvSpPr/>
          <p:nvPr/>
        </p:nvSpPr>
        <p:spPr>
          <a:xfrm>
            <a:off x="2195640" y="3068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d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8140"/>
          <p:cNvSpPr/>
          <p:nvPr/>
        </p:nvSpPr>
        <p:spPr>
          <a:xfrm>
            <a:off x="6084720" y="3068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bè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8141"/>
          <p:cNvSpPr/>
          <p:nvPr/>
        </p:nvSpPr>
        <p:spPr>
          <a:xfrm>
            <a:off x="1908000" y="3789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f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8142"/>
          <p:cNvSpPr/>
          <p:nvPr/>
        </p:nvSpPr>
        <p:spPr>
          <a:xfrm>
            <a:off x="5580000" y="378936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lu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8143"/>
          <p:cNvSpPr/>
          <p:nvPr/>
        </p:nvSpPr>
        <p:spPr>
          <a:xfrm>
            <a:off x="2195640" y="4437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ɡō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8144"/>
          <p:cNvSpPr/>
          <p:nvPr/>
        </p:nvSpPr>
        <p:spPr>
          <a:xfrm>
            <a:off x="5580000" y="45813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j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49153"/>
          <p:cNvGrpSpPr/>
          <p:nvPr/>
        </p:nvGrpSpPr>
        <p:grpSpPr>
          <a:xfrm>
            <a:off x="900000" y="549360"/>
            <a:ext cx="3213000" cy="690480"/>
            <a:chOff x="900000" y="549360"/>
            <a:chExt cx="3213000" cy="690480"/>
          </a:xfrm>
        </p:grpSpPr>
        <p:grpSp>
          <p:nvGrpSpPr>
            <p:cNvPr id="141" name="组合 49154"/>
            <p:cNvGrpSpPr/>
            <p:nvPr/>
          </p:nvGrpSpPr>
          <p:grpSpPr>
            <a:xfrm>
              <a:off x="900000" y="549360"/>
              <a:ext cx="3213000" cy="690480"/>
              <a:chOff x="900000" y="549360"/>
              <a:chExt cx="3213000" cy="690480"/>
            </a:xfrm>
          </p:grpSpPr>
          <p:sp>
            <p:nvSpPr>
              <p:cNvPr id="142" name="双波形 49155"/>
              <p:cNvSpPr/>
              <p:nvPr/>
            </p:nvSpPr>
            <p:spPr>
              <a:xfrm>
                <a:off x="900000" y="549360"/>
                <a:ext cx="3213000" cy="690480"/>
              </a:xfrm>
              <a:custGeom>
                <a:avLst/>
                <a:gdLst>
                  <a:gd name="textAreaLeft" fmla="*/ 0 w 3213000"/>
                  <a:gd name="textAreaRight" fmla="*/ 3213360 w 3213000"/>
                  <a:gd name="textAreaTop" fmla="*/ 89640 h 690480"/>
                  <a:gd name="textAreaBottom" fmla="*/ 600840 h 69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4"/>
                    </a:moveTo>
                    <a:cubicBezTo>
                      <a:pt x="3600" y="-3570"/>
                      <a:pt x="7200" y="6378"/>
                      <a:pt x="10800" y="1404"/>
                    </a:cubicBezTo>
                    <a:cubicBezTo>
                      <a:pt x="14400" y="-3570"/>
                      <a:pt x="18000" y="6378"/>
                      <a:pt x="21600" y="1404"/>
                    </a:cubicBezTo>
                    <a:lnTo>
                      <a:pt x="21600" y="20196"/>
                    </a:lnTo>
                    <a:cubicBezTo>
                      <a:pt x="18000" y="25170"/>
                      <a:pt x="14400" y="15222"/>
                      <a:pt x="10800" y="20196"/>
                    </a:cubicBezTo>
                    <a:cubicBezTo>
                      <a:pt x="7200" y="25170"/>
                      <a:pt x="3600" y="15222"/>
                      <a:pt x="0" y="2019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99">
                      <a:alpha val="60000"/>
                    </a:srgbClr>
                  </a:gs>
                  <a:gs pos="50000">
                    <a:srgbClr val="ffffff"/>
                  </a:gs>
                  <a:gs pos="100000">
                    <a:srgbClr val="ffcc99">
                      <a:alpha val="6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矩形 49156"/>
              <p:cNvSpPr/>
              <p:nvPr/>
            </p:nvSpPr>
            <p:spPr>
              <a:xfrm>
                <a:off x="941040" y="622080"/>
                <a:ext cx="3122640" cy="60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文本框 49157"/>
            <p:cNvSpPr/>
            <p:nvPr/>
          </p:nvSpPr>
          <p:spPr>
            <a:xfrm>
              <a:off x="1633680" y="6256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根据意思写词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49158"/>
          <p:cNvGrpSpPr/>
          <p:nvPr/>
        </p:nvGrpSpPr>
        <p:grpSpPr>
          <a:xfrm>
            <a:off x="826920" y="836640"/>
            <a:ext cx="7467480" cy="6021000"/>
            <a:chOff x="826920" y="836640"/>
            <a:chExt cx="7467480" cy="6021000"/>
          </a:xfrm>
        </p:grpSpPr>
        <p:sp>
          <p:nvSpPr>
            <p:cNvPr id="146" name="横卷形 49159"/>
            <p:cNvSpPr/>
            <p:nvPr/>
          </p:nvSpPr>
          <p:spPr>
            <a:xfrm>
              <a:off x="826920" y="836640"/>
              <a:ext cx="7467480" cy="6021000"/>
            </a:xfrm>
            <a:prstGeom prst="horizontalScroll">
              <a:avLst>
                <a:gd name="adj" fmla="val 7712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49160"/>
            <p:cNvSpPr/>
            <p:nvPr/>
          </p:nvSpPr>
          <p:spPr>
            <a:xfrm>
              <a:off x="941400" y="1617120"/>
              <a:ext cx="723888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）近路，比喻能较快地达到目的的巧妙手段。           （　 　  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2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）亲自做。        （　　   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）遵守规矩。      （　  　 　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4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）好像放下了沉重的负担（　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文本框 49161"/>
          <p:cNvSpPr/>
          <p:nvPr/>
        </p:nvSpPr>
        <p:spPr>
          <a:xfrm>
            <a:off x="5867280" y="2637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捷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9162"/>
          <p:cNvSpPr/>
          <p:nvPr/>
        </p:nvSpPr>
        <p:spPr>
          <a:xfrm>
            <a:off x="6227640" y="3284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亲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9163"/>
          <p:cNvSpPr/>
          <p:nvPr/>
        </p:nvSpPr>
        <p:spPr>
          <a:xfrm>
            <a:off x="60958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循规蹈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49164"/>
          <p:cNvSpPr/>
          <p:nvPr/>
        </p:nvSpPr>
        <p:spPr>
          <a:xfrm>
            <a:off x="6300720" y="486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如释重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7:32:36Z</dcterms:created>
  <dc:creator>NeverMore</dc:creator>
  <dc:description/>
  <dc:language>en-US</dc:language>
  <cp:lastModifiedBy>admin</cp:lastModifiedBy>
  <dcterms:modified xsi:type="dcterms:W3CDTF">2019-07-29T03:26:10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