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373D-906D-495D-9054-4DE680F0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69F9-DE1B-4F9C-A238-E84AB4BC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1C5D3-8703-464C-A94B-217F40B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978C8-879D-43A0-A70E-7B937141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4FC28-FF6E-424B-AE1D-B224681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B716C-C05C-4713-8770-7850EE3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B1F93-4704-41A3-8154-06FCF99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E210-24EA-4915-86CA-8E4C838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E40A3-7AB4-4CB0-8C38-2B7069C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9137-C50E-4490-88A8-57FF21C7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6FF6D-A3F1-41A0-9A64-D94E4044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706CC-73B1-43E2-84B2-D20C65B1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F0EC-86E2-4B74-8C0B-045B2F09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97748-9A67-4999-BBE3-58D0348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F2FA8-57DB-4089-8DB7-FACD95F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6F760-EC37-4D4F-88ED-587475FF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5B7AF-D8B0-4391-B246-AC8C4D9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93774-6E5A-4491-81F1-7B4730D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27285-290F-466F-B23E-F98C6D4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4F3EC-4A48-4A45-ACB5-2CBC4F7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60535-6AB4-4949-8393-3DD6F96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76E15-28B3-4AD1-846B-EF9F696E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FCCEE-2F19-49EA-B587-A35888A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D068-234B-4585-A4E4-04E8E6CE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4A43C-5675-4640-A61C-5A0D28AC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EE1CE-D27B-4AB5-B113-EDE6F0B7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55BD4-E23E-4E77-840E-727C9FF7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D24AA-B7F6-405C-B259-3ADAF5A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E5EA9-4342-4208-865B-60F6510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FC497-5CDB-41E2-ABCD-984E37DC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E1A12-EE83-442E-A3D5-D2A0D3BC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7DCD-1ADF-4C4F-AAC3-7EEBAED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4848D-6733-489C-AFAB-C92295C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AF4D7-3220-472E-BE30-FC41D87C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1C9C-6B14-45A8-AFCB-B6E1B93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94E6-9D2B-47F4-B785-1AA91910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63CBE-67B8-4E8C-92C2-F130F00B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519F8-5E59-432B-B38B-43F9031E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220AC-4E09-4F9E-BD6E-1DFB0625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CA85-ABD3-463C-A1E2-E08C989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E07FE-0A46-47E6-AC62-400B408D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3A86D-5C5C-4CAC-A830-53CF77C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35128-2CED-4361-8608-76DF552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19379-F400-44C0-85A4-FEB0EDEC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A92D0-318B-4F8A-B043-44DFE15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111A-4B73-436C-B960-443F23F5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DBD19-4276-441C-8162-2B03BD50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7A5A1-A791-46C0-ABBA-EE6BBB3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59776-5073-4984-8BCB-3859D985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7CF5-EEBD-45B6-9428-3C9841C9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BA3B3-9FFC-451E-9844-7B2EC2AE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6DA8C-A951-49B0-B3EF-A61E9A42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CB089-5FF3-4835-A9CB-9DABD13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324D3-37D9-4914-BDE1-C1EAB07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29B76-72F0-42EF-9A43-D6FF782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0DC0D-9BFF-409B-95EE-66A2D7B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8621-CD03-4F65-BB9A-5B258CFC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B18F9-EAE4-4A02-BDFA-EFA0EF2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BAC74-7834-407B-872B-07F295A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02E87-DE30-47E0-B8B7-8521BD3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1C869-37E6-47DA-88D2-7BB9190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2B1AE-B6A8-4E7A-81ED-7D4705C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05853-06FC-4C30-BEB1-DD14177A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AFF03-5A53-42E1-A567-2956C2D4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EF458-0704-4D8A-9615-F4E5E327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4D42F-A66B-45FD-8B4A-D776019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3E469-136E-4967-B5C8-13590A3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12FD-7202-4E6A-B388-C4F31D29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0F7B3-F097-4172-BAE5-1CEB2BB6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F4E78-4D00-4C3B-8636-CFEDC3CA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2A560-CECC-4C86-B5C8-8C828B7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77E8A-EB8F-47C2-A094-2C4F764C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C5ADF-4137-4C47-B3F6-6D68552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FC74F-BD22-447F-9A85-DD224B7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F1D80-22C2-424F-AF62-FEFC0276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4314C-18E6-4257-9BF7-CEBACCAC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4FF05-98E9-403E-869A-020D2801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6E5BA-9058-4B4B-97FC-8578CF6E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908B-6FEE-449D-9FAB-B889034D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5FD2D-2C84-4CB4-8850-FC5CB412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32E87-47D5-4B97-9E03-55D87BF7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CD8D5-2C75-41CB-8458-ABEEEDFA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3DA3C-B23F-4287-BBC0-57D3454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CC3F5-9292-4E9B-9B5C-2692DE31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8FE21-6A7C-4F78-AB04-CEA294D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6A8D9-EC1F-4DDC-9D2F-E88F772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4E1CD-1E5A-46E6-A3F1-54AB3C9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2F330-A4B0-43B4-95FA-7B6AA84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30D87-3B86-407E-BABA-2799BFD5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3F4-C375-4343-A4F6-B3D21B0E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5C84F-1986-4F25-984B-53E4D0C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9B2E4-30C0-45DC-B8DC-2B3D68A4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84D6D-B0C4-42AE-A485-C4929E8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68263-4856-4B05-A12A-ADF0F91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421BB-0F4B-4717-BC56-6BC694F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8DDFA-3EDF-496A-978D-82A5A17F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28DAD-AF02-4C8E-846F-A43B229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5D726-E1ED-43DB-ADB8-9E64490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E2C2E-D56E-4106-A477-6405135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0F9DD-6625-4B4C-BEBF-E71354B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F93C-08D9-4E9C-A6D0-C07B53A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05121-F081-4C76-BC72-47D4F22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20A3B-33E0-4BB9-B362-70D533B8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53D12-4A3C-4FA7-91CD-12C9B2C1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4C02F-8C8B-453E-A8F5-487CEAF9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B35EC-50DD-41C2-88AA-DF7B6591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92754-FFC3-4138-88F0-98B3DDDF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BEFF4-A605-4A3F-9F07-66336AF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A40BE-8C8B-48C4-A8D9-63EABA7F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86C0B-1B70-4E52-8EBF-4D0B88F1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98DD4-506C-4DFD-9A2B-0CD5CCE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1C72-44DF-4A6D-A61F-9237B4B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AD9-30E7-415F-9F6E-25A8A22E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A462B-12F5-43FE-8DFF-3B75C3E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26AE03-F831-4499-9C97-83AFFBFA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AC47C-2889-4141-BBE2-98D99931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52D05-C6ED-4EFA-8905-8E4E6B18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5D0D4-2B6F-45C3-A900-8A622AD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776BF-4BCC-4FB8-9280-05C75E9A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D775C-0B2D-4A46-B106-DEE76D3A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D9CEA-CF38-4A34-B775-5B5DFC5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AF64D-1B7B-4E17-8ACA-844FA9E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492AA-F09C-45BB-B291-716C5A2B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2996-D75F-43E6-B6C7-EA67F56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CF3EC-D7CB-46C9-BC08-BAFA254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20226-8D1C-465A-8231-A125BF7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6E5EB-EAB8-4E7A-9D14-03D9B6BF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68BEC-CFF7-444C-96D2-71E088B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DF204-CADE-4746-A7A1-A67F270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5BBF0-6D93-4811-9991-D70DBEB9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12620-835A-497D-8F63-E95F92F7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06132-F1F2-4F1A-A379-03AC623B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D957F-4EF0-407C-B1A9-E4009607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B9700-8B1E-4443-91E3-742849D6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E2CE-7364-4AFF-9E07-0BBD3B14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83688-6888-4FC9-B76F-102AF95B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B8195-3F96-4E01-AD28-021C6A0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03BC1-88EA-4E65-B068-A76D2279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3C35C-894E-47EB-AA55-E4AFF62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9BEA6-1617-417D-974F-F09F222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A5722-2060-43AC-A94D-D4FA1586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AAF8B-8732-42A4-81F3-334D60BB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57A58-A798-474E-BE14-A5FCEE9E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62EE8-6CAD-4E09-98BE-0B5EBED6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309C5-680C-421A-86D4-0032DCA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A69F-59DE-4D01-B575-51F02FE0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FED5D-923B-482E-8B69-7EDF367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27014-57A2-4824-B50B-35BD0F9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AF6E1-0AF4-4451-88B0-1ABCD2DB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EF8E2-1924-4293-853E-1AB0B59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708178-57F3-498A-9DC3-B79F4C3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A7D60-664B-4B23-BB4C-7ACE8A2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38ACB-A486-42CB-B82D-CB79574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AFA46-4F15-4D02-99B7-903401C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C90D0-0490-465E-8FFB-77B623B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A3F59-4F3E-4520-830B-C6066FE7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80B5-3127-411E-AEAF-53DE8212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741E1-A9BB-48DF-8756-6E6EE448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85E7A-FD96-4A95-AF63-73743D15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8E240-1788-4A7A-B28D-92AC1E7E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B339A-7271-4B55-B542-C171EACE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63FFF-8E08-4854-AC95-4609C040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64FFE-CF7C-467E-B923-4804E6BF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6BDB7-81E7-43FB-BCA3-0DCA60A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89F5A0-4ECB-4984-A678-9D07DC6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CEE9BA-16E2-4755-B6F6-754F9C4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FAD0F-24AF-4CDF-9E75-D77563E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F3CD-A287-4630-AEC3-78ECAA0D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E2168-E30A-403B-A92D-BDDE243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5D587-2344-45F2-83C2-1CFE6D18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58AA6-4170-4852-886A-03F8A96E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0AC34-08AD-4C7B-A3AF-444C13F9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8F04BE-5649-4639-834B-E6D8AA0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B3033-FA70-44C3-846A-8752FFCA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081DB-72F6-4858-9902-CDA6CF3E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4ED6C-AE40-4F20-A7CF-BB53454F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35A42-49B5-4A86-9AD2-B8EB121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7C1B6-2EBE-4907-B162-BC815D3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ED67-9ECA-4AE3-BB5A-0F898B6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D666C7-FD71-4C51-8998-AE9D838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B4EE58-D172-4EFB-90C7-DB1CEC4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3E7CA-E481-4104-B553-A4A07CC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12B2E-67D4-461B-B1B8-09C3EF98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54454E-C9AF-4801-90A4-C803D879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A6EE-62AB-47F2-AF92-CA8A1DB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E7D3-2F22-4AC8-B66C-D0DBE59E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7581-28CC-428B-8545-237400F3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ABDD-A98B-44E8-8C7C-C3DC31D1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C224-E779-4789-BB66-DB09F048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47DE-3A1A-4E3E-9BE3-2072E22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506A-C264-4C07-9504-B071A2B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8040-4583-495B-9843-AED914F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8B96-43C2-41C4-95D9-D8704A0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5A34-498D-44BC-B684-891DC949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C394-8260-4DBB-B031-BD759AF9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F574-CF59-424C-B454-2E1D197E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7E17-3305-4135-990B-B28CAC9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8BAB-A6A5-409B-A0AA-C22A3161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923D-6035-424B-A55F-3912A8AD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3C6C-7BBD-44CE-918F-9DC59921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40ED-E35A-442B-B2BB-1E2A7019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8C80-75FA-40AA-BB65-E16E21A6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3123-BDB0-4879-8FA7-C7BBB7B5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CAF9-7F15-4624-ABE2-E6FAEEE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8951-EE43-49DE-9972-3EC49E2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2C07-1DFD-4A31-9119-88DD2F84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D01C-1888-4E49-8820-50B88D15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6FC26-2620-40C2-BAE8-5067FA3D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5652-C7D7-4FD3-B917-07EB46D5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3ED2-7028-446E-9AE8-08A1FFC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4720-2FD4-41B0-9F88-EBFEC794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A2E9-1B82-48D2-8574-3CEB773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9B16-4B99-470F-8FBE-6962062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4C83-7883-4A0B-8A1D-D1522B6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96E9-B16D-48B5-9979-BA6DB47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67B8-21CB-4572-828E-0D9DC878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2EE3-D1DE-48AA-A076-F31CF6D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BAA5-87BA-4C6E-B374-A653C8D2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5C57-6988-4DB6-A091-DCB78AC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D6CBB-4B50-4D8F-BA62-715CFA6F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5EF3-67F3-4700-B11F-EF62BEC1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B7D79-CE0A-497F-8082-D962B3D4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243C-692B-4639-A2AC-B6FDA639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0A62A-DF1B-4F69-9932-94332E0A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36ED7-7A2A-477E-803F-6DB8C675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DE7D-500B-4032-8B68-049970C2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330D-846F-4EFD-ABEF-B84DB1C3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30624-140F-4361-B1BF-6ED48C0B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F7F9-45D0-4B5F-A0F6-7CF00AB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4D71-6177-47EB-91D6-054325A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9564C-5F2D-4B47-A06D-9D036CD7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39D8-C166-4A10-A33E-061340C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17F6-9983-44E4-A627-6317B9B3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B374-22BA-453C-9CB3-EC24AD11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B399-23DD-48B3-B1AA-584627F3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8E951-E6B1-4921-9B68-5C1F01EE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D864-9604-4197-8497-1BBD4FBB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09A2-8A8E-4B6D-8279-C946399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E2ECB-28F1-448C-B638-A256E46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2EDF-F1B1-4EE5-94C8-482932E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F05B-FE01-4A3C-A5D8-DA54A1BC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1AF4-2EE6-4D7B-883C-4DDBCEA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5F8C-500F-4E8F-A4F7-A4ECAAF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5746-2366-4446-858C-740E05E2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B99CA-5EE2-475E-A998-F3D87C7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1E52-8EF0-48F2-A9A3-7C48E6D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B5441-71B7-4FFC-AEB3-0572611A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40C3-5048-4CF7-AF48-3459D437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9CBBA-C3E7-429D-9311-47AC7D1F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11057-71C9-4DD9-929D-C71794C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4D348-C88A-47EA-9BEE-52A5462E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D9C5-BA73-46B8-9263-7BC9415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A5C8-7BB1-42A4-9138-BDF23191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3890-200E-4FB7-8BED-BCB0A60D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335C-243A-42D1-A750-4A4C62E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59BA-C862-4705-A376-9159EBC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2178-0E75-491F-BE9B-4090D3E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C4A4-9E88-4D26-9931-1A02AEC1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A9FC-CD2C-4A09-9499-BC550C30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453B-9D25-4E0B-A7FD-D8BED0BB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CC02-4B4A-4CFA-8A66-42E0E811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4BCF5-C552-4CE4-95B0-F3F38FEB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D126-1541-4C06-A92E-CD17825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A3D4A-A9C4-412D-AEB3-AF19B62C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4F7-65D4-4A3B-9F6D-37362F6CFBD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DF2-126A-49D2-8AAE-6C0816BE233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7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7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8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8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272-1CF9-479A-AF38-865BDA34C7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3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3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D780-D7C4-4989-8C05-68A603FFE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1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1BBA-8FB4-4D9A-9A36-4B0BFC38AD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5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6E7E-3267-4AA1-B061-A7F938C477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0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0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0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D6B1-EB03-4CDB-A95D-1B243955E512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8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8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9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0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1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1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2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2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4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5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9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AD8F-63FF-442F-91C8-9D9FDAF53CED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5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DB3D-C535-4D5D-8365-94CD7196F6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2ACF-4D5D-450A-ABBD-58F6733BE3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EFD7-4584-4F01-9FD1-3D64575378B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CA22-921F-4AE9-9A68-5D52E6EF3A7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E7CC-F34F-4723-A8B5-4FC9F3F04C6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41E-CB3F-40EA-B5E3-42865783DA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9F1-5094-4947-AF52-0F9CEDA9B4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3BD3-84BC-462A-8394-C35D779FB9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8C10-A9FF-4E19-803C-74645E33081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EB6D-9E9F-4CAA-A26D-5C755D8BC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155-9342-41E8-98F7-5D9D9113EF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D08E-C1C5-483F-9BD8-7FA1B88DB07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3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3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32F9-2CE9-4DE8-AEFF-ADA17848C5D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392-6394-4EF3-A5F4-9D4D2CA8E6F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8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1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1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1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9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4140360" y="2852640"/>
            <a:ext cx="377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［哥伦比亚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马尔克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624720"/>
            <a:ext cx="5003640" cy="260280"/>
          </a:xfrm>
          <a:prstGeom prst="rect">
            <a:avLst/>
          </a:prstGeom>
          <a:gradFill rotWithShape="0">
            <a:gsLst>
              <a:gs pos="0">
                <a:srgbClr val="ff8b17">
                  <a:alpha val="70196"/>
                </a:srgbClr>
              </a:gs>
              <a:gs pos="100000">
                <a:srgbClr val="583007">
                  <a:alpha val="6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2878200" cy="352908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 txBox="1"/>
          <p:nvPr/>
        </p:nvSpPr>
        <p:spPr>
          <a:xfrm>
            <a:off x="5003640" y="5445000"/>
            <a:ext cx="36007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瓯江高级中学     姜丽霞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611280" y="620640"/>
            <a:ext cx="51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礼拜二午睡时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1547280" y="1025280"/>
            <a:ext cx="5975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分析结尾的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样写是为了突现作品的主题—人类伟大的情感—母爱。小说以母女俩直接走向墓地为结尾更突出了这位母亲的从容坦然，表现出其强忍着丧子的巨大悲痛，以超常的勇气直面人生，直面生存现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324000" y="20606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慈爱，自尊，坚强，面对苦难的生活，拥有一种宽厚无比的忍受能力与有力的抗争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善良，富有同情心，能理解源于贫困，而从这贫困里锻造出来的自尊的高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60120" y="148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887040" y="364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34424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母亲与神父的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6480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刻画母亲主要用了什么手法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细节描写（语言、神态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环境描写烘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4532400" y="2492280"/>
            <a:ext cx="27954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69608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悟主旨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文章通过一对母女去祭拜被当作小偷打死的亲人的经过，向我们展示出了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母爱的执着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以及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神父的宽容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进一步揭示了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人性中那固有的真爱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28749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母爱是人类伟大的情感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《 礼拜二午睡时刻》怎样含蓄地表现了这种感情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我们常说：爱，不需要理由。这只是在一般情况下，在特殊情况下，爱，的确是需要理由的。本文中，母爱因为儿子可能有的“污点” 而失去正常表达的可能，情感的洪流必须寻求其他的途径才能传达出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初次出场的母亲的景况显然不是很好，但她却是坚强的，“一直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---”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。她的坚强体现在对女儿的态度上甚至近乎粗暴。在神父那里，她更表现出不近人情的“固执”和“执拗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这种爱体现在对儿子形象的维护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如果说一个做小偷的儿子给予母亲的“屈辱”只是观念中的话，那么随着神父窗外人群的聚集，“屈辱”已然成为现实了。连神父都感受到压力，和妹妹一起力劝母女俩避开这一场面，但母亲在得知真相后，却表现出更为果断和坚强。对神父和妹妹的善意，只是礼貌地拒绝。母爱的力量使她冲破道德的谴责，不惧怕自以为有着道德优势的人们投来种种异样的目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395280" y="260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15fc3"/>
                </a:solidFill>
                <a:latin typeface="Arial"/>
                <a:ea typeface="隶书"/>
              </a:rPr>
              <a:t>写作特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4000" y="170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火车上时一直没写她们此行的目的，直到需要登记时才表明她们是来看被杀的儿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50920" y="32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子被杀只是用很少的笔墨草草带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24000" y="4149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女儿的刻画有很多细节描写，如穿鞋子、脱鞋子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843280" y="5516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15fc3"/>
                </a:solidFill>
                <a:latin typeface="Arial"/>
              </a:rPr>
              <a:t>仔细体味作者为什么要这样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210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这篇小说里，情感是一条潜伏的线索。情感动力驱动着情节的发展。上面的细节都在暗示着母亲内心难以忍受的痛苦。读完作品后的我们能够感到，一定得是“午睡时刻”才能带来如此强烈而震慑的情感力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布置作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作业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外阅读《百年孤独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4890960" y="2349360"/>
            <a:ext cx="3789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250920" y="40464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加西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马尔克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）哥伦比亚魔幻现实主义作家，记者。是父亲的非婚子，从小在外祖父家中长大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时，他迁居首都波哥大，就读于教会学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进国立波哥大大学攻读法律，并加入自由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哥伦比亚发生内战，马尔克斯中途辍学。不久，他进入报界，任《观察家报》记者，同时从事文学创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起，任该报驻欧洲记者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50920" y="3573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98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获诺贝尔文学奖和哥伦比亚语言科学院名誉院士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95280" y="4365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尔克斯作品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要特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幻想与现实的巧妙结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此来反映社会现实生活，审视人生和世界。这种把现实与幻景溶为一体的创作方法，被称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魔幻现实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3600360" cy="5400720"/>
          </a:xfrm>
          <a:prstGeom prst="rect">
            <a:avLst/>
          </a:prstGeom>
          <a:ln w="0">
            <a:noFill/>
          </a:ln>
        </p:spPr>
      </p:pic>
      <p:sp>
        <p:nvSpPr>
          <p:cNvPr id="1312" name=""/>
          <p:cNvSpPr/>
          <p:nvPr/>
        </p:nvSpPr>
        <p:spPr>
          <a:xfrm>
            <a:off x="395280" y="62532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尔卡斯的重要作品有长篇小说代表作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百年孤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誉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再现拉丁美洲历史社会图景的鸿篇巨著”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家长的没落》《霍乱时期的爱情》等，中篇小说《枯枝败叶》《恶时辰》等，短篇小说集《蓝宝石般的眼睛》《格兰德大妈的葬礼》等，电影文学剧本《绑架》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339120" cy="7007040"/>
          </a:xfrm>
          <a:prstGeom prst="rect">
            <a:avLst/>
          </a:prstGeom>
          <a:ln w="0">
            <a:noFill/>
          </a:ln>
        </p:spPr>
      </p:pic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168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读全文</a:t>
            </a:r>
            <a:br>
              <a:rPr sz="3200"/>
            </a:b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89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标自然段序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古隶简体"/>
              </a:rPr>
              <a:t>概括故事梗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古隶简体"/>
              </a:rPr>
              <a:t>按“开端”“发展”“高潮”给课文分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体会“午睡时刻”这一时间设置在作品中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古隶简体"/>
              </a:rPr>
              <a:t>故事梗概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2692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叙述一位母亲带着年幼的女儿坐火车去拜祭误当“小偷”而被打死的儿子的故事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151760" y="0"/>
            <a:ext cx="1992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900000" y="549360"/>
            <a:ext cx="3743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-1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说开端     祭拜途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5-5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说发展   与神父交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9-7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说高潮   准备去祭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4648320" y="404640"/>
            <a:ext cx="44956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课堂讨论</a:t>
            </a:r>
            <a:br>
              <a:rPr sz="4000"/>
            </a:br>
            <a:r>
              <a:rPr b="1" lang="zh-CN" sz="3600" spc="-1" strike="noStrike">
                <a:solidFill>
                  <a:srgbClr val="1c1c1c"/>
                </a:solidFill>
                <a:latin typeface="Tahoma"/>
              </a:rPr>
              <a:t>联系课文内容，试分析母亲与神父的形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 初次出场时母亲是什么样子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景况很不好，但很坚强，安贫若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母亲对女儿怎样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态度近乎粗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她对神父怎样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表现得不近人情的“固执”和“执拗”。她的反常的“平静”“温和”“不动声色”的声音中压抑的是对一个被当作“小偷”打死的儿子的爱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神父的表情变化表现了他怎样的心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来以普通人对小偷的态度来看待“小偷”的家属的，但面对眼前的母女俩，逐渐改变了看法，他的表情变化充分展示了他的激烈的内心波澜，他为自己原先的想法而惭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母亲跟神父谈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始终保持着一种平静的神态，是否可以理解为她内心的平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能，性格坚强，对社会现实的抗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分角色朗读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59-70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，思考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的环境描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烘托出母亲将面临的屈辱景况—自以为有着道德优势的人们的道德谴责，而母亲后来的行为使毫无畏惧的母爱跨越了道德界限，超越了种族、地域、和时代的阻隔，感动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试分析神父三次劝阻母女立刻去墓地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次是从天气的状况出发给予母女俩一句很常规的问候；第二次是为了避免母女俩受到更多的伤害，举止间充满了一种设身处地的体贴；第三次试图出手相助却又无能为力的心理溢于言表，内心所有的波澜都聚集在这几句话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0:31:53Z</dcterms:created>
  <dc:creator>wang</dc:creator>
  <dc:description/>
  <dc:language>en-US</dc:language>
  <cp:lastModifiedBy>微软用户</cp:lastModifiedBy>
  <dcterms:modified xsi:type="dcterms:W3CDTF">2008-04-10T13:18:52Z</dcterms:modified>
  <cp:revision>27</cp:revision>
  <dc:subject/>
  <dc:title>幻灯片 1</dc:title>
</cp:coreProperties>
</file>