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D99-9CE1-4F59-A519-A8ED3448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712-0C35-4889-9E86-A04BF83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24B-072A-480F-9031-9738FB90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D1A-EA0D-4005-B524-056C574D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475-BC9E-4101-9127-9EECD95B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9749-9A4B-42D1-BA32-99F58893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9424-EB1F-4DC9-8180-36B52438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BA02-74C8-40EA-9544-404B527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6C93-4463-46EF-880B-6AA735B3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BCBD-9BB1-477E-8EC9-FED423A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7C8-2359-4235-A0B2-D2C089A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3E8-855E-47C6-A4F4-4A471B0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7145-D727-4D41-9D6B-BED1AD54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7D06-72A1-4BBF-8154-4A0316B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D8D6-C18B-489A-AD62-7285943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C6AB-4759-47D3-B2E8-32AF9145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05ED-37C5-4B9B-95FE-2FCEC97A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2BF9-5846-4823-841C-242E5C78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9DF9-12B7-4DDB-98F2-1E6160C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40B5C-502B-4C00-A27E-A41FF869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5B5D-41E4-4B1E-A103-16DC4EA0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5997-6654-486D-ADA6-D7CD9FA6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7DC-FC9E-4093-86D3-2EF93E33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F369-4EF8-4B94-9046-94C3712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85715-CCA6-4131-9C71-D698E63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8DB1-6D4C-4070-8FD2-AF9408E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75F1-ABF4-47A1-BB1C-AAA98D0E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3A7A-04E0-40BC-99C2-119325C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C3D5-CC59-4177-A94F-2E9DD5D4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968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4792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968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4792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F694B-034D-4A6C-B94F-69DA0847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97E-55E9-4C08-AAB4-F78AD9BB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641-8CD7-481F-AEE3-54A01494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CE6-BA92-415E-8D89-FB94BC23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DF6-B3FD-47F5-9DE1-3A57337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314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4A4-B9A5-4B79-9651-D47666B6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14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F5E-DA9A-4BDD-99EA-4BDF16B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윤디자인-편집소스\편집소스\새 폴더\녹색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0" y="6629400"/>
            <a:ext cx="9144000" cy="225360"/>
            <a:chOff x="0" y="6629400"/>
            <a:chExt cx="9144000" cy="225360"/>
          </a:xfrm>
        </p:grpSpPr>
        <p:sp>
          <p:nvSpPr>
            <p:cNvPr id="2" name="Rectangle 4"/>
            <p:cNvSpPr/>
            <p:nvPr/>
          </p:nvSpPr>
          <p:spPr>
            <a:xfrm>
              <a:off x="0" y="6629400"/>
              <a:ext cx="9144000" cy="225360"/>
            </a:xfrm>
            <a:prstGeom prst="rect">
              <a:avLst/>
            </a:prstGeom>
            <a:solidFill>
              <a:srgbClr val="70b6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017720" y="6629400"/>
              <a:ext cx="15192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18880" y="6629400"/>
              <a:ext cx="15048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239480" y="6629400"/>
              <a:ext cx="152280" cy="225360"/>
            </a:xfrm>
            <a:prstGeom prst="rect">
              <a:avLst/>
            </a:prstGeom>
            <a:solidFill>
              <a:srgbClr val="8ac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1299960" y="6629400"/>
              <a:ext cx="140760" cy="225360"/>
            </a:xfrm>
            <a:prstGeom prst="rect">
              <a:avLst/>
            </a:prstGeom>
            <a:solidFill>
              <a:srgbClr val="9fd1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965600" y="6629400"/>
              <a:ext cx="15048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097000" y="6629400"/>
              <a:ext cx="14112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178000" y="6629400"/>
              <a:ext cx="9972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439720" y="6629400"/>
              <a:ext cx="10116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499840" y="6629400"/>
              <a:ext cx="10116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571480" y="6629400"/>
              <a:ext cx="99360" cy="225360"/>
            </a:xfrm>
            <a:prstGeom prst="rect">
              <a:avLst/>
            </a:prstGeom>
            <a:solidFill>
              <a:srgbClr val="c9e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2611080" y="6629400"/>
              <a:ext cx="101160" cy="225360"/>
            </a:xfrm>
            <a:prstGeom prst="rect">
              <a:avLst/>
            </a:prstGeom>
            <a:solidFill>
              <a:srgbClr val="8ac5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991680" y="6629400"/>
              <a:ext cx="8856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062960" y="6629400"/>
              <a:ext cx="99720" cy="225360"/>
            </a:xfrm>
            <a:prstGeom prst="rect">
              <a:avLst/>
            </a:prstGeom>
            <a:solidFill>
              <a:srgbClr val="c9e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113720" y="6629400"/>
              <a:ext cx="9972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4192920" y="6629400"/>
              <a:ext cx="10116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84720" y="6629400"/>
              <a:ext cx="9972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8799840" y="6629400"/>
              <a:ext cx="10152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8709480" y="6629400"/>
              <a:ext cx="10116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934400" y="6629400"/>
              <a:ext cx="99360" cy="225360"/>
            </a:xfrm>
            <a:prstGeom prst="rect">
              <a:avLst/>
            </a:prstGeom>
            <a:solidFill>
              <a:srgbClr val="91c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8487720" y="6629400"/>
              <a:ext cx="88560" cy="225360"/>
            </a:xfrm>
            <a:prstGeom prst="rect">
              <a:avLst/>
            </a:prstGeom>
            <a:solidFill>
              <a:srgbClr val="c9e6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8417880" y="6629400"/>
              <a:ext cx="9936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8346600" y="6629400"/>
              <a:ext cx="101160" cy="225360"/>
            </a:xfrm>
            <a:prstGeom prst="rect">
              <a:avLst/>
            </a:prstGeom>
            <a:solidFill>
              <a:srgbClr val="a8d5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7076520" y="6629400"/>
              <a:ext cx="101160" cy="225360"/>
            </a:xfrm>
            <a:prstGeom prst="rect">
              <a:avLst/>
            </a:prstGeom>
            <a:solidFill>
              <a:srgbClr val="b0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6995880" y="6629400"/>
              <a:ext cx="10116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8265600" y="6629400"/>
              <a:ext cx="10152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5987880" y="6629400"/>
              <a:ext cx="101160" cy="225360"/>
            </a:xfrm>
            <a:prstGeom prst="rect">
              <a:avLst/>
            </a:prstGeom>
            <a:solidFill>
              <a:srgbClr val="d1e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5917680" y="6629400"/>
              <a:ext cx="99720" cy="225360"/>
            </a:xfrm>
            <a:prstGeom prst="rect">
              <a:avLst/>
            </a:prstGeom>
            <a:solidFill>
              <a:srgbClr val="599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5846400" y="6629400"/>
              <a:ext cx="101160" cy="225360"/>
            </a:xfrm>
            <a:prstGeom prst="rect">
              <a:avLst/>
            </a:prstGeom>
            <a:solidFill>
              <a:srgbClr val="a2d2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8850600" y="6629400"/>
              <a:ext cx="101520" cy="225360"/>
            </a:xfrm>
            <a:prstGeom prst="rect">
              <a:avLst/>
            </a:prstGeom>
            <a:solidFill>
              <a:srgbClr val="87c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" name="Group 34"/>
          <p:cNvGrpSpPr/>
          <p:nvPr/>
        </p:nvGrpSpPr>
        <p:grpSpPr>
          <a:xfrm>
            <a:off x="228600" y="228600"/>
            <a:ext cx="685440" cy="838080"/>
            <a:chOff x="228600" y="228600"/>
            <a:chExt cx="685440" cy="838080"/>
          </a:xfrm>
        </p:grpSpPr>
        <p:sp>
          <p:nvSpPr>
            <p:cNvPr id="33" name="Freeform 35"/>
            <p:cNvSpPr/>
            <p:nvPr/>
          </p:nvSpPr>
          <p:spPr>
            <a:xfrm>
              <a:off x="279000" y="228600"/>
              <a:ext cx="635040" cy="83808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41" y="0"/>
                  </a:moveTo>
                  <a:lnTo>
                    <a:pt x="62" y="6"/>
                  </a:lnTo>
                  <a:lnTo>
                    <a:pt x="61" y="29"/>
                  </a:lnTo>
                  <a:lnTo>
                    <a:pt x="72" y="20"/>
                  </a:lnTo>
                  <a:lnTo>
                    <a:pt x="76" y="38"/>
                  </a:lnTo>
                  <a:lnTo>
                    <a:pt x="66" y="49"/>
                  </a:lnTo>
                  <a:lnTo>
                    <a:pt x="74" y="55"/>
                  </a:lnTo>
                  <a:lnTo>
                    <a:pt x="68" y="73"/>
                  </a:lnTo>
                  <a:lnTo>
                    <a:pt x="58" y="69"/>
                  </a:lnTo>
                  <a:lnTo>
                    <a:pt x="58" y="86"/>
                  </a:lnTo>
                  <a:lnTo>
                    <a:pt x="41" y="97"/>
                  </a:lnTo>
                  <a:lnTo>
                    <a:pt x="41" y="78"/>
                  </a:lnTo>
                  <a:lnTo>
                    <a:pt x="22" y="97"/>
                  </a:lnTo>
                  <a:lnTo>
                    <a:pt x="4" y="78"/>
                  </a:lnTo>
                  <a:lnTo>
                    <a:pt x="29" y="57"/>
                  </a:lnTo>
                  <a:lnTo>
                    <a:pt x="0" y="45"/>
                  </a:lnTo>
                  <a:lnTo>
                    <a:pt x="18" y="11"/>
                  </a:lnTo>
                  <a:lnTo>
                    <a:pt x="41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eb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487440" y="228600"/>
              <a:ext cx="136800" cy="25020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16" y="2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28600" y="324000"/>
              <a:ext cx="200520" cy="29268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13" y="6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253800" y="668520"/>
              <a:ext cx="266760" cy="2332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8" y="0"/>
                  </a:moveTo>
                  <a:lnTo>
                    <a:pt x="32" y="6"/>
                  </a:lnTo>
                  <a:lnTo>
                    <a:pt x="7" y="27"/>
                  </a:lnTo>
                  <a:lnTo>
                    <a:pt x="0" y="1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546120" y="902160"/>
              <a:ext cx="75600" cy="1641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786600" y="400680"/>
              <a:ext cx="90360" cy="78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b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Freeform 41"/>
          <p:cNvSpPr/>
          <p:nvPr/>
        </p:nvSpPr>
        <p:spPr>
          <a:xfrm>
            <a:off x="4826160" y="304920"/>
            <a:ext cx="657000" cy="65376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110" y="0"/>
                </a:moveTo>
                <a:lnTo>
                  <a:pt x="220" y="109"/>
                </a:lnTo>
                <a:lnTo>
                  <a:pt x="110" y="219"/>
                </a:lnTo>
                <a:lnTo>
                  <a:pt x="0" y="109"/>
                </a:lnTo>
                <a:lnTo>
                  <a:pt x="110" y="0"/>
                </a:lnTo>
                <a:close/>
                <a:moveTo>
                  <a:pt x="48" y="124"/>
                </a:moveTo>
                <a:lnTo>
                  <a:pt x="124" y="124"/>
                </a:lnTo>
                <a:lnTo>
                  <a:pt x="98" y="154"/>
                </a:lnTo>
                <a:lnTo>
                  <a:pt x="115" y="169"/>
                </a:lnTo>
                <a:lnTo>
                  <a:pt x="171" y="110"/>
                </a:lnTo>
                <a:lnTo>
                  <a:pt x="115" y="50"/>
                </a:lnTo>
                <a:lnTo>
                  <a:pt x="98" y="65"/>
                </a:lnTo>
                <a:lnTo>
                  <a:pt x="124" y="96"/>
                </a:lnTo>
                <a:lnTo>
                  <a:pt x="48" y="96"/>
                </a:lnTo>
                <a:lnTo>
                  <a:pt x="48" y="1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Freeform 42"/>
          <p:cNvSpPr/>
          <p:nvPr/>
        </p:nvSpPr>
        <p:spPr>
          <a:xfrm>
            <a:off x="7493040" y="103320"/>
            <a:ext cx="431640" cy="43020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110" y="0"/>
                </a:moveTo>
                <a:lnTo>
                  <a:pt x="220" y="109"/>
                </a:lnTo>
                <a:lnTo>
                  <a:pt x="110" y="219"/>
                </a:lnTo>
                <a:lnTo>
                  <a:pt x="0" y="109"/>
                </a:lnTo>
                <a:lnTo>
                  <a:pt x="110" y="0"/>
                </a:lnTo>
                <a:close/>
                <a:moveTo>
                  <a:pt x="48" y="124"/>
                </a:moveTo>
                <a:lnTo>
                  <a:pt x="124" y="124"/>
                </a:lnTo>
                <a:lnTo>
                  <a:pt x="98" y="154"/>
                </a:lnTo>
                <a:lnTo>
                  <a:pt x="115" y="169"/>
                </a:lnTo>
                <a:lnTo>
                  <a:pt x="171" y="110"/>
                </a:lnTo>
                <a:lnTo>
                  <a:pt x="115" y="50"/>
                </a:lnTo>
                <a:lnTo>
                  <a:pt x="98" y="65"/>
                </a:lnTo>
                <a:lnTo>
                  <a:pt x="124" y="96"/>
                </a:lnTo>
                <a:lnTo>
                  <a:pt x="48" y="96"/>
                </a:lnTo>
                <a:lnTo>
                  <a:pt x="48" y="1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reeform 43"/>
          <p:cNvSpPr/>
          <p:nvPr/>
        </p:nvSpPr>
        <p:spPr>
          <a:xfrm>
            <a:off x="1219320" y="0"/>
            <a:ext cx="733320" cy="65412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110" y="0"/>
                </a:moveTo>
                <a:lnTo>
                  <a:pt x="220" y="109"/>
                </a:lnTo>
                <a:lnTo>
                  <a:pt x="110" y="219"/>
                </a:lnTo>
                <a:lnTo>
                  <a:pt x="0" y="109"/>
                </a:lnTo>
                <a:lnTo>
                  <a:pt x="110" y="0"/>
                </a:lnTo>
                <a:close/>
                <a:moveTo>
                  <a:pt x="48" y="124"/>
                </a:moveTo>
                <a:lnTo>
                  <a:pt x="124" y="124"/>
                </a:lnTo>
                <a:lnTo>
                  <a:pt x="98" y="154"/>
                </a:lnTo>
                <a:lnTo>
                  <a:pt x="115" y="169"/>
                </a:lnTo>
                <a:lnTo>
                  <a:pt x="171" y="110"/>
                </a:lnTo>
                <a:lnTo>
                  <a:pt x="115" y="50"/>
                </a:lnTo>
                <a:lnTo>
                  <a:pt x="98" y="65"/>
                </a:lnTo>
                <a:lnTo>
                  <a:pt x="124" y="96"/>
                </a:lnTo>
                <a:lnTo>
                  <a:pt x="48" y="96"/>
                </a:lnTo>
                <a:lnTo>
                  <a:pt x="48" y="1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-소망B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C030-441A-44AA-AAC2-D7ACD6CB80F9}" type="datetime">
              <a:rPr b="0" lang="zh-CN" sz="1400" spc="-1" strike="noStrike">
                <a:solidFill>
                  <a:srgbClr val="000000"/>
                </a:solidFill>
                <a:latin typeface="-소망L"/>
                <a:ea typeface="-소망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197-7EDC-44D7-BF05-F287CBC8EACB}" type="slidenum">
              <a:rPr b="0" lang="zh-CN" sz="1400" spc="-1" strike="noStrike">
                <a:solidFill>
                  <a:srgbClr val="000000"/>
                </a:solidFill>
                <a:latin typeface="-소망L"/>
                <a:ea typeface="-소망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谢谢观赏副本"/>
          <p:cNvPicPr/>
          <p:nvPr/>
        </p:nvPicPr>
        <p:blipFill>
          <a:blip r:embed="rId2"/>
          <a:stretch/>
        </p:blipFill>
        <p:spPr>
          <a:xfrm>
            <a:off x="-34920" y="-22320"/>
            <a:ext cx="339840" cy="98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D8F-052A-435F-81B3-6658A5DB69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7DC-B8D4-4564-AE61-25831FB04B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0"/>
            <a:ext cx="9220320" cy="6858000"/>
          </a:xfrm>
          <a:prstGeom prst="rect">
            <a:avLst/>
          </a:prstGeom>
          <a:gradFill rotWithShape="0">
            <a:gsLst>
              <a:gs pos="0">
                <a:srgbClr val="185e18"/>
              </a:gs>
              <a:gs pos="50000">
                <a:srgbClr val="33cc33">
                  <a:alpha val="90196"/>
                </a:srgbClr>
              </a:gs>
              <a:gs pos="100000">
                <a:srgbClr val="185e1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-1212840" y="-1441440"/>
            <a:ext cx="11423520" cy="8528040"/>
          </a:xfrm>
          <a:prstGeom prst="ellipse">
            <a:avLst/>
          </a:prstGeom>
          <a:gradFill rotWithShape="0">
            <a:gsLst>
              <a:gs pos="0">
                <a:srgbClr val="77dd77"/>
              </a:gs>
              <a:gs pos="100000">
                <a:srgbClr val="33cc3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0"/>
            <a:ext cx="9372600" cy="6858000"/>
          </a:xfrm>
          <a:prstGeom prst="rect">
            <a:avLst/>
          </a:prstGeom>
          <a:solidFill>
            <a:srgbClr val="00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윤디자인-편집소스\편집소스\새 폴더\녹색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윤디자인-편집소스\편집소스\새 폴더\녹섹아래.jpg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4"/>
          <p:cNvGrpSpPr/>
          <p:nvPr/>
        </p:nvGrpSpPr>
        <p:grpSpPr>
          <a:xfrm>
            <a:off x="666720" y="2209680"/>
            <a:ext cx="933480" cy="1143000"/>
            <a:chOff x="666720" y="2209680"/>
            <a:chExt cx="933480" cy="1143000"/>
          </a:xfrm>
        </p:grpSpPr>
        <p:sp>
          <p:nvSpPr>
            <p:cNvPr id="131" name="Freeform 5"/>
            <p:cNvSpPr/>
            <p:nvPr/>
          </p:nvSpPr>
          <p:spPr>
            <a:xfrm>
              <a:off x="735120" y="2209680"/>
              <a:ext cx="865080" cy="114300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41" y="0"/>
                  </a:moveTo>
                  <a:lnTo>
                    <a:pt x="62" y="6"/>
                  </a:lnTo>
                  <a:lnTo>
                    <a:pt x="61" y="29"/>
                  </a:lnTo>
                  <a:lnTo>
                    <a:pt x="72" y="20"/>
                  </a:lnTo>
                  <a:lnTo>
                    <a:pt x="76" y="38"/>
                  </a:lnTo>
                  <a:lnTo>
                    <a:pt x="66" y="49"/>
                  </a:lnTo>
                  <a:lnTo>
                    <a:pt x="74" y="55"/>
                  </a:lnTo>
                  <a:lnTo>
                    <a:pt x="68" y="73"/>
                  </a:lnTo>
                  <a:lnTo>
                    <a:pt x="58" y="69"/>
                  </a:lnTo>
                  <a:lnTo>
                    <a:pt x="58" y="86"/>
                  </a:lnTo>
                  <a:lnTo>
                    <a:pt x="41" y="97"/>
                  </a:lnTo>
                  <a:lnTo>
                    <a:pt x="41" y="78"/>
                  </a:lnTo>
                  <a:lnTo>
                    <a:pt x="22" y="97"/>
                  </a:lnTo>
                  <a:lnTo>
                    <a:pt x="4" y="78"/>
                  </a:lnTo>
                  <a:lnTo>
                    <a:pt x="29" y="57"/>
                  </a:lnTo>
                  <a:lnTo>
                    <a:pt x="0" y="45"/>
                  </a:lnTo>
                  <a:lnTo>
                    <a:pt x="18" y="11"/>
                  </a:lnTo>
                  <a:lnTo>
                    <a:pt x="41" y="2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eb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"/>
            <p:cNvSpPr/>
            <p:nvPr/>
          </p:nvSpPr>
          <p:spPr>
            <a:xfrm>
              <a:off x="1019160" y="2209680"/>
              <a:ext cx="182520" cy="3412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6" y="0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16" y="2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"/>
            <p:cNvSpPr/>
            <p:nvPr/>
          </p:nvSpPr>
          <p:spPr>
            <a:xfrm>
              <a:off x="666720" y="2339640"/>
              <a:ext cx="272880" cy="4003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13" y="6"/>
                  </a:lnTo>
                  <a:lnTo>
                    <a:pt x="0" y="30"/>
                  </a:lnTo>
                  <a:lnTo>
                    <a:pt x="6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8"/>
            <p:cNvSpPr/>
            <p:nvPr/>
          </p:nvSpPr>
          <p:spPr>
            <a:xfrm>
              <a:off x="701640" y="2809800"/>
              <a:ext cx="363600" cy="3189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8" y="0"/>
                  </a:moveTo>
                  <a:lnTo>
                    <a:pt x="32" y="6"/>
                  </a:lnTo>
                  <a:lnTo>
                    <a:pt x="7" y="27"/>
                  </a:lnTo>
                  <a:lnTo>
                    <a:pt x="0" y="1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1098360" y="3128760"/>
              <a:ext cx="103320" cy="2239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9" y="1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158d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1428840" y="2444400"/>
              <a:ext cx="123840" cy="1065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8b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Freeform 11"/>
          <p:cNvSpPr/>
          <p:nvPr/>
        </p:nvSpPr>
        <p:spPr>
          <a:xfrm>
            <a:off x="1905120" y="6172200"/>
            <a:ext cx="431640" cy="43020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110" y="0"/>
                </a:moveTo>
                <a:lnTo>
                  <a:pt x="220" y="109"/>
                </a:lnTo>
                <a:lnTo>
                  <a:pt x="110" y="219"/>
                </a:lnTo>
                <a:lnTo>
                  <a:pt x="0" y="109"/>
                </a:lnTo>
                <a:lnTo>
                  <a:pt x="110" y="0"/>
                </a:lnTo>
                <a:close/>
                <a:moveTo>
                  <a:pt x="48" y="124"/>
                </a:moveTo>
                <a:lnTo>
                  <a:pt x="124" y="124"/>
                </a:lnTo>
                <a:lnTo>
                  <a:pt x="98" y="154"/>
                </a:lnTo>
                <a:lnTo>
                  <a:pt x="115" y="169"/>
                </a:lnTo>
                <a:lnTo>
                  <a:pt x="171" y="110"/>
                </a:lnTo>
                <a:lnTo>
                  <a:pt x="115" y="50"/>
                </a:lnTo>
                <a:lnTo>
                  <a:pt x="98" y="65"/>
                </a:lnTo>
                <a:lnTo>
                  <a:pt x="124" y="96"/>
                </a:lnTo>
                <a:lnTo>
                  <a:pt x="48" y="96"/>
                </a:lnTo>
                <a:lnTo>
                  <a:pt x="48" y="1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0" y="5378400"/>
            <a:ext cx="9156600" cy="225360"/>
          </a:xfrm>
          <a:prstGeom prst="rect">
            <a:avLst/>
          </a:prstGeom>
          <a:solidFill>
            <a:srgbClr val="70b6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1019160" y="5378400"/>
            <a:ext cx="15228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1120680" y="5378400"/>
            <a:ext cx="15084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241280" y="5378400"/>
            <a:ext cx="152640" cy="225360"/>
          </a:xfrm>
          <a:prstGeom prst="rect">
            <a:avLst/>
          </a:prstGeom>
          <a:solidFill>
            <a:srgbClr val="8a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301760" y="5378400"/>
            <a:ext cx="141120" cy="225360"/>
          </a:xfrm>
          <a:prstGeom prst="rect">
            <a:avLst/>
          </a:prstGeom>
          <a:solidFill>
            <a:srgbClr val="9fd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968480" y="5378400"/>
            <a:ext cx="15084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2100240" y="5378400"/>
            <a:ext cx="14148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2181240" y="5378400"/>
            <a:ext cx="10008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2443320" y="5378400"/>
            <a:ext cx="10152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2503440" y="5378400"/>
            <a:ext cx="10152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2575080" y="5378400"/>
            <a:ext cx="99720" cy="225360"/>
          </a:xfrm>
          <a:prstGeom prst="rect">
            <a:avLst/>
          </a:prstGeom>
          <a:solidFill>
            <a:srgbClr val="c9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2614680" y="5378400"/>
            <a:ext cx="101520" cy="225360"/>
          </a:xfrm>
          <a:prstGeom prst="rect">
            <a:avLst/>
          </a:prstGeom>
          <a:solidFill>
            <a:srgbClr val="8ac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3997440" y="5378400"/>
            <a:ext cx="10152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4068720" y="5378400"/>
            <a:ext cx="100080" cy="225360"/>
          </a:xfrm>
          <a:prstGeom prst="rect">
            <a:avLst/>
          </a:prstGeom>
          <a:solidFill>
            <a:srgbClr val="c9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4119480" y="5378400"/>
            <a:ext cx="10008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4199040" y="5378400"/>
            <a:ext cx="10152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4290840" y="5378400"/>
            <a:ext cx="10008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8812080" y="5378400"/>
            <a:ext cx="10188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8721720" y="5378400"/>
            <a:ext cx="10152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7945560" y="5378400"/>
            <a:ext cx="99720" cy="225360"/>
          </a:xfrm>
          <a:prstGeom prst="rect">
            <a:avLst/>
          </a:prstGeom>
          <a:solidFill>
            <a:srgbClr val="91c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8499600" y="5378400"/>
            <a:ext cx="101520" cy="225360"/>
          </a:xfrm>
          <a:prstGeom prst="rect">
            <a:avLst/>
          </a:prstGeom>
          <a:solidFill>
            <a:srgbClr val="c9e6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8429760" y="5378400"/>
            <a:ext cx="9972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8358120" y="5378400"/>
            <a:ext cx="101520" cy="225360"/>
          </a:xfrm>
          <a:prstGeom prst="rect">
            <a:avLst/>
          </a:prstGeom>
          <a:solidFill>
            <a:srgbClr val="a8d5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7086600" y="5378400"/>
            <a:ext cx="101520" cy="225360"/>
          </a:xfrm>
          <a:prstGeom prst="rect">
            <a:avLst/>
          </a:prstGeom>
          <a:solidFill>
            <a:srgbClr val="b0d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7005600" y="5378400"/>
            <a:ext cx="10152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8277120" y="5378400"/>
            <a:ext cx="10188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5996160" y="5378400"/>
            <a:ext cx="101520" cy="225360"/>
          </a:xfrm>
          <a:prstGeom prst="rect">
            <a:avLst/>
          </a:prstGeom>
          <a:solidFill>
            <a:srgbClr val="d1e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5925960" y="5378400"/>
            <a:ext cx="100080" cy="225360"/>
          </a:xfrm>
          <a:prstGeom prst="rect">
            <a:avLst/>
          </a:prstGeom>
          <a:solidFill>
            <a:srgbClr val="599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5854680" y="5378400"/>
            <a:ext cx="101520" cy="225360"/>
          </a:xfrm>
          <a:prstGeom prst="rect">
            <a:avLst/>
          </a:prstGeom>
          <a:solidFill>
            <a:srgbClr val="a2d2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8862840" y="5378400"/>
            <a:ext cx="101880" cy="225360"/>
          </a:xfrm>
          <a:prstGeom prst="rect">
            <a:avLst/>
          </a:prstGeom>
          <a:solidFill>
            <a:srgbClr val="87c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4"/>
          <p:cNvGrpSpPr/>
          <p:nvPr/>
        </p:nvGrpSpPr>
        <p:grpSpPr>
          <a:xfrm>
            <a:off x="1320840" y="63360"/>
            <a:ext cx="7365960" cy="927000"/>
            <a:chOff x="1320840" y="63360"/>
            <a:chExt cx="7365960" cy="927000"/>
          </a:xfrm>
        </p:grpSpPr>
        <p:sp>
          <p:nvSpPr>
            <p:cNvPr id="169" name="Freeform 45"/>
            <p:cNvSpPr/>
            <p:nvPr/>
          </p:nvSpPr>
          <p:spPr>
            <a:xfrm>
              <a:off x="1320840" y="336600"/>
              <a:ext cx="657360" cy="653760"/>
            </a:xfrm>
            <a:custGeom>
              <a:avLst/>
              <a:gdLst/>
              <a:ahLst/>
              <a:rect l="l" t="t" r="r" b="b"/>
              <a:pathLst>
                <a:path w="220" h="219">
                  <a:moveTo>
                    <a:pt x="110" y="0"/>
                  </a:moveTo>
                  <a:lnTo>
                    <a:pt x="220" y="109"/>
                  </a:lnTo>
                  <a:lnTo>
                    <a:pt x="110" y="219"/>
                  </a:lnTo>
                  <a:lnTo>
                    <a:pt x="0" y="109"/>
                  </a:lnTo>
                  <a:lnTo>
                    <a:pt x="110" y="0"/>
                  </a:lnTo>
                  <a:close/>
                  <a:moveTo>
                    <a:pt x="48" y="124"/>
                  </a:moveTo>
                  <a:lnTo>
                    <a:pt x="124" y="124"/>
                  </a:lnTo>
                  <a:lnTo>
                    <a:pt x="98" y="154"/>
                  </a:lnTo>
                  <a:lnTo>
                    <a:pt x="115" y="169"/>
                  </a:lnTo>
                  <a:lnTo>
                    <a:pt x="171" y="110"/>
                  </a:lnTo>
                  <a:lnTo>
                    <a:pt x="115" y="50"/>
                  </a:lnTo>
                  <a:lnTo>
                    <a:pt x="98" y="65"/>
                  </a:lnTo>
                  <a:lnTo>
                    <a:pt x="124" y="96"/>
                  </a:lnTo>
                  <a:lnTo>
                    <a:pt x="48" y="96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6"/>
            <p:cNvSpPr/>
            <p:nvPr/>
          </p:nvSpPr>
          <p:spPr>
            <a:xfrm>
              <a:off x="3987720" y="134640"/>
              <a:ext cx="432000" cy="430560"/>
            </a:xfrm>
            <a:custGeom>
              <a:avLst/>
              <a:gdLst/>
              <a:ahLst/>
              <a:rect l="l" t="t" r="r" b="b"/>
              <a:pathLst>
                <a:path w="220" h="219">
                  <a:moveTo>
                    <a:pt x="110" y="0"/>
                  </a:moveTo>
                  <a:lnTo>
                    <a:pt x="220" y="109"/>
                  </a:lnTo>
                  <a:lnTo>
                    <a:pt x="110" y="219"/>
                  </a:lnTo>
                  <a:lnTo>
                    <a:pt x="0" y="109"/>
                  </a:lnTo>
                  <a:lnTo>
                    <a:pt x="110" y="0"/>
                  </a:lnTo>
                  <a:close/>
                  <a:moveTo>
                    <a:pt x="48" y="124"/>
                  </a:moveTo>
                  <a:lnTo>
                    <a:pt x="124" y="124"/>
                  </a:lnTo>
                  <a:lnTo>
                    <a:pt x="98" y="154"/>
                  </a:lnTo>
                  <a:lnTo>
                    <a:pt x="115" y="169"/>
                  </a:lnTo>
                  <a:lnTo>
                    <a:pt x="171" y="110"/>
                  </a:lnTo>
                  <a:lnTo>
                    <a:pt x="115" y="50"/>
                  </a:lnTo>
                  <a:lnTo>
                    <a:pt x="98" y="65"/>
                  </a:lnTo>
                  <a:lnTo>
                    <a:pt x="124" y="96"/>
                  </a:lnTo>
                  <a:lnTo>
                    <a:pt x="48" y="96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7"/>
            <p:cNvSpPr/>
            <p:nvPr/>
          </p:nvSpPr>
          <p:spPr>
            <a:xfrm>
              <a:off x="7953480" y="63360"/>
              <a:ext cx="733320" cy="654120"/>
            </a:xfrm>
            <a:custGeom>
              <a:avLst/>
              <a:gdLst/>
              <a:ahLst/>
              <a:rect l="l" t="t" r="r" b="b"/>
              <a:pathLst>
                <a:path w="220" h="219">
                  <a:moveTo>
                    <a:pt x="110" y="0"/>
                  </a:moveTo>
                  <a:lnTo>
                    <a:pt x="220" y="109"/>
                  </a:lnTo>
                  <a:lnTo>
                    <a:pt x="110" y="219"/>
                  </a:lnTo>
                  <a:lnTo>
                    <a:pt x="0" y="109"/>
                  </a:lnTo>
                  <a:lnTo>
                    <a:pt x="110" y="0"/>
                  </a:lnTo>
                  <a:close/>
                  <a:moveTo>
                    <a:pt x="48" y="124"/>
                  </a:moveTo>
                  <a:lnTo>
                    <a:pt x="124" y="124"/>
                  </a:lnTo>
                  <a:lnTo>
                    <a:pt x="98" y="154"/>
                  </a:lnTo>
                  <a:lnTo>
                    <a:pt x="115" y="169"/>
                  </a:lnTo>
                  <a:lnTo>
                    <a:pt x="171" y="110"/>
                  </a:lnTo>
                  <a:lnTo>
                    <a:pt x="115" y="50"/>
                  </a:lnTo>
                  <a:lnTo>
                    <a:pt x="98" y="65"/>
                  </a:lnTo>
                  <a:lnTo>
                    <a:pt x="124" y="96"/>
                  </a:lnTo>
                  <a:lnTo>
                    <a:pt x="48" y="96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-소망B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54DF-BBD9-4825-9928-44B82E60ADDD}" type="datetime">
              <a:rPr b="0" lang="zh-CN" sz="1400" spc="-1" strike="noStrike">
                <a:solidFill>
                  <a:srgbClr val="000000"/>
                </a:solidFill>
                <a:latin typeface="-소망L"/>
                <a:ea typeface="-소망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L"/>
                <a:ea typeface="-소망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2FE-FC4F-4087-9AC3-21391229F9D7}" type="slidenum">
              <a:rPr b="0" lang="zh-CN" sz="1400" spc="-1" strike="noStrike">
                <a:solidFill>
                  <a:srgbClr val="000000"/>
                </a:solidFill>
                <a:latin typeface="-소망L"/>
                <a:ea typeface="-소망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&#22403;&#22334;&#20998;&#31867;&#21487;&#34892;&#24615;&#35843;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5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7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&#22403;&#22334;&#20998;&#31867;&#21487;&#34892;&#24615;&#35843;&#26597;&#38382;&#21367;.doc" TargetMode="External"/><Relationship Id="rId2" Type="http://schemas.openxmlformats.org/officeDocument/2006/relationships/hyperlink" Target="&#22403;&#22334;&#20998;&#31867;&#21487;&#34892;&#24615;&#35843;&#26597;&#38382;&#21367;.doc" TargetMode="External"/><Relationship Id="rId3" Type="http://schemas.openxmlformats.org/officeDocument/2006/relationships/hyperlink" Target="&#22403;&#22334;&#20998;&#31867;&#21487;&#34892;&#24615;&#35843;&#26597;&#38382;&#21367;.doc" TargetMode="External"/><Relationship Id="rId4" Type="http://schemas.openxmlformats.org/officeDocument/2006/relationships/hyperlink" Target="&#22403;&#22334;&#20998;&#31867;&#21487;&#34892;&#24615;&#35843;.ppt" TargetMode="External"/><Relationship Id="rId5" Type="http://schemas.openxmlformats.org/officeDocument/2006/relationships/hyperlink" Target="&#22403;&#22334;&#20998;&#31867;&#21487;&#34892;&#24615;&#35843;.ppt" TargetMode="External"/><Relationship Id="rId6" Type="http://schemas.openxmlformats.org/officeDocument/2006/relationships/hyperlink" Target="&#22403;&#22334;&#20998;&#31867;&#21487;&#34892;&#24615;&#35843;.ppt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8440" y="1357200"/>
            <a:ext cx="73515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-소망M"/>
                <a:ea typeface="-소망M"/>
              </a:rPr>
              <a:t>垃 圾 分 类</a:t>
            </a:r>
            <a:endParaRPr b="0" lang="en-US" sz="6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当易网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285840" y="16430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垃圾回收作为一种产业得到了迅速发展，在许多发达国家，回收产业正在全国产业结构中占有越来越重要的位置。以美国个城市巴尔的摩、华盛顿和里奇蒙为例，过去回收垃圾每处理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吨需要花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美元，分类处理以后，这些回收的垃圾在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1995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年就创造了</a:t>
            </a:r>
            <a:r>
              <a:rPr b="1" lang="en-US" sz="2400" spc="-1" strike="noStrike">
                <a:solidFill>
                  <a:srgbClr val="ff0000"/>
                </a:solidFill>
                <a:latin typeface="仿宋"/>
                <a:ea typeface="仿宋"/>
              </a:rPr>
              <a:t>5100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个就业机会。在美国这</a:t>
            </a: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个城市只是很小的一个地区，其垃圾回收不仅节约了处理垃圾的费用，而且创造了</a:t>
            </a:r>
            <a:r>
              <a:rPr b="1" lang="en-US" sz="2400" spc="-1" strike="noStrike">
                <a:solidFill>
                  <a:srgbClr val="ff0000"/>
                </a:solidFill>
                <a:latin typeface="仿宋"/>
                <a:ea typeface="仿宋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亿美元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的财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285840" y="450072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我国垃圾量年增速高达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0% 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，垃圾处理市场前景诱人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357200" y="64296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垃圾分类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428760" y="57168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实例：垃圾，让她成为千万女富豪</a:t>
            </a:r>
            <a:r>
              <a:rPr b="1" lang="en-US" sz="4000" spc="-1" strike="noStrike">
                <a:solidFill>
                  <a:srgbClr val="000000"/>
                </a:solidFill>
                <a:latin typeface="仿宋"/>
                <a:ea typeface="仿宋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428760" y="1785960"/>
            <a:ext cx="85010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这两天，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成孝梅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正在改印自己的名片，因为她刚刚以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万元注册了一家新的公司，身份要从“航成再生资源回收服务社社长”换成“航成废品物资有限公司法人代表、董事长”，创建了一个从“垃圾回收→垃圾分拣→垃圾再利用加工→产品分销”一条龙的综合性再生资源回收企业。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年来，成孝梅从一万元起家，利用人们看不起的所谓垃圾积淀了上千万的资产。这些垃圾包括生活垃圾和工矿企业的工业垃圾，我们来算算她的财富来源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成孝梅眼中主要垃圾财富：纸板、废金属、酒瓶、塑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每天回收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纸板：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至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废金属：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至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酒瓶：载重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货车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    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塑料：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至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吨货车</a:t>
            </a:r>
            <a:r>
              <a:rPr b="0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左箭头 9">
            <a:hlinkClick r:id="rId1"/>
          </p:cNvPr>
          <p:cNvSpPr/>
          <p:nvPr/>
        </p:nvSpPr>
        <p:spPr>
          <a:xfrm>
            <a:off x="7929720" y="6000840"/>
            <a:ext cx="785520" cy="42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调查结果的分析</a:t>
            </a:r>
            <a:endParaRPr b="0" lang="en-US" sz="44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问题：您对垃圾分类了解吗？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28760" y="2143080"/>
          <a:ext cx="8143920" cy="2786040"/>
        </p:xfrm>
        <a:graphic>
          <a:graphicData uri="http://schemas.openxmlformats.org/drawingml/2006/table">
            <a:tbl>
              <a:tblPr/>
              <a:tblGrid>
                <a:gridCol w="2066760"/>
                <a:gridCol w="2005200"/>
                <a:gridCol w="2036880"/>
                <a:gridCol w="2035080"/>
              </a:tblGrid>
              <a:tr h="69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男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女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总计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4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13.6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18.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1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了解一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86.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7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79.5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不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调查结果的分析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问题：您是否支持垃圾分类？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928800" y="2428920"/>
          <a:ext cx="7572240" cy="292896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男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女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总计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4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95.4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10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97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不支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无所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.2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调查结果的分析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问题：您一般如何处理自己的生活垃圾？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14240" y="2357280"/>
          <a:ext cx="7572240" cy="315108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71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男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女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总计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4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M"/>
                          <a:ea typeface="-소망M"/>
                        </a:rPr>
                        <a:t>所有垃圾一起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0.9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6.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8.6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1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M"/>
                          <a:ea typeface="-소망M"/>
                        </a:rPr>
                        <a:t>可回收的集中到一起卖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6.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0.9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8.6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81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M"/>
                          <a:ea typeface="-소망M"/>
                        </a:rPr>
                        <a:t>电池等危险废物放到回收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调查结果的分析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问题：如果在校园内设有分类垃圾箱，您是   否愿意按要求进行垃圾分类？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14240" y="2786040"/>
          <a:ext cx="7786800" cy="2714760"/>
        </p:xfrm>
        <a:graphic>
          <a:graphicData uri="http://schemas.openxmlformats.org/drawingml/2006/table">
            <a:tbl>
              <a:tblPr/>
              <a:tblGrid>
                <a:gridCol w="1946160"/>
                <a:gridCol w="1946520"/>
                <a:gridCol w="1947600"/>
                <a:gridCol w="1946520"/>
              </a:tblGrid>
              <a:tr h="67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男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女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总计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4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愿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81.8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95.4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88.6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不愿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.2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9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看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13.6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9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调查结果的分析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问题</a:t>
            </a:r>
            <a:r>
              <a:rPr b="0" lang="en-US" sz="3000" spc="-1" strike="noStrike">
                <a:solidFill>
                  <a:srgbClr val="000000"/>
                </a:solidFill>
                <a:latin typeface="-소망M"/>
              </a:rPr>
              <a:t>:</a:t>
            </a:r>
            <a:r>
              <a:rPr b="0" lang="zh-CN" sz="3000" spc="-1" strike="noStrike">
                <a:solidFill>
                  <a:srgbClr val="000000"/>
                </a:solidFill>
                <a:latin typeface="-소망M"/>
              </a:rPr>
              <a:t>您认为大学生活垃圾处理的阻碍因素是什么？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85880" y="2786040"/>
          <a:ext cx="7572240" cy="3419640"/>
        </p:xfrm>
        <a:graphic>
          <a:graphicData uri="http://schemas.openxmlformats.org/drawingml/2006/table">
            <a:tbl>
              <a:tblPr/>
              <a:tblGrid>
                <a:gridCol w="1892160"/>
                <a:gridCol w="1893960"/>
                <a:gridCol w="1893960"/>
                <a:gridCol w="1892160"/>
              </a:tblGrid>
              <a:tr h="61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选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男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女生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总计（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44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-소망B"/>
                          <a:ea typeface="-소망M"/>
                        </a:rPr>
                        <a:t>人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垃圾桶没有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6.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1.8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4.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对垃圾分类不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6.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9.5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觉得太麻烦不愿意分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22.7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0.9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31.8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觉得分类没有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4.5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-소망B"/>
                          <a:ea typeface="-소망M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3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-소망B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-소망B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440" y="1499760"/>
            <a:ext cx="7815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根据调查结果可知，在学校里进行垃圾分类是 具有一定可行性的，大部分同学认为垃圾分类是有意义的，也支持垃圾分类。但是，若要形成一个比较完整的分类处理系统需要一定的资金投入（比如加设分类垃圾箱），还要有管理人员及管理制度。如果只是在垃圾投放时进行分类，在垃圾运输过程中又混在一起，垃圾分类依旧是毫无意义的。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Oval 2"/>
          <p:cNvSpPr/>
          <p:nvPr/>
        </p:nvSpPr>
        <p:spPr>
          <a:xfrm>
            <a:off x="3505320" y="2971800"/>
            <a:ext cx="374400" cy="3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5638680" y="4495680"/>
            <a:ext cx="2181240" cy="2181240"/>
          </a:xfrm>
          <a:prstGeom prst="ellipse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4724280" y="396252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ffff">
                  <a:alpha val="6274"/>
                </a:srgbClr>
              </a:gs>
              <a:gs pos="100000">
                <a:srgbClr val="d1d1d1">
                  <a:alpha val="1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2133720" y="1828800"/>
            <a:ext cx="457200" cy="457200"/>
          </a:xfrm>
          <a:prstGeom prst="ellipse">
            <a:avLst/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3733920" y="3048120"/>
            <a:ext cx="1419120" cy="14191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3809880" y="3124080"/>
            <a:ext cx="914400" cy="91440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571500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-1714680" y="-1857240"/>
            <a:ext cx="5935680" cy="5670000"/>
            <a:chOff x="-1714680" y="-1857240"/>
            <a:chExt cx="5935680" cy="5670000"/>
          </a:xfrm>
        </p:grpSpPr>
        <p:sp>
          <p:nvSpPr>
            <p:cNvPr id="290" name="Oval 10"/>
            <p:cNvSpPr/>
            <p:nvPr/>
          </p:nvSpPr>
          <p:spPr>
            <a:xfrm>
              <a:off x="-1714680" y="-1662120"/>
              <a:ext cx="5732640" cy="547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1"/>
            <p:cNvGrpSpPr/>
            <p:nvPr/>
          </p:nvGrpSpPr>
          <p:grpSpPr>
            <a:xfrm>
              <a:off x="-1713600" y="-1857240"/>
              <a:ext cx="5934600" cy="5651280"/>
              <a:chOff x="-1713600" y="-1857240"/>
              <a:chExt cx="5934600" cy="5651280"/>
            </a:xfrm>
          </p:grpSpPr>
          <p:grpSp>
            <p:nvGrpSpPr>
              <p:cNvPr id="292" name="Group 12"/>
              <p:cNvGrpSpPr/>
              <p:nvPr/>
            </p:nvGrpSpPr>
            <p:grpSpPr>
              <a:xfrm>
                <a:off x="-1713600" y="-1857240"/>
                <a:ext cx="5934600" cy="5651280"/>
                <a:chOff x="-1713600" y="-1857240"/>
                <a:chExt cx="5934600" cy="5651280"/>
              </a:xfrm>
            </p:grpSpPr>
            <p:grpSp>
              <p:nvGrpSpPr>
                <p:cNvPr id="293" name="Group 13"/>
                <p:cNvGrpSpPr/>
                <p:nvPr/>
              </p:nvGrpSpPr>
              <p:grpSpPr>
                <a:xfrm>
                  <a:off x="-1713600" y="-1857240"/>
                  <a:ext cx="5934600" cy="5651280"/>
                  <a:chOff x="-1713600" y="-1857240"/>
                  <a:chExt cx="5934600" cy="5651280"/>
                </a:xfrm>
              </p:grpSpPr>
              <p:grpSp>
                <p:nvGrpSpPr>
                  <p:cNvPr id="294" name="Group 14"/>
                  <p:cNvGrpSpPr/>
                  <p:nvPr/>
                </p:nvGrpSpPr>
                <p:grpSpPr>
                  <a:xfrm>
                    <a:off x="1134720" y="-1857240"/>
                    <a:ext cx="231840" cy="5651280"/>
                    <a:chOff x="1134720" y="-1857240"/>
                    <a:chExt cx="231840" cy="5651280"/>
                  </a:xfrm>
                </p:grpSpPr>
                <p:sp>
                  <p:nvSpPr>
                    <p:cNvPr id="295" name="AutoShape 15"/>
                    <p:cNvSpPr/>
                    <p:nvPr/>
                  </p:nvSpPr>
                  <p:spPr>
                    <a:xfrm>
                      <a:off x="1134720" y="-1857240"/>
                      <a:ext cx="231840" cy="2828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16"/>
                    <p:cNvSpPr/>
                    <p:nvPr/>
                  </p:nvSpPr>
                  <p:spPr>
                    <a:xfrm flipV="1">
                      <a:off x="1134720" y="966600"/>
                      <a:ext cx="231840" cy="282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Group 17"/>
                  <p:cNvGrpSpPr/>
                  <p:nvPr/>
                </p:nvGrpSpPr>
                <p:grpSpPr>
                  <a:xfrm>
                    <a:off x="-1713600" y="856440"/>
                    <a:ext cx="5934600" cy="220680"/>
                    <a:chOff x="-1713600" y="856440"/>
                    <a:chExt cx="5934600" cy="220680"/>
                  </a:xfrm>
                </p:grpSpPr>
                <p:sp>
                  <p:nvSpPr>
                    <p:cNvPr id="298" name="AutoShape 18"/>
                    <p:cNvSpPr/>
                    <p:nvPr/>
                  </p:nvSpPr>
                  <p:spPr>
                    <a:xfrm rot="5400000">
                      <a:off x="2625840" y="-518040"/>
                      <a:ext cx="220680" cy="296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19"/>
                    <p:cNvSpPr/>
                    <p:nvPr/>
                  </p:nvSpPr>
                  <p:spPr>
                    <a:xfrm flipV="1" rot="5400000">
                      <a:off x="-339480" y="-518040"/>
                      <a:ext cx="220680" cy="2968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" name="Group 20"/>
                <p:cNvGrpSpPr/>
                <p:nvPr/>
              </p:nvGrpSpPr>
              <p:grpSpPr>
                <a:xfrm>
                  <a:off x="-927000" y="-1195920"/>
                  <a:ext cx="4341600" cy="4341600"/>
                  <a:chOff x="-927000" y="-1195920"/>
                  <a:chExt cx="4341600" cy="4341600"/>
                </a:xfrm>
              </p:grpSpPr>
              <p:grpSp>
                <p:nvGrpSpPr>
                  <p:cNvPr id="301" name="Group 21"/>
                  <p:cNvGrpSpPr/>
                  <p:nvPr/>
                </p:nvGrpSpPr>
                <p:grpSpPr>
                  <a:xfrm>
                    <a:off x="-927000" y="-1195920"/>
                    <a:ext cx="4341600" cy="4341600"/>
                    <a:chOff x="-927000" y="-1195920"/>
                    <a:chExt cx="4341600" cy="4341600"/>
                  </a:xfrm>
                </p:grpSpPr>
                <p:sp>
                  <p:nvSpPr>
                    <p:cNvPr id="302" name="AutoShape 22"/>
                    <p:cNvSpPr/>
                    <p:nvPr/>
                  </p:nvSpPr>
                  <p:spPr>
                    <a:xfrm rot="2700000">
                      <a:off x="2178360" y="-1551240"/>
                      <a:ext cx="221400" cy="2961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3"/>
                    <p:cNvSpPr/>
                    <p:nvPr/>
                  </p:nvSpPr>
                  <p:spPr>
                    <a:xfrm flipV="1" rot="2700000">
                      <a:off x="87120" y="540360"/>
                      <a:ext cx="221400" cy="2960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24"/>
                  <p:cNvGrpSpPr/>
                  <p:nvPr/>
                </p:nvGrpSpPr>
                <p:grpSpPr>
                  <a:xfrm>
                    <a:off x="-837720" y="-1109880"/>
                    <a:ext cx="4170600" cy="4170960"/>
                    <a:chOff x="-837720" y="-1109880"/>
                    <a:chExt cx="4170600" cy="4170960"/>
                  </a:xfrm>
                </p:grpSpPr>
                <p:sp>
                  <p:nvSpPr>
                    <p:cNvPr id="305" name="AutoShape 25"/>
                    <p:cNvSpPr/>
                    <p:nvPr/>
                  </p:nvSpPr>
                  <p:spPr>
                    <a:xfrm rot="8100000">
                      <a:off x="2132640" y="558360"/>
                      <a:ext cx="231120" cy="2836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6"/>
                    <p:cNvSpPr/>
                    <p:nvPr/>
                  </p:nvSpPr>
                  <p:spPr>
                    <a:xfrm flipV="1" rot="8100000">
                      <a:off x="130680" y="-1443240"/>
                      <a:ext cx="231120" cy="28350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7" name="Group 27"/>
              <p:cNvGrpSpPr/>
              <p:nvPr/>
            </p:nvGrpSpPr>
            <p:grpSpPr>
              <a:xfrm>
                <a:off x="-734400" y="-821880"/>
                <a:ext cx="3911040" cy="3729600"/>
                <a:chOff x="-734400" y="-821880"/>
                <a:chExt cx="3911040" cy="3729600"/>
              </a:xfrm>
            </p:grpSpPr>
            <p:grpSp>
              <p:nvGrpSpPr>
                <p:cNvPr id="308" name="Group 28"/>
                <p:cNvGrpSpPr/>
                <p:nvPr/>
              </p:nvGrpSpPr>
              <p:grpSpPr>
                <a:xfrm>
                  <a:off x="-734400" y="-821880"/>
                  <a:ext cx="3911040" cy="3729600"/>
                  <a:chOff x="-734400" y="-821880"/>
                  <a:chExt cx="3911040" cy="3729600"/>
                </a:xfrm>
              </p:grpSpPr>
              <p:grpSp>
                <p:nvGrpSpPr>
                  <p:cNvPr id="309" name="Group 29"/>
                  <p:cNvGrpSpPr/>
                  <p:nvPr/>
                </p:nvGrpSpPr>
                <p:grpSpPr>
                  <a:xfrm>
                    <a:off x="402840" y="-821880"/>
                    <a:ext cx="1632600" cy="3729600"/>
                    <a:chOff x="402840" y="-821880"/>
                    <a:chExt cx="1632600" cy="3729600"/>
                  </a:xfrm>
                </p:grpSpPr>
                <p:sp>
                  <p:nvSpPr>
                    <p:cNvPr id="310" name="AutoShape 30"/>
                    <p:cNvSpPr/>
                    <p:nvPr/>
                  </p:nvSpPr>
                  <p:spPr>
                    <a:xfrm rot="1320000">
                      <a:off x="1508040" y="-863280"/>
                      <a:ext cx="162360" cy="1980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AutoShape 31"/>
                    <p:cNvSpPr/>
                    <p:nvPr/>
                  </p:nvSpPr>
                  <p:spPr>
                    <a:xfrm flipV="1" rot="1320000">
                      <a:off x="767520" y="969480"/>
                      <a:ext cx="162360" cy="1979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Group 32"/>
                  <p:cNvGrpSpPr/>
                  <p:nvPr/>
                </p:nvGrpSpPr>
                <p:grpSpPr>
                  <a:xfrm>
                    <a:off x="-734400" y="192600"/>
                    <a:ext cx="3911040" cy="1700280"/>
                    <a:chOff x="-734400" y="192600"/>
                    <a:chExt cx="3911040" cy="1700280"/>
                  </a:xfrm>
                </p:grpSpPr>
                <p:sp>
                  <p:nvSpPr>
                    <p:cNvPr id="313" name="AutoShape 33"/>
                    <p:cNvSpPr/>
                    <p:nvPr/>
                  </p:nvSpPr>
                  <p:spPr>
                    <a:xfrm rot="6720000">
                      <a:off x="2106000" y="391680"/>
                      <a:ext cx="154800" cy="2079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34"/>
                    <p:cNvSpPr/>
                    <p:nvPr/>
                  </p:nvSpPr>
                  <p:spPr>
                    <a:xfrm flipV="1" rot="6720000">
                      <a:off x="180720" y="-385200"/>
                      <a:ext cx="154800" cy="2078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5" name="Group 35"/>
                <p:cNvGrpSpPr/>
                <p:nvPr/>
              </p:nvGrpSpPr>
              <p:grpSpPr>
                <a:xfrm>
                  <a:off x="-724320" y="-811800"/>
                  <a:ext cx="3874680" cy="3716280"/>
                  <a:chOff x="-724320" y="-811800"/>
                  <a:chExt cx="3874680" cy="3716280"/>
                </a:xfrm>
              </p:grpSpPr>
              <p:grpSp>
                <p:nvGrpSpPr>
                  <p:cNvPr id="316" name="Group 36"/>
                  <p:cNvGrpSpPr/>
                  <p:nvPr/>
                </p:nvGrpSpPr>
                <p:grpSpPr>
                  <a:xfrm>
                    <a:off x="-724320" y="164520"/>
                    <a:ext cx="3874680" cy="1762200"/>
                    <a:chOff x="-724320" y="164520"/>
                    <a:chExt cx="3874680" cy="1762200"/>
                  </a:xfrm>
                </p:grpSpPr>
                <p:sp>
                  <p:nvSpPr>
                    <p:cNvPr id="317" name="AutoShape 37"/>
                    <p:cNvSpPr/>
                    <p:nvPr/>
                  </p:nvSpPr>
                  <p:spPr>
                    <a:xfrm rot="4020000">
                      <a:off x="2088000" y="-395640"/>
                      <a:ext cx="155160" cy="20736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38"/>
                    <p:cNvSpPr/>
                    <p:nvPr/>
                  </p:nvSpPr>
                  <p:spPr>
                    <a:xfrm flipV="1" rot="4020000">
                      <a:off x="182160" y="413280"/>
                      <a:ext cx="155160" cy="2072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39"/>
                  <p:cNvGrpSpPr/>
                  <p:nvPr/>
                </p:nvGrpSpPr>
                <p:grpSpPr>
                  <a:xfrm>
                    <a:off x="365040" y="-811800"/>
                    <a:ext cx="1699920" cy="3716280"/>
                    <a:chOff x="365040" y="-811800"/>
                    <a:chExt cx="1699920" cy="3716280"/>
                  </a:xfrm>
                </p:grpSpPr>
                <p:sp>
                  <p:nvSpPr>
                    <p:cNvPr id="320" name="AutoShape 40"/>
                    <p:cNvSpPr/>
                    <p:nvPr/>
                  </p:nvSpPr>
                  <p:spPr>
                    <a:xfrm rot="9420000">
                      <a:off x="1521360" y="965880"/>
                      <a:ext cx="162000" cy="1985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AutoShape 41"/>
                    <p:cNvSpPr/>
                    <p:nvPr/>
                  </p:nvSpPr>
                  <p:spPr>
                    <a:xfrm flipV="1" rot="9420000">
                      <a:off x="746280" y="-858600"/>
                      <a:ext cx="162000" cy="1985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22" name="Oval 42"/>
          <p:cNvSpPr/>
          <p:nvPr/>
        </p:nvSpPr>
        <p:spPr>
          <a:xfrm>
            <a:off x="-2971800" y="-5562720"/>
            <a:ext cx="6699240" cy="6699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3"/>
          <p:cNvGrpSpPr/>
          <p:nvPr/>
        </p:nvGrpSpPr>
        <p:grpSpPr>
          <a:xfrm>
            <a:off x="5339520" y="4146480"/>
            <a:ext cx="4039920" cy="2954520"/>
            <a:chOff x="5339520" y="4146480"/>
            <a:chExt cx="4039920" cy="2954520"/>
          </a:xfrm>
        </p:grpSpPr>
        <p:pic>
          <p:nvPicPr>
            <p:cNvPr id="324" name="Picture 44" descr="树枝"/>
            <p:cNvPicPr/>
            <p:nvPr/>
          </p:nvPicPr>
          <p:blipFill>
            <a:blip r:embed="rId1"/>
            <a:stretch/>
          </p:blipFill>
          <p:spPr>
            <a:xfrm>
              <a:off x="7504560" y="5232600"/>
              <a:ext cx="970560" cy="60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5" name="Group 45"/>
            <p:cNvGrpSpPr/>
            <p:nvPr/>
          </p:nvGrpSpPr>
          <p:grpSpPr>
            <a:xfrm>
              <a:off x="5339520" y="4146480"/>
              <a:ext cx="4039920" cy="2954520"/>
              <a:chOff x="5339520" y="4146480"/>
              <a:chExt cx="4039920" cy="2954520"/>
            </a:xfrm>
          </p:grpSpPr>
          <p:pic>
            <p:nvPicPr>
              <p:cNvPr id="326" name="Picture 46" descr="树枝"/>
              <p:cNvPicPr/>
              <p:nvPr/>
            </p:nvPicPr>
            <p:blipFill>
              <a:blip r:embed="rId2"/>
              <a:stretch/>
            </p:blipFill>
            <p:spPr>
              <a:xfrm rot="20303400">
                <a:off x="5329080" y="6165720"/>
                <a:ext cx="2684160" cy="4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Picture 47" descr="树枝"/>
              <p:cNvPicPr/>
              <p:nvPr/>
            </p:nvPicPr>
            <p:blipFill>
              <a:blip r:embed="rId3"/>
              <a:stretch/>
            </p:blipFill>
            <p:spPr>
              <a:xfrm flipH="1" rot="17665200">
                <a:off x="8278920" y="4570200"/>
                <a:ext cx="1244160" cy="48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8" name="Picture 48" descr="柳虚4"/>
          <p:cNvPicPr/>
          <p:nvPr/>
        </p:nvPicPr>
        <p:blipFill>
          <a:blip r:embed="rId4"/>
          <a:stretch/>
        </p:blipFill>
        <p:spPr>
          <a:xfrm>
            <a:off x="934920" y="-984240"/>
            <a:ext cx="1198800" cy="446076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49"/>
          <p:cNvGrpSpPr/>
          <p:nvPr/>
        </p:nvGrpSpPr>
        <p:grpSpPr>
          <a:xfrm>
            <a:off x="865080" y="-6880320"/>
            <a:ext cx="1116000" cy="12214440"/>
            <a:chOff x="865080" y="-6880320"/>
            <a:chExt cx="1116000" cy="12214440"/>
          </a:xfrm>
        </p:grpSpPr>
        <p:pic>
          <p:nvPicPr>
            <p:cNvPr id="330" name="Picture 50" descr="柳条1"/>
            <p:cNvPicPr/>
            <p:nvPr/>
          </p:nvPicPr>
          <p:blipFill>
            <a:blip r:embed="rId5"/>
            <a:stretch/>
          </p:blipFill>
          <p:spPr>
            <a:xfrm>
              <a:off x="865080" y="-78732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Rectangle 51"/>
            <p:cNvSpPr/>
            <p:nvPr/>
          </p:nvSpPr>
          <p:spPr>
            <a:xfrm>
              <a:off x="1218960" y="-688032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Picture 52" descr="柳虚1"/>
          <p:cNvPicPr/>
          <p:nvPr/>
        </p:nvPicPr>
        <p:blipFill>
          <a:blip r:embed="rId6"/>
          <a:stretch/>
        </p:blipFill>
        <p:spPr>
          <a:xfrm>
            <a:off x="7394400" y="-633240"/>
            <a:ext cx="1292400" cy="291924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53"/>
          <p:cNvGrpSpPr/>
          <p:nvPr/>
        </p:nvGrpSpPr>
        <p:grpSpPr>
          <a:xfrm>
            <a:off x="6858000" y="-9833040"/>
            <a:ext cx="846000" cy="12271320"/>
            <a:chOff x="6858000" y="-9833040"/>
            <a:chExt cx="846000" cy="12271320"/>
          </a:xfrm>
        </p:grpSpPr>
        <p:pic>
          <p:nvPicPr>
            <p:cNvPr id="334" name="Picture 54" descr="柳条2"/>
            <p:cNvPicPr/>
            <p:nvPr/>
          </p:nvPicPr>
          <p:blipFill>
            <a:blip r:embed="rId7"/>
            <a:stretch/>
          </p:blipFill>
          <p:spPr>
            <a:xfrm>
              <a:off x="6858000" y="-389232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55"/>
            <p:cNvSpPr/>
            <p:nvPr/>
          </p:nvSpPr>
          <p:spPr>
            <a:xfrm>
              <a:off x="7162920" y="-983304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6934320" y="-10433160"/>
            <a:ext cx="1116000" cy="12214440"/>
            <a:chOff x="6934320" y="-10433160"/>
            <a:chExt cx="1116000" cy="12214440"/>
          </a:xfrm>
        </p:grpSpPr>
        <p:pic>
          <p:nvPicPr>
            <p:cNvPr id="337" name="Picture 57" descr="柳条1"/>
            <p:cNvPicPr/>
            <p:nvPr/>
          </p:nvPicPr>
          <p:blipFill>
            <a:blip r:embed="rId8"/>
            <a:stretch/>
          </p:blipFill>
          <p:spPr>
            <a:xfrm>
              <a:off x="6934320" y="-4340160"/>
              <a:ext cx="11160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58"/>
            <p:cNvSpPr/>
            <p:nvPr/>
          </p:nvSpPr>
          <p:spPr>
            <a:xfrm>
              <a:off x="7288200" y="-10433160"/>
              <a:ext cx="30492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59" descr="柳虚5"/>
          <p:cNvPicPr/>
          <p:nvPr/>
        </p:nvPicPr>
        <p:blipFill>
          <a:blip r:embed="rId9"/>
          <a:stretch/>
        </p:blipFill>
        <p:spPr>
          <a:xfrm>
            <a:off x="6654960" y="-2050920"/>
            <a:ext cx="812520" cy="4456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0" descr="柳虚1"/>
          <p:cNvPicPr/>
          <p:nvPr/>
        </p:nvPicPr>
        <p:blipFill>
          <a:blip r:embed="rId10"/>
          <a:stretch/>
        </p:blipFill>
        <p:spPr>
          <a:xfrm>
            <a:off x="457200" y="0"/>
            <a:ext cx="1292400" cy="2925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1" descr="柳虚2"/>
          <p:cNvPicPr/>
          <p:nvPr/>
        </p:nvPicPr>
        <p:blipFill>
          <a:blip r:embed="rId11"/>
          <a:stretch/>
        </p:blipFill>
        <p:spPr>
          <a:xfrm>
            <a:off x="1447920" y="-222120"/>
            <a:ext cx="109692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2"/>
          <p:cNvGrpSpPr/>
          <p:nvPr/>
        </p:nvGrpSpPr>
        <p:grpSpPr>
          <a:xfrm>
            <a:off x="7391520" y="-8908920"/>
            <a:ext cx="846000" cy="12271320"/>
            <a:chOff x="7391520" y="-8908920"/>
            <a:chExt cx="846000" cy="12271320"/>
          </a:xfrm>
        </p:grpSpPr>
        <p:pic>
          <p:nvPicPr>
            <p:cNvPr id="343" name="Picture 63" descr="柳条2"/>
            <p:cNvPicPr/>
            <p:nvPr/>
          </p:nvPicPr>
          <p:blipFill>
            <a:blip r:embed="rId12"/>
            <a:stretch/>
          </p:blipFill>
          <p:spPr>
            <a:xfrm>
              <a:off x="7391520" y="-2968200"/>
              <a:ext cx="846000" cy="63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Rectangle 64"/>
            <p:cNvSpPr/>
            <p:nvPr/>
          </p:nvSpPr>
          <p:spPr>
            <a:xfrm>
              <a:off x="7696440" y="-8908920"/>
              <a:ext cx="228600" cy="59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65"/>
          <p:cNvGrpSpPr/>
          <p:nvPr/>
        </p:nvGrpSpPr>
        <p:grpSpPr>
          <a:xfrm>
            <a:off x="7772400" y="-2660760"/>
            <a:ext cx="903240" cy="4453200"/>
            <a:chOff x="7772400" y="-2660760"/>
            <a:chExt cx="903240" cy="4453200"/>
          </a:xfrm>
        </p:grpSpPr>
        <p:pic>
          <p:nvPicPr>
            <p:cNvPr id="346" name="Picture 66" descr="柳条4"/>
            <p:cNvPicPr/>
            <p:nvPr/>
          </p:nvPicPr>
          <p:blipFill>
            <a:blip r:embed="rId13"/>
            <a:stretch/>
          </p:blipFill>
          <p:spPr>
            <a:xfrm>
              <a:off x="7772400" y="-453960"/>
              <a:ext cx="90324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67"/>
            <p:cNvSpPr/>
            <p:nvPr/>
          </p:nvSpPr>
          <p:spPr>
            <a:xfrm>
              <a:off x="8001000" y="-2660760"/>
              <a:ext cx="152280" cy="22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Oval 68"/>
          <p:cNvSpPr/>
          <p:nvPr/>
        </p:nvSpPr>
        <p:spPr>
          <a:xfrm>
            <a:off x="5638680" y="4343400"/>
            <a:ext cx="3962520" cy="3962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69"/>
          <p:cNvSpPr/>
          <p:nvPr/>
        </p:nvSpPr>
        <p:spPr>
          <a:xfrm>
            <a:off x="4267080" y="3581280"/>
            <a:ext cx="533520" cy="533520"/>
          </a:xfrm>
          <a:prstGeom prst="ellipse">
            <a:avLst/>
          </a:prstGeom>
          <a:solidFill>
            <a:srgbClr val="ffff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0"/>
          <p:cNvSpPr/>
          <p:nvPr/>
        </p:nvSpPr>
        <p:spPr>
          <a:xfrm>
            <a:off x="2590920" y="2286000"/>
            <a:ext cx="1490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1d1d1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TextBox 71" descr=""/>
          <p:cNvPicPr/>
          <p:nvPr/>
        </p:nvPicPr>
        <p:blipFill>
          <a:blip r:embed="rId14"/>
          <a:stretch/>
        </p:blipFill>
        <p:spPr>
          <a:xfrm>
            <a:off x="2714760" y="2214720"/>
            <a:ext cx="3214440" cy="15699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1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40000">
                                      <p:cBhvr>
                                        <p:cTn id="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38778E-017 -2.22222E-006 L 0.4125 -0.09444 E">
                                      <p:cBhvr>
                                        <p:cTn id="13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3.33333E-006 L -0.25 -3.33333E-006 E">
                                      <p:cBhvr>
                                        <p:cTn id="14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2.22222E-006 L -0.59166 -2.22222E-006 E">
                                      <p:cBhvr>
                                        <p:cTn id="14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5.55112E-017 L 0.16667 5.55112E-017 E">
                                      <p:cBhvr>
                                        <p:cTn id="144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3.33333E-006 L -0.15261 0.01875 E">
                                      <p:cBhvr>
                                        <p:cTn id="14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5E-006 -3.33333E-006 L -0.48594 0.00764 E">
                                      <p:cBhvr>
                                        <p:cTn id="14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13334 0.03334 E">
                                      <p:cBhvr>
                                        <p:cTn id="15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33333E-006 -1.11111E-006 L -0.17083 -0.00555 E">
                                      <p:cBhvr>
                                        <p:cTn id="15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2.22222E-006 L -0.64167 -2.22222E-006 E">
                                      <p:cBhvr>
                                        <p:cTn id="154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1.11111E-006 L -0.03715 -0.00555 E">
                                      <p:cBhvr>
                                        <p:cTn id="15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3.05556E-006 -4.44444E-006 L 0.10851 0.01112 E">
                                      <p:cBhvr>
                                        <p:cTn id="15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4.44444E-006 L 0.38333 -0.1 E">
                                      <p:cBhvr>
                                        <p:cTn id="160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62" dur="2300" fill="hold"/>
                                        <p:tgtEl>
                                          <p:spTgt spid="32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3" dur="indefinite" autoRev="1" nodeType="withEffect" fill="hold" presetClass="emph" presetID="6">
                                  <p:stCondLst>
                                    <p:cond delay="6000"/>
                                  </p:stCondLst>
                                  <p:childTnLst>
                                    <p:animScale>
                                      <p:cBhvr>
                                        <p:cTn id="164" dur="1500" fill="hold"/>
                                        <p:tgtEl>
                                          <p:spTgt spid="2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4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主   要  内  容</a:t>
            </a:r>
            <a:endParaRPr b="0" lang="en-US" sz="44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-소망M"/>
              </a:rPr>
              <a:t>一</a:t>
            </a:r>
            <a:r>
              <a:rPr b="1" lang="en-US" sz="3000" spc="-1" strike="noStrike">
                <a:solidFill>
                  <a:srgbClr val="000000"/>
                </a:solidFill>
                <a:latin typeface="-소망M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-소망M"/>
              </a:rPr>
              <a:t>垃圾的分类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-소망M"/>
              </a:rPr>
              <a:t>二</a:t>
            </a:r>
            <a:r>
              <a:rPr b="1" lang="en-US" sz="3000" spc="-1" strike="noStrike">
                <a:solidFill>
                  <a:srgbClr val="000000"/>
                </a:solidFill>
                <a:latin typeface="-소망M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-소망M"/>
              </a:rPr>
              <a:t>垃圾分类的意义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ccccff"/>
                </a:solidFill>
                <a:uFillTx/>
                <a:latin typeface="-소망B"/>
                <a:ea typeface="-소망B"/>
                <a:hlinkClick r:id="rId1"/>
              </a:rPr>
              <a:t>三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-소망B"/>
                <a:ea typeface="-소망B"/>
                <a:hlinkClick r:id="rId2"/>
              </a:rPr>
              <a:t>.</a:t>
            </a:r>
            <a:r>
              <a:rPr b="0" lang="zh-CN" sz="3000" spc="-1" strike="noStrike" u="sng">
                <a:solidFill>
                  <a:srgbClr val="ccccff"/>
                </a:solidFill>
                <a:uFillTx/>
                <a:latin typeface="-소망B"/>
                <a:ea typeface="-소망B"/>
                <a:hlinkClick r:id="rId3"/>
              </a:rPr>
              <a:t>垃圾分类可行性调查问卷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ccccff"/>
                </a:solidFill>
                <a:uFillTx/>
                <a:latin typeface="-소망B"/>
                <a:hlinkClick r:id="rId4"/>
              </a:rPr>
              <a:t>四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-소망B"/>
                <a:hlinkClick r:id="rId5"/>
              </a:rPr>
              <a:t>.</a:t>
            </a:r>
            <a:r>
              <a:rPr b="0" lang="zh-CN" sz="3000" spc="-1" strike="noStrike" u="sng">
                <a:solidFill>
                  <a:srgbClr val="ccccff"/>
                </a:solidFill>
                <a:uFillTx/>
                <a:latin typeface="-소망B"/>
                <a:hlinkClick r:id="rId6"/>
              </a:rPr>
              <a:t>对调查结果的分析</a:t>
            </a:r>
            <a:endParaRPr b="0" lang="en-US" sz="30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-소망B"/>
              </a:rPr>
              <a:t>一</a:t>
            </a:r>
            <a:r>
              <a:rPr b="0" lang="en-US" sz="4000" spc="-1" strike="noStrike">
                <a:solidFill>
                  <a:srgbClr val="000000"/>
                </a:solidFill>
                <a:latin typeface="-소망B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垃圾的分类</a:t>
            </a:r>
            <a:endParaRPr b="0" lang="en-US" sz="4000" spc="-1" strike="noStrike">
              <a:solidFill>
                <a:srgbClr val="000000"/>
              </a:solidFill>
              <a:latin typeface="-소망B"/>
            </a:endParaRPr>
          </a:p>
        </p:txBody>
      </p:sp>
      <p:sp>
        <p:nvSpPr>
          <p:cNvPr id="218" name="左大括号 5"/>
          <p:cNvSpPr/>
          <p:nvPr/>
        </p:nvSpPr>
        <p:spPr>
          <a:xfrm>
            <a:off x="2357280" y="1928880"/>
            <a:ext cx="571680" cy="414324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4143240"/>
              <a:gd name="textAreaBottom" fmla="*/ 412848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471"/>
                </a:lnTo>
                <a:cubicBezTo>
                  <a:pt x="10800" y="10595"/>
                  <a:pt x="5400" y="10719"/>
                  <a:pt x="0" y="10719"/>
                </a:cubicBezTo>
                <a:cubicBezTo>
                  <a:pt x="5400" y="10719"/>
                  <a:pt x="10800" y="10843"/>
                  <a:pt x="10800" y="10967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285840" y="3786120"/>
            <a:ext cx="1928880" cy="9288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0" y="3429000"/>
            <a:ext cx="26431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生活垃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3071880" y="1143000"/>
            <a:ext cx="2786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-소망M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3071880" y="2428920"/>
            <a:ext cx="2571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厨余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2857680" y="3643200"/>
            <a:ext cx="31431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有害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2857680" y="1285920"/>
            <a:ext cx="3071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可回收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2786040" y="5286240"/>
            <a:ext cx="3214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其他垃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5"/>
          <p:cNvSpPr/>
          <p:nvPr/>
        </p:nvSpPr>
        <p:spPr>
          <a:xfrm>
            <a:off x="2214720" y="1857240"/>
            <a:ext cx="7358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主要包括废纸、塑料、玻璃、金属、布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6"/>
          <p:cNvSpPr/>
          <p:nvPr/>
        </p:nvSpPr>
        <p:spPr>
          <a:xfrm>
            <a:off x="3000240" y="3214800"/>
            <a:ext cx="61437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主要包括：剩菜剩饭、菜叶等食品类垃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7"/>
          <p:cNvSpPr/>
          <p:nvPr/>
        </p:nvSpPr>
        <p:spPr>
          <a:xfrm>
            <a:off x="2571840" y="4429080"/>
            <a:ext cx="5857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主要包括：废电池、废日光灯管、废水银温度计、过期药品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8"/>
          <p:cNvSpPr/>
          <p:nvPr/>
        </p:nvSpPr>
        <p:spPr>
          <a:xfrm>
            <a:off x="3000240" y="6000840"/>
            <a:ext cx="5786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2857680" y="60278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主要包括：砖瓦陶瓷、渣土、卫生间废纸、纸巾等难以回收的废弃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500040" y="1928880"/>
            <a:ext cx="864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最大分类有可燃物、不可燃物、资源类、粗大类，有害类，这几类再细分为若干子项目，每个子项目又可分为孙项目，以此类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可燃类：简单讲就是可以燃烧的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但不包括塑料，橡胶制片，一般剩菜剩 饭，和一些可燃的生活垃圾都属于可燃垃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资源类：报纸，书籍，塑料饮料瓶，玻璃饮料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不可燃类：废旧小家电（电水壶，收录音机）衣物，玩具，陶瓷制品，铁质容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粗大类：大的家具，大型电器（电视机，空调），自行车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00040" y="135720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日本的垃圾分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500040" y="450072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横滨市把垃圾类别由原来的五类更细分为十类；德岛县把垃圾细分到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44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类，并计划到</a:t>
            </a:r>
            <a:r>
              <a:rPr b="1" lang="en-US" sz="2000" spc="-1" strike="noStrike">
                <a:solidFill>
                  <a:srgbClr val="000000"/>
                </a:solidFill>
                <a:latin typeface="仿宋"/>
                <a:ea typeface="仿宋"/>
              </a:rPr>
              <a:t>2020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年实现“零垃圾”的目标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"/>
          <p:cNvSpPr/>
          <p:nvPr/>
        </p:nvSpPr>
        <p:spPr>
          <a:xfrm>
            <a:off x="285840" y="150012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我国的垃圾分类现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357120" y="2071800"/>
            <a:ext cx="8572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我国大部分地区的硬件还远不能与日本相比，但更大的差距恐怕还是在软件上，即在于政府和民众对垃圾分类的认识上，在于政府关于垃圾分类的制度建设上，也在于每个市民对垃圾分类的认真细致精神和环保节能意识上。由此引申开来，只有大家都摒弃嫌麻烦的想法，才有可能做到垃圾分类赶上世界先进水平，消灭城市管理中“三不管”的死角，有专人来治理脏、乱、差的现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2"/>
          <p:cNvSpPr/>
          <p:nvPr/>
        </p:nvSpPr>
        <p:spPr>
          <a:xfrm>
            <a:off x="285840" y="214200"/>
            <a:ext cx="7786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分类垃圾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下箭头 3"/>
          <p:cNvSpPr/>
          <p:nvPr/>
        </p:nvSpPr>
        <p:spPr>
          <a:xfrm>
            <a:off x="3214800" y="2000160"/>
            <a:ext cx="428400" cy="1785960"/>
          </a:xfrm>
          <a:prstGeom prst="downArrow">
            <a:avLst>
              <a:gd name="adj1" fmla="val 50000"/>
              <a:gd name="adj2" fmla="val 50027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6572160" y="128592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其他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2500200" y="1285920"/>
            <a:ext cx="2000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厨余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4714920" y="128592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有害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214200" y="1285920"/>
            <a:ext cx="2286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可回收垃圾</a:t>
            </a:r>
            <a:r>
              <a:rPr b="1" lang="zh-CN" sz="2400" spc="-1" strike="noStrike">
                <a:solidFill>
                  <a:srgbClr val="ffffff"/>
                </a:solidFill>
                <a:latin typeface="仿宋"/>
                <a:ea typeface="仿宋"/>
              </a:rPr>
              <a:t>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下箭头 8"/>
          <p:cNvSpPr/>
          <p:nvPr/>
        </p:nvSpPr>
        <p:spPr>
          <a:xfrm>
            <a:off x="928800" y="2000160"/>
            <a:ext cx="428400" cy="1785960"/>
          </a:xfrm>
          <a:prstGeom prst="downArrow">
            <a:avLst>
              <a:gd name="adj1" fmla="val 50000"/>
              <a:gd name="adj2" fmla="val 50027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下箭头 9"/>
          <p:cNvSpPr/>
          <p:nvPr/>
        </p:nvSpPr>
        <p:spPr>
          <a:xfrm>
            <a:off x="7500960" y="2000160"/>
            <a:ext cx="357120" cy="1785960"/>
          </a:xfrm>
          <a:prstGeom prst="down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下箭头 10"/>
          <p:cNvSpPr/>
          <p:nvPr/>
        </p:nvSpPr>
        <p:spPr>
          <a:xfrm>
            <a:off x="5357880" y="2000160"/>
            <a:ext cx="428400" cy="1785960"/>
          </a:xfrm>
          <a:prstGeom prst="downArrow">
            <a:avLst>
              <a:gd name="adj1" fmla="val 50000"/>
              <a:gd name="adj2" fmla="val 50027"/>
            </a:avLst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1" descr=""/>
          <p:cNvPicPr/>
          <p:nvPr/>
        </p:nvPicPr>
        <p:blipFill>
          <a:blip r:embed="rId1"/>
          <a:stretch/>
        </p:blipFill>
        <p:spPr>
          <a:xfrm>
            <a:off x="214200" y="3857760"/>
            <a:ext cx="1981440" cy="250020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2" descr=""/>
          <p:cNvPicPr/>
          <p:nvPr/>
        </p:nvPicPr>
        <p:blipFill>
          <a:blip r:embed="rId2"/>
          <a:stretch/>
        </p:blipFill>
        <p:spPr>
          <a:xfrm>
            <a:off x="6929280" y="40006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3" descr=""/>
          <p:cNvPicPr/>
          <p:nvPr/>
        </p:nvPicPr>
        <p:blipFill>
          <a:blip r:embed="rId3"/>
          <a:stretch/>
        </p:blipFill>
        <p:spPr>
          <a:xfrm>
            <a:off x="4857840" y="3857760"/>
            <a:ext cx="1657440" cy="25714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4" descr=""/>
          <p:cNvPicPr/>
          <p:nvPr/>
        </p:nvPicPr>
        <p:blipFill>
          <a:blip r:embed="rId4"/>
          <a:stretch/>
        </p:blipFill>
        <p:spPr>
          <a:xfrm>
            <a:off x="2571840" y="3929040"/>
            <a:ext cx="1857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357120" y="164304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澳大利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285840" y="214308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一般人家的院子里，都会有三个深绿色大塑料垃圾桶，盖子的颜色分别为</a:t>
            </a:r>
            <a:r>
              <a:rPr b="1" lang="zh-CN" sz="2000" spc="-1" strike="noStrike">
                <a:solidFill>
                  <a:srgbClr val="ff0000"/>
                </a:solidFill>
                <a:latin typeface="仿宋"/>
                <a:ea typeface="仿宋"/>
              </a:rPr>
              <a:t>红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、</a:t>
            </a:r>
            <a:r>
              <a:rPr b="1" lang="zh-CN" sz="2000" spc="-1" strike="noStrike">
                <a:solidFill>
                  <a:srgbClr val="ffff00"/>
                </a:solidFill>
                <a:latin typeface="仿宋"/>
                <a:ea typeface="仿宋"/>
              </a:rPr>
              <a:t>黄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、</a:t>
            </a:r>
            <a:r>
              <a:rPr b="1" lang="zh-CN" sz="2000" spc="-1" strike="noStrike">
                <a:solidFill>
                  <a:srgbClr val="00b050"/>
                </a:solidFill>
                <a:latin typeface="仿宋"/>
                <a:ea typeface="仿宋"/>
              </a:rPr>
              <a:t>绿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。绿盖子的桶里，放清理花园时剪下来的草、树叶、花等；黄盖子的桶里，则放可回收资源，包括塑料瓶、玻璃瓶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85840" y="357192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英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14200" y="407196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一般来说，每家都有三个垃圾箱：一个黑色，装普通生活垃圾；一个</a:t>
            </a:r>
            <a:r>
              <a:rPr b="1" lang="zh-CN" sz="2000" spc="-1" strike="noStrike">
                <a:solidFill>
                  <a:srgbClr val="00b050"/>
                </a:solidFill>
                <a:latin typeface="仿宋"/>
                <a:ea typeface="仿宋"/>
              </a:rPr>
              <a:t>绿色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，装花园及厨房垃圾；一个黑色小箱子，装玻璃瓶、易拉罐等可回收物，区政府会安排三辆不同的垃圾车每周一次将其运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E:\垃圾分类可行性\42117486.jpg"/>
          <p:cNvPicPr/>
          <p:nvPr/>
        </p:nvPicPr>
        <p:blipFill>
          <a:blip r:embed="rId1"/>
          <a:stretch/>
        </p:blipFill>
        <p:spPr>
          <a:xfrm>
            <a:off x="5286240" y="3571920"/>
            <a:ext cx="3429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1071720" y="285840"/>
            <a:ext cx="6929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二、垃圾分类的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"/>
          <p:cNvSpPr/>
          <p:nvPr/>
        </p:nvSpPr>
        <p:spPr>
          <a:xfrm>
            <a:off x="357120" y="1357200"/>
            <a:ext cx="87868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示 4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2864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垃圾分类的意义</a:t>
            </a:r>
            <a:endParaRPr b="0" lang="en-US" sz="4400" spc="-1" strike="noStrike">
              <a:solidFill>
                <a:srgbClr val="000000"/>
              </a:solidFill>
              <a:latin typeface="-소망B"/>
            </a:endParaRPr>
          </a:p>
        </p:txBody>
      </p:sp>
      <p:pic>
        <p:nvPicPr>
          <p:cNvPr id="258" name="内容占位符 7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2:44:47Z</dcterms:created>
  <dc:creator>helloworld</dc:creator>
  <dc:description/>
  <dc:language>en-US</dc:language>
  <cp:lastModifiedBy>admin</cp:lastModifiedBy>
  <dcterms:modified xsi:type="dcterms:W3CDTF">2019-07-03T00:54:06Z</dcterms:modified>
  <cp:revision>78</cp:revision>
  <dc:subject/>
  <dc:title>垃圾分类可行性调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806</vt:lpwstr>
  </property>
</Properties>
</file>