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C6F-8265-421E-8689-2057DC15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693-F02E-446C-9EDA-EBE22860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4D8-1BBE-4E6A-89A1-BCACB316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F1A-7549-486F-B5CC-8D249ECD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D2E-6268-47E1-B20A-A557DCF6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DB86-CDC2-48D1-BAA1-19F031C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DBFC-9389-4DD5-B11B-3B292A19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B84-925B-487B-A3CB-6A0F328C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18A5-9047-407E-93D5-B544933F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1A44-B797-4D64-975A-869F9371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B3ED-AA5E-4FBD-B120-68FFFC77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033-73FB-4671-8647-0A2C7B92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FDFD-90CB-4365-A3BF-BEA1BA88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57F8-FDDA-421D-A62F-396827DF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7E24-2A76-4354-8D68-D9C3E800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A408-63F3-4120-B5E3-B159E218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F092-036B-4784-8818-F364F8ED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559-8060-4C52-951C-CB8B6EED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D28-BDE6-4AF4-B875-E270090A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54E-5AEB-461C-B117-87C5F795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1CE-483B-4E97-90CA-2D4A68D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F15-8162-402A-BCD4-752486F3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029-4400-4F90-97D2-5D6BEDDB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322-65EA-4677-97D3-088C78E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6695-10F1-4147-BDEC-1777C3B07D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726F-9D18-4035-96BE-A111F9B8AF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E:\KuGou\&#21051;&#33311;&#27714;&#21073;.mp3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1042920" y="1197000"/>
            <a:ext cx="727416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《刻舟求剑》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763640" y="620640"/>
            <a:ext cx="6624720" cy="933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kè zhōu qiú jiàn </a:t>
            </a:r>
            <a:endParaRPr b="0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484360" y="3716280"/>
            <a:ext cx="460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《吕氏春秋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察今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2771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综合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两则寓言中的“郑人”和“楚人”有什么共同点？你认为现实生活中还有这样的人吗？如果有，请举出例子说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0920" y="227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人都思想僵化，不懂得实事求是的道理。因此，事情就做不成：郑人买不到鞋，楚人找不到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联系实际举例，可以举死搬教条，硬套框框，而不顾客观实际的人，也可举一味凭主观想像从事，无视变化了的客观实际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5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036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971640" y="1197000"/>
            <a:ext cx="756108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幼圆"/>
              </a:rPr>
              <a:t>Thank you!!!</a:t>
            </a:r>
            <a:endParaRPr b="1" i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幼圆"/>
              </a:rPr>
              <a:t>再见！！！</a:t>
            </a:r>
            <a:endParaRPr b="1" i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1f4ff">
              <a:alpha val="4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原文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楚人有涉江者，其剑自舟中坠于水，遽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j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一个渡江的楚国人，他的剑从船上掉进了水里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契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(qì)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其舟，曰：“是吾剑之所从坠。”舟止，从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刀在船沿上刻了一个记号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说：“这里是我的剑掉下去的地方。”船停止以后，这个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所契者入水求之。舟已行矣，而剑不行，求剑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顺着船沿上刻的记号下水去找剑。船已经向前行驶了很远，而剑不会随船前进，像这样去找剑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此，不亦惑乎？　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不也是太糊涂了吗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>
            <a:hlinkClick r:id="rId2"/>
          </p:cNvPr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注 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指徒步过河，此指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急忙，立刻，匆忙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刀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代这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亦惑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是很糊涂吗？惑，迷惑，糊涂。“不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乎”是一种委婉的反问句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掉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吾剑之所从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里是我的剑掉下去的地方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周代国名，都城在今湖北江陵县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寻找，探求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词，代“剑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剑自舟坠于水，其：他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遽契其舟，其：这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其所契者，其：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吾剑之所从坠，之：主谓间，第三人称，它（们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止：动词，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：向前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亦：也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 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吕不韦的门客，战国末年著名商人、政治家、思想家、目录学家和经学家，卫国濮阳（今河南濮阳西南）人。吕不韦是阳翟（今河南省禹州市）的大商人，他往来各地，以低价买进，高价卖出，所以积累起千金的家产。他以“奇货可居”闻名于世，曾辅佐秦始皇登上帝位，任秦朝相国，并组织门客编写了著名的《吕氏春秋》，也是杂家思想的代表人物。本文选自《吕氏春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察今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典故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刻舟求剑是一个寓言故事演化而成的成语，比喻死守教条，比喻拘泥成法，固执不知变通的意思。成语词典中注音为（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kè zhōu qiú jià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出自战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吕不韦《吕氏春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察今》：“楚人有涉江者，其剑自舟中坠于水，遽契其舟曰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吾剑之所从坠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舟止，从其所契者入水求之。舟已行矣，而剑不行，求剑若此，不亦惑乎？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这个故事告诉我们：世界上的事物，总是在不断地发展变化，人们想问题、办事情，都应当考虑到这种变化，适合于这种变化的需要。办事刻板，拘泥而不知变通是不行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这是一个寓言故事，讽刺了片面、静止，不知变通、墨守陈规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刻舟求剑是一个贬义词，并列式短语，为“刻舟”和“求剑”两个动宾短语构成的并列短语，在句子中可以作谓语、定语或者状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础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给下列加粗的字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郑人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  ）     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不得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信度      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契（    ）其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你觉得下边的字容易写错的部位是什么，或容易与什么字混淆，试作说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19640" y="191628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8000" y="191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40000" y="249228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ì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59640" y="2492280"/>
            <a:ext cx="504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459640" y="249228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q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84360" y="4653000"/>
            <a:ext cx="31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容易与“逐”混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0360" y="5445000"/>
            <a:ext cx="345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下边容易多写一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40000" y="6021360"/>
            <a:ext cx="331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容易与“堕”混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解释下列加粗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置之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坐：   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而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  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归取之  反：   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契其舟  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楚人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者  涉：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宁信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信也  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辨别下边语句中的“度”的不同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先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足，而置之其坐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已得履，乃曰：“吾忘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95640" y="692280"/>
            <a:ext cx="39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67280" y="62064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“座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24360" y="17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“返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95640" y="1197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拿，携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2421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即，匆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80000" y="3500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，不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16360" y="2997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渡，从水上经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16000" y="4869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量长短，是动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87280" y="5877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量好的尺码，是名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读句子，回答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郑人有欲买履者，先自度其足，而置之其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这个郑人自己去集市上买鞋，却先要量好自己的尺码。这个“多此一举”的行为反映了什么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舟已行矣，而剑不行，求剑若此，不亦惑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这个刻舟求剑的楚人“惑”的原因是什么？这给我们怎样的启示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9280" y="270828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26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映他思想僵化，宁可信“度”而不信自己的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8920" y="53038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因是他不知道船和剑的关系是一动一静，而把两者都看成静的了。这启示我们要尊重实际，用发展变化的观点来看问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课文中的郑人和楚人的言行都十分可笑，请按要求默写出有关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郑人最可笑的“言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楚人最可笑的“行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9640" y="184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宁信度，无自信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36450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其所契者入水求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7:54:37Z</dcterms:created>
  <dc:creator>微软用户</dc:creator>
  <dc:description/>
  <dc:language>en-US</dc:language>
  <cp:lastModifiedBy>微软用户</cp:lastModifiedBy>
  <dcterms:modified xsi:type="dcterms:W3CDTF">2000-01-10T09:20:23Z</dcterms:modified>
  <cp:revision>3</cp:revision>
  <dc:subject/>
  <dc:title>幻灯片 1</dc:title>
</cp:coreProperties>
</file>