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camera.wav" ContentType="audio/x-wav"/>
  <Override PartName="/ppt/media/image7.jpeg" ContentType="image/jpeg"/>
  <Override PartName="/ppt/media/wind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media/image12.jpeg" ContentType="image/jpeg"/>
  <Override PartName="/ppt/media/image13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D9CA1-02D9-427D-9B58-A877AA6CD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C740-02D7-4DE5-8605-A479819E3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8458-F8E2-4C64-9991-EC8CDEEFD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6D561-6FA9-460A-B2F2-2FDC1AF42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3740B-2253-4507-9B87-47535AD46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2FC67-BC3A-45EF-90BE-D8C1C13FA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650C5-7E33-4091-9C16-235373D07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D14AE-FCE7-4960-99A3-91FAB7E70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68569-4BAD-42AD-B78F-742A34F2C4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DBD0E-8C42-461B-B54D-78BE2D0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5712E-9FF8-48A1-B399-988E14D9A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13EAC-19F6-4255-B2A0-3D54EBD23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7E2D5-3215-4880-BDAB-F3CC5D344E89}" type="slidenum">
              <a:rPr b="0" lang="zh-CN" sz="1400" spc="-1" strike="noStrike">
                <a:solidFill>
                  <a:srgbClr val="ff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wind.wav"/><Relationship Id="rId3" Type="http://schemas.openxmlformats.org/officeDocument/2006/relationships/audio" Target="../media/wind.wav"/><Relationship Id="rId4" Type="http://schemas.openxmlformats.org/officeDocument/2006/relationships/audio" Target="../media/wind.wav"/><Relationship Id="rId5" Type="http://schemas.openxmlformats.org/officeDocument/2006/relationships/audio" Target="../media/wind.wav"/><Relationship Id="rId6" Type="http://schemas.openxmlformats.org/officeDocument/2006/relationships/audio" Target="../media/wind.wav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audio" Target="../media/camera.wav"/><Relationship Id="rId3" Type="http://schemas.openxmlformats.org/officeDocument/2006/relationships/audio" Target="../media/camera.wav"/><Relationship Id="rId4" Type="http://schemas.openxmlformats.org/officeDocument/2006/relationships/audio" Target="../media/camera.wav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12291" descr="1BCBB00EFA1E9F5735D722E5D2725C25"/>
          <p:cNvPicPr/>
          <p:nvPr/>
        </p:nvPicPr>
        <p:blipFill>
          <a:blip r:embed="rId1">
            <a:alphaModFix amt="82000"/>
          </a:blip>
          <a:srcRect l="0" t="0" r="472" b="0"/>
          <a:stretch/>
        </p:blipFill>
        <p:spPr>
          <a:xfrm>
            <a:off x="-757080" y="0"/>
            <a:ext cx="11785320" cy="8802720"/>
          </a:xfrm>
          <a:prstGeom prst="rect">
            <a:avLst/>
          </a:prstGeom>
          <a:ln w="0">
            <a:solidFill>
              <a:srgbClr val="ffffff"/>
            </a:solidFill>
          </a:ln>
        </p:spPr>
      </p:pic>
      <p:sp>
        <p:nvSpPr>
          <p:cNvPr id="42" name="矩形 12293"/>
          <p:cNvSpPr txBox="1"/>
          <p:nvPr/>
        </p:nvSpPr>
        <p:spPr>
          <a:xfrm>
            <a:off x="826920" y="1484280"/>
            <a:ext cx="756144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彩云"/>
              </a:rPr>
              <a:t>22 </a:t>
            </a:r>
            <a:r>
              <a:rPr b="1" lang="zh-CN" sz="72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ffffff"/>
                </a:solidFill>
                <a:latin typeface="华文彩云"/>
              </a:rPr>
              <a:t>跨越海峡的生命桥</a:t>
            </a:r>
            <a:endParaRPr b="1" lang="en-US" sz="7200" spc="1" strike="noStrike">
              <a:ln w="9360">
                <a:solidFill>
                  <a:srgbClr val="000000"/>
                </a:solidFill>
                <a:round/>
              </a:ln>
              <a:solidFill>
                <a:srgbClr val="ffffff"/>
              </a:solidFill>
              <a:latin typeface="华文彩云"/>
              <a:ea typeface="华文彩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图片 27649" descr="Z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文本框 27650"/>
          <p:cNvSpPr/>
          <p:nvPr/>
        </p:nvSpPr>
        <p:spPr>
          <a:xfrm>
            <a:off x="826920" y="692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" name="文本框 27651"/>
          <p:cNvSpPr/>
          <p:nvPr/>
        </p:nvSpPr>
        <p:spPr>
          <a:xfrm>
            <a:off x="3471840" y="-131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文本框 27652"/>
          <p:cNvSpPr/>
          <p:nvPr/>
        </p:nvSpPr>
        <p:spPr>
          <a:xfrm>
            <a:off x="469800" y="1052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" name="文本框 27653"/>
          <p:cNvSpPr/>
          <p:nvPr/>
        </p:nvSpPr>
        <p:spPr>
          <a:xfrm>
            <a:off x="808200" y="371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92" name="韦唯-爱的奉献.wma" descr=""/>
          <p:cNvPicPr/>
          <p:nvPr/>
        </p:nvPicPr>
        <p:blipFill>
          <a:blip r:embed="rId2"/>
          <a:stretch/>
        </p:blipFill>
        <p:spPr>
          <a:xfrm>
            <a:off x="8172360" y="6021360"/>
            <a:ext cx="57492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73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302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19459" descr="Z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文本框 19460"/>
          <p:cNvSpPr/>
          <p:nvPr/>
        </p:nvSpPr>
        <p:spPr>
          <a:xfrm>
            <a:off x="611280" y="9810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早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分，阳光洒满了美丽的杭州市，桂树还没有开花，晨风中已经飘来甜丝丝的香气。小钱静静地躺在病床上。灿烂的阳光没有使他苍白的脸红润起来。这个刚满１８岁的年轻人，患了严重的白血病，生命就像即将凋零的含苞的花朵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45" name="小夜曲（舒伯特）.mp3" descr=""/>
          <p:cNvPicPr/>
          <p:nvPr/>
        </p:nvPicPr>
        <p:blipFill>
          <a:blip r:embed="rId2"/>
          <a:stretch/>
        </p:blipFill>
        <p:spPr>
          <a:xfrm>
            <a:off x="7164360" y="5173560"/>
            <a:ext cx="720720" cy="72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594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24577" descr="Z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文本框 24578"/>
          <p:cNvSpPr/>
          <p:nvPr/>
        </p:nvSpPr>
        <p:spPr>
          <a:xfrm>
            <a:off x="1187280" y="981000"/>
            <a:ext cx="633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　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在同一时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海峡彼岸的台湾花莲慈济医院，骨髓移植专家李博士正步履匆匆地走进手术室。一位青年躺在病床上，等候着他来抽取骨髓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5601" descr="Z1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文本框 25602"/>
          <p:cNvSpPr/>
          <p:nvPr/>
        </p:nvSpPr>
        <p:spPr>
          <a:xfrm>
            <a:off x="685800" y="1052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50" name="图片 25603" descr="F200805130712543251869343"/>
          <p:cNvPicPr/>
          <p:nvPr/>
        </p:nvPicPr>
        <p:blipFill>
          <a:blip r:embed="rId2"/>
          <a:stretch/>
        </p:blipFill>
        <p:spPr>
          <a:xfrm>
            <a:off x="6227640" y="260280"/>
            <a:ext cx="2262240" cy="338472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5604" descr="F200805130712561087178572"/>
          <p:cNvPicPr/>
          <p:nvPr/>
        </p:nvPicPr>
        <p:blipFill>
          <a:blip r:embed="rId3"/>
          <a:stretch/>
        </p:blipFill>
        <p:spPr>
          <a:xfrm>
            <a:off x="3564000" y="260280"/>
            <a:ext cx="2303280" cy="338616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5605" descr="F200805130713007923297822"/>
          <p:cNvPicPr/>
          <p:nvPr/>
        </p:nvPicPr>
        <p:blipFill>
          <a:blip r:embed="rId4"/>
          <a:stretch/>
        </p:blipFill>
        <p:spPr>
          <a:xfrm>
            <a:off x="755640" y="260280"/>
            <a:ext cx="2540160" cy="3384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25606" descr="F200805130713062603923393"/>
          <p:cNvPicPr/>
          <p:nvPr/>
        </p:nvPicPr>
        <p:blipFill>
          <a:blip r:embed="rId5"/>
          <a:stretch/>
        </p:blipFill>
        <p:spPr>
          <a:xfrm>
            <a:off x="755640" y="4076640"/>
            <a:ext cx="3311640" cy="2129040"/>
          </a:xfrm>
          <a:prstGeom prst="rect">
            <a:avLst/>
          </a:prstGeom>
          <a:ln w="0">
            <a:noFill/>
          </a:ln>
        </p:spPr>
      </p:pic>
      <p:pic>
        <p:nvPicPr>
          <p:cNvPr id="54" name="图片 25607" descr="F200805131305082520923492"/>
          <p:cNvPicPr/>
          <p:nvPr/>
        </p:nvPicPr>
        <p:blipFill>
          <a:blip r:embed="rId6"/>
          <a:stretch/>
        </p:blipFill>
        <p:spPr>
          <a:xfrm>
            <a:off x="4572000" y="4076640"/>
            <a:ext cx="3960720" cy="221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8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5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dur="indefinite" nodeType="withEffect" fill="hold" presetClass="entr" presetID="13" presetSubtype="16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2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18435" descr="图片1"/>
          <p:cNvPicPr/>
          <p:nvPr/>
        </p:nvPicPr>
        <p:blipFill>
          <a:blip r:embed="rId1">
            <a:lum bright="-22000"/>
          </a:blip>
          <a:stretch/>
        </p:blipFill>
        <p:spPr>
          <a:xfrm>
            <a:off x="0" y="-468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18437"/>
          <p:cNvSpPr/>
          <p:nvPr/>
        </p:nvSpPr>
        <p:spPr>
          <a:xfrm>
            <a:off x="971640" y="1076400"/>
            <a:ext cx="7488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在这场灾难中，病床上的青年没有受伤，他的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家人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否平安无事，目前还不清楚。但是，他知道，在海峡的另一边，有一位青年正满怀着希望，期待着他的骨髓。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文本框 5130"/>
          <p:cNvSpPr/>
          <p:nvPr/>
        </p:nvSpPr>
        <p:spPr>
          <a:xfrm>
            <a:off x="826920" y="2781360"/>
            <a:ext cx="8317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但是，李博士仍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沉着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地站在病床旁，那位青年也静静地躺在病床上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经过一次又一次的努力利用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地震动暂停的间隔，台湾青年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骨髓，终于从身躯里涓涓流出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......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文本框 5123"/>
          <p:cNvSpPr/>
          <p:nvPr/>
        </p:nvSpPr>
        <p:spPr>
          <a:xfrm>
            <a:off x="828360" y="1197000"/>
            <a:ext cx="9702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61" name="图片 5125" descr="ywfj25"/>
          <p:cNvPicPr/>
          <p:nvPr/>
        </p:nvPicPr>
        <p:blipFill>
          <a:blip r:embed="rId1"/>
          <a:stretch/>
        </p:blipFill>
        <p:spPr>
          <a:xfrm>
            <a:off x="0" y="6021360"/>
            <a:ext cx="9144000" cy="836640"/>
          </a:xfrm>
          <a:prstGeom prst="rect">
            <a:avLst/>
          </a:prstGeom>
          <a:ln w="0">
            <a:noFill/>
          </a:ln>
        </p:spPr>
      </p:pic>
      <p:sp>
        <p:nvSpPr>
          <p:cNvPr id="62" name="文本框 5127"/>
          <p:cNvSpPr/>
          <p:nvPr/>
        </p:nvSpPr>
        <p:spPr>
          <a:xfrm>
            <a:off x="826920" y="260280"/>
            <a:ext cx="792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针头向皮肤刺去，一阵突如其来的余震，使针头从肌肤里脱落，李博士不得不停止工作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此时此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跑到空旷的地方才比较安全． </a:t>
            </a: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" name="文本框 5129"/>
          <p:cNvSpPr/>
          <p:nvPr/>
        </p:nvSpPr>
        <p:spPr>
          <a:xfrm>
            <a:off x="1095480" y="3611520"/>
            <a:ext cx="56372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图片 3080" descr="BOTTON10"/>
          <p:cNvPicPr/>
          <p:nvPr/>
        </p:nvPicPr>
        <p:blipFill>
          <a:blip r:embed="rId1"/>
          <a:stretch/>
        </p:blipFill>
        <p:spPr>
          <a:xfrm>
            <a:off x="-1440" y="0"/>
            <a:ext cx="9145440" cy="7029360"/>
          </a:xfrm>
          <a:prstGeom prst="rect">
            <a:avLst/>
          </a:prstGeom>
          <a:ln w="0">
            <a:noFill/>
          </a:ln>
        </p:spPr>
      </p:pic>
      <p:sp>
        <p:nvSpPr>
          <p:cNvPr id="65" name="动作按钮: 自定义 3089"/>
          <p:cNvSpPr/>
          <p:nvPr/>
        </p:nvSpPr>
        <p:spPr>
          <a:xfrm>
            <a:off x="1908000" y="4365720"/>
            <a:ext cx="1043280" cy="1042920"/>
          </a:xfrm>
          <a:custGeom>
            <a:avLst/>
            <a:gdLst>
              <a:gd name="textAreaLeft" fmla="*/ 67320 w 1043280"/>
              <a:gd name="textAreaRight" fmla="*/ 975960 w 104328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7" h="21600">
                <a:moveTo>
                  <a:pt x="0" y="0"/>
                </a:moveTo>
                <a:lnTo>
                  <a:pt x="21607" y="0"/>
                </a:lnTo>
                <a:lnTo>
                  <a:pt x="21607" y="21600"/>
                </a:lnTo>
                <a:lnTo>
                  <a:pt x="0" y="21600"/>
                </a:lnTo>
                <a:close/>
              </a:path>
              <a:path fill="lightenLess" w="21607" h="21600">
                <a:moveTo>
                  <a:pt x="0" y="0"/>
                </a:moveTo>
                <a:lnTo>
                  <a:pt x="21607" y="0"/>
                </a:lnTo>
                <a:lnTo>
                  <a:pt x="20208" y="1400"/>
                </a:lnTo>
                <a:lnTo>
                  <a:pt x="1400" y="1400"/>
                </a:lnTo>
                <a:close/>
              </a:path>
              <a:path fill="darken" w="21607" h="21600">
                <a:moveTo>
                  <a:pt x="21607" y="0"/>
                </a:moveTo>
                <a:lnTo>
                  <a:pt x="21607" y="21600"/>
                </a:lnTo>
                <a:lnTo>
                  <a:pt x="20208" y="20200"/>
                </a:lnTo>
                <a:lnTo>
                  <a:pt x="20208" y="1400"/>
                </a:lnTo>
                <a:close/>
              </a:path>
              <a:path fill="darkenLess" w="21607" h="21600">
                <a:moveTo>
                  <a:pt x="21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8" y="20200"/>
                </a:lnTo>
                <a:close/>
              </a:path>
              <a:path fill="lighten" w="21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文本框 3094"/>
          <p:cNvSpPr/>
          <p:nvPr/>
        </p:nvSpPr>
        <p:spPr>
          <a:xfrm>
            <a:off x="3298680" y="1341360"/>
            <a:ext cx="388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  从花莲飞往台北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" name="文本框 3095"/>
          <p:cNvSpPr/>
          <p:nvPr/>
        </p:nvSpPr>
        <p:spPr>
          <a:xfrm>
            <a:off x="3380040" y="2060640"/>
            <a:ext cx="4128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  由台北抵香港后，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立即飞往上海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文本框 3097"/>
          <p:cNvSpPr/>
          <p:nvPr/>
        </p:nvSpPr>
        <p:spPr>
          <a:xfrm>
            <a:off x="3229560" y="3357720"/>
            <a:ext cx="398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6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   飞机在上海降落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文本框 3098"/>
          <p:cNvSpPr/>
          <p:nvPr/>
        </p:nvSpPr>
        <p:spPr>
          <a:xfrm>
            <a:off x="3058920" y="4292640"/>
            <a:ext cx="32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   直奔杭州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" name="文本框 3099"/>
          <p:cNvSpPr/>
          <p:nvPr/>
        </p:nvSpPr>
        <p:spPr>
          <a:xfrm>
            <a:off x="3576600" y="5084640"/>
            <a:ext cx="4721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分    坐救护车开进杭州医院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动作按钮: 结束 3100">
            <a:hlinkClick r:id="" action="ppaction://hlinkshowjump?jump=nextslide"/>
          </p:cNvPr>
          <p:cNvSpPr/>
          <p:nvPr/>
        </p:nvSpPr>
        <p:spPr>
          <a:xfrm>
            <a:off x="8028000" y="5805360"/>
            <a:ext cx="682560" cy="493920"/>
          </a:xfrm>
          <a:custGeom>
            <a:avLst/>
            <a:gdLst>
              <a:gd name="textAreaLeft" fmla="*/ 31680 w 682560"/>
              <a:gd name="textAreaRight" fmla="*/ 650880 w 682560"/>
              <a:gd name="textAreaTop" fmla="*/ 31680 h 493920"/>
              <a:gd name="textAreaBottom" fmla="*/ 462240 h 493920"/>
            </a:gdLst>
            <a:ahLst/>
            <a:rect l="textAreaLeft" t="textAreaTop" r="textAreaRight" b="textAreaBottom"/>
            <a:pathLst>
              <a:path w="29844" h="21600">
                <a:moveTo>
                  <a:pt x="0" y="0"/>
                </a:moveTo>
                <a:lnTo>
                  <a:pt x="29844" y="0"/>
                </a:lnTo>
                <a:lnTo>
                  <a:pt x="29844" y="21600"/>
                </a:lnTo>
                <a:lnTo>
                  <a:pt x="0" y="21600"/>
                </a:lnTo>
                <a:close/>
              </a:path>
              <a:path fill="lightenLess" w="29844" h="21600">
                <a:moveTo>
                  <a:pt x="0" y="0"/>
                </a:moveTo>
                <a:lnTo>
                  <a:pt x="29844" y="0"/>
                </a:lnTo>
                <a:lnTo>
                  <a:pt x="28444" y="1400"/>
                </a:lnTo>
                <a:lnTo>
                  <a:pt x="1400" y="1400"/>
                </a:lnTo>
                <a:close/>
              </a:path>
              <a:path fill="darken" w="29844" h="21600">
                <a:moveTo>
                  <a:pt x="29844" y="0"/>
                </a:moveTo>
                <a:lnTo>
                  <a:pt x="29844" y="21600"/>
                </a:lnTo>
                <a:lnTo>
                  <a:pt x="28444" y="20200"/>
                </a:lnTo>
                <a:lnTo>
                  <a:pt x="28444" y="1400"/>
                </a:lnTo>
                <a:close/>
              </a:path>
              <a:path fill="darkenLess" w="29844" h="21600">
                <a:moveTo>
                  <a:pt x="2984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444" y="20200"/>
                </a:lnTo>
                <a:close/>
              </a:path>
              <a:path fill="lighten" w="2984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844" h="21600">
                <a:moveTo>
                  <a:pt x="18421" y="10800"/>
                </a:moveTo>
                <a:lnTo>
                  <a:pt x="7915" y="17806"/>
                </a:lnTo>
                <a:lnTo>
                  <a:pt x="7915" y="3794"/>
                </a:lnTo>
                <a:close/>
              </a:path>
              <a:path fill="darken" w="29844" h="21600">
                <a:moveTo>
                  <a:pt x="20266" y="3794"/>
                </a:moveTo>
                <a:lnTo>
                  <a:pt x="20266" y="17806"/>
                </a:lnTo>
                <a:lnTo>
                  <a:pt x="21928" y="17806"/>
                </a:lnTo>
                <a:lnTo>
                  <a:pt x="21928" y="379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动作按钮: 信息 3101"/>
          <p:cNvSpPr/>
          <p:nvPr/>
        </p:nvSpPr>
        <p:spPr>
          <a:xfrm>
            <a:off x="2771640" y="5805360"/>
            <a:ext cx="538200" cy="503280"/>
          </a:xfrm>
          <a:custGeom>
            <a:avLst/>
            <a:gdLst>
              <a:gd name="textAreaLeft" fmla="*/ 32400 w 538200"/>
              <a:gd name="textAreaRight" fmla="*/ 505800 w 538200"/>
              <a:gd name="textAreaTop" fmla="*/ 32400 h 503280"/>
              <a:gd name="textAreaBottom" fmla="*/ 470880 h 503280"/>
            </a:gdLst>
            <a:ahLst/>
            <a:rect l="textAreaLeft" t="textAreaTop" r="textAreaRight" b="textAreaBottom"/>
            <a:pathLst>
              <a:path w="23098" h="21600">
                <a:moveTo>
                  <a:pt x="0" y="0"/>
                </a:moveTo>
                <a:lnTo>
                  <a:pt x="23098" y="0"/>
                </a:lnTo>
                <a:lnTo>
                  <a:pt x="23098" y="21600"/>
                </a:lnTo>
                <a:lnTo>
                  <a:pt x="0" y="21600"/>
                </a:lnTo>
                <a:close/>
              </a:path>
              <a:path fill="lightenLess" w="23098" h="21600">
                <a:moveTo>
                  <a:pt x="0" y="0"/>
                </a:moveTo>
                <a:lnTo>
                  <a:pt x="23098" y="0"/>
                </a:lnTo>
                <a:lnTo>
                  <a:pt x="21698" y="1400"/>
                </a:lnTo>
                <a:lnTo>
                  <a:pt x="1400" y="1400"/>
                </a:lnTo>
                <a:close/>
              </a:path>
              <a:path fill="darken" w="23098" h="21600">
                <a:moveTo>
                  <a:pt x="23098" y="0"/>
                </a:moveTo>
                <a:lnTo>
                  <a:pt x="23098" y="21600"/>
                </a:lnTo>
                <a:lnTo>
                  <a:pt x="21698" y="20200"/>
                </a:lnTo>
                <a:lnTo>
                  <a:pt x="21698" y="1400"/>
                </a:lnTo>
                <a:close/>
              </a:path>
              <a:path fill="darkenLess" w="23098" h="21600">
                <a:moveTo>
                  <a:pt x="2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98" y="20200"/>
                </a:lnTo>
                <a:close/>
              </a:path>
              <a:path fill="lighten" w="2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98" h="21600">
                <a:moveTo>
                  <a:pt x="11549" y="3794"/>
                </a:moveTo>
                <a:arcTo wR="7006" hR="7006" stAng="16200000" swAng="-5400000"/>
                <a:arcTo wR="7006" hR="7006" stAng="10800000" swAng="-5400000"/>
                <a:arcTo wR="7006" hR="7006" stAng="5400000" swAng="-5400000"/>
                <a:arcTo wR="7006" hR="7006" stAng="0" swAng="-5400000"/>
                <a:close/>
              </a:path>
              <a:path fill="lighten" w="23098" h="21600">
                <a:moveTo>
                  <a:pt x="11549" y="4168"/>
                </a:moveTo>
                <a:arcTo wR="1793" hR="1793" stAng="16200000" swAng="-5400000"/>
                <a:arcTo wR="1793" hR="1793" stAng="10800000" swAng="-5400000"/>
                <a:arcTo wR="1793" hR="1793" stAng="5400000" swAng="-5400000"/>
                <a:arcTo wR="1793" hR="1793" stAng="0" swAng="-5400000"/>
                <a:close/>
              </a:path>
              <a:path fill="lighten" w="23098" h="21600">
                <a:moveTo>
                  <a:pt x="8973" y="8224"/>
                </a:moveTo>
                <a:lnTo>
                  <a:pt x="12837" y="8224"/>
                </a:lnTo>
                <a:lnTo>
                  <a:pt x="12837" y="15221"/>
                </a:lnTo>
                <a:lnTo>
                  <a:pt x="14125" y="15221"/>
                </a:lnTo>
                <a:lnTo>
                  <a:pt x="14125" y="16144"/>
                </a:lnTo>
                <a:lnTo>
                  <a:pt x="8973" y="16144"/>
                </a:lnTo>
                <a:lnTo>
                  <a:pt x="8973" y="15221"/>
                </a:lnTo>
                <a:lnTo>
                  <a:pt x="10261" y="15221"/>
                </a:lnTo>
                <a:lnTo>
                  <a:pt x="10261" y="9129"/>
                </a:lnTo>
                <a:lnTo>
                  <a:pt x="8973" y="91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2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图片 21507" descr="chinampa11"/>
          <p:cNvPicPr/>
          <p:nvPr/>
        </p:nvPicPr>
        <p:blipFill>
          <a:blip r:embed="rId1">
            <a:lum bright="-1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直接连接符 21508"/>
          <p:cNvSpPr/>
          <p:nvPr/>
        </p:nvSpPr>
        <p:spPr>
          <a:xfrm flipH="1">
            <a:off x="6877080" y="5373720"/>
            <a:ext cx="792000" cy="21600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" name="直接连接符 21509"/>
          <p:cNvSpPr/>
          <p:nvPr/>
        </p:nvSpPr>
        <p:spPr>
          <a:xfrm flipV="1">
            <a:off x="6804000" y="4076280"/>
            <a:ext cx="1152720" cy="158436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直接连接符 21510"/>
          <p:cNvSpPr/>
          <p:nvPr/>
        </p:nvSpPr>
        <p:spPr>
          <a:xfrm flipH="1">
            <a:off x="7380000" y="4149720"/>
            <a:ext cx="431640" cy="287280"/>
          </a:xfrm>
          <a:prstGeom prst="line">
            <a:avLst/>
          </a:prstGeom>
          <a:ln w="38160">
            <a:solidFill>
              <a:srgbClr val="ff00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动作按钮: 开始 21511">
            <a:hlinkClick r:id="" action="ppaction://hlinkshowjump?jump=previousslide"/>
          </p:cNvPr>
          <p:cNvSpPr/>
          <p:nvPr/>
        </p:nvSpPr>
        <p:spPr>
          <a:xfrm>
            <a:off x="8028000" y="6165720"/>
            <a:ext cx="754200" cy="466920"/>
          </a:xfrm>
          <a:custGeom>
            <a:avLst/>
            <a:gdLst>
              <a:gd name="textAreaLeft" fmla="*/ 30240 w 754200"/>
              <a:gd name="textAreaRight" fmla="*/ 723960 w 754200"/>
              <a:gd name="textAreaTop" fmla="*/ 30240 h 466920"/>
              <a:gd name="textAreaBottom" fmla="*/ 436680 h 466920"/>
            </a:gdLst>
            <a:ahLst/>
            <a:rect l="textAreaLeft" t="textAreaTop" r="textAreaRight" b="textAreaBottom"/>
            <a:pathLst>
              <a:path w="34880" h="21600">
                <a:moveTo>
                  <a:pt x="0" y="0"/>
                </a:moveTo>
                <a:lnTo>
                  <a:pt x="34880" y="0"/>
                </a:lnTo>
                <a:lnTo>
                  <a:pt x="34880" y="21600"/>
                </a:lnTo>
                <a:lnTo>
                  <a:pt x="0" y="21600"/>
                </a:lnTo>
                <a:close/>
              </a:path>
              <a:path fill="lightenLess" w="34880" h="21600">
                <a:moveTo>
                  <a:pt x="0" y="0"/>
                </a:moveTo>
                <a:lnTo>
                  <a:pt x="34880" y="0"/>
                </a:lnTo>
                <a:lnTo>
                  <a:pt x="33480" y="1400"/>
                </a:lnTo>
                <a:lnTo>
                  <a:pt x="1400" y="1400"/>
                </a:lnTo>
                <a:close/>
              </a:path>
              <a:path fill="darken" w="34880" h="21600">
                <a:moveTo>
                  <a:pt x="34880" y="0"/>
                </a:moveTo>
                <a:lnTo>
                  <a:pt x="34880" y="21600"/>
                </a:lnTo>
                <a:lnTo>
                  <a:pt x="33480" y="20200"/>
                </a:lnTo>
                <a:lnTo>
                  <a:pt x="33480" y="1400"/>
                </a:lnTo>
                <a:close/>
              </a:path>
              <a:path fill="darkenLess" w="34880" h="21600">
                <a:moveTo>
                  <a:pt x="34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480" y="20200"/>
                </a:lnTo>
                <a:close/>
              </a:path>
              <a:path fill="lighten" w="34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880" h="21600">
                <a:moveTo>
                  <a:pt x="13941" y="10800"/>
                </a:moveTo>
                <a:lnTo>
                  <a:pt x="24446" y="3794"/>
                </a:lnTo>
                <a:lnTo>
                  <a:pt x="24446" y="17806"/>
                </a:lnTo>
                <a:close/>
              </a:path>
              <a:path fill="darken" w="34880" h="21600">
                <a:moveTo>
                  <a:pt x="10433" y="3794"/>
                </a:moveTo>
                <a:lnTo>
                  <a:pt x="12096" y="3794"/>
                </a:lnTo>
                <a:lnTo>
                  <a:pt x="12096" y="17806"/>
                </a:lnTo>
                <a:lnTo>
                  <a:pt x="1043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图片 16391" descr="Z102"/>
          <p:cNvPicPr/>
          <p:nvPr/>
        </p:nvPicPr>
        <p:blipFill>
          <a:blip r:embed="rId1"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文本框 16387"/>
          <p:cNvSpPr/>
          <p:nvPr/>
        </p:nvSpPr>
        <p:spPr>
          <a:xfrm>
            <a:off x="826920" y="69228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文本框 16388"/>
          <p:cNvSpPr/>
          <p:nvPr/>
        </p:nvSpPr>
        <p:spPr>
          <a:xfrm>
            <a:off x="3471840" y="-13176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文本框 16389"/>
          <p:cNvSpPr/>
          <p:nvPr/>
        </p:nvSpPr>
        <p:spPr>
          <a:xfrm>
            <a:off x="469800" y="1052640"/>
            <a:ext cx="1082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" name="文本框 16392"/>
          <p:cNvSpPr/>
          <p:nvPr/>
        </p:nvSpPr>
        <p:spPr>
          <a:xfrm>
            <a:off x="808200" y="3715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文本框 16393"/>
          <p:cNvSpPr/>
          <p:nvPr/>
        </p:nvSpPr>
        <p:spPr>
          <a:xfrm>
            <a:off x="1495440" y="620640"/>
            <a:ext cx="5863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，该中心首次进行横跨两岸的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骨髓移植给大陆一名１７岁男孩．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文本框 16394"/>
          <p:cNvSpPr/>
          <p:nvPr/>
        </p:nvSpPr>
        <p:spPr>
          <a:xfrm>
            <a:off x="1546200" y="1989000"/>
            <a:ext cx="5942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２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99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，台湾身患残疾的汤女士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带着伤病的身躯，为西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9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岁的白血病患者王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健作捐髓手术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" name="文本框 16395"/>
          <p:cNvSpPr/>
          <p:nvPr/>
        </p:nvSpPr>
        <p:spPr>
          <a:xfrm>
            <a:off x="1395000" y="4076640"/>
            <a:ext cx="6490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00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日上午，该中心几经辗转，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将台湾女青年捐献的新鲜骨髓送到汕头，挽救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了汕头市工贸中专的学生姚文健的生命。</a:t>
            </a:r>
            <a:endParaRPr b="1" lang="en-US" sz="32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86" name="浪漫曲.mp3" descr=""/>
          <p:cNvPicPr/>
          <p:nvPr/>
        </p:nvPicPr>
        <p:blipFill>
          <a:blip r:embed="rId2"/>
          <a:stretch/>
        </p:blipFill>
        <p:spPr>
          <a:xfrm>
            <a:off x="8244000" y="260280"/>
            <a:ext cx="504720" cy="50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restart="whenNotActive" nodeType="interactiveSeq" fill="hold">
                <p:stCondLst>
                  <p:cond evt="onClick">
                    <p:tgtEl>
                      <p:spTgt spid="86"/>
                    </p:tgtEl>
                  </p:cond>
                </p:stCondLst>
                <p:childTnLst>
                  <p:par>
                    <p:cTn id="67" fill="hold">
                      <p:stCondLst>
                        <p:cond evt="onClick">
                          <p:tgtEl>
                            <p:spTgt spid="86"/>
                          </p:tgtEl>
                        </p:cond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175620" fill="hold"/>
                                        <p:tgtEl>
                                          <p:spTgt spid="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2T13:05:58Z</dcterms:created>
  <dc:creator>huhailian</dc:creator>
  <dc:description/>
  <dc:language>en-US</dc:language>
  <cp:lastModifiedBy>admin</cp:lastModifiedBy>
  <dcterms:modified xsi:type="dcterms:W3CDTF">2019-05-30T06:44:03Z</dcterms:modified>
  <cp:revision>24</cp:revision>
  <dc:subject/>
  <dc:title>22 跨越海峡的生命桥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12</vt:lpwstr>
  </property>
</Properties>
</file>