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C837-D783-4E46-B1C0-F9016032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5AD1F-FA5F-4E68-95C5-702F09FE8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2997-7292-4EC9-87F5-EAE09ECF16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E1CB-B153-4D2D-A995-B030430DF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C2CE5E-7057-4723-A1D1-056102D40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B1C2A4-B8D3-404B-945E-02DBF6804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5847033-ECBA-4C8F-BA71-52805F347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AA51DC-5355-4014-889D-BB1E821DA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6C870D-C74E-4447-BDCB-A67AAB5C8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7787F2-96A7-4D1B-B96E-F0C44EB15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EE6D9F-C3A7-4DC0-915D-EB015B5CD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8CA28-84CF-4380-B196-38C415750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F305F4-B208-4C03-9754-AFE3C11A7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1AB30F-00FC-4A31-843F-3C21E070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7BCBEB-A99F-4C13-9CA6-B62F83DDD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02586D-7C4C-493E-9B44-EDE06D68E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308A0A-9DBF-4140-8AF0-044487D33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9AA15-F614-4E77-814F-38F7B525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3F055-F938-43E6-8E65-ADDEB35FA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361E-A71E-4520-9C3C-085E7FE8E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996920"/>
            <a:ext cx="7772400" cy="66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AEE6B-6A84-4882-B2A0-F94A60253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68D8-95F9-485B-8135-4A76BB66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DB04-0135-4B7F-8550-405961E85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CC2E-501A-4B22-8393-F8606A0C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2A37D-511C-48AA-9FF5-6F0802CE77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CFF75-42ED-4593-8AFB-CEEB88AC6D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" Target="slide4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763640" y="1844640"/>
            <a:ext cx="5581800" cy="201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22</a:t>
            </a:r>
            <a:r>
              <a:rPr b="1" lang="zh-CN" sz="4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跨越海峡的生命桥</a:t>
            </a:r>
            <a:endParaRPr b="1" lang="en-US" sz="4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3851280" y="5013360"/>
            <a:ext cx="1371600" cy="431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曹爱红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3419640" y="4076640"/>
            <a:ext cx="2286000" cy="457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ff00"/>
                  </a:solidFill>
                  <a:miter/>
                </a:ln>
                <a:solidFill>
                  <a:srgbClr val="ffff00"/>
                </a:solidFill>
                <a:latin typeface="宋体"/>
              </a:rPr>
              <a:t>太平庄小学</a:t>
            </a:r>
            <a:endParaRPr b="0" lang="en-US" sz="1800" spc="1" strike="noStrike">
              <a:ln w="9360">
                <a:solidFill>
                  <a:srgbClr val="ffff00"/>
                </a:solidFill>
                <a:miter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地震14" descr=""/>
          <p:cNvPicPr/>
          <p:nvPr/>
        </p:nvPicPr>
        <p:blipFill>
          <a:blip r:embed="rId2"/>
          <a:stretch/>
        </p:blipFill>
        <p:spPr>
          <a:xfrm>
            <a:off x="4716360" y="3068640"/>
            <a:ext cx="4176720" cy="3456000"/>
          </a:xfrm>
          <a:prstGeom prst="rect">
            <a:avLst/>
          </a:prstGeom>
          <a:ln w="0">
            <a:noFill/>
          </a:ln>
        </p:spPr>
      </p:pic>
      <p:pic>
        <p:nvPicPr>
          <p:cNvPr id="116" name="地震12" descr=""/>
          <p:cNvPicPr/>
          <p:nvPr/>
        </p:nvPicPr>
        <p:blipFill>
          <a:blip r:embed="rId3"/>
          <a:stretch/>
        </p:blipFill>
        <p:spPr>
          <a:xfrm>
            <a:off x="179280" y="2997360"/>
            <a:ext cx="4392720" cy="3504960"/>
          </a:xfrm>
          <a:prstGeom prst="rect">
            <a:avLst/>
          </a:prstGeom>
          <a:ln w="0">
            <a:noFill/>
          </a:ln>
        </p:spPr>
      </p:pic>
      <p:pic>
        <p:nvPicPr>
          <p:cNvPr id="117" name="地震11" descr=""/>
          <p:cNvPicPr/>
          <p:nvPr/>
        </p:nvPicPr>
        <p:blipFill>
          <a:blip r:embed="rId4"/>
          <a:stretch/>
        </p:blipFill>
        <p:spPr>
          <a:xfrm>
            <a:off x="144360" y="0"/>
            <a:ext cx="4427640" cy="2973240"/>
          </a:xfrm>
          <a:prstGeom prst="rect">
            <a:avLst/>
          </a:prstGeom>
          <a:ln w="0">
            <a:noFill/>
          </a:ln>
        </p:spPr>
      </p:pic>
      <p:pic>
        <p:nvPicPr>
          <p:cNvPr id="118" name="地震5" descr=""/>
          <p:cNvPicPr/>
          <p:nvPr/>
        </p:nvPicPr>
        <p:blipFill>
          <a:blip r:embed="rId5"/>
          <a:stretch/>
        </p:blipFill>
        <p:spPr>
          <a:xfrm>
            <a:off x="4716360" y="0"/>
            <a:ext cx="4321440" cy="30160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8101080" y="6524640"/>
            <a:ext cx="649080" cy="260280"/>
          </a:xfrm>
          <a:prstGeom prst="leftArrow">
            <a:avLst>
              <a:gd name="adj1" fmla="val 50000"/>
              <a:gd name="adj2" fmla="val 62344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3000"/>
                            </p:stCondLst>
                            <p:childTnLst>
                              <p:par>
                                <p:cTn id="10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3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6000"/>
                            </p:stCondLst>
                            <p:childTnLst>
                              <p:par>
                                <p:cTn id="10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3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9000"/>
                            </p:stCondLst>
                            <p:childTnLst>
                              <p:par>
                                <p:cTn id="11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3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在同一时刻，海峡彼岸的台湾花莲慈济医院，骨髓移植专家李博士正步履匆匆地走进手术室。一位青年躺在病床上，等候着他来抽取骨髓。就在昨天，一场里氏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7.3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级的大地震袭击了台湾地区。此刻，大地仍在余震中摇晃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00000" y="5805360"/>
            <a:ext cx="865440" cy="360360"/>
          </a:xfrm>
          <a:prstGeom prst="leftArrow">
            <a:avLst>
              <a:gd name="adj1" fmla="val 50000"/>
              <a:gd name="adj2" fmla="val 6004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在这场灾难中，病床上的青年没有受伤，他的家人是否平安无事，目前还不清楚。但是，他知道，在海峡的另一边，有一位青年正满怀着希望，期待着他的骨髓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900000" y="5805360"/>
            <a:ext cx="865440" cy="360360"/>
          </a:xfrm>
          <a:prstGeom prst="leftArrow">
            <a:avLst>
              <a:gd name="adj1" fmla="val 50000"/>
              <a:gd name="adj2" fmla="val 60040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针头向皮肤刺去，一阵突如其来的余震，使针头从肌肤里脱落，李博士不得不停止工作。此时此刻，跑到空旷的地方才比较安全。但是，李博士仍沉着地站在病床旁，那位青年静静地躺在病床上。经过一次又一次的努力，利用大地震动暂停的间隔，台湾青年的骨髓，终于从身躯里涓涓流出…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977760" y="6324480"/>
            <a:ext cx="546120" cy="152640"/>
          </a:xfrm>
          <a:prstGeom prst="leftArrow">
            <a:avLst>
              <a:gd name="adj1" fmla="val 50000"/>
              <a:gd name="adj2" fmla="val 89446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533520" y="1143000"/>
            <a:ext cx="7543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      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经过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一次又一次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的努力，利用大地震动暂停的间隔，台湾青年的骨髓，</a:t>
            </a:r>
            <a:r>
              <a:rPr b="0" lang="en-US" sz="3200" spc="-1" strike="noStrike">
                <a:solidFill>
                  <a:srgbClr val="ff3300"/>
                </a:solidFill>
                <a:latin typeface="Tahoma"/>
              </a:rPr>
              <a:t>终于</a:t>
            </a:r>
            <a:r>
              <a:rPr b="0" lang="en-US" sz="3200" spc="-1" strike="noStrike">
                <a:solidFill>
                  <a:srgbClr val="ffcc66"/>
                </a:solidFill>
                <a:latin typeface="Tahoma"/>
              </a:rPr>
              <a:t>从身躯里涓涓流出…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267080"/>
            <a:ext cx="685800" cy="304920"/>
          </a:xfrm>
          <a:prstGeom prst="leftArrow">
            <a:avLst>
              <a:gd name="adj1" fmla="val 50000"/>
              <a:gd name="adj2" fmla="val 56228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5181480"/>
            <a:ext cx="546120" cy="152640"/>
          </a:xfrm>
          <a:prstGeom prst="leftArrow">
            <a:avLst>
              <a:gd name="adj1" fmla="val 50000"/>
              <a:gd name="adj2" fmla="val 89446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CAODITU" descr=""/>
          <p:cNvPicPr/>
          <p:nvPr/>
        </p:nvPicPr>
        <p:blipFill>
          <a:blip r:embed="rId2"/>
          <a:stretch/>
        </p:blipFill>
        <p:spPr>
          <a:xfrm>
            <a:off x="324000" y="692280"/>
            <a:ext cx="8424720" cy="56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8" name="地图" descr=""/>
          <p:cNvPicPr/>
          <p:nvPr/>
        </p:nvPicPr>
        <p:blipFill>
          <a:blip r:embed="rId2"/>
          <a:stretch/>
        </p:blipFill>
        <p:spPr>
          <a:xfrm>
            <a:off x="0" y="-2700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7020000" y="4292640"/>
            <a:ext cx="720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黑体"/>
              </a:rPr>
              <a:t>杭州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病人" descr=""/>
          <p:cNvPicPr/>
          <p:nvPr/>
        </p:nvPicPr>
        <p:blipFill>
          <a:blip r:embed="rId3"/>
          <a:stretch/>
        </p:blipFill>
        <p:spPr>
          <a:xfrm>
            <a:off x="3203640" y="0"/>
            <a:ext cx="4535280" cy="4322880"/>
          </a:xfrm>
          <a:prstGeom prst="rect">
            <a:avLst/>
          </a:prstGeom>
          <a:ln w="0">
            <a:noFill/>
          </a:ln>
        </p:spPr>
      </p:pic>
      <p:sp>
        <p:nvSpPr>
          <p:cNvPr id="91" name="">
            <a:hlinkClick r:id="rId4" action="ppaction://hlinksldjump"/>
          </p:cNvPr>
          <p:cNvSpPr/>
          <p:nvPr/>
        </p:nvSpPr>
        <p:spPr>
          <a:xfrm>
            <a:off x="7667640" y="4941720"/>
            <a:ext cx="576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黑体"/>
              </a:rPr>
              <a:t>台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  <a:ea typeface="黑体"/>
              </a:rPr>
              <a:t>湾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5"/>
          <a:stretch/>
        </p:blipFill>
        <p:spPr>
          <a:xfrm>
            <a:off x="611280" y="40464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" dur="2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92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92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250920" y="404640"/>
            <a:ext cx="8604000" cy="645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在同一时刻，海峡彼岸的台湾花莲慈济医院，骨髓移植专家李博士正步履匆匆地走进手术室。一位青年躺在病床上，等候着他来抽取骨髓。就在昨天，一场里氏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7.3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级的大地震袭击了台湾地区。此刻，大地仍在余震中摇晃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在这场灾难中，病床上的青年没有受伤，他的家人是否平安无事，目前还不清楚。但是，他知道，在海峡的另一边，有一位青年正满怀着希望，期待着他的骨髓。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         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针头向皮肤刺去，一阵突如其来的余震，使针头从肌肤里脱落，李博士不得不停止工作。此时此刻，跑到空旷的地方才比较安全。但是，李博士仍沉着地站在病床旁，那位青年静静地躺在病床上。经过一次又一次的努力，利用大地震动暂停的间隔，台湾青年的骨髓，终于从身躯里涓涓流出…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932360" y="2133720"/>
            <a:ext cx="287280" cy="142920"/>
          </a:xfrm>
          <a:prstGeom prst="rightArrow">
            <a:avLst>
              <a:gd name="adj1" fmla="val 50000"/>
              <a:gd name="adj2" fmla="val 5025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635280" y="3790800"/>
            <a:ext cx="287280" cy="142920"/>
          </a:xfrm>
          <a:prstGeom prst="rightArrow">
            <a:avLst>
              <a:gd name="adj1" fmla="val 50000"/>
              <a:gd name="adj2" fmla="val 5025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532720" y="6165720"/>
            <a:ext cx="287280" cy="142920"/>
          </a:xfrm>
          <a:prstGeom prst="rightArrow">
            <a:avLst>
              <a:gd name="adj1" fmla="val 50000"/>
              <a:gd name="adj2" fmla="val 50252"/>
            </a:avLst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675640" y="6526080"/>
            <a:ext cx="360360" cy="331920"/>
          </a:xfrm>
          <a:custGeom>
            <a:avLst/>
            <a:gdLst>
              <a:gd name="textAreaLeft" fmla="*/ 84600 w 360360"/>
              <a:gd name="textAreaRight" fmla="*/ 275400 w 360360"/>
              <a:gd name="textAreaTop" fmla="*/ 38880 h 331920"/>
              <a:gd name="textAreaBottom" fmla="*/ 208080 h 331920"/>
            </a:gdLst>
            <a:ahLst/>
            <a:rect l="textAreaLeft" t="textAreaTop" r="textAreaRight" b="textAreaBottom"/>
            <a:pathLst>
              <a:path w="21615" h="21602">
                <a:moveTo>
                  <a:pt x="10800" y="21599"/>
                </a:moveTo>
                <a:lnTo>
                  <a:pt x="321" y="6886"/>
                </a:lnTo>
                <a:lnTo>
                  <a:pt x="70" y="6036"/>
                </a:lnTo>
                <a:cubicBezTo>
                  <a:pt x="-9" y="5766"/>
                  <a:pt x="-1" y="5474"/>
                  <a:pt x="2" y="5192"/>
                </a:cubicBezTo>
                <a:cubicBezTo>
                  <a:pt x="6" y="4918"/>
                  <a:pt x="43" y="4641"/>
                  <a:pt x="101" y="4370"/>
                </a:cubicBezTo>
                <a:cubicBezTo>
                  <a:pt x="159" y="4103"/>
                  <a:pt x="245" y="3837"/>
                  <a:pt x="353" y="3582"/>
                </a:cubicBezTo>
                <a:cubicBezTo>
                  <a:pt x="460" y="3326"/>
                  <a:pt x="591" y="3077"/>
                  <a:pt x="741" y="2839"/>
                </a:cubicBezTo>
                <a:cubicBezTo>
                  <a:pt x="892" y="2598"/>
                  <a:pt x="1066" y="2369"/>
                  <a:pt x="1253" y="2155"/>
                </a:cubicBezTo>
                <a:cubicBezTo>
                  <a:pt x="1443" y="1938"/>
                  <a:pt x="1651" y="1732"/>
                  <a:pt x="1874" y="1543"/>
                </a:cubicBezTo>
                <a:cubicBezTo>
                  <a:pt x="2097" y="1351"/>
                  <a:pt x="2337" y="1174"/>
                  <a:pt x="2587" y="1014"/>
                </a:cubicBezTo>
                <a:cubicBezTo>
                  <a:pt x="2839" y="854"/>
                  <a:pt x="3106" y="708"/>
                  <a:pt x="3380" y="584"/>
                </a:cubicBezTo>
                <a:cubicBezTo>
                  <a:pt x="3656" y="459"/>
                  <a:pt x="3945" y="350"/>
                  <a:pt x="4237" y="264"/>
                </a:cubicBezTo>
                <a:cubicBezTo>
                  <a:pt x="4533" y="176"/>
                  <a:pt x="4838" y="108"/>
                  <a:pt x="5144" y="66"/>
                </a:cubicBezTo>
                <a:cubicBezTo>
                  <a:pt x="5454" y="22"/>
                  <a:pt x="5771" y="1"/>
                  <a:pt x="6086" y="3"/>
                </a:cubicBezTo>
                <a:cubicBezTo>
                  <a:pt x="6407" y="7"/>
                  <a:pt x="6731" y="35"/>
                  <a:pt x="7048" y="89"/>
                </a:cubicBezTo>
                <a:cubicBezTo>
                  <a:pt x="7374" y="144"/>
                  <a:pt x="7700" y="226"/>
                  <a:pt x="8015" y="335"/>
                </a:cubicBezTo>
                <a:cubicBezTo>
                  <a:pt x="8344" y="447"/>
                  <a:pt x="8667" y="590"/>
                  <a:pt x="8972" y="756"/>
                </a:cubicBezTo>
                <a:cubicBezTo>
                  <a:pt x="9297" y="932"/>
                  <a:pt x="9613" y="1135"/>
                  <a:pt x="9907" y="1363"/>
                </a:cubicBezTo>
                <a:cubicBezTo>
                  <a:pt x="10224" y="1609"/>
                  <a:pt x="10504" y="1900"/>
                  <a:pt x="10802" y="2169"/>
                </a:cubicBezTo>
                <a:lnTo>
                  <a:pt x="11697" y="1363"/>
                </a:lnTo>
                <a:cubicBezTo>
                  <a:pt x="11971" y="1116"/>
                  <a:pt x="12304" y="934"/>
                  <a:pt x="12630" y="756"/>
                </a:cubicBezTo>
                <a:cubicBezTo>
                  <a:pt x="12935" y="590"/>
                  <a:pt x="13528" y="450"/>
                  <a:pt x="13589" y="335"/>
                </a:cubicBezTo>
                <a:cubicBezTo>
                  <a:pt x="13901" y="226"/>
                  <a:pt x="14227" y="144"/>
                  <a:pt x="14556" y="89"/>
                </a:cubicBezTo>
                <a:cubicBezTo>
                  <a:pt x="14872" y="35"/>
                  <a:pt x="15195" y="7"/>
                  <a:pt x="15517" y="3"/>
                </a:cubicBezTo>
                <a:cubicBezTo>
                  <a:pt x="15830" y="0"/>
                  <a:pt x="16147" y="22"/>
                  <a:pt x="16458" y="66"/>
                </a:cubicBezTo>
                <a:cubicBezTo>
                  <a:pt x="16764" y="109"/>
                  <a:pt x="17068" y="177"/>
                  <a:pt x="17365" y="264"/>
                </a:cubicBezTo>
                <a:cubicBezTo>
                  <a:pt x="17658" y="349"/>
                  <a:pt x="17946" y="458"/>
                  <a:pt x="18222" y="584"/>
                </a:cubicBezTo>
                <a:cubicBezTo>
                  <a:pt x="18496" y="708"/>
                  <a:pt x="18762" y="854"/>
                  <a:pt x="19015" y="1014"/>
                </a:cubicBezTo>
                <a:cubicBezTo>
                  <a:pt x="19264" y="1172"/>
                  <a:pt x="19504" y="1349"/>
                  <a:pt x="19730" y="1543"/>
                </a:cubicBezTo>
                <a:cubicBezTo>
                  <a:pt x="19950" y="1731"/>
                  <a:pt x="20158" y="1937"/>
                  <a:pt x="20350" y="2155"/>
                </a:cubicBezTo>
                <a:cubicBezTo>
                  <a:pt x="20536" y="2369"/>
                  <a:pt x="20710" y="2598"/>
                  <a:pt x="20861" y="2839"/>
                </a:cubicBezTo>
                <a:cubicBezTo>
                  <a:pt x="21010" y="3074"/>
                  <a:pt x="21143" y="3323"/>
                  <a:pt x="21251" y="3582"/>
                </a:cubicBezTo>
                <a:cubicBezTo>
                  <a:pt x="21357" y="3835"/>
                  <a:pt x="21443" y="4099"/>
                  <a:pt x="21502" y="4370"/>
                </a:cubicBezTo>
                <a:cubicBezTo>
                  <a:pt x="21561" y="4639"/>
                  <a:pt x="21595" y="4916"/>
                  <a:pt x="21600" y="5192"/>
                </a:cubicBezTo>
                <a:cubicBezTo>
                  <a:pt x="21606" y="5474"/>
                  <a:pt x="21584" y="5760"/>
                  <a:pt x="21532" y="6036"/>
                </a:cubicBezTo>
                <a:cubicBezTo>
                  <a:pt x="21478" y="6326"/>
                  <a:pt x="21366" y="6603"/>
                  <a:pt x="21282" y="6887"/>
                </a:cubicBezTo>
                <a:lnTo>
                  <a:pt x="10802" y="21602"/>
                </a:lnTo>
                <a:close/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1197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3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骨髓的保存期只有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24</a:t>
            </a:r>
            <a:r>
              <a:rPr b="0" lang="en-US" sz="3200" spc="-1" strike="noStrike">
                <a:solidFill>
                  <a:srgbClr val="ffff00"/>
                </a:solidFill>
                <a:latin typeface="Tahoma"/>
              </a:rPr>
              <a:t>小时。李博士带着刚刚抽取的骨髓，经过十几个小时的奔波，赶到杭州，和当地的医护人员一起连夜为小钱做了骨髓移植手术。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260280"/>
            <a:ext cx="8496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月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22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日一早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981000"/>
            <a:ext cx="838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抽髓工作如期进行。五级余震使手术室不停摇晃，医护人员在间歇性的几次余震中抽抽停停，花了两个多小时终于完成任务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24000" y="4941720"/>
            <a:ext cx="6192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晚上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11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50920" y="3284640"/>
            <a:ext cx="8316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包括李博士在内的送髓小组，穿过地震后的城市，辗转香港到达上海，已是晚上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9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点多。警车在驶往杭州的公路上鸣着警笛一路狂奔……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637000"/>
            <a:ext cx="3106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22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日上午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9</a:t>
            </a:r>
            <a:r>
              <a:rPr b="1" lang="en-US" sz="3000" spc="-1" strike="noStrike">
                <a:solidFill>
                  <a:srgbClr val="ff3300"/>
                </a:solidFill>
                <a:latin typeface="Arial"/>
              </a:rPr>
              <a:t>点多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24000" y="5516640"/>
            <a:ext cx="8388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骨髓终于平安到达杭州医院，当地的医护人员欢呼雀跃。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38836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0" y="1196640"/>
            <a:ext cx="91440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小钱得救了。两岸骨肉同胞用爱心架起了一座跨越海峡的生命桥。也许，小钱和这位台湾青年永远不会见面，这并不重要，因为两岸同胞的爱心是连在一起的。</a:t>
            </a:r>
            <a:r>
              <a:rPr b="1" lang="en-US" sz="4000" spc="-1" strike="noStrike">
                <a:solidFill>
                  <a:srgbClr val="ff3300"/>
                </a:solidFill>
                <a:latin typeface="Tahoma"/>
              </a:rPr>
              <a:t>那血脉亲情，如同生命的火种，必将一代一代传下去。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00"/>
              </a:solidFill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地震1" descr=""/>
          <p:cNvPicPr/>
          <p:nvPr/>
        </p:nvPicPr>
        <p:blipFill>
          <a:blip r:embed="rId2"/>
          <a:stretch/>
        </p:blipFill>
        <p:spPr>
          <a:xfrm>
            <a:off x="0" y="349200"/>
            <a:ext cx="4500720" cy="2989440"/>
          </a:xfrm>
          <a:prstGeom prst="rect">
            <a:avLst/>
          </a:prstGeom>
          <a:ln w="0">
            <a:noFill/>
          </a:ln>
        </p:spPr>
      </p:pic>
      <p:pic>
        <p:nvPicPr>
          <p:cNvPr id="110" name="地震2" descr=""/>
          <p:cNvPicPr/>
          <p:nvPr/>
        </p:nvPicPr>
        <p:blipFill>
          <a:blip r:embed="rId3"/>
          <a:stretch/>
        </p:blipFill>
        <p:spPr>
          <a:xfrm>
            <a:off x="4572000" y="333360"/>
            <a:ext cx="4572000" cy="3036960"/>
          </a:xfrm>
          <a:prstGeom prst="rect">
            <a:avLst/>
          </a:prstGeom>
          <a:ln w="0">
            <a:noFill/>
          </a:ln>
        </p:spPr>
      </p:pic>
      <p:pic>
        <p:nvPicPr>
          <p:cNvPr id="111" name="地震15" descr=""/>
          <p:cNvPicPr/>
          <p:nvPr/>
        </p:nvPicPr>
        <p:blipFill>
          <a:blip r:embed="rId4"/>
          <a:stretch/>
        </p:blipFill>
        <p:spPr>
          <a:xfrm>
            <a:off x="4572000" y="3645000"/>
            <a:ext cx="4427640" cy="2962080"/>
          </a:xfrm>
          <a:prstGeom prst="rect">
            <a:avLst/>
          </a:prstGeom>
          <a:ln w="0">
            <a:noFill/>
          </a:ln>
        </p:spPr>
      </p:pic>
      <p:pic>
        <p:nvPicPr>
          <p:cNvPr id="112" name="地震9" descr=""/>
          <p:cNvPicPr/>
          <p:nvPr/>
        </p:nvPicPr>
        <p:blipFill>
          <a:blip r:embed="rId5"/>
          <a:stretch/>
        </p:blipFill>
        <p:spPr>
          <a:xfrm>
            <a:off x="0" y="3633840"/>
            <a:ext cx="4500720" cy="29638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6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" dur="1" fill="hold"/>
                                        <p:tgtEl>
                                          <p:spTgt spid="1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4" dur="3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6000"/>
                            </p:stCondLst>
                            <p:childTnLst>
                              <p:par>
                                <p:cTn id="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3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02:56:06Z</dcterms:created>
  <dc:creator>Administrator</dc:creator>
  <dc:description/>
  <dc:language>en-US</dc:language>
  <cp:lastModifiedBy>lcx0127</cp:lastModifiedBy>
  <dcterms:modified xsi:type="dcterms:W3CDTF">2012-08-22T14:29:59Z</dcterms:modified>
  <cp:revision>20</cp:revision>
  <dc:subject/>
  <dc:title>幻灯片 1</dc:title>
</cp:coreProperties>
</file>