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D03-52DA-4CC3-9CD7-7B63E3E9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F15-AE80-495D-979E-C70363AA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23E-E339-4AA2-83BD-A59BA727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BA4-E0D7-480B-8712-87E5DB2F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3D3-FD84-4F27-9F6C-C6251791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87C-7BD8-44BB-873B-4FE7EB61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C6D-8078-43DF-87D7-40F0EFB8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B7B-01CB-4A3C-A21E-66ED3E50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97E-57E5-4DB0-A5EB-A54AD512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55E-7082-4F96-8B4B-B44D729F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1A8-A091-47A6-8574-07A992BA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350-FDE8-4EEB-B00E-5B18AD8E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85AB-AE37-47FA-8131-CCA94661C1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8.jpeg"/><Relationship Id="rId4" Type="http://schemas.openxmlformats.org/officeDocument/2006/relationships/image" Target="../media/image14.jpeg"/><Relationship Id="rId5" Type="http://schemas.openxmlformats.org/officeDocument/2006/relationships/image" Target="../media/image19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9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>
            <a:alphaModFix amt="52000"/>
          </a:blip>
          <a:stretch/>
        </p:blipFill>
        <p:spPr>
          <a:xfrm>
            <a:off x="0" y="0"/>
            <a:ext cx="9164520" cy="7101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7"/>
          <p:cNvSpPr/>
          <p:nvPr/>
        </p:nvSpPr>
        <p:spPr>
          <a:xfrm>
            <a:off x="1332000" y="1197000"/>
            <a:ext cx="345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39640" y="4320360"/>
            <a:ext cx="7920000" cy="5187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雨是最寻常的，一下就是三两天。可别恼，看，像牛毛，像花针，像细丝，密密地斜织着，人家屋顶上全笼着一层薄烟。树叶儿却绿得发亮，小草儿也青得逼你的眼。傍晚时候，上灯了，一点点黄晕的光，烘托出一片安静而和平的夜。在乡下，小路上，石桥边，有撑起伞慢慢走着的人，地里还有工作的农民，披着蓑戴着笠。他们的房屋，稀稀疏疏的，在雨里静默着。 朱自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3" descr=""/>
          <p:cNvPicPr/>
          <p:nvPr/>
        </p:nvPicPr>
        <p:blipFill>
          <a:blip r:embed="rId1"/>
          <a:stretch/>
        </p:blipFill>
        <p:spPr>
          <a:xfrm>
            <a:off x="55440" y="0"/>
            <a:ext cx="90885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"/>
          <p:cNvSpPr/>
          <p:nvPr/>
        </p:nvSpPr>
        <p:spPr>
          <a:xfrm>
            <a:off x="468360" y="62064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汪曾祺的文章，无不向每一个抱怨这座城市交通堵塞人发出吁请：慢点走，其实你生活的城市很美。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用富有情味的语言，用热爱生活的态度记录广州的雨（选材：花，果，建筑等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"/>
          <p:cNvSpPr/>
          <p:nvPr/>
        </p:nvSpPr>
        <p:spPr>
          <a:xfrm>
            <a:off x="684360" y="2708280"/>
            <a:ext cx="777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☉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老城区的小巷，下雨变成“水浸街”，孩子在街中戏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☉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西关的骑楼，因为广州雨多，用来遮风挡雨，骑楼下的风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☉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花多（花城美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☉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水果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☉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凉茶，雨多湿润，去湿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6659640" y="5589720"/>
            <a:ext cx="1800000" cy="718920"/>
          </a:xfrm>
          <a:custGeom>
            <a:avLst/>
            <a:gdLst>
              <a:gd name="textAreaLeft" fmla="*/ 0 w 1800000"/>
              <a:gd name="textAreaRight" fmla="*/ 1800360 w 1800000"/>
              <a:gd name="textAreaTop" fmla="*/ 93240 h 718920"/>
              <a:gd name="textAreaBottom" fmla="*/ 6260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华文琥珀"/>
              </a:rPr>
              <a:t>媲美昆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3" descr=""/>
          <p:cNvPicPr/>
          <p:nvPr/>
        </p:nvPicPr>
        <p:blipFill>
          <a:blip r:embed="rId1"/>
          <a:stretch/>
        </p:blipFill>
        <p:spPr>
          <a:xfrm>
            <a:off x="55440" y="0"/>
            <a:ext cx="90885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3"/>
          <p:cNvSpPr/>
          <p:nvPr/>
        </p:nvSpPr>
        <p:spPr>
          <a:xfrm>
            <a:off x="1359000" y="1413000"/>
            <a:ext cx="710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作业布置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用富有情味的语言，用热爱生活的态度记录广州的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推荐阅读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端午的鸭蛋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再次感受汪曾祺富有情味的语言，感受生活的美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908856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仙人掌1"/>
          <p:cNvPicPr/>
          <p:nvPr/>
        </p:nvPicPr>
        <p:blipFill>
          <a:blip r:embed="rId2"/>
          <a:stretch/>
        </p:blipFill>
        <p:spPr>
          <a:xfrm>
            <a:off x="324000" y="404640"/>
            <a:ext cx="4051080" cy="30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仙人掌2"/>
          <p:cNvPicPr/>
          <p:nvPr/>
        </p:nvPicPr>
        <p:blipFill>
          <a:blip r:embed="rId3"/>
          <a:stretch/>
        </p:blipFill>
        <p:spPr>
          <a:xfrm>
            <a:off x="0" y="3357720"/>
            <a:ext cx="4897440" cy="3267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仙人掌3"/>
          <p:cNvPicPr/>
          <p:nvPr/>
        </p:nvPicPr>
        <p:blipFill>
          <a:blip r:embed="rId4"/>
          <a:stretch/>
        </p:blipFill>
        <p:spPr>
          <a:xfrm>
            <a:off x="4356000" y="260280"/>
            <a:ext cx="4695840" cy="6264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468360" y="3573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仙人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83170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908856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4" descr=""/>
          <p:cNvPicPr/>
          <p:nvPr/>
        </p:nvPicPr>
        <p:blipFill>
          <a:blip r:embed="rId2"/>
          <a:stretch/>
        </p:blipFill>
        <p:spPr>
          <a:xfrm>
            <a:off x="0" y="115920"/>
            <a:ext cx="3276720" cy="221148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6"/>
          <p:cNvSpPr/>
          <p:nvPr/>
        </p:nvSpPr>
        <p:spPr>
          <a:xfrm>
            <a:off x="179280" y="549360"/>
            <a:ext cx="7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牛肝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鸡油菌"/>
          <p:cNvPicPr/>
          <p:nvPr/>
        </p:nvPicPr>
        <p:blipFill>
          <a:blip r:embed="rId3"/>
          <a:stretch/>
        </p:blipFill>
        <p:spPr>
          <a:xfrm>
            <a:off x="4572000" y="189000"/>
            <a:ext cx="5076720" cy="38034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1" descr=""/>
          <p:cNvPicPr/>
          <p:nvPr/>
        </p:nvPicPr>
        <p:blipFill>
          <a:blip r:embed="rId4"/>
          <a:stretch/>
        </p:blipFill>
        <p:spPr>
          <a:xfrm>
            <a:off x="2411280" y="836640"/>
            <a:ext cx="3130560" cy="208764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12"/>
          <p:cNvSpPr/>
          <p:nvPr/>
        </p:nvSpPr>
        <p:spPr>
          <a:xfrm>
            <a:off x="3708360" y="1052640"/>
            <a:ext cx="7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青头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干巴菌"/>
          <p:cNvPicPr/>
          <p:nvPr/>
        </p:nvPicPr>
        <p:blipFill>
          <a:blip r:embed="rId5"/>
          <a:stretch/>
        </p:blipFill>
        <p:spPr>
          <a:xfrm>
            <a:off x="108000" y="3068640"/>
            <a:ext cx="5040360" cy="335772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3"/>
          <p:cNvSpPr/>
          <p:nvPr/>
        </p:nvSpPr>
        <p:spPr>
          <a:xfrm>
            <a:off x="250920" y="3213000"/>
            <a:ext cx="792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干巴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2" descr=""/>
          <p:cNvPicPr/>
          <p:nvPr/>
        </p:nvPicPr>
        <p:blipFill>
          <a:blip r:embed="rId6"/>
          <a:stretch/>
        </p:blipFill>
        <p:spPr>
          <a:xfrm>
            <a:off x="3924360" y="3508200"/>
            <a:ext cx="5027400" cy="334980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6"/>
          <p:cNvSpPr/>
          <p:nvPr/>
        </p:nvSpPr>
        <p:spPr>
          <a:xfrm>
            <a:off x="5364000" y="189000"/>
            <a:ext cx="7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鸡油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6"/>
          <p:cNvSpPr/>
          <p:nvPr/>
        </p:nvSpPr>
        <p:spPr>
          <a:xfrm>
            <a:off x="4140360" y="3716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鸡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83170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908856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杨梅"/>
          <p:cNvPicPr/>
          <p:nvPr/>
        </p:nvPicPr>
        <p:blipFill>
          <a:blip r:embed="rId2"/>
          <a:stretch/>
        </p:blipFill>
        <p:spPr>
          <a:xfrm>
            <a:off x="-324000" y="0"/>
            <a:ext cx="6697800" cy="4454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763640" y="33577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隶书"/>
              </a:rPr>
              <a:t>杨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杨梅3"/>
          <p:cNvPicPr/>
          <p:nvPr/>
        </p:nvPicPr>
        <p:blipFill>
          <a:blip r:embed="rId3"/>
          <a:stretch/>
        </p:blipFill>
        <p:spPr>
          <a:xfrm>
            <a:off x="4211640" y="2276640"/>
            <a:ext cx="4762440" cy="3790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9"/>
          <p:cNvSpPr/>
          <p:nvPr/>
        </p:nvSpPr>
        <p:spPr>
          <a:xfrm>
            <a:off x="4140360" y="6093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卖杨梅的苗族女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83170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908856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缅桂花"/>
          <p:cNvPicPr/>
          <p:nvPr/>
        </p:nvPicPr>
        <p:blipFill>
          <a:blip r:embed="rId2"/>
          <a:stretch/>
        </p:blipFill>
        <p:spPr>
          <a:xfrm>
            <a:off x="250920" y="260280"/>
            <a:ext cx="4860720" cy="3243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缅桂花2"/>
          <p:cNvPicPr/>
          <p:nvPr/>
        </p:nvPicPr>
        <p:blipFill>
          <a:blip r:embed="rId3"/>
          <a:stretch/>
        </p:blipFill>
        <p:spPr>
          <a:xfrm>
            <a:off x="3311640" y="2549520"/>
            <a:ext cx="5832360" cy="4308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3348000" y="2781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缅桂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83170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908856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木香花3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3645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755640" y="4869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木香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83170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2" descr="木香花5"/>
          <p:cNvPicPr/>
          <p:nvPr/>
        </p:nvPicPr>
        <p:blipFill>
          <a:blip r:embed="rId3"/>
          <a:stretch/>
        </p:blipFill>
        <p:spPr>
          <a:xfrm>
            <a:off x="-181080" y="0"/>
            <a:ext cx="4897440" cy="367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木香花2"/>
          <p:cNvPicPr/>
          <p:nvPr/>
        </p:nvPicPr>
        <p:blipFill>
          <a:blip r:embed="rId4"/>
          <a:stretch/>
        </p:blipFill>
        <p:spPr>
          <a:xfrm>
            <a:off x="3132000" y="3141720"/>
            <a:ext cx="507708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90885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1763640" y="53006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莲花池旁与友人喝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喝酒"/>
          <p:cNvPicPr/>
          <p:nvPr/>
        </p:nvPicPr>
        <p:blipFill>
          <a:blip r:embed="rId2"/>
          <a:stretch/>
        </p:blipFill>
        <p:spPr>
          <a:xfrm>
            <a:off x="1116000" y="907920"/>
            <a:ext cx="6551640" cy="43657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11"/>
          <p:cNvSpPr/>
          <p:nvPr/>
        </p:nvSpPr>
        <p:spPr>
          <a:xfrm>
            <a:off x="83170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8028000" y="6021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下雨1"/>
          <p:cNvPicPr/>
          <p:nvPr/>
        </p:nvPicPr>
        <p:blipFill>
          <a:blip r:embed="rId1"/>
          <a:stretch/>
        </p:blipFill>
        <p:spPr>
          <a:xfrm>
            <a:off x="971640" y="1916280"/>
            <a:ext cx="7272360" cy="2449440"/>
          </a:xfrm>
          <a:prstGeom prst="rect">
            <a:avLst/>
          </a:prstGeom>
          <a:ln w="0">
            <a:noFill/>
          </a:ln>
        </p:spPr>
      </p:pic>
      <p:pic>
        <p:nvPicPr>
          <p:cNvPr id="145" name="纯音乐 - 华尔兹圆舞曲.mp3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矩形 1"/>
          <p:cNvSpPr/>
          <p:nvPr/>
        </p:nvSpPr>
        <p:spPr>
          <a:xfrm>
            <a:off x="755640" y="608040"/>
            <a:ext cx="7416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请圈划出最能概括昆明的雨特点的一句话。</a:t>
            </a:r>
            <a:r>
              <a:rPr b="0" lang="en-US" sz="1800" spc="-1" strike="noStrike">
                <a:solidFill>
                  <a:srgbClr val="ffffff"/>
                </a:solidFill>
                <a:latin typeface="隶书"/>
                <a:ea typeface="隶书"/>
              </a:rPr>
              <a:t> 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/>
          <p:cNvSpPr/>
          <p:nvPr/>
        </p:nvSpPr>
        <p:spPr>
          <a:xfrm>
            <a:off x="785880" y="4756320"/>
            <a:ext cx="77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本文写的不仅是雨，还写了哪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景、物、事来突显昆明的雨的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纯音乐 - 下雨声.mp3" descr=""/>
          <p:cNvPicPr/>
          <p:nvPr/>
        </p:nvPicPr>
        <p:blipFill>
          <a:blip r:embed="rId3"/>
          <a:stretch/>
        </p:blipFill>
        <p:spPr>
          <a:xfrm>
            <a:off x="1461960" y="4540320"/>
            <a:ext cx="37008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317969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"/>
          <p:cNvPicPr/>
          <p:nvPr/>
        </p:nvPicPr>
        <p:blipFill>
          <a:blip r:embed="rId1">
            <a:alphaModFix amt="52000"/>
          </a:blip>
          <a:stretch/>
        </p:blipFill>
        <p:spPr>
          <a:xfrm>
            <a:off x="0" y="0"/>
            <a:ext cx="9164520" cy="710100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7"/>
          <p:cNvSpPr/>
          <p:nvPr/>
        </p:nvSpPr>
        <p:spPr>
          <a:xfrm>
            <a:off x="1332000" y="1197000"/>
            <a:ext cx="345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4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4392360" cy="6112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5873040" y="836640"/>
            <a:ext cx="19170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黑体"/>
              </a:rPr>
              <a:t>昆明的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     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黑体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汪曾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635280" y="765000"/>
            <a:ext cx="5302440" cy="15562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汪曾祺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92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日生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江苏省高邮人，中国当代作家、散文家、戏剧家、京派作家的代表人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93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秋，汪曾祺初中毕业考入江阴县南菁中学读高中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939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夏，汪曾祺从上海经香港、越南到昆明，以第一志愿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考入西南联大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中国文学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22416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971640" y="333360"/>
            <a:ext cx="7556400" cy="265356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《昆明的雨》写于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1984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年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月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19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日，首次发表于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1984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年第十期的《滇池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汪曾祺在西南联大和昆明生活了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，这在他一生中是一个重要时期。在昆明，他不仅接受了良好的高等教育，结识了许多师长和朋友，开始走上文学创作之路，还结识了后来与他相知相爱的施松卿。对于有着强烈家乡情结的作者来说，昆明无异于是他的第二故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汪曾祺以昆明生活为描写对象的作品共有</a:t>
            </a:r>
            <a:r>
              <a:rPr b="1" lang="en-US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43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篇，其中小说</a:t>
            </a:r>
            <a:r>
              <a:rPr b="1" lang="en-US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篇，散文</a:t>
            </a:r>
            <a:r>
              <a:rPr b="1" lang="en-US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35</a:t>
            </a:r>
            <a:r>
              <a:rPr b="1" lang="zh-CN" sz="2800" spc="-1" strike="noStrike">
                <a:solidFill>
                  <a:srgbClr val="6600ff"/>
                </a:solidFill>
                <a:latin typeface="微软雅黑"/>
                <a:ea typeface="微软雅黑"/>
              </a:rPr>
              <a:t>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-1476360" y="0"/>
            <a:ext cx="11823840" cy="7750080"/>
          </a:xfrm>
          <a:prstGeom prst="rect">
            <a:avLst/>
          </a:prstGeom>
          <a:ln w="0">
            <a:noFill/>
          </a:ln>
        </p:spPr>
      </p:pic>
      <p:sp>
        <p:nvSpPr>
          <p:cNvPr id="52" name="矩形 1"/>
          <p:cNvSpPr/>
          <p:nvPr/>
        </p:nvSpPr>
        <p:spPr>
          <a:xfrm>
            <a:off x="1763640" y="24444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昆明的雨与别处的雨有何不同让作者如此念念不忘？请圈划出最能概括其特点的一句话。</a:t>
            </a:r>
            <a:r>
              <a:rPr b="0" lang="en-US" sz="3600" spc="-1" strike="noStrike">
                <a:solidFill>
                  <a:srgbClr val="6600ff"/>
                </a:solidFill>
                <a:latin typeface="隶书"/>
                <a:ea typeface="隶书"/>
              </a:rPr>
              <a:t> 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"/>
          <p:cNvSpPr/>
          <p:nvPr/>
        </p:nvSpPr>
        <p:spPr>
          <a:xfrm>
            <a:off x="-541440" y="1969920"/>
            <a:ext cx="102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昆明的雨季是明亮的、丰满的，使人动情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1278000" y="2550960"/>
            <a:ext cx="77580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本文写的不仅是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2" action="ppaction://hlinksldjump"/>
              </a:rPr>
              <a:t>雨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还写了哪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景、物、事来突显昆明的雨的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1763640" y="371016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还写了仙人掌、各种菌子、杨梅、缅桂花等景物。写了为宁坤作画、和德熙去小酒馆喝酒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4716360" y="5373720"/>
            <a:ext cx="2016360" cy="719280"/>
          </a:xfrm>
          <a:custGeom>
            <a:avLst/>
            <a:gdLst>
              <a:gd name="textAreaLeft" fmla="*/ 0 w 2016360"/>
              <a:gd name="textAreaRight" fmla="*/ 2016720 w 2016360"/>
              <a:gd name="textAreaTop" fmla="*/ 93240 h 719280"/>
              <a:gd name="textAreaBottom" fmla="*/ 6260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华文琥珀"/>
              </a:rPr>
              <a:t>印象昆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3548160" y="476280"/>
            <a:ext cx="5595840" cy="484488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3"/>
          <p:cNvSpPr/>
          <p:nvPr/>
        </p:nvSpPr>
        <p:spPr>
          <a:xfrm>
            <a:off x="0" y="404640"/>
            <a:ext cx="53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b050"/>
                </a:solidFill>
                <a:latin typeface="隶书"/>
                <a:ea typeface="隶书"/>
              </a:rPr>
              <a:t>说说昆明雨季中的景、物、事。（选取其中一点进行介绍，要说说使人动情或饶有趣味的地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250920" y="2492280"/>
            <a:ext cx="50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73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我是小导游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xxx,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欢迎来到昆明，昆明四季如春，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"/>
          <p:cNvSpPr/>
          <p:nvPr/>
        </p:nvSpPr>
        <p:spPr>
          <a:xfrm>
            <a:off x="250920" y="4300560"/>
            <a:ext cx="66801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2" action="ppaction://hlinksldjump"/>
              </a:rPr>
              <a:t>仙人掌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、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3" action="ppaction://hlinksldjump"/>
              </a:rPr>
              <a:t>各种菌子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、杨梅、缅桂花、木香花等</a:t>
            </a:r>
            <a:r>
              <a:rPr b="0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为宁坤作画、和德熙去小酒馆喝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4788000" y="115920"/>
            <a:ext cx="1979640" cy="792000"/>
          </a:xfrm>
          <a:custGeom>
            <a:avLst/>
            <a:gdLst>
              <a:gd name="textAreaLeft" fmla="*/ 0 w 1979640"/>
              <a:gd name="textAreaRight" fmla="*/ 1980000 w 1979640"/>
              <a:gd name="textAreaTop" fmla="*/ 102600 h 792000"/>
              <a:gd name="textAreaBottom" fmla="*/ 6894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华文琥珀"/>
              </a:rPr>
              <a:t>驻足昆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1"/>
          <p:cNvSpPr/>
          <p:nvPr/>
        </p:nvSpPr>
        <p:spPr>
          <a:xfrm>
            <a:off x="539640" y="1700280"/>
            <a:ext cx="4824360" cy="119124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仙人掌</a:t>
            </a: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木香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700360" y="198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景物的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9640" y="2997360"/>
            <a:ext cx="4813560" cy="119124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菌子</a:t>
            </a:r>
            <a:br>
              <a:rPr sz="2800"/>
            </a:b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杨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539640" y="4292640"/>
            <a:ext cx="4464000" cy="6426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缅桂花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房东送来缅桂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277164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滋味的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1518480" y="5084640"/>
            <a:ext cx="3078000" cy="6426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雨中喝酒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莲池旁与友人喝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148360" y="4292640"/>
            <a:ext cx="2232000" cy="6426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人情的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724360" y="5084640"/>
            <a:ext cx="2232360" cy="6426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氛围的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511200" y="942840"/>
            <a:ext cx="7991280" cy="7034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  <a:ea typeface="华文隶书"/>
              </a:rPr>
              <a:t>朗读喜欢的段落，品味其中的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1"/>
          <p:cNvSpPr/>
          <p:nvPr/>
        </p:nvSpPr>
        <p:spPr>
          <a:xfrm>
            <a:off x="6948360" y="173160"/>
            <a:ext cx="1979640" cy="792000"/>
          </a:xfrm>
          <a:custGeom>
            <a:avLst/>
            <a:gdLst>
              <a:gd name="textAreaLeft" fmla="*/ 0 w 1979640"/>
              <a:gd name="textAreaRight" fmla="*/ 1980000 w 1979640"/>
              <a:gd name="textAreaTop" fmla="*/ 102600 h 792000"/>
              <a:gd name="textAreaBottom" fmla="*/ 6894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华文琥珀"/>
              </a:rPr>
              <a:t>驻足昆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纯音乐 - 华尔兹圆舞曲.mp3" descr=""/>
          <p:cNvPicPr/>
          <p:nvPr/>
        </p:nvPicPr>
        <p:blipFill>
          <a:blip r:embed="rId2"/>
          <a:stretch/>
        </p:blipFill>
        <p:spPr>
          <a:xfrm>
            <a:off x="7956720" y="1125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468360" y="5950080"/>
            <a:ext cx="867564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这些景、物、事与雨有什么关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317969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90885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"/>
          <p:cNvSpPr/>
          <p:nvPr/>
        </p:nvSpPr>
        <p:spPr>
          <a:xfrm>
            <a:off x="-36360" y="2649600"/>
            <a:ext cx="90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写了仙人掌、各种菌子、杨梅、缅桂花、乡愁，感觉有点散，但其中有一条感情线索贯穿其中，这条线索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2" descr=""/>
          <p:cNvPicPr/>
          <p:nvPr/>
        </p:nvPicPr>
        <p:blipFill>
          <a:blip r:embed="rId2"/>
          <a:stretch/>
        </p:blipFill>
        <p:spPr>
          <a:xfrm>
            <a:off x="179280" y="598320"/>
            <a:ext cx="2952720" cy="19670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" descr=""/>
          <p:cNvPicPr/>
          <p:nvPr/>
        </p:nvPicPr>
        <p:blipFill>
          <a:blip r:embed="rId3"/>
          <a:stretch/>
        </p:blipFill>
        <p:spPr>
          <a:xfrm>
            <a:off x="3276720" y="617400"/>
            <a:ext cx="2779560" cy="19479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7" descr=""/>
          <p:cNvPicPr/>
          <p:nvPr/>
        </p:nvPicPr>
        <p:blipFill>
          <a:blip r:embed="rId4"/>
          <a:stretch/>
        </p:blipFill>
        <p:spPr>
          <a:xfrm>
            <a:off x="6300720" y="4869000"/>
            <a:ext cx="2843280" cy="1888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8" descr=""/>
          <p:cNvPicPr/>
          <p:nvPr/>
        </p:nvPicPr>
        <p:blipFill>
          <a:blip r:embed="rId5"/>
          <a:stretch/>
        </p:blipFill>
        <p:spPr>
          <a:xfrm>
            <a:off x="3203640" y="4869000"/>
            <a:ext cx="2881080" cy="18716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1" descr=""/>
          <p:cNvPicPr/>
          <p:nvPr/>
        </p:nvPicPr>
        <p:blipFill>
          <a:blip r:embed="rId6"/>
          <a:stretch/>
        </p:blipFill>
        <p:spPr>
          <a:xfrm>
            <a:off x="6156360" y="598320"/>
            <a:ext cx="2841480" cy="1967040"/>
          </a:xfrm>
          <a:prstGeom prst="rect">
            <a:avLst/>
          </a:prstGeom>
          <a:ln w="0">
            <a:noFill/>
          </a:ln>
        </p:spPr>
      </p:pic>
      <p:sp>
        <p:nvSpPr>
          <p:cNvPr id="82" name="矩形 8"/>
          <p:cNvSpPr/>
          <p:nvPr/>
        </p:nvSpPr>
        <p:spPr>
          <a:xfrm>
            <a:off x="5170320" y="4011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线索：对昆明生活的喜爱与想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仙人掌2"/>
          <p:cNvPicPr/>
          <p:nvPr/>
        </p:nvPicPr>
        <p:blipFill>
          <a:blip r:embed="rId7"/>
          <a:stretch/>
        </p:blipFill>
        <p:spPr>
          <a:xfrm>
            <a:off x="179280" y="4867200"/>
            <a:ext cx="2808360" cy="18748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7"/>
          <p:cNvSpPr/>
          <p:nvPr/>
        </p:nvSpPr>
        <p:spPr>
          <a:xfrm>
            <a:off x="6912000" y="0"/>
            <a:ext cx="2232000" cy="719280"/>
          </a:xfrm>
          <a:custGeom>
            <a:avLst/>
            <a:gdLst>
              <a:gd name="textAreaLeft" fmla="*/ 0 w 2232000"/>
              <a:gd name="textAreaRight" fmla="*/ 2232360 w 2232000"/>
              <a:gd name="textAreaTop" fmla="*/ 93240 h 719280"/>
              <a:gd name="textAreaBottom" fmla="*/ 6260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华文琥珀"/>
              </a:rPr>
              <a:t>感悟昆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-5400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1"/>
          <p:cNvSpPr/>
          <p:nvPr/>
        </p:nvSpPr>
        <p:spPr>
          <a:xfrm>
            <a:off x="1365120" y="476280"/>
            <a:ext cx="78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6600ff"/>
                </a:solidFill>
                <a:latin typeface="隶书"/>
                <a:ea typeface="隶书"/>
              </a:rPr>
              <a:t>再读课文，找出喜欢的句子，感悟昆明的情味，感悟汪老对昆明生活的喜爱与想念，从中我们可看到怎样的人生态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468360" y="39434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文如其人，汪曾祺散文的平淡质朴，不事雕琢，缘于他心境的淡泊和对人情世故的达观与超脱，即使身处逆境，也心境释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68360" y="2475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们看到他热爱生活，他把美好的东西用文字记录下来，使人心灵得到滋润，增强对生活的信心、信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250920" y="0"/>
            <a:ext cx="2232000" cy="719280"/>
          </a:xfrm>
          <a:custGeom>
            <a:avLst/>
            <a:gdLst>
              <a:gd name="textAreaLeft" fmla="*/ 0 w 2232000"/>
              <a:gd name="textAreaRight" fmla="*/ 2232360 w 2232000"/>
              <a:gd name="textAreaTop" fmla="*/ 93240 h 719280"/>
              <a:gd name="textAreaBottom" fmla="*/ 6260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华文琥珀"/>
              </a:rPr>
              <a:t>感悟昆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"/>
          <p:cNvSpPr/>
          <p:nvPr/>
        </p:nvSpPr>
        <p:spPr>
          <a:xfrm>
            <a:off x="395280" y="47242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被打为右派下放劳动的日子里，他奉命画出了一套马铃薯图谱。他认为在马铃薯研究站画图谱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仙过的日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画完一个整薯，还要切开来画一个剖面，画完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薯块就再无用处，我于是随手埋进牛粪火里，烤烤，吃掉。我敢说，像我一样吃过那么多品种的马铃薯，全国盖无二人。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顺利一号</dc:creator>
  <dc:description/>
  <cp:keywords/>
  <dc:language>en-US</dc:language>
  <cp:lastModifiedBy>1991 swim</cp:lastModifiedBy>
  <cp:lastPrinted>2017-12-04T01:33:11Z</cp:lastPrinted>
  <dcterms:modified xsi:type="dcterms:W3CDTF">2017-12-05T02:57:19Z</dcterms:modified>
  <cp:revision>113</cp:revision>
  <dc:subject/>
  <dc:title>昆明的雨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