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F42-A287-4060-AA3E-7CB531F4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CF7-4D1D-4974-9410-A16EFAA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976-3228-4420-B5E4-AF2519B8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4BA-A6AE-49B5-A696-4773F5A1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453-07E3-411E-8D57-9528A509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48A-4ABF-4D4C-A872-B6829C53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48C-97F5-4FC6-B6B3-6DE7349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EE3-E1C5-4A6C-9229-86607CA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DBD-2C2E-453E-9367-05CAE4DC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135-06D4-4888-B20E-B4AB62A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DFC-8AA2-416D-B5F2-8518F35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1F3-87DC-4B85-8DE4-195F4D8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EE21-062A-448E-BEE7-A6DA7F764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9200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雨是最寻常的，雨也是文人骚客们笔下的宠儿。你知道有哪些写雨的诗句呢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600" y="2492280"/>
            <a:ext cx="7605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样都是雨，在不同诗人笔下却有各不相同的独特体验。今天我们这节课也学习一篇写雨的抒情散文，齐读课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739680" y="566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昆明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8436" descr="6889698_180515864000_2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9459" descr="6298817_112239212166_2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7169"/>
          <p:cNvSpPr/>
          <p:nvPr/>
        </p:nvSpPr>
        <p:spPr>
          <a:xfrm>
            <a:off x="3637080" y="476280"/>
            <a:ext cx="550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汪曾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江苏省高邮市，中国当代作家、散文家、戏剧家、京派作家的代表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秋，汪曾祺初中毕业考入江阴县南菁中学读高中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夏，汪曾祺从上海经香港、越南到昆明，以第一志愿考入西南联大中国文学系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任北京市文联主办的《北京文艺》编辑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冬，用毛笔写出了《羊舍一夕》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发表的《羊舍的夜晚》正式出版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《异秉》在《雨花》发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在中国作家协会第五次全国代表大会上被推选为顾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上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因病医治无效去世，享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7170" descr=""/>
          <p:cNvPicPr/>
          <p:nvPr/>
        </p:nvPicPr>
        <p:blipFill>
          <a:blip r:embed="rId1"/>
          <a:stretch/>
        </p:blipFill>
        <p:spPr>
          <a:xfrm>
            <a:off x="181080" y="692280"/>
            <a:ext cx="322416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8193"/>
          <p:cNvSpPr/>
          <p:nvPr/>
        </p:nvSpPr>
        <p:spPr>
          <a:xfrm>
            <a:off x="719280" y="469800"/>
            <a:ext cx="77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《昆明的雨》写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日，首次发表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第十期的《滇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汪曾祺在西南联大和昆明生活了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年，这在他一生中是一个重要时期。在昆明，他不仅接受了良好的高等教育，结识了许多师长和朋友，开始走上文学创作之路，还结识了后来与他相知相爱的施松卿。对于有着强烈家乡情结的作者来说，昆明无异于是他的第二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汪曾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生日时曾作诗一首：“往事回思如细雨，旧书重读似春潮。白发无情侵老境，青灯有味忆儿时。”晚年汪曾祺的诗文书画中，也随处可见他对故人、故土、故事的魂牵梦绕的怀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3315"/>
          <p:cNvSpPr/>
          <p:nvPr/>
        </p:nvSpPr>
        <p:spPr>
          <a:xfrm>
            <a:off x="2484360" y="2060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汪老先生对昆明的雨是如何表达他的独特体验的？要想知道如何，首先要知道是何，是什么。作者要抒发的感情是什么呢？文中有一句话就很明显地把它给表达出来了，是哪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3317" descr="复件 小女孩"/>
          <p:cNvPicPr/>
          <p:nvPr/>
        </p:nvPicPr>
        <p:blipFill>
          <a:blip r:embed="rId1"/>
          <a:stretch/>
        </p:blipFill>
        <p:spPr>
          <a:xfrm>
            <a:off x="684360" y="227664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2168640" y="236520"/>
            <a:ext cx="64371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初读文本，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099"/>
          <p:cNvSpPr/>
          <p:nvPr/>
        </p:nvSpPr>
        <p:spPr>
          <a:xfrm>
            <a:off x="1265400" y="1152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 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先生只是想念雨吗？下面请同学们自由读课文，看一下，还有什么？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文章写的是什么内容？文章中写到了雨中的哪些景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100" descr="复件 初读感知"/>
          <p:cNvPicPr/>
          <p:nvPr/>
        </p:nvPicPr>
        <p:blipFill>
          <a:blip r:embed="rId1"/>
          <a:stretch/>
        </p:blipFill>
        <p:spPr>
          <a:xfrm>
            <a:off x="2168640" y="39600"/>
            <a:ext cx="3806640" cy="9208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4101"/>
          <p:cNvSpPr/>
          <p:nvPr/>
        </p:nvSpPr>
        <p:spPr>
          <a:xfrm>
            <a:off x="1265400" y="362592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写了昆明雨季中的果子、花儿以及印象深刻的人和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写到了雨中的果子，缅桂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0483" descr="u=2879485362,1539007598&amp;fm=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0484" descr="200907291041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0485" descr="200000033870126933208738734_950"/>
          <p:cNvPicPr/>
          <p:nvPr/>
        </p:nvPicPr>
        <p:blipFill>
          <a:blip r:embed="rId3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3555" descr="7156200_11242842016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81200" y="558936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缅桂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1508" descr="4127854f44714f7980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2531" descr="20081120154659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053"/>
          <p:cNvSpPr txBox="1"/>
          <p:nvPr/>
        </p:nvSpPr>
        <p:spPr>
          <a:xfrm>
            <a:off x="2052720" y="1700280"/>
            <a:ext cx="5256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昆明的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4100400" y="5119560"/>
            <a:ext cx="15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4812120" y="485784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汪曾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2191680" y="68724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教版   八年级上册  第一学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9699" descr="7968741889387847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4579" descr="u=2774905543,3308390024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6627" descr="2011512064999"/>
          <p:cNvPicPr/>
          <p:nvPr/>
        </p:nvPicPr>
        <p:blipFill>
          <a:blip r:embed="rId1"/>
          <a:stretch/>
        </p:blipFill>
        <p:spPr>
          <a:xfrm>
            <a:off x="324000" y="311040"/>
            <a:ext cx="6696000" cy="62136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6628"/>
          <p:cNvSpPr/>
          <p:nvPr/>
        </p:nvSpPr>
        <p:spPr>
          <a:xfrm>
            <a:off x="7600680" y="1700280"/>
            <a:ext cx="9115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木香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5603" descr="01300001213018130579831797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7651" descr="64380cd7912397dd43d624a05982b2b7d1a287e3"/>
          <p:cNvPicPr/>
          <p:nvPr/>
        </p:nvPicPr>
        <p:blipFill>
          <a:blip r:embed="rId1"/>
          <a:stretch/>
        </p:blipFill>
        <p:spPr>
          <a:xfrm>
            <a:off x="0" y="28440"/>
            <a:ext cx="9105840" cy="68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5123"/>
          <p:cNvSpPr/>
          <p:nvPr/>
        </p:nvSpPr>
        <p:spPr>
          <a:xfrm>
            <a:off x="2065320" y="1089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文中写了雨中的果儿和花儿。昆明的雨给作者留下了怎样的印象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124" descr="复件 细读感悟"/>
          <p:cNvPicPr/>
          <p:nvPr/>
        </p:nvPicPr>
        <p:blipFill>
          <a:blip r:embed="rId1"/>
          <a:stretch/>
        </p:blipFill>
        <p:spPr>
          <a:xfrm>
            <a:off x="2525760" y="-3240"/>
            <a:ext cx="4094280" cy="10922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125" descr="复件 小女孩"/>
          <p:cNvPicPr/>
          <p:nvPr/>
        </p:nvPicPr>
        <p:blipFill>
          <a:blip r:embed="rId2"/>
          <a:stretch/>
        </p:blipFill>
        <p:spPr>
          <a:xfrm>
            <a:off x="468360" y="220500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126"/>
          <p:cNvSpPr/>
          <p:nvPr/>
        </p:nvSpPr>
        <p:spPr>
          <a:xfrm>
            <a:off x="2065320" y="290052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昆明的雨季是明亮的、丰满的，使人动情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时是会引起人一点儿淡淡乡愁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品味语言，体悟深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汪老先生的散文写风俗，谈文化，忆旧闻，述掌故，寄乡情，花鸟鱼虫，瓜果食物，无所不涉。读他的散文就好像聆听一位性情和蔼、见识广博的老者谈话，虽然话语平常，但饶有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826920" y="4581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昆明这样明亮又丰满的雨季自然是使人动情的，你体会到作者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是从文中哪些词句之中体会出作者的这种感情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想念的不仅仅是“雨”，还有物、景、人、事，想念的是昆明的民风、人情和当年在那里宁静、恬然的生活，你能体会出作者什么样的生活态度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汪曾祺的语言风格多是文字简洁精练却内容隽永多味，请分析下面的两个句子的表现手法和表达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功的作家，其细节记忆总是相当强的。汪曾祺叙事文本的鲜明特色，和他超群的细节记忆是分不开的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28280"/>
            <a:ext cx="886608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宁坤要我给他画一张画，要有昆明的特点。我想了一些时候，画了一幅，右上角画了一片倒挂着的浓绿的仙人掌，末端开出一朵金黄色的花。左下画了几朵青头菌和牛肝菌。题了这样几行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昆明人家常于门头挂仙人掌一片以辟邪，仙人掌悬空倒挂，尚能存活开花。于此可见仙人掌生命之顽强，亦可见昆明雨季空气之湿润。雨季则有青头菌、牛肝菌，味极鲜腴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为“昆明的雨”，文章开篇描述给宁坤的画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"/>
          <p:cNvSpPr/>
          <p:nvPr/>
        </p:nvSpPr>
        <p:spPr>
          <a:xfrm>
            <a:off x="0" y="3621240"/>
            <a:ext cx="8866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画的倒挂而解开花的仙人掌、青头菌与牛肝菌是昆明雨季特有的现象与产物。突出昆明多面的特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②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引出下文对“昆明的雨”的描述，吸引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3313"/>
          <p:cNvSpPr/>
          <p:nvPr/>
        </p:nvSpPr>
        <p:spPr>
          <a:xfrm>
            <a:off x="851040" y="739800"/>
            <a:ext cx="77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青头菌比牛肝菌略贵：这种菌子炒熟了也还是浅绿色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格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牛肝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3314"/>
          <p:cNvSpPr/>
          <p:nvPr/>
        </p:nvSpPr>
        <p:spPr>
          <a:xfrm>
            <a:off x="3576600" y="3348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赏    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3315"/>
          <p:cNvSpPr/>
          <p:nvPr/>
        </p:nvSpPr>
        <p:spPr>
          <a:xfrm>
            <a:off x="684360" y="32068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可是下点功夫，把草茎松毛择净，撕成蟹腿肉粗细的丝，和青辣椒同炒，入口便会使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目结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这东西这么好吃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316"/>
          <p:cNvSpPr/>
          <p:nvPr/>
        </p:nvSpPr>
        <p:spPr>
          <a:xfrm>
            <a:off x="576360" y="1996920"/>
            <a:ext cx="82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格调”原情“人或艺术品的品格或风格”，此指炒熟后青头菌的诱人色泽（鲜香口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3317"/>
          <p:cNvSpPr/>
          <p:nvPr/>
        </p:nvSpPr>
        <p:spPr>
          <a:xfrm>
            <a:off x="684360" y="50133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张目结舌”原指“睁大眼睛说不出话”，此指牛肝菌味道好得令人吃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097"/>
          <p:cNvSpPr/>
          <p:nvPr/>
        </p:nvSpPr>
        <p:spPr>
          <a:xfrm>
            <a:off x="1476360" y="227664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098"/>
          <p:cNvSpPr/>
          <p:nvPr/>
        </p:nvSpPr>
        <p:spPr>
          <a:xfrm>
            <a:off x="54000" y="21276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起昆明，人们首先要说“翠湖”。有李霆锐的湖中亭联：“赤鲤跃碧波，吞却三分明月；红莲开翠海，托来一瓣馨香”。翠湖之美，楼阁屋舍，绿波拥簇，古今多有名士称赞。著名作家汪曾祺先生书写昆明时涉及人文、景物、饮食等几十篇作品。其中《觅我游踪五十年》题诗：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羁旅天南久未还，故乡无此好湖山。长堤柳色浓如许，觅我游踪五十年。”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汪先生对昆明最集中概括的书写称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099" descr=""/>
          <p:cNvPicPr/>
          <p:nvPr/>
        </p:nvPicPr>
        <p:blipFill>
          <a:blip r:embed="rId1"/>
          <a:stretch/>
        </p:blipFill>
        <p:spPr>
          <a:xfrm>
            <a:off x="54000" y="3838680"/>
            <a:ext cx="903600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汪曾祺的语言风格多是文字简洁洗练却内容隽永多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60" y="1600200"/>
            <a:ext cx="90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卖杨梅的都是苗族女孩子，戴一硕小花帽子，穿着扳尖的绣了满帮花的鞋，坐在人家阶石的一角，不时吆唤一声：“卖杨梅——”，声音娇娇的。她们的声音使得昆明雨季的空气更加柔和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运用人物的外貌、语言描写，生动描写出卖花女孩的娇美情态（衬托出昆明雨季的柔美），抒发作者的怀念、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棵木香，爬在架上，把院子遮得严严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爬”“遮”等动词，把木香拟人化，生动形象地表现出木香的茂盛，表达作者赞叹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中作者写到“我想念昆明的雨”，试分析这一句在内容和结构上有什么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1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内容：深化主题，表达作者对“昆明的雨”的想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结构：照应第三段内容，收未全文，使结构显得完整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精读文本，探究写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题目为“昆明的雨”，文章开篇为什么要描述给宁坤的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课文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作者都只有一句“我想念昆明的雨”，想一想这两段在文中有什么作用呢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昆明的雨》能对读者产生强大的艺术感染力，就在于作者对“凡人小事”的审视，用“以小见大”的视角，折射出了一位老人浓烈如火的情怀，结合本文，试分析课文是如何“以小见大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2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．题目为“昆明的雨”，文章开篇为什么要描述给宁坤的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336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中所画的是昆明雨季特有的现象与产物，突出昆明多雨的特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下文作铺垫，引出下文对“昆明的雨”的描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吸引读者，引起读者的阅读兴趣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3840" y="790200"/>
            <a:ext cx="89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、课文第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段和第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段，作者都只有一句“我想念昆明的雨”，想一想这两段在文中有什么作用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3840" y="2505240"/>
            <a:ext cx="895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从内容上看点明了文章的中心，表达了作者对昆明雨季的深切怀念的感情；从结构上看，这句独立成段的句子承接上文的画面介绍，引出下文“我想念昆明的雨”的缘由的抒写。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从内容上看深化主题，表达作者对“昆明的雨”的想念之情；从结构上看，照应前方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内容，收束全文，使结构更加完整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4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《昆明的雨》能对读者产生强大的艺术感染力，就在于作者对“凡人小事”的审视，用“以小见大”的视角，折射出了一位老人浓烈如火的情怀，结合本文，试分析课文是如何“以小见大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00" y="2739600"/>
            <a:ext cx="90072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对昆明的爱是深沉的，寄托感情的载体越小，越显得爱得醇厚，仙人掌、青头菌、牛肝菌等各类菌子，杨梅、缅桂花等作为承载感情的载体，都具有非凡的意义，它们共同昭示了汪老散文的“凡人小事”之类，共同彰显着汪老对昆明对生活的热爱，生活中的美存在于我们身边的一草一木中，作者用善于发现美的眼睛捕捉到了它们，然后携来入文，遂成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6147" descr="复件 细读感悟"/>
          <p:cNvPicPr/>
          <p:nvPr/>
        </p:nvPicPr>
        <p:blipFill>
          <a:blip r:embed="rId1"/>
          <a:stretch/>
        </p:blipFill>
        <p:spPr>
          <a:xfrm>
            <a:off x="2562120" y="28440"/>
            <a:ext cx="3479760" cy="93024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148"/>
          <p:cNvSpPr/>
          <p:nvPr/>
        </p:nvSpPr>
        <p:spPr>
          <a:xfrm>
            <a:off x="2562120" y="958680"/>
            <a:ext cx="61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从哪些词句看出作者对昆明雨的喜欢与怀念之情？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6149" descr="复件 小女孩"/>
          <p:cNvPicPr/>
          <p:nvPr/>
        </p:nvPicPr>
        <p:blipFill>
          <a:blip r:embed="rId2"/>
          <a:stretch/>
        </p:blipFill>
        <p:spPr>
          <a:xfrm>
            <a:off x="755640" y="1700280"/>
            <a:ext cx="1967040" cy="32796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6150"/>
          <p:cNvSpPr/>
          <p:nvPr/>
        </p:nvSpPr>
        <p:spPr>
          <a:xfrm>
            <a:off x="3011400" y="2254320"/>
            <a:ext cx="453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并不使人厌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使人动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会引起人一点儿淡淡乡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想念昆明的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1265"/>
          <p:cNvSpPr/>
          <p:nvPr/>
        </p:nvSpPr>
        <p:spPr>
          <a:xfrm>
            <a:off x="61272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昆明的雨》是作者一系列回忆昆明往事的散文中最具有代表性的作品，含蓄、空灵、优美、淡远。结尾描述雨中赏花的往事，更像是一副充满诗意的图画，让我们仿佛看到了绵绵细雨中的青灯古巷、静寂而忧郁的石板路、飘荡着乌云的暗暗的天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感受到了作者无限的思乡情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3349440" y="22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华文琥珀"/>
                <a:ea typeface="华文琥珀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7171" descr="复件 拓展学习"/>
          <p:cNvPicPr/>
          <p:nvPr/>
        </p:nvPicPr>
        <p:blipFill>
          <a:blip r:embed="rId1"/>
          <a:stretch/>
        </p:blipFill>
        <p:spPr>
          <a:xfrm>
            <a:off x="1441440" y="184320"/>
            <a:ext cx="4929120" cy="121572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7175"/>
          <p:cNvSpPr/>
          <p:nvPr/>
        </p:nvSpPr>
        <p:spPr>
          <a:xfrm>
            <a:off x="206280" y="1504800"/>
            <a:ext cx="873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推荐阅读汪曾祺的《端午的鸭蛋》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汪曾祺在文章结尾满怀深情地说：“四十年后，我还忘 不了那天的情味。”那天有什么“情味”让作者忘不了呢？在你的生活中，也有这样“忘不了的情味”吧？试写出来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。</a:t>
            </a: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8193"/>
          <p:cNvSpPr/>
          <p:nvPr/>
        </p:nvSpPr>
        <p:spPr>
          <a:xfrm>
            <a:off x="1260360" y="220500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汪曾祺在西南联大和昆明生活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这在他一生中是一个重要时期。在昆明，他不仅接受了良好的高等教育，结识了许多师长和朋友，开始走上文学创作之路，还结识了后来与他相知相爱的施松卿。对于有着强烈家乡情结的作者来说，昆明无异于是他的第二故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46"/>
          <p:cNvSpPr/>
          <p:nvPr/>
        </p:nvSpPr>
        <p:spPr>
          <a:xfrm>
            <a:off x="334800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背景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7409"/>
          <p:cNvSpPr/>
          <p:nvPr/>
        </p:nvSpPr>
        <p:spPr>
          <a:xfrm>
            <a:off x="304920" y="2209680"/>
            <a:ext cx="815328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头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ùn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黄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īn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ái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桂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ǎn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绿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òu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密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匝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花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鸡</a:t>
            </a:r>
            <a:r>
              <a:rPr b="1" i="1" lang="zh-CN" sz="2800" spc="-1" strike="noStrike" u="sng">
                <a:solidFill>
                  <a:srgbClr val="003399"/>
                </a:solidFill>
                <a:uFillTx/>
                <a:latin typeface="仿宋"/>
                <a:ea typeface="仿宋"/>
              </a:rPr>
              <a:t>土从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ōng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7410"/>
          <p:cNvSpPr/>
          <p:nvPr/>
        </p:nvSpPr>
        <p:spPr>
          <a:xfrm>
            <a:off x="304920" y="685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给下面划线字注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7410"/>
          <p:cNvSpPr/>
          <p:nvPr/>
        </p:nvSpPr>
        <p:spPr>
          <a:xfrm>
            <a:off x="304920" y="685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给下面划线字注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7409"/>
          <p:cNvSpPr/>
          <p:nvPr/>
        </p:nvSpPr>
        <p:spPr>
          <a:xfrm>
            <a:off x="468360" y="2205000"/>
            <a:ext cx="81532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青头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菌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黄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茎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净    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桂花       绿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密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匝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花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朵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1"/>
          <p:cNvSpPr/>
          <p:nvPr/>
        </p:nvSpPr>
        <p:spPr>
          <a:xfrm>
            <a:off x="1549440" y="234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y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72"/>
          <p:cNvSpPr/>
          <p:nvPr/>
        </p:nvSpPr>
        <p:spPr>
          <a:xfrm>
            <a:off x="4357800" y="24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jù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7173"/>
          <p:cNvSpPr/>
          <p:nvPr/>
        </p:nvSpPr>
        <p:spPr>
          <a:xfrm>
            <a:off x="6589800" y="2421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è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4"/>
          <p:cNvSpPr/>
          <p:nvPr/>
        </p:nvSpPr>
        <p:spPr>
          <a:xfrm>
            <a:off x="1547640" y="32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jī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5"/>
          <p:cNvSpPr/>
          <p:nvPr/>
        </p:nvSpPr>
        <p:spPr>
          <a:xfrm>
            <a:off x="3852720" y="3213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zh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176"/>
          <p:cNvSpPr/>
          <p:nvPr/>
        </p:nvSpPr>
        <p:spPr>
          <a:xfrm>
            <a:off x="6229440" y="3213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h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177"/>
          <p:cNvSpPr/>
          <p:nvPr/>
        </p:nvSpPr>
        <p:spPr>
          <a:xfrm>
            <a:off x="1979640" y="4076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i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78"/>
          <p:cNvSpPr/>
          <p:nvPr/>
        </p:nvSpPr>
        <p:spPr>
          <a:xfrm>
            <a:off x="3854520" y="400536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yò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179"/>
          <p:cNvSpPr/>
          <p:nvPr/>
        </p:nvSpPr>
        <p:spPr>
          <a:xfrm>
            <a:off x="6516720" y="400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z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80"/>
          <p:cNvSpPr/>
          <p:nvPr/>
        </p:nvSpPr>
        <p:spPr>
          <a:xfrm>
            <a:off x="1979640" y="50864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g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81"/>
          <p:cNvSpPr/>
          <p:nvPr/>
        </p:nvSpPr>
        <p:spPr>
          <a:xfrm>
            <a:off x="3925800" y="508644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bā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5121"/>
          <p:cNvSpPr/>
          <p:nvPr/>
        </p:nvSpPr>
        <p:spPr>
          <a:xfrm>
            <a:off x="539640" y="476280"/>
            <a:ext cx="770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122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5545080" cy="36925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123"/>
          <p:cNvSpPr/>
          <p:nvPr/>
        </p:nvSpPr>
        <p:spPr>
          <a:xfrm>
            <a:off x="668016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滇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5124" descr=""/>
          <p:cNvPicPr/>
          <p:nvPr/>
        </p:nvPicPr>
        <p:blipFill>
          <a:blip r:embed="rId2"/>
          <a:stretch/>
        </p:blipFill>
        <p:spPr>
          <a:xfrm>
            <a:off x="3276720" y="3139920"/>
            <a:ext cx="5763960" cy="36496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125"/>
          <p:cNvSpPr/>
          <p:nvPr/>
        </p:nvSpPr>
        <p:spPr>
          <a:xfrm>
            <a:off x="99000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大观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145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8181720" cy="2754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146" descr=""/>
          <p:cNvPicPr/>
          <p:nvPr/>
        </p:nvPicPr>
        <p:blipFill>
          <a:blip r:embed="rId2"/>
          <a:stretch/>
        </p:blipFill>
        <p:spPr>
          <a:xfrm>
            <a:off x="239760" y="100080"/>
            <a:ext cx="585468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6147"/>
          <p:cNvSpPr/>
          <p:nvPr/>
        </p:nvSpPr>
        <p:spPr>
          <a:xfrm>
            <a:off x="7311240" y="698400"/>
            <a:ext cx="78984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cc"/>
                </a:solidFill>
                <a:latin typeface="Arial"/>
                <a:ea typeface="宋体-PUA"/>
              </a:rPr>
              <a:t>石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6387" descr="13348874216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40:36Z</dcterms:created>
  <dc:creator>雨林木风</dc:creator>
  <dc:description/>
  <dc:language>en-US</dc:language>
  <cp:lastModifiedBy>Administrator</cp:lastModifiedBy>
  <dcterms:modified xsi:type="dcterms:W3CDTF">2018-11-28T07:53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