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B7B-2489-4336-8369-D341547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1A8-F7CF-4AB5-95E1-65B4296C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C62-B966-4DEA-84E3-45283FBC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72B-8F67-441E-B0C2-9D2907E7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C3D-F9BE-42B1-BE4C-D590D1D4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D90-6BAC-4DFB-8097-44D0D0B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403-DD2E-417E-ADCD-32B21AD8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3AA-F917-4931-AC96-D09E2603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492-BF90-4026-ABF0-C07305B4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992-CDFF-44A7-9C34-FE17266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B75-009E-4C9E-8579-B9E9474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58C-9146-4ADA-BEF7-2EDD1CB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F13-F73C-44F8-8870-03FFAC2E7A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aike.soso.com/p/20100110/20100110155303-170043414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99840" y="43434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执教者：沈春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00200" y="1523880"/>
            <a:ext cx="6095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汉鼎繁海报"/>
              </a:rPr>
              <a:t>欢迎指导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汉鼎繁海报"/>
              <a:ea typeface="汉鼎繁海报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请你用一句话概括第四段所举的事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作为定比定律的发现者，普鲁斯特把自己成功的一半功劳让给了论敌贝索勒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327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宽容的内涵、前提、核心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623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内涵：允许别人反对，并不计较别人的态     度，而充分看待别人的长处，并吸收其中的营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500280"/>
            <a:ext cx="58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前提：对那些可宽容的人或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92640"/>
            <a:ext cx="2520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核心：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</a:rPr>
              <a:t>文中作者告诉我们如何才能做到宽容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允许别人反对，又不计较别人的态度，同时又能充分看待别人的长处，并吸收其营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以心对心去包容，去化解，去让这个越发世故、物化和势利的粗糙世界变得温润一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赏析文章语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再读课文，找出你喜欢的句子或段落，试赏析它的妙处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b200"/>
                </a:solidFill>
                <a:latin typeface="Comic Sans MS"/>
              </a:rPr>
              <a:t>大家谈谈你理解的宽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788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宽容，是一束照射在冬日里的阳光，使误解这座冰雕融化；宽容，是一座亮丽在黑夜中的灯塔，使迷途者找到航行的港湾；宽容，是一缕飘飞在大地上的清风，使犯错者顿获一股清醒剂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请你以宽容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omic Sans MS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仿写一段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63296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更上一层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0920" y="-316080"/>
            <a:ext cx="7878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课外拓展延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4392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吕蒙正相公，不喜记人过。初参知政事，入朝堂，有朝士于帘内指之曰：“是小子亦参政耶！” 蒙正佯为不闻而过之。其同列怒，令诘其官 位姓名，蒙正遽止之。罢朝，同列犹不能平，悔不穷问，蒙正曰：“一知其姓名，则终生不能复忘，固不如无知也，不问之何损？” 时人皆服其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981000"/>
            <a:ext cx="3473280" cy="4775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40000" y="6165720"/>
            <a:ext cx="597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你从这个故事中收获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28800" y="1773360"/>
            <a:ext cx="4326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日常生活中，对别人应有宽宏大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计个人得失的胸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对“不计人过”的看法：像这样心胸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广的人是一个可塑之才，不会因为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别人斤斤计较而得罪别人，使人厌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5760" y="4651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Comic Sans MS"/>
              </a:rPr>
              <a:t>我的认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6629400" cy="3899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715000" y="9144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609480"/>
            <a:ext cx="829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还知道哪些“宽容”的故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1676520"/>
            <a:ext cx="4724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478200">
            <a:off x="2438280" y="1447560"/>
            <a:ext cx="2133720" cy="1143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历史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314000">
            <a:off x="5784480" y="4141800"/>
            <a:ext cx="2590920" cy="10666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我自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869200">
            <a:off x="380520" y="3504960"/>
            <a:ext cx="2743200" cy="1523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同学朋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592600">
            <a:off x="6319800" y="2263320"/>
            <a:ext cx="2590920" cy="1295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父母老师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5410080"/>
            <a:ext cx="4343400" cy="1143000"/>
          </a:xfrm>
          <a:prstGeom prst="foldedCorner">
            <a:avLst>
              <a:gd name="adj" fmla="val 12500"/>
            </a:avLst>
          </a:prstGeom>
          <a:solidFill>
            <a:srgbClr val="ff3399"/>
          </a:solidFill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故事大搜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5280" y="562680"/>
            <a:ext cx="479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2004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年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23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日云南大学在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学生马家爵杀死同学四人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杀人的动机和目的，仅仅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是为了打牌时同学怀疑他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弊。最后于当年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月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日马家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被判处死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84360" y="4100400"/>
            <a:ext cx="3743280" cy="2757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544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5840" y="5734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马家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24920" y="601992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国际宽容日   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1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月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16</a:t>
            </a:r>
            <a:r>
              <a:rPr b="0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4000" y="1484280"/>
            <a:ext cx="453708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学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也学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要听信青蛙们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蝌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那又黑又长的尾巴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允许蝌蚪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才会有夏夜的蛙声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4720" y="189000"/>
            <a:ext cx="45370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ff">
                    <a:alpha val="86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诗歌朗诵</a:t>
            </a:r>
            <a:endParaRPr b="1" lang="en-US" sz="4400" spc="1" strike="noStrike">
              <a:ln w="0">
                <a:noFill/>
              </a:ln>
              <a:solidFill>
                <a:srgbClr val="3366ff">
                  <a:alpha val="86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89000"/>
            <a:ext cx="201600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699ff"/>
                  </a:outerShdw>
                </a:effectLst>
                <a:latin typeface="华文隶书"/>
              </a:rPr>
              <a:t>感悟宽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53753" dir="2700000" blurRad="0" rotWithShape="0">
                  <a:srgbClr val="6699ff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教师寄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908000" y="206028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200"/>
                </a:solidFill>
                <a:latin typeface="Comic Sans MS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亲爱的同学们，敞开你那比大海还宽广的胸怀，你定会体会到那醇美宜人的容人之美，爱人之乐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24000" y="1484280"/>
            <a:ext cx="453708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学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宽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也学会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要听信青蛙们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蝌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那又黑又长的尾巴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允许蝌蚪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才会有夏夜的蛙声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284720" y="189000"/>
            <a:ext cx="453708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3366ff">
                    <a:alpha val="86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诗歌朗诵</a:t>
            </a:r>
            <a:endParaRPr b="1" lang="en-US" sz="4400" spc="1" strike="noStrike">
              <a:ln w="0">
                <a:noFill/>
              </a:ln>
              <a:solidFill>
                <a:srgbClr val="3366ff">
                  <a:alpha val="86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89000"/>
            <a:ext cx="201600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699ff"/>
                  </a:outerShdw>
                </a:effectLst>
                <a:latin typeface="华文隶书"/>
              </a:rPr>
              <a:t>感悟宽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153753" dir="2700000" blurRad="0" rotWithShape="0">
                  <a:srgbClr val="6699ff"/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搜集有关宽容的名言或小故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整理文中出现的成语，了解其用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 rot="213600">
            <a:off x="3203280" y="333000"/>
            <a:ext cx="504036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宽容新解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189000"/>
            <a:ext cx="201636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c0c0c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隶书"/>
              </a:rPr>
              <a:t>感悟宽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c0c0c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844640"/>
            <a:ext cx="8280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原意：宽大有气量，不计较或不追究，能容忍别人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708280"/>
            <a:ext cx="7991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宽容”都是宝盖头，可见都是宝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宽”下面，是草字头和“见”，也就是说象杂草一样的看法都允许并存。可是我们往往连一种异见都无法包容，何况更多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容”是两个“人”和一个“口”，就是你说你的理，我说我的理，不妨求同存异，但我不会不让你没有说话的权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260280"/>
            <a:ext cx="777744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爱——①（动词）对人或事物亲近、关切、扶助、投入的心理取向。当被某事物所感动，或者被深深地感动时，这种心理取向体现的更为强烈。②（动词）特指以共同生活（结婚）为目的，而对他人关切、亲近的心理取向。爱是强烈的喜欢，喜欢到想占有，在人们的感情中，爱是强烈到自私的喜欢，一种依赖和归宿和需要感。③（副词）具有较强的倾向性，而常常或更容易发生的事：④（动词）爱惜、爱护、爱慕等的简称，多用于口号、标语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解字：爱的字根“爫”是“爪”的变体，有“扶助”弱者的意思；“冖（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mì</a:t>
            </a:r>
            <a:r>
              <a:rPr b="1" lang="zh-CN" sz="2800" spc="-1" strike="noStrike">
                <a:solidFill>
                  <a:srgbClr val="000066"/>
                </a:solidFill>
                <a:latin typeface="Comic Sans MS"/>
              </a:rPr>
              <a:t>）”的意思是“覆盖”，有雌鸟保护和亲近小鸟的意思；“友”有对“朋友”关切的意思。对弱者的扶助，对家人的保护和亲近，对朋友的关切，都属于爱的范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00720" y="5445000"/>
            <a:ext cx="244800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“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爱”的注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32360" y="314172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肖复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87640" y="1844640"/>
            <a:ext cx="345456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宽容是一种爱</a:t>
            </a:r>
            <a:endParaRPr b="0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377208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5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肖复兴，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947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年生，著名作家，现居北京，《人民文学》杂志社副主编。当过大中小学教师，曾任《小说选刊》副主编 。有多篇文章选入中小学教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1784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-171720"/>
            <a:ext cx="7086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解决生字词，注意注音和字形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37702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一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摩肩接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虚与委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粗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剑拔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弩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深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独占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斤斤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得意忘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居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功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自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勾心斗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角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工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于心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飞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腾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阴谋得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逞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43680" y="184464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55840" y="24400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5080" y="2924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3040" y="40053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5640" y="4456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67120" y="50133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初读课文，整体感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课文的主要观点是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请你用一句话概括文中第四段所举的事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宽容的内涵、前提、核心是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文中作者告诉我们如何做到“宽容”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16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Comic Sans MS"/>
              </a:rPr>
              <a:t>课文的主要观点是什么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68000" y="2923920"/>
            <a:ext cx="7697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宽容是一种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3:32:36Z</dcterms:created>
  <dc:creator>user</dc:creator>
  <dc:description/>
  <dc:language>en-US</dc:language>
  <cp:lastModifiedBy>雨林木风</cp:lastModifiedBy>
  <dcterms:modified xsi:type="dcterms:W3CDTF">2013-09-24T12:01:39Z</dcterms:modified>
  <cp:revision>18</cp:revision>
  <dc:subject/>
  <dc:title>幻灯片 1</dc:title>
</cp:coreProperties>
</file>