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2.jpeg" ContentType="image/jpeg"/>
  <Override PartName="/ppt/media/%E6%84%9F%E5%8F%B9%E6%97%B6%E5%A5%8F%E5%B9%BB%E6%83%B3%E7%A9%BA%E9%97%B4.WAV" ContentType="audio/x-wav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18.jpeg" ContentType="image/jpeg"/>
  <Override PartName="/ppt/media/image17.png" ContentType="image/png"/>
  <Override PartName="/ppt/media/chimes.wav" ContentType="audio/x-wav"/>
  <Override PartName="/ppt/media/%E6%8C%89%E9%92%AE1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%E9%9F%B3%E6%95%881.wav" ContentType="audio/x-wav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4F9B-1504-4EDF-BCB9-FC45E48D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B67F-8B62-4D20-ADDC-341CF04C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C60-D525-4DA4-8A4A-67A2DABC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E10-D2FF-4AD2-BC6D-DF52F9B6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F6BC-4455-4605-A77F-8DAB3F3D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8864-7985-47FB-8738-93D69D06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714C-8780-46B5-AF38-933A0BBB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3765-BA94-4499-867F-4D5F49FE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2FAD-8369-492A-807C-9F64E92C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11EF-684C-4AC0-922C-462DAE6C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87AE-F75E-4CD5-BA86-27E4FC7C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8E11-7E77-42FE-8524-B564C084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7D98-106F-4B32-B4B7-F95E5CE7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D8D7-95A5-48B8-9B01-A55B6486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69DC-D0BB-48B4-94C2-5D486B09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E026-0DA5-43D0-A0A9-B211BE1F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09BF-7CE8-439F-A61B-C2668550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F86-FB36-4C8F-AC29-CB01AD28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C14E-5F4C-4FF6-907F-1FCDDDBA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AB5-2CDD-4021-82A7-91212265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26AA-D1B4-43D4-BB30-F954F1CD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6C5-4EE1-4D9D-856C-14ECB9EC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B74-1912-4656-8A2F-D4BC434F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271-A7F0-48E6-80F8-8A295A2F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A962-0959-4FF1-9002-2B24BE14EFD0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F8A3-E519-497C-8082-D943B89BE0C5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" Target="slide12.xml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&#25353;&#38062;1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audio" Target="../media/&#24863;&#21497;&#26102;&#22863;&#24187;&#24819;&#31354;&#38388;.WAV"/><Relationship Id="rId6" Type="http://schemas.openxmlformats.org/officeDocument/2006/relationships/audio" Target="../media/&#38899;&#25928;1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6840360" cy="4298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484360" y="836640"/>
            <a:ext cx="489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孔子拜师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3" name=""/>
          <p:cNvSpPr/>
          <p:nvPr/>
        </p:nvSpPr>
        <p:spPr>
          <a:xfrm flipV="1" rot="10800000">
            <a:off x="8172000" y="2060280"/>
            <a:ext cx="507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长沙市育才小学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黄慧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4360" y="907920"/>
            <a:ext cx="123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17.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01680" y="1494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人教实验版教科书语文第五册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3964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046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3030480" cy="5859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 rot="19923000">
            <a:off x="3492360" y="3644640"/>
            <a:ext cx="1768680" cy="2430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 rot="21105600">
            <a:off x="3995640" y="2133720"/>
            <a:ext cx="1755720" cy="2176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rot="1330800">
            <a:off x="6587640" y="3573000"/>
            <a:ext cx="1414440" cy="1963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580000" y="1341360"/>
            <a:ext cx="1833480" cy="2444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10465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8064360" cy="6048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156360" y="3573360"/>
            <a:ext cx="142920" cy="1447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3789360"/>
            <a:ext cx="14292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C%89%E9%92%A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94036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曲阜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37960" y="43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洛阳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835280" y="374760"/>
            <a:ext cx="6265800" cy="6149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rot="20617200">
            <a:off x="3492000" y="4221000"/>
            <a:ext cx="2521080" cy="92160"/>
          </a:xfrm>
          <a:prstGeom prst="leftArrow">
            <a:avLst>
              <a:gd name="adj1" fmla="val 50000"/>
              <a:gd name="adj2" fmla="val 68388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24360" y="2924280"/>
            <a:ext cx="5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4920" y="3645000"/>
            <a:ext cx="5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659640" y="3213000"/>
            <a:ext cx="2163600" cy="2808360"/>
            <a:chOff x="6659640" y="3213000"/>
            <a:chExt cx="2163600" cy="280836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6659640" y="3213000"/>
              <a:ext cx="216360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8317080" y="3213000"/>
              <a:ext cx="50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Arial"/>
                  <a:ea typeface="方正粗倩简体"/>
                </a:rPr>
                <a:t>孔子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79280" y="3500280"/>
            <a:ext cx="1871640" cy="3095640"/>
            <a:chOff x="179280" y="3500280"/>
            <a:chExt cx="1871640" cy="309564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179280" y="3500280"/>
              <a:ext cx="187164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32560" y="3542760"/>
              <a:ext cx="44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方正粗倩简体"/>
                </a:rPr>
                <a:t>老子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956720" y="6021360"/>
            <a:ext cx="934920" cy="576360"/>
            <a:chOff x="7956720" y="6021360"/>
            <a:chExt cx="934920" cy="576360"/>
          </a:xfrm>
        </p:grpSpPr>
        <p:sp>
          <p:nvSpPr>
            <p:cNvPr id="157" name=""/>
            <p:cNvSpPr/>
            <p:nvPr/>
          </p:nvSpPr>
          <p:spPr>
            <a:xfrm>
              <a:off x="7956720" y="6021360"/>
              <a:ext cx="934920" cy="5763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99640" y="6092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返回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8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9%9F%B3%E6%95%8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51560" y="62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  <a:ea typeface="方正粗倩简体"/>
              </a:rPr>
              <a:t>研读感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0" name="" descr="">
            <a:hlinkClick r:id="rId2" action="ppaction://hlinksldjump"/>
          </p:cNvPr>
          <p:cNvPicPr/>
          <p:nvPr/>
        </p:nvPicPr>
        <p:blipFill>
          <a:blip r:embed="rId3"/>
          <a:srcRect l="9721" t="8627" r="81873" b="26867"/>
          <a:stretch/>
        </p:blipFill>
        <p:spPr>
          <a:xfrm>
            <a:off x="0" y="4267080"/>
            <a:ext cx="1332000" cy="2590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7524720" y="4221000"/>
            <a:ext cx="1295280" cy="230220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rId5" action="ppaction://hlinksldjump"/>
          </p:cNvPr>
          <p:cNvSpPr/>
          <p:nvPr/>
        </p:nvSpPr>
        <p:spPr>
          <a:xfrm>
            <a:off x="1258920" y="6093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方正粗倩简体"/>
                <a:ea typeface="方正粗倩简体"/>
              </a:rPr>
              <a:t>孔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0720" y="609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方正粗倩简体"/>
                <a:ea typeface="方正粗倩简体"/>
              </a:rPr>
              <a:t>老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51200" y="1700280"/>
            <a:ext cx="5513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孔子听了再次行礼，说：“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谢老师等候。                           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您的学问渊博，跟您学习，一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会大有长进的。”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72080" y="2421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学习是没有止境的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324480" y="40384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360" y="6922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方正粗倩简体"/>
              </a:rPr>
              <a:t>朗读感悟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1268280"/>
            <a:ext cx="72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　　孔子年轻的时候，就已经是远近闻名的老师了。他总觉得自己的知识还不够渊博，三十岁的时候，他离开家乡曲阜，去洛阳拜大思想家老子为师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05600" y="27082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总觉得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31520" y="34686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三十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24000" y="5950080"/>
            <a:ext cx="934920" cy="576000"/>
            <a:chOff x="324000" y="5950080"/>
            <a:chExt cx="934920" cy="576000"/>
          </a:xfrm>
        </p:grpSpPr>
        <p:sp>
          <p:nvSpPr>
            <p:cNvPr id="172" name=""/>
            <p:cNvSpPr/>
            <p:nvPr/>
          </p:nvSpPr>
          <p:spPr>
            <a:xfrm>
              <a:off x="324000" y="5950080"/>
              <a:ext cx="934920" cy="5760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6920" y="6021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返回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51560" y="62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  <a:ea typeface="方正粗倩简体"/>
              </a:rPr>
              <a:t>研读感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5" name="" descr="">
            <a:hlinkClick r:id="rId2" action="ppaction://hlinksldjump"/>
          </p:cNvPr>
          <p:cNvPicPr/>
          <p:nvPr/>
        </p:nvPicPr>
        <p:blipFill>
          <a:blip r:embed="rId3"/>
          <a:srcRect l="9721" t="8627" r="81873" b="26867"/>
          <a:stretch/>
        </p:blipFill>
        <p:spPr>
          <a:xfrm>
            <a:off x="0" y="4267080"/>
            <a:ext cx="133200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7524720" y="4221000"/>
            <a:ext cx="1295280" cy="2302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258920" y="6093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方正粗倩简体"/>
                <a:ea typeface="方正粗倩简体"/>
              </a:rPr>
              <a:t>孔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609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方正粗倩简体"/>
                <a:ea typeface="方正粗倩简体"/>
              </a:rPr>
              <a:t>老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1413000"/>
            <a:ext cx="74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曲阜和洛阳相距           ，孔子                 ，               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后，       走到了洛阳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">
            <a:hlinkClick r:id="rId5" action="ppaction://hlinksldjump"/>
          </p:cNvPr>
          <p:cNvSpPr/>
          <p:nvPr/>
        </p:nvSpPr>
        <p:spPr>
          <a:xfrm>
            <a:off x="5724360" y="1413000"/>
            <a:ext cx="20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上千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7080" y="2060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风餐露宿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23800" y="2060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日夜兼程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94760" y="27226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几个月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62080" y="2736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终于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195640" y="5877000"/>
            <a:ext cx="934920" cy="576360"/>
            <a:chOff x="2195640" y="5877000"/>
            <a:chExt cx="934920" cy="576360"/>
          </a:xfrm>
        </p:grpSpPr>
        <p:sp>
          <p:nvSpPr>
            <p:cNvPr id="186" name=""/>
            <p:cNvSpPr/>
            <p:nvPr/>
          </p:nvSpPr>
          <p:spPr>
            <a:xfrm>
              <a:off x="2195640" y="5877000"/>
              <a:ext cx="934920" cy="5763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38560" y="5948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返回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方正粗倩简体"/>
              </a:rPr>
              <a:t>朗读感悟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76500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　孔子想：这位老人大概就是我要拜访的老师吧！于是上前行礼，问道：“老人家，您就是老聃先生吧？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76400" y="2421000"/>
            <a:ext cx="821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孔子连忙说：“学生孔丘，特地来拜见老师，请收下我这个学生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3789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孔子听了再次行礼，说：“多谢老师等候。学习是没有止境的。您的学问渊博，跟您学习，一定会大有长进的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60400" y="2565360"/>
            <a:ext cx="432000" cy="360360"/>
          </a:xfrm>
          <a:prstGeom prst="irregularSeal1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4005360"/>
            <a:ext cx="432000" cy="360360"/>
          </a:xfrm>
          <a:prstGeom prst="irregularSeal1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73080" y="907920"/>
            <a:ext cx="360360" cy="360360"/>
          </a:xfrm>
          <a:prstGeom prst="irregularSeal1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524720" y="5734080"/>
            <a:ext cx="934920" cy="576360"/>
            <a:chOff x="7524720" y="5734080"/>
            <a:chExt cx="934920" cy="576360"/>
          </a:xfrm>
        </p:grpSpPr>
        <p:sp>
          <p:nvSpPr>
            <p:cNvPr id="196" name=""/>
            <p:cNvSpPr/>
            <p:nvPr/>
          </p:nvSpPr>
          <p:spPr>
            <a:xfrm>
              <a:off x="7524720" y="5734080"/>
              <a:ext cx="934920" cy="5763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67640" y="5805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返回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711800" y="42656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习是没有止境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4437000"/>
            <a:ext cx="468360" cy="1584360"/>
          </a:xfrm>
          <a:custGeom>
            <a:avLst/>
            <a:gdLst>
              <a:gd name="textAreaLeft" fmla="*/ 62640 w 468360"/>
              <a:gd name="textAreaRight" fmla="*/ 405720 w 468360"/>
              <a:gd name="textAreaTop" fmla="*/ 273240 h 1584360"/>
              <a:gd name="textAreaBottom" fmla="*/ 1111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49" stAng="-5400000" swAng="-5400000"/>
                <a:lnTo>
                  <a:pt x="0" y="11424"/>
                </a:lnTo>
                <a:arcTo wR="21600" hR="7449" stAng="10800000" swAng="-2657217"/>
                <a:lnTo>
                  <a:pt x="14400" y="21174"/>
                </a:lnTo>
                <a:lnTo>
                  <a:pt x="21600" y="16886"/>
                </a:lnTo>
                <a:lnTo>
                  <a:pt x="14400" y="11745"/>
                </a:lnTo>
                <a:lnTo>
                  <a:pt x="14400" y="14472"/>
                </a:lnTo>
                <a:arcTo wR="21600" hR="7449" stAng="8142783" swAng="2329990"/>
                <a:lnTo>
                  <a:pt x="783" y="9436"/>
                </a:lnTo>
                <a:arcTo wR="21600" hR="7449" stAng="-10472773" swAng="5072773"/>
                <a:close/>
              </a:path>
              <a:path fill="darkenLess" w="21600" h="21600">
                <a:moveTo>
                  <a:pt x="21600" y="0"/>
                </a:moveTo>
                <a:arcTo wR="21600" hR="7449" stAng="-5400000" swAng="-5400000"/>
                <a:lnTo>
                  <a:pt x="0" y="7449"/>
                </a:lnTo>
                <a:arcTo wR="21600" hR="7449" stAng="10800000" swAng="-327227"/>
                <a:lnTo>
                  <a:pt x="783" y="9436"/>
                </a:lnTo>
                <a:arcTo wR="21600" hR="7449" stAng="-10472773" swAng="5072773"/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16000" y="5373720"/>
            <a:ext cx="295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学无止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00000" y="1889280"/>
            <a:ext cx="741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　　从此，孔子每天不离老师左右，随时请教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55640" y="5157720"/>
            <a:ext cx="934920" cy="576360"/>
            <a:chOff x="755640" y="5157720"/>
            <a:chExt cx="934920" cy="576360"/>
          </a:xfrm>
        </p:grpSpPr>
        <p:sp>
          <p:nvSpPr>
            <p:cNvPr id="203" name=""/>
            <p:cNvSpPr/>
            <p:nvPr/>
          </p:nvSpPr>
          <p:spPr>
            <a:xfrm>
              <a:off x="755640" y="5157720"/>
              <a:ext cx="934920" cy="5763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98560" y="5229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返回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360" y="692280"/>
            <a:ext cx="7704000" cy="56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5977080" cy="44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8003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-343080"/>
            <a:ext cx="9144000" cy="7201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369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0" y="-316080"/>
            <a:ext cx="9901080" cy="750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07892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10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10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10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6922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方正粗倩简体"/>
              </a:rPr>
              <a:t>朗读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flipH="1">
            <a:off x="250920" y="5084640"/>
            <a:ext cx="1861920" cy="1773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44200" y="1989000"/>
            <a:ext cx="5423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　　人们佩服孔子和老子的学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问，也敬重他们的品行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476280"/>
            <a:ext cx="860436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方正粗倩简体"/>
                <a:ea typeface="方正粗倩简体"/>
              </a:rPr>
              <a:t>用自己喜欢的方式朗读课文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　　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　　边读边思考，用“——”标出文中让你感动的句子，并在文中注一注你的感受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69840" y="5445000"/>
            <a:ext cx="1009800" cy="647640"/>
            <a:chOff x="969840" y="5445000"/>
            <a:chExt cx="1009800" cy="647640"/>
          </a:xfrm>
        </p:grpSpPr>
        <p:sp>
          <p:nvSpPr>
            <p:cNvPr id="99" name=""/>
            <p:cNvSpPr/>
            <p:nvPr/>
          </p:nvSpPr>
          <p:spPr>
            <a:xfrm>
              <a:off x="969840" y="5445000"/>
              <a:ext cx="936720" cy="6476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42920" y="5516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原因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71640" y="5516640"/>
            <a:ext cx="1152360" cy="647640"/>
            <a:chOff x="2771640" y="5516640"/>
            <a:chExt cx="1152360" cy="647640"/>
          </a:xfrm>
        </p:grpSpPr>
        <p:sp>
          <p:nvSpPr>
            <p:cNvPr id="102" name=""/>
            <p:cNvSpPr/>
            <p:nvPr/>
          </p:nvSpPr>
          <p:spPr>
            <a:xfrm>
              <a:off x="2771640" y="5516640"/>
              <a:ext cx="1008000" cy="6476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44360" y="5588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路途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570560" y="5516640"/>
            <a:ext cx="1009080" cy="649080"/>
            <a:chOff x="4570560" y="5516640"/>
            <a:chExt cx="1009080" cy="649080"/>
          </a:xfrm>
        </p:grpSpPr>
        <p:sp>
          <p:nvSpPr>
            <p:cNvPr id="105" name=""/>
            <p:cNvSpPr/>
            <p:nvPr/>
          </p:nvSpPr>
          <p:spPr>
            <a:xfrm>
              <a:off x="4570560" y="5516640"/>
              <a:ext cx="1007640" cy="6490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43280" y="558792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见面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373800" y="5518080"/>
            <a:ext cx="1006560" cy="647640"/>
            <a:chOff x="6373800" y="5518080"/>
            <a:chExt cx="1006560" cy="647640"/>
          </a:xfrm>
        </p:grpSpPr>
        <p:sp>
          <p:nvSpPr>
            <p:cNvPr id="108" name=""/>
            <p:cNvSpPr/>
            <p:nvPr/>
          </p:nvSpPr>
          <p:spPr>
            <a:xfrm>
              <a:off x="6373800" y="5518080"/>
              <a:ext cx="934920" cy="6476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45080" y="558972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求学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0000" y="1341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　　“你就是仲尼啊，听说你要来，我就在这儿        。研究学问你不比我差，为什么还要拜我为师呢？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09640" y="3429000"/>
            <a:ext cx="371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老子也把自己的学问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地传授给他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9721" t="8627" r="81873" b="26867"/>
          <a:stretch/>
        </p:blipFill>
        <p:spPr>
          <a:xfrm>
            <a:off x="0" y="4267080"/>
            <a:ext cx="1332000" cy="2590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524720" y="4221000"/>
            <a:ext cx="1295280" cy="230220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1258920" y="6093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方正粗倩简体"/>
                <a:ea typeface="方正粗倩简体"/>
              </a:rPr>
              <a:t>孔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00720" y="609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方正粗倩简体"/>
                <a:ea typeface="方正粗倩简体"/>
              </a:rPr>
              <a:t>老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51560" y="62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  <a:ea typeface="方正粗倩简体"/>
              </a:rPr>
              <a:t>研读感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04160" y="1895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迎候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67280" y="3948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毫无保留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51560" y="62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  <a:ea typeface="方正粗倩简体"/>
              </a:rPr>
              <a:t>朗读感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9721" t="8627" r="81873" b="26867"/>
          <a:stretch/>
        </p:blipFill>
        <p:spPr>
          <a:xfrm>
            <a:off x="0" y="4267080"/>
            <a:ext cx="1332000" cy="2590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524720" y="4221000"/>
            <a:ext cx="1295280" cy="2302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58920" y="6093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方正粗倩简体"/>
                <a:ea typeface="方正粗倩简体"/>
              </a:rPr>
              <a:t>孔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609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方正粗倩简体"/>
                <a:ea typeface="方正粗倩简体"/>
              </a:rPr>
              <a:t>老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0400" y="2133720"/>
            <a:ext cx="558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人们佩服孔子和老子的学问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也敬重他们的品行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484360" y="476280"/>
            <a:ext cx="453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孔子拜师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337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093080" y="4653000"/>
            <a:ext cx="2387520" cy="2387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9640" y="40464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华文中宋"/>
              </a:rPr>
              <a:t>孔子语录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413000"/>
            <a:ext cx="828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有朋自远方来，不亦乐乎！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三人行，必有我师焉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知之为知之，不知为不知，是知（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zhì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明智）也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学而不厌，诲（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huì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教导）人不倦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90792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yì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1973160"/>
            <a:ext cx="865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yā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78040" y="44845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à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3440" y="44118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juà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90792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2:58:08Z</dcterms:created>
  <dc:creator/>
  <dc:description/>
  <dc:language>en-US</dc:language>
  <cp:lastModifiedBy>lcx0127</cp:lastModifiedBy>
  <dcterms:modified xsi:type="dcterms:W3CDTF">2012-08-21T11:16:39Z</dcterms:modified>
  <cp:revision>69</cp:revision>
  <dc:subject/>
  <dc:title>幻灯片 1</dc:title>
</cp:coreProperties>
</file>