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9.jpeg" ContentType="image/jpeg"/>
  <Override PartName="/ppt/media/image13.jpeg" ContentType="image/jpeg"/>
  <Override PartName="/ppt/media/image2.jpeg" ContentType="image/jpeg"/>
  <Override PartName="/ppt/media/image20.png" ContentType="image/png"/>
  <Override PartName="/ppt/media/image4.jpeg" ContentType="image/jpeg"/>
  <Override PartName="/ppt/media/%E9%9F%B3%E6%95%881.wav" ContentType="audio/x-wav"/>
  <Override PartName="/ppt/media/%E6%84%9F%E5%8F%B9%E6%97%B6%E5%A5%8F%E5%B9%BB%E6%83%B3%E7%A9%BA%E9%97%B4.WAV" ContentType="audio/x-wav"/>
  <Override PartName="/ppt/media/image12.jpeg" ContentType="image/jpeg"/>
  <Override PartName="/ppt/media/image7.png" ContentType="image/png"/>
  <Override PartName="/ppt/media/image16.jpeg" ContentType="image/jpeg"/>
  <Override PartName="/ppt/media/%E6%8C%89%E9%92%AE1.wav" ContentType="audio/x-wav"/>
  <Override PartName="/ppt/media/chimes.wav" ContentType="audio/x-wav"/>
  <Override PartName="/ppt/media/image11.jpeg" ContentType="image/jpeg"/>
  <Override PartName="/ppt/media/image9.jpeg" ContentType="image/jpeg"/>
  <Override PartName="/ppt/media/image14.jpeg" ContentType="image/jpeg"/>
  <Override PartName="/ppt/media/image15.gif" ContentType="image/gif"/>
  <Override PartName="/ppt/media/image5.jpeg" ContentType="image/jpeg"/>
  <Override PartName="/ppt/media/image18.png" ContentType="image/png"/>
  <Override PartName="/ppt/media/image6.jpeg" ContentType="image/jpeg"/>
  <Override PartName="/ppt/media/%E6%89%93%E5%BC%80%E6%97%B6%E5%A5%8F%E4%B9%90.wav" ContentType="audio/x-wav"/>
  <Override PartName="/ppt/media/image17.png" ContentType="image/png"/>
  <Override PartName="/ppt/media/%E4%BD%A0%E7%9C%9F%E8%81%AA%E6%98%8E.wav" ContentType="audio/x-wav"/>
  <Override PartName="/ppt/media/image8.jpeg" ContentType="image/jpeg"/>
  <Override PartName="/ppt/media/%E5%A5%BD%E6%9E%81%E5%95%A6.wav" ContentType="audio/x-wav"/>
  <Override PartName="/ppt/media/image3.jpeg" ContentType="image/jpeg"/>
  <Override PartName="/ppt/media/%E4%BD%A0%E7%9C%9F%E6%A3%92.wav" ContentType="audio/x-wav"/>
  <Override PartName="/ppt/media/%E6%8E%8C%E5%A3%B0.wav" ContentType="audio/x-wav"/>
  <Override PartName="/ppt/media/image1.jpeg" ContentType="image/jpeg"/>
  <Override PartName="/ppt/media/image10.png" ContentType="image/png"/>
  <Override PartName="/ppt/media/%E6%A3%92%E6%9E%81%E4%BA%86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332D-DCA6-4F6B-BECA-41D22472D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E464-DC67-4F1D-AA33-199C8B4A5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9379-9C97-406A-B27F-D52E7FDC4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2D23-B41E-4DFF-AE2A-B07F10BB3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BCF57-5588-4AAA-9ECA-E97DA65CD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648E7-0E5E-4C4F-B5D7-7DB9CED79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E7097-0D34-48D3-895C-EF5933046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45093-9158-44D0-84BD-A4AD6D21B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F11B1-175E-4F12-BDBE-57CB7090B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605B9-2BE5-4EA8-AF29-60FD7A999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2A732-09AA-4A44-B199-54A5894C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1446-66E5-4588-8AE4-81AE25D1E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9A3DF-1744-4B5A-B4B6-342A4510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B2A47-9C6A-412D-B620-0D93AF16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60AAC-F1F7-41E5-AE0C-0DFC9BA7A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F21C4-C2B4-4870-86EB-336505D96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0CDD9-83B2-45BF-B406-ADD42C0C5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5D92-D07B-40B0-82C1-354B834DC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A90C-469C-4EFD-94BF-110CDF785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45CE-404C-4211-8EC8-A1BF5B95F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1551-5DA2-4F10-831D-E60449EE1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F100-3328-40D9-939D-0472CDBA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4A41-CEDE-4A24-8596-4A925A87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2D29-F91A-4559-9F1A-7EC04821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C95EE-C8C9-415C-B8D9-A574080CD1BD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612F5-589A-4585-B55C-3FB443B6CAB7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" Target="slide5.xml"/><Relationship Id="rId4" Type="http://schemas.openxmlformats.org/officeDocument/2006/relationships/image" Target="../media/image16.jpeg"/><Relationship Id="rId5" Type="http://schemas.openxmlformats.org/officeDocument/2006/relationships/audio" Target="../media/&#22909;&#26497;&#21862;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image" Target="../media/image16.jpeg"/><Relationship Id="rId4" Type="http://schemas.openxmlformats.org/officeDocument/2006/relationships/audio" Target="../media/&#20320;&#30495;&#26834;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image" Target="../media/image16.jpeg"/><Relationship Id="rId4" Type="http://schemas.openxmlformats.org/officeDocument/2006/relationships/audio" Target="../media/&#25484;&#22768;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image" Target="../media/image16.jpeg"/><Relationship Id="rId4" Type="http://schemas.openxmlformats.org/officeDocument/2006/relationships/audio" Target="../media/chimes.wav"/><Relationship Id="rId5" Type="http://schemas.openxmlformats.org/officeDocument/2006/relationships/audio" Target="../media/&#26834;&#26497;&#20102;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7.xml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" Target="slide18.xml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1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&#25353;&#38062;1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7.xml"/><Relationship Id="rId4" Type="http://schemas.openxmlformats.org/officeDocument/2006/relationships/image" Target="../media/image9.jpeg"/><Relationship Id="rId5" Type="http://schemas.openxmlformats.org/officeDocument/2006/relationships/slide" Target=""/><Relationship Id="rId6" Type="http://schemas.openxmlformats.org/officeDocument/2006/relationships/image" Target="../media/image10.png"/><Relationship Id="rId7" Type="http://schemas.openxmlformats.org/officeDocument/2006/relationships/audio" Target="../media/&#24863;&#21497;&#26102;&#22863;&#24187;&#24819;&#31354;&#38388;.WAV"/><Relationship Id="rId8" Type="http://schemas.openxmlformats.org/officeDocument/2006/relationships/audio" Target="../media/&#38899;&#25928;1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" Target="slide4.xml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audio" Target="../media/chimes.wav"/><Relationship Id="rId4" Type="http://schemas.openxmlformats.org/officeDocument/2006/relationships/audio" Target="../media/&#25353;&#38062;1.wav"/><Relationship Id="rId5" Type="http://schemas.openxmlformats.org/officeDocument/2006/relationships/audio" Target="../media/&#38899;&#25928;1.wav"/><Relationship Id="rId6" Type="http://schemas.openxmlformats.org/officeDocument/2006/relationships/audio" Target="../media/&#38899;&#25928;1.wav"/><Relationship Id="rId7" Type="http://schemas.openxmlformats.org/officeDocument/2006/relationships/audio" Target="../media/&#25171;&#24320;&#26102;&#22863;&#20048;.wav"/><Relationship Id="rId8" Type="http://schemas.openxmlformats.org/officeDocument/2006/relationships/audio" Target="../media/&#25353;&#38062;1.wav"/><Relationship Id="rId9" Type="http://schemas.openxmlformats.org/officeDocument/2006/relationships/audio" Target="../media/&#38899;&#25928;1.wav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" Target="slide5.xml"/><Relationship Id="rId4" Type="http://schemas.openxmlformats.org/officeDocument/2006/relationships/image" Target="../media/image16.jpeg"/><Relationship Id="rId5" Type="http://schemas.openxmlformats.org/officeDocument/2006/relationships/audio" Target="../media/&#20320;&#30495;&#32874;&#26126;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987640" y="907920"/>
            <a:ext cx="53276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孔子拜师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851280" y="2276640"/>
            <a:ext cx="4680000" cy="4176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95280" y="501336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隶书"/>
                <a:ea typeface="隶书"/>
              </a:rPr>
              <a:t>教材：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人教版语文 第五册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566748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隶书"/>
                <a:ea typeface="隶书"/>
              </a:rPr>
              <a:t>执教：</a:t>
            </a:r>
            <a:r>
              <a:rPr b="1" lang="zh-CN" sz="3600" spc="-1" strike="noStrike">
                <a:solidFill>
                  <a:srgbClr val="0033cc"/>
                </a:solidFill>
                <a:latin typeface="隶书"/>
                <a:ea typeface="隶书"/>
              </a:rPr>
              <a:t>嗣同路小学 杨容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隶书"/>
                <a:ea typeface="隶书"/>
              </a:rPr>
              <a:t> </a:t>
            </a:r>
            <a:r>
              <a:rPr b="1" lang="zh-CN" sz="3600" spc="-1" strike="noStrike">
                <a:solidFill>
                  <a:srgbClr val="000066"/>
                </a:solidFill>
                <a:latin typeface="隶书"/>
                <a:ea typeface="隶书"/>
              </a:rPr>
              <a:t>制作：</a:t>
            </a:r>
            <a:r>
              <a:rPr b="1" lang="zh-CN" sz="3600" spc="-1" strike="noStrike">
                <a:solidFill>
                  <a:srgbClr val="0033cc"/>
                </a:solidFill>
                <a:latin typeface="隶书"/>
                <a:ea typeface="隶书"/>
              </a:rPr>
              <a:t>嗣同路小学 谢熙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280" y="5157720"/>
            <a:ext cx="324000" cy="287280"/>
          </a:xfrm>
          <a:prstGeom prst="star5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5867280"/>
            <a:ext cx="287280" cy="289080"/>
          </a:xfrm>
          <a:prstGeom prst="star5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47640" y="907920"/>
            <a:ext cx="158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"/>
              </a:rPr>
              <a:t>17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6416640"/>
            <a:ext cx="287280" cy="289080"/>
          </a:xfrm>
          <a:prstGeom prst="star5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940360" y="4038480"/>
            <a:ext cx="2592360" cy="28195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888280" y="2133720"/>
            <a:ext cx="310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33cc"/>
                </a:solidFill>
                <a:latin typeface="Arial"/>
                <a:ea typeface="华文中宋"/>
              </a:rPr>
              <a:t>日夜兼程</a:t>
            </a:r>
            <a:endParaRPr b="0" lang="en-US" sz="9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572000" y="4076640"/>
            <a:ext cx="1079640" cy="10270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84360" y="69228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Arial"/>
                <a:ea typeface="方正粗倩简体"/>
              </a:rPr>
              <a:t>朗读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4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4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E5%A5%BD%E6%9E%81%E5%95%A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796000" y="4038480"/>
            <a:ext cx="281952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888280" y="2133720"/>
            <a:ext cx="310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33cc"/>
                </a:solidFill>
                <a:latin typeface="Arial"/>
                <a:ea typeface="华文中宋"/>
              </a:rPr>
              <a:t>风尘仆仆</a:t>
            </a:r>
            <a:endParaRPr b="0" lang="en-US" sz="9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4572000" y="4076640"/>
            <a:ext cx="1079640" cy="10270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84360" y="69228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Arial"/>
                <a:ea typeface="方正粗倩简体"/>
              </a:rPr>
              <a:t>朗读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E4%BD%A0%E7%9C%9F%E6%A3%9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796000" y="4038480"/>
            <a:ext cx="2819520" cy="28195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888280" y="2133720"/>
            <a:ext cx="310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33cc"/>
                </a:solidFill>
                <a:latin typeface="Arial"/>
                <a:ea typeface="华文中宋"/>
              </a:rPr>
              <a:t>学问渊博</a:t>
            </a:r>
            <a:endParaRPr b="0" lang="en-US" sz="9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4572000" y="4076640"/>
            <a:ext cx="1079640" cy="10270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84360" y="69228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Arial"/>
                <a:ea typeface="方正粗倩简体"/>
              </a:rPr>
              <a:t>朗读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E6%8E%8C%E5%A3%B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796000" y="4038480"/>
            <a:ext cx="2819520" cy="28195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888280" y="2133720"/>
            <a:ext cx="310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33cc"/>
                </a:solidFill>
                <a:latin typeface="Arial"/>
                <a:ea typeface="华文中宋"/>
              </a:rPr>
              <a:t>毫无保留</a:t>
            </a:r>
            <a:endParaRPr b="0" lang="en-US" sz="9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4572000" y="4076640"/>
            <a:ext cx="1079640" cy="10270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4360" y="69228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Arial"/>
                <a:ea typeface="方正粗倩简体"/>
              </a:rPr>
              <a:t>朗读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E6%A3%92%E6%9E%81%E4%BA%8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484360" y="476280"/>
            <a:ext cx="4537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孔子拜师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547640" y="1484280"/>
            <a:ext cx="633744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051560" y="620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33"/>
                </a:solidFill>
                <a:latin typeface="Arial"/>
                <a:ea typeface="方正粗倩简体"/>
              </a:rPr>
              <a:t>研读感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9" name="" descr="">
            <a:hlinkClick r:id="rId2" action="ppaction://hlinksldjump"/>
          </p:cNvPr>
          <p:cNvPicPr/>
          <p:nvPr/>
        </p:nvPicPr>
        <p:blipFill>
          <a:blip r:embed="rId3"/>
          <a:srcRect l="9721" t="8627" r="81873" b="26867"/>
          <a:stretch/>
        </p:blipFill>
        <p:spPr>
          <a:xfrm>
            <a:off x="0" y="4267080"/>
            <a:ext cx="1332000" cy="25909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7524720" y="4221000"/>
            <a:ext cx="1295280" cy="2302200"/>
          </a:xfrm>
          <a:prstGeom prst="rect">
            <a:avLst/>
          </a:prstGeom>
          <a:ln w="0">
            <a:noFill/>
          </a:ln>
        </p:spPr>
      </p:pic>
      <p:sp>
        <p:nvSpPr>
          <p:cNvPr id="151" name="">
            <a:hlinkClick r:id="rId5" action="ppaction://hlinksldjump"/>
          </p:cNvPr>
          <p:cNvSpPr/>
          <p:nvPr/>
        </p:nvSpPr>
        <p:spPr>
          <a:xfrm>
            <a:off x="1258920" y="6093000"/>
            <a:ext cx="100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方正粗倩简体"/>
                <a:ea typeface="方正粗倩简体"/>
              </a:rPr>
              <a:t>孔子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00720" y="609300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方正粗倩简体"/>
                <a:ea typeface="方正粗倩简体"/>
              </a:rPr>
              <a:t>老子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187280" y="1413000"/>
            <a:ext cx="7956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有感情地朗读课文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孔子和老子给我们留下了很深的印象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请你用 “ </a:t>
            </a:r>
            <a:r>
              <a:rPr b="1" lang="zh-CN" sz="3200" spc="-1" strike="noStrike">
                <a:solidFill>
                  <a:srgbClr val="9900ff"/>
                </a:solidFill>
                <a:latin typeface="Arial"/>
              </a:rPr>
              <a:t>——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” 标出文中让你感动的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句子，并在文中写一写你的感受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读一读你画的语句，把自己的感受说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给同座听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班级交流读书感受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>
            <a:hlinkClick r:id="rId2" action="ppaction://hlinksldjump"/>
          </p:cNvPr>
          <p:cNvSpPr/>
          <p:nvPr/>
        </p:nvSpPr>
        <p:spPr>
          <a:xfrm>
            <a:off x="324000" y="3141720"/>
            <a:ext cx="882000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方正粗倩简体"/>
                <a:ea typeface="方正粗倩简体"/>
              </a:rPr>
              <a:t>孔子和老子学问渊博，品行高尚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1280" y="1125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方正粗倩简体"/>
              </a:rPr>
              <a:t>综合谈谈对孔子和老子的印象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051560" y="620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33"/>
                </a:solidFill>
                <a:latin typeface="Arial"/>
                <a:ea typeface="方正粗倩简体"/>
              </a:rPr>
              <a:t>研读感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rcRect l="9721" t="8627" r="81873" b="26867"/>
          <a:stretch/>
        </p:blipFill>
        <p:spPr>
          <a:xfrm>
            <a:off x="0" y="4267080"/>
            <a:ext cx="1332000" cy="25909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7524720" y="4221000"/>
            <a:ext cx="1295280" cy="23022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258920" y="6093000"/>
            <a:ext cx="100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方正粗倩简体"/>
                <a:ea typeface="方正粗倩简体"/>
              </a:rPr>
              <a:t>孔子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00720" y="609300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方正粗倩简体"/>
                <a:ea typeface="方正粗倩简体"/>
              </a:rPr>
              <a:t>老子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55640" y="1916280"/>
            <a:ext cx="79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曲阜和洛阳相距上千里，孔子风餐露宿，日夜兼程，几个月后，终于走到了洛阳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051560" y="620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33"/>
                </a:solidFill>
                <a:latin typeface="Arial"/>
                <a:ea typeface="方正粗倩简体"/>
              </a:rPr>
              <a:t>研读感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rcRect l="9721" t="8627" r="81873" b="26867"/>
          <a:stretch/>
        </p:blipFill>
        <p:spPr>
          <a:xfrm>
            <a:off x="0" y="4267080"/>
            <a:ext cx="1332000" cy="25909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7524720" y="4221000"/>
            <a:ext cx="1295280" cy="23022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258920" y="6093000"/>
            <a:ext cx="100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方正粗倩简体"/>
                <a:ea typeface="方正粗倩简体"/>
              </a:rPr>
              <a:t>孔子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300720" y="609300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方正粗倩简体"/>
                <a:ea typeface="方正粗倩简体"/>
              </a:rPr>
              <a:t>老子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092320" y="1700280"/>
            <a:ext cx="55130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孔子听了再次行礼，说：“多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谢老师等候。学习是没有止境的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您的学问渊博，跟您学习，一定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会大有长进的。”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051560" y="620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33"/>
                </a:solidFill>
                <a:latin typeface="Arial"/>
                <a:ea typeface="方正粗倩简体"/>
              </a:rPr>
              <a:t>研读感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rcRect l="9721" t="8627" r="81873" b="26867"/>
          <a:stretch/>
        </p:blipFill>
        <p:spPr>
          <a:xfrm>
            <a:off x="0" y="4267080"/>
            <a:ext cx="1332000" cy="25909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7524720" y="4221000"/>
            <a:ext cx="1295280" cy="2302200"/>
          </a:xfrm>
          <a:prstGeom prst="rect">
            <a:avLst/>
          </a:prstGeom>
          <a:ln w="0">
            <a:noFill/>
          </a:ln>
        </p:spPr>
      </p:pic>
      <p:sp>
        <p:nvSpPr>
          <p:cNvPr id="171" name="">
            <a:hlinkClick r:id="rId4" action="ppaction://hlinksldjump"/>
          </p:cNvPr>
          <p:cNvSpPr/>
          <p:nvPr/>
        </p:nvSpPr>
        <p:spPr>
          <a:xfrm>
            <a:off x="1258920" y="6093000"/>
            <a:ext cx="100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方正粗倩简体"/>
                <a:ea typeface="方正粗倩简体"/>
              </a:rPr>
              <a:t>孔子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300720" y="609300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方正粗倩简体"/>
                <a:ea typeface="方正粗倩简体"/>
              </a:rPr>
              <a:t>老子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007360" y="2133720"/>
            <a:ext cx="535140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从此，孔子每天不离老师左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右，随时请教。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老子也把自己的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学问毫无保留地传授给他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-343080"/>
            <a:ext cx="9144000" cy="7201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369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0" y="-316080"/>
            <a:ext cx="9901080" cy="7506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0078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10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10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" dur="10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0"/>
                            </p:stCondLst>
                            <p:childTnLst>
                              <p:par>
                                <p:cTn id="23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10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051560" y="620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33"/>
                </a:solidFill>
                <a:latin typeface="Arial"/>
                <a:ea typeface="方正粗倩简体"/>
              </a:rPr>
              <a:t>研读感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rcRect l="9721" t="8627" r="81873" b="26867"/>
          <a:stretch/>
        </p:blipFill>
        <p:spPr>
          <a:xfrm>
            <a:off x="0" y="4267080"/>
            <a:ext cx="1332000" cy="25909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7524720" y="4221000"/>
            <a:ext cx="1295280" cy="23022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258920" y="6093000"/>
            <a:ext cx="100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方正粗倩简体"/>
                <a:ea typeface="方正粗倩简体"/>
              </a:rPr>
              <a:t>孔子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00720" y="609300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方正粗倩简体"/>
                <a:ea typeface="方正粗倩简体"/>
              </a:rPr>
              <a:t>老子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120400" y="2133720"/>
            <a:ext cx="5589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人们佩服孔子和老子的学问，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也敬重他们的品行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3030480" cy="58593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 txBox="1"/>
          <p:nvPr/>
        </p:nvSpPr>
        <p:spPr>
          <a:xfrm>
            <a:off x="4211640" y="1628640"/>
            <a:ext cx="3336840" cy="224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方正粗倩简体"/>
              </a:rPr>
              <a:t>再见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方正粗倩简体"/>
              <a:ea typeface="方正粗倩简体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7020000" y="573408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0" dur="34584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8064360" cy="60483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156360" y="3573360"/>
            <a:ext cx="142920" cy="1447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08720" y="3789360"/>
            <a:ext cx="142920" cy="14436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6%8C%89%E9%92%AE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940360" y="3789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曲阜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937960" y="4365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洛阳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835280" y="162000"/>
            <a:ext cx="6481800" cy="6362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 rot="20617200">
            <a:off x="3492000" y="4221000"/>
            <a:ext cx="2521080" cy="92160"/>
          </a:xfrm>
          <a:prstGeom prst="leftArrow">
            <a:avLst>
              <a:gd name="adj1" fmla="val 50000"/>
              <a:gd name="adj2" fmla="val 683887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724360" y="2924280"/>
            <a:ext cx="57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8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74920" y="3645000"/>
            <a:ext cx="57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80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6659640" y="3213000"/>
            <a:ext cx="2163600" cy="2808360"/>
            <a:chOff x="6659640" y="3213000"/>
            <a:chExt cx="2163600" cy="2808360"/>
          </a:xfrm>
        </p:grpSpPr>
        <p:pic>
          <p:nvPicPr>
            <p:cNvPr id="104" name="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6659640" y="3213000"/>
              <a:ext cx="2163600" cy="28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8317080" y="3213000"/>
              <a:ext cx="502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cc"/>
                  </a:solidFill>
                  <a:latin typeface="Arial"/>
                  <a:ea typeface="方正粗倩简体"/>
                </a:rPr>
                <a:t>孔子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179280" y="1413000"/>
            <a:ext cx="2448000" cy="5182920"/>
            <a:chOff x="179280" y="1413000"/>
            <a:chExt cx="2448000" cy="5182920"/>
          </a:xfrm>
        </p:grpSpPr>
        <p:pic>
          <p:nvPicPr>
            <p:cNvPr id="107" name="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179280" y="1413000"/>
              <a:ext cx="2448000" cy="51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250920" y="148428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方正粗倩简体"/>
                </a:rPr>
                <a:t>老子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8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8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E6%84%9F%E5%8F%B9%E6%97%B6%E5%A5%8F%E5%B9%BB%E6%83%B3%E7%A9%BA%E9%97%B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  <p:animClr clrSpc="rgb"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E9%9F%B3%E6%95%88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124000" y="1197000"/>
            <a:ext cx="6255000" cy="4978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 rot="5400000">
            <a:off x="-936360" y="2672640"/>
            <a:ext cx="4535640" cy="1152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华文行楷"/>
              </a:rPr>
              <a:t>孔子拜师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39640" y="476280"/>
            <a:ext cx="8604360" cy="67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33"/>
                </a:solidFill>
                <a:latin typeface="方正粗倩简体"/>
                <a:ea typeface="方正粗倩简体"/>
              </a:rPr>
              <a:t>自由朗读课文要求：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华文中宋"/>
                <a:ea typeface="华文中宋"/>
              </a:rPr>
              <a:t>   </a:t>
            </a:r>
            <a:r>
              <a:rPr b="1" lang="zh-CN" sz="3600" spc="-1" strike="noStrike">
                <a:solidFill>
                  <a:srgbClr val="0033cc"/>
                </a:solidFill>
                <a:latin typeface="华文中宋"/>
                <a:ea typeface="华文中宋"/>
              </a:rPr>
              <a:t>1</a:t>
            </a:r>
            <a:r>
              <a:rPr b="1" lang="zh-CN" sz="3600" spc="-1" strike="noStrike">
                <a:solidFill>
                  <a:srgbClr val="0033cc"/>
                </a:solidFill>
                <a:latin typeface="华文中宋"/>
                <a:ea typeface="华文中宋"/>
              </a:rPr>
              <a:t>、读准字音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华文中宋"/>
                <a:ea typeface="华文中宋"/>
              </a:rPr>
              <a:t>    </a:t>
            </a:r>
            <a:r>
              <a:rPr b="1" lang="zh-CN" sz="3600" spc="-1" strike="noStrike">
                <a:solidFill>
                  <a:srgbClr val="0033cc"/>
                </a:solidFill>
                <a:latin typeface="华文中宋"/>
                <a:ea typeface="华文中宋"/>
              </a:rPr>
              <a:t>2</a:t>
            </a:r>
            <a:r>
              <a:rPr b="1" lang="zh-CN" sz="3600" spc="-1" strike="noStrike">
                <a:solidFill>
                  <a:srgbClr val="0033cc"/>
                </a:solidFill>
                <a:latin typeface="华文中宋"/>
                <a:ea typeface="华文中宋"/>
              </a:rPr>
              <a:t>、读通句子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华文中宋"/>
                <a:ea typeface="华文中宋"/>
              </a:rPr>
              <a:t>    </a:t>
            </a:r>
            <a:r>
              <a:rPr b="1" lang="zh-CN" sz="3600" spc="-1" strike="noStrike">
                <a:solidFill>
                  <a:srgbClr val="0033cc"/>
                </a:solidFill>
                <a:latin typeface="华文中宋"/>
                <a:ea typeface="华文中宋"/>
              </a:rPr>
              <a:t>3</a:t>
            </a:r>
            <a:r>
              <a:rPr b="1" lang="zh-CN" sz="3600" spc="-1" strike="noStrike">
                <a:solidFill>
                  <a:srgbClr val="0033cc"/>
                </a:solidFill>
                <a:latin typeface="华文中宋"/>
                <a:ea typeface="华文中宋"/>
              </a:rPr>
              <a:t>、读懂课文，想一想课文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华文中宋"/>
                <a:ea typeface="华文中宋"/>
              </a:rPr>
              <a:t>         </a:t>
            </a:r>
            <a:r>
              <a:rPr b="1" lang="zh-CN" sz="3600" spc="-1" strike="noStrike">
                <a:solidFill>
                  <a:srgbClr val="0033cc"/>
                </a:solidFill>
                <a:latin typeface="华文中宋"/>
                <a:ea typeface="华文中宋"/>
              </a:rPr>
              <a:t>主要内容是什么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华文中宋"/>
                <a:ea typeface="华文中宋"/>
              </a:rPr>
              <a:t>    </a:t>
            </a:r>
            <a:r>
              <a:rPr b="1" lang="zh-CN" sz="3600" spc="-1" strike="noStrike">
                <a:solidFill>
                  <a:srgbClr val="0033cc"/>
                </a:solidFill>
                <a:latin typeface="华文中宋"/>
                <a:ea typeface="华文中宋"/>
              </a:rPr>
              <a:t>4</a:t>
            </a:r>
            <a:r>
              <a:rPr b="1" lang="zh-CN" sz="3600" spc="-1" strike="noStrike">
                <a:solidFill>
                  <a:srgbClr val="0033cc"/>
                </a:solidFill>
                <a:latin typeface="华文中宋"/>
                <a:ea typeface="华文中宋"/>
              </a:rPr>
              <a:t>、有不懂的地方用自己喜欢的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华文中宋"/>
                <a:ea typeface="华文中宋"/>
              </a:rPr>
              <a:t>         </a:t>
            </a:r>
            <a:r>
              <a:rPr b="1" lang="zh-CN" sz="3600" spc="-1" strike="noStrike">
                <a:solidFill>
                  <a:srgbClr val="0033cc"/>
                </a:solidFill>
                <a:latin typeface="华文中宋"/>
                <a:ea typeface="华文中宋"/>
              </a:rPr>
              <a:t>方式划出来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 rot="20604600">
            <a:off x="684000" y="2133360"/>
            <a:ext cx="3089160" cy="4248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 rot="21105600">
            <a:off x="1618920" y="836280"/>
            <a:ext cx="3311640" cy="41050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724360" y="1628640"/>
            <a:ext cx="2957760" cy="41054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6"/>
          <a:stretch/>
        </p:blipFill>
        <p:spPr>
          <a:xfrm>
            <a:off x="3564000" y="836640"/>
            <a:ext cx="32400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84360" y="69228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Arial"/>
                <a:ea typeface="方正粗倩简体"/>
              </a:rPr>
              <a:t>朗读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 flipH="1">
            <a:off x="250920" y="5084640"/>
            <a:ext cx="1861920" cy="1773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601360" y="364500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Arial"/>
                <a:ea typeface="华文中宋"/>
              </a:rPr>
              <a:t>学问渊博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601360" y="134136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Arial"/>
                <a:ea typeface="华文中宋"/>
              </a:rPr>
              <a:t>风餐露宿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201720" y="134136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Arial"/>
                <a:ea typeface="华文中宋"/>
              </a:rPr>
              <a:t>日夜兼程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601360" y="242100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Arial"/>
                <a:ea typeface="华文中宋"/>
              </a:rPr>
              <a:t>风尘仆仆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36480" y="4724280"/>
            <a:ext cx="207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Arial"/>
                <a:ea typeface="华文中宋"/>
              </a:rPr>
              <a:t>传      授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96000" y="2421000"/>
            <a:ext cx="27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Arial"/>
                <a:ea typeface="华文中宋"/>
              </a:rPr>
              <a:t>纳      闷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14600" y="4797360"/>
            <a:ext cx="225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Arial"/>
                <a:ea typeface="华文中宋"/>
              </a:rPr>
              <a:t>佩       服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274800" y="364500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Arial"/>
                <a:ea typeface="华文中宋"/>
              </a:rPr>
              <a:t>毫无保留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E6%8C%89%E9%92%AE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E9%9F%B3%E6%95%88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E9%9F%B3%E6%95%88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E6%89%93%E5%BC%80%E6%97%B6%E5%A5%8F%E4%B9%9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E6%8C%89%E9%92%AE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E9%9F%B3%E6%95%88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796000" y="4038480"/>
            <a:ext cx="2819520" cy="28195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888280" y="2133720"/>
            <a:ext cx="310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33cc"/>
                </a:solidFill>
                <a:latin typeface="Arial"/>
                <a:ea typeface="华文中宋"/>
              </a:rPr>
              <a:t>风餐露宿</a:t>
            </a:r>
            <a:endParaRPr b="0" lang="en-US" sz="9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572000" y="4076640"/>
            <a:ext cx="1079640" cy="10270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84360" y="69228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Arial"/>
                <a:ea typeface="方正粗倩简体"/>
              </a:rPr>
              <a:t>朗读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E4%BD%A0%E7%9C%9F%E8%81%AA%E6%98%8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02:58:08Z</dcterms:created>
  <dc:creator>xiexi</dc:creator>
  <dc:description/>
  <dc:language>en-US</dc:language>
  <cp:lastModifiedBy>lcx0127</cp:lastModifiedBy>
  <dcterms:modified xsi:type="dcterms:W3CDTF">2012-08-21T11:18:43Z</dcterms:modified>
  <cp:revision>44</cp:revision>
  <dc:subject/>
  <dc:title>幻灯片 1</dc:title>
</cp:coreProperties>
</file>