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6.gif" ContentType="image/gif"/>
  <Override PartName="/ppt/media/image25.gif" ContentType="image/gif"/>
  <Override PartName="/ppt/media/type.wav" ContentType="audio/x-wav"/>
  <Override PartName="/ppt/media/image19.jpeg" ContentType="image/jpeg"/>
  <Override PartName="/ppt/media/image32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18.gif" ContentType="image/gif"/>
  <Override PartName="/ppt/media/image15.gif" ContentType="image/gif"/>
  <Override PartName="/ppt/media/image34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29.gif" ContentType="image/gif"/>
  <Override PartName="/ppt/media/image28.gif" ContentType="image/gif"/>
  <Override PartName="/ppt/media/image7.jpeg" ContentType="image/jpeg"/>
  <Override PartName="/ppt/media/image5.gif" ContentType="image/gif"/>
  <Override PartName="/ppt/media/image10.gif" ContentType="image/gif"/>
  <Override PartName="/ppt/media/image33.jpeg" ContentType="image/jpeg"/>
  <Override PartName="/ppt/media/image36.png" ContentType="image/png"/>
  <Override PartName="/ppt/media/image8.gif" ContentType="image/gif"/>
  <Override PartName="/ppt/media/%E6%84%9F%E5%8F%B9%E6%97%B6%E5%A5%8F%E5%B9%BB%E6%83%B3%E7%A9%BA%E9%97%B4.WAV" ContentType="audio/x-wav"/>
  <Override PartName="/ppt/media/%E9%9F%B3%E6%95%881.wav" ContentType="audio/x-wav"/>
  <Override PartName="/ppt/media/image3.jpeg" ContentType="image/jpeg"/>
  <Override PartName="/ppt/media/image24.jpeg" ContentType="image/jpeg"/>
  <Override PartName="/ppt/media/image4.jpeg" ContentType="image/jpeg"/>
  <Override PartName="/ppt/media/image22.gif" ContentType="image/gif"/>
  <Override PartName="/ppt/media/image2.jpeg" ContentType="image/jpeg"/>
  <Override PartName="/ppt/media/image14.gif" ContentType="image/gif"/>
  <Override PartName="/ppt/media/image6.gif" ContentType="image/gif"/>
  <Override PartName="/ppt/media/chimes.wav" ContentType="audio/x-wav"/>
  <Override PartName="/ppt/media/image13.gif" ContentType="image/gif"/>
  <Override PartName="/ppt/media/image35.jpeg" ContentType="image/jpeg"/>
  <Override PartName="/ppt/media/image1.jpeg" ContentType="image/jpeg"/>
  <Override PartName="/ppt/media/image12.png" ContentType="image/png"/>
  <Override PartName="/ppt/media/image16.gif" ContentType="image/gif"/>
  <Override PartName="/ppt/media/image2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C12-9473-4D3D-8572-49C0227E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F89-8ADC-459B-961F-516B574F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452-CCDA-4E30-8D7F-0F9333F0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924-681A-4321-AAFD-0F61E0A2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C0B-4862-4167-80C7-1000B175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E7B-84C8-4536-85F7-8139E10F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A2B-473E-48B9-9576-45D3A573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3C0-8A86-47BA-B75A-53F33AB3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2B2-BB9A-43EF-9953-FB3D6165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A12-DBEA-41FC-AECA-7C81B70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08E-EC94-4D8D-B071-D6319F73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601-A2CA-4E79-95D9-C499AAA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467F-D7AF-4E66-A7C6-B399654F22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21.xml"/><Relationship Id="rId4" Type="http://schemas.openxmlformats.org/officeDocument/2006/relationships/image" Target="../media/image13.gif"/><Relationship Id="rId5" Type="http://schemas.openxmlformats.org/officeDocument/2006/relationships/slide" Target="slide20.xml"/><Relationship Id="rId6" Type="http://schemas.openxmlformats.org/officeDocument/2006/relationships/image" Target="../media/image14.gif"/><Relationship Id="rId7" Type="http://schemas.openxmlformats.org/officeDocument/2006/relationships/slide" Target="slide18.xml"/><Relationship Id="rId8" Type="http://schemas.openxmlformats.org/officeDocument/2006/relationships/image" Target="../media/image15.gif"/><Relationship Id="rId9" Type="http://schemas.openxmlformats.org/officeDocument/2006/relationships/slide" Target="slide17.xml"/><Relationship Id="rId10" Type="http://schemas.openxmlformats.org/officeDocument/2006/relationships/image" Target="../media/image16.gif"/><Relationship Id="rId11" Type="http://schemas.openxmlformats.org/officeDocument/2006/relationships/slide" Target="slide16.xml"/><Relationship Id="rId12" Type="http://schemas.openxmlformats.org/officeDocument/2006/relationships/image" Target="../media/image17.gif"/><Relationship Id="rId13" Type="http://schemas.openxmlformats.org/officeDocument/2006/relationships/slide" Target="slide15.xml"/><Relationship Id="rId14" Type="http://schemas.openxmlformats.org/officeDocument/2006/relationships/image" Target="../media/image18.gi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4.xml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4.xml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gif"/><Relationship Id="rId3" Type="http://schemas.openxmlformats.org/officeDocument/2006/relationships/image" Target="../media/image22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2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23.xml"/><Relationship Id="rId4" Type="http://schemas.openxmlformats.org/officeDocument/2006/relationships/image" Target="../media/image25.gif"/><Relationship Id="rId5" Type="http://schemas.openxmlformats.org/officeDocument/2006/relationships/slide" Target="slide24.xm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2.xml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8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audio" Target="../media/&#24863;&#21497;&#26102;&#22863;&#24187;&#24819;&#31354;&#38388;.WAV"/><Relationship Id="rId5" Type="http://schemas.openxmlformats.org/officeDocument/2006/relationships/audio" Target="../media/&#38899;&#25928;1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2720" y="-243000"/>
            <a:ext cx="54720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拜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4046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0464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从此，孔子每天不离老师左右，随时请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209680"/>
            <a:ext cx="841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老子也把自己的学问毫无保留地传授给了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65300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97760" y="4491000"/>
            <a:ext cx="519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们佩服孔子和老子的学问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也敬重他们的品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13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孔子三十岁的时候，已经（            ）了。他总觉得自己知识还不够渊博到千里以外的洛阳拜老子为师。一路上（             ），终于（              ）地到了洛阳。老子（             ）地把自己的知识（                ）给孔子。他们的（          ）令后人敬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26028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日夜兼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风尘仆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风餐露宿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佩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毫无保留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远近闻名   传授        品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04000" y="2133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远近闻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400536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风餐露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97440" y="400536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风尘仆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24360" y="458136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毫无保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89080" y="5229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传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5157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ccffcc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5040" y="1557360"/>
            <a:ext cx="8778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日夜兼程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风尘仆仆  </a:t>
            </a:r>
            <a:r>
              <a:rPr b="1" lang="zh-CN" sz="5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传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风餐露宿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毫无保留  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佩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远近闻名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无止境  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纳闷  </a:t>
            </a:r>
            <a:r>
              <a:rPr b="1" lang="zh-CN" sz="5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孔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相距  品行  迎候 等候  长进  请教  保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76360" y="0"/>
            <a:ext cx="309096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你读准了吗</a:t>
            </a: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?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2840" cy="1889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05520" y="5638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5638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5638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4572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3429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3429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5638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1000" y="5562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276720"/>
            <a:ext cx="9144000" cy="2361960"/>
          </a:xfrm>
          <a:prstGeom prst="wedgeEllipseCallout">
            <a:avLst>
              <a:gd name="adj1" fmla="val -40416"/>
              <a:gd name="adj2" fmla="val 64583"/>
            </a:avLst>
          </a:prstGeom>
          <a:solidFill>
            <a:srgbClr val="ffe1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082520"/>
            <a:ext cx="897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们佩服孔子和老子的学问，也敬重他们的品行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4976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人们敬重孔子和老子的什么品行？我们快到课文里找一找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1520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6320" y="5334120"/>
            <a:ext cx="76032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981080" y="1066680"/>
            <a:ext cx="4724640" cy="24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谈孔子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7480" y="4581360"/>
            <a:ext cx="3594240" cy="2200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67560" y="36194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867280" y="36194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91040" y="36194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076640" y="3657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200400" y="3657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209680" y="3657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6765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他总觉得自己的知识还不够渊博，三十岁的时候，他离开家乡曲阜，去洛阳拜大思想家老子为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53341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256212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25146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505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34356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9721" t="8627" r="81873" b="26867"/>
          <a:stretch/>
        </p:blipFill>
        <p:spPr>
          <a:xfrm>
            <a:off x="7812000" y="4267080"/>
            <a:ext cx="13320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144792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曲阜和洛阳相距上千里，孔子风餐露宿，日夜兼程，几个月后，终于走到了洛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41911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41911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rcRect l="9721" t="8627" r="81873" b="26867"/>
          <a:stretch/>
        </p:blipFill>
        <p:spPr>
          <a:xfrm>
            <a:off x="7812000" y="4267080"/>
            <a:ext cx="13320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990720"/>
            <a:ext cx="83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孔子想：这位老人大概就是我要拜访的老师吧！于是上前行礼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问道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“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老人家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您就是老聃先生吧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?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67344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6734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6734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6734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6281640"/>
            <a:ext cx="83808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9721" t="8627" r="81873" b="26867"/>
          <a:stretch/>
        </p:blipFill>
        <p:spPr>
          <a:xfrm>
            <a:off x="8028000" y="4267080"/>
            <a:ext cx="13320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17524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孔子连忙说：“学生孔丘，特地来拜见老师，请收下我这个学生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5812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5812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6281640"/>
            <a:ext cx="83808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2320" y="981000"/>
            <a:ext cx="5513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孔子听了再次行礼，说：“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老师等候。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学习是没有止境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您的学问渊博，跟您学习，一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会大有长进的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92360" y="3573360"/>
            <a:ext cx="5832360" cy="2665440"/>
            <a:chOff x="1692360" y="3573360"/>
            <a:chExt cx="5832360" cy="2665440"/>
          </a:xfrm>
        </p:grpSpPr>
        <p:sp>
          <p:nvSpPr>
            <p:cNvPr id="148" name=""/>
            <p:cNvSpPr/>
            <p:nvPr/>
          </p:nvSpPr>
          <p:spPr>
            <a:xfrm>
              <a:off x="1692360" y="3573360"/>
              <a:ext cx="5832360" cy="2665440"/>
            </a:xfrm>
            <a:prstGeom prst="cloudCallout">
              <a:avLst>
                <a:gd name="adj1" fmla="val 12250"/>
                <a:gd name="adj2" fmla="val -9866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68360" y="4005360"/>
              <a:ext cx="511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联系生活实际，我能体会到这句话的意思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6119280" y="2960640"/>
            <a:ext cx="4114800" cy="1019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孔子拜师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95008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禄丰城南小学    杞永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96240" y="2286000"/>
            <a:ext cx="94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学习是没有止境的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816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62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86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830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74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763640" y="4149720"/>
            <a:ext cx="4915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学无止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2362320"/>
            <a:ext cx="838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从此，孔子每天不离老师左右，随时请教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4197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3352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352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419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rcRect l="9721" t="8627" r="81873" b="26867"/>
          <a:stretch/>
        </p:blipFill>
        <p:spPr>
          <a:xfrm>
            <a:off x="7812000" y="4267080"/>
            <a:ext cx="13320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676520" y="1447920"/>
            <a:ext cx="488628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谈老子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39680" y="4581360"/>
            <a:ext cx="3594240" cy="2200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59720" y="1752480"/>
            <a:ext cx="493560" cy="533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4800" y="3429000"/>
            <a:ext cx="520560" cy="53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1419120"/>
            <a:ext cx="862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就是仲尼啊，听说你要来，我就在这儿迎候。研究学问你不比我差，为什么还要拜我为师呢？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0481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30481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886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443640" y="6281640"/>
            <a:ext cx="83808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7848720" y="4556160"/>
            <a:ext cx="1295280" cy="230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2209680"/>
            <a:ext cx="841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老子也把自己的学问毫无保留地传授给了他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114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114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32004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41148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32720" y="5950080"/>
            <a:ext cx="83808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848720" y="4556160"/>
            <a:ext cx="1295280" cy="230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9640" y="260280"/>
            <a:ext cx="2808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填一填，比一比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068640"/>
            <a:ext cx="8675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说你要来，我就在这儿（             ）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多谢老师（         ）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141300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等候        迎候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12880" y="378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迎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76880" y="4653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等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181296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温故而知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三人行，必有我师焉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学而时习之，不亦说乎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知之为知之，不知为不知，是知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04920" y="41752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04920" y="318456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04920" y="507060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304920" y="232740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019160" y="209520"/>
            <a:ext cx="34005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孔子名言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7864560" y="5581800"/>
            <a:ext cx="1279440" cy="1199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8305920" y="76320"/>
            <a:ext cx="744480" cy="149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772400" y="574524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94036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曲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37960" y="43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洛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35280" y="162000"/>
            <a:ext cx="6481800" cy="6362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20617200">
            <a:off x="3492000" y="4221000"/>
            <a:ext cx="2521080" cy="92160"/>
          </a:xfrm>
          <a:prstGeom prst="leftArrow">
            <a:avLst>
              <a:gd name="adj1" fmla="val 50000"/>
              <a:gd name="adj2" fmla="val 6838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292428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64500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659640" y="3213000"/>
            <a:ext cx="2163600" cy="2808360"/>
            <a:chOff x="6659640" y="3213000"/>
            <a:chExt cx="2163600" cy="2808360"/>
          </a:xfrm>
        </p:grpSpPr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6659640" y="3213000"/>
              <a:ext cx="21636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317080" y="3213000"/>
              <a:ext cx="50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方正粗倩简体"/>
                </a:rPr>
                <a:t>孔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9280" y="1413000"/>
            <a:ext cx="2448000" cy="5182920"/>
            <a:chOff x="179280" y="1413000"/>
            <a:chExt cx="2448000" cy="5182920"/>
          </a:xfrm>
        </p:grpSpPr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179280" y="1413000"/>
              <a:ext cx="2448000" cy="51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50920" y="14842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方正粗倩简体"/>
                </a:rPr>
                <a:t>老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8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9%9F%B3%E6%95%8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692280"/>
            <a:ext cx="97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烈日炎炎的夏天，孔子不行向洛阳走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844640"/>
            <a:ext cx="97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凉风习习的秋天，孔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068640"/>
            <a:ext cx="97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雨瓢泼而下，孔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08640"/>
            <a:ext cx="97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蒙蒙亮，孔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773680"/>
            <a:ext cx="97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夜晚，天很黑，孔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17080" y="5661000"/>
            <a:ext cx="431640" cy="720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20720"/>
              <a:gd name="textAreaBottom" fmla="*/ 693000 h 720720"/>
            </a:gdLst>
            <a:ahLst/>
            <a:rect l="textAreaLeft" t="textAreaTop" r="textAreaRight" b="textAreaBottom"/>
            <a:pathLst>
              <a:path w="21600" h="36054">
                <a:moveTo>
                  <a:pt x="0" y="0"/>
                </a:moveTo>
                <a:lnTo>
                  <a:pt x="21600" y="0"/>
                </a:lnTo>
                <a:lnTo>
                  <a:pt x="21600" y="36054"/>
                </a:lnTo>
                <a:lnTo>
                  <a:pt x="0" y="36054"/>
                </a:lnTo>
                <a:close/>
              </a:path>
              <a:path fill="lightenLess" w="21600" h="360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54">
                <a:moveTo>
                  <a:pt x="21600" y="0"/>
                </a:moveTo>
                <a:lnTo>
                  <a:pt x="21600" y="36054"/>
                </a:lnTo>
                <a:lnTo>
                  <a:pt x="20200" y="34654"/>
                </a:lnTo>
                <a:lnTo>
                  <a:pt x="20200" y="1400"/>
                </a:lnTo>
                <a:close/>
              </a:path>
              <a:path fill="darkenLess" w="21600" h="36054">
                <a:moveTo>
                  <a:pt x="21600" y="36054"/>
                </a:moveTo>
                <a:lnTo>
                  <a:pt x="0" y="36054"/>
                </a:lnTo>
                <a:lnTo>
                  <a:pt x="1400" y="34654"/>
                </a:lnTo>
                <a:lnTo>
                  <a:pt x="20200" y="34654"/>
                </a:lnTo>
                <a:close/>
              </a:path>
              <a:path fill="lighten" w="21600" h="36054">
                <a:moveTo>
                  <a:pt x="0" y="3605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54"/>
                </a:lnTo>
                <a:close/>
              </a:path>
              <a:path fill="darken" w="21600" h="36054">
                <a:moveTo>
                  <a:pt x="10800" y="2203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6054">
                <a:moveTo>
                  <a:pt x="11905" y="21508"/>
                </a:moveTo>
                <a:lnTo>
                  <a:pt x="11905" y="19550"/>
                </a:lnTo>
                <a:cubicBezTo>
                  <a:pt x="11905" y="18723"/>
                  <a:pt x="12236" y="18027"/>
                  <a:pt x="12837" y="18027"/>
                </a:cubicBezTo>
                <a:cubicBezTo>
                  <a:pt x="13968" y="18027"/>
                  <a:pt x="14865" y="16661"/>
                  <a:pt x="14865" y="15076"/>
                </a:cubicBezTo>
                <a:cubicBezTo>
                  <a:pt x="14865" y="12761"/>
                  <a:pt x="13011" y="11021"/>
                  <a:pt x="10800" y="11021"/>
                </a:cubicBezTo>
                <a:cubicBezTo>
                  <a:pt x="8589" y="11021"/>
                  <a:pt x="6918" y="12761"/>
                  <a:pt x="6918" y="15076"/>
                </a:cubicBezTo>
                <a:lnTo>
                  <a:pt x="8772" y="15076"/>
                </a:lnTo>
                <a:cubicBezTo>
                  <a:pt x="8772" y="13936"/>
                  <a:pt x="9695" y="13048"/>
                  <a:pt x="10800" y="13048"/>
                </a:cubicBezTo>
                <a:cubicBezTo>
                  <a:pt x="11905" y="13048"/>
                  <a:pt x="12837" y="13936"/>
                  <a:pt x="12837" y="15076"/>
                </a:cubicBezTo>
                <a:cubicBezTo>
                  <a:pt x="12837" y="15816"/>
                  <a:pt x="12367" y="16547"/>
                  <a:pt x="11905" y="16547"/>
                </a:cubicBezTo>
                <a:cubicBezTo>
                  <a:pt x="10800" y="16547"/>
                  <a:pt x="9695" y="18027"/>
                  <a:pt x="9695" y="19550"/>
                </a:cubicBezTo>
                <a:lnTo>
                  <a:pt x="9695" y="2150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772920" y="1828800"/>
            <a:ext cx="3106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孔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40000" y="189000"/>
            <a:ext cx="5711760" cy="659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9076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孔子，名丘，字仲尼，生活在两千多年前的春秋时代。他是我国伟大的思想家和教育家。据说他有三千弟子，其中七十二人名气很大。他的弟子把他的言行记录下来，编成《论语》，这本书对后世产生了深远的影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3040" y="0"/>
            <a:ext cx="4646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f0a05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你知道吗？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f0a05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494000" cy="88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3808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受到后人广泛的尊敬。人们修建孔庙纪念他。每到孔子的诞辰，孔子的故乡山东曲阜都要举办孔子文化节，进行隆重的祭孔活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的学说在世界上有很大的影响。有的国家和地区把孔子的生日作为教师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5659560"/>
            <a:ext cx="1371600" cy="1198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86040" cy="4751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501336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老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26028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子，姓李，名耳，他是中国古代伟大的哲学家、思想家、道学家派的创始人，被当代评为世界百位名人之一。老子是我国人民熟知的一位古代伟大思想家，他所撰述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道德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开创了 我国古代哲学思想的先河。他的哲学思想和由他创立的道家学派，不但对我 国古代思想文化的发展，作出了重要贡献，而且对我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年来思想文化 的发展，产生了深远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自由朗读课文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读准字音，读通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读懂课文，想一想课文的主要内容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有不懂的地方用自己喜欢的方式划出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-243000"/>
            <a:ext cx="278136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读读记记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916280"/>
            <a:ext cx="889308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  仆  纳  闷  授  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3573360"/>
            <a:ext cx="889308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丘  品  尘  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229360"/>
            <a:ext cx="889308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迎  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62064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000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曲阜和洛阳相距上千里，孔子风餐露宿，日夜兼程，几个月后，终于走到了洛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5002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老人见这位风尘仆仆的年轻人一眼就认出了自己，有些纳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x0127</cp:lastModifiedBy>
  <dcterms:modified xsi:type="dcterms:W3CDTF">2012-08-21T11:16:04Z</dcterms:modified>
  <cp:revision>78</cp:revision>
  <dc:subject/>
  <dc:title>PowerPoint Presentation</dc:title>
</cp:coreProperties>
</file>