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ED2-D868-40B4-8F4E-9BF65F55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33A-0872-42A6-9F67-6B9E1561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168-E4AB-4BE6-8807-98C72E67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727-1FAF-4EAE-A8CF-7B6840B3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257-F4EA-49A4-98AE-1AC3B3E6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C2F-7C35-4241-BB77-2688E555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D46-77D7-43A8-9260-B0A19CB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9FA-D3BD-40F4-AD7D-E060575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98A-C65B-47E0-8D60-DDF7EFA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D68-B59D-4293-9A9B-F24AA70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609-E3A9-4D63-A317-A13CDACA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298-2A29-4E82-9BBA-7BAD620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0638-3C65-4127-A079-30A529E99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5364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3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开满鲜花的小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6019920"/>
            <a:ext cx="495288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广州市庙头小学李丽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23920" y="5328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你猜一猜，这花是谁种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9436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3760" y="68544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去年，长颈鹿大叔给鼹鼠先生寄的是什么礼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文中找出相应的句子读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5680" y="2088720"/>
            <a:ext cx="5715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鼠太太给鼹鼠先生说：“我知道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年长颈鹿大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你的是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么美好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呀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1080"/>
            <a:ext cx="88390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用惊喜、赞美的语气读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6-1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然段，读出花路的美丽、多彩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5720"/>
            <a:ext cx="8991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天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鼹鼠先生要去松鼠太太家做客。啊，通往松鼠太太家的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了一条开满鲜花的小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鼹鼠先生路过刺猬太太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猬太太走出门。看到门前开着一大片绚丽多彩的鲜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惊奇地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是谁在我家门前种的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美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鼹鼠先生回答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不知道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鼹鼠先生经过狐狸太太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狐狸太太走出门。看到门前开着一大片五颜六色的鲜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奇怪地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是谁在我家门前种的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美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鼹鼠先生回答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不知道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鼹鼠先生来到松鼠太太门前。松鼠太太走出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看见门前的小路上花朵簇簇。小松鼠、小刺猬和小狐狸在那里快活地蹦啊跳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鼠太太对鼹鼠先生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知道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年长颈鹿大叔寄给你的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花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是多么美好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礼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676520"/>
            <a:ext cx="1523880" cy="457200"/>
          </a:xfrm>
          <a:prstGeom prst="rect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429000"/>
            <a:ext cx="1523880" cy="457200"/>
          </a:xfrm>
          <a:prstGeom prst="rect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5105520"/>
            <a:ext cx="1523880" cy="457200"/>
          </a:xfrm>
          <a:prstGeom prst="rect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674360"/>
            <a:ext cx="8686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邮递员　　　　原来　　摩托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邮局           包裹　　寄来　　一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颗粒　　　破了　　漏洞　　懊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刺猬　　绚丽多彩　　花籽　礼物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1523880" cy="146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0"/>
            <a:ext cx="3809880" cy="1371600"/>
          </a:xfrm>
          <a:prstGeom prst="cloudCallout">
            <a:avLst>
              <a:gd name="adj1" fmla="val 64250"/>
              <a:gd name="adj2" fmla="val 3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读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7040" y="304200"/>
            <a:ext cx="47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喜欢我们周围生活得环境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喜欢我们的学校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样让我们生活得环境变得更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样做我们的学校变得更美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3434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花不仅为人们带来美的享受，给人们带来了快乐和和谐。老师相信有了你们这群爱美的天使，我们的生活将变得更加美好。希望同学们也奉献自己的爱心，关心身边每一个人，让我们的生活变得更加美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-92880"/>
            <a:ext cx="8458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óu dì yuá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ǐ 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邮　递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礼　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ó tuō ch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óu j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摩　托　车　　邮　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āo gu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ì lá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ì du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ē   l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包  裹　　寄来　　一　堆　　颗　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ò   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òu dò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ào s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破　了　　漏　洞　　　懊　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ì we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uàn lì duō cǎ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uā z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刺 猬　    绚     丽 多  彩　　　   花　籽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41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360"/>
            <a:ext cx="8686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邮递员　　　　原来　　摩托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邮局           包裹　　寄来　　一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颗粒　　　破了　　漏洞　　懊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刺猬　　绚丽多彩　　花籽　礼物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4952880"/>
            <a:ext cx="183528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8320" y="4952880"/>
            <a:ext cx="2514600" cy="1219320"/>
          </a:xfrm>
          <a:prstGeom prst="wedgeEllipseCallout">
            <a:avLst>
              <a:gd name="adj1" fmla="val 57703"/>
              <a:gd name="adj2" fmla="val 5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考你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142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长颈鹿大叔给鼹鼠寄来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2600" y="380160"/>
            <a:ext cx="55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由读第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-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然段，试着自己解决下面的问题：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1720" y="1828080"/>
            <a:ext cx="32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包裹里面有什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90840" y="2818440"/>
            <a:ext cx="474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鼹鼠把包裹拿给松鼠太太看的路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发生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16680" y="4037760"/>
            <a:ext cx="48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从哪里知道的？鼹鼠的心情怎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59240" y="853920"/>
            <a:ext cx="1927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鼠太太拿过来一看，里面空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什么也没有。原来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包裹破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里面的东西不见了。看来都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来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路上了。鼹鼠先生很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懊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733920"/>
            <a:ext cx="236520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619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73880" y="15156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-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99800" y="685440"/>
            <a:ext cx="55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第二年春天，在鼹鼠家到松鼠太太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路上发生了什么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4840" y="1904400"/>
            <a:ext cx="134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通往松鼠太太家的路，成了一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开满鲜花的小路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75640" y="33519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条开满鲜花的小路是怎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哪些词语看出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9760" y="4555800"/>
            <a:ext cx="73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绚丽多彩、五颜六色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花香扑鼻、花朵簇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286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绚丽多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9160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五颜六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640" y="5562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花朵簇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39320" y="5486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花香扑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800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28800" y="22788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门前开着一大片绚丽多彩的鲜花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2960" y="1065960"/>
            <a:ext cx="849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仿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房子旁边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______________________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山坡上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________________________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0040" y="380520"/>
            <a:ext cx="49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刺猬太太和狐狸太太看到门前的小路上开满这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美的花，分别是怎么说的？鼹鼠又是怎么回答的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0000" y="1676520"/>
            <a:ext cx="54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刺猬太太惊奇地说：“这是谁在我家门前种的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美啊！“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狐狸太太奇怪地说：”这是谁在我家门前种的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美啊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"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鼹鼠先生回答道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不知道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8-03-01T01:00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