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7.png" ContentType="image/png"/>
  <Override PartName="/ppt/media/image33.jpeg" ContentType="image/jpeg"/>
  <Override PartName="/ppt/media/image26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38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36.jpeg" ContentType="image/jpeg"/>
  <Override PartName="/ppt/media/image20.png" ContentType="image/png"/>
  <Override PartName="/ppt/media/image11.png" ContentType="image/png"/>
  <Override PartName="/ppt/media/image23.png" ContentType="image/png"/>
  <Override PartName="/ppt/media/image13.jpeg" ContentType="image/jpeg"/>
  <Override PartName="/ppt/media/image9.png" ContentType="image/png"/>
  <Override PartName="/ppt/media/image39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12.png" ContentType="image/png"/>
  <Override PartName="/ppt/media/image5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39D4-40C6-4353-9A1A-D3B5362D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4F19-60E2-4C61-B837-2885D457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162C-1151-4520-83B2-AF15C289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EE2F-6418-4061-94B3-1761A1B9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E6EB-74A7-4554-9D4F-09A8DCC7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73CB-4F4E-4246-88AB-858BFE7E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B6CD-93CF-46DA-9B30-83BD03A7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614E-F168-4DC8-A57B-B33D6ACF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16C9-AA0D-4D6F-A948-547DA61A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5FA3-F1FD-4955-B2DE-9C308FDD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F2C0-894C-42BD-B803-88B26579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0757-AC0B-4FF6-B06C-6F451141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DB5A-7DDD-4D7F-9356-42DE88C69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image" Target="../media/image30.png"/><Relationship Id="rId1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"/>
          <p:cNvGrpSpPr/>
          <p:nvPr/>
        </p:nvGrpSpPr>
        <p:grpSpPr>
          <a:xfrm>
            <a:off x="1227240" y="1144440"/>
            <a:ext cx="6545160" cy="3573720"/>
            <a:chOff x="1227240" y="1144440"/>
            <a:chExt cx="6545160" cy="3573720"/>
          </a:xfrm>
        </p:grpSpPr>
        <p:pic>
          <p:nvPicPr>
            <p:cNvPr id="42" name="图片 10" descr="课件模板.png"/>
            <p:cNvPicPr/>
            <p:nvPr/>
          </p:nvPicPr>
          <p:blipFill>
            <a:blip r:embed="rId1"/>
            <a:stretch/>
          </p:blipFill>
          <p:spPr>
            <a:xfrm>
              <a:off x="1227240" y="1144440"/>
              <a:ext cx="6545160" cy="357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7"/>
            <p:cNvSpPr/>
            <p:nvPr/>
          </p:nvSpPr>
          <p:spPr>
            <a:xfrm>
              <a:off x="2308320" y="2655720"/>
              <a:ext cx="49640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3</a:t>
              </a:r>
              <a:r>
                <a:rPr b="1" lang="en-US" sz="4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.</a:t>
              </a:r>
              <a:r>
                <a:rPr b="1" lang="zh-CN" sz="4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开满鲜花的小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picm.photophoto.cn/015/041/003/0410030030.jpg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99"/>
          <p:cNvSpPr/>
          <p:nvPr/>
        </p:nvSpPr>
        <p:spPr>
          <a:xfrm>
            <a:off x="1081080" y="819000"/>
            <a:ext cx="6924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xuàn lì  duō  cǎ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绚   丽  多   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cì wei    huā z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刺  猬    花  籽  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lǐ w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礼 物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34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grpSp>
          <p:nvGrpSpPr>
            <p:cNvPr id="60" name="Group 10"/>
            <p:cNvGrpSpPr/>
            <p:nvPr/>
          </p:nvGrpSpPr>
          <p:grpSpPr>
            <a:xfrm>
              <a:off x="0" y="0"/>
              <a:ext cx="9143640" cy="6857640"/>
              <a:chOff x="0" y="0"/>
              <a:chExt cx="9143640" cy="6857640"/>
            </a:xfrm>
          </p:grpSpPr>
          <p:pic>
            <p:nvPicPr>
              <p:cNvPr id="61" name="Picture 4" descr="W020080709350647103256"/>
              <p:cNvPicPr/>
              <p:nvPr/>
            </p:nvPicPr>
            <p:blipFill>
              <a:blip r:embed="rId1"/>
              <a:srcRect l="7554" t="23649" r="8419" b="25866"/>
              <a:stretch/>
            </p:blipFill>
            <p:spPr>
              <a:xfrm>
                <a:off x="0" y="0"/>
                <a:ext cx="9143640" cy="685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Picture 5" descr="W020080709350647103256"/>
              <p:cNvPicPr/>
              <p:nvPr/>
            </p:nvPicPr>
            <p:blipFill>
              <a:blip r:embed="rId2"/>
              <a:srcRect l="72060" t="50690" r="8419" b="31564"/>
              <a:stretch/>
            </p:blipFill>
            <p:spPr>
              <a:xfrm>
                <a:off x="5483160" y="1605960"/>
                <a:ext cx="3566520" cy="172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Picture 6" descr="W020080709350647103256"/>
              <p:cNvPicPr/>
              <p:nvPr/>
            </p:nvPicPr>
            <p:blipFill>
              <a:blip r:embed="rId3"/>
              <a:srcRect l="72060" t="50690" r="8419" b="31564"/>
              <a:stretch/>
            </p:blipFill>
            <p:spPr>
              <a:xfrm>
                <a:off x="546840" y="3328920"/>
                <a:ext cx="1919160" cy="91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7" descr="W020080709350647103256"/>
              <p:cNvPicPr/>
              <p:nvPr/>
            </p:nvPicPr>
            <p:blipFill>
              <a:blip r:embed="rId4"/>
              <a:srcRect l="72060" t="50690" r="8419" b="31564"/>
              <a:stretch/>
            </p:blipFill>
            <p:spPr>
              <a:xfrm>
                <a:off x="3427200" y="1031760"/>
                <a:ext cx="2124720" cy="11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Picture 8" descr="W020080709350647103256"/>
              <p:cNvPicPr/>
              <p:nvPr/>
            </p:nvPicPr>
            <p:blipFill>
              <a:blip r:embed="rId5"/>
              <a:srcRect l="72060" t="50690" r="8419" b="31564"/>
              <a:stretch/>
            </p:blipFill>
            <p:spPr>
              <a:xfrm>
                <a:off x="2329920" y="4131000"/>
                <a:ext cx="3292200" cy="137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Picture 9" descr="W020080709350647103256"/>
              <p:cNvPicPr/>
              <p:nvPr/>
            </p:nvPicPr>
            <p:blipFill>
              <a:blip r:embed="rId6"/>
              <a:srcRect l="72060" t="50690" r="8419" b="31564"/>
              <a:stretch/>
            </p:blipFill>
            <p:spPr>
              <a:xfrm>
                <a:off x="0" y="2180520"/>
                <a:ext cx="1508040" cy="1031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" name="Rectangle 11"/>
            <p:cNvSpPr/>
            <p:nvPr/>
          </p:nvSpPr>
          <p:spPr>
            <a:xfrm>
              <a:off x="6516720" y="189000"/>
              <a:ext cx="57636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6156360" y="5300640"/>
              <a:ext cx="287280" cy="289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3"/>
            <p:cNvSpPr/>
            <p:nvPr/>
          </p:nvSpPr>
          <p:spPr>
            <a:xfrm>
              <a:off x="6227640" y="4149720"/>
              <a:ext cx="289080" cy="287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4"/>
            <p:cNvSpPr/>
            <p:nvPr/>
          </p:nvSpPr>
          <p:spPr>
            <a:xfrm>
              <a:off x="5076720" y="3357720"/>
              <a:ext cx="3589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5"/>
            <p:cNvSpPr/>
            <p:nvPr/>
          </p:nvSpPr>
          <p:spPr>
            <a:xfrm>
              <a:off x="3419640" y="2924280"/>
              <a:ext cx="504720" cy="288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1908000" y="2276640"/>
              <a:ext cx="287640" cy="360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7"/>
            <p:cNvSpPr/>
            <p:nvPr/>
          </p:nvSpPr>
          <p:spPr>
            <a:xfrm>
              <a:off x="1692360" y="1125360"/>
              <a:ext cx="431640" cy="287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8"/>
            <p:cNvSpPr/>
            <p:nvPr/>
          </p:nvSpPr>
          <p:spPr>
            <a:xfrm>
              <a:off x="2916360" y="333360"/>
              <a:ext cx="57600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4716360" y="189000"/>
              <a:ext cx="576360" cy="287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0"/>
            <p:cNvSpPr/>
            <p:nvPr/>
          </p:nvSpPr>
          <p:spPr>
            <a:xfrm>
              <a:off x="2987640" y="5950080"/>
              <a:ext cx="36036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1"/>
            <p:cNvSpPr/>
            <p:nvPr/>
          </p:nvSpPr>
          <p:spPr>
            <a:xfrm>
              <a:off x="4716360" y="6021360"/>
              <a:ext cx="43200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22"/>
            <p:cNvSpPr/>
            <p:nvPr/>
          </p:nvSpPr>
          <p:spPr>
            <a:xfrm>
              <a:off x="7524720" y="189000"/>
              <a:ext cx="360360" cy="21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3"/>
            <p:cNvSpPr/>
            <p:nvPr/>
          </p:nvSpPr>
          <p:spPr>
            <a:xfrm>
              <a:off x="5580000" y="5734080"/>
              <a:ext cx="360360" cy="216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24"/>
            <p:cNvSpPr/>
            <p:nvPr/>
          </p:nvSpPr>
          <p:spPr>
            <a:xfrm>
              <a:off x="6372360" y="4724280"/>
              <a:ext cx="360360" cy="289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25"/>
            <p:cNvSpPr/>
            <p:nvPr/>
          </p:nvSpPr>
          <p:spPr>
            <a:xfrm>
              <a:off x="5796000" y="3716280"/>
              <a:ext cx="360360" cy="289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26"/>
            <p:cNvSpPr/>
            <p:nvPr/>
          </p:nvSpPr>
          <p:spPr>
            <a:xfrm>
              <a:off x="4284720" y="3141720"/>
              <a:ext cx="360360" cy="216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27"/>
            <p:cNvSpPr/>
            <p:nvPr/>
          </p:nvSpPr>
          <p:spPr>
            <a:xfrm>
              <a:off x="2556000" y="2708280"/>
              <a:ext cx="431640" cy="216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8"/>
            <p:cNvSpPr/>
            <p:nvPr/>
          </p:nvSpPr>
          <p:spPr>
            <a:xfrm>
              <a:off x="1547640" y="1628640"/>
              <a:ext cx="360360" cy="43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29"/>
            <p:cNvSpPr/>
            <p:nvPr/>
          </p:nvSpPr>
          <p:spPr>
            <a:xfrm>
              <a:off x="3851280" y="260280"/>
              <a:ext cx="360360" cy="216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30"/>
            <p:cNvSpPr/>
            <p:nvPr/>
          </p:nvSpPr>
          <p:spPr>
            <a:xfrm>
              <a:off x="2195640" y="692280"/>
              <a:ext cx="360360" cy="21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31"/>
            <p:cNvSpPr/>
            <p:nvPr/>
          </p:nvSpPr>
          <p:spPr>
            <a:xfrm>
              <a:off x="5651640" y="189000"/>
              <a:ext cx="360360" cy="21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32"/>
            <p:cNvSpPr/>
            <p:nvPr/>
          </p:nvSpPr>
          <p:spPr>
            <a:xfrm>
              <a:off x="3924360" y="6093000"/>
              <a:ext cx="360360" cy="21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33"/>
            <p:cNvSpPr/>
            <p:nvPr/>
          </p:nvSpPr>
          <p:spPr>
            <a:xfrm>
              <a:off x="2124000" y="5661000"/>
              <a:ext cx="360360" cy="216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38"/>
          <p:cNvSpPr/>
          <p:nvPr/>
        </p:nvSpPr>
        <p:spPr>
          <a:xfrm>
            <a:off x="1979640" y="5084640"/>
            <a:ext cx="719280" cy="792360"/>
          </a:xfrm>
          <a:prstGeom prst="rect">
            <a:avLst/>
          </a:prstGeom>
          <a:solidFill>
            <a:srgbClr val="3399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4067280" y="5803920"/>
            <a:ext cx="718920" cy="792000"/>
          </a:xfrm>
          <a:prstGeom prst="rect">
            <a:avLst/>
          </a:prstGeom>
          <a:solidFill>
            <a:srgbClr val="3399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5940360" y="5229360"/>
            <a:ext cx="719280" cy="792000"/>
          </a:xfrm>
          <a:prstGeom prst="rect">
            <a:avLst/>
          </a:prstGeom>
          <a:solidFill>
            <a:srgbClr val="3399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3"/>
          <p:cNvSpPr/>
          <p:nvPr/>
        </p:nvSpPr>
        <p:spPr>
          <a:xfrm>
            <a:off x="6156360" y="4221000"/>
            <a:ext cx="719280" cy="792360"/>
          </a:xfrm>
          <a:prstGeom prst="rect">
            <a:avLst/>
          </a:prstGeom>
          <a:solidFill>
            <a:srgbClr val="3399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4"/>
          <p:cNvSpPr/>
          <p:nvPr/>
        </p:nvSpPr>
        <p:spPr>
          <a:xfrm>
            <a:off x="4284720" y="3070080"/>
            <a:ext cx="718920" cy="792360"/>
          </a:xfrm>
          <a:prstGeom prst="rect">
            <a:avLst/>
          </a:prstGeom>
          <a:solidFill>
            <a:srgbClr val="3399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5"/>
          <p:cNvSpPr/>
          <p:nvPr/>
        </p:nvSpPr>
        <p:spPr>
          <a:xfrm>
            <a:off x="3348000" y="2852640"/>
            <a:ext cx="719280" cy="792360"/>
          </a:xfrm>
          <a:prstGeom prst="rect">
            <a:avLst/>
          </a:prstGeom>
          <a:solidFill>
            <a:srgbClr val="3399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6"/>
          <p:cNvSpPr/>
          <p:nvPr/>
        </p:nvSpPr>
        <p:spPr>
          <a:xfrm>
            <a:off x="2413080" y="2565360"/>
            <a:ext cx="718920" cy="792360"/>
          </a:xfrm>
          <a:prstGeom prst="rect">
            <a:avLst/>
          </a:prstGeom>
          <a:solidFill>
            <a:srgbClr val="3399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7"/>
          <p:cNvSpPr/>
          <p:nvPr/>
        </p:nvSpPr>
        <p:spPr>
          <a:xfrm>
            <a:off x="1547640" y="2060640"/>
            <a:ext cx="719280" cy="792000"/>
          </a:xfrm>
          <a:prstGeom prst="rect">
            <a:avLst/>
          </a:prstGeom>
          <a:solidFill>
            <a:srgbClr val="3399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8"/>
          <p:cNvSpPr/>
          <p:nvPr/>
        </p:nvSpPr>
        <p:spPr>
          <a:xfrm>
            <a:off x="1476360" y="814320"/>
            <a:ext cx="719280" cy="792360"/>
          </a:xfrm>
          <a:prstGeom prst="rect">
            <a:avLst/>
          </a:prstGeom>
          <a:solidFill>
            <a:srgbClr val="3399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9"/>
          <p:cNvSpPr/>
          <p:nvPr/>
        </p:nvSpPr>
        <p:spPr>
          <a:xfrm>
            <a:off x="2629080" y="239760"/>
            <a:ext cx="718920" cy="792000"/>
          </a:xfrm>
          <a:prstGeom prst="rect">
            <a:avLst/>
          </a:prstGeom>
          <a:solidFill>
            <a:srgbClr val="3399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0"/>
          <p:cNvSpPr/>
          <p:nvPr/>
        </p:nvSpPr>
        <p:spPr>
          <a:xfrm>
            <a:off x="3708360" y="0"/>
            <a:ext cx="719280" cy="792000"/>
          </a:xfrm>
          <a:prstGeom prst="rect">
            <a:avLst/>
          </a:prstGeom>
          <a:solidFill>
            <a:srgbClr val="3399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1"/>
          <p:cNvSpPr/>
          <p:nvPr/>
        </p:nvSpPr>
        <p:spPr>
          <a:xfrm>
            <a:off x="5508720" y="0"/>
            <a:ext cx="718920" cy="792000"/>
          </a:xfrm>
          <a:prstGeom prst="rect">
            <a:avLst/>
          </a:prstGeom>
          <a:solidFill>
            <a:srgbClr val="3399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2"/>
          <p:cNvSpPr/>
          <p:nvPr/>
        </p:nvSpPr>
        <p:spPr>
          <a:xfrm>
            <a:off x="7380360" y="0"/>
            <a:ext cx="718920" cy="792000"/>
          </a:xfrm>
          <a:prstGeom prst="rect">
            <a:avLst/>
          </a:prstGeom>
          <a:solidFill>
            <a:srgbClr val="3399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7" descr="蜜蜂"/>
          <p:cNvPicPr/>
          <p:nvPr/>
        </p:nvPicPr>
        <p:blipFill>
          <a:blip r:embed="rId7"/>
          <a:stretch/>
        </p:blipFill>
        <p:spPr>
          <a:xfrm>
            <a:off x="0" y="0"/>
            <a:ext cx="1547640" cy="11858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8"/>
          <p:cNvSpPr/>
          <p:nvPr/>
        </p:nvSpPr>
        <p:spPr>
          <a:xfrm>
            <a:off x="2916360" y="5732640"/>
            <a:ext cx="718920" cy="792000"/>
          </a:xfrm>
          <a:prstGeom prst="rect">
            <a:avLst/>
          </a:prstGeom>
          <a:solidFill>
            <a:srgbClr val="3399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1"/>
          <p:cNvSpPr/>
          <p:nvPr/>
        </p:nvSpPr>
        <p:spPr>
          <a:xfrm>
            <a:off x="5148360" y="5589720"/>
            <a:ext cx="718920" cy="792000"/>
          </a:xfrm>
          <a:prstGeom prst="rect">
            <a:avLst/>
          </a:prstGeom>
          <a:solidFill>
            <a:srgbClr val="3399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1"/>
          <p:cNvSpPr/>
          <p:nvPr/>
        </p:nvSpPr>
        <p:spPr>
          <a:xfrm>
            <a:off x="5221440" y="3268800"/>
            <a:ext cx="718920" cy="792000"/>
          </a:xfrm>
          <a:prstGeom prst="rect">
            <a:avLst/>
          </a:prstGeom>
          <a:solidFill>
            <a:srgbClr val="3399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254160" y="754200"/>
            <a:ext cx="1793880" cy="17254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684360" y="0"/>
            <a:ext cx="28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我会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5199120" y="792000"/>
            <a:ext cx="1811160" cy="1741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3"/>
          <a:stretch/>
        </p:blipFill>
        <p:spPr>
          <a:xfrm>
            <a:off x="7002360" y="789120"/>
            <a:ext cx="1728720" cy="1663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4"/>
          <a:stretch/>
        </p:blipFill>
        <p:spPr>
          <a:xfrm>
            <a:off x="2141640" y="762120"/>
            <a:ext cx="1785960" cy="1717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5"/>
          <a:stretch/>
        </p:blipFill>
        <p:spPr>
          <a:xfrm>
            <a:off x="239760" y="2666880"/>
            <a:ext cx="1785960" cy="1717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6"/>
          <a:stretch/>
        </p:blipFill>
        <p:spPr>
          <a:xfrm>
            <a:off x="2025720" y="2666880"/>
            <a:ext cx="1800000" cy="1730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7"/>
          <a:stretch/>
        </p:blipFill>
        <p:spPr>
          <a:xfrm>
            <a:off x="5237280" y="2666880"/>
            <a:ext cx="1901880" cy="1828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8"/>
          <a:stretch/>
        </p:blipFill>
        <p:spPr>
          <a:xfrm>
            <a:off x="7002360" y="2666880"/>
            <a:ext cx="1785960" cy="1717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9"/>
          <a:stretch/>
        </p:blipFill>
        <p:spPr>
          <a:xfrm>
            <a:off x="239760" y="4583160"/>
            <a:ext cx="1730160" cy="1663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10"/>
          <a:stretch/>
        </p:blipFill>
        <p:spPr>
          <a:xfrm>
            <a:off x="2048040" y="4495680"/>
            <a:ext cx="1755720" cy="168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11"/>
          <a:stretch/>
        </p:blipFill>
        <p:spPr>
          <a:xfrm>
            <a:off x="5305320" y="4659480"/>
            <a:ext cx="1765440" cy="1697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12"/>
          <a:stretch/>
        </p:blipFill>
        <p:spPr>
          <a:xfrm>
            <a:off x="7010280" y="4657680"/>
            <a:ext cx="1765440" cy="1698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12920" y="1260000"/>
            <a:ext cx="199224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邮递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内容占位符 14"/>
          <p:cNvSpPr/>
          <p:nvPr/>
        </p:nvSpPr>
        <p:spPr>
          <a:xfrm>
            <a:off x="2446200" y="1301760"/>
            <a:ext cx="12859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包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内容占位符 14"/>
          <p:cNvSpPr/>
          <p:nvPr/>
        </p:nvSpPr>
        <p:spPr>
          <a:xfrm>
            <a:off x="5438880" y="1339920"/>
            <a:ext cx="12571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寄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内容占位符 14"/>
          <p:cNvSpPr/>
          <p:nvPr/>
        </p:nvSpPr>
        <p:spPr>
          <a:xfrm>
            <a:off x="7300800" y="1260360"/>
            <a:ext cx="13035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邮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内容占位符 14"/>
          <p:cNvSpPr/>
          <p:nvPr/>
        </p:nvSpPr>
        <p:spPr>
          <a:xfrm>
            <a:off x="507960" y="3247920"/>
            <a:ext cx="12859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懊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内容占位符 14"/>
          <p:cNvSpPr/>
          <p:nvPr/>
        </p:nvSpPr>
        <p:spPr>
          <a:xfrm>
            <a:off x="2392200" y="3247920"/>
            <a:ext cx="12859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颗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内容占位符 14"/>
          <p:cNvSpPr/>
          <p:nvPr/>
        </p:nvSpPr>
        <p:spPr>
          <a:xfrm>
            <a:off x="5545080" y="3247920"/>
            <a:ext cx="12859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破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内容占位符 14"/>
          <p:cNvSpPr/>
          <p:nvPr/>
        </p:nvSpPr>
        <p:spPr>
          <a:xfrm>
            <a:off x="7300800" y="3247920"/>
            <a:ext cx="12859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礼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内容占位符 14"/>
          <p:cNvSpPr/>
          <p:nvPr/>
        </p:nvSpPr>
        <p:spPr>
          <a:xfrm>
            <a:off x="412920" y="5133960"/>
            <a:ext cx="12855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内容占位符 14"/>
          <p:cNvSpPr/>
          <p:nvPr/>
        </p:nvSpPr>
        <p:spPr>
          <a:xfrm>
            <a:off x="2392200" y="5064120"/>
            <a:ext cx="12859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花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内容占位符 14"/>
          <p:cNvSpPr/>
          <p:nvPr/>
        </p:nvSpPr>
        <p:spPr>
          <a:xfrm>
            <a:off x="7300800" y="5295960"/>
            <a:ext cx="12859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漏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3"/>
          <a:stretch/>
        </p:blipFill>
        <p:spPr>
          <a:xfrm>
            <a:off x="3705120" y="1854360"/>
            <a:ext cx="1733760" cy="1666800"/>
          </a:xfrm>
          <a:prstGeom prst="rect">
            <a:avLst/>
          </a:prstGeom>
          <a:ln w="0">
            <a:noFill/>
          </a:ln>
        </p:spPr>
      </p:pic>
      <p:sp>
        <p:nvSpPr>
          <p:cNvPr id="132" name="内容占位符 14"/>
          <p:cNvSpPr/>
          <p:nvPr/>
        </p:nvSpPr>
        <p:spPr>
          <a:xfrm>
            <a:off x="3492360" y="2370240"/>
            <a:ext cx="23878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绚丽多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内容占位符 14"/>
          <p:cNvSpPr/>
          <p:nvPr/>
        </p:nvSpPr>
        <p:spPr>
          <a:xfrm>
            <a:off x="5545080" y="5230800"/>
            <a:ext cx="12859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刺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49080" y="499680"/>
            <a:ext cx="781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邮递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员黄狗在门口喊：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鼹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鼠先生，您的包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裹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单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标题 1"/>
          <p:cNvSpPr/>
          <p:nvPr/>
        </p:nvSpPr>
        <p:spPr>
          <a:xfrm>
            <a:off x="649440" y="1781280"/>
            <a:ext cx="781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、原来，长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颈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鹿大叔给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鼹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鼠先生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寄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来了一个包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649440" y="2997360"/>
            <a:ext cx="781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鼹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鼠先生紧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骑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着摩托车，到邮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局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去领包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标题 1"/>
          <p:cNvSpPr/>
          <p:nvPr/>
        </p:nvSpPr>
        <p:spPr>
          <a:xfrm>
            <a:off x="649440" y="3716280"/>
            <a:ext cx="781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、看来都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漏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在来时的路上啦！鼹鼠先生很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懊丧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标题 1"/>
          <p:cNvSpPr/>
          <p:nvPr/>
        </p:nvSpPr>
        <p:spPr>
          <a:xfrm>
            <a:off x="649440" y="5079960"/>
            <a:ext cx="781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、鼹鼠先生路过刺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猬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太太家，正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巧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刺猬太太走出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5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23640" y="765000"/>
            <a:ext cx="86770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9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课文中出现的动物有（　　    ）（　　   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 ）、（　　    ）、（ 　    ）和（ 　　   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3780000" y="3573360"/>
            <a:ext cx="1228680" cy="2386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755640" y="4508640"/>
            <a:ext cx="1941480" cy="1360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5940360" y="2781360"/>
            <a:ext cx="2303640" cy="1576440"/>
          </a:xfrm>
          <a:prstGeom prst="rect">
            <a:avLst/>
          </a:prstGeom>
          <a:ln w="0">
            <a:noFill/>
          </a:ln>
        </p:spPr>
      </p:pic>
      <p:sp>
        <p:nvSpPr>
          <p:cNvPr id="143" name="文本框 1"/>
          <p:cNvSpPr/>
          <p:nvPr/>
        </p:nvSpPr>
        <p:spPr>
          <a:xfrm>
            <a:off x="5743800" y="836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鼹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"/>
          <p:cNvSpPr/>
          <p:nvPr/>
        </p:nvSpPr>
        <p:spPr>
          <a:xfrm>
            <a:off x="1363680" y="1413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长颈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3"/>
          <p:cNvSpPr/>
          <p:nvPr/>
        </p:nvSpPr>
        <p:spPr>
          <a:xfrm>
            <a:off x="3944880" y="141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松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4"/>
          <p:cNvSpPr/>
          <p:nvPr/>
        </p:nvSpPr>
        <p:spPr>
          <a:xfrm>
            <a:off x="1423800" y="2060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狐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5"/>
          <p:cNvSpPr/>
          <p:nvPr/>
        </p:nvSpPr>
        <p:spPr>
          <a:xfrm>
            <a:off x="6250680" y="1476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刺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3" descr="C:\Users\apple\Desktop\slide0121_image049.JPG"/>
          <p:cNvPicPr/>
          <p:nvPr/>
        </p:nvPicPr>
        <p:blipFill>
          <a:blip r:embed="rId4"/>
          <a:stretch/>
        </p:blipFill>
        <p:spPr>
          <a:xfrm>
            <a:off x="755640" y="2706840"/>
            <a:ext cx="2089080" cy="1514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C:\Users\apple\Desktop\slide0121_image057.JPG"/>
          <p:cNvPicPr/>
          <p:nvPr/>
        </p:nvPicPr>
        <p:blipFill>
          <a:blip r:embed="rId5"/>
          <a:stretch/>
        </p:blipFill>
        <p:spPr>
          <a:xfrm>
            <a:off x="5940360" y="4437000"/>
            <a:ext cx="228600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" descr="12.png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261468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2" descr="121.png"/>
          <p:cNvPicPr/>
          <p:nvPr/>
        </p:nvPicPr>
        <p:blipFill>
          <a:blip r:embed="rId2"/>
          <a:srcRect l="10356" t="0" r="8814" b="0"/>
          <a:stretch/>
        </p:blipFill>
        <p:spPr>
          <a:xfrm>
            <a:off x="0" y="3105000"/>
            <a:ext cx="9144000" cy="353880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3" descr="12.png"/>
          <p:cNvPicPr/>
          <p:nvPr/>
        </p:nvPicPr>
        <p:blipFill>
          <a:blip r:embed="rId3"/>
          <a:stretch/>
        </p:blipFill>
        <p:spPr>
          <a:xfrm>
            <a:off x="0" y="-33480"/>
            <a:ext cx="9144000" cy="2738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内容占位符 3" descr="huanggou"/>
          <p:cNvPicPr/>
          <p:nvPr/>
        </p:nvPicPr>
        <p:blipFill>
          <a:blip r:embed="rId1"/>
          <a:stretch/>
        </p:blipFill>
        <p:spPr>
          <a:xfrm>
            <a:off x="2484360" y="981000"/>
            <a:ext cx="3346560" cy="3549600"/>
          </a:xfrm>
          <a:prstGeom prst="rect">
            <a:avLst/>
          </a:prstGeom>
          <a:ln w="0">
            <a:noFill/>
          </a:ln>
        </p:spPr>
      </p:pic>
      <p:sp>
        <p:nvSpPr>
          <p:cNvPr id="154" name="文本框 4"/>
          <p:cNvSpPr/>
          <p:nvPr/>
        </p:nvSpPr>
        <p:spPr>
          <a:xfrm>
            <a:off x="3341520" y="4743360"/>
            <a:ext cx="246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黄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5"/>
          <p:cNvSpPr/>
          <p:nvPr/>
        </p:nvSpPr>
        <p:spPr>
          <a:xfrm>
            <a:off x="3496320" y="4743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ShockwaveFlash1"/>
          <p:cNvGraphicFramePr/>
          <p:nvPr/>
        </p:nvGraphicFramePr>
        <p:xfrm>
          <a:off x="990720" y="954000"/>
          <a:ext cx="7348320" cy="495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54000"/>
                    <a:ext cx="734832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ShockwaveFlash1"/>
          <p:cNvGraphicFramePr/>
          <p:nvPr/>
        </p:nvGraphicFramePr>
        <p:xfrm>
          <a:off x="87480" y="-20520"/>
          <a:ext cx="424656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" y="-20520"/>
                    <a:ext cx="424656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ShockwaveFlash2"/>
          <p:cNvGraphicFramePr/>
          <p:nvPr/>
        </p:nvGraphicFramePr>
        <p:xfrm>
          <a:off x="4390920" y="-20520"/>
          <a:ext cx="4778640" cy="35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ShockwaveFlash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0920" y="-20520"/>
                    <a:ext cx="47786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ShockwaveFlash3"/>
          <p:cNvGraphicFramePr/>
          <p:nvPr/>
        </p:nvGraphicFramePr>
        <p:xfrm>
          <a:off x="1716120" y="3440160"/>
          <a:ext cx="5711760" cy="335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ShockwaveFlash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16120" y="3440160"/>
                    <a:ext cx="57117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ShockwaveFlash1"/>
          <p:cNvGraphicFramePr/>
          <p:nvPr/>
        </p:nvGraphicFramePr>
        <p:xfrm>
          <a:off x="41400" y="696960"/>
          <a:ext cx="4390920" cy="37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0" y="696960"/>
                    <a:ext cx="4390920" cy="37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ShockwaveFlash2"/>
          <p:cNvGraphicFramePr/>
          <p:nvPr/>
        </p:nvGraphicFramePr>
        <p:xfrm>
          <a:off x="4321080" y="855720"/>
          <a:ext cx="4791240" cy="358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ShockwaveFlash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21080" y="855720"/>
                    <a:ext cx="479124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/>
          <p:cNvSpPr/>
          <p:nvPr/>
        </p:nvSpPr>
        <p:spPr>
          <a:xfrm>
            <a:off x="2700360" y="2708280"/>
            <a:ext cx="3744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第一课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ShockwaveFlash1"/>
          <p:cNvGraphicFramePr/>
          <p:nvPr/>
        </p:nvGraphicFramePr>
        <p:xfrm>
          <a:off x="-6480" y="1274760"/>
          <a:ext cx="4633920" cy="35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1274760"/>
                    <a:ext cx="4633920" cy="35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ShockwaveFlash2"/>
          <p:cNvGraphicFramePr/>
          <p:nvPr/>
        </p:nvGraphicFramePr>
        <p:xfrm>
          <a:off x="4116240" y="1274760"/>
          <a:ext cx="5032440" cy="358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ShockwaveFlash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6240" y="1274760"/>
                    <a:ext cx="5032440" cy="35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1" descr="11.png"/>
          <p:cNvPicPr/>
          <p:nvPr/>
        </p:nvPicPr>
        <p:blipFill>
          <a:blip r:embed="rId1"/>
          <a:stretch/>
        </p:blipFill>
        <p:spPr>
          <a:xfrm>
            <a:off x="792000" y="1052640"/>
            <a:ext cx="752508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2700360" y="1844640"/>
            <a:ext cx="3744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第二课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鼹鼠先生要到松鼠太太家做客，你们想和它一起去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red0041"/>
          <p:cNvPicPr/>
          <p:nvPr/>
        </p:nvPicPr>
        <p:blipFill>
          <a:blip r:embed="rId1"/>
          <a:stretch/>
        </p:blipFill>
        <p:spPr>
          <a:xfrm>
            <a:off x="6012000" y="5516640"/>
            <a:ext cx="1438200" cy="1015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red0041"/>
          <p:cNvPicPr/>
          <p:nvPr/>
        </p:nvPicPr>
        <p:blipFill>
          <a:blip r:embed="rId2"/>
          <a:stretch/>
        </p:blipFill>
        <p:spPr>
          <a:xfrm>
            <a:off x="6588000" y="4941720"/>
            <a:ext cx="1438560" cy="1016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red0041"/>
          <p:cNvPicPr/>
          <p:nvPr/>
        </p:nvPicPr>
        <p:blipFill>
          <a:blip r:embed="rId3"/>
          <a:stretch/>
        </p:blipFill>
        <p:spPr>
          <a:xfrm>
            <a:off x="7310520" y="4348080"/>
            <a:ext cx="1438200" cy="101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red0041"/>
          <p:cNvPicPr/>
          <p:nvPr/>
        </p:nvPicPr>
        <p:blipFill>
          <a:blip r:embed="rId4"/>
          <a:stretch/>
        </p:blipFill>
        <p:spPr>
          <a:xfrm>
            <a:off x="7705800" y="3573360"/>
            <a:ext cx="1438200" cy="1016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red0041"/>
          <p:cNvPicPr/>
          <p:nvPr/>
        </p:nvPicPr>
        <p:blipFill>
          <a:blip r:embed="rId5"/>
          <a:stretch/>
        </p:blipFill>
        <p:spPr>
          <a:xfrm>
            <a:off x="7705800" y="2781360"/>
            <a:ext cx="1438200" cy="1015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red0041"/>
          <p:cNvPicPr/>
          <p:nvPr/>
        </p:nvPicPr>
        <p:blipFill>
          <a:blip r:embed="rId6"/>
          <a:stretch/>
        </p:blipFill>
        <p:spPr>
          <a:xfrm>
            <a:off x="7705800" y="1989000"/>
            <a:ext cx="1438200" cy="1016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red0041"/>
          <p:cNvPicPr/>
          <p:nvPr/>
        </p:nvPicPr>
        <p:blipFill>
          <a:blip r:embed="rId7"/>
          <a:stretch/>
        </p:blipFill>
        <p:spPr>
          <a:xfrm>
            <a:off x="7020000" y="1341360"/>
            <a:ext cx="1438200" cy="1015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red0041"/>
          <p:cNvPicPr/>
          <p:nvPr/>
        </p:nvPicPr>
        <p:blipFill>
          <a:blip r:embed="rId8"/>
          <a:stretch/>
        </p:blipFill>
        <p:spPr>
          <a:xfrm>
            <a:off x="7020000" y="549360"/>
            <a:ext cx="1438200" cy="10159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2"/>
          <p:cNvSpPr/>
          <p:nvPr/>
        </p:nvSpPr>
        <p:spPr>
          <a:xfrm>
            <a:off x="7020000" y="2867040"/>
            <a:ext cx="130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花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6657840" y="419400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礼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6012000" y="4365720"/>
            <a:ext cx="74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破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6915240" y="3595680"/>
            <a:ext cx="140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一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6759720" y="223848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刺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5003640" y="635040"/>
            <a:ext cx="239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绚丽多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6012000" y="1495440"/>
            <a:ext cx="129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漏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9" descr="red0041"/>
          <p:cNvPicPr/>
          <p:nvPr/>
        </p:nvPicPr>
        <p:blipFill>
          <a:blip r:embed="rId9"/>
          <a:stretch/>
        </p:blipFill>
        <p:spPr>
          <a:xfrm>
            <a:off x="2340000" y="5516640"/>
            <a:ext cx="1438200" cy="1015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0" descr="red0041"/>
          <p:cNvPicPr/>
          <p:nvPr/>
        </p:nvPicPr>
        <p:blipFill>
          <a:blip r:embed="rId10"/>
          <a:stretch/>
        </p:blipFill>
        <p:spPr>
          <a:xfrm>
            <a:off x="5003640" y="5589720"/>
            <a:ext cx="1438560" cy="1015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1" descr="red0041"/>
          <p:cNvPicPr/>
          <p:nvPr/>
        </p:nvPicPr>
        <p:blipFill>
          <a:blip r:embed="rId11"/>
          <a:stretch/>
        </p:blipFill>
        <p:spPr>
          <a:xfrm>
            <a:off x="3348000" y="5516640"/>
            <a:ext cx="1438200" cy="1015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2" descr="red0041"/>
          <p:cNvPicPr/>
          <p:nvPr/>
        </p:nvPicPr>
        <p:blipFill>
          <a:blip r:embed="rId12"/>
          <a:stretch/>
        </p:blipFill>
        <p:spPr>
          <a:xfrm>
            <a:off x="4211640" y="5589720"/>
            <a:ext cx="1438200" cy="1015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3" descr="red0041"/>
          <p:cNvPicPr/>
          <p:nvPr/>
        </p:nvPicPr>
        <p:blipFill>
          <a:blip r:embed="rId13"/>
          <a:stretch/>
        </p:blipFill>
        <p:spPr>
          <a:xfrm>
            <a:off x="1258920" y="5516640"/>
            <a:ext cx="1581120" cy="10159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24"/>
          <p:cNvSpPr/>
          <p:nvPr/>
        </p:nvSpPr>
        <p:spPr>
          <a:xfrm>
            <a:off x="4427640" y="42577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懊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5"/>
          <p:cNvSpPr/>
          <p:nvPr/>
        </p:nvSpPr>
        <p:spPr>
          <a:xfrm>
            <a:off x="5292720" y="4267080"/>
            <a:ext cx="5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颗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6"/>
          <p:cNvSpPr/>
          <p:nvPr/>
        </p:nvSpPr>
        <p:spPr>
          <a:xfrm>
            <a:off x="3541680" y="4194000"/>
            <a:ext cx="76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邮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7"/>
          <p:cNvSpPr/>
          <p:nvPr/>
        </p:nvSpPr>
        <p:spPr>
          <a:xfrm rot="21240000">
            <a:off x="2479320" y="4302000"/>
            <a:ext cx="73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1069920" y="3112920"/>
            <a:ext cx="763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9" descr="red0041"/>
          <p:cNvPicPr/>
          <p:nvPr/>
        </p:nvPicPr>
        <p:blipFill>
          <a:blip r:embed="rId14"/>
          <a:stretch/>
        </p:blipFill>
        <p:spPr>
          <a:xfrm>
            <a:off x="395280" y="4869000"/>
            <a:ext cx="1438200" cy="1015920"/>
          </a:xfrm>
          <a:prstGeom prst="rect">
            <a:avLst/>
          </a:prstGeom>
          <a:ln w="0">
            <a:noFill/>
          </a:ln>
        </p:spPr>
      </p:pic>
      <p:sp>
        <p:nvSpPr>
          <p:cNvPr id="209" name="Freeform 30"/>
          <p:cNvSpPr/>
          <p:nvPr/>
        </p:nvSpPr>
        <p:spPr>
          <a:xfrm>
            <a:off x="971640" y="878040"/>
            <a:ext cx="7777080" cy="5575320"/>
          </a:xfrm>
          <a:custGeom>
            <a:avLst/>
            <a:gdLst>
              <a:gd name="textAreaLeft" fmla="*/ 0 w 7777080"/>
              <a:gd name="textAreaRight" fmla="*/ 7777440 w 7777080"/>
              <a:gd name="textAreaTop" fmla="*/ 0 h 5575320"/>
              <a:gd name="textAreaBottom" fmla="*/ 5575680 h 5575320"/>
            </a:gdLst>
            <a:ahLst/>
            <a:rect l="textAreaLeft" t="textAreaTop" r="textAreaRight" b="textAreaBottom"/>
            <a:pathLst>
              <a:path w="4516" h="3627">
                <a:moveTo>
                  <a:pt x="0" y="3253"/>
                </a:moveTo>
                <a:cubicBezTo>
                  <a:pt x="79" y="3306"/>
                  <a:pt x="45" y="3283"/>
                  <a:pt x="102" y="3321"/>
                </a:cubicBezTo>
                <a:cubicBezTo>
                  <a:pt x="122" y="3334"/>
                  <a:pt x="170" y="3343"/>
                  <a:pt x="170" y="3343"/>
                </a:cubicBezTo>
                <a:cubicBezTo>
                  <a:pt x="324" y="3447"/>
                  <a:pt x="566" y="3491"/>
                  <a:pt x="746" y="3513"/>
                </a:cubicBezTo>
                <a:cubicBezTo>
                  <a:pt x="887" y="3530"/>
                  <a:pt x="1033" y="3563"/>
                  <a:pt x="1175" y="3569"/>
                </a:cubicBezTo>
                <a:cubicBezTo>
                  <a:pt x="1431" y="3579"/>
                  <a:pt x="1687" y="3583"/>
                  <a:pt x="1943" y="3592"/>
                </a:cubicBezTo>
                <a:cubicBezTo>
                  <a:pt x="2485" y="3586"/>
                  <a:pt x="2977" y="3627"/>
                  <a:pt x="3490" y="3502"/>
                </a:cubicBezTo>
                <a:cubicBezTo>
                  <a:pt x="3577" y="3458"/>
                  <a:pt x="3657" y="3409"/>
                  <a:pt x="3750" y="3377"/>
                </a:cubicBezTo>
                <a:cubicBezTo>
                  <a:pt x="3789" y="3364"/>
                  <a:pt x="3818" y="3333"/>
                  <a:pt x="3852" y="3310"/>
                </a:cubicBezTo>
                <a:cubicBezTo>
                  <a:pt x="3863" y="3303"/>
                  <a:pt x="3874" y="3295"/>
                  <a:pt x="3885" y="3287"/>
                </a:cubicBezTo>
                <a:cubicBezTo>
                  <a:pt x="3896" y="3279"/>
                  <a:pt x="3919" y="3264"/>
                  <a:pt x="3919" y="3264"/>
                </a:cubicBezTo>
                <a:cubicBezTo>
                  <a:pt x="3967" y="3195"/>
                  <a:pt x="3913" y="3264"/>
                  <a:pt x="3976" y="3208"/>
                </a:cubicBezTo>
                <a:cubicBezTo>
                  <a:pt x="4000" y="3187"/>
                  <a:pt x="4044" y="3140"/>
                  <a:pt x="4044" y="3140"/>
                </a:cubicBezTo>
                <a:cubicBezTo>
                  <a:pt x="4069" y="3063"/>
                  <a:pt x="4034" y="3147"/>
                  <a:pt x="4089" y="3084"/>
                </a:cubicBezTo>
                <a:cubicBezTo>
                  <a:pt x="4107" y="3064"/>
                  <a:pt x="4134" y="3016"/>
                  <a:pt x="4134" y="3016"/>
                </a:cubicBezTo>
                <a:cubicBezTo>
                  <a:pt x="4161" y="2933"/>
                  <a:pt x="4122" y="3030"/>
                  <a:pt x="4179" y="2959"/>
                </a:cubicBezTo>
                <a:cubicBezTo>
                  <a:pt x="4186" y="2950"/>
                  <a:pt x="4185" y="2936"/>
                  <a:pt x="4190" y="2926"/>
                </a:cubicBezTo>
                <a:cubicBezTo>
                  <a:pt x="4196" y="2914"/>
                  <a:pt x="4205" y="2903"/>
                  <a:pt x="4213" y="2892"/>
                </a:cubicBezTo>
                <a:cubicBezTo>
                  <a:pt x="4246" y="2795"/>
                  <a:pt x="4257" y="2684"/>
                  <a:pt x="4315" y="2598"/>
                </a:cubicBezTo>
                <a:cubicBezTo>
                  <a:pt x="4345" y="2504"/>
                  <a:pt x="4324" y="2550"/>
                  <a:pt x="4382" y="2463"/>
                </a:cubicBezTo>
                <a:cubicBezTo>
                  <a:pt x="4396" y="2442"/>
                  <a:pt x="4402" y="2416"/>
                  <a:pt x="4416" y="2395"/>
                </a:cubicBezTo>
                <a:cubicBezTo>
                  <a:pt x="4420" y="2320"/>
                  <a:pt x="4422" y="2244"/>
                  <a:pt x="4428" y="2169"/>
                </a:cubicBezTo>
                <a:cubicBezTo>
                  <a:pt x="4433" y="2113"/>
                  <a:pt x="4461" y="2055"/>
                  <a:pt x="4473" y="1999"/>
                </a:cubicBezTo>
                <a:cubicBezTo>
                  <a:pt x="4478" y="1735"/>
                  <a:pt x="4450" y="1581"/>
                  <a:pt x="4507" y="1367"/>
                </a:cubicBezTo>
                <a:cubicBezTo>
                  <a:pt x="4501" y="1255"/>
                  <a:pt x="4516" y="1126"/>
                  <a:pt x="4450" y="1028"/>
                </a:cubicBezTo>
                <a:cubicBezTo>
                  <a:pt x="4433" y="960"/>
                  <a:pt x="4407" y="872"/>
                  <a:pt x="4337" y="847"/>
                </a:cubicBezTo>
                <a:cubicBezTo>
                  <a:pt x="4280" y="761"/>
                  <a:pt x="4254" y="663"/>
                  <a:pt x="4179" y="588"/>
                </a:cubicBezTo>
                <a:cubicBezTo>
                  <a:pt x="4155" y="515"/>
                  <a:pt x="4120" y="518"/>
                  <a:pt x="4077" y="463"/>
                </a:cubicBezTo>
                <a:cubicBezTo>
                  <a:pt x="3967" y="322"/>
                  <a:pt x="4108" y="472"/>
                  <a:pt x="3964" y="328"/>
                </a:cubicBezTo>
                <a:cubicBezTo>
                  <a:pt x="3899" y="263"/>
                  <a:pt x="3806" y="243"/>
                  <a:pt x="3727" y="204"/>
                </a:cubicBezTo>
                <a:cubicBezTo>
                  <a:pt x="3693" y="170"/>
                  <a:pt x="3671" y="151"/>
                  <a:pt x="3626" y="136"/>
                </a:cubicBezTo>
                <a:cubicBezTo>
                  <a:pt x="3583" y="107"/>
                  <a:pt x="3536" y="90"/>
                  <a:pt x="3490" y="68"/>
                </a:cubicBezTo>
                <a:cubicBezTo>
                  <a:pt x="3421" y="34"/>
                  <a:pt x="3354" y="0"/>
                  <a:pt x="32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31"/>
          <p:cNvSpPr/>
          <p:nvPr/>
        </p:nvSpPr>
        <p:spPr>
          <a:xfrm>
            <a:off x="5110200" y="358920"/>
            <a:ext cx="1577880" cy="501480"/>
          </a:xfrm>
          <a:custGeom>
            <a:avLst/>
            <a:gdLst>
              <a:gd name="textAreaLeft" fmla="*/ 0 w 1577880"/>
              <a:gd name="textAreaRight" fmla="*/ 1578240 w 1577880"/>
              <a:gd name="textAreaTop" fmla="*/ 0 h 501480"/>
              <a:gd name="textAreaBottom" fmla="*/ 501840 h 501480"/>
            </a:gdLst>
            <a:ahLst/>
            <a:rect l="textAreaLeft" t="textAreaTop" r="textAreaRight" b="textAreaBottom"/>
            <a:pathLst>
              <a:path w="994" h="316">
                <a:moveTo>
                  <a:pt x="994" y="316"/>
                </a:moveTo>
                <a:cubicBezTo>
                  <a:pt x="947" y="309"/>
                  <a:pt x="880" y="307"/>
                  <a:pt x="836" y="282"/>
                </a:cubicBezTo>
                <a:cubicBezTo>
                  <a:pt x="812" y="269"/>
                  <a:pt x="768" y="237"/>
                  <a:pt x="768" y="237"/>
                </a:cubicBezTo>
                <a:cubicBezTo>
                  <a:pt x="710" y="152"/>
                  <a:pt x="571" y="110"/>
                  <a:pt x="474" y="90"/>
                </a:cubicBezTo>
                <a:cubicBezTo>
                  <a:pt x="403" y="94"/>
                  <a:pt x="331" y="93"/>
                  <a:pt x="260" y="102"/>
                </a:cubicBezTo>
                <a:cubicBezTo>
                  <a:pt x="236" y="105"/>
                  <a:pt x="192" y="124"/>
                  <a:pt x="192" y="124"/>
                </a:cubicBezTo>
                <a:cubicBezTo>
                  <a:pt x="181" y="132"/>
                  <a:pt x="168" y="137"/>
                  <a:pt x="158" y="147"/>
                </a:cubicBezTo>
                <a:cubicBezTo>
                  <a:pt x="104" y="201"/>
                  <a:pt x="166" y="232"/>
                  <a:pt x="214" y="248"/>
                </a:cubicBezTo>
                <a:cubicBezTo>
                  <a:pt x="259" y="244"/>
                  <a:pt x="306" y="249"/>
                  <a:pt x="350" y="237"/>
                </a:cubicBezTo>
                <a:cubicBezTo>
                  <a:pt x="376" y="230"/>
                  <a:pt x="418" y="192"/>
                  <a:pt x="418" y="192"/>
                </a:cubicBezTo>
                <a:cubicBezTo>
                  <a:pt x="459" y="67"/>
                  <a:pt x="311" y="18"/>
                  <a:pt x="214" y="11"/>
                </a:cubicBezTo>
                <a:cubicBezTo>
                  <a:pt x="143" y="6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2" descr="猴子"/>
          <p:cNvPicPr/>
          <p:nvPr/>
        </p:nvPicPr>
        <p:blipFill>
          <a:blip r:embed="rId15"/>
          <a:srcRect l="43882" t="19418" r="7145" b="0"/>
          <a:stretch/>
        </p:blipFill>
        <p:spPr>
          <a:xfrm>
            <a:off x="395280" y="3500280"/>
            <a:ext cx="609480" cy="75744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33">
            <a:hlinkClick r:id="" action="ppaction://hlinkshowjump?jump=nextslide"/>
          </p:cNvPr>
          <p:cNvSpPr/>
          <p:nvPr/>
        </p:nvSpPr>
        <p:spPr>
          <a:xfrm>
            <a:off x="867564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8"/>
          <p:cNvSpPr/>
          <p:nvPr/>
        </p:nvSpPr>
        <p:spPr>
          <a:xfrm>
            <a:off x="1685880" y="4232160"/>
            <a:ext cx="72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610920" y="98100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  </a:t>
            </a: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小路上的这些鲜花是什么样子的？课文哪些自然段写了这些美丽的鲜花</a:t>
            </a:r>
            <a:r>
              <a:rPr b="1" lang="en-US" sz="3200" spc="-1" strike="noStrike">
                <a:solidFill>
                  <a:srgbClr val="cc00ff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用下划线画出相关的句子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907920"/>
            <a:ext cx="822960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看到门前开着一大片绚丽多彩的鲜花，她惊奇地说：“这是谁在我家门前种的花？多美啊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!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看到门前开着一大片五颜六色的鲜花，她奇怪地问：“这是谁在我家门前种的花？真美啊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!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松鼠太太走出门，花香扑鼻，她看见门前的小路上花朵簇簇。小松鼠、小刺猬和小狐狸在那里快活地蹦啊跳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611280" y="1125000"/>
            <a:ext cx="76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(1)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看到门前开着一大片绚丽多彩的鲜花，她惊奇地说：“这是谁在我家门前种的花？多美啊</a:t>
            </a: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19280" y="1780920"/>
            <a:ext cx="35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绚丽多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内容占位符 3" descr="xuanliduocai"/>
          <p:cNvPicPr/>
          <p:nvPr/>
        </p:nvPicPr>
        <p:blipFill>
          <a:blip r:embed="rId1"/>
          <a:stretch/>
        </p:blipFill>
        <p:spPr>
          <a:xfrm>
            <a:off x="-7920" y="-28440"/>
            <a:ext cx="4600440" cy="360972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4" descr="xuanliduocai de dangoa"/>
          <p:cNvPicPr/>
          <p:nvPr/>
        </p:nvPicPr>
        <p:blipFill>
          <a:blip r:embed="rId2"/>
          <a:stretch/>
        </p:blipFill>
        <p:spPr>
          <a:xfrm>
            <a:off x="4592520" y="-28440"/>
            <a:ext cx="4577040" cy="360972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5" descr="baoshi"/>
          <p:cNvPicPr/>
          <p:nvPr/>
        </p:nvPicPr>
        <p:blipFill>
          <a:blip r:embed="rId3"/>
          <a:stretch/>
        </p:blipFill>
        <p:spPr>
          <a:xfrm>
            <a:off x="-7920" y="3583080"/>
            <a:ext cx="4600440" cy="331308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6" descr="dengguang"/>
          <p:cNvPicPr/>
          <p:nvPr/>
        </p:nvPicPr>
        <p:blipFill>
          <a:blip r:embed="rId4"/>
          <a:stretch/>
        </p:blipFill>
        <p:spPr>
          <a:xfrm>
            <a:off x="4592520" y="3581280"/>
            <a:ext cx="4903920" cy="3252960"/>
          </a:xfrm>
          <a:prstGeom prst="rect">
            <a:avLst/>
          </a:prstGeom>
          <a:ln w="0">
            <a:noFill/>
          </a:ln>
        </p:spPr>
      </p:pic>
      <p:sp>
        <p:nvSpPr>
          <p:cNvPr id="223" name="标题 4"/>
          <p:cNvSpPr/>
          <p:nvPr/>
        </p:nvSpPr>
        <p:spPr>
          <a:xfrm>
            <a:off x="2820960" y="3041640"/>
            <a:ext cx="3502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绚丽多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1042920" y="4660920"/>
            <a:ext cx="7416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看到门前开着一大片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绚丽多彩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的鲜花，她惊奇地说：“这是谁在我家门前种的花？多美啊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C:\Users\apple\Desktop\slide0188_image106.JPG"/>
          <p:cNvPicPr/>
          <p:nvPr/>
        </p:nvPicPr>
        <p:blipFill>
          <a:blip r:embed="rId1"/>
          <a:stretch/>
        </p:blipFill>
        <p:spPr>
          <a:xfrm>
            <a:off x="1405080" y="620640"/>
            <a:ext cx="619128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2"/>
          <p:cNvPicPr/>
          <p:nvPr/>
        </p:nvPicPr>
        <p:blipFill>
          <a:blip r:embed="rId1"/>
          <a:stretch/>
        </p:blipFill>
        <p:spPr>
          <a:xfrm>
            <a:off x="611280" y="800280"/>
            <a:ext cx="792144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9640" y="907920"/>
            <a:ext cx="777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(2)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看到门前开着一大片五颜六色的鲜花，她奇怪地问：“这是谁在我家门前种的花？真美啊</a:t>
            </a: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87240" y="1564920"/>
            <a:ext cx="3344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五颜六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647640" y="646200"/>
            <a:ext cx="7885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　　看到门前开着一大片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五颜六色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的鲜花，她奇怪地问：“这是谁在我家门前种的花？真美啊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C:\Users\apple\Desktop\slide0190_image108.JPG"/>
          <p:cNvPicPr/>
          <p:nvPr/>
        </p:nvPicPr>
        <p:blipFill>
          <a:blip r:embed="rId1"/>
          <a:stretch/>
        </p:blipFill>
        <p:spPr>
          <a:xfrm>
            <a:off x="1042920" y="1916280"/>
            <a:ext cx="7058160" cy="4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88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再读一读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注意画线的部分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再看看课文插图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仿照例句说一说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9640" y="2432160"/>
            <a:ext cx="8229600" cy="33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门前开着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楷体"/>
                <a:ea typeface="楷体"/>
              </a:rPr>
              <a:t>一大片五颜六色</a:t>
            </a:r>
            <a:r>
              <a:rPr b="1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的鲜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房子旁边</a:t>
            </a:r>
            <a:r>
              <a:rPr b="1" lang="en-US" sz="4000" spc="-1" strike="noStrike">
                <a:solidFill>
                  <a:srgbClr val="333399"/>
                </a:solidFill>
                <a:latin typeface="楷体"/>
                <a:ea typeface="楷体"/>
              </a:rPr>
              <a:t>____________________</a:t>
            </a:r>
            <a:r>
              <a:rPr b="1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山坡上</a:t>
            </a:r>
            <a:r>
              <a:rPr b="1" lang="en-US" sz="4000" spc="-1" strike="noStrike">
                <a:solidFill>
                  <a:srgbClr val="333399"/>
                </a:solidFill>
                <a:latin typeface="楷体"/>
                <a:ea typeface="楷体"/>
              </a:rPr>
              <a:t>______________________</a:t>
            </a:r>
            <a:r>
              <a:rPr b="1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楷体"/>
                <a:ea typeface="楷体"/>
              </a:rPr>
              <a:t>  </a:t>
            </a:r>
            <a:r>
              <a:rPr b="1" lang="en-US" sz="4000" spc="-1" strike="noStrike">
                <a:solidFill>
                  <a:srgbClr val="333399"/>
                </a:solidFill>
                <a:latin typeface="楷体"/>
                <a:ea typeface="楷体"/>
              </a:rPr>
              <a:t>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菱形 3"/>
          <p:cNvSpPr/>
          <p:nvPr/>
        </p:nvSpPr>
        <p:spPr>
          <a:xfrm>
            <a:off x="647640" y="2529000"/>
            <a:ext cx="216000" cy="21564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菱形 4"/>
          <p:cNvSpPr/>
          <p:nvPr/>
        </p:nvSpPr>
        <p:spPr>
          <a:xfrm>
            <a:off x="647640" y="3363840"/>
            <a:ext cx="216000" cy="21600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菱形 5"/>
          <p:cNvSpPr/>
          <p:nvPr/>
        </p:nvSpPr>
        <p:spPr>
          <a:xfrm>
            <a:off x="647640" y="4094280"/>
            <a:ext cx="216000" cy="21744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菱形 6"/>
          <p:cNvSpPr/>
          <p:nvPr/>
        </p:nvSpPr>
        <p:spPr>
          <a:xfrm>
            <a:off x="647640" y="4900680"/>
            <a:ext cx="216000" cy="21744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99"/>
          <p:cNvSpPr/>
          <p:nvPr/>
        </p:nvSpPr>
        <p:spPr>
          <a:xfrm>
            <a:off x="3129120" y="2960640"/>
            <a:ext cx="555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栽种了许多绿绿的小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7"/>
          <p:cNvSpPr/>
          <p:nvPr/>
        </p:nvSpPr>
        <p:spPr>
          <a:xfrm>
            <a:off x="2651040" y="3763800"/>
            <a:ext cx="555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建造了一座小小的房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10920" y="764640"/>
            <a:ext cx="7848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（３）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松鼠太太走出门，花香扑鼻，她看见门前的小路上</a:t>
            </a:r>
            <a:r>
              <a:rPr b="1" lang="zh-CN" sz="6000" spc="-1" strike="noStrike">
                <a:solidFill>
                  <a:srgbClr val="c00000"/>
                </a:solidFill>
                <a:latin typeface="楷体"/>
                <a:ea typeface="楷体"/>
              </a:rPr>
              <a:t>花朵簇簇。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小松鼠、小刺猬和小狐狸在那里快活地蹦啊跳啊</a:t>
            </a: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795240" y="4924440"/>
            <a:ext cx="766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松鼠太太走出门，花香扑鼻，她看见门前的小路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花朵簇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小松鼠、小刺猬和小狐狸在那里蹦啊跳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C:\Users\apple\Desktop\slide0192_image111.JPG"/>
          <p:cNvPicPr/>
          <p:nvPr/>
        </p:nvPicPr>
        <p:blipFill>
          <a:blip r:embed="rId1"/>
          <a:stretch/>
        </p:blipFill>
        <p:spPr>
          <a:xfrm>
            <a:off x="1306440" y="620640"/>
            <a:ext cx="65055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看到门前开着一大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绚丽多彩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的鲜花，她惊奇地说：“这是谁在我家门前种的花？多美啊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!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看到门前开着一大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五颜六色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的鲜花，她奇怪地问：“这是谁在我家门前种的花？真美啊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!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松鼠太太走出门，花香扑鼻，她看见门前的小路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朵簇簇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。小松鼠、小刺猬和小狐狸在那里快活地蹦啊跳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6840" y="907560"/>
            <a:ext cx="800244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这么美的小路、这么美的鲜花，谁能美美地读一读</a:t>
            </a:r>
            <a:r>
              <a:rPr b="1" lang="en-US" sz="3200" spc="-1" strike="noStrike">
                <a:solidFill>
                  <a:srgbClr val="cc00ff"/>
                </a:solidFill>
                <a:latin typeface="黑体"/>
                <a:ea typeface="黑体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2843280" y="4221000"/>
            <a:ext cx="412416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297000" y="692280"/>
            <a:ext cx="8091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</a:t>
            </a: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请以四人小组为单位分角色朗读</a:t>
            </a:r>
            <a:r>
              <a:rPr b="1" lang="en-US" sz="3200" spc="-1" strike="noStrike">
                <a:solidFill>
                  <a:srgbClr val="cc00ff"/>
                </a:solidFill>
                <a:latin typeface="黑体"/>
                <a:ea typeface="黑体"/>
              </a:rPr>
              <a:t>7—12</a:t>
            </a: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自然段 ，注意选择好各个角色说话的内容，看谁读得更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2340000" y="3573360"/>
            <a:ext cx="42480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16000" y="836280"/>
            <a:ext cx="562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探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115640" y="2071440"/>
            <a:ext cx="699444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开满鲜花的小路是怎么来的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936360" y="1417320"/>
            <a:ext cx="72723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7030a0"/>
                </a:solidFill>
                <a:latin typeface="黑体"/>
                <a:ea typeface="黑体"/>
              </a:rPr>
              <a:t>(1)</a:t>
            </a:r>
            <a:r>
              <a:rPr b="1" lang="zh-CN" sz="4000" spc="-1" strike="noStrike">
                <a:solidFill>
                  <a:srgbClr val="7030a0"/>
                </a:solidFill>
                <a:latin typeface="黑体"/>
                <a:ea typeface="黑体"/>
              </a:rPr>
              <a:t>是谁给鼹鼠先生寄来了一个包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黑体"/>
                <a:ea typeface="黑体"/>
              </a:rPr>
              <a:t>  </a:t>
            </a:r>
            <a:r>
              <a:rPr b="1" lang="en-US" sz="4000" spc="-1" strike="noStrike">
                <a:solidFill>
                  <a:srgbClr val="7030a0"/>
                </a:solidFill>
                <a:latin typeface="黑体"/>
                <a:ea typeface="黑体"/>
              </a:rPr>
              <a:t>(2)</a:t>
            </a:r>
            <a:r>
              <a:rPr b="1" lang="zh-CN" sz="4000" spc="-1" strike="noStrike">
                <a:solidFill>
                  <a:srgbClr val="7030a0"/>
                </a:solidFill>
                <a:latin typeface="黑体"/>
                <a:ea typeface="黑体"/>
              </a:rPr>
              <a:t>这个包裹和开满鲜花的小路有什么关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黑体"/>
                <a:ea typeface="黑体"/>
              </a:rPr>
              <a:t>  </a:t>
            </a:r>
            <a:r>
              <a:rPr b="1" lang="en-US" sz="4000" spc="-1" strike="noStrike">
                <a:solidFill>
                  <a:srgbClr val="7030a0"/>
                </a:solidFill>
                <a:latin typeface="黑体"/>
                <a:ea typeface="黑体"/>
              </a:rPr>
              <a:t>(3)</a:t>
            </a:r>
            <a:r>
              <a:rPr b="1" lang="zh-CN" sz="4000" spc="-1" strike="noStrike">
                <a:solidFill>
                  <a:srgbClr val="7030a0"/>
                </a:solidFill>
                <a:latin typeface="黑体"/>
                <a:ea typeface="黑体"/>
              </a:rPr>
              <a:t>为什么说长颈鹿大叔寄来的花籽是多么美好的礼物啊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自学提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4"/>
          <p:cNvPicPr/>
          <p:nvPr/>
        </p:nvPicPr>
        <p:blipFill>
          <a:blip r:embed="rId1"/>
          <a:stretch/>
        </p:blipFill>
        <p:spPr>
          <a:xfrm>
            <a:off x="611280" y="1197000"/>
            <a:ext cx="79437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99640" y="1600200"/>
            <a:ext cx="74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从哪一个字就能准确看出鼹鼠先生是不小心撒在路上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187280" y="981000"/>
            <a:ext cx="67694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为什么说长颈鹿大叔寄来的花籽是多么美好的礼物啊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539280" y="875880"/>
            <a:ext cx="7931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是啊！花籽开出了绚丽多彩、五颜六色的花朵，这些花朵开在路边，供大家欣赏，多么美好！所以说长颈鹿大叔寄来的花籽是多么美好的礼物！同学们，有好的东西，我们要学会和大家一起分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484360" y="51084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拓展延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203480" y="1927080"/>
            <a:ext cx="597672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课文中“美好的礼物”是指的长颈鹿大叔寄给鼹鼠先生的花籽。那生活中你收到或送出什么特别美好的礼物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" descr="3"/>
          <p:cNvPicPr/>
          <p:nvPr/>
        </p:nvPicPr>
        <p:blipFill>
          <a:blip r:embed="rId1"/>
          <a:stretch/>
        </p:blipFill>
        <p:spPr>
          <a:xfrm>
            <a:off x="2268360" y="549360"/>
            <a:ext cx="38642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99"/>
          <p:cNvSpPr/>
          <p:nvPr/>
        </p:nvSpPr>
        <p:spPr>
          <a:xfrm>
            <a:off x="1046160" y="942840"/>
            <a:ext cx="737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学习要求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读准字音，读通句子，难读的地方多读几遍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图片4"/>
          <p:cNvPicPr/>
          <p:nvPr/>
        </p:nvPicPr>
        <p:blipFill>
          <a:blip r:embed="rId1"/>
          <a:stretch/>
        </p:blipFill>
        <p:spPr>
          <a:xfrm>
            <a:off x="755640" y="-2076480"/>
            <a:ext cx="1800360" cy="41529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3"/>
          <p:cNvSpPr/>
          <p:nvPr/>
        </p:nvSpPr>
        <p:spPr>
          <a:xfrm>
            <a:off x="3708360" y="404640"/>
            <a:ext cx="4032360" cy="1103400"/>
          </a:xfrm>
          <a:prstGeom prst="cloudCallout">
            <a:avLst>
              <a:gd name="adj1" fmla="val -92166"/>
              <a:gd name="adj2" fmla="val 57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读一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5219640" y="206064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3543480" y="364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101600" y="1917720"/>
            <a:ext cx="73580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yóu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dì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ɡuǒ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jì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jú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duī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邮  　递 　 裹  　寄 　 局 　 堆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lì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pò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lòu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ào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sànɡ   wè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粒 　 破　  漏  　懊 　 丧    猬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xuàn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zǐ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lǐ     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绚    籽 　 礼     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　 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　 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99"/>
          <p:cNvSpPr/>
          <p:nvPr/>
        </p:nvSpPr>
        <p:spPr>
          <a:xfrm>
            <a:off x="885960" y="828720"/>
            <a:ext cx="7070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yóu dì yuán   huánɡ ɡǒu   yuán l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邮  递 员      黄   狗     原  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mó tuō chē    yóu jú    bāo ɡu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摩  托  车     邮  局    包  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jì lái    yì duī   kē lì    pò 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寄 来     一 堆    颗 粒    破 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lòu dònɡ    ào sàn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漏  洞     懊 丧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picm.photophoto.cn/015/041/003/0410030030.jpg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文本框 99"/>
          <p:cNvSpPr/>
          <p:nvPr/>
        </p:nvSpPr>
        <p:spPr>
          <a:xfrm>
            <a:off x="1420920" y="819000"/>
            <a:ext cx="6399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邮递员    黄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原来      摩托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邮局      包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寄来      一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颗粒      破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漏洞      懊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30T12:21:52Z</dcterms:created>
  <dc:creator>User</dc:creator>
  <dc:description/>
  <dc:language>en-US</dc:language>
  <cp:lastModifiedBy>lbx777</cp:lastModifiedBy>
  <dcterms:modified xsi:type="dcterms:W3CDTF">2018-02-21T19:43:17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