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722-8C6C-45AC-AE94-E0292F9D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D4B-CE03-48CA-9CE4-24372BFE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991-F8EA-41E6-B5A8-46DD4A6D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A28-B4B3-449A-AA8E-2068A6C0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8DC-4F5E-4EBF-B389-C48CDE68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181-50BE-4341-8FE4-498B6411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3AB-A79F-43C1-A5DD-5E0074A0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128-5373-4DD0-B583-57934CBB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488-8A89-4BCD-BD63-521B3BC9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29AC-09A8-4FA8-B8A0-499AA8A1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F600-F89F-427E-86D0-5278FA5F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28FD-BCC2-4197-871A-CCC88990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0A4F-6AB1-4D5E-B9D1-6BB2C893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Backup\我的文档\三年级\教育语文6\综合联系-小发明.tif"/>
          <p:cNvPicPr/>
          <p:nvPr/>
        </p:nvPicPr>
        <p:blipFill>
          <a:blip r:embed="rId2"/>
          <a:stretch/>
        </p:blipFill>
        <p:spPr>
          <a:xfrm>
            <a:off x="-30240" y="0"/>
            <a:ext cx="91742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404496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68460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58400" y="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义务教育课程标准实验教科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679080" y="5734080"/>
            <a:ext cx="17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262626"/>
                </a:solidFill>
                <a:latin typeface="黑体"/>
                <a:ea typeface="黑体"/>
              </a:rPr>
              <a:t>三年级 下册</a:t>
            </a:r>
            <a:r>
              <a:rPr b="1" lang="en-US" sz="2800" spc="-1" strike="noStrike">
                <a:solidFill>
                  <a:srgbClr val="26262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327672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黑体"/>
                <a:ea typeface="楷体_GB2312"/>
              </a:rPr>
              <a:t>冀教版小学</a:t>
            </a:r>
            <a:r>
              <a:rPr b="1" lang="zh-CN" sz="7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语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Backup\我的文档\三年级\教育语文6\20矿矿的研究-1.tif"/>
          <p:cNvPicPr/>
          <p:nvPr/>
        </p:nvPicPr>
        <p:blipFill>
          <a:blip r:embed="rId2"/>
          <a:stretch/>
        </p:blipFill>
        <p:spPr>
          <a:xfrm>
            <a:off x="285840" y="285840"/>
            <a:ext cx="7929360" cy="5929200"/>
          </a:xfrm>
          <a:prstGeom prst="rect">
            <a:avLst/>
          </a:prstGeom>
          <a:ln w="0">
            <a:noFill/>
          </a:ln>
        </p:spPr>
      </p:pic>
      <p:pic>
        <p:nvPicPr>
          <p:cNvPr id="71" name="矩形 5" descr=""/>
          <p:cNvPicPr/>
          <p:nvPr/>
        </p:nvPicPr>
        <p:blipFill>
          <a:blip r:embed="rId3"/>
          <a:stretch/>
        </p:blipFill>
        <p:spPr>
          <a:xfrm>
            <a:off x="208080" y="324000"/>
            <a:ext cx="4344840" cy="1108080"/>
          </a:xfrm>
          <a:prstGeom prst="rect">
            <a:avLst/>
          </a:prstGeom>
          <a:ln w="0">
            <a:noFill/>
          </a:ln>
        </p:spPr>
      </p:pic>
      <p:sp>
        <p:nvSpPr>
          <p:cNvPr id="72" name="矩形 6"/>
          <p:cNvSpPr/>
          <p:nvPr/>
        </p:nvSpPr>
        <p:spPr>
          <a:xfrm>
            <a:off x="457200" y="21430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矿矿是怎样查阅资料完成“蓝鲸”研究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311560" y="3643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矿矿论文的大致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Backup\我的文档\三年级\教育语文6\20矿矿的研究-1.tif"/>
          <p:cNvPicPr/>
          <p:nvPr/>
        </p:nvPicPr>
        <p:blipFill>
          <a:blip r:embed="rId2"/>
          <a:stretch/>
        </p:blipFill>
        <p:spPr>
          <a:xfrm>
            <a:off x="285840" y="285840"/>
            <a:ext cx="7929360" cy="5929200"/>
          </a:xfrm>
          <a:prstGeom prst="rect">
            <a:avLst/>
          </a:prstGeom>
          <a:ln w="0">
            <a:noFill/>
          </a:ln>
        </p:spPr>
      </p:pic>
      <p:pic>
        <p:nvPicPr>
          <p:cNvPr id="75" name="矩形 7" descr=""/>
          <p:cNvPicPr/>
          <p:nvPr/>
        </p:nvPicPr>
        <p:blipFill>
          <a:blip r:embed="rId3"/>
          <a:stretch/>
        </p:blipFill>
        <p:spPr>
          <a:xfrm>
            <a:off x="60480" y="249120"/>
            <a:ext cx="4346280" cy="1109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395280" y="22474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矿矿完成的研究论文中，我们可以看到一个怎样的矿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66560" y="3500280"/>
            <a:ext cx="785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矿矿的研究带给我们很多启发，学完课文，大家肯定感慨万千，你有什么想说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Backup\我的文档\三年级\教育语文6\20矿矿的研究-1.tif"/>
          <p:cNvPicPr/>
          <p:nvPr/>
        </p:nvPicPr>
        <p:blipFill>
          <a:blip r:embed="rId2"/>
          <a:stretch/>
        </p:blipFill>
        <p:spPr>
          <a:xfrm>
            <a:off x="285840" y="285840"/>
            <a:ext cx="7929360" cy="5929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468360" y="2719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同学们自己去图书室查找资料，或者回去问父母、街坊邻居或某些专业人士，从中汲取自己需要的营养，也像矿矿一样完成自己的研究成果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矩形 5" descr=""/>
          <p:cNvPicPr/>
          <p:nvPr/>
        </p:nvPicPr>
        <p:blipFill>
          <a:blip r:embed="rId3"/>
          <a:stretch/>
        </p:blipFill>
        <p:spPr>
          <a:xfrm>
            <a:off x="133200" y="396720"/>
            <a:ext cx="4346640" cy="1108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Backup\我的文档\三年级\教育语文6\20矿矿的研究-1.tif"/>
          <p:cNvPicPr/>
          <p:nvPr/>
        </p:nvPicPr>
        <p:blipFill>
          <a:blip r:embed="rId2"/>
          <a:stretch/>
        </p:blipFill>
        <p:spPr>
          <a:xfrm>
            <a:off x="324000" y="260280"/>
            <a:ext cx="7777080" cy="5977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2050920" y="126828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矿矿的研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24000" y="333360"/>
            <a:ext cx="93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22764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制作人：冯媛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571680" y="150012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黄全愈，美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llanov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学理学硕士，美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am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学教育管理学博士。旅美教育学专家，现在迈阿密大学任教。长期致力于中美教育和文化交流。所著的中美教育比较系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素质教育在美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玩的教育在美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考”在美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图书，在中国教育界不断引起强烈反响，其素质教育理念对中国现代教育改革产生了深刻的影响。新著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培养智慧的孩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赋教育在美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2" descr=""/>
          <p:cNvPicPr/>
          <p:nvPr/>
        </p:nvPicPr>
        <p:blipFill>
          <a:blip r:embed="rId2"/>
          <a:stretch/>
        </p:blipFill>
        <p:spPr>
          <a:xfrm>
            <a:off x="60480" y="249120"/>
            <a:ext cx="4346280" cy="11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Backup\我的文档\三年级\教育语文6\20矿矿的研究-1.tif"/>
          <p:cNvPicPr/>
          <p:nvPr/>
        </p:nvPicPr>
        <p:blipFill>
          <a:blip r:embed="rId2"/>
          <a:stretch/>
        </p:blipFill>
        <p:spPr>
          <a:xfrm>
            <a:off x="285840" y="285840"/>
            <a:ext cx="7929360" cy="5929200"/>
          </a:xfrm>
          <a:prstGeom prst="rect">
            <a:avLst/>
          </a:prstGeom>
          <a:ln w="0">
            <a:noFill/>
          </a:ln>
        </p:spPr>
      </p:pic>
      <p:pic>
        <p:nvPicPr>
          <p:cNvPr id="54" name="矩形 5" descr=""/>
          <p:cNvPicPr/>
          <p:nvPr/>
        </p:nvPicPr>
        <p:blipFill>
          <a:blip r:embed="rId3"/>
          <a:stretch/>
        </p:blipFill>
        <p:spPr>
          <a:xfrm>
            <a:off x="60480" y="249120"/>
            <a:ext cx="4346280" cy="1109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357120" y="234432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用自己喜欢的方式自由读课文，遇到不认识的字可以问老师、问同学、查字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357120" y="3714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人小组合作读文，再次熟知课文内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7786800" cy="4500360"/>
          </a:xfrm>
          <a:prstGeom prst="rect">
            <a:avLst/>
          </a:prstGeom>
          <a:ln w="0">
            <a:noFill/>
          </a:ln>
        </p:spPr>
      </p:pic>
      <p:pic>
        <p:nvPicPr>
          <p:cNvPr id="58" name="矩形 5" descr=""/>
          <p:cNvPicPr/>
          <p:nvPr/>
        </p:nvPicPr>
        <p:blipFill>
          <a:blip r:embed="rId3"/>
          <a:stretch/>
        </p:blipFill>
        <p:spPr>
          <a:xfrm>
            <a:off x="2840040" y="396720"/>
            <a:ext cx="2292480" cy="1108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haishou_10_06_06"/>
          <p:cNvPicPr/>
          <p:nvPr/>
        </p:nvPicPr>
        <p:blipFill>
          <a:blip r:embed="rId2"/>
          <a:stretch/>
        </p:blipFill>
        <p:spPr>
          <a:xfrm>
            <a:off x="357120" y="1714680"/>
            <a:ext cx="7858080" cy="4535280"/>
          </a:xfrm>
          <a:prstGeom prst="rect">
            <a:avLst/>
          </a:prstGeom>
          <a:ln w="0">
            <a:noFill/>
          </a:ln>
        </p:spPr>
      </p:pic>
      <p:pic>
        <p:nvPicPr>
          <p:cNvPr id="60" name="矩形 6" descr=""/>
          <p:cNvPicPr/>
          <p:nvPr/>
        </p:nvPicPr>
        <p:blipFill>
          <a:blip r:embed="rId3"/>
          <a:stretch/>
        </p:blipFill>
        <p:spPr>
          <a:xfrm>
            <a:off x="2840040" y="396720"/>
            <a:ext cx="2292480" cy="1108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f3bd7c45b1e4a02386947323"/>
          <p:cNvPicPr/>
          <p:nvPr/>
        </p:nvPicPr>
        <p:blipFill>
          <a:blip r:embed="rId2"/>
          <a:stretch/>
        </p:blipFill>
        <p:spPr>
          <a:xfrm>
            <a:off x="357120" y="1857240"/>
            <a:ext cx="7786800" cy="4319640"/>
          </a:xfrm>
          <a:prstGeom prst="rect">
            <a:avLst/>
          </a:prstGeom>
          <a:ln w="0">
            <a:noFill/>
          </a:ln>
        </p:spPr>
      </p:pic>
      <p:pic>
        <p:nvPicPr>
          <p:cNvPr id="62" name="矩形 5" descr=""/>
          <p:cNvPicPr/>
          <p:nvPr/>
        </p:nvPicPr>
        <p:blipFill>
          <a:blip r:embed="rId3"/>
          <a:stretch/>
        </p:blipFill>
        <p:spPr>
          <a:xfrm>
            <a:off x="1847880" y="396720"/>
            <a:ext cx="4344840" cy="1108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68360" y="27975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蓝鲸又叫长箦鲸，体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平均体重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吨，最大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吨。它的一只舌头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吨，足以装满一辆解放牌大卡车。它的躯体呈蓝灰色或黄褐色，这是由于它的皮肤上覆盖着一层黄褐色硅藻膜的缘故，其实它的真正颜色是黑色。蓝鲸的躯体庞大而肥胖，是首当其冲的捕杀对象之一，因此其数量不断下降，现存量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矩形 5" descr=""/>
          <p:cNvPicPr/>
          <p:nvPr/>
        </p:nvPicPr>
        <p:blipFill>
          <a:blip r:embed="rId2"/>
          <a:stretch/>
        </p:blipFill>
        <p:spPr>
          <a:xfrm>
            <a:off x="60480" y="396720"/>
            <a:ext cx="4346280" cy="1108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Backup\我的文档\三年级\教育语文6\20矿矿的研究-1.tif"/>
          <p:cNvPicPr/>
          <p:nvPr/>
        </p:nvPicPr>
        <p:blipFill>
          <a:blip r:embed="rId2"/>
          <a:stretch/>
        </p:blipFill>
        <p:spPr>
          <a:xfrm>
            <a:off x="285840" y="285840"/>
            <a:ext cx="7929360" cy="5929200"/>
          </a:xfrm>
          <a:prstGeom prst="rect">
            <a:avLst/>
          </a:prstGeom>
          <a:ln w="0">
            <a:noFill/>
          </a:ln>
        </p:spPr>
      </p:pic>
      <p:pic>
        <p:nvPicPr>
          <p:cNvPr id="66" name="矩形 1" descr=""/>
          <p:cNvPicPr/>
          <p:nvPr/>
        </p:nvPicPr>
        <p:blipFill>
          <a:blip r:embed="rId3"/>
          <a:stretch/>
        </p:blipFill>
        <p:spPr>
          <a:xfrm>
            <a:off x="420840" y="324000"/>
            <a:ext cx="4346280" cy="1108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285840" y="1890360"/>
            <a:ext cx="78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《矿矿的研究》为我们讲述了哪些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71680" y="3127680"/>
            <a:ext cx="72054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我明白了矿矿要写蓝鲸的研究论文，得去图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馆查阅资料，爸爸对儿子的能力表示怀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矿矿在妈妈的陪同下借阅了许多关于蓝鲸的书籍，在矿矿查阅资料的过程中爸爸也学到许多知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矿矿完成了他的蓝鲸研究报告，这是爸爸看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最简短、最感兴趣的论文。</a:t>
            </a:r>
            <a:br>
              <a:rPr sz="24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左箭头 6"/>
          <p:cNvSpPr/>
          <p:nvPr/>
        </p:nvSpPr>
        <p:spPr>
          <a:xfrm>
            <a:off x="2143080" y="2286000"/>
            <a:ext cx="42876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2:45:46Z</dcterms:created>
  <dc:creator>微软用户</dc:creator>
  <dc:description/>
  <dc:language>en-US</dc:language>
  <cp:lastModifiedBy>微软用户</cp:lastModifiedBy>
  <dcterms:modified xsi:type="dcterms:W3CDTF">2012-03-06T02:46:28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b000000000001024100</vt:lpwstr>
  </property>
</Properties>
</file>