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659-7C81-4730-869D-2A897B0B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82E-64FF-48F1-9BB5-F187DCE3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AB7-6C23-48D3-9C58-07A192B1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FEC-1E5A-4385-B0B6-F3B42D45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BCF-B438-4ABD-9F58-9FB0615D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696-2394-49AD-82AD-07D10234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90E-B398-4D4A-B276-4F0A0F99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805-33A8-43FE-A643-6C5A2612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3EF-6AD7-4553-9112-B2043C35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4EB-C27E-474B-9071-BB8AF8CF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FC3-B9AC-49EC-B18C-64A5BEB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09B-19B6-45B3-B944-115226B0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0EA6-CDB8-40FB-B45F-0FF161092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客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杜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杜甫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，字子美，生于河南巩县（河南省巩县），是名诗人杜审言的孙子。因曾居长安城南少陵，故自称少陵野老，世称杜少陵。三十五岁以前读书与游历。天宝年间到长安，仕进无门，困顿了十年，才获得右卫率府胄曹参军的小职。安史之乱开始，他流亡颠沛，竟为叛军所俘；脱险后，授官左拾遗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5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（乾元二年），他弃官西行，最后到四川，定居成都一度在剑南节度使严武幕中任检校工部员外郎，故又有杜工部之称。晚年举家东迁，途中留滞夔州二年，出峡。漂泊鄂、湘一带，贫病而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客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杜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舍南舍北皆春水，但见群鸥日日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花径不曾缘客扫，蓬门今始为君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盘飧市远无兼味，樽酒家贫只旧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肯与邻翁相对饮，隔篱呼取尽余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客至：客指崔明府，杜甫在题后自注：“喜崔明府相过”，明府，县令的美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舍：指家。但见：只见。此句意为平时交游很少，只有鸥鸟不嫌弃能与之相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蓬门：用蓬草编成的门户，以示房子的简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市远：离市集远。兼味：多种美味佳肴。无兼味，谦言菜少。樽：酒器。旧醅：隔年的陈酒。樽酒句：古人好饮新酒，杜甫以家贫无新酒感到歉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肯：能否允许，这是向客人征询。馀杯：余下来的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花径：长满花草的小路 ⑦ 呼取：叫，招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舍南舍北皆春水，但见群鸥日日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堂的南北，春水漫漫，只见鸥鸟天天成群而至。首联描绘了草堂环境的清幽，景色的秀丽，点明时令、地点和环境。“皆”字写出春江水势涨溢的情景，给人以江波浩渺、茫茫一片之感。鸥鸟性好猜疑，如人有机心，便不肯亲近，在古人笔下常常是与世无争、没有心机的隐者的伴侣。因此“群鸥日日来”，不仅点出环境的清幽僻静，也写出诗人远离世间的真率忘俗；同时也说明：亲友云散，交游冷落，只见群鸥，不见其他来访者，闲逸的生活不免有一丝单调、寂寞。 “舍”，自称其家为舍，这里指成都浣花溪畔的草堂。“春水”，指流经草堂的浣花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花径不曾缘客扫，蓬门今始为君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花草遍地的庭院小路，还没有因为迎客打扫过；用蓬草编成的门，因为你的到来，今天才打开。颔联由外转内，从户外的景色转到院中的情景，引出“客至”，用与客人谈话的口吻，增强了生活实感，表现了诗人喜客之至，待客之诚。其对仗颇具匠心，花径不曾缘客扫，今始为君扫，蓬门不曾为客开，今始为君开，上下两意，互文而足。“缘客扫”，为了客人而打扫，古人常以扫径表示欢迎客人。“蓬门”，茅屋的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盘飧市远无兼味，樽酒家贫只旧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 因为居住在偏僻之地，距街市较远，交通不便，所以买不到更多的菜肴，宴席不丰盛。家境贫寒，未酿新酒，只能拿味薄的隔年陈酒来招待你。以上虚写客至，下面转入实写待客。作者舍弃了其它情节，专取最能显示宾主情意的生活场景，着意描画。主人盛情招待，频频劝饮，却因力不从心，酒菜欠丰，而不免歉疚。我们仿佛听到那实在而又亲切的家常话，字里行间充满了融洽气氛。“盘飧”，盘中的菜肴。“飧”，本指熟食，这里泛指菜。“兼味”，菜肴一种叫味，两种以上叫兼味。“旧醅”，旧酿的隔年浊酒。“醅”，未经过滤的酒。古人好饮新酒，所以诗人因旧醅待客而有歉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肯与邻翁相对饮？隔篱呼取尽余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客人肯不肯与邻家的老翁相对而饮？如果肯的话，我就隔着篱笆，招唤他过来，一起喝尽这最后的几杯。尾联以邀邻助兴的精彩细节，出人料想地笔意一转。这令人想到陶渊明的“过门更相呼，有酒斟酌之”。无须事先约请，随意过从招饮，是在真率纯朴的人际关系中所领略的绝弃虚伪矫饰的自然之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评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是一首工整而流畅的七律。前两联写客至，有空谷足音之喜，后两联写待客，见村家真率之情。篇首以“群鸥”引兴，篇尾以“邻翁”陪结。在结构上，作者兼顾空间顺序和时间顺序。从空间上看，从外到内，由大到小；从时间上看，则写了迎客、待客的全过程。衔接自然，浑然一体。但前两句先写日常生活的孤独，从而与接待客人的欢乐情景形成对比。这两句又有“兴”的意味：用“春水”、“群鸥”意象，渲染出一种充满情趣的生活氛围，流露出主人公因客至而欢欣的心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3:38:13Z</dcterms:created>
  <dc:creator>未知用户</dc:creator>
  <dc:description/>
  <dc:language>en-US</dc:language>
  <cp:lastModifiedBy>未知用户</cp:lastModifiedBy>
  <dcterms:modified xsi:type="dcterms:W3CDTF">2010-12-06T14:22:36Z</dcterms:modified>
  <cp:revision>4</cp:revision>
  <dc:subject/>
  <dc:title>客至</dc:title>
</cp:coreProperties>
</file>