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702-504F-4C3B-8C60-D253415A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769-E5CE-489C-9B70-3AACD46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720-984D-4C30-B675-2C0F30E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021-F909-4197-9F29-7E7C135D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549-210E-4D9B-97D0-882CADD5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D02-54A7-45C3-BA68-AC92CEE2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C8C-AA92-4E3C-939C-C8ED1D0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AD6-B81D-4CE0-8937-EDC76F46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E9A-B5E5-40A1-95DC-016E79AE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5A2-4031-4978-8435-C08886E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B05-5673-4C48-888E-02AA5F9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7C4-3A74-43F5-B274-FDE7000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BB7F-63C2-4816-AE11-AAF5384A7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2298;&#23458;&#33267;&#12299;&#26391;&#35835;.rm" TargetMode="External"/><Relationship Id="rId3" Type="http://schemas.openxmlformats.org/officeDocument/2006/relationships/hyperlink" Target="file:///&#12298;&#23458;&#33267;&#12299;&#26391;&#35835;.r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43280" y="765000"/>
            <a:ext cx="3697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客 至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7745040" y="458136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  <a:ea typeface="华文中宋"/>
              </a:rPr>
              <a:t>杜  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81160"/>
            <a:ext cx="252072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较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413000"/>
            <a:ext cx="82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宾      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杜    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幽栖地僻经过少，老病人扶再拜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岂有文章惊海内，漫劳车马驻江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竟日淹留佳客坐，百年粗粝腐儒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不嫌野外无供给，乘兴还来看药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189000"/>
            <a:ext cx="3384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66ff"/>
                </a:solidFill>
                <a:uFillTx/>
                <a:latin typeface="Times New Roman"/>
              </a:rPr>
              <a:t>字词预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197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再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1197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拜两拜，古人表示恭敬的礼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9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江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18954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637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淹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期逗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35772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33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ì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糙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14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腐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1497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迂腐不明事理的读书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供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49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ǐ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酒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57340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药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73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57340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看药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2320" y="1944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2320" y="342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916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居幽地僻，少有人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33577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恭迎贵宾，行礼艰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76240" y="5013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胜应酬之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7162920" cy="761760"/>
          </a:xfrm>
          <a:prstGeom prst="cloudCallout">
            <a:avLst>
              <a:gd name="adj1" fmla="val 39759"/>
              <a:gd name="adj2" fmla="val 92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宾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首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80640" y="220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岂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80640" y="4581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漫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9080" y="32846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惊讶、冷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20500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岂有文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4595760"/>
            <a:ext cx="33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您徒劳过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505320"/>
            <a:ext cx="1676160" cy="380880"/>
          </a:xfrm>
          <a:prstGeom prst="rightArrow">
            <a:avLst>
              <a:gd name="adj1" fmla="val 50000"/>
              <a:gd name="adj2" fmla="val 11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89000"/>
            <a:ext cx="6769080" cy="863640"/>
          </a:xfrm>
          <a:prstGeom prst="cloudCallout">
            <a:avLst>
              <a:gd name="adj1" fmla="val 27064"/>
              <a:gd name="adj2" fmla="val 10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宾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颔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56360" y="4614840"/>
            <a:ext cx="2987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117960"/>
            <a:ext cx="34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淹留竟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46116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粗粝腐儒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45760" y="2852640"/>
            <a:ext cx="13993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客套尽礼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91628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的是什么？诗人与客的关系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805360"/>
            <a:ext cx="5761080" cy="76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冷淡、无奈、不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7200"/>
            <a:ext cx="7543800" cy="990720"/>
          </a:xfrm>
          <a:prstGeom prst="cloudCallout">
            <a:avLst>
              <a:gd name="adj1" fmla="val 42930"/>
              <a:gd name="adj2" fmla="val 108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宾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颈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680" y="29178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款待之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84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嫌野外无供给，乘兴还来看药栏。何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04920"/>
            <a:ext cx="6629400" cy="685800"/>
          </a:xfrm>
          <a:prstGeom prst="cloudCallout">
            <a:avLst>
              <a:gd name="adj1" fmla="val 27875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宾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尾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14172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如果不嫌“野外”“供给”菲薄，还望“乘兴”再“来看”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084640"/>
            <a:ext cx="6913440" cy="76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客套应酬之语，含送客之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71640" y="1700280"/>
            <a:ext cx="136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20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情投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35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纯属客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395280" y="3573360"/>
            <a:ext cx="15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中宋"/>
                <a:ea typeface="华文中宋"/>
              </a:rPr>
              <a:t>宾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热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20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客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冷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00720" y="220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亲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敬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76280"/>
            <a:ext cx="633744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比而观之，各见其用意所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78120" y="4941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客是相知之客，宾是贵介之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281160"/>
            <a:ext cx="2520720" cy="642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41300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绝句二首（其一）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杜甫 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迟日江山丽， 春风花草香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泥融飞燕子， 沙暖睡鸳鸯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0200" y="4437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绝句二首（其二）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江碧鸟逾白， 山青花欲燃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今春看又过， 何日是归年？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41300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　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赠花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　　　　　　　　　杜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锦城丝管日纷纷， 半入江风半入云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此曲只应天上有， 人间能得几回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5280" y="141300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　　　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不 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　　　　　　　　　杜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不见李生久， 佯狂真可哀！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世人皆欲杀， 吾意独怜才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敏捷诗千首， 飘零酒一杯。</a:t>
            </a:r>
            <a:br>
              <a:rPr sz="3600"/>
            </a:b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　　匡山读书处， 头白好归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7619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客     至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杜  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舍南舍北皆春水，但见群鸥日日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径不曾缘客扫，蓬门今始为君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盘飧市远无兼味，樽酒家贫只旧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肯与邻翁相对饮，隔篱呼取尽余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3384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66ff"/>
                </a:solidFill>
                <a:uFillTx/>
                <a:latin typeface="Times New Roman"/>
              </a:rPr>
              <a:t>字词预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197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花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91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满花的小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70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蓬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335772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蓬门荜户、蓬荜生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2708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蓬草做成的门户，指房子简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盘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3586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4005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中熟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400536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樽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400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杯中之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724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种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551664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旧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4957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ēi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隔年的没过滤的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47242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兼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836640"/>
            <a:ext cx="7619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客     至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杜  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舍南舍北皆春水，但见群鸥日日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径不曾缘客扫，蓬门今始为君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盘飧市远无兼味，樽酒家贫只旧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肯与邻翁相对饮，隔篱呼取尽余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2320" y="1944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2320" y="3529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1916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春意盎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鸥翔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8400" y="1413000"/>
            <a:ext cx="1826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日无客   少有人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29640" y="5207040"/>
            <a:ext cx="180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寂寞 孤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04920"/>
            <a:ext cx="7162920" cy="761760"/>
          </a:xfrm>
          <a:prstGeom prst="cloudCallout">
            <a:avLst>
              <a:gd name="adj1" fmla="val 39759"/>
              <a:gd name="adj2" fmla="val 92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客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首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627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0640" y="220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80640" y="4581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3360" y="3284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客至的意外惊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2205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缘客扫花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59576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君开蓬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505320"/>
            <a:ext cx="1676160" cy="380880"/>
          </a:xfrm>
          <a:prstGeom prst="rightArrow">
            <a:avLst>
              <a:gd name="adj1" fmla="val 50000"/>
              <a:gd name="adj2" fmla="val 11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89000"/>
            <a:ext cx="6769080" cy="863640"/>
          </a:xfrm>
          <a:prstGeom prst="cloudCallout">
            <a:avLst>
              <a:gd name="adj1" fmla="val 27064"/>
              <a:gd name="adj2" fmla="val 108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客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颔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56360" y="4614840"/>
            <a:ext cx="2987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76520" y="3230640"/>
            <a:ext cx="32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盘飧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兼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24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樽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旧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45760" y="2852640"/>
            <a:ext cx="1399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待客何其简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33360" y="2819520"/>
            <a:ext cx="13993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关系何其亲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91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的是什么？诗人与客的关系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943600"/>
            <a:ext cx="5330880" cy="581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兴奋欢快，又兼有歉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"/>
            <a:ext cx="7543800" cy="990720"/>
          </a:xfrm>
          <a:prstGeom prst="cloudCallout">
            <a:avLst>
              <a:gd name="adj1" fmla="val 42930"/>
              <a:gd name="adj2" fmla="val 108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客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颈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80" y="291780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待客酒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027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8446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何有 “邀邻喝酒”这一细节描写，暗示诗人此时心情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429000"/>
            <a:ext cx="8702640" cy="1191240"/>
          </a:xfrm>
          <a:prstGeom prst="rect">
            <a:avLst/>
          </a:prstGeom>
          <a:noFill/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想用这种民间常见的方式表示自己难得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兴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我家来尊贵客人了，你也过来喝几杯，好好地帮我陪陪客人，喝个痛快，玩个尽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04920"/>
            <a:ext cx="6629400" cy="685800"/>
          </a:xfrm>
          <a:prstGeom prst="cloudCallout">
            <a:avLst>
              <a:gd name="adj1" fmla="val 27875"/>
              <a:gd name="adj2" fmla="val 11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《客至》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尾 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836640"/>
            <a:ext cx="73980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华文隶书"/>
                <a:hlinkClick r:id="rId2"/>
              </a:rPr>
              <a:t>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华文隶书"/>
                <a:hlinkClick r:id="rId3"/>
              </a:rPr>
              <a:t>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133720"/>
            <a:ext cx="64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崔明府相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055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明府：县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相过：拜访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0:04:02Z</dcterms:created>
  <dc:creator>t067</dc:creator>
  <dc:description/>
  <dc:language>en-US</dc:language>
  <cp:lastModifiedBy>微软用户</cp:lastModifiedBy>
  <dcterms:modified xsi:type="dcterms:W3CDTF">2007-05-25T01:29:32Z</dcterms:modified>
  <cp:revision>84</cp:revision>
  <dc:subject/>
  <dc:title>幻灯片 1</dc:title>
</cp:coreProperties>
</file>