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3.gif" ContentType="image/gif"/>
  <Override PartName="/ppt/media/image46.png" ContentType="image/png"/>
  <Override PartName="/ppt/media/image48.jpeg" ContentType="image/jpeg"/>
  <Override PartName="/ppt/media/image50.png" ContentType="image/png"/>
  <Override PartName="/ppt/media/image51.png" ContentType="image/png"/>
  <Override PartName="/ppt/media/image52.png" ContentType="image/pn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70E-F8B7-41B5-8A9A-108F0BE7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246-AE23-459D-9234-FFC0F9CD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722-94C8-4A0D-ACF6-70795EE4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D46-18E6-4DE2-A4A7-0FA0867E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7E1-6578-481B-B2C4-F3D163CF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7DB-CDE8-457D-AD70-7138323C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4A2-6816-4308-A2A9-5D2D7759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B34-B0F6-4321-88BA-D981C5A2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0D5-4674-481D-997C-906A0BE9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A9E-A440-47AF-AEE6-ECA492B7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7CA-D64B-4D3B-B5DA-035F7860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EE5-FA49-47F9-AB5C-CF4BF66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3314-6169-431F-BB38-5FC59B148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image" Target="../media/image43.gi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image" Target="../media/image4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4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5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56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57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58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59.png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39.png"/><Relationship Id="rId7" Type="http://schemas.openxmlformats.org/officeDocument/2006/relationships/hyperlink" Target="file:///tmp/home/.config/libreoffice/4/user/gallery/CLAP.WAV" TargetMode="External"/><Relationship Id="rId8" Type="http://schemas.openxmlformats.org/officeDocument/2006/relationships/hyperlink" Target="file:///tmp/home/.config/libreoffice/4/user/gallery/APPLAUSE.WAV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2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3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4.png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5.png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26.png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27.png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28.png"/><Relationship Id="rId36" Type="http://schemas.openxmlformats.org/officeDocument/2006/relationships/image" Target="../media/image2.png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png"/><Relationship Id="rId25" Type="http://schemas.openxmlformats.org/officeDocument/2006/relationships/image" Target="../media/image2.png"/><Relationship Id="rId26" Type="http://schemas.openxmlformats.org/officeDocument/2006/relationships/hyperlink" Target="file:///tmp/home/.config/libreoffice/4/user/gallery/APPLAUSE.WAV" TargetMode="External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986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50760" y="685800"/>
            <a:ext cx="628524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识字（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 </a:t>
            </a:r>
            <a:r>
              <a:rPr b="1" lang="zh-CN" sz="10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口耳目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5013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执教  张健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5589720"/>
            <a:ext cx="2664000" cy="0"/>
          </a:xfrm>
          <a:prstGeom prst="line">
            <a:avLst/>
          </a:prstGeom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399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32280" y="2460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9840" y="304920"/>
            <a:ext cx="1679760" cy="6286320"/>
            <a:chOff x="69840" y="304920"/>
            <a:chExt cx="1679760" cy="628632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04920" y="4038480"/>
              <a:ext cx="144468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9840" y="304920"/>
              <a:ext cx="1225440" cy="2819160"/>
            </a:xfrm>
            <a:prstGeom prst="wedgeEllipseCallout">
              <a:avLst>
                <a:gd name="adj1" fmla="val 28625"/>
                <a:gd name="adj2" fmla="val 7893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9933"/>
                  </a:solidFill>
                  <a:latin typeface="Arial"/>
                  <a:ea typeface="楷体_GB2312"/>
                </a:rPr>
                <a:t>加加减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352680" y="847800"/>
            <a:ext cx="2971800" cy="1877040"/>
            <a:chOff x="3352680" y="847800"/>
            <a:chExt cx="2971800" cy="1877040"/>
          </a:xfrm>
        </p:grpSpPr>
        <p:sp>
          <p:nvSpPr>
            <p:cNvPr id="207" name=""/>
            <p:cNvSpPr/>
            <p:nvPr/>
          </p:nvSpPr>
          <p:spPr>
            <a:xfrm>
              <a:off x="5488560" y="14619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+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352680" y="847800"/>
              <a:ext cx="2971800" cy="1877040"/>
              <a:chOff x="3352680" y="847800"/>
              <a:chExt cx="2971800" cy="1877040"/>
            </a:xfrm>
          </p:grpSpPr>
          <p:sp>
            <p:nvSpPr>
              <p:cNvPr id="209" name=""/>
              <p:cNvSpPr/>
              <p:nvPr/>
            </p:nvSpPr>
            <p:spPr>
              <a:xfrm>
                <a:off x="4264200" y="847800"/>
                <a:ext cx="10724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700" spc="-1" strike="noStrike">
                    <a:solidFill>
                      <a:srgbClr val="006600"/>
                    </a:solidFill>
                    <a:latin typeface="Arial"/>
                    <a:ea typeface="楷体_GB2312"/>
                  </a:rPr>
                  <a:t>日</a:t>
                </a:r>
                <a:endParaRPr b="0" lang="en-US" sz="1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352680" y="1386000"/>
                <a:ext cx="2971800" cy="595080"/>
                <a:chOff x="3352680" y="1386000"/>
                <a:chExt cx="2971800" cy="595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410080" y="198108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352680" y="19051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65440" y="1393920"/>
                  <a:ext cx="1843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583080" y="1386000"/>
                  <a:ext cx="497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Arial"/>
                    </a:rPr>
                    <a:t>-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" name=""/>
          <p:cNvSpPr/>
          <p:nvPr/>
        </p:nvSpPr>
        <p:spPr>
          <a:xfrm>
            <a:off x="6716880" y="928800"/>
            <a:ext cx="988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cc3399"/>
                </a:solidFill>
                <a:latin typeface="Arial"/>
                <a:ea typeface="楷体_GB2312"/>
              </a:rPr>
              <a:t>目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86920" y="1052640"/>
            <a:ext cx="988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cc3399"/>
                </a:solidFill>
                <a:latin typeface="Arial"/>
                <a:ea typeface="楷体_GB2312"/>
              </a:rPr>
              <a:t>口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776760" y="2997360"/>
            <a:ext cx="2759040" cy="1877040"/>
            <a:chOff x="3776760" y="2997360"/>
            <a:chExt cx="2759040" cy="1877040"/>
          </a:xfrm>
        </p:grpSpPr>
        <p:sp>
          <p:nvSpPr>
            <p:cNvPr id="218" name=""/>
            <p:cNvSpPr/>
            <p:nvPr/>
          </p:nvSpPr>
          <p:spPr>
            <a:xfrm>
              <a:off x="5699520" y="36115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+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776760" y="2997360"/>
              <a:ext cx="2759040" cy="1877040"/>
              <a:chOff x="3776760" y="2997360"/>
              <a:chExt cx="2759040" cy="1877040"/>
            </a:xfrm>
          </p:grpSpPr>
          <p:sp>
            <p:nvSpPr>
              <p:cNvPr id="220" name=""/>
              <p:cNvSpPr/>
              <p:nvPr/>
            </p:nvSpPr>
            <p:spPr>
              <a:xfrm>
                <a:off x="4473720" y="2997360"/>
                <a:ext cx="10724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700" spc="-1" strike="noStrike">
                    <a:solidFill>
                      <a:srgbClr val="006600"/>
                    </a:solidFill>
                    <a:latin typeface="Arial"/>
                    <a:ea typeface="楷体_GB2312"/>
                  </a:rPr>
                  <a:t>木</a:t>
                </a:r>
                <a:endParaRPr b="0" lang="en-US" sz="1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3776760" y="3514680"/>
                <a:ext cx="2759040" cy="615960"/>
                <a:chOff x="3776760" y="3514680"/>
                <a:chExt cx="2759040" cy="615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621400" y="413064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776760" y="3543480"/>
                  <a:ext cx="1839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792600" y="3514680"/>
                  <a:ext cx="183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5" name=""/>
          <p:cNvSpPr/>
          <p:nvPr/>
        </p:nvSpPr>
        <p:spPr>
          <a:xfrm>
            <a:off x="6789960" y="3068640"/>
            <a:ext cx="988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cc3399"/>
                </a:solidFill>
                <a:latin typeface="Arial"/>
                <a:ea typeface="楷体_GB2312"/>
              </a:rPr>
              <a:t>禾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47840" y="3002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8000" y="4508640"/>
          <a:ext cx="17031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508640"/>
                    <a:ext cx="17031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50920" y="2205000"/>
          <a:ext cx="146844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205000"/>
                    <a:ext cx="14684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50920" y="189000"/>
          <a:ext cx="1636560" cy="18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89000"/>
                    <a:ext cx="163656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107960" y="1557360"/>
            <a:ext cx="2985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1" lang="zh-CN" sz="8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1" lang="zh-CN" sz="8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1" lang="zh-CN" sz="8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1" lang="zh-CN" sz="8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1" lang="zh-CN" sz="8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1" lang="zh-CN" sz="8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咩咩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476280"/>
            <a:ext cx="2305080" cy="792000"/>
          </a:xfrm>
          <a:prstGeom prst="wedgeRectCallout">
            <a:avLst>
              <a:gd name="adj1" fmla="val 69351"/>
              <a:gd name="adj2" fmla="val -12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跟我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511280" cy="1312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883908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4458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743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7308720" y="549360"/>
          <a:ext cx="139716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549360"/>
                    <a:ext cx="13971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003640" y="549360"/>
          <a:ext cx="136080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549360"/>
                    <a:ext cx="1360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124000" y="549360"/>
          <a:ext cx="2087640" cy="15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549360"/>
                    <a:ext cx="208764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0" y="5315040"/>
            <a:ext cx="2695680" cy="1542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11280" y="1989000"/>
            <a:ext cx="1224000" cy="2592360"/>
          </a:xfrm>
          <a:prstGeom prst="cloudCallout">
            <a:avLst>
              <a:gd name="adj1" fmla="val 33787"/>
              <a:gd name="adj2" fmla="val 70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44200" y="306720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cc0000"/>
                </a:solidFill>
                <a:latin typeface="Arial"/>
                <a:ea typeface="楷体_GB2312"/>
              </a:rPr>
              <a:t>火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92200" y="292428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cc0000"/>
                </a:solidFill>
                <a:latin typeface="Arial"/>
                <a:ea typeface="楷体_GB2312"/>
              </a:rPr>
              <a:t>月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68560" y="299412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cc0000"/>
                </a:solidFill>
                <a:latin typeface="Arial"/>
                <a:ea typeface="楷体_GB2312"/>
              </a:rPr>
              <a:t>日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611280" y="357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2972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031840" y="415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189000"/>
            <a:ext cx="1444680" cy="6369120"/>
            <a:chOff x="0" y="189000"/>
            <a:chExt cx="1444680" cy="6369120"/>
          </a:xfrm>
        </p:grpSpPr>
        <p:sp>
          <p:nvSpPr>
            <p:cNvPr id="254" name=""/>
            <p:cNvSpPr/>
            <p:nvPr/>
          </p:nvSpPr>
          <p:spPr>
            <a:xfrm>
              <a:off x="108000" y="189000"/>
              <a:ext cx="1225440" cy="2448000"/>
            </a:xfrm>
            <a:prstGeom prst="wedgeEllipseCallout">
              <a:avLst>
                <a:gd name="adj1" fmla="val 28625"/>
                <a:gd name="adj2" fmla="val 891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9933"/>
                  </a:solidFill>
                  <a:latin typeface="Arial"/>
                  <a:ea typeface="楷体_GB2312"/>
                </a:rPr>
                <a:t>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9933"/>
                  </a:solidFill>
                  <a:latin typeface="Arial"/>
                  <a:ea typeface="楷体_GB2312"/>
                </a:rPr>
                <a:t>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9933"/>
                  </a:solidFill>
                  <a:latin typeface="Arial"/>
                  <a:ea typeface="楷体_GB2312"/>
                </a:rPr>
                <a:t>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0" y="4005360"/>
              <a:ext cx="1444680" cy="2552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56" name=""/>
          <p:cNvGraphicFramePr/>
          <p:nvPr/>
        </p:nvGraphicFramePr>
        <p:xfrm>
          <a:off x="1403280" y="0"/>
          <a:ext cx="7740720" cy="634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0"/>
                    <a:ext cx="774072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250920" y="134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8000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1681200" cy="1000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16336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6300720" y="0"/>
          <a:ext cx="10447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0"/>
                    <a:ext cx="10447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132000" y="2565360"/>
          <a:ext cx="3124440" cy="282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2565360"/>
                    <a:ext cx="3124440" cy="28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38420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08000" y="4149720"/>
          <a:ext cx="676440" cy="67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4149720"/>
                    <a:ext cx="67644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716360" y="4005360"/>
          <a:ext cx="49860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6360" y="4005360"/>
                    <a:ext cx="4986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564000" y="476280"/>
          <a:ext cx="1447560" cy="1085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476280"/>
                    <a:ext cx="14475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6448320" y="3068640"/>
          <a:ext cx="1295640" cy="165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48320" y="3068640"/>
                    <a:ext cx="129564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7524720" y="4005360"/>
          <a:ext cx="592200" cy="91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6">
                    <a:alphaModFix amt="57000"/>
                  </a:blip>
                  <a:stretch/>
                </p:blipFill>
                <p:spPr>
                  <a:xfrm>
                    <a:off x="7524720" y="4005360"/>
                    <a:ext cx="592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195640" y="1268280"/>
          <a:ext cx="67284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95640" y="1268280"/>
                    <a:ext cx="672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7308720" y="260280"/>
          <a:ext cx="304920" cy="1114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308720" y="260280"/>
                    <a:ext cx="3049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5076720" y="981000"/>
          <a:ext cx="59868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76720" y="981000"/>
                    <a:ext cx="598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129680" y="1494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14560" y="1268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45840" y="1484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34560" y="4508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74560" y="4724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54200" y="4581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5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500"/>
                            </p:stCondLst>
                            <p:childTnLst>
                              <p:par>
                                <p:cTn id="5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500"/>
                            </p:stCondLst>
                            <p:childTnLst>
                              <p:par>
                                <p:cTn id="5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75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8000"/>
                            </p:stCondLst>
                            <p:childTnLst>
                              <p:par>
                                <p:cTn id="5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8500"/>
                            </p:stCondLst>
                            <p:childTnLst>
                              <p:par>
                                <p:cTn id="5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5327640" cy="5259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-838080" y="5638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5438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3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9865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50760" y="685800"/>
            <a:ext cx="628524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识字（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 </a:t>
            </a:r>
            <a:r>
              <a:rPr b="1" lang="zh-CN" sz="10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口耳目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80000" y="5013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执教  张健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51280" y="5589720"/>
            <a:ext cx="2664000" cy="0"/>
          </a:xfrm>
          <a:prstGeom prst="line">
            <a:avLst/>
          </a:prstGeom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123998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656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51640" y="522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entury Gothic"/>
              </a:rPr>
              <a:t>huān yí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77840" y="-27000"/>
            <a:ext cx="9145440" cy="6065640"/>
            <a:chOff x="177840" y="-27000"/>
            <a:chExt cx="9145440" cy="6065640"/>
          </a:xfrm>
        </p:grpSpPr>
        <p:sp>
          <p:nvSpPr>
            <p:cNvPr id="300" name=""/>
            <p:cNvSpPr/>
            <p:nvPr/>
          </p:nvSpPr>
          <p:spPr>
            <a:xfrm>
              <a:off x="179280" y="-27000"/>
              <a:ext cx="9144000" cy="60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2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十月一日，我和爸爸妈妈一起去乡下玩。乡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真美呀！禾苗乐弯了腰，小鸟在竹林中唱歌，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儿在山坡上吃草。我抱着小兔子坐在木凳上。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兔子耳朵长长的，眼睛像火红的宝石，口里不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地吃着萝卜。我轻轻地摸着它白白的毛，它用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柔的目光望着我，好像在说：“欢迎你！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75480" y="1224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65840" y="333360"/>
              <a:ext cx="50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New Gulim"/>
                  <a:ea typeface="New Gulim"/>
                </a:rPr>
                <a:t>q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24360" y="13413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yā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60720" y="134136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wā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7840" y="1341360"/>
              <a:ext cx="64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zhē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2560" y="13413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mě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95640" y="134136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miá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7280" y="230040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zu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59640" y="429264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má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20000" y="1341360"/>
              <a:ext cx="12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chàng g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85080" y="4245120"/>
              <a:ext cx="10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yòng wē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6720" y="33336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  <a:ea typeface="New Gulim"/>
                </a:rPr>
                <a:t>xiā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7280" y="1341360"/>
              <a:ext cx="5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0560" y="1341360"/>
              <a:ext cx="50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í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3120" y="2300400"/>
              <a:ext cx="50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p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51280" y="23493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entury Gothic"/>
                </a:rPr>
                <a:t>b</a:t>
              </a:r>
              <a:r>
                <a:rPr b="0" lang="zh-CN" sz="1800" spc="-1" strike="noStrike">
                  <a:solidFill>
                    <a:srgbClr val="000000"/>
                  </a:solidFill>
                  <a:latin typeface="Century Gothic"/>
                  <a:ea typeface="New Gulim"/>
                </a:rPr>
                <a:t>à</a:t>
              </a:r>
              <a:r>
                <a:rPr b="0" lang="zh-CN" sz="1800" spc="-1" strike="noStrike">
                  <a:solidFill>
                    <a:srgbClr val="000000"/>
                  </a:solidFill>
                  <a:latin typeface="Century Gothic"/>
                </a:rPr>
                <a:t>o z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91280" y="23493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dè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88040" y="3284640"/>
              <a:ext cx="80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á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92360" y="326088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  <a:ea typeface="Arial Unicode MS"/>
                </a:rPr>
                <a:t>yǎn jīng xià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75280" y="328464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ó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88360" y="328464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tí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38920" y="328464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bǎ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920" y="429264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76360" y="4292640"/>
              <a:ext cx="100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</a:rPr>
                <a:t>luó   b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59280" y="424512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qī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4560" y="42926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mō  z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58920" y="522936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  <a:ea typeface="Arial Unicode MS"/>
                </a:rPr>
                <a:t>guāng wà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19640" y="51577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  <a:ea typeface="Arial Unicode MS"/>
                </a:rPr>
                <a:t>h</a:t>
              </a:r>
              <a:r>
                <a:rPr b="0" lang="zh-CN" sz="1600" spc="-1" strike="noStrike">
                  <a:solidFill>
                    <a:srgbClr val="000000"/>
                  </a:solidFill>
                  <a:latin typeface="AvantGarde Bk BT"/>
                  <a:ea typeface="Arial Unicode MS"/>
                </a:rPr>
                <a:t>ǎ</a:t>
              </a:r>
              <a:r>
                <a:rPr b="0" lang="zh-CN" sz="1600" spc="-1" strike="noStrike">
                  <a:solidFill>
                    <a:srgbClr val="000000"/>
                  </a:solidFill>
                  <a:latin typeface="Century Gothic"/>
                  <a:ea typeface="Arial Unicode MS"/>
                </a:rPr>
                <a:t>o xià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1000" y="51768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New Gulim"/>
                </a:rPr>
                <a:t>ró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355400" y="561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79440" y="561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809000" y="155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076000" y="155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866560" y="155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341560" y="155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74560" y="25178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681960" y="25304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996120" y="3510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664880" y="3505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7117560" y="3510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88200" y="5432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-75708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59988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7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116000" y="193680"/>
            <a:ext cx="2808360" cy="1290600"/>
            <a:chOff x="1116000" y="193680"/>
            <a:chExt cx="2808360" cy="1290600"/>
          </a:xfrm>
        </p:grpSpPr>
        <p:sp>
          <p:nvSpPr>
            <p:cNvPr id="345" name=""/>
            <p:cNvSpPr/>
            <p:nvPr/>
          </p:nvSpPr>
          <p:spPr>
            <a:xfrm>
              <a:off x="1116000" y="476280"/>
              <a:ext cx="2808360" cy="10080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76560" y="193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58920" y="40464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我会写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71640" y="1773360"/>
            <a:ext cx="2305080" cy="2376360"/>
            <a:chOff x="971640" y="1773360"/>
            <a:chExt cx="2305080" cy="2376360"/>
          </a:xfrm>
        </p:grpSpPr>
        <p:sp>
          <p:nvSpPr>
            <p:cNvPr id="349" name=""/>
            <p:cNvSpPr/>
            <p:nvPr/>
          </p:nvSpPr>
          <p:spPr>
            <a:xfrm>
              <a:off x="971640" y="1773360"/>
              <a:ext cx="2305080" cy="237636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21840" y="1773360"/>
              <a:ext cx="0" cy="23720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1640" y="2959200"/>
              <a:ext cx="23007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219480" y="1773360"/>
            <a:ext cx="2360520" cy="2376360"/>
            <a:chOff x="3219480" y="1773360"/>
            <a:chExt cx="2360520" cy="2376360"/>
          </a:xfrm>
        </p:grpSpPr>
        <p:sp>
          <p:nvSpPr>
            <p:cNvPr id="353" name=""/>
            <p:cNvSpPr/>
            <p:nvPr/>
          </p:nvSpPr>
          <p:spPr>
            <a:xfrm>
              <a:off x="3219480" y="1773360"/>
              <a:ext cx="2360520" cy="237636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97400" y="1773360"/>
              <a:ext cx="0" cy="23720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19480" y="2959200"/>
              <a:ext cx="2356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580000" y="1773360"/>
            <a:ext cx="2232000" cy="2376360"/>
            <a:chOff x="5580000" y="1773360"/>
            <a:chExt cx="2232000" cy="2376360"/>
          </a:xfrm>
        </p:grpSpPr>
        <p:sp>
          <p:nvSpPr>
            <p:cNvPr id="357" name=""/>
            <p:cNvSpPr/>
            <p:nvPr/>
          </p:nvSpPr>
          <p:spPr>
            <a:xfrm>
              <a:off x="5580000" y="1773360"/>
              <a:ext cx="2232000" cy="237636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93840" y="1773360"/>
              <a:ext cx="0" cy="23720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80000" y="2959200"/>
              <a:ext cx="22280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575360" y="187632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6600"/>
                </a:solidFill>
                <a:latin typeface="Arial"/>
                <a:ea typeface="楷体_GB2312"/>
              </a:rPr>
              <a:t>十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6728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29760" y="189864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6600"/>
                </a:solidFill>
                <a:latin typeface="Arial"/>
                <a:ea typeface="楷体_GB2312"/>
              </a:rPr>
              <a:t>木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82280" y="19162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6600"/>
                </a:solidFill>
                <a:latin typeface="Arial"/>
                <a:ea typeface="楷体_GB2312"/>
              </a:rPr>
              <a:t>禾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8532720" y="551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3" dur="268356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8000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5327640" cy="5259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-82872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4" dur="93670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9" dur="24892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5327640" cy="525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82872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367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897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-9360"/>
            <a:ext cx="8351640" cy="68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5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895480" y="242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32000" y="1989000"/>
            <a:ext cx="7127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66"/>
                </a:solidFill>
                <a:latin typeface="Arial"/>
                <a:ea typeface="楷体_GB2312"/>
              </a:rPr>
              <a:t>谢谢指导！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4572000" y="333360"/>
          <a:ext cx="169236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3360"/>
                    <a:ext cx="16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2050920" y="260280"/>
          <a:ext cx="165924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60280"/>
                    <a:ext cx="165924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7093080" y="333360"/>
            <a:ext cx="1600200" cy="23749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459520" y="4437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cc0000"/>
                </a:solidFill>
                <a:latin typeface="Arial"/>
                <a:ea typeface="楷体_GB2312"/>
              </a:rPr>
              <a:t>禾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3520" y="4437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cc0000"/>
                </a:solidFill>
                <a:latin typeface="Arial"/>
                <a:ea typeface="楷体_GB2312"/>
              </a:rPr>
              <a:t>竹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428600" y="4437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cc0000"/>
                </a:solidFill>
                <a:latin typeface="Arial"/>
                <a:ea typeface="楷体_GB2312"/>
              </a:rPr>
              <a:t>木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>
            <a:off x="324000" y="3789360"/>
            <a:ext cx="1523880" cy="26956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50920" y="189000"/>
            <a:ext cx="1296720" cy="2520720"/>
          </a:xfrm>
          <a:prstGeom prst="wedgeEllipseCallout">
            <a:avLst>
              <a:gd name="adj1" fmla="val 24296"/>
              <a:gd name="adj2" fmla="val 85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Arial"/>
                <a:ea typeface="楷体_GB2312"/>
              </a:rPr>
              <a:t>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Arial"/>
                <a:ea typeface="楷体_GB2312"/>
              </a:rPr>
              <a:t>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Arial"/>
                <a:ea typeface="楷体_GB2312"/>
              </a:rPr>
              <a:t>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7"/>
          </p:cNvPr>
          <p:cNvSpPr/>
          <p:nvPr/>
        </p:nvSpPr>
        <p:spPr>
          <a:xfrm>
            <a:off x="6573960" y="64738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8406"/>
                </a:moveTo>
                <a:lnTo>
                  <a:pt x="24411" y="8406"/>
                </a:lnTo>
                <a:lnTo>
                  <a:pt x="28832" y="3794"/>
                </a:lnTo>
                <a:lnTo>
                  <a:pt x="28832" y="17806"/>
                </a:lnTo>
                <a:lnTo>
                  <a:pt x="24411" y="13194"/>
                </a:lnTo>
                <a:lnTo>
                  <a:pt x="19981" y="13194"/>
                </a:lnTo>
                <a:close/>
              </a:path>
              <a:path fill="darken" w="53975" h="21600">
                <a:moveTo>
                  <a:pt x="30486" y="10800"/>
                </a:moveTo>
                <a:lnTo>
                  <a:pt x="33994" y="10800"/>
                </a:lnTo>
              </a:path>
              <a:path fill="darken" w="53975" h="21600">
                <a:moveTo>
                  <a:pt x="30486" y="8406"/>
                </a:moveTo>
                <a:lnTo>
                  <a:pt x="33994" y="5639"/>
                </a:lnTo>
              </a:path>
              <a:path fill="darken" w="53975" h="21600">
                <a:moveTo>
                  <a:pt x="30486" y="13194"/>
                </a:moveTo>
                <a:lnTo>
                  <a:pt x="33994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8"/>
          </p:cNvPr>
          <p:cNvSpPr/>
          <p:nvPr/>
        </p:nvSpPr>
        <p:spPr>
          <a:xfrm>
            <a:off x="8229600" y="64008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8406"/>
                </a:moveTo>
                <a:lnTo>
                  <a:pt x="19015" y="8406"/>
                </a:lnTo>
                <a:lnTo>
                  <a:pt x="23437" y="3794"/>
                </a:lnTo>
                <a:lnTo>
                  <a:pt x="23437" y="17806"/>
                </a:lnTo>
                <a:lnTo>
                  <a:pt x="19015" y="13194"/>
                </a:lnTo>
                <a:lnTo>
                  <a:pt x="14585" y="13194"/>
                </a:lnTo>
                <a:close/>
              </a:path>
              <a:path fill="darken" w="43183" h="21600">
                <a:moveTo>
                  <a:pt x="25090" y="10800"/>
                </a:moveTo>
                <a:lnTo>
                  <a:pt x="28598" y="10800"/>
                </a:lnTo>
              </a:path>
              <a:path fill="darken" w="43183" h="21600">
                <a:moveTo>
                  <a:pt x="25090" y="8406"/>
                </a:moveTo>
                <a:lnTo>
                  <a:pt x="28598" y="5639"/>
                </a:lnTo>
              </a:path>
              <a:path fill="darken" w="43183" h="21600">
                <a:moveTo>
                  <a:pt x="25090" y="13194"/>
                </a:moveTo>
                <a:lnTo>
                  <a:pt x="28598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9"/>
          <a:stretch/>
        </p:blipFill>
        <p:spPr>
          <a:xfrm>
            <a:off x="75564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5" dur="2972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32000" y="260280"/>
          <a:ext cx="4608360" cy="22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60280"/>
                    <a:ext cx="460836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55840" y="4659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32360" y="2205000"/>
          <a:ext cx="2808360" cy="17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2205000"/>
                    <a:ext cx="28083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194560" y="306864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目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49280" y="269064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m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6676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87280" y="549360"/>
          <a:ext cx="252432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549360"/>
                    <a:ext cx="252432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708360" y="2781360"/>
          <a:ext cx="6922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781360"/>
                    <a:ext cx="692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758920" y="155736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鸟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58320" y="620640"/>
            <a:ext cx="231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Arial"/>
              </a:rPr>
              <a:t>ni</a:t>
            </a:r>
            <a:r>
              <a:rPr b="1" lang="zh-CN" sz="8000" spc="-1" strike="noStrike">
                <a:solidFill>
                  <a:srgbClr val="009999"/>
                </a:solidFill>
                <a:latin typeface="宋体"/>
              </a:rPr>
              <a:t>ǎ</a:t>
            </a:r>
            <a:r>
              <a:rPr b="1" lang="zh-CN" sz="80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77548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48720" y="576360"/>
            <a:ext cx="1765800" cy="4078080"/>
            <a:chOff x="6048720" y="576360"/>
            <a:chExt cx="1765800" cy="4078080"/>
          </a:xfrm>
        </p:grpSpPr>
        <p:sp>
          <p:nvSpPr>
            <p:cNvPr id="66" name=""/>
            <p:cNvSpPr/>
            <p:nvPr/>
          </p:nvSpPr>
          <p:spPr>
            <a:xfrm>
              <a:off x="6048720" y="1390680"/>
              <a:ext cx="1765800" cy="32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800" spc="-1" strike="noStrike">
                  <a:solidFill>
                    <a:srgbClr val="cc3399"/>
                  </a:solidFill>
                  <a:latin typeface="楷体_GB2312"/>
                  <a:ea typeface="楷体_GB2312"/>
                </a:rPr>
                <a:t>日</a:t>
              </a:r>
              <a:endParaRPr b="0" lang="en-US" sz="20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73520" y="576360"/>
              <a:ext cx="886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9999"/>
                  </a:solidFill>
                  <a:latin typeface="Arial"/>
                </a:rPr>
                <a:t>r</a:t>
              </a:r>
              <a:r>
                <a:rPr b="1" lang="en-US" sz="8000" spc="-1" strike="noStrike">
                  <a:solidFill>
                    <a:srgbClr val="009999"/>
                  </a:solidFill>
                  <a:latin typeface="宋体"/>
                </a:rPr>
                <a:t>ì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" name=""/>
          <p:cNvGraphicFramePr/>
          <p:nvPr/>
        </p:nvGraphicFramePr>
        <p:xfrm>
          <a:off x="3733920" y="3048120"/>
          <a:ext cx="129528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048120"/>
                    <a:ext cx="129528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219320" y="533520"/>
          <a:ext cx="285264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533520"/>
                    <a:ext cx="28526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62120" y="304920"/>
          <a:ext cx="106668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10666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175440" y="1306440"/>
          <a:ext cx="55728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5440" y="1306440"/>
                    <a:ext cx="557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629400" y="228600"/>
          <a:ext cx="95256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228600"/>
                    <a:ext cx="9525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57200" y="990720"/>
          <a:ext cx="40968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990720"/>
                    <a:ext cx="4096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809880" y="228600"/>
          <a:ext cx="71136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28600"/>
                    <a:ext cx="7113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581280" y="914400"/>
          <a:ext cx="27468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914400"/>
                    <a:ext cx="274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520" y="3048120"/>
          <a:ext cx="468360" cy="76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3048120"/>
                    <a:ext cx="468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838080" y="2286000"/>
          <a:ext cx="792360" cy="129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8080" y="2286000"/>
                    <a:ext cx="792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809880" y="2286000"/>
          <a:ext cx="936720" cy="1066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9880" y="2286000"/>
                    <a:ext cx="9367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657600" y="2971800"/>
          <a:ext cx="430200" cy="762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57600" y="2971800"/>
                    <a:ext cx="430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21"/>
          <a:stretch/>
        </p:blipFill>
        <p:spPr>
          <a:xfrm>
            <a:off x="6553080" y="1905120"/>
            <a:ext cx="1152720" cy="14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095880" y="3048120"/>
          <a:ext cx="609840" cy="4395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095880" y="3048120"/>
                    <a:ext cx="6098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90720" y="4572000"/>
          <a:ext cx="761760" cy="12096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990720" y="4572000"/>
                    <a:ext cx="76176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3520" y="5486400"/>
          <a:ext cx="347400" cy="5335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33520" y="5486400"/>
                    <a:ext cx="347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09880" y="4419720"/>
          <a:ext cx="665280" cy="1218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809880" y="4419720"/>
                    <a:ext cx="6652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581280" y="5486400"/>
          <a:ext cx="371520" cy="4762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581280" y="5486400"/>
                    <a:ext cx="371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04000" y="4508640"/>
          <a:ext cx="885960" cy="10857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6804000" y="4508640"/>
                    <a:ext cx="8859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477120" y="5410080"/>
          <a:ext cx="428400" cy="4287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477120" y="5410080"/>
                    <a:ext cx="428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1835280" y="620640"/>
            <a:ext cx="1108440" cy="1676160"/>
            <a:chOff x="1835280" y="620640"/>
            <a:chExt cx="1108440" cy="1676160"/>
          </a:xfrm>
        </p:grpSpPr>
        <p:sp>
          <p:nvSpPr>
            <p:cNvPr id="108" name=""/>
            <p:cNvSpPr/>
            <p:nvPr/>
          </p:nvSpPr>
          <p:spPr>
            <a:xfrm>
              <a:off x="1835280" y="739800"/>
              <a:ext cx="1066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口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7240" y="620640"/>
              <a:ext cx="90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k</a:t>
              </a:r>
              <a:r>
                <a:rPr b="1" lang="en-US" sz="3200" spc="-1" strike="noStrike">
                  <a:solidFill>
                    <a:srgbClr val="006600"/>
                  </a:solidFill>
                  <a:latin typeface="宋体"/>
                </a:rPr>
                <a:t>ǒ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716360" y="0"/>
            <a:ext cx="1295280" cy="1872720"/>
            <a:chOff x="4716360" y="0"/>
            <a:chExt cx="1295280" cy="1872720"/>
          </a:xfrm>
        </p:grpSpPr>
        <p:sp>
          <p:nvSpPr>
            <p:cNvPr id="111" name=""/>
            <p:cNvSpPr/>
            <p:nvPr/>
          </p:nvSpPr>
          <p:spPr>
            <a:xfrm>
              <a:off x="4716360" y="315720"/>
              <a:ext cx="1295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耳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29480" y="0"/>
              <a:ext cx="74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00"/>
                  </a:solidFill>
                  <a:latin typeface="宋体"/>
                </a:rPr>
                <a:t> </a:t>
              </a:r>
              <a:r>
                <a:rPr b="1" lang="en-US" sz="3600" spc="-1" strike="noStrike">
                  <a:solidFill>
                    <a:srgbClr val="006600"/>
                  </a:solidFill>
                  <a:latin typeface="宋体"/>
                </a:rPr>
                <a:t>ě</a:t>
              </a:r>
              <a:r>
                <a:rPr b="1" lang="en-US" sz="36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67640" y="157320"/>
            <a:ext cx="1247760" cy="1833120"/>
            <a:chOff x="7667640" y="157320"/>
            <a:chExt cx="1247760" cy="1833120"/>
          </a:xfrm>
        </p:grpSpPr>
        <p:sp>
          <p:nvSpPr>
            <p:cNvPr id="114" name=""/>
            <p:cNvSpPr/>
            <p:nvPr/>
          </p:nvSpPr>
          <p:spPr>
            <a:xfrm>
              <a:off x="7667640" y="433440"/>
              <a:ext cx="1066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羊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6640" y="157320"/>
              <a:ext cx="114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1" lang="zh-CN" sz="3200" spc="-1" strike="noStrike">
                  <a:solidFill>
                    <a:srgbClr val="006600"/>
                  </a:solidFill>
                  <a:latin typeface="宋体"/>
                </a:rPr>
                <a:t>á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692360" y="2492280"/>
            <a:ext cx="1349280" cy="1801440"/>
            <a:chOff x="1692360" y="2492280"/>
            <a:chExt cx="1349280" cy="1801440"/>
          </a:xfrm>
        </p:grpSpPr>
        <p:sp>
          <p:nvSpPr>
            <p:cNvPr id="117" name=""/>
            <p:cNvSpPr/>
            <p:nvPr/>
          </p:nvSpPr>
          <p:spPr>
            <a:xfrm>
              <a:off x="1692360" y="2736720"/>
              <a:ext cx="1349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兔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4440" y="24922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t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Arial"/>
                </a:rPr>
                <a:t>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788000" y="2489040"/>
            <a:ext cx="1105200" cy="1804680"/>
            <a:chOff x="4788000" y="2489040"/>
            <a:chExt cx="1105200" cy="1804680"/>
          </a:xfrm>
        </p:grpSpPr>
        <p:sp>
          <p:nvSpPr>
            <p:cNvPr id="120" name=""/>
            <p:cNvSpPr/>
            <p:nvPr/>
          </p:nvSpPr>
          <p:spPr>
            <a:xfrm>
              <a:off x="4788000" y="2736720"/>
              <a:ext cx="1066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月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12640" y="248904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yu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  <a:ea typeface="Arial"/>
                </a:rPr>
                <a:t>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67640" y="2349360"/>
            <a:ext cx="1279440" cy="1819080"/>
            <a:chOff x="7667640" y="2349360"/>
            <a:chExt cx="1279440" cy="1819080"/>
          </a:xfrm>
        </p:grpSpPr>
        <p:sp>
          <p:nvSpPr>
            <p:cNvPr id="123" name=""/>
            <p:cNvSpPr/>
            <p:nvPr/>
          </p:nvSpPr>
          <p:spPr>
            <a:xfrm>
              <a:off x="7667640" y="2611440"/>
              <a:ext cx="127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火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14240" y="2349360"/>
              <a:ext cx="9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hu</a:t>
              </a:r>
              <a:r>
                <a:rPr b="1" lang="zh-CN" sz="3200" spc="-1" strike="noStrike">
                  <a:solidFill>
                    <a:srgbClr val="006600"/>
                  </a:solidFill>
                  <a:latin typeface="宋体"/>
                </a:rPr>
                <a:t>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35280" y="4724280"/>
            <a:ext cx="1346040" cy="1801440"/>
            <a:chOff x="1835280" y="4724280"/>
            <a:chExt cx="1346040" cy="1801440"/>
          </a:xfrm>
        </p:grpSpPr>
        <p:sp>
          <p:nvSpPr>
            <p:cNvPr id="126" name=""/>
            <p:cNvSpPr/>
            <p:nvPr/>
          </p:nvSpPr>
          <p:spPr>
            <a:xfrm>
              <a:off x="1835280" y="4968720"/>
              <a:ext cx="1346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木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19320" y="4724280"/>
              <a:ext cx="79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Arial"/>
                </a:rPr>
                <a:t>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788000" y="4653000"/>
            <a:ext cx="1279440" cy="1820520"/>
            <a:chOff x="4788000" y="4653000"/>
            <a:chExt cx="1279440" cy="1820520"/>
          </a:xfrm>
        </p:grpSpPr>
        <p:sp>
          <p:nvSpPr>
            <p:cNvPr id="129" name=""/>
            <p:cNvSpPr/>
            <p:nvPr/>
          </p:nvSpPr>
          <p:spPr>
            <a:xfrm>
              <a:off x="4788000" y="4916520"/>
              <a:ext cx="127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禾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39720" y="465300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Arial"/>
                </a:rPr>
                <a:t>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596360" y="4581360"/>
            <a:ext cx="1380960" cy="1801800"/>
            <a:chOff x="7596360" y="4581360"/>
            <a:chExt cx="1380960" cy="1801800"/>
          </a:xfrm>
        </p:grpSpPr>
        <p:sp>
          <p:nvSpPr>
            <p:cNvPr id="132" name=""/>
            <p:cNvSpPr/>
            <p:nvPr/>
          </p:nvSpPr>
          <p:spPr>
            <a:xfrm>
              <a:off x="7596360" y="4826160"/>
              <a:ext cx="138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竹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12360" y="4581360"/>
              <a:ext cx="8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zh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  <a:ea typeface="Arial"/>
                </a:rPr>
                <a:t>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36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8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7148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11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333360"/>
          <a:ext cx="194472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1944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484360" y="260280"/>
          <a:ext cx="208764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260280"/>
                    <a:ext cx="208764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482920" y="2276640"/>
          <a:ext cx="1944720" cy="17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2920" y="2276640"/>
                    <a:ext cx="19447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50920" y="2276640"/>
          <a:ext cx="2087640" cy="16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2276640"/>
                    <a:ext cx="2087640" cy="16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50920" y="4292640"/>
          <a:ext cx="1944720" cy="171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4292640"/>
                    <a:ext cx="19447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484360" y="4365720"/>
          <a:ext cx="2087640" cy="16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4360" y="4365720"/>
                    <a:ext cx="2087640" cy="16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714920" y="333360"/>
          <a:ext cx="1944720" cy="171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4920" y="333360"/>
                    <a:ext cx="1944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020000" y="4365720"/>
          <a:ext cx="2087640" cy="168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20000" y="4365720"/>
                    <a:ext cx="2087640" cy="16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020000" y="2205000"/>
          <a:ext cx="1944720" cy="1714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20000" y="2205000"/>
                    <a:ext cx="1944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020000" y="333360"/>
          <a:ext cx="2087640" cy="168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20000" y="333360"/>
                    <a:ext cx="208764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4292640"/>
          <a:ext cx="1944720" cy="1714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16360" y="4292640"/>
                    <a:ext cx="19447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716360" y="2349360"/>
          <a:ext cx="2087640" cy="1687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16360" y="2349360"/>
                    <a:ext cx="208764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02640" y="18576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口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60200" y="18900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耳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92200" y="18900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目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8200" y="220500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鸟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60200" y="429264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木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24200" y="206064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88560" y="213372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兔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5120" y="422100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火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2200" y="227664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43360" y="18576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羊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6640" y="414648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禾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7280" y="429264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  <a:ea typeface="楷体_GB2312"/>
              </a:rPr>
              <a:t>竹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5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26"/>
          </p:cNvPr>
          <p:cNvSpPr/>
          <p:nvPr/>
        </p:nvSpPr>
        <p:spPr>
          <a:xfrm>
            <a:off x="6372360" y="64008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8406"/>
                </a:moveTo>
                <a:lnTo>
                  <a:pt x="19015" y="8406"/>
                </a:lnTo>
                <a:lnTo>
                  <a:pt x="23437" y="3794"/>
                </a:lnTo>
                <a:lnTo>
                  <a:pt x="23437" y="17806"/>
                </a:lnTo>
                <a:lnTo>
                  <a:pt x="19015" y="13194"/>
                </a:lnTo>
                <a:lnTo>
                  <a:pt x="14585" y="13194"/>
                </a:lnTo>
                <a:close/>
              </a:path>
              <a:path fill="darken" w="43183" h="21600">
                <a:moveTo>
                  <a:pt x="25090" y="10800"/>
                </a:moveTo>
                <a:lnTo>
                  <a:pt x="28598" y="10800"/>
                </a:lnTo>
              </a:path>
              <a:path fill="darken" w="43183" h="21600">
                <a:moveTo>
                  <a:pt x="25090" y="8406"/>
                </a:moveTo>
                <a:lnTo>
                  <a:pt x="28598" y="5639"/>
                </a:lnTo>
              </a:path>
              <a:path fill="darken" w="43183" h="21600">
                <a:moveTo>
                  <a:pt x="25090" y="13194"/>
                </a:moveTo>
                <a:lnTo>
                  <a:pt x="28598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800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684360" y="333360"/>
          <a:ext cx="201600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201600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763640" y="1268280"/>
            <a:ext cx="1366920" cy="8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4140360" y="260280"/>
          <a:ext cx="1542960" cy="22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0360" y="260280"/>
                    <a:ext cx="15429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948360" y="260280"/>
          <a:ext cx="1684440" cy="20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48360" y="260280"/>
                    <a:ext cx="168444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891360" y="191628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009999"/>
                </a:solidFill>
                <a:latin typeface="Arial"/>
                <a:ea typeface="楷体_GB2312"/>
              </a:rPr>
              <a:t>目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63160" y="206064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cc3399"/>
                </a:solidFill>
                <a:latin typeface="Arial"/>
                <a:ea typeface="楷体_GB2312"/>
              </a:rPr>
              <a:t>耳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1572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333399"/>
                </a:solidFill>
                <a:latin typeface="Arial"/>
                <a:ea typeface="楷体_GB2312"/>
              </a:rPr>
              <a:t>口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250920" y="4981680"/>
            <a:ext cx="1228680" cy="1687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92360" y="5373720"/>
            <a:ext cx="3311280" cy="1079640"/>
          </a:xfrm>
          <a:prstGeom prst="cloudCallout">
            <a:avLst>
              <a:gd name="adj1" fmla="val -60976"/>
              <a:gd name="adj2" fmla="val 33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544500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一指就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371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684360" y="333360"/>
          <a:ext cx="201600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201600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763640" y="1268280"/>
            <a:ext cx="1366920" cy="8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4140360" y="260280"/>
          <a:ext cx="1542960" cy="22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0360" y="260280"/>
                    <a:ext cx="15429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948360" y="260280"/>
          <a:ext cx="1684440" cy="20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48360" y="260280"/>
                    <a:ext cx="168444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891360" y="191628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009999"/>
                </a:solidFill>
                <a:latin typeface="Arial"/>
                <a:ea typeface="楷体_GB2312"/>
              </a:rPr>
              <a:t>目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63160" y="206064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cc0000"/>
                </a:solidFill>
                <a:latin typeface="Arial"/>
                <a:ea typeface="楷体_GB2312"/>
              </a:rPr>
              <a:t>耳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1572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333399"/>
                </a:solidFill>
                <a:latin typeface="Arial"/>
                <a:ea typeface="楷体_GB2312"/>
              </a:rPr>
              <a:t>口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250920" y="4981680"/>
            <a:ext cx="1228680" cy="1687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692360" y="5373720"/>
            <a:ext cx="2950920" cy="1079640"/>
          </a:xfrm>
          <a:prstGeom prst="cloudCallout">
            <a:avLst>
              <a:gd name="adj1" fmla="val -62319"/>
              <a:gd name="adj2" fmla="val 33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5445000"/>
            <a:ext cx="32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一指就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00:46Z</dcterms:created>
  <dc:creator>一办</dc:creator>
  <dc:description/>
  <dc:language>en-US</dc:language>
  <cp:lastModifiedBy>a</cp:lastModifiedBy>
  <dcterms:modified xsi:type="dcterms:W3CDTF">2008-11-11T08:17:22Z</dcterms:modified>
  <cp:revision>134</cp:revision>
  <dc:subject/>
  <dc:title>幻灯片 1</dc:title>
</cp:coreProperties>
</file>