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6.png" ContentType="image/png"/>
  <Override PartName="/ppt/media/image34.png" ContentType="image/png"/>
  <Override PartName="/ppt/media/image27.png" ContentType="image/png"/>
  <Override PartName="/ppt/media/image15.png" ContentType="image/png"/>
  <Override PartName="/ppt/media/image28.png" ContentType="image/png"/>
  <Override PartName="/ppt/media/image20.png" ContentType="image/png"/>
  <Override PartName="/ppt/media/image57.png" ContentType="image/png"/>
  <Override PartName="/ppt/media/image35.png" ContentType="image/png"/>
  <Override PartName="/ppt/media/image30.png" ContentType="image/png"/>
  <Override PartName="/ppt/media/image5.png" ContentType="image/png"/>
  <Override PartName="/ppt/media/image17.png" ContentType="image/png"/>
  <Override PartName="/ppt/media/image46.png" ContentType="image/png"/>
  <Override PartName="/ppt/media/image22.png" ContentType="image/png"/>
  <Override PartName="/ppt/media/image4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chimes.wav" ContentType="audio/x-wav"/>
  <Override PartName="/ppt/media/image29.png" ContentType="image/png"/>
  <Override PartName="/ppt/media/image19.png" ContentType="image/png"/>
  <Override PartName="/ppt/media/image42.jpeg" ContentType="image/jpeg"/>
  <Override PartName="/ppt/media/image6.png" ContentType="image/png"/>
  <Override PartName="/ppt/media/camera.wav" ContentType="audio/x-wav"/>
  <Override PartName="/ppt/media/image18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51.jpeg" ContentType="image/jpeg"/>
  <Override PartName="/ppt/media/image13.png" ContentType="image/png"/>
  <Override PartName="/ppt/media/image52.jpeg" ContentType="image/jpeg"/>
  <Override PartName="/ppt/media/image53.png" ContentType="image/png"/>
  <Override PartName="/ppt/media/image56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8F3-A9E6-4053-BECA-4BC0532F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5B9-D3CC-4EF8-AF18-9552BB10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4E7-2850-4DBB-93D4-9C97C097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294-9E1A-44B0-B6B1-E6AAB431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C29-F7EA-4EF2-BEC2-7DFEC2D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71A-E6D5-441B-B047-8AF7690C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38F-5771-4900-8BD0-43206838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488-BD32-4558-ADB7-B31A6CB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364-045B-4B28-8246-193C931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CC0-80AF-4738-B5A7-1A96D1E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CDE-8785-4953-9ADE-80C49AA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61A-356B-4695-ABB1-9F91946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06C6-C15E-401F-8E6A-B7215EE37CC3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png"/><Relationship Id="rId3" Type="http://schemas.openxmlformats.org/officeDocument/2006/relationships/hyperlink" Target="shi.exe" TargetMode="External"/><Relationship Id="rId4" Type="http://schemas.openxmlformats.org/officeDocument/2006/relationships/image" Target="../media/image54.jpeg"/><Relationship Id="rId5" Type="http://schemas.openxmlformats.org/officeDocument/2006/relationships/hyperlink" Target="mu.exe" TargetMode="External"/><Relationship Id="rId6" Type="http://schemas.openxmlformats.org/officeDocument/2006/relationships/image" Target="../media/image55.jpeg"/><Relationship Id="rId7" Type="http://schemas.openxmlformats.org/officeDocument/2006/relationships/hyperlink" Target="he.exe" TargetMode="External"/><Relationship Id="rId8" Type="http://schemas.openxmlformats.org/officeDocument/2006/relationships/image" Target="../media/image56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38480" y="2746440"/>
            <a:ext cx="684360" cy="1674360"/>
            <a:chOff x="7638480" y="2746440"/>
            <a:chExt cx="684360" cy="1674360"/>
          </a:xfrm>
        </p:grpSpPr>
        <p:sp>
          <p:nvSpPr>
            <p:cNvPr id="117" name=""/>
            <p:cNvSpPr/>
            <p:nvPr/>
          </p:nvSpPr>
          <p:spPr>
            <a:xfrm>
              <a:off x="7638480" y="3321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兔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45320" y="274644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tù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600200"/>
            <a:ext cx="344808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2298600"/>
            <a:ext cx="2361960" cy="229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260360" y="5084640"/>
            <a:ext cx="6838920" cy="1379880"/>
            <a:chOff x="1260360" y="5084640"/>
            <a:chExt cx="6838920" cy="1379880"/>
          </a:xfrm>
        </p:grpSpPr>
        <p:sp>
          <p:nvSpPr>
            <p:cNvPr id="123" name=""/>
            <p:cNvSpPr/>
            <p:nvPr/>
          </p:nvSpPr>
          <p:spPr>
            <a:xfrm>
              <a:off x="1260360" y="51516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羊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94200" y="51516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鸟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5784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兔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71640" y="1557360"/>
            <a:ext cx="7126200" cy="3602160"/>
            <a:chOff x="971640" y="1557360"/>
            <a:chExt cx="7126200" cy="360216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rcRect l="69125" t="56016" r="15057" b="25962"/>
            <a:stretch/>
          </p:blipFill>
          <p:spPr>
            <a:xfrm>
              <a:off x="6516720" y="1557360"/>
              <a:ext cx="1581120" cy="22431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rcRect l="9875" t="57530" r="70369" b="28182"/>
            <a:stretch/>
          </p:blipFill>
          <p:spPr>
            <a:xfrm>
              <a:off x="971640" y="1557360"/>
              <a:ext cx="1728720" cy="22604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rcRect l="40110" t="56016" r="43623" b="26758"/>
            <a:stretch/>
          </p:blipFill>
          <p:spPr>
            <a:xfrm>
              <a:off x="3851280" y="1557360"/>
              <a:ext cx="1584360" cy="22464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rcRect l="83815" t="69317" r="8723" b="22853"/>
            <a:stretch/>
          </p:blipFill>
          <p:spPr>
            <a:xfrm>
              <a:off x="6804000" y="4005360"/>
              <a:ext cx="903240" cy="11491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rcRect l="23798" t="69557" r="66880" b="23665"/>
            <a:stretch/>
          </p:blipFill>
          <p:spPr>
            <a:xfrm>
              <a:off x="1476360" y="4000680"/>
              <a:ext cx="1030320" cy="1155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7"/>
            <a:srcRect l="54115" t="69317" r="37802" b="22853"/>
            <a:stretch/>
          </p:blipFill>
          <p:spPr>
            <a:xfrm>
              <a:off x="4141800" y="4008600"/>
              <a:ext cx="1006560" cy="1150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826920" y="314280"/>
            <a:ext cx="7345440" cy="2013840"/>
            <a:chOff x="826920" y="314280"/>
            <a:chExt cx="7345440" cy="2013840"/>
          </a:xfrm>
        </p:grpSpPr>
        <p:sp>
          <p:nvSpPr>
            <p:cNvPr id="134" name=""/>
            <p:cNvSpPr/>
            <p:nvPr/>
          </p:nvSpPr>
          <p:spPr>
            <a:xfrm>
              <a:off x="826920" y="314280"/>
              <a:ext cx="2016360" cy="20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y</a:t>
              </a:r>
              <a:r>
                <a:rPr b="1" lang="en-US" sz="6600" spc="-1" strike="noStrike">
                  <a:solidFill>
                    <a:srgbClr val="800080"/>
                  </a:solidFill>
                  <a:latin typeface="方正姚体"/>
                  <a:ea typeface="方正姚体"/>
                </a:rPr>
                <a:t>á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ng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6724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ni</a:t>
              </a:r>
              <a:r>
                <a:rPr b="1" lang="en-US" sz="6000" spc="-1" strike="noStrike">
                  <a:solidFill>
                    <a:srgbClr val="800080"/>
                  </a:solidFill>
                  <a:latin typeface="方正姚体"/>
                  <a:ea typeface="方正姚体"/>
                </a:rPr>
                <a:t>ǎ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o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636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t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ù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679880" y="2746440"/>
            <a:ext cx="683640" cy="1629720"/>
            <a:chOff x="7679880" y="2746440"/>
            <a:chExt cx="683640" cy="1629720"/>
          </a:xfrm>
        </p:grpSpPr>
        <p:sp>
          <p:nvSpPr>
            <p:cNvPr id="140" name=""/>
            <p:cNvSpPr/>
            <p:nvPr/>
          </p:nvSpPr>
          <p:spPr>
            <a:xfrm>
              <a:off x="7679880" y="3276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日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97520" y="27464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80"/>
                  </a:solidFill>
                  <a:latin typeface="Times New Roman"/>
                </a:rPr>
                <a:t>rì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3505320" cy="2705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1981440" cy="195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503120" y="2670120"/>
            <a:ext cx="1020600" cy="1674360"/>
            <a:chOff x="7503120" y="2670120"/>
            <a:chExt cx="1020600" cy="1674360"/>
          </a:xfrm>
        </p:grpSpPr>
        <p:sp>
          <p:nvSpPr>
            <p:cNvPr id="148" name=""/>
            <p:cNvSpPr/>
            <p:nvPr/>
          </p:nvSpPr>
          <p:spPr>
            <a:xfrm>
              <a:off x="7638480" y="32450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月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03120" y="2670120"/>
              <a:ext cx="10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yuè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962000"/>
            <a:ext cx="3581640" cy="3067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191120" y="2374920"/>
            <a:ext cx="2233440" cy="216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2520720" cy="367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349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huǒ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342900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火</a:t>
            </a:r>
            <a:endParaRPr b="0" lang="en-US" sz="7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260360" y="5084640"/>
            <a:ext cx="6908760" cy="1389240"/>
            <a:chOff x="1260360" y="5084640"/>
            <a:chExt cx="6908760" cy="1389240"/>
          </a:xfrm>
        </p:grpSpPr>
        <p:sp>
          <p:nvSpPr>
            <p:cNvPr id="158" name=""/>
            <p:cNvSpPr/>
            <p:nvPr/>
          </p:nvSpPr>
          <p:spPr>
            <a:xfrm>
              <a:off x="1260360" y="51516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日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70520" y="516096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月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768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火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24040" y="404640"/>
            <a:ext cx="7635600" cy="1008360"/>
            <a:chOff x="824040" y="404640"/>
            <a:chExt cx="7635600" cy="1008360"/>
          </a:xfrm>
        </p:grpSpPr>
        <p:sp>
          <p:nvSpPr>
            <p:cNvPr id="162" name=""/>
            <p:cNvSpPr/>
            <p:nvPr/>
          </p:nvSpPr>
          <p:spPr>
            <a:xfrm>
              <a:off x="82404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r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ì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016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yu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è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4364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hu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ǒ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55640" y="1700280"/>
            <a:ext cx="7851960" cy="3166560"/>
            <a:chOff x="755640" y="1700280"/>
            <a:chExt cx="7851960" cy="3166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rcRect l="66298" t="21747" r="9305" b="64662"/>
            <a:stretch/>
          </p:blipFill>
          <p:spPr>
            <a:xfrm>
              <a:off x="6303960" y="1700280"/>
              <a:ext cx="2303640" cy="1510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rcRect l="8142" t="23260" r="67461" b="64434"/>
            <a:stretch/>
          </p:blipFill>
          <p:spPr>
            <a:xfrm>
              <a:off x="755640" y="1700280"/>
              <a:ext cx="2232000" cy="1510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rcRect l="37220" t="23172" r="38383" b="65005"/>
            <a:stretch/>
          </p:blipFill>
          <p:spPr>
            <a:xfrm>
              <a:off x="3705120" y="1700280"/>
              <a:ext cx="1944720" cy="14824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rcRect l="79122" t="35271" r="9305" b="59117"/>
            <a:stretch/>
          </p:blipFill>
          <p:spPr>
            <a:xfrm>
              <a:off x="6807240" y="3574800"/>
              <a:ext cx="1525680" cy="10760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rcRect l="23338" t="34927" r="67351" b="59137"/>
            <a:stretch/>
          </p:blipFill>
          <p:spPr>
            <a:xfrm>
              <a:off x="1185840" y="3644640"/>
              <a:ext cx="1298520" cy="11584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rcRect l="53481" t="33462" r="38383" b="59077"/>
            <a:stretch/>
          </p:blipFill>
          <p:spPr>
            <a:xfrm>
              <a:off x="4141800" y="3495600"/>
              <a:ext cx="950760" cy="13712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506720" y="2612880"/>
            <a:ext cx="1096560" cy="1655280"/>
            <a:chOff x="7506720" y="2612880"/>
            <a:chExt cx="1096560" cy="1655280"/>
          </a:xfrm>
        </p:grpSpPr>
        <p:sp>
          <p:nvSpPr>
            <p:cNvPr id="175" name=""/>
            <p:cNvSpPr/>
            <p:nvPr/>
          </p:nvSpPr>
          <p:spPr>
            <a:xfrm>
              <a:off x="7755840" y="3168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木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06720" y="2612880"/>
              <a:ext cx="109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Book Antiqua"/>
                </a:rPr>
                <a:t>mù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3520" y="2297160"/>
            <a:ext cx="2987640" cy="2579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16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79880" y="2746440"/>
            <a:ext cx="776880" cy="1674360"/>
            <a:chOff x="7679880" y="2746440"/>
            <a:chExt cx="776880" cy="1674360"/>
          </a:xfrm>
        </p:grpSpPr>
        <p:sp>
          <p:nvSpPr>
            <p:cNvPr id="183" name=""/>
            <p:cNvSpPr/>
            <p:nvPr/>
          </p:nvSpPr>
          <p:spPr>
            <a:xfrm>
              <a:off x="7679880" y="3321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禾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16600" y="27464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hé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2152800"/>
            <a:ext cx="3352680" cy="30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2900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567560" y="2746440"/>
            <a:ext cx="1050840" cy="1674360"/>
            <a:chOff x="7567560" y="2746440"/>
            <a:chExt cx="1050840" cy="1674360"/>
          </a:xfrm>
        </p:grpSpPr>
        <p:sp>
          <p:nvSpPr>
            <p:cNvPr id="191" name=""/>
            <p:cNvSpPr/>
            <p:nvPr/>
          </p:nvSpPr>
          <p:spPr>
            <a:xfrm>
              <a:off x="7679880" y="3321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竹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7560" y="2746440"/>
              <a:ext cx="105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zhú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900080"/>
            <a:ext cx="3733920" cy="3324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343400" y="2386080"/>
            <a:ext cx="2146320" cy="2109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03280" y="5084640"/>
            <a:ext cx="6983640" cy="1389240"/>
            <a:chOff x="1403280" y="5084640"/>
            <a:chExt cx="6983640" cy="1389240"/>
          </a:xfrm>
        </p:grpSpPr>
        <p:sp>
          <p:nvSpPr>
            <p:cNvPr id="197" name=""/>
            <p:cNvSpPr/>
            <p:nvPr/>
          </p:nvSpPr>
          <p:spPr>
            <a:xfrm>
              <a:off x="1403280" y="51516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木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38560" y="516096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禾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4548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竹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44720" y="189000"/>
            <a:ext cx="7343640" cy="1013040"/>
            <a:chOff x="1044720" y="189000"/>
            <a:chExt cx="7343640" cy="1013040"/>
          </a:xfrm>
        </p:grpSpPr>
        <p:sp>
          <p:nvSpPr>
            <p:cNvPr id="201" name=""/>
            <p:cNvSpPr/>
            <p:nvPr/>
          </p:nvSpPr>
          <p:spPr>
            <a:xfrm>
              <a:off x="1044720" y="19368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m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ù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5280" y="18900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h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é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72360" y="18900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zh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</a:rPr>
                <a:t>ú</a:t>
              </a: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042920" y="1413000"/>
            <a:ext cx="7243920" cy="3821040"/>
            <a:chOff x="1042920" y="1413000"/>
            <a:chExt cx="7243920" cy="38210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rcRect l="69927" t="55285" r="14324" b="28944"/>
            <a:stretch/>
          </p:blipFill>
          <p:spPr>
            <a:xfrm>
              <a:off x="6659640" y="1413000"/>
              <a:ext cx="1627200" cy="2374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06" name="" descr=""/>
            <p:cNvPicPr/>
            <p:nvPr/>
          </p:nvPicPr>
          <p:blipFill>
            <a:blip r:embed="rId3"/>
            <a:srcRect l="11660" t="55285" r="73236" b="28776"/>
            <a:stretch/>
          </p:blipFill>
          <p:spPr>
            <a:xfrm>
              <a:off x="1042920" y="1413000"/>
              <a:ext cx="1855800" cy="2376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07" name="" descr=""/>
            <p:cNvPicPr/>
            <p:nvPr/>
          </p:nvPicPr>
          <p:blipFill>
            <a:blip r:embed="rId4"/>
            <a:srcRect l="40733" t="55285" r="44176" b="29586"/>
            <a:stretch/>
          </p:blipFill>
          <p:spPr>
            <a:xfrm>
              <a:off x="3924360" y="1413000"/>
              <a:ext cx="1628640" cy="2376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08" name="" descr=""/>
            <p:cNvPicPr/>
            <p:nvPr/>
          </p:nvPicPr>
          <p:blipFill>
            <a:blip r:embed="rId5"/>
            <a:srcRect l="81489" t="68561" r="9305" b="24749"/>
            <a:stretch/>
          </p:blipFill>
          <p:spPr>
            <a:xfrm>
              <a:off x="6948360" y="4005360"/>
              <a:ext cx="1024200" cy="10843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09" name="" descr=""/>
            <p:cNvPicPr/>
            <p:nvPr/>
          </p:nvPicPr>
          <p:blipFill>
            <a:blip r:embed="rId6"/>
            <a:srcRect l="25624" t="68454" r="67461" b="24749"/>
            <a:stretch/>
          </p:blipFill>
          <p:spPr>
            <a:xfrm>
              <a:off x="1616040" y="3932280"/>
              <a:ext cx="865080" cy="1241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10" name="" descr=""/>
            <p:cNvPicPr/>
            <p:nvPr/>
          </p:nvPicPr>
          <p:blipFill>
            <a:blip r:embed="rId7"/>
            <a:srcRect l="54138" t="68589" r="38383" b="24749"/>
            <a:stretch/>
          </p:blipFill>
          <p:spPr>
            <a:xfrm>
              <a:off x="4284720" y="3936960"/>
              <a:ext cx="927000" cy="12970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1600200"/>
            <a:ext cx="5058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日 月 兔 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895480"/>
            <a:ext cx="4419360" cy="1752840"/>
          </a:xfrm>
          <a:prstGeom prst="cloudCallout">
            <a:avLst>
              <a:gd name="adj1" fmla="val 72953"/>
              <a:gd name="adj2" fmla="val 67300"/>
            </a:avLst>
          </a:prstGeom>
          <a:solidFill>
            <a:srgbClr val="ffefe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你认识吗？怎么认识的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219320" y="98280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410080" y="3290760"/>
            <a:ext cx="30783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371600" y="9921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54864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3276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53355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30495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10666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10666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3004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omic Sans MS"/>
                <a:ea typeface="方正姚体"/>
              </a:rPr>
              <a:t>y</a:t>
            </a: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á</a:t>
            </a:r>
            <a:r>
              <a:rPr b="0" lang="zh-CN" sz="4000" spc="-1" strike="noStrike">
                <a:solidFill>
                  <a:srgbClr val="800080"/>
                </a:solidFill>
                <a:latin typeface="Comic Sans MS"/>
                <a:ea typeface="方正姚体"/>
              </a:rPr>
              <a:t>n</a:t>
            </a:r>
            <a:r>
              <a:rPr b="0" lang="zh-CN" sz="4400" spc="-1" strike="noStrike">
                <a:solidFill>
                  <a:srgbClr val="800080"/>
                </a:solidFill>
                <a:latin typeface="Comic Sans MS"/>
                <a:ea typeface="方正姚体"/>
              </a:rPr>
              <a:t>ɡ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羊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228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niǎo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鸟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228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tù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兔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213516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rì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日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236232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huǒ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火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22096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yuè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月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421160"/>
            <a:ext cx="12193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mù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木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49568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hé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禾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53280" y="442116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方正姚体"/>
              </a:rPr>
              <a:t>zhú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竹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154080"/>
            <a:ext cx="1347840" cy="1625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200400" y="228600"/>
            <a:ext cx="1347840" cy="1625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400800" y="304920"/>
            <a:ext cx="1303200" cy="1600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0" y="23637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3200400" y="2590920"/>
            <a:ext cx="1347840" cy="160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6248520" y="2438280"/>
            <a:ext cx="1347840" cy="16002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152280" y="4692600"/>
            <a:ext cx="1333800" cy="1623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3276720" y="4782960"/>
            <a:ext cx="1322280" cy="1614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6324480" y="4800600"/>
            <a:ext cx="1347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66880" y="1219320"/>
            <a:ext cx="3962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口   耳   目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羊   鸟   兔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日   月   火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木   禾   竹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19320" y="1050840"/>
            <a:ext cx="1977840" cy="54936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1162080" y="1720800"/>
            <a:ext cx="6762600" cy="4070520"/>
            <a:chOff x="1162080" y="1720800"/>
            <a:chExt cx="6762600" cy="4070520"/>
          </a:xfrm>
        </p:grpSpPr>
        <p:pic>
          <p:nvPicPr>
            <p:cNvPr id="24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124080" y="1720800"/>
              <a:ext cx="2938680" cy="18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162080" y="3884760"/>
              <a:ext cx="310500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952880" y="3884760"/>
              <a:ext cx="2971800" cy="183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71600" y="1568520"/>
            <a:ext cx="6934320" cy="4908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362320" y="2209680"/>
            <a:ext cx="4647960" cy="2057400"/>
          </a:xfrm>
          <a:prstGeom prst="cloudCallout">
            <a:avLst>
              <a:gd name="adj1" fmla="val -32444"/>
              <a:gd name="adj2" fmla="val 100462"/>
            </a:avLst>
          </a:prstGeom>
          <a:solidFill>
            <a:srgbClr val="ffefe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在你认识的汉字中找找哪些字和它所表示的实物很像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219320" y="1017720"/>
            <a:ext cx="193176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52280" y="-114480"/>
            <a:ext cx="10134360" cy="714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44120" y="228600"/>
            <a:ext cx="667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隶书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800080"/>
                </a:solidFill>
                <a:latin typeface="隶书"/>
                <a:ea typeface="隶书"/>
              </a:rPr>
              <a:t>小朋友，请你看看图猜一猜图上的文字是什么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59436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58672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670572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73340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133720" y="152280"/>
            <a:ext cx="17334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962520" y="152280"/>
            <a:ext cx="167616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28600" y="2362320"/>
            <a:ext cx="17510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133720" y="2362320"/>
            <a:ext cx="17334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962520" y="2362320"/>
            <a:ext cx="1733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8600" y="4572000"/>
            <a:ext cx="1716120" cy="2090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2133720" y="4572000"/>
            <a:ext cx="1699920" cy="207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3962520" y="4572000"/>
            <a:ext cx="173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497000" y="2765520"/>
            <a:ext cx="1241280" cy="1654920"/>
            <a:chOff x="7497000" y="2765520"/>
            <a:chExt cx="1241280" cy="1654920"/>
          </a:xfrm>
        </p:grpSpPr>
        <p:sp>
          <p:nvSpPr>
            <p:cNvPr id="62" name=""/>
            <p:cNvSpPr/>
            <p:nvPr/>
          </p:nvSpPr>
          <p:spPr>
            <a:xfrm>
              <a:off x="7679880" y="332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口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97000" y="2765520"/>
              <a:ext cx="124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Book Antiqua"/>
                </a:rPr>
                <a:t>kǒu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95680" y="264168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2100240"/>
            <a:ext cx="335304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19720" y="2340000"/>
            <a:ext cx="2438280" cy="238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79880" y="2538360"/>
            <a:ext cx="781920" cy="1655280"/>
            <a:chOff x="7679880" y="2538360"/>
            <a:chExt cx="781920" cy="1655280"/>
          </a:xfrm>
        </p:grpSpPr>
        <p:sp>
          <p:nvSpPr>
            <p:cNvPr id="72" name=""/>
            <p:cNvSpPr/>
            <p:nvPr/>
          </p:nvSpPr>
          <p:spPr>
            <a:xfrm>
              <a:off x="7679880" y="30942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耳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95720" y="2538360"/>
              <a:ext cx="76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80"/>
                  </a:solidFill>
                  <a:latin typeface="Book Antiqua"/>
                </a:rPr>
                <a:t>ěr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19320" y="113508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545600" y="2697120"/>
            <a:ext cx="985320" cy="1723320"/>
            <a:chOff x="7545600" y="2697120"/>
            <a:chExt cx="985320" cy="1723320"/>
          </a:xfrm>
        </p:grpSpPr>
        <p:sp>
          <p:nvSpPr>
            <p:cNvPr id="78" name=""/>
            <p:cNvSpPr/>
            <p:nvPr/>
          </p:nvSpPr>
          <p:spPr>
            <a:xfrm>
              <a:off x="7755120" y="332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目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600" y="2697120"/>
              <a:ext cx="98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m</a:t>
              </a:r>
              <a:r>
                <a:rPr b="1" lang="zh-CN" sz="4800" spc="-1" strike="noStrike">
                  <a:solidFill>
                    <a:srgbClr val="800080"/>
                  </a:solidFill>
                  <a:latin typeface="Times New Roman"/>
                </a:rPr>
                <a:t>ù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355428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217656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11280" y="1700280"/>
            <a:ext cx="7983360" cy="3311280"/>
            <a:chOff x="611280" y="1700280"/>
            <a:chExt cx="7983360" cy="3311280"/>
          </a:xfrm>
        </p:grpSpPr>
        <p:pic>
          <p:nvPicPr>
            <p:cNvPr id="84" name="" descr=""/>
            <p:cNvPicPr/>
            <p:nvPr/>
          </p:nvPicPr>
          <p:blipFill>
            <a:blip r:embed="rId2"/>
            <a:srcRect l="43524" t="23226" r="44001" b="63265"/>
            <a:stretch/>
          </p:blipFill>
          <p:spPr>
            <a:xfrm>
              <a:off x="3995640" y="1700280"/>
              <a:ext cx="1224000" cy="2016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rcRect l="66764" t="25126" r="9433" b="66407"/>
            <a:stretch/>
          </p:blipFill>
          <p:spPr>
            <a:xfrm>
              <a:off x="6156360" y="2131920"/>
              <a:ext cx="2438280" cy="12970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rcRect l="8898" t="23660" r="65949" b="65977"/>
            <a:stretch/>
          </p:blipFill>
          <p:spPr>
            <a:xfrm>
              <a:off x="611280" y="2060640"/>
              <a:ext cx="2520720" cy="1547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rcRect l="54213" t="34685" r="37395" b="57461"/>
            <a:stretch/>
          </p:blipFill>
          <p:spPr>
            <a:xfrm>
              <a:off x="4103640" y="3932280"/>
              <a:ext cx="757440" cy="1079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24490" t="34385" r="65949" b="57964"/>
            <a:stretch/>
          </p:blipFill>
          <p:spPr>
            <a:xfrm>
              <a:off x="6732720" y="3753000"/>
              <a:ext cx="1006200" cy="12571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rcRect l="80483" t="34888" r="8026" b="57481"/>
            <a:stretch/>
          </p:blipFill>
          <p:spPr>
            <a:xfrm>
              <a:off x="1403280" y="4008600"/>
              <a:ext cx="1008000" cy="10015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1116000" y="5157720"/>
            <a:ext cx="7053120" cy="1386360"/>
            <a:chOff x="1116000" y="5157720"/>
            <a:chExt cx="7053120" cy="1386360"/>
          </a:xfrm>
        </p:grpSpPr>
        <p:sp>
          <p:nvSpPr>
            <p:cNvPr id="91" name=""/>
            <p:cNvSpPr/>
            <p:nvPr/>
          </p:nvSpPr>
          <p:spPr>
            <a:xfrm>
              <a:off x="4064040" y="515772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耳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6000" y="523116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口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27680" y="515772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目</a:t>
              </a:r>
              <a:endParaRPr b="0" lang="en-US" sz="8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26920" y="620640"/>
            <a:ext cx="7490160" cy="1010160"/>
            <a:chOff x="826920" y="620640"/>
            <a:chExt cx="7490160" cy="1010160"/>
          </a:xfrm>
        </p:grpSpPr>
        <p:sp>
          <p:nvSpPr>
            <p:cNvPr id="95" name=""/>
            <p:cNvSpPr/>
            <p:nvPr/>
          </p:nvSpPr>
          <p:spPr>
            <a:xfrm>
              <a:off x="826920" y="62064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kǒu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67240" y="6224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ěr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0720" y="62064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mù</a:t>
              </a:r>
              <a:endParaRPr b="0" lang="en-US" sz="6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27240" y="2676600"/>
            <a:ext cx="1400040" cy="1664640"/>
            <a:chOff x="7527240" y="2676600"/>
            <a:chExt cx="1400040" cy="1664640"/>
          </a:xfrm>
        </p:grpSpPr>
        <p:sp>
          <p:nvSpPr>
            <p:cNvPr id="101" name=""/>
            <p:cNvSpPr/>
            <p:nvPr/>
          </p:nvSpPr>
          <p:spPr>
            <a:xfrm>
              <a:off x="7832160" y="32418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羊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27240" y="2676600"/>
              <a:ext cx="14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lang="zh-CN" sz="4000" spc="-1" strike="noStrike">
                  <a:solidFill>
                    <a:srgbClr val="800080"/>
                  </a:solidFill>
                  <a:latin typeface="Comic Sans MS"/>
                </a:rPr>
                <a:t>á</a:t>
              </a: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n</a:t>
              </a:r>
              <a:r>
                <a:rPr b="1" lang="zh-CN" sz="4000" spc="-1" strike="noStrike">
                  <a:solidFill>
                    <a:srgbClr val="800080"/>
                  </a:solidFill>
                  <a:latin typeface="Century Gothic"/>
                </a:rPr>
                <a:t>g</a:t>
              </a:r>
              <a:endParaRPr b="0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185920"/>
            <a:ext cx="3581280" cy="291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419720" y="2519280"/>
            <a:ext cx="2209680" cy="212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5812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914400" cy="838080"/>
          </a:xfrm>
          <a:prstGeom prst="rightArrow">
            <a:avLst>
              <a:gd name="adj1" fmla="val 43935"/>
              <a:gd name="adj2" fmla="val 50573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545600" y="2670120"/>
            <a:ext cx="1207800" cy="1674360"/>
            <a:chOff x="7545600" y="2670120"/>
            <a:chExt cx="1207800" cy="1674360"/>
          </a:xfrm>
        </p:grpSpPr>
        <p:sp>
          <p:nvSpPr>
            <p:cNvPr id="109" name=""/>
            <p:cNvSpPr/>
            <p:nvPr/>
          </p:nvSpPr>
          <p:spPr>
            <a:xfrm>
              <a:off x="7755840" y="32450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鸟</a:t>
              </a:r>
              <a:endParaRPr b="0" lang="en-US" sz="6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5600" y="2670120"/>
              <a:ext cx="120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</a:rPr>
                <a:t>niǎo</a:t>
              </a:r>
              <a:endParaRPr b="0" lang="en-US" sz="4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920" y="21146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234792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/>
  <dc:language>en-US</dc:language>
  <cp:lastModifiedBy>zmj</cp:lastModifiedBy>
  <dcterms:modified xsi:type="dcterms:W3CDTF">2012-10-09T12:42:37Z</dcterms:modified>
  <cp:revision>63</cp:revision>
  <dc:subject/>
  <dc:title>幻灯片 1</dc:title>
</cp:coreProperties>
</file>