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BE5-B508-4BF0-B1D1-F2A52878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FFE-0ADE-4013-AC0E-7A89F9B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94F-22DE-4D33-A41B-088864EF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3C3-1D4E-4A47-A37A-69E85D9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419-272E-418D-B710-A33CD04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5A8-CCFE-4481-8852-96ACA3C1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FD9-0536-4E38-BB86-575E948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D5C-83BD-4CF1-9BCF-51833C5D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CB3-5D95-4EF8-A982-EAA3D2E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CF7-404A-4F31-9901-E8942AF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08E-FE67-4ED2-9BF1-8BC539C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068-815E-4EE7-883A-F623703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EA27-4CC2-4772-9379-24DF72B1B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91440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11700" spc="-1" strike="noStrike">
                <a:solidFill>
                  <a:srgbClr val="00cc00"/>
                </a:solidFill>
                <a:latin typeface="Arial"/>
              </a:rPr>
              <a:t>、</a:t>
            </a:r>
            <a:r>
              <a:rPr b="1" lang="zh-CN" sz="11700" spc="-1" strike="noStrike">
                <a:solidFill>
                  <a:srgbClr val="00cc00"/>
                </a:solidFill>
                <a:latin typeface="Wingdings 2"/>
                <a:ea typeface="Wingdings 2"/>
              </a:rPr>
              <a:t>口耳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56880" y="5126040"/>
            <a:ext cx="335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蓉园小学     李   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29000" y="5334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Wingdings 2"/>
                <a:ea typeface="Wingdings 2"/>
              </a:rPr>
              <a:t>休息一下吧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60020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羊羊羊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我学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小羊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咩咩叫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鸟鸟鸟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我学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小鸟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飞得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兔兔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我学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小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蹦蹦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竹竹竹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我学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竹子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挺直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木木木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我学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树木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长得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禾禾禾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我学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禾苗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弯弯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238880" y="2819520"/>
            <a:ext cx="1524240" cy="269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0800000">
            <a:off x="2819160" y="5181480"/>
            <a:ext cx="3809880" cy="990720"/>
          </a:xfrm>
          <a:prstGeom prst="cloudCallout">
            <a:avLst>
              <a:gd name="adj1" fmla="val -46421"/>
              <a:gd name="adj2" fmla="val 71791"/>
            </a:avLst>
          </a:pr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1600200" cy="212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4876920" y="2590560"/>
            <a:ext cx="990360" cy="68580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7920" y="2133720"/>
            <a:ext cx="1219320" cy="251460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819520"/>
            <a:ext cx="1371600" cy="22096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191120"/>
            <a:ext cx="1143000" cy="990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1523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1633680" cy="1218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09800" y="1415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3419640"/>
            <a:ext cx="1681200" cy="1000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4540320"/>
            <a:ext cx="14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53000" y="1447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352680" y="3362400"/>
            <a:ext cx="1238400" cy="113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21200" y="4464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324480" y="152280"/>
            <a:ext cx="838440" cy="1676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069320" y="1295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51680" y="4464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Arial"/>
                <a:ea typeface="楷体_GB2312"/>
              </a:rPr>
              <a:t>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905120" y="762120"/>
            <a:ext cx="672840" cy="963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905120" y="3895560"/>
            <a:ext cx="676080" cy="676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276720" y="3808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4876920" y="11430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7315200" y="457200"/>
            <a:ext cx="457200" cy="111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6248520" y="2916360"/>
            <a:ext cx="1295280" cy="1655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4800600" y="3886200"/>
            <a:ext cx="49860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7620120" y="3733920"/>
            <a:ext cx="591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69000" y="460440"/>
            <a:ext cx="59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幼圆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幼圆"/>
              </a:rPr>
              <a:t>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幼圆"/>
              </a:rPr>
              <a:t>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05120" y="2209680"/>
            <a:ext cx="2133360" cy="2057400"/>
            <a:chOff x="1905120" y="2209680"/>
            <a:chExt cx="2133360" cy="2057400"/>
          </a:xfrm>
        </p:grpSpPr>
        <p:sp>
          <p:nvSpPr>
            <p:cNvPr id="185" name=""/>
            <p:cNvSpPr/>
            <p:nvPr/>
          </p:nvSpPr>
          <p:spPr>
            <a:xfrm>
              <a:off x="1905120" y="2209680"/>
              <a:ext cx="2133360" cy="20574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69640" y="2209680"/>
              <a:ext cx="0" cy="20534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5120" y="3236400"/>
              <a:ext cx="21294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038480" y="2209680"/>
            <a:ext cx="2133720" cy="2057400"/>
            <a:chOff x="4038480" y="2209680"/>
            <a:chExt cx="2133720" cy="2057400"/>
          </a:xfrm>
        </p:grpSpPr>
        <p:sp>
          <p:nvSpPr>
            <p:cNvPr id="189" name=""/>
            <p:cNvSpPr/>
            <p:nvPr/>
          </p:nvSpPr>
          <p:spPr>
            <a:xfrm>
              <a:off x="4038480" y="2209680"/>
              <a:ext cx="2133720" cy="20574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3360" y="2209680"/>
              <a:ext cx="0" cy="20534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3236400"/>
              <a:ext cx="2129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172200" y="2209680"/>
            <a:ext cx="2133720" cy="2057400"/>
            <a:chOff x="6172200" y="2209680"/>
            <a:chExt cx="2133720" cy="2057400"/>
          </a:xfrm>
        </p:grpSpPr>
        <p:sp>
          <p:nvSpPr>
            <p:cNvPr id="193" name=""/>
            <p:cNvSpPr/>
            <p:nvPr/>
          </p:nvSpPr>
          <p:spPr>
            <a:xfrm>
              <a:off x="6172200" y="2209680"/>
              <a:ext cx="2133720" cy="20574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37080" y="2209680"/>
              <a:ext cx="0" cy="20534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3236400"/>
              <a:ext cx="2129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435400" y="22860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6600"/>
                </a:solidFill>
                <a:latin typeface="Arial"/>
                <a:ea typeface="楷体_GB2312"/>
              </a:rPr>
              <a:t>十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67400" y="220968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6600"/>
                </a:solidFill>
                <a:latin typeface="Arial"/>
                <a:ea typeface="楷体_GB2312"/>
              </a:rPr>
              <a:t>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78800" y="22860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6600"/>
                </a:solidFill>
                <a:latin typeface="Arial"/>
                <a:ea typeface="楷体_GB2312"/>
              </a:rPr>
              <a:t>禾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3080" y="380880"/>
            <a:ext cx="1679040" cy="6286320"/>
            <a:chOff x="73080" y="380880"/>
            <a:chExt cx="1679040" cy="628632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307800" y="4114440"/>
              <a:ext cx="144432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3080" y="380880"/>
              <a:ext cx="1225080" cy="2819160"/>
            </a:xfrm>
            <a:prstGeom prst="wedgeEllipseCallout">
              <a:avLst>
                <a:gd name="adj1" fmla="val 28625"/>
                <a:gd name="adj2" fmla="val 78939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1524240" cy="26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1523880"/>
            <a:ext cx="3200400" cy="1067040"/>
          </a:xfrm>
          <a:prstGeom prst="wedgeEllipseCallout">
            <a:avLst>
              <a:gd name="adj1" fmla="val -34226"/>
              <a:gd name="adj2" fmla="val 98513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1535040"/>
            <a:ext cx="283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幼圆"/>
              </a:rPr>
              <a:t>大家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03320" y="228600"/>
            <a:ext cx="8369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鱼 飞  风  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土 马  牛  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水 下  大  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162320"/>
            <a:ext cx="1523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838224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286000"/>
            <a:ext cx="8153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kǒu         ěr         mù        rì        yuè      h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口   耳    目  日   月   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960" y="5562720"/>
            <a:ext cx="8032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yán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ɡ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      niǎo        tù         mù       hé       z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    鸟   兔   木   禾   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2514600" cy="1401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429000" y="2133720"/>
            <a:ext cx="236232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77120" y="838080"/>
            <a:ext cx="19875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mù</a:t>
            </a:r>
            <a:r>
              <a:rPr b="0" lang="zh-CN" sz="8800" spc="-1" strike="noStrike">
                <a:solidFill>
                  <a:srgbClr val="ff3399"/>
                </a:solidFill>
                <a:latin typeface="Arial"/>
              </a:rPr>
              <a:t>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333399"/>
                </a:solidFill>
                <a:latin typeface="Arial"/>
                <a:ea typeface="楷体_GB2312"/>
              </a:rPr>
              <a:t>目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24080" y="2133720"/>
            <a:ext cx="1963800" cy="20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1066680"/>
            <a:ext cx="17524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8000" spc="-1" strike="noStrike">
                <a:solidFill>
                  <a:srgbClr val="ff3399"/>
                </a:solidFill>
                <a:latin typeface="Arial"/>
              </a:rPr>
              <a:t>t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3399"/>
                </a:solidFill>
                <a:latin typeface="Arial"/>
                <a:ea typeface="楷体_GB2312"/>
              </a:rPr>
              <a:t>兔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33920" y="685800"/>
            <a:ext cx="1676160" cy="1616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905120" y="685800"/>
            <a:ext cx="1676160" cy="1616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638680" y="68580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543800" y="68580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67080" y="47242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5562720" y="274320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3657600" y="274320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981080" y="274320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0" y="281952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1981080" y="4724280"/>
            <a:ext cx="1600200" cy="154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3520" y="636480"/>
            <a:ext cx="12567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kǒ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3840" y="636480"/>
            <a:ext cx="8773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ěr</a:t>
            </a:r>
            <a:r>
              <a:rPr b="0" lang="zh-CN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9880" y="636480"/>
            <a:ext cx="942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m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6400" y="609480"/>
            <a:ext cx="7430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r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日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46640" y="609480"/>
            <a:ext cx="918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y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240" y="2695680"/>
            <a:ext cx="944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h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47120" y="2666880"/>
            <a:ext cx="1197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yán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83760" y="2743200"/>
            <a:ext cx="1046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ni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42120" y="2743200"/>
            <a:ext cx="1446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t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724280"/>
            <a:ext cx="9144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7480" y="4648320"/>
            <a:ext cx="1186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h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禾</a:t>
            </a:r>
            <a:r>
              <a:rPr b="0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70160" y="4676760"/>
            <a:ext cx="1082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zh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7086600" y="3962520"/>
            <a:ext cx="1523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733920" y="685800"/>
            <a:ext cx="1676160" cy="1616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905120" y="669960"/>
            <a:ext cx="1676160" cy="1616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62720" y="685800"/>
            <a:ext cx="1676160" cy="1616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543800" y="68580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562720" y="274320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3657600" y="274320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1981080" y="274320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0" y="281952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981080" y="4724280"/>
            <a:ext cx="1600200" cy="1543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040" y="304920"/>
            <a:ext cx="126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4760" y="609480"/>
            <a:ext cx="790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79720" y="838080"/>
            <a:ext cx="106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5800" y="822240"/>
            <a:ext cx="12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日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17840" y="228600"/>
            <a:ext cx="790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960" y="2438280"/>
            <a:ext cx="790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1080" y="2362320"/>
            <a:ext cx="790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95360" y="2406600"/>
            <a:ext cx="84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2520" y="2362320"/>
            <a:ext cx="155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343400"/>
            <a:ext cx="106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080" y="4267080"/>
            <a:ext cx="1293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禾</a:t>
            </a:r>
            <a:r>
              <a:rPr b="0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1082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7086600" y="3962520"/>
            <a:ext cx="1523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70160" y="207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895480" y="838080"/>
            <a:ext cx="3168720" cy="1877040"/>
            <a:chOff x="2895480" y="838080"/>
            <a:chExt cx="3168720" cy="1877040"/>
          </a:xfrm>
        </p:grpSpPr>
        <p:grpSp>
          <p:nvGrpSpPr>
            <p:cNvPr id="118" name=""/>
            <p:cNvGrpSpPr/>
            <p:nvPr/>
          </p:nvGrpSpPr>
          <p:grpSpPr>
            <a:xfrm>
              <a:off x="2895480" y="1360440"/>
              <a:ext cx="1082880" cy="511200"/>
              <a:chOff x="2895480" y="1360440"/>
              <a:chExt cx="1082880" cy="51120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3063960" y="18716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95480" y="136044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252960" y="838080"/>
              <a:ext cx="2811240" cy="1877040"/>
              <a:chOff x="3252960" y="838080"/>
              <a:chExt cx="2811240" cy="1877040"/>
            </a:xfrm>
          </p:grpSpPr>
          <p:sp>
            <p:nvSpPr>
              <p:cNvPr id="122" name=""/>
              <p:cNvSpPr/>
              <p:nvPr/>
            </p:nvSpPr>
            <p:spPr>
              <a:xfrm>
                <a:off x="3951360" y="838080"/>
                <a:ext cx="1072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700" spc="-1" strike="noStrike">
                    <a:solidFill>
                      <a:srgbClr val="006600"/>
                    </a:solidFill>
                    <a:latin typeface="Arial"/>
                    <a:ea typeface="楷体_GB2312"/>
                  </a:rPr>
                  <a:t>日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3252960" y="1331640"/>
                <a:ext cx="2811240" cy="615960"/>
                <a:chOff x="3252960" y="1331640"/>
                <a:chExt cx="2811240" cy="615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268960" y="1387440"/>
                  <a:ext cx="535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Arial"/>
                    </a:rPr>
                    <a:t>加一笔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149800" y="194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252960" y="1331640"/>
                  <a:ext cx="535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Arial"/>
                    </a:rPr>
                    <a:t>减一笔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" name=""/>
          <p:cNvGrpSpPr/>
          <p:nvPr/>
        </p:nvGrpSpPr>
        <p:grpSpPr>
          <a:xfrm>
            <a:off x="69840" y="304920"/>
            <a:ext cx="1679760" cy="6286320"/>
            <a:chOff x="69840" y="304920"/>
            <a:chExt cx="1679760" cy="62863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304920" y="4038480"/>
              <a:ext cx="14446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9840" y="304920"/>
              <a:ext cx="1225440" cy="2819160"/>
            </a:xfrm>
            <a:prstGeom prst="wedgeEllipseCallout">
              <a:avLst>
                <a:gd name="adj1" fmla="val 28625"/>
                <a:gd name="adj2" fmla="val 789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6000" y="684360"/>
            <a:ext cx="7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49600" y="9144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3399"/>
                </a:solidFill>
                <a:latin typeface="Arial"/>
                <a:ea typeface="楷体_GB2312"/>
              </a:rPr>
              <a:t>口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97920" y="83808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3399"/>
                </a:solidFill>
                <a:latin typeface="Arial"/>
                <a:ea typeface="楷体_GB2312"/>
              </a:rPr>
              <a:t>目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338640" y="3078000"/>
            <a:ext cx="2759040" cy="1877040"/>
            <a:chOff x="3338640" y="3078000"/>
            <a:chExt cx="2759040" cy="1877040"/>
          </a:xfrm>
        </p:grpSpPr>
        <p:grpSp>
          <p:nvGrpSpPr>
            <p:cNvPr id="134" name=""/>
            <p:cNvGrpSpPr/>
            <p:nvPr/>
          </p:nvGrpSpPr>
          <p:grpSpPr>
            <a:xfrm>
              <a:off x="3338640" y="3078000"/>
              <a:ext cx="2759040" cy="1877040"/>
              <a:chOff x="3338640" y="3078000"/>
              <a:chExt cx="2759040" cy="1877040"/>
            </a:xfrm>
          </p:grpSpPr>
          <p:sp>
            <p:nvSpPr>
              <p:cNvPr id="135" name=""/>
              <p:cNvSpPr/>
              <p:nvPr/>
            </p:nvSpPr>
            <p:spPr>
              <a:xfrm>
                <a:off x="5259240" y="367164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3338640" y="3078000"/>
                <a:ext cx="2759040" cy="1877040"/>
                <a:chOff x="3338640" y="3078000"/>
                <a:chExt cx="2759040" cy="1877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37400" y="3078000"/>
                  <a:ext cx="107244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700" spc="-1" strike="noStrike">
                      <a:solidFill>
                        <a:srgbClr val="006600"/>
                      </a:solidFill>
                      <a:latin typeface="Arial"/>
                      <a:ea typeface="楷体_GB2312"/>
                    </a:rPr>
                    <a:t>木</a:t>
                  </a:r>
                  <a:endParaRPr b="0" lang="en-US" sz="1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3338640" y="3595320"/>
                  <a:ext cx="2759040" cy="615960"/>
                  <a:chOff x="3338640" y="3595320"/>
                  <a:chExt cx="2759040" cy="615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5183280" y="42112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338640" y="3624120"/>
                    <a:ext cx="18396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3354480" y="3595320"/>
                    <a:ext cx="18396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2" name=""/>
            <p:cNvSpPr/>
            <p:nvPr/>
          </p:nvSpPr>
          <p:spPr>
            <a:xfrm>
              <a:off x="5355000" y="37112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加一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550200" y="315432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3399"/>
                </a:solidFill>
                <a:latin typeface="Arial"/>
                <a:ea typeface="楷体_GB2312"/>
              </a:rPr>
              <a:t>禾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2-10-09T12:45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