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0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wmf" ContentType="image/x-wmf"/>
  <Override PartName="/ppt/media/image16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1807-86A8-468C-9D7A-AB46FA43A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28DA-67D2-416D-B9CE-E56A1A50F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38EC-D551-4BF1-AD33-A5BB81E9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DA9F-EC7E-46BC-8BE6-81171D92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B30E-C9B0-4D5E-9035-290189C8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C97E-A9F2-4663-88CD-7BAC62D8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FA1A-7BE3-4B27-A42E-883A99D4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37CC-1F58-43FF-B58B-43D4C497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7B6B-30DE-4EBA-A726-27B45A34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3CE3-6995-4B02-B12E-C56D0093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8F94-1A93-4FD4-8DB5-CCB8A9D2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6A84-C307-4330-9206-44AC53A0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C80-15A9-4AB6-9202-7EC3EEB1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8052-A8E3-4A18-B60F-C876B170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0E0A-B41C-4B5E-B5F0-A2365F4A8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1_GG88"/>
          <p:cNvPicPr/>
          <p:nvPr/>
        </p:nvPicPr>
        <p:blipFill>
          <a:blip r:embed="rId1"/>
          <a:stretch/>
        </p:blipFill>
        <p:spPr>
          <a:xfrm>
            <a:off x="0" y="0"/>
            <a:ext cx="8839080" cy="6553080"/>
          </a:xfrm>
          <a:prstGeom prst="rect">
            <a:avLst/>
          </a:prstGeom>
          <a:ln w="0">
            <a:noFill/>
          </a:ln>
        </p:spPr>
      </p:pic>
      <p:sp>
        <p:nvSpPr>
          <p:cNvPr id="49" name="WordArt 13"/>
          <p:cNvSpPr txBox="1"/>
          <p:nvPr/>
        </p:nvSpPr>
        <p:spPr>
          <a:xfrm>
            <a:off x="228600" y="2895480"/>
            <a:ext cx="3352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50000">
                      <a:srgbClr val="ffccff"/>
                    </a:gs>
                    <a:gs pos="100000">
                      <a:srgbClr val="ffff99"/>
                    </a:gs>
                  </a:gsLst>
                  <a:lin ang="5400000"/>
                </a:gradFill>
                <a:latin typeface="隶书"/>
              </a:rPr>
              <a:t>夹竹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50000">
                    <a:srgbClr val="ffccff"/>
                  </a:gs>
                  <a:gs pos="100000">
                    <a:srgbClr val="ffff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600200" y="8380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苏教版  六年级  语文  下册  第六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vNDW8czS_jqRFQ9pX5rGY"/>
          <p:cNvPicPr/>
          <p:nvPr/>
        </p:nvPicPr>
        <p:blipFill>
          <a:blip r:embed="rId1"/>
          <a:srcRect l="0" t="0" r="0" b="9997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200612693930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118909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Image%28523%29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118914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372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1143000" y="6095880"/>
            <a:ext cx="6477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夹竹桃给你留下了一个怎样的印象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0" y="0"/>
            <a:ext cx="914400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1066680" y="12193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夹竹桃，常绿灌木或小乔木。它的叶似竹，花如桃，所以称作夹竹桃。夹竹桃的叶面有蜡质，既有很强的耐寒能力，又能在毒气和尘埃弥漫的恶劣环境中生长。它对粉尘、烟尘有较强的吸附力，每平方米叶面积能吸附灰尘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克，因而被誉为“绿色吸尘器”。有过滤空气的作用，适宜在工矿区、公园、校园、庭院里栽种。夹竹桃的叶、皮、根、花均有毒。人若误食，会引起中毒，因此平时最好不要攀摘夹竹桃的花、枝、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1752480" y="762120"/>
            <a:ext cx="2324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认识新朋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9" name="Picture 7" descr="字典"/>
          <p:cNvPicPr/>
          <p:nvPr/>
        </p:nvPicPr>
        <p:blipFill>
          <a:blip r:embed="rId2"/>
          <a:stretch/>
        </p:blipFill>
        <p:spPr>
          <a:xfrm>
            <a:off x="838080" y="609480"/>
            <a:ext cx="8128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371240" y="914400"/>
            <a:ext cx="7993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荇藻  融洽 熏透  衰败  茂盛 模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凄清  鸡冠花  和煦  盛夏  一嘟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奉陪  榆叶梅  海棠  夜蛾  玉簪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参差不齐   花团锦簇   微风乍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应有尽有   满园生辉   美不胜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远渡重洋   迎风吐艳   一墙之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毫不含糊   万紫千红   五彩缤纷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读一读"/>
          <p:cNvPicPr/>
          <p:nvPr/>
        </p:nvPicPr>
        <p:blipFill>
          <a:blip r:embed="rId1"/>
          <a:stretch/>
        </p:blipFill>
        <p:spPr>
          <a:xfrm>
            <a:off x="179280" y="189000"/>
            <a:ext cx="14209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533520" y="1371600"/>
            <a:ext cx="510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5"/>
          <p:cNvSpPr txBox="1"/>
          <p:nvPr/>
        </p:nvSpPr>
        <p:spPr>
          <a:xfrm>
            <a:off x="1866960" y="144792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隶书"/>
              </a:rPr>
              <a:t>词语理解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隶书"/>
              <a:ea typeface="隶书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143000" y="22860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融洽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彼此感情好，没有抵触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143000" y="3124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乍起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刚刚开始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1219320" y="3886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韧性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柔软而结实，不易折断的性质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观察"/>
          <p:cNvPicPr/>
          <p:nvPr/>
        </p:nvPicPr>
        <p:blipFill>
          <a:blip r:embed="rId2"/>
          <a:stretch/>
        </p:blipFill>
        <p:spPr>
          <a:xfrm>
            <a:off x="685800" y="1143000"/>
            <a:ext cx="96516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609480" y="114300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同学们自由读课文，想想如何给课文分段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33520" y="2438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段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：总写夹竹桃是作者最值得留恋和回忆的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533520" y="3733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段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：写作者家中的夹竹桃开花时红白相映，景象奇妙有趣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533520" y="25146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三段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—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：写夹竹桃的可贵以及引起作者的幻想。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609480" y="114300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同学们自由读课文，想想如何给课文分段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85800" y="3886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四段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：写作者爱上了夹竹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8" descr="pic013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533520" y="1295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学们读课文想一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哪些自然段直接描述夹竹桃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4213080" y="227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219320" y="297180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课文的第二、四、五自然段是直接描述夹竹桃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012680" y="4716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657600" y="4495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请同学们齐读这几个段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唱唱"/>
          <p:cNvPicPr/>
          <p:nvPr/>
        </p:nvPicPr>
        <p:blipFill>
          <a:blip r:embed="rId2"/>
          <a:stretch/>
        </p:blipFill>
        <p:spPr>
          <a:xfrm>
            <a:off x="2743200" y="4495680"/>
            <a:ext cx="7365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762120" y="8380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黑体"/>
              </a:rPr>
              <a:t>同学们默读第二自然段并思考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85800" y="16002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）“这景象”指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57200" y="35053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）为什么觉得这景象十分奇妙，十分有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914400" y="22860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们家的大门内也有两盆夹竹桃，一盆红色的，一盆白色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33520" y="4038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红色的花朵让我想到火，白色的花朵让我想到雪。火与雪是不相容的，但是这两盆花却融洽地开在一起，宛如火上有雪或雪上有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vNDW8czS_jqRFQ9pX5rGY"/>
          <p:cNvPicPr/>
          <p:nvPr/>
        </p:nvPicPr>
        <p:blipFill>
          <a:blip r:embed="rId1"/>
          <a:srcRect l="0" t="0" r="0" b="9997"/>
          <a:stretch/>
        </p:blipFill>
        <p:spPr>
          <a:xfrm>
            <a:off x="4191120" y="2913120"/>
            <a:ext cx="4952880" cy="3944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pic021"/>
          <p:cNvPicPr/>
          <p:nvPr/>
        </p:nvPicPr>
        <p:blipFill>
          <a:blip r:embed="rId2"/>
          <a:srcRect l="0" t="0" r="0" b="4720"/>
          <a:stretch/>
        </p:blipFill>
        <p:spPr>
          <a:xfrm>
            <a:off x="0" y="2895480"/>
            <a:ext cx="4572000" cy="3962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3520" y="304920"/>
            <a:ext cx="794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红色的花朵让我想到火，白色的花朵让我想到雪。火与雪是不相容的，但是这两盆花却融洽地开在一起，宛如火上有雪或雪上有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838080" y="167652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轻声朗读第四自然段，看看写了夹竹桃的什么呢？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286000" y="31240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写了夹竹桃的韧性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09480" y="41148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黑体"/>
              </a:rPr>
              <a:t>默读，画出最能表现夹竹桃韧性的句子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533520" y="2666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在和煦的春风里，在盛夏的暴雨里，在深秋的清冷里，看不出有什么特别茂盛的时候，也看不出有什么特别衰败的时候，无日不迎风吐艳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33520" y="419112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从春天一直到秋天，从迎春花一直到玉簪花和菊花，无不奉陪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143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在一墙之隔的大门内，夹竹桃却在那里悄悄地一声不响，一朵花败了，又开出一朵，一嘟噜花黄了，又长出一嘟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609480" y="2133720"/>
            <a:ext cx="815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在和煦的春风里，在盛夏的暴雨里，在深秋的清冷里，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看不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什么特别茂盛的时候，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也看不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什么特别衰败的时候，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无日不迎风吐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33520" y="350532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从春天一直到秋天，从迎春花一直到玉簪花和菊花，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无不奉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143000" y="4419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读一读，说说这两句话主要讲了什么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8380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在一墙之隔的大门内，夹竹桃却在那里悄悄地一声不响，一朵花败了，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又开出一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一嘟噜花黄了，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又长出一嘟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609480" y="20574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主要讲了无论是季节的变更，还是气候的变化，只有夹竹桃始终花开不败；它的花期之长，没有任何一种季节性的花可以与之相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52280" y="5257800"/>
            <a:ext cx="8839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457200" y="114300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这一点韧性，同院子里那些花比起来，不是显得非常可贵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26668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那些花”指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5800" y="3581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朗读第三自然段，画出文中相关的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46280" y="4419720"/>
            <a:ext cx="63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作者写了院子里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(   )(  )(   )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三季的景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657600" y="38088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春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2666880" y="2209680"/>
            <a:ext cx="6098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5562720" y="220968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1"/>
          <p:cNvSpPr/>
          <p:nvPr/>
        </p:nvSpPr>
        <p:spPr>
          <a:xfrm>
            <a:off x="7315200" y="34290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 flipH="1">
            <a:off x="5486040" y="525780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 flipH="1">
            <a:off x="2514600" y="533412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2590920" y="3276720"/>
            <a:ext cx="42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花团锦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6" descr="桃花"/>
          <p:cNvPicPr/>
          <p:nvPr/>
        </p:nvPicPr>
        <p:blipFill>
          <a:blip r:embed="rId1"/>
          <a:stretch/>
        </p:blipFill>
        <p:spPr>
          <a:xfrm>
            <a:off x="3419640" y="1484280"/>
            <a:ext cx="2016000" cy="1655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7" descr="迎春花"/>
          <p:cNvPicPr/>
          <p:nvPr/>
        </p:nvPicPr>
        <p:blipFill>
          <a:blip r:embed="rId2"/>
          <a:stretch/>
        </p:blipFill>
        <p:spPr>
          <a:xfrm>
            <a:off x="498600" y="1484280"/>
            <a:ext cx="2016000" cy="1584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杏花"/>
          <p:cNvPicPr/>
          <p:nvPr/>
        </p:nvPicPr>
        <p:blipFill>
          <a:blip r:embed="rId3"/>
          <a:stretch/>
        </p:blipFill>
        <p:spPr>
          <a:xfrm>
            <a:off x="6443640" y="1484280"/>
            <a:ext cx="1873440" cy="1739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9" descr="海棠"/>
          <p:cNvPicPr/>
          <p:nvPr/>
        </p:nvPicPr>
        <p:blipFill>
          <a:blip r:embed="rId4"/>
          <a:stretch/>
        </p:blipFill>
        <p:spPr>
          <a:xfrm>
            <a:off x="6372360" y="4653000"/>
            <a:ext cx="2124000" cy="1773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0" descr="榆叶梅"/>
          <p:cNvPicPr/>
          <p:nvPr/>
        </p:nvPicPr>
        <p:blipFill>
          <a:blip r:embed="rId5"/>
          <a:stretch/>
        </p:blipFill>
        <p:spPr>
          <a:xfrm>
            <a:off x="3132000" y="4653000"/>
            <a:ext cx="2328840" cy="174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1" descr="丁香"/>
          <p:cNvPicPr/>
          <p:nvPr/>
        </p:nvPicPr>
        <p:blipFill>
          <a:blip r:embed="rId6"/>
          <a:stretch/>
        </p:blipFill>
        <p:spPr>
          <a:xfrm>
            <a:off x="179280" y="4653000"/>
            <a:ext cx="216072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733920" y="304920"/>
            <a:ext cx="32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夏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凤仙花"/>
          <p:cNvPicPr/>
          <p:nvPr/>
        </p:nvPicPr>
        <p:blipFill>
          <a:blip r:embed="rId1"/>
          <a:stretch/>
        </p:blipFill>
        <p:spPr>
          <a:xfrm>
            <a:off x="1258920" y="184464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石竹花"/>
          <p:cNvPicPr/>
          <p:nvPr/>
        </p:nvPicPr>
        <p:blipFill>
          <a:blip r:embed="rId2"/>
          <a:stretch/>
        </p:blipFill>
        <p:spPr>
          <a:xfrm>
            <a:off x="3780000" y="1844640"/>
            <a:ext cx="1536480" cy="1374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鸡冠花"/>
          <p:cNvPicPr/>
          <p:nvPr/>
        </p:nvPicPr>
        <p:blipFill>
          <a:blip r:embed="rId3"/>
          <a:stretch/>
        </p:blipFill>
        <p:spPr>
          <a:xfrm>
            <a:off x="6804000" y="1773360"/>
            <a:ext cx="1416240" cy="1336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江西腊"/>
          <p:cNvPicPr/>
          <p:nvPr/>
        </p:nvPicPr>
        <p:blipFill>
          <a:blip r:embed="rId4"/>
          <a:stretch/>
        </p:blipFill>
        <p:spPr>
          <a:xfrm>
            <a:off x="6804000" y="4941720"/>
            <a:ext cx="1513080" cy="1368720"/>
          </a:xfrm>
          <a:prstGeom prst="rect">
            <a:avLst/>
          </a:prstGeom>
          <a:ln w="0">
            <a:noFill/>
          </a:ln>
        </p:spPr>
      </p:pic>
      <p:sp>
        <p:nvSpPr>
          <p:cNvPr id="151" name="Line 8"/>
          <p:cNvSpPr/>
          <p:nvPr/>
        </p:nvSpPr>
        <p:spPr>
          <a:xfrm>
            <a:off x="2743200" y="228600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5715000" y="2209680"/>
            <a:ext cx="7621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7315200" y="365760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"/>
          <p:cNvSpPr/>
          <p:nvPr/>
        </p:nvSpPr>
        <p:spPr>
          <a:xfrm flipH="1">
            <a:off x="3962520" y="5486400"/>
            <a:ext cx="17524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1447920" y="365760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五彩缤纷美不胜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3" descr="20071029_e99e30800d839a881276HKz37LnF80ib"/>
          <p:cNvPicPr/>
          <p:nvPr/>
        </p:nvPicPr>
        <p:blipFill>
          <a:blip r:embed="rId5"/>
          <a:stretch/>
        </p:blipFill>
        <p:spPr>
          <a:xfrm>
            <a:off x="2050920" y="4941720"/>
            <a:ext cx="15130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" descr="pic021"/>
          <p:cNvPicPr/>
          <p:nvPr/>
        </p:nvPicPr>
        <p:blipFill>
          <a:blip r:embed="rId1"/>
          <a:srcRect l="0" t="0" r="0" b="4720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657600" y="144792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秋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116003de39b"/>
          <p:cNvPicPr/>
          <p:nvPr/>
        </p:nvPicPr>
        <p:blipFill>
          <a:blip r:embed="rId1"/>
          <a:stretch/>
        </p:blipFill>
        <p:spPr>
          <a:xfrm>
            <a:off x="826920" y="2708280"/>
            <a:ext cx="3168720" cy="2490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00139613"/>
          <p:cNvPicPr/>
          <p:nvPr/>
        </p:nvPicPr>
        <p:blipFill>
          <a:blip r:embed="rId2"/>
          <a:stretch/>
        </p:blipFill>
        <p:spPr>
          <a:xfrm>
            <a:off x="4572000" y="2637000"/>
            <a:ext cx="33847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3657600" y="144792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冬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646f552dca51e23a349bf7a4"/>
          <p:cNvPicPr/>
          <p:nvPr/>
        </p:nvPicPr>
        <p:blipFill>
          <a:blip r:embed="rId1"/>
          <a:stretch/>
        </p:blipFill>
        <p:spPr>
          <a:xfrm>
            <a:off x="4788000" y="2708280"/>
            <a:ext cx="2089080" cy="2014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83a2d4c2e36518150ef477a4"/>
          <p:cNvPicPr/>
          <p:nvPr/>
        </p:nvPicPr>
        <p:blipFill>
          <a:blip r:embed="rId2"/>
          <a:stretch/>
        </p:blipFill>
        <p:spPr>
          <a:xfrm>
            <a:off x="1619280" y="2781360"/>
            <a:ext cx="237636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609480" y="609480"/>
            <a:ext cx="853452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黑体"/>
                <a:ea typeface="黑体"/>
              </a:rPr>
              <a:t>思考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黑体"/>
                <a:ea typeface="黑体"/>
              </a:rPr>
              <a:t>这一段的内容 与夹竹桃有什么联系？是不是作者写走题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不是，是为了通过与同院子里那些花相对比，反衬出夹竹桃的花期之长，韧性之可贵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685800" y="1447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那么第五自然又主要写了什么？请同学们大声朗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685800" y="312408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月光下的夹竹桃引起了作者的幻想。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171" name="WordArt 4"/>
          <p:cNvSpPr txBox="1"/>
          <p:nvPr/>
        </p:nvSpPr>
        <p:spPr>
          <a:xfrm>
            <a:off x="2781360" y="20098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集体讨论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457200" y="27734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月光下的夹竹桃为什么引起作者的幻想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57200" y="368784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月光下的夹竹桃引起了作者哪些幻想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讨论"/>
          <p:cNvPicPr/>
          <p:nvPr/>
        </p:nvPicPr>
        <p:blipFill>
          <a:blip r:embed="rId2"/>
          <a:stretch/>
        </p:blipFill>
        <p:spPr>
          <a:xfrm>
            <a:off x="952560" y="1704960"/>
            <a:ext cx="1714320" cy="8096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457200" y="44197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我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把它幻想成地图，幻想成荇藻，幻想成一幅墨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2438280" y="16002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学习第一、六自然段：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609480" y="25290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自由读第一、六自然段，联系全文想想，作者为什么爱上了夹竹桃？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唱唱"/>
          <p:cNvPicPr/>
          <p:nvPr/>
        </p:nvPicPr>
        <p:blipFill>
          <a:blip r:embed="rId2"/>
          <a:stretch/>
        </p:blipFill>
        <p:spPr>
          <a:xfrm>
            <a:off x="1371600" y="1523880"/>
            <a:ext cx="90180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2438280" y="16002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学习第一、六自然段：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609480" y="25146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课文的最后一节在全文中起了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唱唱"/>
          <p:cNvPicPr/>
          <p:nvPr/>
        </p:nvPicPr>
        <p:blipFill>
          <a:blip r:embed="rId2"/>
          <a:stretch/>
        </p:blipFill>
        <p:spPr>
          <a:xfrm>
            <a:off x="1371600" y="1523880"/>
            <a:ext cx="901800" cy="8161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80880" y="35053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总结全文，与第一自然段相互呼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4"/>
          <p:cNvSpPr/>
          <p:nvPr/>
        </p:nvSpPr>
        <p:spPr>
          <a:xfrm>
            <a:off x="685800" y="213372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这是一篇文质兼美的散文，描绘了在万紫千红、五彩缤纷的花季里，夹竹桃花期之长、韧性可贵和花影迷离的动人情景，表达了作者对夹竹桃的喜爱之情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838080" y="23623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熟读课文，背诵课文四、五自然段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7"/>
          <p:cNvSpPr txBox="1"/>
          <p:nvPr/>
        </p:nvSpPr>
        <p:spPr>
          <a:xfrm>
            <a:off x="1828800" y="15238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课外作业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94" name="Picture 8" descr="书"/>
          <p:cNvPicPr/>
          <p:nvPr/>
        </p:nvPicPr>
        <p:blipFill>
          <a:blip r:embed="rId2"/>
          <a:stretch/>
        </p:blipFill>
        <p:spPr>
          <a:xfrm>
            <a:off x="685800" y="1295280"/>
            <a:ext cx="6732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v5_GG88"/>
          <p:cNvPicPr/>
          <p:nvPr/>
        </p:nvPicPr>
        <p:blipFill>
          <a:blip r:embed="rId1"/>
          <a:srcRect l="0" t="6758" r="0" b="0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请在括号中填入恰当的鸟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7451640" y="333360"/>
            <a:ext cx="1354320" cy="8920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1143000" y="2133720"/>
            <a:ext cx="739152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（        ）一去不复返，白云千载空悠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故人西辞（        ）楼，烟花三月下扬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千里（    ）啼绿映红，水村山郭酒旗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两个（    ）鸣翠柳，一行（    ）上青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旧时王谢堂前（    ），飞入寻常百姓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枯藤老树昏（     ），小桥流水人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无可奈何花落去，似曾相识（       ）归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几处（       ）争暖树，谁家（        ）啄春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1641600" cy="10825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755640" y="1844640"/>
            <a:ext cx="782964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黄鹤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）一去不复返，白云千载空悠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故人西辞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黄鹤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）楼，烟花三月下扬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千里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莺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）啼绿映红，水村山郭酒旗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两个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黄鹂</a:t>
            </a: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鸣翠柳，一行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白鹭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）上青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旧时王谢堂前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燕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），飞入寻常百姓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枯藤老树昏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鸦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），小桥流水人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无可奈何花落去，似曾相识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燕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）归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几处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早莺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）争暖树，谁家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新燕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）啄春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请在括号中填入恰当的鸟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9" descr="005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pic>
        <p:nvPicPr>
          <p:cNvPr id="202" name="WordArt 4" descr=""/>
          <p:cNvPicPr/>
          <p:nvPr/>
        </p:nvPicPr>
        <p:blipFill>
          <a:blip r:embed="rId2"/>
          <a:stretch/>
        </p:blipFill>
        <p:spPr>
          <a:xfrm>
            <a:off x="4005360" y="1762200"/>
            <a:ext cx="4303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pic019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9001-3_G0062_b001-GG88_COM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20069415341161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pic004"/>
          <p:cNvPicPr/>
          <p:nvPr/>
        </p:nvPicPr>
        <p:blipFill>
          <a:blip r:embed="rId1"/>
          <a:stretch/>
        </p:blipFill>
        <p:spPr>
          <a:xfrm>
            <a:off x="142920" y="609480"/>
            <a:ext cx="8848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pic002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7-04-30T05:08:43Z</dcterms:modified>
  <cp:revision>1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