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7.jpeg" ContentType="image/jpeg"/>
  <Override PartName="/ppt/media/image30.wmf" ContentType="image/x-wmf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wmf" ContentType="image/x-wmf"/>
  <Override PartName="/ppt/media/image17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comments/comment4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<Relationship Id="rId69" Type="http://schemas.openxmlformats.org/officeDocument/2006/relationships/commentAuthors" Target="commentAuthors.xml"/>
</Relationships>
</file>

<file path=ppt/comments/comment46.xml><?xml version="1.0" encoding="utf-8"?>
<p:cmLst xmlns:p="http://schemas.openxmlformats.org/presentationml/2006/main">
  <p:cm authorId="0" dt="2011-02-22T20:25:46.71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00EF-B78F-4781-A77B-D7F4C218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F429-C2B4-415D-92D6-BD5D138F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CFB-03F6-4B69-91AF-A11DE1FE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CCAF-37BC-4094-8CA3-7FA80DB2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D0B-1C4E-445C-AAD7-6B4B0198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87E-058C-4A9C-82A1-1390DA9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45D-5EAA-400D-9AF0-BF088884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33A-89C2-40BB-964B-EDBEE916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404-D30B-42A7-8A2F-217468F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1B0-FB45-41B7-AEFC-2F50BB26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312-6E20-42B1-A82D-774FF202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48F-01DB-4472-BE5B-FB8D58BB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285-A977-49CA-BF4D-4A6F96F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C5D-5A4D-4706-8595-4E5943F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AEA-F7F8-44B8-B7D2-3A154FC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028-F7BF-4637-A474-5247946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016-BBD8-4A3D-AC0C-F6B06AD0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1_GG88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3"/>
          <p:cNvSpPr txBox="1"/>
          <p:nvPr/>
        </p:nvSpPr>
        <p:spPr>
          <a:xfrm>
            <a:off x="4876920" y="10666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ffccff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隶书"/>
              </a:rPr>
              <a:t>夹竹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ffccff"/>
                  </a:gs>
                  <a:gs pos="100000">
                    <a:srgbClr val="ffff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3962520"/>
            <a:ext cx="1828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季羡林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29000" y="1066680"/>
            <a:ext cx="990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9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7396200" y="5410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118914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372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43000" y="594360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夹竹桃给你留下了一个怎样的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印象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066680" y="2057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夹竹桃，常绿灌木或小乔木。它的叶似竹，花如桃，所以称作夹竹桃。它的叶也有点像柳，因此也有人称它为“柳叶桃”。枝条下垂，三叉分枝，叶革质狭长，常常三叶轮生。夏至秋季开花，花色桃红、深红或白色，单瓣或重瓣，有香气，花期很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1866960" y="1295280"/>
            <a:ext cx="2324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认识新朋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9" name="Picture 7" descr="字典"/>
          <p:cNvPicPr/>
          <p:nvPr/>
        </p:nvPicPr>
        <p:blipFill>
          <a:blip r:embed="rId2"/>
          <a:stretch/>
        </p:blipFill>
        <p:spPr>
          <a:xfrm>
            <a:off x="838080" y="1143000"/>
            <a:ext cx="8128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72428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8959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4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209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343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324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133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榆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267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熏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248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凄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28600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477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1828800" y="30481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1828800" y="21337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1752480" y="42670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复件 思考"/>
          <p:cNvPicPr/>
          <p:nvPr/>
        </p:nvPicPr>
        <p:blipFill>
          <a:blip r:embed="rId2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91" name="Line 26"/>
          <p:cNvSpPr/>
          <p:nvPr/>
        </p:nvSpPr>
        <p:spPr>
          <a:xfrm>
            <a:off x="182880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"/>
          <p:cNvSpPr/>
          <p:nvPr/>
        </p:nvSpPr>
        <p:spPr>
          <a:xfrm>
            <a:off x="182880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1752480" y="4191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209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343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324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133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水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267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飞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248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乍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8600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572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3244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1828800" y="30481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828800" y="21337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1752480" y="42670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复件 思考"/>
          <p:cNvPicPr/>
          <p:nvPr/>
        </p:nvPicPr>
        <p:blipFill>
          <a:blip r:embed="rId2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10" name="Line 18"/>
          <p:cNvSpPr/>
          <p:nvPr/>
        </p:nvSpPr>
        <p:spPr>
          <a:xfrm>
            <a:off x="182880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182880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1752480" y="4191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名贵   留恋    融洽   奇妙    应有尽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榆叶  花团锦簇   满院生辉  五彩缤纷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美不胜收    熏透   凄清    花开花落  万紫千红   和煦    衰败    模糊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迎风吐艳     毫不含糊      浓浓烈烈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叶影参差    花影迷离    远渡重洋   荇藻    夜蛾    微风乍起     韧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242100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玉簪花  荇藻   参差不齐   鸡冠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奉陪  榆叶梅  江西腊  海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花团锦簇     菊花   飞蛾   乍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1844640"/>
            <a:ext cx="554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ān         xìng        cēn c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187280" y="5157720"/>
            <a:ext cx="71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ǐn                                      é        zh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55640" y="35002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èng       yú                        là       t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读一读"/>
          <p:cNvPicPr/>
          <p:nvPr/>
        </p:nvPicPr>
        <p:blipFill>
          <a:blip r:embed="rId1"/>
          <a:stretch/>
        </p:blipFill>
        <p:spPr>
          <a:xfrm>
            <a:off x="179280" y="189000"/>
            <a:ext cx="142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92360" y="532440"/>
            <a:ext cx="781200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彼此感情好，没有抵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刚刚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柔软而结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好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应该有的都有，表示一切齐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形容五彩缤纷，十分华丽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颜色繁多，非常好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好的东西太多，一时接受不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形容百花齐放，颜色艳丽，也比喻事物丰富多彩或事业繁荣兴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形容口里发不出一点声响或不说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衰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长短，高低，大小不齐，不一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糊而难以分清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240" y="9720"/>
            <a:ext cx="1095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融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乍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韧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宛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应有尽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花团锦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五彩缤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美不胜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万紫千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一声不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和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衰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参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迷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由读课文，想想如何给课文分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段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总写夹竹桃是作者最值得留恋和回忆的花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段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写作者家中的夹竹桃开花时红白相映，景象奇妙有趣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段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—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写夹竹桃的可贵的韧性以及引起作者的幻想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段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写作者爱上了夹竹桃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0036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360" y="1413000"/>
            <a:ext cx="365148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夹竹桃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1835640" y="3429000"/>
            <a:ext cx="5610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件夹   夹杂   夹击  夹层  夹缝  夹生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á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夹袄        夹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ɡā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夹肢窝（胳肢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同学们一定知道，如果文章的重点段落有中心句，找出重点段落的中心句是抓住文章主要内容的一种好办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下面请同学们找出课文的中心句，说说它的作用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95680" y="457200"/>
            <a:ext cx="1096560" cy="52056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最后一个自然段，认识文章的中心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0" y="152388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35053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自然段概括了课文两个重点段落的内容（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有韧性、引起许多幻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又放在了文章的最后，起到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总结全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作用。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点明中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呼应开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28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由读第一自然段，思考：作者为什么要写夹竹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6000" y="0"/>
            <a:ext cx="1496880" cy="581400"/>
          </a:xfrm>
          <a:prstGeom prst="rect">
            <a:avLst/>
          </a:prstGeom>
          <a:gradFill rotWithShape="0">
            <a:gsLst>
              <a:gs pos="0">
                <a:srgbClr val="0000ff">
                  <a:alpha val="61176"/>
                </a:srgbClr>
              </a:gs>
              <a:gs pos="100000">
                <a:srgbClr val="ff0066">
                  <a:alpha val="6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默读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288280" cy="180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4005360"/>
            <a:ext cx="86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2670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本段采用了什么写作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10552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欲扬先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两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两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自然段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开门见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直抒胸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表达了对夹竹桃的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喜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0461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夹竹桃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花，也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花，但对于季老来说，它却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49920" y="981000"/>
            <a:ext cx="5545800" cy="1787040"/>
            <a:chOff x="1249920" y="981000"/>
            <a:chExt cx="5545800" cy="1787040"/>
          </a:xfrm>
        </p:grpSpPr>
        <p:sp>
          <p:nvSpPr>
            <p:cNvPr id="136" name=""/>
            <p:cNvSpPr/>
            <p:nvPr/>
          </p:nvSpPr>
          <p:spPr>
            <a:xfrm>
              <a:off x="4470840" y="981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名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49920" y="15508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最美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3160" y="2125440"/>
              <a:ext cx="347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最值得留恋最值得回忆的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2120" y="304812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这样的韧性，又能这样引起我许多的幻想，我爱上了夹竹桃。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50292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800600"/>
            <a:ext cx="7561440" cy="94716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自然段是全文的总起，可以引起悬念，诱发学习兴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最后一自然段是文章的总结，照应第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自然段，点明了“我”爱上了夹竹桃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24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0000ff"/>
                </a:solidFill>
                <a:latin typeface="Times New Roman"/>
              </a:rPr>
              <a:t>季爷爷之所以爱夹竹桃，是因为它有（          ），又能（                          ）。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为什么爱上夹竹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夹竹桃开起来红白相映，景象奇妙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夹竹桃花开三季，花期之长，韧性可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月光下的夹竹桃叶影参差，花影迷离，可以引起作者许多的幻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33520" y="1295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题叫“夹竹桃”，课文中是怎样具体描写它的呢？哪些自然段直接描述夹竹桃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213080" y="22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19320" y="29718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课文的第二、四、五自然段是直接描述夹竹桃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12680" y="471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657600" y="4495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请同学们齐读这几个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唱唱"/>
          <p:cNvPicPr/>
          <p:nvPr/>
        </p:nvPicPr>
        <p:blipFill>
          <a:blip r:embed="rId2"/>
          <a:stretch/>
        </p:blipFill>
        <p:spPr>
          <a:xfrm>
            <a:off x="2743200" y="4495680"/>
            <a:ext cx="736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3" descr=""/>
          <p:cNvPicPr/>
          <p:nvPr/>
        </p:nvPicPr>
        <p:blipFill>
          <a:blip r:embed="rId1"/>
          <a:stretch/>
        </p:blipFill>
        <p:spPr>
          <a:xfrm>
            <a:off x="3565440" y="4368960"/>
            <a:ext cx="5473800" cy="2444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9109080" cy="68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家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门内也有两盆夹竹桃，一盆红色的，一盆白色的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色的花朵让我想到火，白色的花朵让我想到雪。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相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但是这两盆花却</a:t>
            </a: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融洽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开在一起，宛如火上有雪，或雪上有火。我的心里觉得这景象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十分奇妙，十分有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2"/>
          <a:stretch/>
        </p:blipFill>
        <p:spPr>
          <a:xfrm>
            <a:off x="108000" y="4343400"/>
            <a:ext cx="43941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3520" y="6094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200" y="1523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这是什么景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2971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为什么觉得这景象十分奇妙，十分有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5800" y="2209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两盆夹竹桃，一盆红色的，一盆白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457200" y="3733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因为作者由红色的花想到了火，由白色的花想到了雪，火与雪本是不相容的，但是这两盆花却能融洽地开在一起，宛如火上有雪或雪上有火。这一感受是作者在观花时浮想联翩入情入境所致，所以感到奇妙、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pic02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快速读课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然段，哪里写的是夹竹桃的韧性？哪里写的是引起作者的幻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09480" y="20574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朗读第三自然 段，想象作者家院子春、夏、秋三季的景象。画出文中的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作者的小院里的花可以用什么词来形容？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院子里的花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有尽有      花团锦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院生辉      五彩缤纷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不胜收      万紫千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的题目叫“夹竹桃”，那作者为什么要将小院的其它花写得如此美，这样写用意是什么？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37280" y="411480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样写的用意是反衬夹竹桃的韧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总结：这段文字虽然没有一个字直接写夹竹桃，然而作者运用了对比衬托手法，将夹竹桃的韧性写得形象鲜明。突出了夹竹桃</a:t>
            </a: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花期长，有韧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特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哪一自然段具体写了夹竹桃的韧性？（第四自然段）细读课文第四自然段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从哪些词句中品出夹竹桃的韧性？（可以圈、划、批注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808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而，在一墙之隔的大门内，夹竹桃却在那里悄悄地一声不响，一朵花败了，又开出一朵，一嘟噜花黄了，又长出一嘟噜。在和煦的春风里，在盛夏的暴雨里，在深秋的清冷里，看不出有什么特别茂盛的时候，也看不出有什么特别衰败的时候，无日不迎风吐艳。从春天一直到秋天，从迎春花一直到玉簪花和菊花，无不奉陪。这一点韧性，同院子里那些花比起来，不是显得非常可贵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4572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在和煦的春风里，在盛夏的暴雨里，在深秋的清冷里，看不出有什么特别茂盛的时候，也看不出有什么特别衰败的时候，无日不迎风吐艳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41148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从春天一直到秋天，从迎春花一直到玉簪花和菊花，无不奉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533520" y="19810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主要讲了无论是季节的变更，还是气候的变化，只有夹竹桃始终如一，没有哪一天不是迎风开放；它的花期之长，没有哪一种季节性的花可以与之相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33520" y="914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说说上面这两句话主要讲了什么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pic019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面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两句写出了夹竹桃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生命力顽强，一年三季充满生机，花期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10680" cy="6937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和煦的春风里，夹竹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盛夏的暴雨里，夹竹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深秋的清冷里，夹竹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954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7242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6553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0800" y="3286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展开想象，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10680" cy="69372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和煦的春风里，夹竹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它在烂漫的花丛中笑</a:t>
            </a:r>
            <a:r>
              <a:rPr b="0" lang="en-US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盛夏的暴雨里，夹竹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它仍然笑意盈盈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深秋的清冷里，夹竹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它送走了谢幕的花儿们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876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65530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0800" y="3286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展开想象，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5335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在和煦的春风里，在盛夏的暴雨里，在深秋的清冷里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看不出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什么特别茂盛的时候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也看不出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什么特别衰败的时候，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无日不迎风吐艳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191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个双重否定句，这句话还可以换个说法吗？为什么说“无日不迎风吐艳”能体现韧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，读出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1295280"/>
            <a:ext cx="73152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从春天一直到秋天，从迎春花一直到玉簪花和菊花，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无不奉陪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2004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无不奉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7160" y="4594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019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也是一个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双重否定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句话还可以换个说法吗？为什么说“无不奉陪”能体现韧性？用这种句式来表达有什么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，读出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10680" cy="6937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480" y="1066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这一点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韧性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，同院子里那些花比起来，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不是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显得非常可贵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784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反问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句话还可以换个说法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这种句式表达有什么好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你还知道哪些植物像夹竹桃一样具有可贵的韧性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Times New Roman"/>
              </a:rPr>
              <a:t>竹子、松树、蜡梅花、仙人掌、小草</a:t>
            </a: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228600"/>
            <a:ext cx="7026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隶书"/>
              </a:rPr>
              <a:t>读第五自然段，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月光下的夹竹桃为何能引起作者的幻想？划出相应的句子。他想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了作者的幻想，你有什么感受？你最喜欢哪一次幻想？有感情地朗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934320" y="3352680"/>
            <a:ext cx="17398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8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是夹竹桃的妙处还不止于此。我特别喜欢 月光下的夹竹桃 。你站在它下面，花朵是一团模糊；但是香气却 毫不含糊，浓浓烈烈地 从花枝上袭了下来。它把影子投到墙上，叶影参差 ，花影迷离，可以引起我许多幻想。我幻想它是地图，它居然就是地图了。这一堆影子是亚洲，那一堆影子是非洲，中间空白的地方是大海。碰巧有几只小虫子爬过，这就是远渡重洋的海轮。我幻想它是水中的荇藻，我眼前就真的展现出一个小池塘。夜蛾飞过，映在墙上的影子就是游鱼。我幻想它是一幅墨竹，我就真看到一幅画。微风乍起，夜影吹动，这一幅画竟变成活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19810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站在它下面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花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团模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香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却毫不含糊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浓浓烈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从花枝上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下来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把影子投到墙上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叶影参差，花影迷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可以引起我许多幻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228600"/>
            <a:ext cx="3200400" cy="1600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33920" y="61272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交流：月光下的夹竹桃为何能引起“我”的幻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97360" y="5562720"/>
            <a:ext cx="68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叶影参差：叶片的影子长短、高低、大小不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花影迷离：花的影子模糊不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006941534116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幻想成地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幻想成水中的荇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幻想成墨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月光下的夹竹桃让作者产生了哪几种幻想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55240" y="609480"/>
            <a:ext cx="3536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幻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是地图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居然就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图了。这一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影子是亚洲，那一堆影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非洲，中间空白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大海。碰巧有几只小虫子爬过，这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远渡重洋的海轮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幻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是水中的荇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眼前就真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展现出一个小池塘。夜蛾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过，映在墙上的影子就是游鱼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我幻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一幅墨竹，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就真看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幅画。微风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起，叶影吹动，这一幅画竟变成活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10080" y="228600"/>
            <a:ext cx="3505320" cy="2711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305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265116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读了作者的幻想，你有什么感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最喜欢哪一次幻想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52388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想象丰富、意境美、用词准确、描写生动有情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685800" y="21337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这是一篇文质兼美的散文，描绘了在万紫千红、五彩缤纷的花季里，夹竹桃的可贵韧性和花影迷离的动人情景，表达了作者对夹竹桃的喜爱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明刻苦学习数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绩优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学生数学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识竞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列前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21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19112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了她的钢琴演奏，观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啧啧赞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神舟七号成功飞天，大家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激动万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22860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不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…… 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改写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家听了劳动模范的报告，没有一个不激动万分。（用“无不” 改写句子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王小华刻苦钻研数学，成绩优秀，参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学生数学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竞赛，每次都名列前茅。（用“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”改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句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               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没有哪件坏事不干的，真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恶不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情发生，总有个原因，所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风不起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，就是这个道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解放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坚不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人有空子就钻，正可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孔不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地之大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奇不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巧不成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事不登三宝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的知识太多了，简直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所不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太有才了，真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所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矛盾无所不在。 我们的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往不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给予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微不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关怀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无不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的成绩提高的每一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无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浸透老师的汗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无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每一个学生充满爱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场的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无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欢呼雀跃 参观过庐山的游客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无（一）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此赞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的建议非常高明，大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无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手称赞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692280"/>
            <a:ext cx="2987640" cy="764280"/>
          </a:xfrm>
          <a:prstGeom prst="rect">
            <a:avLst/>
          </a:prstGeom>
          <a:gradFill rotWithShape="0">
            <a:gsLst>
              <a:gs pos="0">
                <a:srgbClr val="0000ff">
                  <a:alpha val="77254"/>
                </a:srgbClr>
              </a:gs>
              <a:gs pos="100000">
                <a:srgbClr val="000075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160600" y="5771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5880" y="475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048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11680" y="475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74600" y="526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71680" y="5191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544500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2600" y="571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4869000"/>
            <a:ext cx="36036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4869000"/>
            <a:ext cx="36036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4869000"/>
            <a:ext cx="36036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8720" y="5300640"/>
            <a:ext cx="36036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5300640"/>
            <a:ext cx="35856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5300640"/>
            <a:ext cx="35892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5805360"/>
            <a:ext cx="35892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5805360"/>
            <a:ext cx="35892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4640" cy="851040"/>
          </a:xfrm>
          <a:prstGeom prst="rect">
            <a:avLst/>
          </a:prstGeom>
          <a:noFill/>
          <a:ln cap="rnd" w="57240">
            <a:solidFill>
              <a:srgbClr val="cccc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自学提示一：阅读第四自然段，完成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5724360" cy="558972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但是夹竹桃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妙处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还不止于此。我特别喜欢月光下的夹竹桃。你站在它下面，花朵是一团模糊；但是香气却毫不含糊，浓浓烈烈地从花枝上袭了下来。它把影子投到墙上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叶影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参差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影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迷离，可以引起我许多幻想。我想它是地图，它居然就是地图了。这一堆影子是亚洲，那一堆影子是非洲，中间空白的地方是大海。碰巧有几只小虫子爬过，这就是远渡重洋的海轮。我幻想它是水中的荇藻，我眼前就真地展现出一个小池塘。夜蛾飞过，映在墙上的影子就是游鱼。我幻想它是一幅墨竹，我就真看到一幅画。微风乍起，叶影吹动，这一幅画竟变成活画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96000" y="1267920"/>
            <a:ext cx="3348000" cy="558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段文字主要写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夹竹桃的妙处还不止于此”的“妙处”是指上文中所讲的夹竹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点，作用是承接上文，“还不止于此”的作用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我把月光下的夹竹桃想象成哪三种事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6760" y="1700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月光下的夹竹桃引起我许多幻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70800" y="3645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有韧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72480" y="4797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引起下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92360" y="64087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地图、荇藻、墨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pic004"/>
          <p:cNvPicPr/>
          <p:nvPr/>
        </p:nvPicPr>
        <p:blipFill>
          <a:blip r:embed="rId1"/>
          <a:stretch/>
        </p:blipFill>
        <p:spPr>
          <a:xfrm>
            <a:off x="142920" y="609480"/>
            <a:ext cx="884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360" y="-111600"/>
            <a:ext cx="5746680" cy="696924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但是夹竹桃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妙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还不止于此。我特别喜欢月光下的夹竹桃。你站在它下面，花朵是一团模糊；但是香气却毫不含糊，浓浓烈烈地从花枝上袭了下来。它把影子投到墙上，叶影参差，花影迷离，可以引起我许多幻想。我想它是地图，它居然就是地图了。这一堆影子是亚洲，那一堆影子是非洲，中间空白的地方是大海。碰巧有几只小虫子爬过，这就是远渡重洋的海轮。我幻想它是水中的荇藻，我眼前就真地展现出一个小池塘。夜蛾飞过，映在墙上的影子就是游鱼。我幻想它是一幅墨竹，我就真看到一幅画。微风乍起，叶影吹动，这一幅画竟变成活画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796000" y="119160"/>
            <a:ext cx="3349440" cy="669744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引起我许多幻想的原因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------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亚洲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海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-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轮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鱼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一段的过渡句句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这一段的中心句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从作者丰富的幻想中，体会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81240" y="43434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夹竹桃的妙处还不止于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62080" y="907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叶影参差，花影迷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95840" y="134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影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42160" y="184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空白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2360" y="22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几只小虫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64200" y="27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夜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6800" y="5105520"/>
            <a:ext cx="5022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把影子、、，叶影参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花影迷离，可以、、幻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1916280"/>
            <a:ext cx="718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2276640"/>
            <a:ext cx="518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2637000"/>
            <a:ext cx="446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50200" y="6237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对夹竹桃的喜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8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71720" y="609480"/>
            <a:ext cx="3672000" cy="85104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赏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宋体"/>
              </a:rPr>
              <a:t>你站在它下面，花朵是一团模糊；但是香气却毫不含糊，浓浓烈烈地从花枝上袭了下来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想一想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：这段话主要写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从哪些词语可以体现出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   “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袭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”字让我们感受到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花朵是一团模糊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给我们什么样的感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80880" y="24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香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01840" y="34290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毫不含糊、浓浓烈烈、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7600" y="4581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夹竹桃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香气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浓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39640" y="5753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朦胧、神秘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3" descr=""/>
          <p:cNvPicPr/>
          <p:nvPr/>
        </p:nvPicPr>
        <p:blipFill>
          <a:blip r:embed="rId1"/>
          <a:stretch/>
        </p:blipFill>
        <p:spPr>
          <a:xfrm>
            <a:off x="-23760" y="44280"/>
            <a:ext cx="9096480" cy="68104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我来当裁判（对的打√，错的打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90028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《夹竹桃》一文的作者是季羡林。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“火与雪是不相容的，但是这两盆花却融洽地开在一起，宛如火上有雪，或雪上有火。”这句话是作者通过看门内的两盆夹竹桃所产生的联想。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“我幻想它是一幅墨竹，我就真看到一幅画。”这是一个比喻句。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作者在描写月光下的夹竹桃时，用自己的幻想描写它的动态与静态的美来表达喜爱之情。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08880" y="1486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27040" y="2868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53240" y="4797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30040" y="3789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请在括号中填入恰当的鸟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54320" cy="892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143000" y="2133720"/>
            <a:ext cx="73915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        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故人西辞（        ）楼，烟花三月下扬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千里（    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两个（    ）鸣翠柳，一行（    ）上青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旧时王谢堂前（    ），飞入寻常百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枯藤老树昏（     ），小桥流水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无可奈何花落去，似曾相识（       ）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几处（       ）争暖树，谁家（        ）啄春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1641600" cy="1082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755640" y="1844640"/>
            <a:ext cx="78296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黄鹤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故人西辞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黄鹤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楼，烟花三月下扬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千里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莺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两个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黄鹂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鸣翠柳，一行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白鹭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上青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旧时王谢堂前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燕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，飞入寻常百姓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枯藤老树昏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鸦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，小桥流水人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无可奈何花落去，似曾相识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燕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几处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早莺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争暖树，谁家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新燕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）啄春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请在括号中填入恰当的鸟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pic002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vNDW8czS_jqRFQ9pX5rGY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18909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04-30T05:09:28Z</dcterms:modified>
  <cp:revision>2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