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17C1-B19B-447B-A374-E9EB6758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85FF-A55F-405D-B9BC-F8423684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A9F-8913-4405-953F-AC88D524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E389-80DB-4417-AB3D-827C1905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62DA-45B3-49F5-884E-E8AE2C3A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D441-5DFE-42D4-91AF-B765E49A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9FF1-30D4-4B42-AEA9-29B24D8F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1FF1-86BB-4591-961B-5E6A35E0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E0E-FEFE-43D0-ABC0-803CA4EF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B85-EE62-4E84-8208-930C4EF8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9ED7-7B56-4846-BF05-2BA97DFC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B421-7EC4-469D-AEDB-03AE58A8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E844-EE68-45B7-891C-ECF8DD79C8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68360" y="1197000"/>
            <a:ext cx="56894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夹竹桃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然而，在一墙之隔的大门内，夹竹桃却在那里悄悄地一声不响，一朵花败了，又开出一朵，一嘟噜花黄了，又长出一嘟噜。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然而，在一墙之隔的大门内，夹竹桃却在那里悄悄地一声不响，一朵花败了，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又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开出一朵，一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嘟噜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花黄了，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又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长出一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嘟噜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2118231_142631051397_2"/>
          <p:cNvPicPr/>
          <p:nvPr/>
        </p:nvPicPr>
        <p:blipFill>
          <a:blip r:embed="rId2"/>
          <a:srcRect l="25198" t="25637" r="52326" b="52965"/>
          <a:stretch/>
        </p:blipFill>
        <p:spPr>
          <a:xfrm>
            <a:off x="7072200" y="578628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317080" y="5877000"/>
            <a:ext cx="826920" cy="86508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65080"/>
              <a:gd name="textAreaBottom" fmla="*/ 811800 h 865080"/>
            </a:gdLst>
            <a:ahLst/>
            <a:rect l="textAreaLeft" t="textAreaTop" r="textAreaRight" b="textAreaBottom"/>
            <a:pathLst>
              <a:path w="21600" h="22596">
                <a:moveTo>
                  <a:pt x="0" y="0"/>
                </a:moveTo>
                <a:lnTo>
                  <a:pt x="21600" y="0"/>
                </a:lnTo>
                <a:lnTo>
                  <a:pt x="21600" y="22596"/>
                </a:lnTo>
                <a:lnTo>
                  <a:pt x="0" y="22596"/>
                </a:lnTo>
                <a:close/>
              </a:path>
              <a:path fill="lightenLess" w="21600" h="225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96">
                <a:moveTo>
                  <a:pt x="21600" y="0"/>
                </a:moveTo>
                <a:lnTo>
                  <a:pt x="21600" y="22596"/>
                </a:lnTo>
                <a:lnTo>
                  <a:pt x="20200" y="21196"/>
                </a:lnTo>
                <a:lnTo>
                  <a:pt x="20200" y="1400"/>
                </a:lnTo>
                <a:close/>
              </a:path>
              <a:path fill="darkenLess" w="21600" h="22596">
                <a:moveTo>
                  <a:pt x="21600" y="22596"/>
                </a:moveTo>
                <a:lnTo>
                  <a:pt x="0" y="22596"/>
                </a:lnTo>
                <a:lnTo>
                  <a:pt x="1400" y="21196"/>
                </a:lnTo>
                <a:lnTo>
                  <a:pt x="20200" y="21196"/>
                </a:lnTo>
                <a:close/>
              </a:path>
              <a:path fill="lighten" w="21600" h="22596">
                <a:moveTo>
                  <a:pt x="0" y="225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96"/>
                </a:lnTo>
                <a:close/>
              </a:path>
              <a:path fill="darken" w="21600" h="22596">
                <a:moveTo>
                  <a:pt x="3794" y="4292"/>
                </a:moveTo>
                <a:lnTo>
                  <a:pt x="17806" y="11298"/>
                </a:lnTo>
                <a:lnTo>
                  <a:pt x="3794" y="183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324000" y="907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在和煦的春风里，在盛夏的暴雨里，在深秋的清冷里，看不出有什么特别茂盛的时候，也看不出有什么特别衰败的时候，无日不迎风吐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84360" y="17002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"/>
                <a:ea typeface="楷体"/>
              </a:rPr>
              <a:t>无日不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迎风吐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685800" y="2971800"/>
            <a:ext cx="82296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"/>
                <a:ea typeface="楷体"/>
              </a:rPr>
              <a:t>每日都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迎风吐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468360" y="126828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看不出有什么特别茂盛的时候，也看不出有什么特别衰败的时候，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无日不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迎风吐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2118231_142631051397_2"/>
          <p:cNvPicPr/>
          <p:nvPr/>
        </p:nvPicPr>
        <p:blipFill>
          <a:blip r:embed="rId2"/>
          <a:srcRect l="25198" t="25637" r="52326" b="52965"/>
          <a:stretch/>
        </p:blipFill>
        <p:spPr>
          <a:xfrm>
            <a:off x="7072200" y="5786280"/>
            <a:ext cx="93672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900000" y="1341360"/>
            <a:ext cx="78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从春天一直到秋天，从迎春花一直到玉簪花和菊花，无不奉陪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900000" y="1341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从春天一直到秋天，从迎春花一直到玉簪花和菊花，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无不奉陪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500040" y="285840"/>
            <a:ext cx="1584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979640" y="1413000"/>
            <a:ext cx="3529080" cy="1485000"/>
            <a:chOff x="1979640" y="1413000"/>
            <a:chExt cx="3529080" cy="1485000"/>
          </a:xfrm>
        </p:grpSpPr>
        <p:sp>
          <p:nvSpPr>
            <p:cNvPr id="95" name=""/>
            <p:cNvSpPr/>
            <p:nvPr/>
          </p:nvSpPr>
          <p:spPr>
            <a:xfrm>
              <a:off x="1979640" y="2133720"/>
              <a:ext cx="180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一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08360" y="1413000"/>
              <a:ext cx="180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一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-181440" y="0"/>
            <a:ext cx="9325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每年春天，迎春花首先开出黄色的小花，报告春的消息。以后接着来的是桃花、杏花、海棠、榆叶梅、丁香等等，院子里开得花团锦簇。到了夏天，更是满院生辉。凤仙花、石竹花、鸡冠花、五色梅、江西腊等等，五彩缤纷，美不胜收。夜来香的香气熏透了整个夏夜的庭院，是我什么时候也不会忘记的。一到秋天，玉簪花带来凄清的寒意，菊花则在秋风中怒放。一年三季，花开花落，万紫千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181440" y="0"/>
            <a:ext cx="9325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每年春天，迎春花首先开出黄色的小花，报告春的消息。以后接着来的是桃花、杏花、海棠、榆叶梅、丁香等等，院子里开得</a:t>
            </a: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花团锦簇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到了夏天，更是</a:t>
            </a: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满院生辉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凤仙花、石竹花、鸡冠花、五色梅、江西腊等等，</a:t>
            </a: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五彩缤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美不胜收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夜来香的香气熏透了整个夏夜的庭院，是我什么时候也不会忘记的。一到秋天，玉簪花带来凄清的寒意，菊花则在秋</a:t>
            </a: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风中怒放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一年三季，</a:t>
            </a: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花开花落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万紫千红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480" y="642600"/>
            <a:ext cx="84294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在一墙之隔的大门内，夹竹桃却在那里悄悄地一声不响，一朵花败了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又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开出一朵，一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嘟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花黄了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又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长出一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嘟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71680" y="3571920"/>
            <a:ext cx="82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从春天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一直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到秋天，从迎春花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一直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到玉簪花和菊花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无不奉陪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2118231_142631051397_2"/>
          <p:cNvPicPr/>
          <p:nvPr/>
        </p:nvPicPr>
        <p:blipFill>
          <a:blip r:embed="rId2"/>
          <a:srcRect l="25198" t="25637" r="52326" b="52965"/>
          <a:stretch/>
        </p:blipFill>
        <p:spPr>
          <a:xfrm>
            <a:off x="8207280" y="592128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651640" y="5084640"/>
            <a:ext cx="100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2492280"/>
            <a:ext cx="1523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333399"/>
                </a:solidFill>
                <a:latin typeface="Arial"/>
              </a:rPr>
              <a:t>夹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1258920" y="1341360"/>
            <a:ext cx="304920" cy="4038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547640" y="112536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宋体"/>
                <a:ea typeface="宋体"/>
              </a:rPr>
              <a:t>ji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619280" y="450864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宋体"/>
                <a:ea typeface="宋体"/>
              </a:rPr>
              <a:t>ji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2843280" y="134136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楷体_GB2312"/>
              </a:rPr>
              <a:t>夹杂，掺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987640" y="472428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双层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843280" y="486900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421164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900000" y="2379960"/>
            <a:ext cx="725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这一点韧性，同院子里那些花儿比起来，不是显得非常可贵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236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10800"/>
                </a:moveTo>
                <a:lnTo>
                  <a:pt x="18276" y="3794"/>
                </a:lnTo>
                <a:lnTo>
                  <a:pt x="18276" y="17806"/>
                </a:lnTo>
                <a:close/>
              </a:path>
            </a:pathLst>
          </a:cu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季羡林3"/>
          <p:cNvPicPr/>
          <p:nvPr/>
        </p:nvPicPr>
        <p:blipFill>
          <a:blip r:embed="rId2"/>
          <a:stretch/>
        </p:blipFill>
        <p:spPr>
          <a:xfrm>
            <a:off x="6553080" y="990720"/>
            <a:ext cx="2536920" cy="4270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228600" y="609480"/>
            <a:ext cx="624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时到德国深造，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遇上战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但他顽强积极地学习和生活，完成了博士学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17524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</a:t>
            </a:r>
            <a:r>
              <a:rPr b="1" lang="en-US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时，文化大革命开始，他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受到严重的迫害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但他还能用幽默的笔调讲述自己的遭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57120" y="3071880"/>
            <a:ext cx="61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，</a:t>
            </a:r>
            <a:r>
              <a:rPr b="1" lang="en-US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9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的季羡林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因病住进医院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但他还是没有停止过学习，病床上著成了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万字的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病榻杂记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57120" y="4419720"/>
            <a:ext cx="62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6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，</a:t>
            </a:r>
            <a:r>
              <a:rPr b="1" lang="en-US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的季羡林被评为感动中国十大人物之一，他还是非常谦虚地说：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受之有愧，受之有愧哪。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华文新魏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正是有像夹竹桃一样的韧性，才支撑着季老走向成功。在平凡的夹竹桃身上，他仿佛看到自己的影子，他借夹竹桃道出了自己情怀，这就是“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咏物抒情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0"/>
            <a:ext cx="90694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然而，在一墙之隔的大门内，夹竹桃却在那里悄悄地一声不响，一朵花败了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"/>
              </a:rPr>
              <a:t>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开出一朵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一嘟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花黄了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"/>
              </a:rPr>
              <a:t>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长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一嘟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。在和煦的春风里，在盛夏的暴雨里，在深秋的清冷里，看不出有什么特别茂盛的时候，也看不出有什么特别衰败的时候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"/>
              </a:rPr>
              <a:t>无日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迎风吐艳。从春天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一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到秋天，从迎春花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"/>
              </a:rPr>
              <a:t>一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到玉簪花和菊花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无不奉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。这一点韧性，同院子里那些花比起来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不是显得非常可贵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468360" y="184464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大声朗读第五段，找一找作者都做了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哪些幻想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？是通过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哪些方法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来描写夹竹桃引发的幻想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684360" y="115920"/>
            <a:ext cx="5903640" cy="67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我幻想它是地图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它居然就是地图了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这一堆影子是亚洲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那一堆影子是非洲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中间空白的地方是大海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碰巧有几只小虫子爬过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这就是远渡重洋的海轮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我幻想它是水中的荇藻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我眼前就真地展现出一个小池塘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夜蛾飞过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映在墙上的影子就是游鱼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我幻想它是一幅墨竹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我就真看到一幅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微风乍起，叶影吹动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这一幅画竟变成活画了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684360" y="115920"/>
            <a:ext cx="5903640" cy="67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我幻想它是</a:t>
            </a:r>
            <a:r>
              <a:rPr b="1" lang="zh-CN" sz="2600" spc="-1" strike="noStrike">
                <a:solidFill>
                  <a:srgbClr val="ff0000"/>
                </a:solidFill>
                <a:latin typeface="楷体"/>
                <a:ea typeface="楷体"/>
              </a:rPr>
              <a:t>地图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它居然就是地图了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这一堆影子是亚洲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那一堆影子是非洲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中间空白的地方是大海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碰巧有几只小虫子爬过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这就是远渡重洋的海轮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我幻想它是水中的</a:t>
            </a:r>
            <a:r>
              <a:rPr b="1" lang="zh-CN" sz="2600" spc="-1" strike="noStrike">
                <a:solidFill>
                  <a:srgbClr val="ff0000"/>
                </a:solidFill>
                <a:latin typeface="楷体"/>
                <a:ea typeface="楷体"/>
              </a:rPr>
              <a:t>荇藻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我眼前就真地展现出一个小池塘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夜蛾飞过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映在墙上的影子就是游鱼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我幻想它是一幅</a:t>
            </a:r>
            <a:r>
              <a:rPr b="1" lang="zh-CN" sz="2600" spc="-1" strike="noStrike">
                <a:solidFill>
                  <a:srgbClr val="ff0000"/>
                </a:solidFill>
                <a:latin typeface="楷体"/>
                <a:ea typeface="楷体"/>
              </a:rPr>
              <a:t>墨竹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我就真看到一幅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微风乍起，叶影吹动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这一幅画竟变成活画了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夜的钢琴曲.mp3" descr=""/>
          <p:cNvPicPr/>
          <p:nvPr/>
        </p:nvPicPr>
        <p:blipFill>
          <a:blip r:embed="rId2"/>
          <a:stretch/>
        </p:blipFill>
        <p:spPr>
          <a:xfrm>
            <a:off x="7667640" y="5732640"/>
            <a:ext cx="9381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36534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684360" y="115920"/>
            <a:ext cx="5903640" cy="69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"/>
                <a:ea typeface="楷体"/>
              </a:rPr>
              <a:t>这一堆影子是亚洲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"/>
                <a:ea typeface="楷体"/>
              </a:rPr>
              <a:t>那一堆影子是非洲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"/>
                <a:ea typeface="楷体"/>
              </a:rPr>
              <a:t>中间空白的地方是大海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碰巧有几只小虫子爬过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这就是远渡重洋的海轮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"/>
                <a:ea typeface="楷体"/>
              </a:rPr>
              <a:t>我幻想它是水中的荇藻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"/>
                <a:ea typeface="楷体"/>
              </a:rPr>
              <a:t>我眼前就真地展现出一个小池塘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夜蛾飞过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映在墙上的影子就是游鱼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"/>
                <a:ea typeface="楷体"/>
              </a:rPr>
              <a:t>我幻想它是一幅墨竹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"/>
                <a:ea typeface="楷体"/>
              </a:rPr>
              <a:t>我就真看到一幅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微风乍起，叶影吹动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这一幅画竟变成活画了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夜的钢琴曲.mp3" descr=""/>
          <p:cNvPicPr/>
          <p:nvPr/>
        </p:nvPicPr>
        <p:blipFill>
          <a:blip r:embed="rId2"/>
          <a:stretch/>
        </p:blipFill>
        <p:spPr>
          <a:xfrm>
            <a:off x="7667640" y="5732640"/>
            <a:ext cx="9381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36534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533520" y="685800"/>
            <a:ext cx="80769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这样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"/>
              </a:rPr>
              <a:t>韧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，又能这样引起我许多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"/>
              </a:rPr>
              <a:t>幻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，我爱上了夹竹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85800" y="32767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夹竹桃不是名贵的花，也不是最美丽的花，但是对我说来，它却是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最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值得留恋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最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值得回忆的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" descr="季羡林"/>
          <p:cNvPicPr/>
          <p:nvPr/>
        </p:nvPicPr>
        <p:blipFill>
          <a:blip r:embed="rId2"/>
          <a:stretch/>
        </p:blipFill>
        <p:spPr>
          <a:xfrm>
            <a:off x="0" y="189000"/>
            <a:ext cx="3924360" cy="64087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6"/>
          <p:cNvSpPr/>
          <p:nvPr/>
        </p:nvSpPr>
        <p:spPr>
          <a:xfrm>
            <a:off x="3924360" y="189000"/>
            <a:ext cx="52196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我扪心自问，我的感情是真实的，我的态度是严肃的，这一点决不含糊。我写东西有一条金科玉律：</a:t>
            </a: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凡是没有真正使我感动的事物，我决不下笔去写。”  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季羡林散文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自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85800" y="152388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39640" y="836640"/>
            <a:ext cx="8001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</a:rPr>
              <a:t>榆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树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</a:rPr>
              <a:t>凄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清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夜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</a:rPr>
              <a:t>蛾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荇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</a:rPr>
              <a:t>藻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玉簪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</a:rPr>
              <a:t>熏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微风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乍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起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一团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模糊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叶影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参差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花影迷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050920" y="436572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宋体"/>
              </a:rPr>
              <a:t>cēn c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7093080" y="30686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宋体"/>
              </a:rPr>
              <a:t>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395280" y="638172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1116000" y="638172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一看结构  二看高低  三看关键笔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52800"/>
            <a:ext cx="2890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请同学们大胆发挥想象，采用动静结合的方法，仿写第五自然段，当一回小作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32000" y="2060640"/>
            <a:ext cx="6769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谢谢大家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200882820363523"/>
          <p:cNvPicPr/>
          <p:nvPr/>
        </p:nvPicPr>
        <p:blipFill>
          <a:blip r:embed="rId2"/>
          <a:stretch/>
        </p:blipFill>
        <p:spPr>
          <a:xfrm>
            <a:off x="0" y="0"/>
            <a:ext cx="8893080" cy="6381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2008828203718722"/>
          <p:cNvPicPr/>
          <p:nvPr/>
        </p:nvPicPr>
        <p:blipFill>
          <a:blip r:embed="rId3"/>
          <a:stretch/>
        </p:blipFill>
        <p:spPr>
          <a:xfrm>
            <a:off x="0" y="0"/>
            <a:ext cx="8964720" cy="591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b21bb051f81986189e7db8b548ed2e738bd4e6cd"/>
          <p:cNvPicPr/>
          <p:nvPr/>
        </p:nvPicPr>
        <p:blipFill>
          <a:blip r:embed="rId4"/>
          <a:stretch/>
        </p:blipFill>
        <p:spPr>
          <a:xfrm>
            <a:off x="0" y="0"/>
            <a:ext cx="9248760" cy="69372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8"/>
          <p:cNvSpPr/>
          <p:nvPr/>
        </p:nvSpPr>
        <p:spPr>
          <a:xfrm>
            <a:off x="8172360" y="602136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5535" y="10800"/>
                </a:moveTo>
                <a:lnTo>
                  <a:pt x="19548" y="3794"/>
                </a:lnTo>
                <a:lnTo>
                  <a:pt x="1954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1989000"/>
            <a:ext cx="7632720" cy="76428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红色的花朵让我想到火，白色的花朵让我想到雪。火与雪是不相容的，但是这两盆花却融洽的开在一起，宛如火上有雪，或是雪上有火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532720" y="602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360截图20140417085951421"/>
          <p:cNvPicPr/>
          <p:nvPr/>
        </p:nvPicPr>
        <p:blipFill>
          <a:blip r:embed="rId2"/>
          <a:stretch/>
        </p:blipFill>
        <p:spPr>
          <a:xfrm>
            <a:off x="685800" y="1371600"/>
            <a:ext cx="3429000" cy="304812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3"/>
          <p:cNvGrpSpPr/>
          <p:nvPr/>
        </p:nvGrpSpPr>
        <p:grpSpPr>
          <a:xfrm>
            <a:off x="5181480" y="1371600"/>
            <a:ext cx="2949480" cy="2971440"/>
            <a:chOff x="5181480" y="1371600"/>
            <a:chExt cx="2949480" cy="2971440"/>
          </a:xfrm>
        </p:grpSpPr>
        <p:sp>
          <p:nvSpPr>
            <p:cNvPr id="59" name="Rectangle 4"/>
            <p:cNvSpPr/>
            <p:nvPr/>
          </p:nvSpPr>
          <p:spPr>
            <a:xfrm>
              <a:off x="5181480" y="1371600"/>
              <a:ext cx="2949480" cy="297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5"/>
            <p:cNvSpPr/>
            <p:nvPr/>
          </p:nvSpPr>
          <p:spPr>
            <a:xfrm>
              <a:off x="5181480" y="2857320"/>
              <a:ext cx="29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"/>
            <p:cNvSpPr/>
            <p:nvPr/>
          </p:nvSpPr>
          <p:spPr>
            <a:xfrm>
              <a:off x="6657120" y="1371600"/>
              <a:ext cx="0" cy="297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7"/>
            <p:cNvSpPr/>
            <p:nvPr/>
          </p:nvSpPr>
          <p:spPr>
            <a:xfrm flipV="1">
              <a:off x="5181480" y="1371600"/>
              <a:ext cx="2949480" cy="297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8"/>
            <p:cNvSpPr/>
            <p:nvPr/>
          </p:nvSpPr>
          <p:spPr>
            <a:xfrm>
              <a:off x="5181480" y="1371600"/>
              <a:ext cx="2949480" cy="297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9"/>
          <p:cNvSpPr/>
          <p:nvPr/>
        </p:nvSpPr>
        <p:spPr>
          <a:xfrm>
            <a:off x="5334120" y="1447920"/>
            <a:ext cx="23619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00"/>
                </a:solidFill>
                <a:latin typeface="Arial"/>
              </a:rPr>
              <a:t>熏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4114800" y="25909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472309f7905298220ca5b1dad4ca7bcb0a46d411"/>
          <p:cNvPicPr/>
          <p:nvPr/>
        </p:nvPicPr>
        <p:blipFill>
          <a:blip r:embed="rId2"/>
          <a:stretch/>
        </p:blipFill>
        <p:spPr>
          <a:xfrm>
            <a:off x="5292720" y="333360"/>
            <a:ext cx="3851280" cy="6408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0" y="333360"/>
            <a:ext cx="5292720" cy="31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家卡片：季羡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季羡林，当代著名语言学家、散文家、东方文化研究专家。他博古通今，学贯中西，被誉为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学界泰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的散文，质朴而不失典雅，率真而不乏睿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是一位坚定而忠诚的爱国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900000" y="3429000"/>
            <a:ext cx="79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这样的韧性，又能这样引起我许多的幻想，我爱上了夹竹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57120" y="0"/>
            <a:ext cx="821556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夹竹桃不是名贵的花，也不是最美丽的花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但是对我说来，它却是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最值得留恋最值得回忆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的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342900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韧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414972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幻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09480" y="17524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"/>
              </a:rPr>
              <a:t>静心默读第四自然段，画出能体现夹竹桃韧性的字、词或句子，细细品味，做好批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9" descr="2118231_142631051397_2"/>
          <p:cNvPicPr/>
          <p:nvPr/>
        </p:nvPicPr>
        <p:blipFill>
          <a:blip r:embed="rId2"/>
          <a:srcRect l="25198" t="25637" r="52326" b="52965"/>
          <a:stretch/>
        </p:blipFill>
        <p:spPr>
          <a:xfrm>
            <a:off x="1042920" y="599292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2118231_142631051397_2"/>
          <p:cNvPicPr/>
          <p:nvPr/>
        </p:nvPicPr>
        <p:blipFill>
          <a:blip r:embed="rId3"/>
          <a:srcRect l="25198" t="25637" r="52326" b="52965"/>
          <a:stretch/>
        </p:blipFill>
        <p:spPr>
          <a:xfrm>
            <a:off x="5003640" y="5994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2118231_142631051397_2"/>
          <p:cNvPicPr/>
          <p:nvPr/>
        </p:nvPicPr>
        <p:blipFill>
          <a:blip r:embed="rId4"/>
          <a:srcRect l="25198" t="25637" r="52326" b="52965"/>
          <a:stretch/>
        </p:blipFill>
        <p:spPr>
          <a:xfrm>
            <a:off x="3059280" y="599292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2118231_142631051397_2"/>
          <p:cNvPicPr/>
          <p:nvPr/>
        </p:nvPicPr>
        <p:blipFill>
          <a:blip r:embed="rId5"/>
          <a:srcRect l="25198" t="25637" r="52326" b="52965"/>
          <a:stretch/>
        </p:blipFill>
        <p:spPr>
          <a:xfrm>
            <a:off x="7236000" y="599292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800" spc="-1" strike="noStrike">
                <a:solidFill>
                  <a:srgbClr val="000000"/>
                </a:solidFill>
                <a:latin typeface="楷体"/>
                <a:ea typeface="楷体"/>
              </a:rPr>
              <a:t>然而，在一墙之隔的大门内，夹竹桃却在那里悄悄地一声不响，一朵花败了，又开出一朵，一嘟噜花黄了，又长出一嘟噜。在和煦的春风里，在盛夏的暴雨里，在深秋的清冷里，看不出有什么特别茂盛的时候，也看不出有什么特别衰败的时候，无日不迎风吐艳。从春天一直到秋天，从迎春花一直到玉簪花和菊花，无不奉陪。这一点韧性，同院子里那些花比起来，不是显得非常可贵吗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03:53:23Z</dcterms:created>
  <dc:creator>微软用户</dc:creator>
  <dc:description/>
  <dc:language>en-US</dc:language>
  <cp:lastModifiedBy>微软用户</cp:lastModifiedBy>
  <dcterms:modified xsi:type="dcterms:W3CDTF">2016-03-08T01:36:23Z</dcterms:modified>
  <cp:revision>112</cp:revision>
  <dc:subject/>
  <dc:title>幻灯片 1</dc:title>
</cp:coreProperties>
</file>