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159-E7C2-4C75-9793-025A882F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938-24A9-4B21-B599-34A89730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1FB-B05A-441D-A632-DFA49078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C96-57A0-4079-BDBE-9FEA212F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0516-E180-4167-AC56-1F2DA598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20D-9BDB-4E68-8A27-4587A18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4523-22CF-442E-BE70-3307A89A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DB2-70B9-4EF1-B74A-9EDC736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4409-372D-465E-A6C0-672BF934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A64-FA80-4CFA-B14A-F2D2195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90A-D7F9-4A49-ACC7-385CA74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DBD-ACB2-481C-B171-5443B5E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9DCB-D4FB-48FF-B769-7EA84D6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795-7688-47B5-81AE-3E8F336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DAB-51B0-42BA-BF19-F3FE49E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407-C470-40B4-86AA-3FD5A8E0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78D-0321-4A12-B453-2E3DC635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BD34-9EAC-4FEC-994E-3C392A14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86E9-D9EB-4A21-ABDF-DECEB25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6B00-587E-4765-9C03-BFBEB926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D339-0E49-439E-82D5-372655BB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27C6-48AD-4227-BA23-42101A3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D1C-A804-454E-881E-93BD1D81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B9CC-9327-409A-8FD9-2C8238B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0416-5B0D-4047-8B84-DEB790A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9A06-D0B3-412D-A01B-A4F7C940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1CFB-A4F5-4BAD-9B5E-6749820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0CEF-B1A1-4FB1-BC0B-9D0A596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F353-6384-4E7C-AEA2-CB3A1B9C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B816-A0A6-4C84-84E8-5B15E158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37A-AE87-46C8-AB4B-54370C8F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D89-B96F-4CAF-88F7-8A5D3BBE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85B-7399-4E24-9E55-2DBED689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B5F-1A1B-4341-A229-80E76AA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F66-8357-4BAA-A4E4-6A29294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584-47A4-4981-A0CC-8262A27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A583-6502-4E50-9F20-8256F7225B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AC18-40CE-4A36-B6DF-533D3E2C77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D1C3-B10D-492D-9123-5329D4D8D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7680" y="0"/>
            <a:ext cx="2182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　他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岁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写下了：“独在异乡为异客，每逢佳节倍思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　他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岁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高中状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积雨空林烟火迟，蒸藜炊黍饷东葘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秩序井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富有生活气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使人想见农妇田夫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怡然自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心情 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流露出诗人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对宁静、闲适、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安逸、无忧无虑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的田园生活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46195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漠漠水田飞白鹭，阴阴夏木啭黄鹂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唐人李肇因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李嘉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集中有“水田飞白鹭，夏木啭黄鹂”的诗句，便讥笑王维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取人文章嘉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（《国史补》卷上）；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明人胡应麟力辟其说：“摩诘盛唐，嘉祐中唐，安得前人预偷来者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正嘉祐用摩诘诗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（《诗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编》卷五）；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嘉祐与摩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时而稍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谁袭用谁的诗句，这很难说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漠漠水田飞白鹭，阴阴夏木啭黄鹂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　　　　　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　 ——王维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水田飞白鹭，夏木啭黄鹂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　　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方正姚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——李嘉祐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533520"/>
            <a:ext cx="7391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从艺术上看，谁的诗句较好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68580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雨后之景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叠字独能句圆神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——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胡以梅《唐诗贯珠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摩诘加以“漠漠”、“阴阴”四字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景俱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固知摩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善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——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宋徵璧《抱真堂诗话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4800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漠漠”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广阔迷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意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“阴阴”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茂盛幽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意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片广漠明净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淡彩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一片葱郁深沉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浓绿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背景更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蒙迷茫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-2045" r="0" b="0"/>
          <a:stretch/>
        </p:blipFill>
        <p:spPr>
          <a:xfrm>
            <a:off x="4724280" y="3475080"/>
            <a:ext cx="4419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三、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景极活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万古不磨之句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——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方东树《昭昧詹言》卷十六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画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 　　——朱叔重《铁网珊瑚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魏庆之《诗人玉屑》把它与杜甫诗的佳句“两个黄鹂鸣翠柳，一行白鹭上青天 ” 相提并论，认为都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极尽写物之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”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0" y="5226120"/>
            <a:ext cx="2286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白鹭雪白，黄鹂金黄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色彩差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显；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白鹭飞翔，黄鹂啼鸣，一取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一取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声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漠漠，形容水田广布，视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苍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阴阴，描状夏木茂密，境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幽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这样，碧空中白鹭高飞，绿树与黄鹂相衬，如一幅画展现在读者面前。此可谓“诗中有画”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0"/>
            <a:ext cx="390528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“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诗中有画” 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这两联中，人物活动也好，自然景色也好，并不是客观事物的简单摹拟，而是经过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灵的感应和过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染上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鲜明的主观色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体现了诗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看出诗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喜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如果说，首联所写农家无忧无虑的劳动生活已引起诗人的浓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兴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欣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情，那么，面对这黄鹂、白鹭的自由自在的飞鸣，诗人自会更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陶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已。        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山中习静观朝槿，松下清斋折露葵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处山林之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独处空山之中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幽栖松林之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木槿花开花落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采露葵供清斋素食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248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山中习静观朝槿，松下清斋折露葵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表面上看起来是太过清幽孤寂，实际上正是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尘世喧嚣生活极为厌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写照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远离了尘世的喧嚣，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远离了名利的争斗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归自然，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回归原始的真我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19720" y="3632040"/>
            <a:ext cx="4000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413840" y="533520"/>
            <a:ext cx="1447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他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岁丧妻之后一直未再续娶，孤居三十年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——不管怎么样，有这样条件又“守节”一生的封建时代的男人存在过，是奇迹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野老与人争席罢，海鸥何事更相疑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阳子学道归来后客人不再让座，却与之争座。说明诗人与村夫野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成一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—— 《庄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寓言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海上有人与鸥鸟亲近，互不猜疑，每日有百来只与他相游。一天，他父亲要他把海鸥抓回家去，他再到海边时，鸥鸟都在天上飞舞、不肯停下。说明心术不正，就破坏了他与鸥鸟的关系。表明自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归自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心灵境界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——《列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皇帝篇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野老与人争席罢，海鸥何事更相疑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连用两典 ，一正用一反用，书写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宁静淡泊自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心境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野老是诗人自谓：我早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去机心，绝俗念，随缘任遇，于人无碍，与世无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，还有谁会无端地猜忌我呢？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免除尘世烦恼，悠悠然耽于山林之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81680" y="5181480"/>
            <a:ext cx="21211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恬静优美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辋川山野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怡然自乐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农妇农夫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闲适脱俗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居诗人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共同构成一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阔清幽的意境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居山林、脱离尘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闲情逸致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澹泊自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心境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1148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60199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田园生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积雨、空林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　　烟火、饷东菑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田园风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漠漠水田、白鹭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　　阴阴夏木、黄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逸生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观朝槿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　　折露葵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淡泊情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野老争席（正用） 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　　海鸥相疑（反用）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8800" y="762120"/>
            <a:ext cx="1399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闲适安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43000" y="3505320"/>
            <a:ext cx="2618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与世无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于人无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696080" y="5754600"/>
            <a:ext cx="1447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31000" y="3808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积雨辋川庄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王维</a:t>
            </a:r>
            <a:endParaRPr b="1" lang="en-US" sz="6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4647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摩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官至尚书右丞，世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王右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有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王右丞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》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盛唐山水田园诗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代表诗人之一，与孟浩然齐名，世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王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3019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王维</a:t>
            </a:r>
            <a:endParaRPr b="1" lang="en-US" sz="6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虽为朝廷命官，却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隐居蓝田辋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过着亦官亦隐的居士生活。晚年无心仕途，专诚奉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以禅悟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故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诗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之称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苏轼谓其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诗中有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、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画中有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19920" y="838080"/>
            <a:ext cx="28033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525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隶书"/>
              </a:rPr>
              <a:t>积雨辋川庄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205704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7913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漳州一中    黄安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此诗作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安史之乱”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当时社会急剧变化，朝政混乱，王维厌倦官场生活，不再积极出仕，而是亦官亦隐。他隐居在辋川，信奉佛教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寻访山林，怡然自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3106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在这首七律中，诗人把自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幽雅清淡的禅寂生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与辋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恬静优美的田园风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结合起来描写，创造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了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物我相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　惬、情景交融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的意境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48056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积雨空林烟火迟，蒸藜炊黍饷东葘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雨时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天阴地湿，空气潮润，静谧的丛林上空，炊烟缓缓升起，山下农家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烧火做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呢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女人家把饭菜准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备好，便提携着送往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东面田头——男人们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一清早就去那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劳作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了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9-03-15T14:38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