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14B49-C4CB-40E3-A4E2-E5C37E4FC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D699D-FAE2-4EFC-BC23-5789A385C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FE729-6EF3-4690-8DC9-A62A437EB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9EA2D-2295-4F95-A321-38870F924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DC43E-96E4-4226-ADD8-D5EAC8719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C62E9-C95A-491D-A3EA-30C00B69A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FC93D-8B82-4B1E-B3CD-3B76EB87A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8D2AD-B4A2-4E5C-A990-05DBC6514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30A10-CA31-4BFD-87B7-8E6ACD029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408C9-8605-458A-9309-A779B94FD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52853-1F42-4D88-B1C3-4818F458D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44DAF-153E-413A-89E5-51AEC6EE1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0F6E2-4EF8-4CE7-8075-BB7A55BCA9F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6.xml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3880" y="1397160"/>
          <a:ext cx="6096240" cy="4711680"/>
        </p:xfrm>
        <a:graphic>
          <a:graphicData uri="http://schemas.openxmlformats.org/drawingml/2006/table">
            <a:tbl>
              <a:tblPr/>
              <a:tblGrid>
                <a:gridCol w="3048120"/>
                <a:gridCol w="3048120"/>
              </a:tblGrid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山山水水总关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山水田园诗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边疆异域绽奇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边塞战争诗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诗酒风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李白 杜牧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忧国忧民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杜甫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情诗王子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李商隐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残垣断壁思千古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咏史诗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其他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如即景抒情诗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" name=""/>
          <p:cNvSpPr/>
          <p:nvPr/>
        </p:nvSpPr>
        <p:spPr>
          <a:xfrm>
            <a:off x="2710440" y="26028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唐诗印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4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755640" y="476280"/>
            <a:ext cx="77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【注解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187280" y="1484280"/>
            <a:ext cx="23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空林：疏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16000" y="2060640"/>
            <a:ext cx="633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烟火迟：因久雨林野润湿，故烟火缓升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116000" y="2708280"/>
            <a:ext cx="48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藜：这里指蔬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116000" y="3357720"/>
            <a:ext cx="36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黍：这里指饭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116000" y="4005360"/>
            <a:ext cx="374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饷：送饭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187280" y="4581360"/>
            <a:ext cx="749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东菑：指东边田地上的农人。：本指初耕的田地，这里泛指田亩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258920" y="5589720"/>
            <a:ext cx="64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夏木：高大的树木，犹乔木。夏：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187280" y="765000"/>
            <a:ext cx="590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啭：鸟的宛转啼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187280" y="1557360"/>
            <a:ext cx="633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黄鹂：黄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258920" y="2205000"/>
            <a:ext cx="727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山中句：意谓深居山中，望着木槿花的开落以修养宁静之性。木槿：落叶灌木，其花早开晚谢。故以此悟人生荣枯无常之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332000" y="3645000"/>
            <a:ext cx="705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清斋：这里是素食的意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32000" y="4365720"/>
            <a:ext cx="727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露葵：经霜的葵菜。葵为古代重要蔬菜，有“百菜之主”之称。此诗也是他晚年生活的自我写照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>
            <a:hlinkClick r:id="rId1" action="ppaction://hlinksldjump"/>
          </p:cNvPr>
          <p:cNvSpPr/>
          <p:nvPr/>
        </p:nvSpPr>
        <p:spPr>
          <a:xfrm>
            <a:off x="7451640" y="5589720"/>
            <a:ext cx="1224000" cy="86364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557280" y="404640"/>
            <a:ext cx="109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  <a:ea typeface="隶书"/>
              </a:rPr>
              <a:t>解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35800" y="2060640"/>
            <a:ext cx="2716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首联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积雨空林烟火迟， 蒸藜炊黍饷东菑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08000" y="108432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首联</a:t>
            </a:r>
            <a:r>
              <a:rPr b="1" lang="zh-CN" sz="3600" spc="-1" strike="noStrike">
                <a:solidFill>
                  <a:srgbClr val="ff3300"/>
                </a:solidFill>
                <a:latin typeface="宋体"/>
              </a:rPr>
              <a:t>“积雨空林烟火迟，蒸藜炊黍饷东葘”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写田家劳作生活。积雨，久雨不停。诗人登高四望，只见天地一片潮湿，丛林上面静谧宁和，炊烟袅袅升起；女人们蒸藜炊黍，准备好饭菜，送到东面的田间地头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宋体"/>
              </a:rPr>
              <a:t>一个“</a:t>
            </a:r>
            <a:r>
              <a:rPr b="1" lang="zh-CN" sz="3600" spc="-1" strike="noStrike">
                <a:solidFill>
                  <a:srgbClr val="ff3300"/>
                </a:solidFill>
                <a:latin typeface="宋体"/>
              </a:rPr>
              <a:t>迟</a:t>
            </a:r>
            <a:r>
              <a:rPr b="1" lang="zh-CN" sz="3600" spc="-1" strike="noStrike">
                <a:solidFill>
                  <a:srgbClr val="0033cc"/>
                </a:solidFill>
                <a:latin typeface="宋体"/>
              </a:rPr>
              <a:t>”字，既写出了阴雨天炊烟缓缓升起之状，也写出了诗人心中闲散安逸的情怀。农家村妇田夫怡然自得之情跃然纸上。</a:t>
            </a:r>
            <a:r>
              <a:rPr b="1" lang="zh-CN" sz="3600" spc="-1" strike="noStrike">
                <a:solidFill>
                  <a:srgbClr val="99cc00"/>
                </a:solidFill>
                <a:latin typeface="宋体"/>
              </a:rPr>
              <a:t>（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炼字</a:t>
            </a:r>
            <a:r>
              <a:rPr b="1" lang="zh-CN" sz="3600" spc="-1" strike="noStrike">
                <a:solidFill>
                  <a:srgbClr val="99cc00"/>
                </a:solidFill>
                <a:latin typeface="宋体"/>
              </a:rPr>
              <a:t>）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84360" y="115920"/>
            <a:ext cx="24476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华文新魏"/>
              </a:rPr>
              <a:t>解读内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华文新魏"/>
              <a:ea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2790720" y="620640"/>
            <a:ext cx="109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  <a:ea typeface="隶书"/>
              </a:rPr>
              <a:t>解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583440" y="2205000"/>
            <a:ext cx="2716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颔联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漠漠水田飞白鹭， 阴阴夏木啭黄鹂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08000" y="189000"/>
            <a:ext cx="9144000" cy="13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颔联</a:t>
            </a:r>
            <a:r>
              <a:rPr b="1" lang="zh-CN" sz="3600" spc="-1" strike="noStrike">
                <a:solidFill>
                  <a:srgbClr val="ff3300"/>
                </a:solidFill>
                <a:latin typeface="宋体"/>
              </a:rPr>
              <a:t>“漠漠水田飞白鹭，阴阴夏木啭黄鹂”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与首联一样，是诗人静观所得，写自然景色。在一片广漠空旷的水田之上，白鹭翩翩飞舞；在层峦叠翠的夏日丛林之中，黄鹂正用甜美的歌喉唱歌。两种景象相映衬，将积雨之时的辋川山野写得画意盎然。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258920" y="4005360"/>
            <a:ext cx="6842160" cy="26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216000" y="1197000"/>
            <a:ext cx="88930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关于“漠漠水田飞白鹭，阴阴夏木啭黄鹂”两句，唐人李肇因见李嘉祐有诗句“水田飞白鹭，夏木啭黄鹂”，便讥笑王维“好取人文章佳句”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《唐国史补》卷上</a:t>
            </a:r>
            <a:r>
              <a:rPr b="1" lang="zh-CN" sz="2800" spc="-1" strike="noStrike">
                <a:solidFill>
                  <a:srgbClr val="99cc00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明人胡应麟不同意，反驳说：“摩诘盛唐，嘉祐中唐，安得前人预偷来者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?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此正嘉祐用摩诘诗。” 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《诗薮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·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内编》卷五</a:t>
            </a:r>
            <a:r>
              <a:rPr b="1" lang="zh-CN" sz="2800" spc="-1" strike="noStrike">
                <a:solidFill>
                  <a:srgbClr val="99cc00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但据查，嘉祐与摩诘同时而稍晚，谁袭用了谁的诗句难以定论。再看二人诗句，有高下之分，如宋人叶梦得说：“此两句好处，正在添‘漠漠’‘阴阴’四字，此乃摩诘为嘉祐点化，以自见其妙。”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《石林诗话》卷上</a:t>
            </a:r>
            <a:r>
              <a:rPr b="1" lang="zh-CN" sz="2800" spc="-1" strike="noStrike">
                <a:solidFill>
                  <a:srgbClr val="99cc00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漠漠”有“广阔”意，“阴阴”有“幽深”意，“漠漠水田”和“阴阴夏木”比“水田”和“夏木”画面显得开阔而又深邃。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684360" y="115920"/>
            <a:ext cx="24476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华文新魏"/>
              </a:rPr>
              <a:t>问题探究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华文新魏"/>
              <a:ea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2790720" y="620640"/>
            <a:ext cx="109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  <a:ea typeface="隶书"/>
              </a:rPr>
              <a:t>解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505240" y="2178000"/>
            <a:ext cx="4414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颈联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山中习静观朝槿， 松下清斋折露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08000" y="1220760"/>
            <a:ext cx="914400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颈联</a:t>
            </a:r>
            <a:r>
              <a:rPr b="1" lang="zh-CN" sz="3600" spc="-1" strike="noStrike">
                <a:solidFill>
                  <a:srgbClr val="ff3300"/>
                </a:solidFill>
                <a:latin typeface="宋体"/>
              </a:rPr>
              <a:t>“山中习静观朝槿，松下清斋折露葵”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写诗人独处山林之乐。在松林之中，诗人看木槿花开花落；采露葵供清斋素食。表面上看起来是太过清幽孤寂，实际上正是诗人对尘世喧嚣生活极为厌倦的写照。</a:t>
            </a:r>
            <a:r>
              <a:rPr b="1" lang="zh-CN" sz="3600" spc="-1" strike="noStrike">
                <a:solidFill>
                  <a:srgbClr val="99cc00"/>
                </a:solidFill>
                <a:latin typeface="宋体"/>
              </a:rPr>
              <a:t>（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寓情于景</a:t>
            </a:r>
            <a:r>
              <a:rPr b="1" lang="zh-CN" sz="3600" spc="-1" strike="noStrike">
                <a:solidFill>
                  <a:srgbClr val="99cc00"/>
                </a:solidFill>
                <a:latin typeface="宋体"/>
              </a:rPr>
              <a:t>）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2790720" y="620640"/>
            <a:ext cx="109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  <a:ea typeface="隶书"/>
              </a:rPr>
              <a:t>解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597400" y="2178000"/>
            <a:ext cx="4688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尾联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野老与人争席罢， 海鸥何事更相疑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0" y="333360"/>
            <a:ext cx="81532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相思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《九月九日忆山东兄弟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《送元二使安西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79280" y="169920"/>
            <a:ext cx="8893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尾联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“野老与人争席罢，海鸥何事更相疑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?”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是诗人与世无争的表白：既然我早已去机心，绝俗念，随缘自适，还有谁会无端地猜忌我呢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?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我应该可以脱离世间烦恼，悠游于林泉之中了。野老，诗人自谓。</a:t>
            </a: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《庄子</a:t>
            </a: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·</a:t>
            </a: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杂篇</a:t>
            </a: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·</a:t>
            </a: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寓言》载，杨朱去从老子学道，路上旅舍主人欢迎他，客人都给他让座；学成归来，客人们再也不让座与他，而是与他“争席”，说明杨朱已得自然之道，与人们不再有隔膜了。</a:t>
            </a:r>
            <a:r>
              <a:rPr b="1" lang="zh-CN" sz="3200" spc="-1" strike="noStrike">
                <a:solidFill>
                  <a:srgbClr val="008000"/>
                </a:solidFill>
                <a:latin typeface="宋体"/>
              </a:rPr>
              <a:t>“海鸥相疑”见《列子</a:t>
            </a:r>
            <a:r>
              <a:rPr b="1" lang="zh-CN" sz="3200" spc="-1" strike="noStrike">
                <a:solidFill>
                  <a:srgbClr val="008000"/>
                </a:solidFill>
                <a:latin typeface="宋体"/>
              </a:rPr>
              <a:t>·</a:t>
            </a:r>
            <a:r>
              <a:rPr b="1" lang="zh-CN" sz="3200" spc="-1" strike="noStrike">
                <a:solidFill>
                  <a:srgbClr val="008000"/>
                </a:solidFill>
                <a:latin typeface="宋体"/>
              </a:rPr>
              <a:t>黄帝》，说海边有一人与鸥鸟相亲近，后来其父要他将海鸥捉回来，等他再到海边时，海鸥便飞得远远的不再理他。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此二典都充满了老庄色彩，一正用，一反用，共同抒写诗人澹泊宁静的心境。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54900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积雨辋川庄作</a:t>
            </a:r>
            <a:r>
              <a:rPr b="0" lang="zh-CN" sz="4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_x000b_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--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王维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755640" y="2133360"/>
            <a:ext cx="815328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积雨空林烟火迟， 蒸藜炊黍饷东菑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漠漠水田飞白鹭， 阴阴夏木啭黄鹂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山中习静观朝槿， 松下清斋折露葵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野老与人争席罢， 海鸥何事更相疑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24000" y="1916280"/>
            <a:ext cx="8605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这首诗描写了久雨中的辋川别业优美风光</a:t>
            </a:r>
            <a:r>
              <a:rPr b="1" lang="zh-CN" sz="4000" spc="-1" strike="noStrike">
                <a:solidFill>
                  <a:srgbClr val="ff3300"/>
                </a:solidFill>
                <a:latin typeface="黑体"/>
                <a:ea typeface="黑体"/>
              </a:rPr>
              <a:t>（境）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，抒发了诗人淡泊宁静的情怀</a:t>
            </a:r>
            <a:r>
              <a:rPr b="1" lang="zh-CN" sz="4000" spc="-1" strike="noStrike">
                <a:solidFill>
                  <a:srgbClr val="ff3300"/>
                </a:solidFill>
                <a:latin typeface="黑体"/>
                <a:ea typeface="黑体"/>
              </a:rPr>
              <a:t>（意）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4360" y="260280"/>
            <a:ext cx="24476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华文新魏"/>
              </a:rPr>
              <a:t>感受意境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华文新魏"/>
              <a:ea typeface="华文新魏"/>
            </a:endParaRPr>
          </a:p>
        </p:txBody>
      </p:sp>
      <p:sp>
        <p:nvSpPr>
          <p:cNvPr id="125" name=""/>
          <p:cNvSpPr/>
          <p:nvPr/>
        </p:nvSpPr>
        <p:spPr>
          <a:xfrm>
            <a:off x="5281200" y="4365720"/>
            <a:ext cx="1521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Arial"/>
                <a:ea typeface="楷体_GB2312"/>
              </a:rPr>
              <a:t>——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  <a:ea typeface="楷体_GB2312"/>
              </a:rPr>
              <a:t>主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250920" y="1341360"/>
            <a:ext cx="889308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① 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结构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诗中前二联写景，后二联写情志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以农家田园生活和优美的自然风光来衬托诗人隐居山林的情志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②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用典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诗歌借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争席”、“海鸥”二典，曲折见意，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表达自己离尘脱俗的心态。 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③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诗中有画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句中意象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富于色彩之美，有构图之美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4360" y="115920"/>
            <a:ext cx="24476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华文新魏"/>
              </a:rPr>
              <a:t>鉴赏要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华文新魏"/>
              <a:ea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0" y="333360"/>
            <a:ext cx="81532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相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红豆生南国，春来发几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劝君多采撷，此物最相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九月九日忆山东兄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独在异乡为异客，每逢佳节倍思亲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遥知兄弟登高处，遍插茱萸少一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送元二使安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渭城朝雨浥轻尘，客舍青青柳色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劝君更进一杯酒，西出阳关无故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50920" y="189000"/>
            <a:ext cx="88930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王维 </a:t>
            </a: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(701 — 761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字摩诘，太原祁 </a:t>
            </a:r>
            <a:r>
              <a:rPr b="1" lang="zh-CN" sz="2800" spc="-1" strike="noStrike">
                <a:solidFill>
                  <a:srgbClr val="808080"/>
                </a:solidFill>
                <a:latin typeface="方正姚体"/>
                <a:ea typeface="方正姚体"/>
              </a:rPr>
              <a:t>( </a:t>
            </a:r>
            <a:r>
              <a:rPr b="1" lang="zh-CN" sz="2800" spc="-1" strike="noStrike">
                <a:solidFill>
                  <a:srgbClr val="ff0000"/>
                </a:solidFill>
                <a:latin typeface="方正姚体"/>
                <a:ea typeface="方正姚体"/>
              </a:rPr>
              <a:t>今山西祁县</a:t>
            </a:r>
            <a:r>
              <a:rPr b="1" lang="zh-CN" sz="2800" spc="-1" strike="noStrike">
                <a:solidFill>
                  <a:srgbClr val="808080"/>
                </a:solidFill>
                <a:latin typeface="方正姚体"/>
                <a:ea typeface="方正姚体"/>
              </a:rPr>
              <a:t> </a:t>
            </a:r>
            <a:r>
              <a:rPr b="1" lang="zh-CN" sz="2800" spc="-1" strike="noStrike">
                <a:solidFill>
                  <a:srgbClr val="808080"/>
                </a:solidFill>
                <a:latin typeface="方正姚体"/>
                <a:ea typeface="方正姚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人，盛唐山水田园诗代表作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开元九年 </a:t>
            </a: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(721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登进士第，任太乐丞，因事获罪，贬济州司仓参军。此后开始亦官亦隐的生涯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王维官曾任中书舍人、给事中，官终于尚书右丞，故世称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王右丞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以天宝初年即王维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4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岁左右为界，王维的思想可分为前后两个时期。前期有积极的人生态度和政治抱负，热情开朗，雄心勃勃。他在这时期创作的政治诗和边塞游侠诗，洋溢着青春朝气和理想光芒，饱含情韵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开元二十八年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4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岁，王维过起了亦官亦隐的生活。他先是在长安郊外的终南山隐居，陶醉于美丽的辋川山水，与友人裴迪浮舟往来，弹琴赋诗，啸咏终日。著名的《辋川集二十首》，就是王维晚年隐居辋川别业时写的一组小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3080" y="476280"/>
            <a:ext cx="250920" cy="28872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3080" y="836640"/>
            <a:ext cx="250920" cy="28872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7760" y="1341360"/>
            <a:ext cx="250920" cy="28908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7760" y="1701720"/>
            <a:ext cx="250920" cy="28908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2440" y="2206800"/>
            <a:ext cx="250920" cy="28872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82440" y="2567160"/>
            <a:ext cx="250920" cy="28872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87480" y="3932280"/>
            <a:ext cx="250560" cy="28872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7480" y="4292640"/>
            <a:ext cx="250560" cy="28872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2160" y="4724280"/>
            <a:ext cx="250920" cy="28908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2160" y="6018120"/>
            <a:ext cx="250920" cy="28908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08000" y="2995560"/>
            <a:ext cx="250920" cy="28908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250920" y="360360"/>
            <a:ext cx="88930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王维是盛唐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山水田园诗派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代表诗人之一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与孟浩然齐名，世称“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王孟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他精通佛学，外号“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诗佛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他多才多艺，诗歌之外，兼善散文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音乐、书法、绘画，尤以绘画见长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被推为“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南宗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”山水画之祖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有《王右丞集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3080" y="476280"/>
            <a:ext cx="250920" cy="28872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3080" y="836640"/>
            <a:ext cx="250920" cy="28872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7760" y="1341360"/>
            <a:ext cx="250920" cy="28908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7760" y="1701720"/>
            <a:ext cx="250920" cy="28908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440" y="2206800"/>
            <a:ext cx="250920" cy="28872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2440" y="2567160"/>
            <a:ext cx="250920" cy="28872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87480" y="3932280"/>
            <a:ext cx="250560" cy="28872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7480" y="4292640"/>
            <a:ext cx="250560" cy="28872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92160" y="4724280"/>
            <a:ext cx="250920" cy="28908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92160" y="6018120"/>
            <a:ext cx="250920" cy="28908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08000" y="2995560"/>
            <a:ext cx="250920" cy="28908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6124680" y="2637000"/>
            <a:ext cx="301932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50920" y="189000"/>
            <a:ext cx="88930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补充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盛唐两大诗歌流派，一个是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山水田园诗派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这一诗派是陶渊明、谢灵运、谢朓的后继者，这一诗派的诗人以擅长描绘山水田园风光而著称，在艺术风格上也比较接近，通过描绘幽静的景色，借以反映其宁静的心境或隐逸的思想，因而被称为“山水田园诗派”。主要作家是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孟浩然、王维、常健、祖咏、裴迪等人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其中，“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王孟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”最出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另一个诗派是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边塞战争诗派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主要诗人有高适、岑参、王昌龄、王翰、王之涣、李颀、崔颢等，其中，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高适、岑参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最出名。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3080" y="476280"/>
            <a:ext cx="250920" cy="28872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3080" y="836640"/>
            <a:ext cx="250920" cy="28872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7760" y="1341360"/>
            <a:ext cx="250920" cy="28908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7760" y="1701720"/>
            <a:ext cx="250920" cy="28908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82440" y="2206800"/>
            <a:ext cx="250920" cy="28872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2440" y="2567160"/>
            <a:ext cx="250920" cy="28872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87480" y="3932280"/>
            <a:ext cx="250560" cy="28872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7480" y="4292640"/>
            <a:ext cx="250560" cy="28872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92160" y="4724280"/>
            <a:ext cx="250920" cy="28908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92160" y="6018120"/>
            <a:ext cx="250920" cy="28908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08000" y="2995560"/>
            <a:ext cx="250920" cy="28908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179280" y="260280"/>
            <a:ext cx="8820360" cy="63118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4119480" y="476280"/>
            <a:ext cx="2923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  <a:ea typeface="隶书"/>
              </a:rPr>
              <a:t>积雨辋川庄作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50920" y="1535040"/>
            <a:ext cx="862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辋川庄，在今陕西蓝田西南十余公里处的辋川山谷中，是王维在宋之问辋川山庄的基础上兴建的园林，主要景点有孟城坳、华子岗、文杏馆、鹿柴、辛夷坞、欹湖等，今已湮没。《旧唐书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王维传》载：“维兄弟俱奉佛，居常蔬食，不茹荤血，晚年长斋，不衣文彩。”这是一首七律，作于辋川山庄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684360" y="260280"/>
            <a:ext cx="24476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华文新魏"/>
              </a:rPr>
              <a:t>写作背景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华文新魏"/>
              <a:ea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400560" y="620640"/>
            <a:ext cx="2923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  <a:ea typeface="隶书"/>
              </a:rPr>
              <a:t>积雨辋川庄作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597400" y="2205000"/>
            <a:ext cx="4688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积雨空林烟火迟， 蒸藜炊黍饷东菑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漠漠水田飞白鹭， 阴阴夏木啭黄鹂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山中习静观朝槿， 松下清斋折露葵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野老与人争席罢， 海鸥何事更相疑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3T15:29:44Z</dcterms:created>
  <dc:creator>nalsd</dc:creator>
  <dc:description/>
  <dc:language>en-US</dc:language>
  <cp:lastModifiedBy>微软用户</cp:lastModifiedBy>
  <dcterms:modified xsi:type="dcterms:W3CDTF">2012-02-09T14:55:29Z</dcterms:modified>
  <cp:revision>39</cp:revision>
  <dc:subject/>
  <dc:title>幻灯片 1</dc:title>
</cp:coreProperties>
</file>