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4B5-60AF-4E6F-AECC-261B8A41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A91-7CF3-4629-85FA-6DAF525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22101-ECB5-4B4F-93AF-442D2158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7AF26-8BC8-473A-B5E5-7664811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21B6-E4FF-474B-B455-D6DEAC6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37563-CC77-4F9A-B511-962DB84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6521D-D91F-4E75-8E69-F4A3CA1F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9BB0D-8B1F-4F7E-9441-CE53C10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2C025-740D-496F-B0B4-1CC7C046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92CD7-C298-4241-B0C1-B864B782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FC31F-A3AB-401B-BBF9-84B4714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4760F-8B80-4D76-BBA6-7D49163C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DC6-AF72-4D78-B584-DE007E93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5BA72-85FC-4970-AE0C-1EC1BD37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5AD78-DD56-45EF-B4DF-EC0B250A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0C68-BBE9-4705-8573-D48A035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6BD3A-5F03-49BA-A63C-6A4E9A22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8ED34-E1E3-4F54-9685-A89FA5B8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B8421-B148-4384-B10D-1A1F4B9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4FC5D-EBD2-4C69-90D0-9A2D19F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5534B-3B6C-4862-AB57-3C2D1E7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2098-0A4C-4FCE-B027-0C7F7C6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4FE89-0F66-4C99-B8CE-6858065A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33D-1625-4FF9-A97C-94BF3A17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D78A8-92FA-4AE4-96B6-5D55E861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8BD3E-72BC-48FE-91B3-0797DF19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FDDC-073A-4ED5-A0CA-C49CC5DC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49942-F328-42A1-96A1-BF65CFF0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5A7BC-C2F3-4D70-938F-AB87CA33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E0303-AA47-4810-A527-8C9F6E2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2FB10-8D6D-4039-A19E-82F5D1D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1746-4EC0-452B-A466-2CFDD4C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73A0E-BD9E-4515-8EBA-7D8FD21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06527-EAC9-438A-B627-F0A3A1C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734-057D-471B-B3F0-DBAFAAE2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3DA82-791D-4D6A-8432-1DBE746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187F5-64CC-4816-B322-1F5CF790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75326-975F-4770-83BE-5B3846C2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C783-9C98-4E33-9FDA-5BFC0CB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021-12F7-486E-AA63-0EACE67A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D14-4A92-4CF6-88C2-A3B7411C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AACF-04DB-484F-A24F-B8C7F18A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C67C-BFEE-4620-B56A-AAA182C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798D-73D3-4DDE-992E-04F9D891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156-0FA4-41A6-A744-035856AD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F5C-1497-4B6F-8A6A-ABCD466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C98E-E321-4B9C-8C0C-388F5A9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6637-C8A5-4049-AF78-5B862BF4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DAFC-0995-4CDE-9B2F-2E4D6F28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B7C6-B7FD-421E-9FB9-BF8ABC73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4B7B-6312-4A7C-9A5F-5DD4CACC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CFE8-4B67-4895-90D0-EBC7C58C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018B-C2B6-4ABF-960E-420560E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9B9B-B489-47DD-A62C-670FA5D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3391-D2EE-44B5-8709-F33A3B74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853-D411-46D7-91E0-6635AE5D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640A-A2B5-4759-9E0C-FF13672A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1936-13D8-4984-BE46-71E3D07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48BE-938B-49BF-8518-BC9C332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887E-BB8A-4618-9203-351D576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A2A4-EA9D-4E5B-9378-537D2D7C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BD20-4CD9-4349-88A9-AA53900E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BB49-4BB3-43F3-8483-9EE5DEDA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4CC0-89D8-42D2-8CD8-4395B62E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1431-2738-4474-A223-57046D08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1475-4614-4A52-BD26-BF20D1C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AF9-29A3-41C2-A669-846D97D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4EC0-42BC-45E6-802A-4106F9D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26AF-E50E-4D9B-9971-B885882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160A-981A-4834-B33A-FDCE4EB4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C7FF-06D1-4DB1-85AF-BA11AF6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4441-A436-4520-8AC6-04C80D6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666B-29CB-4A39-80B3-4029030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3D99-C3A5-46A2-BFE1-10403C8C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38E0-0DC9-4F4A-A675-123963B7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87B0-1DF4-46AF-8F0A-4E0318B6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985A-ACB5-4A06-9F40-1C145FEA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8C9-8ED5-4483-BFC5-F16E90B6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9F53-D0A2-4070-94D0-856D2E0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C2EF-1629-472E-B993-8FEA1D06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F333-284F-4147-9B20-1687D1F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43D4-80AD-4844-BD36-E095FBBB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C99F-5551-487D-BCE5-AF24011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6B04-5F3C-4365-BC15-9CE452E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0CAE6-1322-4974-BF88-2251ED0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F49D6-400F-445E-83E8-2BD39E6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4B15-5F54-4B4B-AEBD-846D854F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D205-4BFE-4B24-AD9B-48EE030C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592-6AD7-42A0-92C7-73EA7E85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DB32-0D03-4132-85FA-4A0D9330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8537-0004-4A5F-9AA1-DAA237C3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CD2A4-4FEB-4715-B22E-1001D3D2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382B-4E97-41B2-9029-E178EFB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AF9EB-069D-477E-8607-202E7C9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DFF0-C0F9-4CC8-AE21-4F553496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A043-F056-4D19-A3DC-C6397756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71DD6-AE62-44FD-B324-4E10299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9409-7614-43A7-9D8D-060B6D8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2AFC-9A69-4A6B-8864-5B217F4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3C4-8DFA-405B-85EB-F017F4E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7805-9E5A-4013-94B2-7A364827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B835-7953-4987-9969-419AF00C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FFF2-9509-44EF-8EE3-2FB6C551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D360-DA90-42BF-A46C-76E2DFCB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3D78-7939-4C8E-926E-C8C77C2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FA70D-2D37-43C8-818A-49EAD1B6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420C5-F7CE-4A46-ACDA-089E729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35BC4-D6FF-4820-B3A1-A41141D3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7000-5799-4253-B07E-8FD4907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F0C9-CDF3-4964-B459-075C86B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A59-8E67-48DA-91F7-4B14B3AC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3E26-31D9-4B40-BC53-E11B003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3DA3F-6657-431D-943C-A69B41D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DB9F-90FE-4835-B459-D0BD343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7A859-7026-438A-8D4F-68FF4359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867D-6502-437E-9147-0E528866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9965-A186-4981-8FFB-E3145C76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456B-12FF-4350-AE40-41A98AF4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71E3-BC34-41C3-B2EF-4BF3B82A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BBC24-46D8-4BC6-8113-902FF7D5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CD694-B605-4C51-B707-E984843A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51C-52DD-466F-997E-FAD15A8A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A30A-90E2-41C0-81E2-450CAF7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7881-C1BC-40AE-BB03-D09061E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006B-2605-4EE2-8FFA-A9C1392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C18B-4356-40CF-9A78-AB5123E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85636-529E-4D15-BA95-7A02181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C865-3106-4C86-89CA-08357A7A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8EDB1-170A-4470-B4D9-35256192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81DA3-33E8-4156-9A97-D02C6560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C3663-42CE-417A-8EA9-30D4222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2C6AD-AF9D-4772-93F5-2D96948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7405-4E00-432D-B9C1-9FD196299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0F35-2430-4F6B-94D4-47A4CAB66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57A6-BD73-42F8-B654-1A0E3ECE7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432-884D-4125-9A07-BA7148F261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F13C-19AC-4425-A652-5C7AB9525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EA4A-C0BA-434D-96A8-EB095318C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6D6-24CD-4681-A8B6-ECA5E89817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34A-E366-4754-A662-3C8B04AB8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BBD5-731F-4DB5-97B2-EC5CBDB3A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3321-7FF1-47FE-A942-23287F3494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0C8-A894-4C98-9F50-E802FA85C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pcn.net/productShow.asp?id=4357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ngqian.com/4399/icihh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.444.com.cn/?uid-16053-action-spacelist-type-bbs-view-image-page-1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lora.pkusf.net/article.php?cs=sp&amp;id=&#33433;&#33993;&#33909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lant.ac.cn/dan_tu/78/62854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uanlin.com/flora/HTML/Info/2006-5/Yuanlin_Flora_2024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xdaily.com/yxnews/tour/lycpjs/2007_9_21/355376.s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59766.cn/spic_remark_31824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cnhhcw.com/chongwu/gsn/gsnbk/200701240913997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m.cangdian.com/Data/2005/PMH00545/CD001385/html/CD001385-0914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2051" descr="52"/>
          <p:cNvPicPr/>
          <p:nvPr/>
        </p:nvPicPr>
        <p:blipFill>
          <a:blip r:embed="rId1"/>
          <a:stretch/>
        </p:blipFill>
        <p:spPr>
          <a:xfrm>
            <a:off x="179280" y="260280"/>
            <a:ext cx="8820360" cy="63118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2053"/>
          <p:cNvSpPr/>
          <p:nvPr/>
        </p:nvSpPr>
        <p:spPr>
          <a:xfrm>
            <a:off x="5942160" y="476280"/>
            <a:ext cx="23749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积雨辋川庄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16390" descr="gm8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6386"/>
          <p:cNvSpPr/>
          <p:nvPr/>
        </p:nvSpPr>
        <p:spPr>
          <a:xfrm>
            <a:off x="0" y="189000"/>
            <a:ext cx="91440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Arial"/>
              </a:rPr>
              <a:t>木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Arial"/>
              </a:rPr>
              <a:t>槿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17412" descr="2131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文本框 17410"/>
          <p:cNvSpPr/>
          <p:nvPr/>
        </p:nvSpPr>
        <p:spPr>
          <a:xfrm>
            <a:off x="0" y="189000"/>
            <a:ext cx="91440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Arial"/>
              </a:rPr>
              <a:t>木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Arial"/>
              </a:rPr>
              <a:t>槿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18438" descr="RFNDTjc2OTK6ow==_fqtOcGhroeM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文本框 18434"/>
          <p:cNvSpPr/>
          <p:nvPr/>
        </p:nvSpPr>
        <p:spPr>
          <a:xfrm>
            <a:off x="0" y="189000"/>
            <a:ext cx="91440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Arial"/>
              </a:rPr>
              <a:t>木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Arial"/>
              </a:rPr>
              <a:t>槿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19460" descr="1144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19458"/>
          <p:cNvSpPr/>
          <p:nvPr/>
        </p:nvSpPr>
        <p:spPr>
          <a:xfrm>
            <a:off x="0" y="189000"/>
            <a:ext cx="25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ff3300"/>
                </a:solidFill>
                <a:latin typeface="Arial"/>
                <a:ea typeface="楷体_GB2312"/>
              </a:rPr>
              <a:t>葵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20484" descr="2239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文本框 20482"/>
          <p:cNvSpPr/>
          <p:nvPr/>
        </p:nvSpPr>
        <p:spPr>
          <a:xfrm>
            <a:off x="0" y="189000"/>
            <a:ext cx="25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ff3300"/>
                </a:solidFill>
                <a:latin typeface="Arial"/>
                <a:ea typeface="楷体_GB2312"/>
              </a:rPr>
              <a:t>葵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21508" descr="20064737044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21506"/>
          <p:cNvSpPr/>
          <p:nvPr/>
        </p:nvSpPr>
        <p:spPr>
          <a:xfrm>
            <a:off x="6012000" y="2349360"/>
            <a:ext cx="255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ff3300"/>
                </a:solidFill>
                <a:latin typeface="Arial"/>
                <a:ea typeface="楷体_GB2312"/>
              </a:rPr>
              <a:t>葵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22534" descr="2007921140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22530"/>
          <p:cNvSpPr/>
          <p:nvPr/>
        </p:nvSpPr>
        <p:spPr>
          <a:xfrm>
            <a:off x="0" y="0"/>
            <a:ext cx="3995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3300"/>
                </a:solidFill>
                <a:latin typeface="Arial"/>
              </a:rPr>
              <a:t>露葵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13314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尾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野老与人争席罢，海鸥何事更相疑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315"/>
          <p:cNvSpPr/>
          <p:nvPr/>
        </p:nvSpPr>
        <p:spPr>
          <a:xfrm>
            <a:off x="0" y="98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寓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载，杨朱去从老子学道，路上旅舍主人欢迎他，客人都给他让座；学成归来，客人们再也不让座与他，而是与他“争席”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说明杨朱已得自然之道，与人们不再有隔膜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3316"/>
          <p:cNvSpPr/>
          <p:nvPr/>
        </p:nvSpPr>
        <p:spPr>
          <a:xfrm>
            <a:off x="0" y="378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海鸥相疑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列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说海边有一人与鸥鸟相亲近，后来其父要他将海鸥捉回来，等他再到海边时，海鸥便飞得远远的不再理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8193"/>
          <p:cNvSpPr/>
          <p:nvPr/>
        </p:nvSpPr>
        <p:spPr>
          <a:xfrm>
            <a:off x="0" y="9111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是诗人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与世无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表白：既然我早已去机心，绝俗念，随缘自适，还有谁会无端地猜忌我呢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应该可以脱离世间烦恼，悠游于林泉之中了。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野老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诗人自谓。此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二典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都充满了老庄色彩，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一正用，一反用，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共同抒写诗人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澹泊宁静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心境。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8194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尾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野老与人争席罢，海鸥何事更相疑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11265"/>
          <p:cNvSpPr/>
          <p:nvPr/>
        </p:nvSpPr>
        <p:spPr>
          <a:xfrm>
            <a:off x="0" y="1268280"/>
            <a:ext cx="86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描写了久雨中的辋川别业优美风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境）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抒发了诗人淡泊宁静的情怀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意）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1266"/>
          <p:cNvSpPr txBox="1"/>
          <p:nvPr/>
        </p:nvSpPr>
        <p:spPr>
          <a:xfrm>
            <a:off x="684360" y="26028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感受意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509" name="文本框 11267"/>
          <p:cNvSpPr/>
          <p:nvPr/>
        </p:nvSpPr>
        <p:spPr>
          <a:xfrm>
            <a:off x="5520600" y="5481720"/>
            <a:ext cx="204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—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主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3075" descr="王维2"/>
          <p:cNvPicPr/>
          <p:nvPr/>
        </p:nvPicPr>
        <p:blipFill>
          <a:blip r:embed="rId1"/>
          <a:stretch/>
        </p:blipFill>
        <p:spPr>
          <a:xfrm>
            <a:off x="6124680" y="3048120"/>
            <a:ext cx="3019320" cy="3809880"/>
          </a:xfrm>
          <a:prstGeom prst="rect">
            <a:avLst/>
          </a:prstGeom>
          <a:ln w="0">
            <a:noFill/>
          </a:ln>
        </p:spPr>
      </p:pic>
      <p:sp>
        <p:nvSpPr>
          <p:cNvPr id="454" name="文本框 3076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王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(701 — 76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字摩诘，太原祁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今山西祁县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。开元九年 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(72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登进士第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九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政后擢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右拾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安史叛军陷两京时，被叛军俘虏迫受伪职，后历任中书舍人、给事中、尚书右丞，故世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王右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晚年时无意仕进，常以禅诵为事，于上元二年卒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辋川别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维是盛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山水田园诗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诗人之一，与孟浩然齐名，世称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王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他多才多艺，诗歌之外，兼善散文、音乐、书法、绘画，尤以绘画见长，被推为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南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山水画之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其诗能融音乐、绘画之理，营造出诗情画意相结合的完美意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晚年诗歌以禅入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称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诗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王右丞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太阳形 3077"/>
          <p:cNvSpPr/>
          <p:nvPr/>
        </p:nvSpPr>
        <p:spPr>
          <a:xfrm>
            <a:off x="73080" y="47628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3078"/>
          <p:cNvSpPr/>
          <p:nvPr/>
        </p:nvSpPr>
        <p:spPr>
          <a:xfrm>
            <a:off x="73080" y="83664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3079"/>
          <p:cNvSpPr/>
          <p:nvPr/>
        </p:nvSpPr>
        <p:spPr>
          <a:xfrm>
            <a:off x="77760" y="13413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3080"/>
          <p:cNvSpPr/>
          <p:nvPr/>
        </p:nvSpPr>
        <p:spPr>
          <a:xfrm>
            <a:off x="77760" y="17017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太阳形 3081"/>
          <p:cNvSpPr/>
          <p:nvPr/>
        </p:nvSpPr>
        <p:spPr>
          <a:xfrm>
            <a:off x="82440" y="220680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太阳形 3082"/>
          <p:cNvSpPr/>
          <p:nvPr/>
        </p:nvSpPr>
        <p:spPr>
          <a:xfrm>
            <a:off x="82440" y="256716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太阳形 3083"/>
          <p:cNvSpPr/>
          <p:nvPr/>
        </p:nvSpPr>
        <p:spPr>
          <a:xfrm>
            <a:off x="87480" y="393228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太阳形 3084"/>
          <p:cNvSpPr/>
          <p:nvPr/>
        </p:nvSpPr>
        <p:spPr>
          <a:xfrm>
            <a:off x="87480" y="429264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太阳形 3085"/>
          <p:cNvSpPr/>
          <p:nvPr/>
        </p:nvSpPr>
        <p:spPr>
          <a:xfrm>
            <a:off x="92160" y="472428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太阳形 3086"/>
          <p:cNvSpPr/>
          <p:nvPr/>
        </p:nvSpPr>
        <p:spPr>
          <a:xfrm>
            <a:off x="92160" y="60181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太阳形 3087"/>
          <p:cNvSpPr/>
          <p:nvPr/>
        </p:nvSpPr>
        <p:spPr>
          <a:xfrm>
            <a:off x="108000" y="29955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文本框 9217"/>
          <p:cNvSpPr/>
          <p:nvPr/>
        </p:nvSpPr>
        <p:spPr>
          <a:xfrm>
            <a:off x="0" y="981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寓情于景，借景抒情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2+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结构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 以农家田园生活和优美的自然风光来衬托诗人隐居山林的情志。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诗中前二联写景，后二联写情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9218"/>
          <p:cNvSpPr txBox="1"/>
          <p:nvPr/>
        </p:nvSpPr>
        <p:spPr>
          <a:xfrm>
            <a:off x="684360" y="11592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鉴赏要点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512" name="文本框 9219"/>
          <p:cNvSpPr/>
          <p:nvPr/>
        </p:nvSpPr>
        <p:spPr>
          <a:xfrm>
            <a:off x="0" y="371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使用典故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表达自己离尘脱俗的心态。 “争席”、“海鸥”二典，曲折见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9220"/>
          <p:cNvSpPr/>
          <p:nvPr/>
        </p:nvSpPr>
        <p:spPr>
          <a:xfrm>
            <a:off x="0" y="522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③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语言富于色彩之美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这正是“诗中有画”特色的鲜明写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10241"/>
          <p:cNvSpPr/>
          <p:nvPr/>
        </p:nvSpPr>
        <p:spPr>
          <a:xfrm>
            <a:off x="216000" y="1197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“漠漠水田飞白鹭，阴阴夏木啭黄鹂”两句，唐人李肇因见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李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祐有诗句“水田飞白鹭，夏木啭黄鹂”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便讥笑王维“好取人文章佳句”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唐国史补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卷上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明人胡应麟不同意，反驳说：“摩诘盛唐，嘉桔中唐，安得前人预偷来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正嘉韦占用摩诘诗。”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诗薮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内编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卷五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据查，嘉韦占与摩诘同时而稍晚，谁袭用了谁的诗句难以定论。再看二人诗句，有高下之分，如宋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叶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说：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此两句好处，正在添‘漠漠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'‘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阴阴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'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四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此乃摩诘为嘉韦占点化，以自见其妙。”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石林诗话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卷上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)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漠漠”有“广阔”意，“阴阴”有“幽深”意，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漠漠水田”和“阴阴夏木”比“水田”和“夏木”画面显得开阔而又深邃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0242"/>
          <p:cNvSpPr txBox="1"/>
          <p:nvPr/>
        </p:nvSpPr>
        <p:spPr>
          <a:xfrm>
            <a:off x="684360" y="11592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问题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4099"/>
          <p:cNvSpPr/>
          <p:nvPr/>
        </p:nvSpPr>
        <p:spPr>
          <a:xfrm>
            <a:off x="250920" y="1535040"/>
            <a:ext cx="862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辋川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今陕西蓝田西南十余公里处的辋川山谷中，是王维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宋之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辋川山庄的基础上兴建的园林，主要景点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孟城坳、华子岗、文杏馆、鹿柴、辛夷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，今已湮没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旧唐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维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载：“维兄弟俱奉佛，居常蔬食，不茹荤血，晚年长斋，不衣文彩。”这是一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七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作于辋川山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100"/>
          <p:cNvSpPr txBox="1"/>
          <p:nvPr/>
        </p:nvSpPr>
        <p:spPr>
          <a:xfrm>
            <a:off x="684360" y="26028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写作背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5123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一个“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迟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”字，既写出了阴雨天炊烟缓缓升起之状，也写出了诗人心中闲散安逸的情怀。农家村妇田夫怡然自得之情跃然纸上。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（炼字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124"/>
          <p:cNvSpPr txBox="1"/>
          <p:nvPr/>
        </p:nvSpPr>
        <p:spPr>
          <a:xfrm>
            <a:off x="324000" y="0"/>
            <a:ext cx="2808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解读内容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70" name="文本框 5125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首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积雨空林烟火迟，蒸藜炊黍饷东葘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126"/>
          <p:cNvSpPr/>
          <p:nvPr/>
        </p:nvSpPr>
        <p:spPr>
          <a:xfrm>
            <a:off x="0" y="177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田家劳作生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积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久雨不停。诗人登高四望，只见天地一片潮湿，丛林上面静谧宁和，炊烟袅袅升起；女人们蒸藜炊黍，准备好饭菜，送到东面的田间地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6145"/>
          <p:cNvSpPr/>
          <p:nvPr/>
        </p:nvSpPr>
        <p:spPr>
          <a:xfrm>
            <a:off x="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与首联一样，是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诗人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静观所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写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自然景色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在一片广漠空旷的水田之上，白鹭翩翩飞舞；在层峦叠翠的夏日丛林之中，黄鹂正用甜美的歌喉唱歌。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两种景象相映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将积雨之时的辋川山野写得画意盎然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图片 6146" descr="D_2006111309405815"/>
          <p:cNvPicPr/>
          <p:nvPr/>
        </p:nvPicPr>
        <p:blipFill>
          <a:blip r:embed="rId1"/>
          <a:stretch/>
        </p:blipFill>
        <p:spPr>
          <a:xfrm>
            <a:off x="2627280" y="4365720"/>
            <a:ext cx="6516720" cy="2492280"/>
          </a:xfrm>
          <a:prstGeom prst="rect">
            <a:avLst/>
          </a:prstGeom>
          <a:ln w="0">
            <a:noFill/>
          </a:ln>
        </p:spPr>
      </p:pic>
      <p:sp>
        <p:nvSpPr>
          <p:cNvPr id="474" name="文本框 6147"/>
          <p:cNvSpPr/>
          <p:nvPr/>
        </p:nvSpPr>
        <p:spPr>
          <a:xfrm>
            <a:off x="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颔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漠漠水田飞白鹭，阴阴夏木啭黄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12290" descr="D_20061113094058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12291"/>
          <p:cNvSpPr/>
          <p:nvPr/>
        </p:nvSpPr>
        <p:spPr>
          <a:xfrm>
            <a:off x="6769080" y="0"/>
            <a:ext cx="23749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漠漠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水田飞白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12292"/>
          <p:cNvSpPr/>
          <p:nvPr/>
        </p:nvSpPr>
        <p:spPr>
          <a:xfrm>
            <a:off x="81360" y="-1065600"/>
            <a:ext cx="12776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阴阴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夏木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啭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黄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14345" descr="231173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14338"/>
          <p:cNvSpPr/>
          <p:nvPr/>
        </p:nvSpPr>
        <p:spPr>
          <a:xfrm>
            <a:off x="6769080" y="0"/>
            <a:ext cx="23749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漠漠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水田飞白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4339"/>
          <p:cNvSpPr/>
          <p:nvPr/>
        </p:nvSpPr>
        <p:spPr>
          <a:xfrm>
            <a:off x="81360" y="-1065600"/>
            <a:ext cx="12776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阴阴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夏木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啭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黄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14343" descr="06730070154701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89000"/>
            <a:ext cx="35272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15366" descr="CD001385-09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15362"/>
          <p:cNvSpPr/>
          <p:nvPr/>
        </p:nvSpPr>
        <p:spPr>
          <a:xfrm>
            <a:off x="6769080" y="0"/>
            <a:ext cx="23749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漠漠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水田飞白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5363"/>
          <p:cNvSpPr/>
          <p:nvPr/>
        </p:nvSpPr>
        <p:spPr>
          <a:xfrm>
            <a:off x="81360" y="-1065600"/>
            <a:ext cx="12776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阴阴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夏木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啭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黄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文本框 7169"/>
          <p:cNvSpPr/>
          <p:nvPr/>
        </p:nvSpPr>
        <p:spPr>
          <a:xfrm>
            <a:off x="0" y="981000"/>
            <a:ext cx="9144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写诗人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独处山林之乐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在松林之中，诗人看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木槿花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开花落；采露葵供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清斋素食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表面上看起来是太过清幽孤寂，实际上正是诗人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对尘世喧嚣生活极为厌倦的写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717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颈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山中习静观朝槿，松下清斋折露葵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7171"/>
          <p:cNvSpPr/>
          <p:nvPr/>
        </p:nvSpPr>
        <p:spPr>
          <a:xfrm>
            <a:off x="3527280" y="530064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（寓情于景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5:29:44Z</dcterms:created>
  <dc:creator>nalsd</dc:creator>
  <dc:description/>
  <dc:language>en-US</dc:language>
  <cp:lastModifiedBy>admin</cp:lastModifiedBy>
  <dcterms:modified xsi:type="dcterms:W3CDTF">2019-05-28T08:47:0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