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C16-9B45-41B6-9AEF-75E301D5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A02C-4707-42E2-B6D7-27638313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BD19-D798-41BB-B1E7-499AABCE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3205-A916-4FDF-A482-BF537363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0D14-DC28-4642-ABB2-4701D6A3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B2AE-8B27-403C-B201-E563F770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4DD7-864A-41EF-BEBD-9FA75980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8EDF-73CA-40AC-80DD-51E4CB1E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090F-E05C-43C8-8C38-4B9C222D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5F57-9861-453E-B40D-BA19FCB9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294D-5395-4C96-AF59-A509CC5C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1BF1-1EC6-4A3E-ABD4-EE62BF3E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5CB0-DAF9-4936-A693-DB26AF8B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BE17-A03E-4600-AAE5-3F6BE659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23AF-23C6-490C-A012-394E9C20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0B68-374B-4856-B338-AF7CEFBD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D56F-AF02-4253-BBB1-AE5AF38A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159E3-968E-4677-8FE7-3A417F83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42ECC-7762-4E95-A804-6862BC48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0E13F-16AA-43EA-B5C7-73973124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49CF3-72FD-420F-845C-E4D0B4D8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0647D-7D15-417D-B52D-E823D5F1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8242-CF30-4B49-8A9E-511DFF5D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AD8B7-A16E-4935-A648-18792D68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A5F00-317F-40DE-BEB0-9EC9521E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000A5-5CE4-496C-840B-CD9D6A71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A1EE4-0C4F-44FF-A44B-FBFF3BFB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B5043-B2F5-4B6F-8720-0B23FCEB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1D3BA-FA3D-4F29-B4AF-1477FDFB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8BDD7-0E12-4BEC-BBF3-23377A95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D02AB-17A0-4FE2-8213-6FE17DBD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64F08-943D-40D4-8E99-571137E4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0484C-A9C9-4D4F-BC80-BBA69318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9F88-29E3-4D89-96D7-957420F3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BF3B3-1318-4A06-97C7-46930206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F253B-D967-4ED5-ACE8-9B484919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21371-632E-40E0-B76C-B83545D0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10172-41BB-4036-BABC-51DEA3F3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6DDC1-23A6-42B8-984B-074037E8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E4FAB-A12D-459F-98BE-E1DF722A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1F6BE-D6BA-40B3-8D8B-63AB3794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08D10-92D5-47CD-A4A1-192001CC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F812E-0D2F-421B-A070-F9F63F34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8AE4C-258C-4AF6-90E8-7C25D73E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EFA1-BC3E-496B-ADB3-BB0435B0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BC028-F6F3-4D7C-B59F-0703D1FC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A1195-BE3E-4E6E-A728-5F36189B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C4BF9-0E3A-4990-B118-E5BA45EF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87AFD-77E2-4104-B397-63BC1231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2166C-9A46-43E2-930C-1716E99B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433AC-7F91-434A-A259-0D615E9C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B1820-7A39-4A13-BE94-2E2D79A7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22C6E-BB30-4549-B930-6DFD5363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9ECB4-FF97-4499-A6AB-171CFA02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47EC8-00EE-4508-8FFD-ED82E04A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D28-930F-4A64-BEBF-39D2C9C8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ADB56-07F7-4EC0-AF63-DF5299F1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FD17F-44B6-4A85-BBBA-41A0A97B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43640-124B-4331-8542-8CE2BCC0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4C619-1AEA-4BDF-8C25-6B698A20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11369-A4A6-48BF-9A59-C537750A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644EE-B593-4B78-A41E-5F682E06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F6CF4-8EDB-495E-AA93-4A4F5E60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8835E-27F9-4078-82BF-EE5E962E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E2217-249D-46AC-B656-BB180223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522AF-6F66-4B9A-AB37-A498C404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60D3-5230-48AF-9CFD-96757C5C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11F45-C818-45CC-B1C1-25F03079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E2BC7-A884-4F4B-8F75-74B177EA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8432F-23E2-40F8-9DC0-6E5ACCF3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806D8-C78B-4924-B403-43101DDF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4D986-7D08-4DA2-9841-9FED8058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CD3A7-1543-4053-BD13-96FA35F5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193E3-ECFC-4753-A182-A425C693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BC251-8B5D-4D33-B3A4-5321B999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6F8CA-9D10-486E-898A-924E5C2B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19927-0415-4857-AB22-E7DE9D18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E717-A274-48A9-8A45-565C20B7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A499B-1A3D-48DE-9DDA-970252E5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0EBBC-3B83-47DD-9977-9EE6FE4B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6243F-5232-4B27-AE49-1A81379D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ACDEC-C551-47D1-9D00-5C36EC37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2FC36-2CD2-4528-ACE9-AE9E447D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0403C-47F5-4344-843C-906D50A8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9A918-216D-4AD6-ACE3-64DE5F05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A9F04-277A-42D5-B296-8B1D612D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67066-4B84-42A3-A49D-002B4447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91976-E59B-4EE8-83E7-8ECDC2EA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90FE-5CCE-404D-811D-FCB8BCB0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C80DA-3F91-48F4-9927-30327454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0AFCB-24CF-48B4-B1EF-EB33F093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EBEB1-43BF-47A7-A3FA-982745C5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F7993-7DFA-47B7-81C6-2AC453EA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DF6D2-234E-4A7A-B0BA-8E1C70BD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7923E-F9C7-4A09-A30A-9F9B3414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03856-4A81-4F34-96F4-7676221B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2CC8-80B3-40C8-ABA7-4EB8747A89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F6B0-7F85-487D-951B-1351813F1EF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4A79-375B-437A-8C4C-90B75DD0AD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5D67-7A8F-4180-995A-44C1B5A23E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64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310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324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338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352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366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380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394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396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13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14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15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2E53-4BA1-42FC-9D96-6890454E36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452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466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dt" idx="16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ftr" idx="1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387D-2A66-45D3-91A9-C6B3FAD4C4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616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397E-FB1E-40E6-89A0-39A34F4BD60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72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8634-9DFA-47B6-A1BB-08B196B4C5A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5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" Target="slide13.xml"/><Relationship Id="rId4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3635280" y="0"/>
            <a:ext cx="55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王维是盛唐时代著名的诗人，字摩诘，生于武后圣历二年（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699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），一说长安元年（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701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），先世为太原祁（今山西祁县）人，其父官至汾州司马，迁居于浦（今山西永济县），遂为河东人。他的《相思》诗：“红豆生南国，秋来发几枝。劝君多采撷，此物最相思。”千百年来脍炙人口。而《九月九日忆山东兄弟》诗：“独在异乡为异客，每逢佳节倍思亲。遥知兄弟登高处，遍插茱萸少一人。”《送元二使安西》诗：“渭城朝雨浥轻尘，客舍青青柳色新。劝君更饮一杯酒，西出阳关无故人。”更为传诵不衰的名篇。王维才华卓异，他不仅写下诸多绝妙的诗句，还善于属文、作画，同时对音乐也十分精通，他于开元九年（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721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）进士及第，在朝廷里所担任的第一个官职就是大乐丞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476280"/>
            <a:ext cx="43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Arial"/>
              </a:rPr>
              <a:t>作者简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2"/>
          <a:stretch/>
        </p:blipFill>
        <p:spPr>
          <a:xfrm>
            <a:off x="0" y="2421000"/>
            <a:ext cx="363528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8540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这首七律，形象鲜明，兴味深远，表现了诗人隐居山林、脱离尘俗的闲情逸致，是王维田园诗的一首代表作。从前有人把它推为全唐七律的压卷，说成“空古准今”的极至，固然是出于封建士大夫的偏嗜；而有人认为“淡雅幽寂，莫过右丞《积雨》”，赞赏这首诗的深邃意境和超迈风格，艺术见解还是不错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164360" y="5734080"/>
            <a:ext cx="720720" cy="574560"/>
          </a:xfrm>
          <a:prstGeom prst="smileyFace">
            <a:avLst>
              <a:gd name="adj" fmla="val 92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、诗歌中第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句哪些词句最工整（对偶）？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24000" y="2852280"/>
            <a:ext cx="85406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答：“中”与“下”，“观”与“折”，“朝槿”与“露葵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758880" y="8362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清人沈德潜说：本句之妙，全在“漠漠”、“阴阴”二字，，去上二字，乃死句也。怎样领会他说的“妙”与“死句”的含义？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4360" y="26668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ff"/>
                </a:solidFill>
                <a:latin typeface="Arial"/>
              </a:rPr>
              <a:t>答：“漠漠”、“阴阴”写出“水田”与“夏目”的情状。“漠漠”形容水田薄雾蒙蒙，在这样的氛围里“飞白鹭”景色才美；“阴阴”形容夏天树林茂密，在这样的密林中黄鹂的色彩才显得悦目，声音才显得动听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c5900"/>
                </a:solidFill>
                <a:uFillTx/>
                <a:latin typeface="Arial"/>
                <a:hlinkClick r:id="rId3" action="ppaction://hlinksldjump"/>
              </a:rPr>
              <a:t>渭川田家_x000b_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            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---</a:t>
            </a:r>
            <a:r>
              <a:rPr b="0" lang="zh-CN" sz="2800" spc="-1" strike="noStrike">
                <a:solidFill>
                  <a:srgbClr val="ffff99"/>
                </a:solidFill>
                <a:latin typeface="Arial"/>
              </a:rPr>
              <a:t>王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123640" y="235872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斜光照墟落， 穷巷牛羊归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野老念牧童， 倚杖候荆扉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雉雊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(gou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麦苗秀， 蚕眠桑叶稀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田夫荷锄至， 相见语依依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1258920" y="981000"/>
            <a:ext cx="61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68360" y="333360"/>
            <a:ext cx="828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66"/>
                </a:solidFill>
                <a:latin typeface="Arial"/>
              </a:rPr>
              <a:t>诗的核心是一个“归”字。　　诗人一开头，首先描写夕阳斜照村落的景象，渲染暮色苍茫的浓烈气氛，作为总背景，统摄全篇。接着，诗人一笔就落到“归”字上，描绘了牛羊徐徐归村的情景，使人很自然地联想起《诗经》里的几句诗：“鸡栖于埘，日之夕矣，羊牛下来。君子于役，如之何勿思？”诗人痴情地目送牛羊归村，直至没入深巷。就在这时，诗人看到了更为动人的情景：柴门外，一位慈祥的老人拄着拐杖，正迎候着放牧归来的小孩。这种朴素的散发着泥土芬芳的深情，感染了诗人，似乎也分享到了牧童归家的乐趣。顿时间，他感到这田野上的一切生命，在这黄昏时节，似乎都在思归。不是吗？麦地里的野鸡叫得多动情啊，那是在呼唤自己的配偶呢；桑林里的桑叶已所剩无几，蚕儿开始吐丝作茧，营就自己的安乐窝，找到自己的归宿了。田野上，农夫们三三两两，扛着锄头下地归来，在田间小道上偶然相遇，亲切絮语，简直有点乐而忘归呢。诗人目睹这一切，联想到自己的处境和身世，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Arial"/>
                <a:hlinkClick r:id="rId3" action="ppaction://hlinksldjump"/>
              </a:rPr>
              <a:t>十分感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8" name=""/>
          <p:cNvGrpSpPr/>
          <p:nvPr/>
        </p:nvGrpSpPr>
        <p:grpSpPr>
          <a:xfrm>
            <a:off x="2381400" y="1228680"/>
            <a:ext cx="4313160" cy="4313160"/>
            <a:chOff x="2381400" y="1228680"/>
            <a:chExt cx="4313160" cy="4313160"/>
          </a:xfrm>
        </p:grpSpPr>
        <p:sp>
          <p:nvSpPr>
            <p:cNvPr id="869" name="_s50189"/>
            <p:cNvSpPr/>
            <p:nvPr/>
          </p:nvSpPr>
          <p:spPr>
            <a:xfrm flipH="1">
              <a:off x="3457440" y="338472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_s50188"/>
            <p:cNvSpPr/>
            <p:nvPr/>
          </p:nvSpPr>
          <p:spPr>
            <a:xfrm>
              <a:off x="2381400" y="2846520"/>
              <a:ext cx="1077840" cy="107784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Arial"/>
                </a:rPr>
                <a:t>再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_s50187"/>
            <p:cNvSpPr/>
            <p:nvPr/>
          </p:nvSpPr>
          <p:spPr>
            <a:xfrm>
              <a:off x="4537080" y="392256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_s50186"/>
            <p:cNvSpPr/>
            <p:nvPr/>
          </p:nvSpPr>
          <p:spPr>
            <a:xfrm>
              <a:off x="3998880" y="4464000"/>
              <a:ext cx="1077840" cy="107784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Arial"/>
                </a:rPr>
                <a:t>谢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_s50191"/>
            <p:cNvSpPr/>
            <p:nvPr/>
          </p:nvSpPr>
          <p:spPr>
            <a:xfrm>
              <a:off x="5075280" y="338472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_s50190"/>
            <p:cNvSpPr/>
            <p:nvPr/>
          </p:nvSpPr>
          <p:spPr>
            <a:xfrm>
              <a:off x="5616720" y="2846520"/>
              <a:ext cx="1077840" cy="107784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Arial"/>
                </a:rPr>
                <a:t>见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_s50185"/>
            <p:cNvSpPr/>
            <p:nvPr/>
          </p:nvSpPr>
          <p:spPr>
            <a:xfrm flipV="1">
              <a:off x="4537080" y="230508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_s50184"/>
            <p:cNvSpPr/>
            <p:nvPr/>
          </p:nvSpPr>
          <p:spPr>
            <a:xfrm>
              <a:off x="3998880" y="1228680"/>
              <a:ext cx="1077840" cy="107784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Arial"/>
                </a:rPr>
                <a:t>谢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_s50183"/>
            <p:cNvSpPr/>
            <p:nvPr/>
          </p:nvSpPr>
          <p:spPr>
            <a:xfrm>
              <a:off x="3998880" y="2846520"/>
              <a:ext cx="1077840" cy="107784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Arial"/>
                </a:rPr>
                <a:t>!!!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1908000" y="76500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1476360" y="260280"/>
            <a:ext cx="4103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积雨辋川庄作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9" name=""/>
          <p:cNvSpPr/>
          <p:nvPr/>
        </p:nvSpPr>
        <p:spPr>
          <a:xfrm>
            <a:off x="5724360" y="1484280"/>
            <a:ext cx="25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859280" y="1484280"/>
            <a:ext cx="295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----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作者：王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2421000"/>
            <a:ext cx="7201080" cy="37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3" action="ppaction://hlinksldjump"/>
              </a:rPr>
              <a:t>积雨空林烟火迟，蒸藜炊黍饷东菑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漠漠水田飞白鹭，阴阴夏木啭黄鹂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山中习静观朝槿，松下清斋折露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野老与人争席罢，海鸥何事更相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804000" y="263700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【韵译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467320" y="245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732720" y="3573360"/>
            <a:ext cx="3816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【评析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767640" y="458136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【注解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5508720" y="5084640"/>
            <a:ext cx="86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名句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755640" y="476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【注解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900000" y="1484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空林：疏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116000" y="206064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烟火迟：因久雨林野润湿，故烟火缓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116000" y="2708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藜：这里指蔬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116000" y="3357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黍：这里指饭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116000" y="4005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饷：致送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187280" y="458136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东：指东边田地上的农人。：本指初耕的田地，这里泛指田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258920" y="55897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夏木：高大的树木，犹乔木。夏：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1187280" y="76500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啭：鸟的宛转啼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87280" y="155736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黄鹂：黄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258920" y="220500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山中句：意谓深居山中，望着槿花的开落以修养宁静之性。槿：也叫，落叶灌木，其花早开晚谢。故以此悟人生荣枯无常之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332000" y="3645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清斋：这里是素食的意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32000" y="436572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露葵：经霜的葵菜。葵为古代重要蔬菜，有“百菜之主”之称。此诗也是他晚年生活的自我写照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332000" y="551664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野老：指作者自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451640" y="5589720"/>
            <a:ext cx="1224000" cy="863640"/>
          </a:xfrm>
          <a:prstGeom prst="smileyFace">
            <a:avLst>
              <a:gd name="adj" fmla="val 9282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1547640" y="1413000"/>
            <a:ext cx="576108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久雨不停，林野潮湿烟火难升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烧好饭菜，送给村东耕耘的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水田广漠，一行白鹭掠空而飞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夏日浓荫，传来黄鹂宛啭啼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山中养性，观赏朝槿晨开晚谢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松下素食，和露折葵不沾荤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村夫野老，已经与我没有隔阂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海鸥疑心，为何不信飞舞不停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484360" y="692280"/>
            <a:ext cx="4680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c5900"/>
                </a:solidFill>
                <a:uFillTx/>
                <a:latin typeface="Arial"/>
                <a:hlinkClick r:id="rId2" action="ppaction://hlinksldjump"/>
              </a:rPr>
              <a:t>【</a:t>
            </a:r>
            <a:r>
              <a:rPr b="0" lang="zh-CN" sz="3600" spc="-1" strike="noStrike" u="sng">
                <a:solidFill>
                  <a:srgbClr val="dc5900"/>
                </a:solidFill>
                <a:uFillTx/>
                <a:latin typeface="Arial"/>
                <a:hlinkClick r:id="rId3" action="ppaction://hlinksldjump"/>
              </a:rPr>
              <a:t>韵译</a:t>
            </a:r>
            <a:r>
              <a:rPr b="0" lang="zh-CN" sz="3600" spc="-1" strike="noStrike" u="sng">
                <a:solidFill>
                  <a:srgbClr val="dc5900"/>
                </a:solidFill>
                <a:uFillTx/>
                <a:latin typeface="Arial"/>
                <a:hlinkClick r:id="rId4" action="ppaction://hlinksldjump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首联写田家生活，是诗人山上静观所见：正是连雨时节，天阴地湿，空气潮润，静谧的丛林上空，炊烟缓缓升起来，山下农家正烧火做饭呢。女人家蒸藜炊黍，把饭菜准备好，便提携着送往东菑──东面田头，男人们一清早就去那里劳作了。诗人视野所及，先写空林烟火，一个“迟”字，不仅把阴雨天的炊烟写得十分真切传神，而且透露了诗人闲散安逸的心境；再写农家早炊、饷田以至田头野餐，展现一系列人物的活动画面，秩序井然而富有生活气息，使人想见农妇田夫那怡然自乐的心情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332000" y="692280"/>
            <a:ext cx="6912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2" action="ppaction://hlinksldjump"/>
              </a:rPr>
              <a:t>积雨空林烟火迟，蒸藜炊黍饷东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漠漠水田飞白鹭，阴阴夏木啭黄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232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颔联写自然景色，同样是诗人静观所得：看吧，广漠空蒙、布满积水的平畴上，白鹭翩翩起飞，意态是那样闲静潇洒；听啊，远近高低，蔚然深秀的密林中，黄鹂互相唱和，歌喉是那样甜美快活。辋川之夏，百鸟飞鸣，诗人只选了形态和习性迥然不同的黄鹂、白鹭，联系着它们各自的背景加以描绘：雪白的白鹭，金黄的黄鹂，在视觉上自有色彩浓淡的差异；白鹭飞行，黄鹂鸣啭，一则取动态，一则取声音；漠漠，形容水田广布，视野苍茫；阴阴，描状夏木茂密，境界幽深。两种景象互相映衬，互相配合，把积雨天气的辋川山野写得画意盎然。所谓“诗中有画”，这便是很好的例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2000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山中习静观朝槿，松下清斋折露葵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828036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山中习静观朝槿，松下清斋折露葵。”诗人独处空山之中，幽栖松林之下，参木槿而悟人生短暂，采露葵以供清斋素食。这情调，在一般世人看来，未免过分孤寂寡淡了吧？然而早已厌倦尘世喧嚣的诗人，却从中领略到极大的兴味，比起那纷纷扰扰、尔虞我诈的名利场，何啻天壤云泥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" dur="2000"/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野老与人争席罢，海鸥何事更相疑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　“野老与人争席罢，海鸥何事更相疑？”野老是诗人自谓。诗人快慰地宣称：我早已去机心，绝俗念，随缘任遇，于人无碍，与世无争了，还有谁会无端地猜忌我呢？庶几乎可以免除尘世烦恼，悠悠然耽于山林之乐了。《庄子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杂篇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寓言》载：杨朱去从老子学道，路上旅舍主人欢迎他，客人都给他让座；学成归来，旅客们却不再让座，而与他“争席”，说明杨朱已得自然之道，与人们没有隔膜了。《列子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黄帝篇》载：海上有人与鸥鸟相亲近，互不猜疑。一天，父亲要他把海鸥捉回家来，他又到海滨时，海鸥便飞得远远的，心术不正破坏了他和海鸥的亲密关系。这两个充满老庄色彩的典故，一正用，一反用，两相结合，抒写诗人澹泊自然的心境，而这种心境，正是上联所写“清斋”“习静”的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结果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12:51:43Z</dcterms:created>
  <dc:creator>user</dc:creator>
  <dc:description/>
  <dc:language>en-US</dc:language>
  <cp:lastModifiedBy>YlmF</cp:lastModifiedBy>
  <dcterms:modified xsi:type="dcterms:W3CDTF">2007-12-06T01:25:53Z</dcterms:modified>
  <cp:revision>14</cp:revision>
  <dc:subject/>
  <dc:title>幻灯片 1</dc:title>
</cp:coreProperties>
</file>