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chimes.wav" ContentType="audio/x-wav"/>
  <Override PartName="/ppt/media/image16.png" ContentType="image/png"/>
  <Override PartName="/ppt/media/image8.png" ContentType="image/png"/>
  <Override PartName="/ppt/media/image6.jpeg" ContentType="image/jpeg"/>
  <Override PartName="/ppt/media/type.wav" ContentType="audio/x-wav"/>
  <Override PartName="/ppt/media/image18.jpeg" ContentType="image/jpeg"/>
  <Override PartName="/ppt/media/image12.png" ContentType="image/png"/>
  <Override PartName="/ppt/media/image17.jpeg" ContentType="image/jpeg"/>
  <Override PartName="/ppt/media/image14.png" ContentType="image/png"/>
  <Override PartName="/ppt/media/image13.png" ContentType="image/png"/>
  <Override PartName="/ppt/media/image19.jpeg" ContentType="image/jpeg"/>
  <Override PartName="/ppt/media/image11.png" ContentType="image/png"/>
  <Override PartName="/ppt/media/camera.wav" ContentType="audio/x-wav"/>
  <Override PartName="/ppt/media/image2.png" ContentType="image/png"/>
  <Override PartName="/ppt/media/image9.jpeg" ContentType="image/jpeg"/>
  <Override PartName="/ppt/media/image15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964E2-BDB5-4287-A616-CD9BF727720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8C81-3EA6-4C11-9747-60D8430D9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5B75-ED62-4FC9-B63F-6D7A8141F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FCCC-875D-4BFD-8CF1-532925B93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AE2B-A6D3-48F1-B6EE-42A948A94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6D7D3-EFBC-4FDA-B8EF-5AD5F82B3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D1041-DE37-4211-999F-32AF6CA69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80790-B271-4288-833B-7A7A4AB64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94632-7B24-4776-8F0D-5C3C256D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78264-7937-49E5-B391-21C45B74B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C9993-73A5-467B-B893-746349EB9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D5805-7954-4A97-B8FA-3099F6C4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F122-3901-499B-99CF-EADA66481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A3A08-5E2C-4D74-88A6-315596BF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E497B-456E-43B8-B170-CE5C2932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1830F-80BF-4689-8C37-CE3346997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99388-7373-4020-9650-C1173811A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0611A-AF22-4E29-A678-C568429DE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BDC6B-83B5-4512-AB4B-FB9936BD1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66FAE-BB95-434A-AB74-768214980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40386-61F3-4082-84C1-524C61CE8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614CC-10C1-47E3-A53B-56B26A002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6AC64-9831-474F-B780-0D102279A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9903-8664-4A64-A7AB-DA0FFCE17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2AF47-883C-41FD-B074-15CF9D9D8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ABAA9-4BF5-41DA-A0BF-0C1E7973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A61EE-FE44-465A-8338-241A2D6D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72842-3273-4AA2-9C3F-E5D60A7E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43A00-0F52-4CD1-A796-6EB27E0EB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72087-4B0F-4D28-A7C4-5FFD308CF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E55C3-A3D2-4DC2-8EA2-306870A07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8662B-B295-4D21-9619-0025DEF2E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D5D01-06E6-49D1-AE39-56B46A68F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5FFA1-417F-4E5F-B714-15675D1AD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1195-F1F4-43B6-9229-3F0D89875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B720F-0ACC-4636-AC72-D8448E243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0E0FB-E897-430B-B2F4-D78B20368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4C9C8-0EDC-40F3-A119-EBA245C73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4D28C-55A7-4E34-8275-CCFF66AA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8C7CF-F561-4316-85C8-E292EBDD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BE17A-117D-460B-8071-886A4F76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F329E-70A2-4D9A-9B59-0268D81D4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666FC-891E-48AA-A3DC-93FF53928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CD038-D4A7-461E-9A43-7D077D694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B34C8-40FE-40EF-99FF-A3D33B9AD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EBED-9C52-4981-886E-02A70216E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4A988-EB92-4909-9D4D-E7ED0A612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5F55E-DE1E-4ACB-959D-222B95F11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6134C-6C8C-4BEA-B440-2FDB74233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E3C0D-00CF-4327-8B3C-1ABF17865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319D5-1108-4767-BD6B-1A7FF8A7C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9F6A7-9050-4F1A-BC19-3C394DFE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5C2EF-4869-4F8F-8D47-DC2460C0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24359-DDE1-453E-ABA5-5315D981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00ADA-ECD8-4B24-8505-121983C28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FD03C-2F2C-495A-9C7A-4E00A8B62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0E10-F81D-476E-B277-A14BD0DF1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008637-0C6C-4BAC-99C8-6295C0820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16B2-C341-475B-8DD7-F4924C38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A83D-BC1E-474F-9B1F-1A4D7F41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0582-C2EB-4448-ACB7-2737BF13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  <a:ea typeface="PMingLiU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  <a:ea typeface="PMingLiU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  <a:ea typeface="PMingLiU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  <a:ea typeface="PMingLiU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  <a:ea typeface="PMingLiU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33343-E205-454C-9AFB-7AE0BC9B280F}" type="slidenum">
              <a:rPr b="0" lang="zh-TW" sz="1400" spc="-1" strike="noStrike">
                <a:solidFill>
                  <a:srgbClr val="ffffff"/>
                </a:solidFill>
                <a:latin typeface="Times New Roman"/>
                <a:ea typeface="PMingLiU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  <a:ea typeface="PMingLiU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  <a:ea typeface="PMingLiU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  <a:ea typeface="PMingLiU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  <a:ea typeface="PMingLiU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  <a:ea typeface="PMingLiU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B4DA4-6215-4BB5-BE9B-A74BA15A31AE}" type="slidenum">
              <a:rPr b="0" lang="zh-TW" sz="1400" spc="-1" strike="noStrike">
                <a:solidFill>
                  <a:srgbClr val="ffffff"/>
                </a:solidFill>
                <a:latin typeface="Times New Roman"/>
                <a:ea typeface="PMingLiU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C070-ABA3-423A-B73C-E2EB10E6C45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E4542-0A2F-428F-8913-DB36DE59844F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95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9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21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22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25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26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27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28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6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5B981-FB60-4397-9386-36C130EB75B1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79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2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83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88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89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93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98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0.xml"/><Relationship Id="rId3" Type="http://schemas.openxmlformats.org/officeDocument/2006/relationships/image" Target="../media/image8.png"/><Relationship Id="rId4" Type="http://schemas.openxmlformats.org/officeDocument/2006/relationships/image" Target="../media/image5.png"/><Relationship Id="rId5" Type="http://schemas.openxmlformats.org/officeDocument/2006/relationships/hyperlink" Target="file:///I:/&#35838;&#20214;/&#35762;&#36807;&#30340;/&#24605;.swf" TargetMode="External"/><Relationship Id="rId6" Type="http://schemas.openxmlformats.org/officeDocument/2006/relationships/hyperlink" Target="file:///I:/&#35838;&#20214;/&#35762;&#36807;&#30340;/&#24605;.swf" TargetMode="External"/><Relationship Id="rId7" Type="http://schemas.openxmlformats.org/officeDocument/2006/relationships/hyperlink" Target="file:///I:/&#35838;&#20214;/&#35762;&#36807;&#30340;/&#24605;.swf" TargetMode="External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0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0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2"/>
          <a:srcRect l="19482" t="801" r="20054" b="0"/>
          <a:stretch/>
        </p:blipFill>
        <p:spPr>
          <a:xfrm>
            <a:off x="5508720" y="1700280"/>
            <a:ext cx="2016000" cy="472428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684360" y="66600"/>
            <a:ext cx="397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从古至今有很多诗人和你们一样喜欢月亮，望着月亮诗人想起了许多令他们思念的东西，今天我们就来学习这首关于月亮和思念的古诗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4"/>
          <p:cNvSpPr/>
          <p:nvPr/>
        </p:nvSpPr>
        <p:spPr>
          <a:xfrm>
            <a:off x="2411280" y="0"/>
            <a:ext cx="6085080" cy="69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楷体_GB2312"/>
              </a:rPr>
              <a:t>     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楷体_GB2312"/>
              </a:rPr>
              <a:t>静夜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楷体_GB2312"/>
              </a:rPr>
              <a:t>       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楷体_GB2312"/>
              </a:rPr>
              <a:t>李白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楷体_GB2312"/>
              </a:rPr>
              <a:t>床 前 明 月 光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楷体_GB2312"/>
              </a:rPr>
              <a:t>疑 是 地 上 霜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楷体_GB2312"/>
              </a:rPr>
              <a:t>举 头 望 明 月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楷体_GB2312"/>
              </a:rPr>
              <a:t>低 头 思 故 乡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Line 9"/>
          <p:cNvSpPr/>
          <p:nvPr/>
        </p:nvSpPr>
        <p:spPr>
          <a:xfrm flipH="1">
            <a:off x="4140000" y="2349360"/>
            <a:ext cx="215640" cy="576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Line 11"/>
          <p:cNvSpPr/>
          <p:nvPr/>
        </p:nvSpPr>
        <p:spPr>
          <a:xfrm flipH="1">
            <a:off x="4140000" y="3716280"/>
            <a:ext cx="215640" cy="647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Line 16"/>
          <p:cNvSpPr/>
          <p:nvPr/>
        </p:nvSpPr>
        <p:spPr>
          <a:xfrm flipH="1">
            <a:off x="5003640" y="4941720"/>
            <a:ext cx="216000" cy="576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Line 17"/>
          <p:cNvSpPr/>
          <p:nvPr/>
        </p:nvSpPr>
        <p:spPr>
          <a:xfrm flipH="1">
            <a:off x="4066920" y="6021360"/>
            <a:ext cx="215640" cy="647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Line 18"/>
          <p:cNvSpPr/>
          <p:nvPr/>
        </p:nvSpPr>
        <p:spPr>
          <a:xfrm flipH="1">
            <a:off x="4140360" y="4869000"/>
            <a:ext cx="287280" cy="792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Line 20"/>
          <p:cNvSpPr/>
          <p:nvPr/>
        </p:nvSpPr>
        <p:spPr>
          <a:xfrm flipH="1">
            <a:off x="5148360" y="6093000"/>
            <a:ext cx="71280" cy="5745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9" name="Picture 2" descr="P75静夜思（月）"/>
          <p:cNvPicPr/>
          <p:nvPr/>
        </p:nvPicPr>
        <p:blipFill>
          <a:blip r:embed="rId1"/>
          <a:srcRect l="0" t="0" r="7818" b="8393"/>
          <a:stretch/>
        </p:blipFill>
        <p:spPr>
          <a:xfrm>
            <a:off x="0" y="0"/>
            <a:ext cx="3166920" cy="17701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3" descr="P74静夜思">
            <a:hlinkClick r:id="rId2" action="ppaction://hlinksldjump"/>
          </p:cNvPr>
          <p:cNvPicPr/>
          <p:nvPr/>
        </p:nvPicPr>
        <p:blipFill>
          <a:blip r:embed="rId3"/>
          <a:srcRect l="44474" t="11182" r="11106" b="0"/>
          <a:stretch/>
        </p:blipFill>
        <p:spPr>
          <a:xfrm>
            <a:off x="7272360" y="2492280"/>
            <a:ext cx="1871640" cy="424836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4"/>
          <a:stretch/>
        </p:blipFill>
        <p:spPr>
          <a:xfrm>
            <a:off x="539640" y="6308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827640" y="6256440"/>
            <a:ext cx="862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思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.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swf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乐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8"/>
          <a:stretch/>
        </p:blipFill>
        <p:spPr>
          <a:xfrm>
            <a:off x="179280" y="6308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206280" y="58104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乐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66640" y="58104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381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28281" fill="hold"/>
                                        <p:tgtEl>
                                          <p:spTgt spid="3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125581" fill="hold"/>
                                        <p:tgtEl>
                                          <p:spTgt spid="3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-468360" y="0"/>
            <a:ext cx="9612360" cy="677880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914400" y="3645000"/>
            <a:ext cx="8229600" cy="344160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1433520" y="-69840"/>
            <a:ext cx="109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ffff"/>
                </a:solidFill>
                <a:latin typeface="書法秀隸（注音一）"/>
                <a:ea typeface="書法秀隸（注音一）"/>
              </a:rPr>
              <a:t>	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981000"/>
            <a:ext cx="40543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床前明月光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疑是地上霜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举头</a:t>
            </a:r>
            <a:r>
              <a:rPr b="1" lang="zh-TW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望明月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低头思故乡</a:t>
            </a:r>
            <a:r>
              <a:rPr b="1" lang="zh-TW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1430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静夜思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3"/>
          <a:stretch/>
        </p:blipFill>
        <p:spPr>
          <a:xfrm>
            <a:off x="684360" y="63817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5003640" y="2599920"/>
            <a:ext cx="414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李白的这首诗写得多好啊！直到现在，每当月圆之时，想家之际，许多远在异国他乡的人们都会含着眼泪吟颂它。人们还把这首诗创作成了歌曲。让我们把这重重的浓浓的乡愁带到诗中来唱唱这首诗吧！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58" dur="indefinite" restart="never" nodeType="tmRoot">
          <p:childTnLst>
            <p:seq>
              <p:cTn id="59" restart="whenNotActive" nodeType="interactiveSeq" fill="hold">
                <p:stCondLst>
                  <p:cond evt="onClick">
                    <p:tgtEl>
                      <p:spTgt spid="391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391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193906" fill="hold"/>
                                        <p:tgtEl>
                                          <p:spTgt spid="3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2362320" y="1295280"/>
            <a:ext cx="4678200" cy="458172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3908520" y="2736720"/>
            <a:ext cx="247680" cy="1865520"/>
          </a:xfrm>
          <a:custGeom>
            <a:avLst/>
            <a:gdLst/>
            <a:ahLst/>
            <a:rect l="l" t="t" r="r" b="b"/>
            <a:pathLst>
              <a:path w="156" h="1175">
                <a:moveTo>
                  <a:pt x="14" y="42"/>
                </a:moveTo>
                <a:lnTo>
                  <a:pt x="0" y="21"/>
                </a:lnTo>
                <a:lnTo>
                  <a:pt x="0" y="7"/>
                </a:lnTo>
                <a:lnTo>
                  <a:pt x="0" y="0"/>
                </a:lnTo>
                <a:lnTo>
                  <a:pt x="14" y="0"/>
                </a:lnTo>
                <a:lnTo>
                  <a:pt x="36" y="0"/>
                </a:lnTo>
                <a:lnTo>
                  <a:pt x="71" y="0"/>
                </a:lnTo>
                <a:lnTo>
                  <a:pt x="107" y="7"/>
                </a:lnTo>
                <a:lnTo>
                  <a:pt x="128" y="14"/>
                </a:lnTo>
                <a:lnTo>
                  <a:pt x="156" y="21"/>
                </a:lnTo>
                <a:lnTo>
                  <a:pt x="156" y="135"/>
                </a:lnTo>
                <a:lnTo>
                  <a:pt x="156" y="248"/>
                </a:lnTo>
                <a:lnTo>
                  <a:pt x="156" y="354"/>
                </a:lnTo>
                <a:lnTo>
                  <a:pt x="156" y="446"/>
                </a:lnTo>
                <a:lnTo>
                  <a:pt x="156" y="538"/>
                </a:lnTo>
                <a:lnTo>
                  <a:pt x="149" y="623"/>
                </a:lnTo>
                <a:lnTo>
                  <a:pt x="149" y="701"/>
                </a:lnTo>
                <a:lnTo>
                  <a:pt x="149" y="765"/>
                </a:lnTo>
                <a:lnTo>
                  <a:pt x="149" y="828"/>
                </a:lnTo>
                <a:lnTo>
                  <a:pt x="149" y="885"/>
                </a:lnTo>
                <a:lnTo>
                  <a:pt x="149" y="934"/>
                </a:lnTo>
                <a:lnTo>
                  <a:pt x="142" y="977"/>
                </a:lnTo>
                <a:lnTo>
                  <a:pt x="142" y="1012"/>
                </a:lnTo>
                <a:lnTo>
                  <a:pt x="142" y="1041"/>
                </a:lnTo>
                <a:lnTo>
                  <a:pt x="142" y="1062"/>
                </a:lnTo>
                <a:lnTo>
                  <a:pt x="142" y="1076"/>
                </a:lnTo>
                <a:lnTo>
                  <a:pt x="135" y="1118"/>
                </a:lnTo>
                <a:lnTo>
                  <a:pt x="128" y="1140"/>
                </a:lnTo>
                <a:lnTo>
                  <a:pt x="121" y="1147"/>
                </a:lnTo>
                <a:lnTo>
                  <a:pt x="121" y="1161"/>
                </a:lnTo>
                <a:lnTo>
                  <a:pt x="114" y="1168"/>
                </a:lnTo>
                <a:lnTo>
                  <a:pt x="107" y="1175"/>
                </a:lnTo>
                <a:lnTo>
                  <a:pt x="107" y="1175"/>
                </a:lnTo>
                <a:lnTo>
                  <a:pt x="100" y="1168"/>
                </a:lnTo>
                <a:lnTo>
                  <a:pt x="92" y="1161"/>
                </a:lnTo>
                <a:lnTo>
                  <a:pt x="78" y="1140"/>
                </a:lnTo>
                <a:lnTo>
                  <a:pt x="64" y="1111"/>
                </a:lnTo>
                <a:lnTo>
                  <a:pt x="50" y="1090"/>
                </a:lnTo>
                <a:lnTo>
                  <a:pt x="43" y="1069"/>
                </a:lnTo>
                <a:lnTo>
                  <a:pt x="36" y="1048"/>
                </a:lnTo>
                <a:lnTo>
                  <a:pt x="36" y="1041"/>
                </a:lnTo>
                <a:lnTo>
                  <a:pt x="36" y="1033"/>
                </a:lnTo>
                <a:lnTo>
                  <a:pt x="36" y="1026"/>
                </a:lnTo>
                <a:lnTo>
                  <a:pt x="36" y="1012"/>
                </a:lnTo>
                <a:lnTo>
                  <a:pt x="36" y="998"/>
                </a:lnTo>
                <a:lnTo>
                  <a:pt x="43" y="977"/>
                </a:lnTo>
                <a:lnTo>
                  <a:pt x="43" y="956"/>
                </a:lnTo>
                <a:lnTo>
                  <a:pt x="50" y="934"/>
                </a:lnTo>
                <a:lnTo>
                  <a:pt x="50" y="906"/>
                </a:lnTo>
                <a:lnTo>
                  <a:pt x="57" y="842"/>
                </a:lnTo>
                <a:lnTo>
                  <a:pt x="64" y="772"/>
                </a:lnTo>
                <a:lnTo>
                  <a:pt x="64" y="694"/>
                </a:lnTo>
                <a:lnTo>
                  <a:pt x="64" y="609"/>
                </a:lnTo>
                <a:lnTo>
                  <a:pt x="64" y="432"/>
                </a:lnTo>
                <a:lnTo>
                  <a:pt x="64" y="347"/>
                </a:lnTo>
                <a:lnTo>
                  <a:pt x="57" y="262"/>
                </a:lnTo>
                <a:lnTo>
                  <a:pt x="57" y="219"/>
                </a:lnTo>
                <a:lnTo>
                  <a:pt x="50" y="177"/>
                </a:lnTo>
                <a:lnTo>
                  <a:pt x="50" y="149"/>
                </a:lnTo>
                <a:lnTo>
                  <a:pt x="43" y="113"/>
                </a:lnTo>
                <a:lnTo>
                  <a:pt x="36" y="92"/>
                </a:lnTo>
                <a:lnTo>
                  <a:pt x="36" y="71"/>
                </a:lnTo>
                <a:lnTo>
                  <a:pt x="29" y="50"/>
                </a:lnTo>
                <a:lnTo>
                  <a:pt x="14" y="42"/>
                </a:lnTo>
                <a:lnTo>
                  <a:pt x="14" y="42"/>
                </a:lnTo>
              </a:path>
            </a:pathLst>
          </a:custGeom>
          <a:solidFill>
            <a:srgbClr val="0000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038480" y="2590920"/>
            <a:ext cx="1443240" cy="2124000"/>
          </a:xfrm>
          <a:custGeom>
            <a:avLst/>
            <a:gdLst/>
            <a:ahLst/>
            <a:rect l="l" t="t" r="r" b="b"/>
            <a:pathLst>
              <a:path w="909" h="1338">
                <a:moveTo>
                  <a:pt x="0" y="177"/>
                </a:moveTo>
                <a:lnTo>
                  <a:pt x="0" y="106"/>
                </a:lnTo>
                <a:lnTo>
                  <a:pt x="43" y="106"/>
                </a:lnTo>
                <a:lnTo>
                  <a:pt x="86" y="99"/>
                </a:lnTo>
                <a:lnTo>
                  <a:pt x="128" y="99"/>
                </a:lnTo>
                <a:lnTo>
                  <a:pt x="164" y="99"/>
                </a:lnTo>
                <a:lnTo>
                  <a:pt x="192" y="99"/>
                </a:lnTo>
                <a:lnTo>
                  <a:pt x="228" y="92"/>
                </a:lnTo>
                <a:lnTo>
                  <a:pt x="249" y="92"/>
                </a:lnTo>
                <a:lnTo>
                  <a:pt x="277" y="92"/>
                </a:lnTo>
                <a:lnTo>
                  <a:pt x="313" y="85"/>
                </a:lnTo>
                <a:lnTo>
                  <a:pt x="369" y="78"/>
                </a:lnTo>
                <a:lnTo>
                  <a:pt x="426" y="71"/>
                </a:lnTo>
                <a:lnTo>
                  <a:pt x="462" y="71"/>
                </a:lnTo>
                <a:lnTo>
                  <a:pt x="504" y="64"/>
                </a:lnTo>
                <a:lnTo>
                  <a:pt x="540" y="57"/>
                </a:lnTo>
                <a:lnTo>
                  <a:pt x="568" y="50"/>
                </a:lnTo>
                <a:lnTo>
                  <a:pt x="597" y="50"/>
                </a:lnTo>
                <a:lnTo>
                  <a:pt x="618" y="42"/>
                </a:lnTo>
                <a:lnTo>
                  <a:pt x="639" y="35"/>
                </a:lnTo>
                <a:lnTo>
                  <a:pt x="653" y="28"/>
                </a:lnTo>
                <a:lnTo>
                  <a:pt x="668" y="28"/>
                </a:lnTo>
                <a:lnTo>
                  <a:pt x="675" y="21"/>
                </a:lnTo>
                <a:lnTo>
                  <a:pt x="696" y="7"/>
                </a:lnTo>
                <a:lnTo>
                  <a:pt x="724" y="0"/>
                </a:lnTo>
                <a:lnTo>
                  <a:pt x="739" y="7"/>
                </a:lnTo>
                <a:lnTo>
                  <a:pt x="760" y="14"/>
                </a:lnTo>
                <a:lnTo>
                  <a:pt x="788" y="28"/>
                </a:lnTo>
                <a:lnTo>
                  <a:pt x="831" y="50"/>
                </a:lnTo>
                <a:lnTo>
                  <a:pt x="845" y="64"/>
                </a:lnTo>
                <a:lnTo>
                  <a:pt x="866" y="71"/>
                </a:lnTo>
                <a:lnTo>
                  <a:pt x="888" y="92"/>
                </a:lnTo>
                <a:lnTo>
                  <a:pt x="902" y="106"/>
                </a:lnTo>
                <a:lnTo>
                  <a:pt x="909" y="120"/>
                </a:lnTo>
                <a:lnTo>
                  <a:pt x="909" y="127"/>
                </a:lnTo>
                <a:lnTo>
                  <a:pt x="902" y="134"/>
                </a:lnTo>
                <a:lnTo>
                  <a:pt x="895" y="149"/>
                </a:lnTo>
                <a:lnTo>
                  <a:pt x="873" y="149"/>
                </a:lnTo>
                <a:lnTo>
                  <a:pt x="866" y="156"/>
                </a:lnTo>
                <a:lnTo>
                  <a:pt x="859" y="170"/>
                </a:lnTo>
                <a:lnTo>
                  <a:pt x="852" y="191"/>
                </a:lnTo>
                <a:lnTo>
                  <a:pt x="852" y="219"/>
                </a:lnTo>
                <a:lnTo>
                  <a:pt x="852" y="255"/>
                </a:lnTo>
                <a:lnTo>
                  <a:pt x="852" y="304"/>
                </a:lnTo>
                <a:lnTo>
                  <a:pt x="852" y="354"/>
                </a:lnTo>
                <a:lnTo>
                  <a:pt x="852" y="403"/>
                </a:lnTo>
                <a:lnTo>
                  <a:pt x="866" y="644"/>
                </a:lnTo>
                <a:lnTo>
                  <a:pt x="866" y="757"/>
                </a:lnTo>
                <a:lnTo>
                  <a:pt x="866" y="871"/>
                </a:lnTo>
                <a:lnTo>
                  <a:pt x="866" y="920"/>
                </a:lnTo>
                <a:lnTo>
                  <a:pt x="866" y="970"/>
                </a:lnTo>
                <a:lnTo>
                  <a:pt x="866" y="1019"/>
                </a:lnTo>
                <a:lnTo>
                  <a:pt x="866" y="1062"/>
                </a:lnTo>
                <a:lnTo>
                  <a:pt x="859" y="1097"/>
                </a:lnTo>
                <a:lnTo>
                  <a:pt x="859" y="1125"/>
                </a:lnTo>
                <a:lnTo>
                  <a:pt x="852" y="1154"/>
                </a:lnTo>
                <a:lnTo>
                  <a:pt x="852" y="1175"/>
                </a:lnTo>
                <a:lnTo>
                  <a:pt x="838" y="1218"/>
                </a:lnTo>
                <a:lnTo>
                  <a:pt x="824" y="1246"/>
                </a:lnTo>
                <a:lnTo>
                  <a:pt x="810" y="1274"/>
                </a:lnTo>
                <a:lnTo>
                  <a:pt x="795" y="1295"/>
                </a:lnTo>
                <a:lnTo>
                  <a:pt x="774" y="1310"/>
                </a:lnTo>
                <a:lnTo>
                  <a:pt x="760" y="1324"/>
                </a:lnTo>
                <a:lnTo>
                  <a:pt x="746" y="1331"/>
                </a:lnTo>
                <a:lnTo>
                  <a:pt x="731" y="1338"/>
                </a:lnTo>
                <a:lnTo>
                  <a:pt x="717" y="1331"/>
                </a:lnTo>
                <a:lnTo>
                  <a:pt x="717" y="1324"/>
                </a:lnTo>
                <a:lnTo>
                  <a:pt x="710" y="1317"/>
                </a:lnTo>
                <a:lnTo>
                  <a:pt x="710" y="1302"/>
                </a:lnTo>
                <a:lnTo>
                  <a:pt x="710" y="1288"/>
                </a:lnTo>
                <a:lnTo>
                  <a:pt x="703" y="1267"/>
                </a:lnTo>
                <a:lnTo>
                  <a:pt x="703" y="1246"/>
                </a:lnTo>
                <a:lnTo>
                  <a:pt x="703" y="1225"/>
                </a:lnTo>
                <a:lnTo>
                  <a:pt x="696" y="1203"/>
                </a:lnTo>
                <a:lnTo>
                  <a:pt x="689" y="1175"/>
                </a:lnTo>
                <a:lnTo>
                  <a:pt x="675" y="1147"/>
                </a:lnTo>
                <a:lnTo>
                  <a:pt x="660" y="1118"/>
                </a:lnTo>
                <a:lnTo>
                  <a:pt x="639" y="1090"/>
                </a:lnTo>
                <a:lnTo>
                  <a:pt x="611" y="1062"/>
                </a:lnTo>
                <a:lnTo>
                  <a:pt x="582" y="1026"/>
                </a:lnTo>
                <a:lnTo>
                  <a:pt x="618" y="1033"/>
                </a:lnTo>
                <a:lnTo>
                  <a:pt x="639" y="1033"/>
                </a:lnTo>
                <a:lnTo>
                  <a:pt x="668" y="1041"/>
                </a:lnTo>
                <a:lnTo>
                  <a:pt x="689" y="1041"/>
                </a:lnTo>
                <a:lnTo>
                  <a:pt x="703" y="1033"/>
                </a:lnTo>
                <a:lnTo>
                  <a:pt x="717" y="1033"/>
                </a:lnTo>
                <a:lnTo>
                  <a:pt x="724" y="1026"/>
                </a:lnTo>
                <a:lnTo>
                  <a:pt x="731" y="1019"/>
                </a:lnTo>
                <a:lnTo>
                  <a:pt x="731" y="1005"/>
                </a:lnTo>
                <a:lnTo>
                  <a:pt x="731" y="984"/>
                </a:lnTo>
                <a:lnTo>
                  <a:pt x="739" y="956"/>
                </a:lnTo>
                <a:lnTo>
                  <a:pt x="739" y="913"/>
                </a:lnTo>
                <a:lnTo>
                  <a:pt x="739" y="864"/>
                </a:lnTo>
                <a:lnTo>
                  <a:pt x="739" y="800"/>
                </a:lnTo>
                <a:lnTo>
                  <a:pt x="739" y="729"/>
                </a:lnTo>
                <a:lnTo>
                  <a:pt x="739" y="651"/>
                </a:lnTo>
                <a:lnTo>
                  <a:pt x="739" y="573"/>
                </a:lnTo>
                <a:lnTo>
                  <a:pt x="739" y="503"/>
                </a:lnTo>
                <a:lnTo>
                  <a:pt x="739" y="439"/>
                </a:lnTo>
                <a:lnTo>
                  <a:pt x="739" y="382"/>
                </a:lnTo>
                <a:lnTo>
                  <a:pt x="739" y="340"/>
                </a:lnTo>
                <a:lnTo>
                  <a:pt x="731" y="297"/>
                </a:lnTo>
                <a:lnTo>
                  <a:pt x="731" y="262"/>
                </a:lnTo>
                <a:lnTo>
                  <a:pt x="731" y="234"/>
                </a:lnTo>
                <a:lnTo>
                  <a:pt x="724" y="191"/>
                </a:lnTo>
                <a:lnTo>
                  <a:pt x="710" y="163"/>
                </a:lnTo>
                <a:lnTo>
                  <a:pt x="703" y="142"/>
                </a:lnTo>
                <a:lnTo>
                  <a:pt x="696" y="134"/>
                </a:lnTo>
                <a:lnTo>
                  <a:pt x="689" y="127"/>
                </a:lnTo>
                <a:lnTo>
                  <a:pt x="682" y="127"/>
                </a:lnTo>
                <a:lnTo>
                  <a:pt x="668" y="127"/>
                </a:lnTo>
                <a:lnTo>
                  <a:pt x="646" y="120"/>
                </a:lnTo>
                <a:lnTo>
                  <a:pt x="625" y="120"/>
                </a:lnTo>
                <a:lnTo>
                  <a:pt x="604" y="120"/>
                </a:lnTo>
                <a:lnTo>
                  <a:pt x="582" y="120"/>
                </a:lnTo>
                <a:lnTo>
                  <a:pt x="554" y="127"/>
                </a:lnTo>
                <a:lnTo>
                  <a:pt x="519" y="127"/>
                </a:lnTo>
                <a:lnTo>
                  <a:pt x="469" y="127"/>
                </a:lnTo>
                <a:lnTo>
                  <a:pt x="412" y="134"/>
                </a:lnTo>
                <a:lnTo>
                  <a:pt x="348" y="142"/>
                </a:lnTo>
                <a:lnTo>
                  <a:pt x="277" y="149"/>
                </a:lnTo>
                <a:lnTo>
                  <a:pt x="192" y="156"/>
                </a:lnTo>
                <a:lnTo>
                  <a:pt x="100" y="170"/>
                </a:lnTo>
                <a:lnTo>
                  <a:pt x="0" y="177"/>
                </a:lnTo>
                <a:lnTo>
                  <a:pt x="0" y="177"/>
                </a:lnTo>
              </a:path>
            </a:pathLst>
          </a:custGeom>
          <a:solidFill>
            <a:srgbClr val="0000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078440" y="3186000"/>
            <a:ext cx="855360" cy="179640"/>
          </a:xfrm>
          <a:custGeom>
            <a:avLst/>
            <a:gdLst/>
            <a:ahLst/>
            <a:rect l="l" t="t" r="r" b="b"/>
            <a:pathLst>
              <a:path w="539" h="113">
                <a:moveTo>
                  <a:pt x="539" y="28"/>
                </a:moveTo>
                <a:lnTo>
                  <a:pt x="539" y="36"/>
                </a:lnTo>
                <a:lnTo>
                  <a:pt x="539" y="43"/>
                </a:lnTo>
                <a:lnTo>
                  <a:pt x="525" y="50"/>
                </a:lnTo>
                <a:lnTo>
                  <a:pt x="511" y="57"/>
                </a:lnTo>
                <a:lnTo>
                  <a:pt x="489" y="64"/>
                </a:lnTo>
                <a:lnTo>
                  <a:pt x="461" y="71"/>
                </a:lnTo>
                <a:lnTo>
                  <a:pt x="426" y="78"/>
                </a:lnTo>
                <a:lnTo>
                  <a:pt x="383" y="85"/>
                </a:lnTo>
                <a:lnTo>
                  <a:pt x="291" y="99"/>
                </a:lnTo>
                <a:lnTo>
                  <a:pt x="191" y="106"/>
                </a:lnTo>
                <a:lnTo>
                  <a:pt x="99" y="113"/>
                </a:lnTo>
                <a:lnTo>
                  <a:pt x="0" y="113"/>
                </a:lnTo>
                <a:lnTo>
                  <a:pt x="0" y="50"/>
                </a:lnTo>
                <a:lnTo>
                  <a:pt x="14" y="50"/>
                </a:lnTo>
                <a:lnTo>
                  <a:pt x="35" y="50"/>
                </a:lnTo>
                <a:lnTo>
                  <a:pt x="56" y="50"/>
                </a:lnTo>
                <a:lnTo>
                  <a:pt x="85" y="50"/>
                </a:lnTo>
                <a:lnTo>
                  <a:pt x="113" y="43"/>
                </a:lnTo>
                <a:lnTo>
                  <a:pt x="149" y="36"/>
                </a:lnTo>
                <a:lnTo>
                  <a:pt x="184" y="28"/>
                </a:lnTo>
                <a:lnTo>
                  <a:pt x="220" y="21"/>
                </a:lnTo>
                <a:lnTo>
                  <a:pt x="291" y="14"/>
                </a:lnTo>
                <a:lnTo>
                  <a:pt x="347" y="0"/>
                </a:lnTo>
                <a:lnTo>
                  <a:pt x="404" y="0"/>
                </a:lnTo>
                <a:lnTo>
                  <a:pt x="447" y="0"/>
                </a:lnTo>
                <a:lnTo>
                  <a:pt x="482" y="0"/>
                </a:lnTo>
                <a:lnTo>
                  <a:pt x="511" y="7"/>
                </a:lnTo>
                <a:lnTo>
                  <a:pt x="525" y="14"/>
                </a:lnTo>
                <a:lnTo>
                  <a:pt x="539" y="28"/>
                </a:lnTo>
                <a:lnTo>
                  <a:pt x="539" y="28"/>
                </a:lnTo>
              </a:path>
            </a:pathLst>
          </a:custGeom>
          <a:solidFill>
            <a:srgbClr val="0000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078440" y="3635280"/>
            <a:ext cx="912600" cy="168480"/>
          </a:xfrm>
          <a:custGeom>
            <a:avLst/>
            <a:gdLst/>
            <a:ahLst/>
            <a:rect l="l" t="t" r="r" b="b"/>
            <a:pathLst>
              <a:path w="575" h="106">
                <a:moveTo>
                  <a:pt x="298" y="14"/>
                </a:moveTo>
                <a:lnTo>
                  <a:pt x="347" y="7"/>
                </a:lnTo>
                <a:lnTo>
                  <a:pt x="383" y="7"/>
                </a:lnTo>
                <a:lnTo>
                  <a:pt x="418" y="0"/>
                </a:lnTo>
                <a:lnTo>
                  <a:pt x="447" y="0"/>
                </a:lnTo>
                <a:lnTo>
                  <a:pt x="475" y="0"/>
                </a:lnTo>
                <a:lnTo>
                  <a:pt x="497" y="0"/>
                </a:lnTo>
                <a:lnTo>
                  <a:pt x="518" y="7"/>
                </a:lnTo>
                <a:lnTo>
                  <a:pt x="539" y="7"/>
                </a:lnTo>
                <a:lnTo>
                  <a:pt x="553" y="22"/>
                </a:lnTo>
                <a:lnTo>
                  <a:pt x="567" y="29"/>
                </a:lnTo>
                <a:lnTo>
                  <a:pt x="575" y="43"/>
                </a:lnTo>
                <a:lnTo>
                  <a:pt x="567" y="50"/>
                </a:lnTo>
                <a:lnTo>
                  <a:pt x="560" y="57"/>
                </a:lnTo>
                <a:lnTo>
                  <a:pt x="546" y="64"/>
                </a:lnTo>
                <a:lnTo>
                  <a:pt x="532" y="64"/>
                </a:lnTo>
                <a:lnTo>
                  <a:pt x="511" y="71"/>
                </a:lnTo>
                <a:lnTo>
                  <a:pt x="489" y="78"/>
                </a:lnTo>
                <a:lnTo>
                  <a:pt x="461" y="78"/>
                </a:lnTo>
                <a:lnTo>
                  <a:pt x="426" y="85"/>
                </a:lnTo>
                <a:lnTo>
                  <a:pt x="390" y="85"/>
                </a:lnTo>
                <a:lnTo>
                  <a:pt x="305" y="92"/>
                </a:lnTo>
                <a:lnTo>
                  <a:pt x="213" y="99"/>
                </a:lnTo>
                <a:lnTo>
                  <a:pt x="113" y="106"/>
                </a:lnTo>
                <a:lnTo>
                  <a:pt x="0" y="106"/>
                </a:lnTo>
                <a:lnTo>
                  <a:pt x="0" y="43"/>
                </a:lnTo>
                <a:lnTo>
                  <a:pt x="71" y="43"/>
                </a:lnTo>
                <a:lnTo>
                  <a:pt x="142" y="36"/>
                </a:lnTo>
                <a:lnTo>
                  <a:pt x="220" y="29"/>
                </a:lnTo>
                <a:lnTo>
                  <a:pt x="298" y="14"/>
                </a:lnTo>
                <a:lnTo>
                  <a:pt x="298" y="14"/>
                </a:lnTo>
              </a:path>
            </a:pathLst>
          </a:custGeom>
          <a:solidFill>
            <a:srgbClr val="3366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043520" y="4130640"/>
            <a:ext cx="1093680" cy="190440"/>
          </a:xfrm>
          <a:custGeom>
            <a:avLst/>
            <a:gdLst/>
            <a:ahLst/>
            <a:rect l="l" t="t" r="r" b="b"/>
            <a:pathLst>
              <a:path w="689" h="120">
                <a:moveTo>
                  <a:pt x="320" y="28"/>
                </a:moveTo>
                <a:lnTo>
                  <a:pt x="362" y="21"/>
                </a:lnTo>
                <a:lnTo>
                  <a:pt x="391" y="14"/>
                </a:lnTo>
                <a:lnTo>
                  <a:pt x="419" y="14"/>
                </a:lnTo>
                <a:lnTo>
                  <a:pt x="448" y="7"/>
                </a:lnTo>
                <a:lnTo>
                  <a:pt x="469" y="7"/>
                </a:lnTo>
                <a:lnTo>
                  <a:pt x="483" y="0"/>
                </a:lnTo>
                <a:lnTo>
                  <a:pt x="497" y="0"/>
                </a:lnTo>
                <a:lnTo>
                  <a:pt x="511" y="0"/>
                </a:lnTo>
                <a:lnTo>
                  <a:pt x="519" y="0"/>
                </a:lnTo>
                <a:lnTo>
                  <a:pt x="533" y="7"/>
                </a:lnTo>
                <a:lnTo>
                  <a:pt x="554" y="14"/>
                </a:lnTo>
                <a:lnTo>
                  <a:pt x="575" y="21"/>
                </a:lnTo>
                <a:lnTo>
                  <a:pt x="597" y="35"/>
                </a:lnTo>
                <a:lnTo>
                  <a:pt x="625" y="49"/>
                </a:lnTo>
                <a:lnTo>
                  <a:pt x="653" y="63"/>
                </a:lnTo>
                <a:lnTo>
                  <a:pt x="689" y="85"/>
                </a:lnTo>
                <a:lnTo>
                  <a:pt x="668" y="85"/>
                </a:lnTo>
                <a:lnTo>
                  <a:pt x="639" y="78"/>
                </a:lnTo>
                <a:lnTo>
                  <a:pt x="611" y="78"/>
                </a:lnTo>
                <a:lnTo>
                  <a:pt x="575" y="85"/>
                </a:lnTo>
                <a:lnTo>
                  <a:pt x="540" y="85"/>
                </a:lnTo>
                <a:lnTo>
                  <a:pt x="497" y="85"/>
                </a:lnTo>
                <a:lnTo>
                  <a:pt x="455" y="85"/>
                </a:lnTo>
                <a:lnTo>
                  <a:pt x="405" y="92"/>
                </a:lnTo>
                <a:lnTo>
                  <a:pt x="298" y="99"/>
                </a:lnTo>
                <a:lnTo>
                  <a:pt x="199" y="106"/>
                </a:lnTo>
                <a:lnTo>
                  <a:pt x="100" y="113"/>
                </a:lnTo>
                <a:lnTo>
                  <a:pt x="0" y="120"/>
                </a:lnTo>
                <a:lnTo>
                  <a:pt x="0" y="56"/>
                </a:lnTo>
                <a:lnTo>
                  <a:pt x="78" y="49"/>
                </a:lnTo>
                <a:lnTo>
                  <a:pt x="164" y="42"/>
                </a:lnTo>
                <a:lnTo>
                  <a:pt x="320" y="28"/>
                </a:lnTo>
                <a:lnTo>
                  <a:pt x="320" y="28"/>
                </a:lnTo>
              </a:path>
            </a:pathLst>
          </a:custGeom>
          <a:solidFill>
            <a:srgbClr val="0000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4411440" y="646200"/>
            <a:ext cx="4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识字（一）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752480" y="1752480"/>
            <a:ext cx="440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Arial"/>
                <a:ea typeface="楷体_GB2312"/>
              </a:rPr>
              <a:t>（</a:t>
            </a:r>
            <a:r>
              <a:rPr b="0" lang="zh-CN" sz="9600" spc="-1" strike="noStrike">
                <a:solidFill>
                  <a:srgbClr val="ff3300"/>
                </a:solidFill>
                <a:latin typeface="Arial"/>
                <a:ea typeface="楷体_GB2312"/>
              </a:rPr>
              <a:t>目</a:t>
            </a:r>
            <a:r>
              <a:rPr b="0" lang="zh-CN" sz="9600" spc="-1" strike="noStrike">
                <a:solidFill>
                  <a:srgbClr val="ffffff"/>
                </a:solidFill>
                <a:latin typeface="Arial"/>
                <a:ea typeface="楷体_GB2312"/>
              </a:rPr>
              <a:t>光）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763640" y="3429000"/>
            <a:ext cx="439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Arial"/>
                <a:ea typeface="楷体_GB2312"/>
              </a:rPr>
              <a:t>（耳</a:t>
            </a:r>
            <a:r>
              <a:rPr b="0" lang="zh-CN" sz="9600" spc="-1" strike="noStrike">
                <a:solidFill>
                  <a:srgbClr val="ff3300"/>
                </a:solidFill>
                <a:latin typeface="Arial"/>
                <a:ea typeface="楷体_GB2312"/>
              </a:rPr>
              <a:t>目</a:t>
            </a:r>
            <a:r>
              <a:rPr b="0" lang="zh-CN" sz="9600" spc="-1" strike="noStrike">
                <a:solidFill>
                  <a:srgbClr val="ffffff"/>
                </a:solidFill>
                <a:latin typeface="Arial"/>
                <a:ea typeface="楷体_GB2312"/>
              </a:rPr>
              <a:t>）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68360" y="476280"/>
            <a:ext cx="1938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b200"/>
                </a:solidFill>
                <a:latin typeface="楷体_GB2312"/>
                <a:ea typeface="楷体_GB2312"/>
              </a:rPr>
              <a:t>m</a:t>
            </a:r>
            <a:r>
              <a:rPr b="0" lang="zh-CN" sz="9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ù</a:t>
            </a:r>
            <a:r>
              <a:rPr b="0" lang="zh-CN" sz="9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目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2120" y="2209680"/>
            <a:ext cx="990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2057400" y="838080"/>
            <a:ext cx="4678200" cy="472752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3505320" y="2057400"/>
            <a:ext cx="1904760" cy="293760"/>
          </a:xfrm>
          <a:custGeom>
            <a:avLst/>
            <a:gdLst/>
            <a:ahLst/>
            <a:rect l="l" t="t" r="r" b="b"/>
            <a:pathLst>
              <a:path w="1066" h="329">
                <a:moveTo>
                  <a:pt x="431" y="131"/>
                </a:moveTo>
                <a:lnTo>
                  <a:pt x="482" y="114"/>
                </a:lnTo>
                <a:lnTo>
                  <a:pt x="533" y="102"/>
                </a:lnTo>
                <a:lnTo>
                  <a:pt x="579" y="85"/>
                </a:lnTo>
                <a:lnTo>
                  <a:pt x="618" y="74"/>
                </a:lnTo>
                <a:lnTo>
                  <a:pt x="664" y="63"/>
                </a:lnTo>
                <a:lnTo>
                  <a:pt x="698" y="51"/>
                </a:lnTo>
                <a:lnTo>
                  <a:pt x="732" y="46"/>
                </a:lnTo>
                <a:lnTo>
                  <a:pt x="760" y="34"/>
                </a:lnTo>
                <a:lnTo>
                  <a:pt x="789" y="29"/>
                </a:lnTo>
                <a:lnTo>
                  <a:pt x="811" y="17"/>
                </a:lnTo>
                <a:lnTo>
                  <a:pt x="834" y="12"/>
                </a:lnTo>
                <a:lnTo>
                  <a:pt x="851" y="12"/>
                </a:lnTo>
                <a:lnTo>
                  <a:pt x="868" y="6"/>
                </a:lnTo>
                <a:lnTo>
                  <a:pt x="879" y="0"/>
                </a:lnTo>
                <a:lnTo>
                  <a:pt x="885" y="0"/>
                </a:lnTo>
                <a:lnTo>
                  <a:pt x="891" y="0"/>
                </a:lnTo>
                <a:lnTo>
                  <a:pt x="908" y="0"/>
                </a:lnTo>
                <a:lnTo>
                  <a:pt x="930" y="6"/>
                </a:lnTo>
                <a:lnTo>
                  <a:pt x="953" y="17"/>
                </a:lnTo>
                <a:lnTo>
                  <a:pt x="987" y="23"/>
                </a:lnTo>
                <a:lnTo>
                  <a:pt x="1015" y="40"/>
                </a:lnTo>
                <a:lnTo>
                  <a:pt x="1038" y="63"/>
                </a:lnTo>
                <a:lnTo>
                  <a:pt x="1055" y="80"/>
                </a:lnTo>
                <a:lnTo>
                  <a:pt x="1061" y="97"/>
                </a:lnTo>
                <a:lnTo>
                  <a:pt x="1066" y="102"/>
                </a:lnTo>
                <a:lnTo>
                  <a:pt x="1061" y="114"/>
                </a:lnTo>
                <a:lnTo>
                  <a:pt x="1061" y="119"/>
                </a:lnTo>
                <a:lnTo>
                  <a:pt x="1049" y="131"/>
                </a:lnTo>
                <a:lnTo>
                  <a:pt x="1027" y="142"/>
                </a:lnTo>
                <a:lnTo>
                  <a:pt x="993" y="153"/>
                </a:lnTo>
                <a:lnTo>
                  <a:pt x="970" y="165"/>
                </a:lnTo>
                <a:lnTo>
                  <a:pt x="942" y="176"/>
                </a:lnTo>
                <a:lnTo>
                  <a:pt x="913" y="182"/>
                </a:lnTo>
                <a:lnTo>
                  <a:pt x="874" y="193"/>
                </a:lnTo>
                <a:lnTo>
                  <a:pt x="828" y="204"/>
                </a:lnTo>
                <a:lnTo>
                  <a:pt x="783" y="216"/>
                </a:lnTo>
                <a:lnTo>
                  <a:pt x="726" y="227"/>
                </a:lnTo>
                <a:lnTo>
                  <a:pt x="669" y="238"/>
                </a:lnTo>
                <a:lnTo>
                  <a:pt x="607" y="250"/>
                </a:lnTo>
                <a:lnTo>
                  <a:pt x="550" y="261"/>
                </a:lnTo>
                <a:lnTo>
                  <a:pt x="494" y="272"/>
                </a:lnTo>
                <a:lnTo>
                  <a:pt x="443" y="284"/>
                </a:lnTo>
                <a:lnTo>
                  <a:pt x="397" y="289"/>
                </a:lnTo>
                <a:lnTo>
                  <a:pt x="358" y="301"/>
                </a:lnTo>
                <a:lnTo>
                  <a:pt x="323" y="306"/>
                </a:lnTo>
                <a:lnTo>
                  <a:pt x="289" y="312"/>
                </a:lnTo>
                <a:lnTo>
                  <a:pt x="233" y="323"/>
                </a:lnTo>
                <a:lnTo>
                  <a:pt x="176" y="329"/>
                </a:lnTo>
                <a:lnTo>
                  <a:pt x="125" y="323"/>
                </a:lnTo>
                <a:lnTo>
                  <a:pt x="85" y="312"/>
                </a:lnTo>
                <a:lnTo>
                  <a:pt x="63" y="306"/>
                </a:lnTo>
                <a:lnTo>
                  <a:pt x="46" y="301"/>
                </a:lnTo>
                <a:lnTo>
                  <a:pt x="34" y="295"/>
                </a:lnTo>
                <a:lnTo>
                  <a:pt x="23" y="284"/>
                </a:lnTo>
                <a:lnTo>
                  <a:pt x="6" y="272"/>
                </a:lnTo>
                <a:lnTo>
                  <a:pt x="0" y="261"/>
                </a:lnTo>
                <a:lnTo>
                  <a:pt x="0" y="261"/>
                </a:lnTo>
                <a:lnTo>
                  <a:pt x="6" y="255"/>
                </a:lnTo>
                <a:lnTo>
                  <a:pt x="17" y="255"/>
                </a:lnTo>
                <a:lnTo>
                  <a:pt x="29" y="250"/>
                </a:lnTo>
                <a:lnTo>
                  <a:pt x="46" y="244"/>
                </a:lnTo>
                <a:lnTo>
                  <a:pt x="63" y="238"/>
                </a:lnTo>
                <a:lnTo>
                  <a:pt x="85" y="233"/>
                </a:lnTo>
                <a:lnTo>
                  <a:pt x="108" y="227"/>
                </a:lnTo>
                <a:lnTo>
                  <a:pt x="136" y="216"/>
                </a:lnTo>
                <a:lnTo>
                  <a:pt x="170" y="204"/>
                </a:lnTo>
                <a:lnTo>
                  <a:pt x="204" y="199"/>
                </a:lnTo>
                <a:lnTo>
                  <a:pt x="244" y="187"/>
                </a:lnTo>
                <a:lnTo>
                  <a:pt x="284" y="176"/>
                </a:lnTo>
                <a:lnTo>
                  <a:pt x="329" y="159"/>
                </a:lnTo>
                <a:lnTo>
                  <a:pt x="380" y="148"/>
                </a:lnTo>
                <a:lnTo>
                  <a:pt x="431" y="131"/>
                </a:lnTo>
                <a:lnTo>
                  <a:pt x="431" y="131"/>
                </a:lnTo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86200" y="2286000"/>
            <a:ext cx="228600" cy="1295280"/>
          </a:xfrm>
          <a:custGeom>
            <a:avLst/>
            <a:gdLst/>
            <a:ahLst/>
            <a:rect l="l" t="t" r="r" b="b"/>
            <a:pathLst>
              <a:path w="125" h="879">
                <a:moveTo>
                  <a:pt x="28" y="74"/>
                </a:moveTo>
                <a:lnTo>
                  <a:pt x="22" y="46"/>
                </a:lnTo>
                <a:lnTo>
                  <a:pt x="17" y="23"/>
                </a:lnTo>
                <a:lnTo>
                  <a:pt x="22" y="12"/>
                </a:lnTo>
                <a:lnTo>
                  <a:pt x="34" y="0"/>
                </a:lnTo>
                <a:lnTo>
                  <a:pt x="51" y="0"/>
                </a:lnTo>
                <a:lnTo>
                  <a:pt x="68" y="6"/>
                </a:lnTo>
                <a:lnTo>
                  <a:pt x="96" y="17"/>
                </a:lnTo>
                <a:lnTo>
                  <a:pt x="125" y="34"/>
                </a:lnTo>
                <a:lnTo>
                  <a:pt x="125" y="102"/>
                </a:lnTo>
                <a:lnTo>
                  <a:pt x="125" y="170"/>
                </a:lnTo>
                <a:lnTo>
                  <a:pt x="125" y="233"/>
                </a:lnTo>
                <a:lnTo>
                  <a:pt x="125" y="290"/>
                </a:lnTo>
                <a:lnTo>
                  <a:pt x="125" y="352"/>
                </a:lnTo>
                <a:lnTo>
                  <a:pt x="125" y="403"/>
                </a:lnTo>
                <a:lnTo>
                  <a:pt x="119" y="454"/>
                </a:lnTo>
                <a:lnTo>
                  <a:pt x="119" y="505"/>
                </a:lnTo>
                <a:lnTo>
                  <a:pt x="113" y="550"/>
                </a:lnTo>
                <a:lnTo>
                  <a:pt x="113" y="590"/>
                </a:lnTo>
                <a:lnTo>
                  <a:pt x="108" y="630"/>
                </a:lnTo>
                <a:lnTo>
                  <a:pt x="102" y="669"/>
                </a:lnTo>
                <a:lnTo>
                  <a:pt x="96" y="703"/>
                </a:lnTo>
                <a:lnTo>
                  <a:pt x="96" y="732"/>
                </a:lnTo>
                <a:lnTo>
                  <a:pt x="91" y="760"/>
                </a:lnTo>
                <a:lnTo>
                  <a:pt x="91" y="789"/>
                </a:lnTo>
                <a:lnTo>
                  <a:pt x="79" y="823"/>
                </a:lnTo>
                <a:lnTo>
                  <a:pt x="73" y="851"/>
                </a:lnTo>
                <a:lnTo>
                  <a:pt x="62" y="868"/>
                </a:lnTo>
                <a:lnTo>
                  <a:pt x="56" y="879"/>
                </a:lnTo>
                <a:lnTo>
                  <a:pt x="51" y="879"/>
                </a:lnTo>
                <a:lnTo>
                  <a:pt x="45" y="868"/>
                </a:lnTo>
                <a:lnTo>
                  <a:pt x="34" y="851"/>
                </a:lnTo>
                <a:lnTo>
                  <a:pt x="22" y="823"/>
                </a:lnTo>
                <a:lnTo>
                  <a:pt x="11" y="800"/>
                </a:lnTo>
                <a:lnTo>
                  <a:pt x="5" y="777"/>
                </a:lnTo>
                <a:lnTo>
                  <a:pt x="0" y="760"/>
                </a:lnTo>
                <a:lnTo>
                  <a:pt x="0" y="749"/>
                </a:lnTo>
                <a:lnTo>
                  <a:pt x="0" y="732"/>
                </a:lnTo>
                <a:lnTo>
                  <a:pt x="5" y="709"/>
                </a:lnTo>
                <a:lnTo>
                  <a:pt x="11" y="686"/>
                </a:lnTo>
                <a:lnTo>
                  <a:pt x="22" y="652"/>
                </a:lnTo>
                <a:lnTo>
                  <a:pt x="22" y="630"/>
                </a:lnTo>
                <a:lnTo>
                  <a:pt x="28" y="607"/>
                </a:lnTo>
                <a:lnTo>
                  <a:pt x="28" y="579"/>
                </a:lnTo>
                <a:lnTo>
                  <a:pt x="34" y="539"/>
                </a:lnTo>
                <a:lnTo>
                  <a:pt x="34" y="499"/>
                </a:lnTo>
                <a:lnTo>
                  <a:pt x="39" y="460"/>
                </a:lnTo>
                <a:lnTo>
                  <a:pt x="39" y="409"/>
                </a:lnTo>
                <a:lnTo>
                  <a:pt x="45" y="352"/>
                </a:lnTo>
                <a:lnTo>
                  <a:pt x="45" y="301"/>
                </a:lnTo>
                <a:lnTo>
                  <a:pt x="45" y="255"/>
                </a:lnTo>
                <a:lnTo>
                  <a:pt x="45" y="210"/>
                </a:lnTo>
                <a:lnTo>
                  <a:pt x="45" y="170"/>
                </a:lnTo>
                <a:lnTo>
                  <a:pt x="39" y="142"/>
                </a:lnTo>
                <a:lnTo>
                  <a:pt x="39" y="114"/>
                </a:lnTo>
                <a:lnTo>
                  <a:pt x="34" y="91"/>
                </a:lnTo>
                <a:lnTo>
                  <a:pt x="28" y="74"/>
                </a:lnTo>
                <a:lnTo>
                  <a:pt x="28" y="74"/>
                </a:lnTo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648320" y="2133720"/>
            <a:ext cx="304560" cy="2286000"/>
          </a:xfrm>
          <a:custGeom>
            <a:avLst/>
            <a:gdLst/>
            <a:ahLst/>
            <a:rect l="l" t="t" r="r" b="b"/>
            <a:pathLst>
              <a:path w="222" h="2006">
                <a:moveTo>
                  <a:pt x="216" y="79"/>
                </a:moveTo>
                <a:lnTo>
                  <a:pt x="222" y="96"/>
                </a:lnTo>
                <a:lnTo>
                  <a:pt x="222" y="113"/>
                </a:lnTo>
                <a:lnTo>
                  <a:pt x="222" y="130"/>
                </a:lnTo>
                <a:lnTo>
                  <a:pt x="216" y="153"/>
                </a:lnTo>
                <a:lnTo>
                  <a:pt x="216" y="164"/>
                </a:lnTo>
                <a:lnTo>
                  <a:pt x="210" y="187"/>
                </a:lnTo>
                <a:lnTo>
                  <a:pt x="210" y="215"/>
                </a:lnTo>
                <a:lnTo>
                  <a:pt x="205" y="255"/>
                </a:lnTo>
                <a:lnTo>
                  <a:pt x="205" y="300"/>
                </a:lnTo>
                <a:lnTo>
                  <a:pt x="199" y="357"/>
                </a:lnTo>
                <a:lnTo>
                  <a:pt x="199" y="419"/>
                </a:lnTo>
                <a:lnTo>
                  <a:pt x="199" y="493"/>
                </a:lnTo>
                <a:lnTo>
                  <a:pt x="199" y="566"/>
                </a:lnTo>
                <a:lnTo>
                  <a:pt x="199" y="651"/>
                </a:lnTo>
                <a:lnTo>
                  <a:pt x="199" y="736"/>
                </a:lnTo>
                <a:lnTo>
                  <a:pt x="199" y="821"/>
                </a:lnTo>
                <a:lnTo>
                  <a:pt x="199" y="912"/>
                </a:lnTo>
                <a:lnTo>
                  <a:pt x="199" y="1008"/>
                </a:lnTo>
                <a:lnTo>
                  <a:pt x="199" y="1105"/>
                </a:lnTo>
                <a:lnTo>
                  <a:pt x="199" y="1207"/>
                </a:lnTo>
                <a:lnTo>
                  <a:pt x="199" y="1309"/>
                </a:lnTo>
                <a:lnTo>
                  <a:pt x="193" y="1399"/>
                </a:lnTo>
                <a:lnTo>
                  <a:pt x="193" y="1484"/>
                </a:lnTo>
                <a:lnTo>
                  <a:pt x="188" y="1564"/>
                </a:lnTo>
                <a:lnTo>
                  <a:pt x="182" y="1637"/>
                </a:lnTo>
                <a:lnTo>
                  <a:pt x="182" y="1705"/>
                </a:lnTo>
                <a:lnTo>
                  <a:pt x="176" y="1762"/>
                </a:lnTo>
                <a:lnTo>
                  <a:pt x="176" y="1813"/>
                </a:lnTo>
                <a:lnTo>
                  <a:pt x="171" y="1858"/>
                </a:lnTo>
                <a:lnTo>
                  <a:pt x="165" y="1898"/>
                </a:lnTo>
                <a:lnTo>
                  <a:pt x="159" y="1932"/>
                </a:lnTo>
                <a:lnTo>
                  <a:pt x="154" y="1955"/>
                </a:lnTo>
                <a:lnTo>
                  <a:pt x="148" y="1977"/>
                </a:lnTo>
                <a:lnTo>
                  <a:pt x="142" y="1994"/>
                </a:lnTo>
                <a:lnTo>
                  <a:pt x="137" y="2000"/>
                </a:lnTo>
                <a:lnTo>
                  <a:pt x="131" y="2006"/>
                </a:lnTo>
                <a:lnTo>
                  <a:pt x="125" y="2000"/>
                </a:lnTo>
                <a:lnTo>
                  <a:pt x="120" y="1994"/>
                </a:lnTo>
                <a:lnTo>
                  <a:pt x="114" y="1977"/>
                </a:lnTo>
                <a:lnTo>
                  <a:pt x="102" y="1960"/>
                </a:lnTo>
                <a:lnTo>
                  <a:pt x="97" y="1932"/>
                </a:lnTo>
                <a:lnTo>
                  <a:pt x="91" y="1904"/>
                </a:lnTo>
                <a:lnTo>
                  <a:pt x="85" y="1864"/>
                </a:lnTo>
                <a:lnTo>
                  <a:pt x="80" y="1824"/>
                </a:lnTo>
                <a:lnTo>
                  <a:pt x="74" y="1802"/>
                </a:lnTo>
                <a:lnTo>
                  <a:pt x="68" y="1773"/>
                </a:lnTo>
                <a:lnTo>
                  <a:pt x="68" y="1739"/>
                </a:lnTo>
                <a:lnTo>
                  <a:pt x="63" y="1700"/>
                </a:lnTo>
                <a:lnTo>
                  <a:pt x="63" y="1654"/>
                </a:lnTo>
                <a:lnTo>
                  <a:pt x="57" y="1609"/>
                </a:lnTo>
                <a:lnTo>
                  <a:pt x="57" y="1552"/>
                </a:lnTo>
                <a:lnTo>
                  <a:pt x="51" y="1496"/>
                </a:lnTo>
                <a:lnTo>
                  <a:pt x="51" y="1433"/>
                </a:lnTo>
                <a:lnTo>
                  <a:pt x="51" y="1371"/>
                </a:lnTo>
                <a:lnTo>
                  <a:pt x="51" y="1297"/>
                </a:lnTo>
                <a:lnTo>
                  <a:pt x="51" y="1224"/>
                </a:lnTo>
                <a:lnTo>
                  <a:pt x="51" y="1144"/>
                </a:lnTo>
                <a:lnTo>
                  <a:pt x="51" y="1059"/>
                </a:lnTo>
                <a:lnTo>
                  <a:pt x="51" y="969"/>
                </a:lnTo>
                <a:lnTo>
                  <a:pt x="51" y="878"/>
                </a:lnTo>
                <a:lnTo>
                  <a:pt x="57" y="782"/>
                </a:lnTo>
                <a:lnTo>
                  <a:pt x="57" y="697"/>
                </a:lnTo>
                <a:lnTo>
                  <a:pt x="57" y="612"/>
                </a:lnTo>
                <a:lnTo>
                  <a:pt x="57" y="538"/>
                </a:lnTo>
                <a:lnTo>
                  <a:pt x="57" y="470"/>
                </a:lnTo>
                <a:lnTo>
                  <a:pt x="57" y="402"/>
                </a:lnTo>
                <a:lnTo>
                  <a:pt x="57" y="345"/>
                </a:lnTo>
                <a:lnTo>
                  <a:pt x="51" y="289"/>
                </a:lnTo>
                <a:lnTo>
                  <a:pt x="51" y="243"/>
                </a:lnTo>
                <a:lnTo>
                  <a:pt x="51" y="204"/>
                </a:lnTo>
                <a:lnTo>
                  <a:pt x="46" y="164"/>
                </a:lnTo>
                <a:lnTo>
                  <a:pt x="46" y="136"/>
                </a:lnTo>
                <a:lnTo>
                  <a:pt x="40" y="107"/>
                </a:lnTo>
                <a:lnTo>
                  <a:pt x="34" y="90"/>
                </a:lnTo>
                <a:lnTo>
                  <a:pt x="34" y="79"/>
                </a:lnTo>
                <a:lnTo>
                  <a:pt x="29" y="68"/>
                </a:lnTo>
                <a:lnTo>
                  <a:pt x="12" y="56"/>
                </a:lnTo>
                <a:lnTo>
                  <a:pt x="0" y="45"/>
                </a:lnTo>
                <a:lnTo>
                  <a:pt x="0" y="28"/>
                </a:lnTo>
                <a:lnTo>
                  <a:pt x="0" y="17"/>
                </a:lnTo>
                <a:lnTo>
                  <a:pt x="12" y="5"/>
                </a:lnTo>
                <a:lnTo>
                  <a:pt x="34" y="0"/>
                </a:lnTo>
                <a:lnTo>
                  <a:pt x="63" y="5"/>
                </a:lnTo>
                <a:lnTo>
                  <a:pt x="102" y="17"/>
                </a:lnTo>
                <a:lnTo>
                  <a:pt x="148" y="28"/>
                </a:lnTo>
                <a:lnTo>
                  <a:pt x="182" y="45"/>
                </a:lnTo>
                <a:lnTo>
                  <a:pt x="205" y="62"/>
                </a:lnTo>
                <a:lnTo>
                  <a:pt x="210" y="68"/>
                </a:lnTo>
                <a:lnTo>
                  <a:pt x="216" y="79"/>
                </a:lnTo>
                <a:lnTo>
                  <a:pt x="216" y="79"/>
                </a:lnTo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038480" y="2514600"/>
            <a:ext cx="533520" cy="217440"/>
          </a:xfrm>
          <a:custGeom>
            <a:avLst/>
            <a:gdLst/>
            <a:ahLst/>
            <a:rect l="l" t="t" r="r" b="b"/>
            <a:pathLst>
              <a:path w="1066" h="329">
                <a:moveTo>
                  <a:pt x="431" y="131"/>
                </a:moveTo>
                <a:lnTo>
                  <a:pt x="482" y="114"/>
                </a:lnTo>
                <a:lnTo>
                  <a:pt x="533" y="102"/>
                </a:lnTo>
                <a:lnTo>
                  <a:pt x="579" y="85"/>
                </a:lnTo>
                <a:lnTo>
                  <a:pt x="618" y="74"/>
                </a:lnTo>
                <a:lnTo>
                  <a:pt x="664" y="63"/>
                </a:lnTo>
                <a:lnTo>
                  <a:pt x="698" y="51"/>
                </a:lnTo>
                <a:lnTo>
                  <a:pt x="732" y="46"/>
                </a:lnTo>
                <a:lnTo>
                  <a:pt x="760" y="34"/>
                </a:lnTo>
                <a:lnTo>
                  <a:pt x="789" y="29"/>
                </a:lnTo>
                <a:lnTo>
                  <a:pt x="811" y="17"/>
                </a:lnTo>
                <a:lnTo>
                  <a:pt x="834" y="12"/>
                </a:lnTo>
                <a:lnTo>
                  <a:pt x="851" y="12"/>
                </a:lnTo>
                <a:lnTo>
                  <a:pt x="868" y="6"/>
                </a:lnTo>
                <a:lnTo>
                  <a:pt x="879" y="0"/>
                </a:lnTo>
                <a:lnTo>
                  <a:pt x="885" y="0"/>
                </a:lnTo>
                <a:lnTo>
                  <a:pt x="891" y="0"/>
                </a:lnTo>
                <a:lnTo>
                  <a:pt x="908" y="0"/>
                </a:lnTo>
                <a:lnTo>
                  <a:pt x="930" y="6"/>
                </a:lnTo>
                <a:lnTo>
                  <a:pt x="953" y="17"/>
                </a:lnTo>
                <a:lnTo>
                  <a:pt x="987" y="23"/>
                </a:lnTo>
                <a:lnTo>
                  <a:pt x="1015" y="40"/>
                </a:lnTo>
                <a:lnTo>
                  <a:pt x="1038" y="63"/>
                </a:lnTo>
                <a:lnTo>
                  <a:pt x="1055" y="80"/>
                </a:lnTo>
                <a:lnTo>
                  <a:pt x="1061" y="97"/>
                </a:lnTo>
                <a:lnTo>
                  <a:pt x="1066" y="102"/>
                </a:lnTo>
                <a:lnTo>
                  <a:pt x="1061" y="114"/>
                </a:lnTo>
                <a:lnTo>
                  <a:pt x="1061" y="119"/>
                </a:lnTo>
                <a:lnTo>
                  <a:pt x="1049" y="131"/>
                </a:lnTo>
                <a:lnTo>
                  <a:pt x="1027" y="142"/>
                </a:lnTo>
                <a:lnTo>
                  <a:pt x="993" y="153"/>
                </a:lnTo>
                <a:lnTo>
                  <a:pt x="970" y="165"/>
                </a:lnTo>
                <a:lnTo>
                  <a:pt x="942" y="176"/>
                </a:lnTo>
                <a:lnTo>
                  <a:pt x="913" y="182"/>
                </a:lnTo>
                <a:lnTo>
                  <a:pt x="874" y="193"/>
                </a:lnTo>
                <a:lnTo>
                  <a:pt x="828" y="204"/>
                </a:lnTo>
                <a:lnTo>
                  <a:pt x="783" y="216"/>
                </a:lnTo>
                <a:lnTo>
                  <a:pt x="726" y="227"/>
                </a:lnTo>
                <a:lnTo>
                  <a:pt x="669" y="238"/>
                </a:lnTo>
                <a:lnTo>
                  <a:pt x="607" y="250"/>
                </a:lnTo>
                <a:lnTo>
                  <a:pt x="550" y="261"/>
                </a:lnTo>
                <a:lnTo>
                  <a:pt x="494" y="272"/>
                </a:lnTo>
                <a:lnTo>
                  <a:pt x="443" y="284"/>
                </a:lnTo>
                <a:lnTo>
                  <a:pt x="397" y="289"/>
                </a:lnTo>
                <a:lnTo>
                  <a:pt x="358" y="301"/>
                </a:lnTo>
                <a:lnTo>
                  <a:pt x="323" y="306"/>
                </a:lnTo>
                <a:lnTo>
                  <a:pt x="289" y="312"/>
                </a:lnTo>
                <a:lnTo>
                  <a:pt x="233" y="323"/>
                </a:lnTo>
                <a:lnTo>
                  <a:pt x="176" y="329"/>
                </a:lnTo>
                <a:lnTo>
                  <a:pt x="125" y="323"/>
                </a:lnTo>
                <a:lnTo>
                  <a:pt x="85" y="312"/>
                </a:lnTo>
                <a:lnTo>
                  <a:pt x="63" y="306"/>
                </a:lnTo>
                <a:lnTo>
                  <a:pt x="46" y="301"/>
                </a:lnTo>
                <a:lnTo>
                  <a:pt x="34" y="295"/>
                </a:lnTo>
                <a:lnTo>
                  <a:pt x="23" y="284"/>
                </a:lnTo>
                <a:lnTo>
                  <a:pt x="6" y="272"/>
                </a:lnTo>
                <a:lnTo>
                  <a:pt x="0" y="261"/>
                </a:lnTo>
                <a:lnTo>
                  <a:pt x="0" y="261"/>
                </a:lnTo>
                <a:lnTo>
                  <a:pt x="6" y="255"/>
                </a:lnTo>
                <a:lnTo>
                  <a:pt x="17" y="255"/>
                </a:lnTo>
                <a:lnTo>
                  <a:pt x="29" y="250"/>
                </a:lnTo>
                <a:lnTo>
                  <a:pt x="46" y="244"/>
                </a:lnTo>
                <a:lnTo>
                  <a:pt x="63" y="238"/>
                </a:lnTo>
                <a:lnTo>
                  <a:pt x="85" y="233"/>
                </a:lnTo>
                <a:lnTo>
                  <a:pt x="108" y="227"/>
                </a:lnTo>
                <a:lnTo>
                  <a:pt x="136" y="216"/>
                </a:lnTo>
                <a:lnTo>
                  <a:pt x="170" y="204"/>
                </a:lnTo>
                <a:lnTo>
                  <a:pt x="204" y="199"/>
                </a:lnTo>
                <a:lnTo>
                  <a:pt x="244" y="187"/>
                </a:lnTo>
                <a:lnTo>
                  <a:pt x="284" y="176"/>
                </a:lnTo>
                <a:lnTo>
                  <a:pt x="329" y="159"/>
                </a:lnTo>
                <a:lnTo>
                  <a:pt x="380" y="148"/>
                </a:lnTo>
                <a:lnTo>
                  <a:pt x="431" y="131"/>
                </a:lnTo>
                <a:lnTo>
                  <a:pt x="431" y="131"/>
                </a:lnTo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038480" y="2895480"/>
            <a:ext cx="533520" cy="217440"/>
          </a:xfrm>
          <a:custGeom>
            <a:avLst/>
            <a:gdLst/>
            <a:ahLst/>
            <a:rect l="l" t="t" r="r" b="b"/>
            <a:pathLst>
              <a:path w="1066" h="329">
                <a:moveTo>
                  <a:pt x="431" y="131"/>
                </a:moveTo>
                <a:lnTo>
                  <a:pt x="482" y="114"/>
                </a:lnTo>
                <a:lnTo>
                  <a:pt x="533" y="102"/>
                </a:lnTo>
                <a:lnTo>
                  <a:pt x="579" y="85"/>
                </a:lnTo>
                <a:lnTo>
                  <a:pt x="618" y="74"/>
                </a:lnTo>
                <a:lnTo>
                  <a:pt x="664" y="63"/>
                </a:lnTo>
                <a:lnTo>
                  <a:pt x="698" y="51"/>
                </a:lnTo>
                <a:lnTo>
                  <a:pt x="732" y="46"/>
                </a:lnTo>
                <a:lnTo>
                  <a:pt x="760" y="34"/>
                </a:lnTo>
                <a:lnTo>
                  <a:pt x="789" y="29"/>
                </a:lnTo>
                <a:lnTo>
                  <a:pt x="811" y="17"/>
                </a:lnTo>
                <a:lnTo>
                  <a:pt x="834" y="12"/>
                </a:lnTo>
                <a:lnTo>
                  <a:pt x="851" y="12"/>
                </a:lnTo>
                <a:lnTo>
                  <a:pt x="868" y="6"/>
                </a:lnTo>
                <a:lnTo>
                  <a:pt x="879" y="0"/>
                </a:lnTo>
                <a:lnTo>
                  <a:pt x="885" y="0"/>
                </a:lnTo>
                <a:lnTo>
                  <a:pt x="891" y="0"/>
                </a:lnTo>
                <a:lnTo>
                  <a:pt x="908" y="0"/>
                </a:lnTo>
                <a:lnTo>
                  <a:pt x="930" y="6"/>
                </a:lnTo>
                <a:lnTo>
                  <a:pt x="953" y="17"/>
                </a:lnTo>
                <a:lnTo>
                  <a:pt x="987" y="23"/>
                </a:lnTo>
                <a:lnTo>
                  <a:pt x="1015" y="40"/>
                </a:lnTo>
                <a:lnTo>
                  <a:pt x="1038" y="63"/>
                </a:lnTo>
                <a:lnTo>
                  <a:pt x="1055" y="80"/>
                </a:lnTo>
                <a:lnTo>
                  <a:pt x="1061" y="97"/>
                </a:lnTo>
                <a:lnTo>
                  <a:pt x="1066" y="102"/>
                </a:lnTo>
                <a:lnTo>
                  <a:pt x="1061" y="114"/>
                </a:lnTo>
                <a:lnTo>
                  <a:pt x="1061" y="119"/>
                </a:lnTo>
                <a:lnTo>
                  <a:pt x="1049" y="131"/>
                </a:lnTo>
                <a:lnTo>
                  <a:pt x="1027" y="142"/>
                </a:lnTo>
                <a:lnTo>
                  <a:pt x="993" y="153"/>
                </a:lnTo>
                <a:lnTo>
                  <a:pt x="970" y="165"/>
                </a:lnTo>
                <a:lnTo>
                  <a:pt x="942" y="176"/>
                </a:lnTo>
                <a:lnTo>
                  <a:pt x="913" y="182"/>
                </a:lnTo>
                <a:lnTo>
                  <a:pt x="874" y="193"/>
                </a:lnTo>
                <a:lnTo>
                  <a:pt x="828" y="204"/>
                </a:lnTo>
                <a:lnTo>
                  <a:pt x="783" y="216"/>
                </a:lnTo>
                <a:lnTo>
                  <a:pt x="726" y="227"/>
                </a:lnTo>
                <a:lnTo>
                  <a:pt x="669" y="238"/>
                </a:lnTo>
                <a:lnTo>
                  <a:pt x="607" y="250"/>
                </a:lnTo>
                <a:lnTo>
                  <a:pt x="550" y="261"/>
                </a:lnTo>
                <a:lnTo>
                  <a:pt x="494" y="272"/>
                </a:lnTo>
                <a:lnTo>
                  <a:pt x="443" y="284"/>
                </a:lnTo>
                <a:lnTo>
                  <a:pt x="397" y="289"/>
                </a:lnTo>
                <a:lnTo>
                  <a:pt x="358" y="301"/>
                </a:lnTo>
                <a:lnTo>
                  <a:pt x="323" y="306"/>
                </a:lnTo>
                <a:lnTo>
                  <a:pt x="289" y="312"/>
                </a:lnTo>
                <a:lnTo>
                  <a:pt x="233" y="323"/>
                </a:lnTo>
                <a:lnTo>
                  <a:pt x="176" y="329"/>
                </a:lnTo>
                <a:lnTo>
                  <a:pt x="125" y="323"/>
                </a:lnTo>
                <a:lnTo>
                  <a:pt x="85" y="312"/>
                </a:lnTo>
                <a:lnTo>
                  <a:pt x="63" y="306"/>
                </a:lnTo>
                <a:lnTo>
                  <a:pt x="46" y="301"/>
                </a:lnTo>
                <a:lnTo>
                  <a:pt x="34" y="295"/>
                </a:lnTo>
                <a:lnTo>
                  <a:pt x="23" y="284"/>
                </a:lnTo>
                <a:lnTo>
                  <a:pt x="6" y="272"/>
                </a:lnTo>
                <a:lnTo>
                  <a:pt x="0" y="261"/>
                </a:lnTo>
                <a:lnTo>
                  <a:pt x="0" y="261"/>
                </a:lnTo>
                <a:lnTo>
                  <a:pt x="6" y="255"/>
                </a:lnTo>
                <a:lnTo>
                  <a:pt x="17" y="255"/>
                </a:lnTo>
                <a:lnTo>
                  <a:pt x="29" y="250"/>
                </a:lnTo>
                <a:lnTo>
                  <a:pt x="46" y="244"/>
                </a:lnTo>
                <a:lnTo>
                  <a:pt x="63" y="238"/>
                </a:lnTo>
                <a:lnTo>
                  <a:pt x="85" y="233"/>
                </a:lnTo>
                <a:lnTo>
                  <a:pt x="108" y="227"/>
                </a:lnTo>
                <a:lnTo>
                  <a:pt x="136" y="216"/>
                </a:lnTo>
                <a:lnTo>
                  <a:pt x="170" y="204"/>
                </a:lnTo>
                <a:lnTo>
                  <a:pt x="204" y="199"/>
                </a:lnTo>
                <a:lnTo>
                  <a:pt x="244" y="187"/>
                </a:lnTo>
                <a:lnTo>
                  <a:pt x="284" y="176"/>
                </a:lnTo>
                <a:lnTo>
                  <a:pt x="329" y="159"/>
                </a:lnTo>
                <a:lnTo>
                  <a:pt x="380" y="148"/>
                </a:lnTo>
                <a:lnTo>
                  <a:pt x="431" y="131"/>
                </a:lnTo>
                <a:lnTo>
                  <a:pt x="431" y="131"/>
                </a:lnTo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048120" y="3200400"/>
            <a:ext cx="2743200" cy="380880"/>
          </a:xfrm>
          <a:custGeom>
            <a:avLst/>
            <a:gdLst/>
            <a:ahLst/>
            <a:rect l="l" t="t" r="r" b="b"/>
            <a:pathLst>
              <a:path w="1850" h="351">
                <a:moveTo>
                  <a:pt x="500" y="289"/>
                </a:moveTo>
                <a:lnTo>
                  <a:pt x="432" y="300"/>
                </a:lnTo>
                <a:lnTo>
                  <a:pt x="375" y="317"/>
                </a:lnTo>
                <a:lnTo>
                  <a:pt x="324" y="329"/>
                </a:lnTo>
                <a:lnTo>
                  <a:pt x="278" y="334"/>
                </a:lnTo>
                <a:lnTo>
                  <a:pt x="244" y="340"/>
                </a:lnTo>
                <a:lnTo>
                  <a:pt x="216" y="346"/>
                </a:lnTo>
                <a:lnTo>
                  <a:pt x="193" y="346"/>
                </a:lnTo>
                <a:lnTo>
                  <a:pt x="182" y="351"/>
                </a:lnTo>
                <a:lnTo>
                  <a:pt x="159" y="346"/>
                </a:lnTo>
                <a:lnTo>
                  <a:pt x="137" y="340"/>
                </a:lnTo>
                <a:lnTo>
                  <a:pt x="114" y="329"/>
                </a:lnTo>
                <a:lnTo>
                  <a:pt x="85" y="312"/>
                </a:lnTo>
                <a:lnTo>
                  <a:pt x="57" y="300"/>
                </a:lnTo>
                <a:lnTo>
                  <a:pt x="34" y="289"/>
                </a:lnTo>
                <a:lnTo>
                  <a:pt x="17" y="272"/>
                </a:lnTo>
                <a:lnTo>
                  <a:pt x="6" y="261"/>
                </a:lnTo>
                <a:lnTo>
                  <a:pt x="0" y="255"/>
                </a:lnTo>
                <a:lnTo>
                  <a:pt x="0" y="249"/>
                </a:lnTo>
                <a:lnTo>
                  <a:pt x="0" y="244"/>
                </a:lnTo>
                <a:lnTo>
                  <a:pt x="6" y="238"/>
                </a:lnTo>
                <a:lnTo>
                  <a:pt x="23" y="232"/>
                </a:lnTo>
                <a:lnTo>
                  <a:pt x="51" y="232"/>
                </a:lnTo>
                <a:lnTo>
                  <a:pt x="85" y="232"/>
                </a:lnTo>
                <a:lnTo>
                  <a:pt x="119" y="227"/>
                </a:lnTo>
                <a:lnTo>
                  <a:pt x="165" y="221"/>
                </a:lnTo>
                <a:lnTo>
                  <a:pt x="205" y="215"/>
                </a:lnTo>
                <a:lnTo>
                  <a:pt x="227" y="210"/>
                </a:lnTo>
                <a:lnTo>
                  <a:pt x="256" y="210"/>
                </a:lnTo>
                <a:lnTo>
                  <a:pt x="284" y="204"/>
                </a:lnTo>
                <a:lnTo>
                  <a:pt x="324" y="198"/>
                </a:lnTo>
                <a:lnTo>
                  <a:pt x="363" y="193"/>
                </a:lnTo>
                <a:lnTo>
                  <a:pt x="415" y="187"/>
                </a:lnTo>
                <a:lnTo>
                  <a:pt x="466" y="181"/>
                </a:lnTo>
                <a:lnTo>
                  <a:pt x="528" y="170"/>
                </a:lnTo>
                <a:lnTo>
                  <a:pt x="590" y="159"/>
                </a:lnTo>
                <a:lnTo>
                  <a:pt x="658" y="147"/>
                </a:lnTo>
                <a:lnTo>
                  <a:pt x="732" y="136"/>
                </a:lnTo>
                <a:lnTo>
                  <a:pt x="812" y="125"/>
                </a:lnTo>
                <a:lnTo>
                  <a:pt x="891" y="108"/>
                </a:lnTo>
                <a:lnTo>
                  <a:pt x="982" y="96"/>
                </a:lnTo>
                <a:lnTo>
                  <a:pt x="1073" y="79"/>
                </a:lnTo>
                <a:lnTo>
                  <a:pt x="1175" y="62"/>
                </a:lnTo>
                <a:lnTo>
                  <a:pt x="1266" y="45"/>
                </a:lnTo>
                <a:lnTo>
                  <a:pt x="1351" y="34"/>
                </a:lnTo>
                <a:lnTo>
                  <a:pt x="1424" y="23"/>
                </a:lnTo>
                <a:lnTo>
                  <a:pt x="1493" y="11"/>
                </a:lnTo>
                <a:lnTo>
                  <a:pt x="1544" y="6"/>
                </a:lnTo>
                <a:lnTo>
                  <a:pt x="1583" y="0"/>
                </a:lnTo>
                <a:lnTo>
                  <a:pt x="1617" y="0"/>
                </a:lnTo>
                <a:lnTo>
                  <a:pt x="1640" y="0"/>
                </a:lnTo>
                <a:lnTo>
                  <a:pt x="1668" y="6"/>
                </a:lnTo>
                <a:lnTo>
                  <a:pt x="1702" y="17"/>
                </a:lnTo>
                <a:lnTo>
                  <a:pt x="1737" y="34"/>
                </a:lnTo>
                <a:lnTo>
                  <a:pt x="1771" y="51"/>
                </a:lnTo>
                <a:lnTo>
                  <a:pt x="1799" y="74"/>
                </a:lnTo>
                <a:lnTo>
                  <a:pt x="1822" y="96"/>
                </a:lnTo>
                <a:lnTo>
                  <a:pt x="1839" y="113"/>
                </a:lnTo>
                <a:lnTo>
                  <a:pt x="1844" y="136"/>
                </a:lnTo>
                <a:lnTo>
                  <a:pt x="1850" y="153"/>
                </a:lnTo>
                <a:lnTo>
                  <a:pt x="1850" y="164"/>
                </a:lnTo>
                <a:lnTo>
                  <a:pt x="1850" y="170"/>
                </a:lnTo>
                <a:lnTo>
                  <a:pt x="1844" y="170"/>
                </a:lnTo>
                <a:lnTo>
                  <a:pt x="1839" y="170"/>
                </a:lnTo>
                <a:lnTo>
                  <a:pt x="1822" y="176"/>
                </a:lnTo>
                <a:lnTo>
                  <a:pt x="1799" y="176"/>
                </a:lnTo>
                <a:lnTo>
                  <a:pt x="1776" y="176"/>
                </a:lnTo>
                <a:lnTo>
                  <a:pt x="1742" y="176"/>
                </a:lnTo>
                <a:lnTo>
                  <a:pt x="1702" y="176"/>
                </a:lnTo>
                <a:lnTo>
                  <a:pt x="1663" y="176"/>
                </a:lnTo>
                <a:lnTo>
                  <a:pt x="1612" y="170"/>
                </a:lnTo>
                <a:lnTo>
                  <a:pt x="1561" y="164"/>
                </a:lnTo>
                <a:lnTo>
                  <a:pt x="1515" y="164"/>
                </a:lnTo>
                <a:lnTo>
                  <a:pt x="1470" y="164"/>
                </a:lnTo>
                <a:lnTo>
                  <a:pt x="1430" y="164"/>
                </a:lnTo>
                <a:lnTo>
                  <a:pt x="1396" y="159"/>
                </a:lnTo>
                <a:lnTo>
                  <a:pt x="1362" y="159"/>
                </a:lnTo>
                <a:lnTo>
                  <a:pt x="1334" y="159"/>
                </a:lnTo>
                <a:lnTo>
                  <a:pt x="1311" y="159"/>
                </a:lnTo>
                <a:lnTo>
                  <a:pt x="1288" y="164"/>
                </a:lnTo>
                <a:lnTo>
                  <a:pt x="1260" y="170"/>
                </a:lnTo>
                <a:lnTo>
                  <a:pt x="1226" y="170"/>
                </a:lnTo>
                <a:lnTo>
                  <a:pt x="1186" y="176"/>
                </a:lnTo>
                <a:lnTo>
                  <a:pt x="1146" y="181"/>
                </a:lnTo>
                <a:lnTo>
                  <a:pt x="1107" y="187"/>
                </a:lnTo>
                <a:lnTo>
                  <a:pt x="1061" y="193"/>
                </a:lnTo>
                <a:lnTo>
                  <a:pt x="1010" y="198"/>
                </a:lnTo>
                <a:lnTo>
                  <a:pt x="897" y="210"/>
                </a:lnTo>
                <a:lnTo>
                  <a:pt x="772" y="232"/>
                </a:lnTo>
                <a:lnTo>
                  <a:pt x="641" y="255"/>
                </a:lnTo>
                <a:lnTo>
                  <a:pt x="573" y="272"/>
                </a:lnTo>
                <a:lnTo>
                  <a:pt x="500" y="289"/>
                </a:lnTo>
                <a:lnTo>
                  <a:pt x="500" y="289"/>
                </a:lnTo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3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4411440" y="646200"/>
            <a:ext cx="4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识字（一）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340000" y="2565360"/>
            <a:ext cx="424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Arial"/>
                <a:ea typeface="楷体_GB2312"/>
              </a:rPr>
              <a:t>（</a:t>
            </a:r>
            <a:r>
              <a:rPr b="0" lang="zh-CN" sz="8000" spc="-1" strike="noStrike">
                <a:solidFill>
                  <a:srgbClr val="ff3300"/>
                </a:solidFill>
                <a:latin typeface="Arial"/>
                <a:ea typeface="楷体_GB2312"/>
              </a:rPr>
              <a:t>耳</a:t>
            </a:r>
            <a:r>
              <a:rPr b="0" lang="zh-CN" sz="8000" spc="-1" strike="noStrike">
                <a:solidFill>
                  <a:srgbClr val="ffffff"/>
                </a:solidFill>
                <a:latin typeface="Arial"/>
                <a:ea typeface="楷体_GB2312"/>
              </a:rPr>
              <a:t>机）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124000" y="1197000"/>
            <a:ext cx="424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8000" spc="-1" strike="noStrike">
                <a:solidFill>
                  <a:srgbClr val="ffffff"/>
                </a:solidFill>
                <a:latin typeface="Arial"/>
                <a:ea typeface="楷体_GB2312"/>
              </a:rPr>
              <a:t>木</a:t>
            </a:r>
            <a:r>
              <a:rPr b="0" lang="zh-CN" sz="8000" spc="-1" strike="noStrike">
                <a:solidFill>
                  <a:srgbClr val="ff3300"/>
                </a:solidFill>
                <a:latin typeface="Arial"/>
                <a:ea typeface="楷体_GB2312"/>
              </a:rPr>
              <a:t>耳</a:t>
            </a:r>
            <a:r>
              <a:rPr b="0" lang="zh-CN" sz="8000" spc="-1" strike="noStrike">
                <a:solidFill>
                  <a:srgbClr val="ffffff"/>
                </a:solidFill>
                <a:latin typeface="Arial"/>
                <a:ea typeface="楷体_GB2312"/>
              </a:rPr>
              <a:t>）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411280" y="4221000"/>
            <a:ext cx="381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Arial"/>
                <a:ea typeface="楷体_GB2312"/>
              </a:rPr>
              <a:t>（耳</a:t>
            </a:r>
            <a:r>
              <a:rPr b="0" lang="zh-CN" sz="8000" spc="-1" strike="noStrike">
                <a:solidFill>
                  <a:srgbClr val="ffffff"/>
                </a:solidFill>
                <a:latin typeface="Arial"/>
                <a:ea typeface="楷体_GB2312"/>
              </a:rPr>
              <a:t>目）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62120" y="2209680"/>
            <a:ext cx="186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宋体"/>
                <a:ea typeface="Arial"/>
              </a:rPr>
              <a:t>ě</a:t>
            </a:r>
            <a:r>
              <a:rPr b="0" lang="zh-CN" sz="7200" spc="-1" strike="noStrike">
                <a:solidFill>
                  <a:srgbClr val="ff3300"/>
                </a:solidFill>
                <a:latin typeface="宋体"/>
                <a:ea typeface="Arial"/>
              </a:rPr>
              <a:t>r</a:t>
            </a:r>
            <a:r>
              <a:rPr b="0" lang="zh-CN" sz="7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耳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2057400" y="609480"/>
            <a:ext cx="4678200" cy="472752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3444840" y="1763640"/>
            <a:ext cx="1517760" cy="2406600"/>
          </a:xfrm>
          <a:custGeom>
            <a:avLst/>
            <a:gdLst/>
            <a:ahLst/>
            <a:rect l="l" t="t" r="r" b="b"/>
            <a:pathLst>
              <a:path w="956" h="1516">
                <a:moveTo>
                  <a:pt x="0" y="1516"/>
                </a:moveTo>
                <a:lnTo>
                  <a:pt x="0" y="1509"/>
                </a:lnTo>
                <a:lnTo>
                  <a:pt x="7" y="1502"/>
                </a:lnTo>
                <a:lnTo>
                  <a:pt x="21" y="1487"/>
                </a:lnTo>
                <a:lnTo>
                  <a:pt x="43" y="1473"/>
                </a:lnTo>
                <a:lnTo>
                  <a:pt x="64" y="1459"/>
                </a:lnTo>
                <a:lnTo>
                  <a:pt x="99" y="1438"/>
                </a:lnTo>
                <a:lnTo>
                  <a:pt x="142" y="1417"/>
                </a:lnTo>
                <a:lnTo>
                  <a:pt x="184" y="1395"/>
                </a:lnTo>
                <a:lnTo>
                  <a:pt x="276" y="1346"/>
                </a:lnTo>
                <a:lnTo>
                  <a:pt x="361" y="1282"/>
                </a:lnTo>
                <a:lnTo>
                  <a:pt x="439" y="1218"/>
                </a:lnTo>
                <a:lnTo>
                  <a:pt x="510" y="1140"/>
                </a:lnTo>
                <a:lnTo>
                  <a:pt x="574" y="1062"/>
                </a:lnTo>
                <a:lnTo>
                  <a:pt x="623" y="992"/>
                </a:lnTo>
                <a:lnTo>
                  <a:pt x="652" y="956"/>
                </a:lnTo>
                <a:lnTo>
                  <a:pt x="666" y="914"/>
                </a:lnTo>
                <a:lnTo>
                  <a:pt x="687" y="878"/>
                </a:lnTo>
                <a:lnTo>
                  <a:pt x="701" y="850"/>
                </a:lnTo>
                <a:lnTo>
                  <a:pt x="744" y="701"/>
                </a:lnTo>
                <a:lnTo>
                  <a:pt x="779" y="553"/>
                </a:lnTo>
                <a:lnTo>
                  <a:pt x="793" y="482"/>
                </a:lnTo>
                <a:lnTo>
                  <a:pt x="808" y="404"/>
                </a:lnTo>
                <a:lnTo>
                  <a:pt x="815" y="319"/>
                </a:lnTo>
                <a:lnTo>
                  <a:pt x="815" y="234"/>
                </a:lnTo>
                <a:lnTo>
                  <a:pt x="815" y="191"/>
                </a:lnTo>
                <a:lnTo>
                  <a:pt x="815" y="156"/>
                </a:lnTo>
                <a:lnTo>
                  <a:pt x="808" y="128"/>
                </a:lnTo>
                <a:lnTo>
                  <a:pt x="808" y="99"/>
                </a:lnTo>
                <a:lnTo>
                  <a:pt x="800" y="78"/>
                </a:lnTo>
                <a:lnTo>
                  <a:pt x="800" y="57"/>
                </a:lnTo>
                <a:lnTo>
                  <a:pt x="793" y="50"/>
                </a:lnTo>
                <a:lnTo>
                  <a:pt x="786" y="43"/>
                </a:lnTo>
                <a:lnTo>
                  <a:pt x="772" y="35"/>
                </a:lnTo>
                <a:lnTo>
                  <a:pt x="772" y="21"/>
                </a:lnTo>
                <a:lnTo>
                  <a:pt x="772" y="14"/>
                </a:lnTo>
                <a:lnTo>
                  <a:pt x="779" y="7"/>
                </a:lnTo>
                <a:lnTo>
                  <a:pt x="786" y="0"/>
                </a:lnTo>
                <a:lnTo>
                  <a:pt x="808" y="0"/>
                </a:lnTo>
                <a:lnTo>
                  <a:pt x="829" y="0"/>
                </a:lnTo>
                <a:lnTo>
                  <a:pt x="857" y="7"/>
                </a:lnTo>
                <a:lnTo>
                  <a:pt x="878" y="14"/>
                </a:lnTo>
                <a:lnTo>
                  <a:pt x="900" y="21"/>
                </a:lnTo>
                <a:lnTo>
                  <a:pt x="914" y="35"/>
                </a:lnTo>
                <a:lnTo>
                  <a:pt x="935" y="50"/>
                </a:lnTo>
                <a:lnTo>
                  <a:pt x="949" y="64"/>
                </a:lnTo>
                <a:lnTo>
                  <a:pt x="956" y="78"/>
                </a:lnTo>
                <a:lnTo>
                  <a:pt x="956" y="85"/>
                </a:lnTo>
                <a:lnTo>
                  <a:pt x="956" y="99"/>
                </a:lnTo>
                <a:lnTo>
                  <a:pt x="956" y="106"/>
                </a:lnTo>
                <a:lnTo>
                  <a:pt x="956" y="113"/>
                </a:lnTo>
                <a:lnTo>
                  <a:pt x="956" y="128"/>
                </a:lnTo>
                <a:lnTo>
                  <a:pt x="956" y="149"/>
                </a:lnTo>
                <a:lnTo>
                  <a:pt x="956" y="177"/>
                </a:lnTo>
                <a:lnTo>
                  <a:pt x="956" y="198"/>
                </a:lnTo>
                <a:lnTo>
                  <a:pt x="956" y="234"/>
                </a:lnTo>
                <a:lnTo>
                  <a:pt x="949" y="269"/>
                </a:lnTo>
                <a:lnTo>
                  <a:pt x="942" y="347"/>
                </a:lnTo>
                <a:lnTo>
                  <a:pt x="935" y="432"/>
                </a:lnTo>
                <a:lnTo>
                  <a:pt x="914" y="531"/>
                </a:lnTo>
                <a:lnTo>
                  <a:pt x="893" y="630"/>
                </a:lnTo>
                <a:lnTo>
                  <a:pt x="864" y="737"/>
                </a:lnTo>
                <a:lnTo>
                  <a:pt x="829" y="836"/>
                </a:lnTo>
                <a:lnTo>
                  <a:pt x="786" y="928"/>
                </a:lnTo>
                <a:lnTo>
                  <a:pt x="751" y="1013"/>
                </a:lnTo>
                <a:lnTo>
                  <a:pt x="694" y="1084"/>
                </a:lnTo>
                <a:lnTo>
                  <a:pt x="645" y="1155"/>
                </a:lnTo>
                <a:lnTo>
                  <a:pt x="581" y="1218"/>
                </a:lnTo>
                <a:lnTo>
                  <a:pt x="517" y="1275"/>
                </a:lnTo>
                <a:lnTo>
                  <a:pt x="446" y="1325"/>
                </a:lnTo>
                <a:lnTo>
                  <a:pt x="368" y="1374"/>
                </a:lnTo>
                <a:lnTo>
                  <a:pt x="283" y="1417"/>
                </a:lnTo>
                <a:lnTo>
                  <a:pt x="191" y="1459"/>
                </a:lnTo>
                <a:lnTo>
                  <a:pt x="149" y="1480"/>
                </a:lnTo>
                <a:lnTo>
                  <a:pt x="114" y="1495"/>
                </a:lnTo>
                <a:lnTo>
                  <a:pt x="78" y="1502"/>
                </a:lnTo>
                <a:lnTo>
                  <a:pt x="57" y="1509"/>
                </a:lnTo>
                <a:lnTo>
                  <a:pt x="29" y="1516"/>
                </a:lnTo>
                <a:lnTo>
                  <a:pt x="14" y="1516"/>
                </a:lnTo>
                <a:lnTo>
                  <a:pt x="7" y="1516"/>
                </a:lnTo>
                <a:lnTo>
                  <a:pt x="0" y="1516"/>
                </a:lnTo>
                <a:lnTo>
                  <a:pt x="0" y="1516"/>
                </a:lnTo>
              </a:path>
            </a:pathLst>
          </a:custGeom>
          <a:solidFill>
            <a:srgbClr val="0000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352680" y="2819520"/>
            <a:ext cx="2590920" cy="449280"/>
          </a:xfrm>
          <a:custGeom>
            <a:avLst/>
            <a:gdLst/>
            <a:ahLst/>
            <a:rect l="l" t="t" r="r" b="b"/>
            <a:pathLst>
              <a:path w="1721" h="283">
                <a:moveTo>
                  <a:pt x="1423" y="7"/>
                </a:moveTo>
                <a:lnTo>
                  <a:pt x="1473" y="7"/>
                </a:lnTo>
                <a:lnTo>
                  <a:pt x="1508" y="0"/>
                </a:lnTo>
                <a:lnTo>
                  <a:pt x="1544" y="0"/>
                </a:lnTo>
                <a:lnTo>
                  <a:pt x="1565" y="0"/>
                </a:lnTo>
                <a:lnTo>
                  <a:pt x="1586" y="7"/>
                </a:lnTo>
                <a:lnTo>
                  <a:pt x="1608" y="21"/>
                </a:lnTo>
                <a:lnTo>
                  <a:pt x="1629" y="35"/>
                </a:lnTo>
                <a:lnTo>
                  <a:pt x="1664" y="49"/>
                </a:lnTo>
                <a:lnTo>
                  <a:pt x="1686" y="71"/>
                </a:lnTo>
                <a:lnTo>
                  <a:pt x="1707" y="85"/>
                </a:lnTo>
                <a:lnTo>
                  <a:pt x="1714" y="99"/>
                </a:lnTo>
                <a:lnTo>
                  <a:pt x="1721" y="106"/>
                </a:lnTo>
                <a:lnTo>
                  <a:pt x="1714" y="113"/>
                </a:lnTo>
                <a:lnTo>
                  <a:pt x="1693" y="120"/>
                </a:lnTo>
                <a:lnTo>
                  <a:pt x="1671" y="120"/>
                </a:lnTo>
                <a:lnTo>
                  <a:pt x="1636" y="127"/>
                </a:lnTo>
                <a:lnTo>
                  <a:pt x="1593" y="127"/>
                </a:lnTo>
                <a:lnTo>
                  <a:pt x="1544" y="127"/>
                </a:lnTo>
                <a:lnTo>
                  <a:pt x="1480" y="127"/>
                </a:lnTo>
                <a:lnTo>
                  <a:pt x="1409" y="127"/>
                </a:lnTo>
                <a:lnTo>
                  <a:pt x="1331" y="127"/>
                </a:lnTo>
                <a:lnTo>
                  <a:pt x="1261" y="134"/>
                </a:lnTo>
                <a:lnTo>
                  <a:pt x="1197" y="134"/>
                </a:lnTo>
                <a:lnTo>
                  <a:pt x="1133" y="134"/>
                </a:lnTo>
                <a:lnTo>
                  <a:pt x="1069" y="141"/>
                </a:lnTo>
                <a:lnTo>
                  <a:pt x="1013" y="148"/>
                </a:lnTo>
                <a:lnTo>
                  <a:pt x="963" y="148"/>
                </a:lnTo>
                <a:lnTo>
                  <a:pt x="914" y="156"/>
                </a:lnTo>
                <a:lnTo>
                  <a:pt x="807" y="177"/>
                </a:lnTo>
                <a:lnTo>
                  <a:pt x="694" y="191"/>
                </a:lnTo>
                <a:lnTo>
                  <a:pt x="574" y="212"/>
                </a:lnTo>
                <a:lnTo>
                  <a:pt x="510" y="219"/>
                </a:lnTo>
                <a:lnTo>
                  <a:pt x="439" y="233"/>
                </a:lnTo>
                <a:lnTo>
                  <a:pt x="375" y="241"/>
                </a:lnTo>
                <a:lnTo>
                  <a:pt x="312" y="255"/>
                </a:lnTo>
                <a:lnTo>
                  <a:pt x="262" y="262"/>
                </a:lnTo>
                <a:lnTo>
                  <a:pt x="220" y="269"/>
                </a:lnTo>
                <a:lnTo>
                  <a:pt x="184" y="276"/>
                </a:lnTo>
                <a:lnTo>
                  <a:pt x="156" y="276"/>
                </a:lnTo>
                <a:lnTo>
                  <a:pt x="142" y="283"/>
                </a:lnTo>
                <a:lnTo>
                  <a:pt x="128" y="283"/>
                </a:lnTo>
                <a:lnTo>
                  <a:pt x="113" y="276"/>
                </a:lnTo>
                <a:lnTo>
                  <a:pt x="99" y="269"/>
                </a:lnTo>
                <a:lnTo>
                  <a:pt x="78" y="255"/>
                </a:lnTo>
                <a:lnTo>
                  <a:pt x="57" y="241"/>
                </a:lnTo>
                <a:lnTo>
                  <a:pt x="28" y="219"/>
                </a:lnTo>
                <a:lnTo>
                  <a:pt x="14" y="212"/>
                </a:lnTo>
                <a:lnTo>
                  <a:pt x="0" y="198"/>
                </a:lnTo>
                <a:lnTo>
                  <a:pt x="0" y="198"/>
                </a:lnTo>
                <a:lnTo>
                  <a:pt x="7" y="191"/>
                </a:lnTo>
                <a:lnTo>
                  <a:pt x="21" y="191"/>
                </a:lnTo>
                <a:lnTo>
                  <a:pt x="43" y="184"/>
                </a:lnTo>
                <a:lnTo>
                  <a:pt x="71" y="184"/>
                </a:lnTo>
                <a:lnTo>
                  <a:pt x="113" y="177"/>
                </a:lnTo>
                <a:lnTo>
                  <a:pt x="163" y="170"/>
                </a:lnTo>
                <a:lnTo>
                  <a:pt x="227" y="170"/>
                </a:lnTo>
                <a:lnTo>
                  <a:pt x="290" y="156"/>
                </a:lnTo>
                <a:lnTo>
                  <a:pt x="446" y="141"/>
                </a:lnTo>
                <a:lnTo>
                  <a:pt x="609" y="120"/>
                </a:lnTo>
                <a:lnTo>
                  <a:pt x="779" y="99"/>
                </a:lnTo>
                <a:lnTo>
                  <a:pt x="864" y="85"/>
                </a:lnTo>
                <a:lnTo>
                  <a:pt x="963" y="71"/>
                </a:lnTo>
                <a:lnTo>
                  <a:pt x="1048" y="64"/>
                </a:lnTo>
                <a:lnTo>
                  <a:pt x="1126" y="49"/>
                </a:lnTo>
                <a:lnTo>
                  <a:pt x="1197" y="42"/>
                </a:lnTo>
                <a:lnTo>
                  <a:pt x="1261" y="28"/>
                </a:lnTo>
                <a:lnTo>
                  <a:pt x="1317" y="21"/>
                </a:lnTo>
                <a:lnTo>
                  <a:pt x="1360" y="14"/>
                </a:lnTo>
                <a:lnTo>
                  <a:pt x="1395" y="14"/>
                </a:lnTo>
                <a:lnTo>
                  <a:pt x="1423" y="7"/>
                </a:lnTo>
                <a:lnTo>
                  <a:pt x="1423" y="7"/>
                </a:lnTo>
              </a:path>
            </a:pathLst>
          </a:custGeom>
          <a:solidFill>
            <a:srgbClr val="0000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794040" y="2529000"/>
            <a:ext cx="438120" cy="325440"/>
          </a:xfrm>
          <a:custGeom>
            <a:avLst/>
            <a:gdLst/>
            <a:ahLst/>
            <a:rect l="l" t="t" r="r" b="b"/>
            <a:pathLst>
              <a:path w="276" h="205">
                <a:moveTo>
                  <a:pt x="0" y="14"/>
                </a:moveTo>
                <a:lnTo>
                  <a:pt x="7" y="7"/>
                </a:lnTo>
                <a:lnTo>
                  <a:pt x="21" y="7"/>
                </a:lnTo>
                <a:lnTo>
                  <a:pt x="49" y="0"/>
                </a:lnTo>
                <a:lnTo>
                  <a:pt x="78" y="0"/>
                </a:lnTo>
                <a:lnTo>
                  <a:pt x="113" y="0"/>
                </a:lnTo>
                <a:lnTo>
                  <a:pt x="148" y="7"/>
                </a:lnTo>
                <a:lnTo>
                  <a:pt x="177" y="21"/>
                </a:lnTo>
                <a:lnTo>
                  <a:pt x="212" y="35"/>
                </a:lnTo>
                <a:lnTo>
                  <a:pt x="241" y="56"/>
                </a:lnTo>
                <a:lnTo>
                  <a:pt x="255" y="85"/>
                </a:lnTo>
                <a:lnTo>
                  <a:pt x="269" y="113"/>
                </a:lnTo>
                <a:lnTo>
                  <a:pt x="276" y="134"/>
                </a:lnTo>
                <a:lnTo>
                  <a:pt x="269" y="163"/>
                </a:lnTo>
                <a:lnTo>
                  <a:pt x="269" y="177"/>
                </a:lnTo>
                <a:lnTo>
                  <a:pt x="262" y="191"/>
                </a:lnTo>
                <a:lnTo>
                  <a:pt x="262" y="198"/>
                </a:lnTo>
                <a:lnTo>
                  <a:pt x="248" y="205"/>
                </a:lnTo>
                <a:lnTo>
                  <a:pt x="226" y="198"/>
                </a:lnTo>
                <a:lnTo>
                  <a:pt x="198" y="184"/>
                </a:lnTo>
                <a:lnTo>
                  <a:pt x="163" y="156"/>
                </a:lnTo>
                <a:lnTo>
                  <a:pt x="120" y="134"/>
                </a:lnTo>
                <a:lnTo>
                  <a:pt x="85" y="106"/>
                </a:lnTo>
                <a:lnTo>
                  <a:pt x="63" y="85"/>
                </a:lnTo>
                <a:lnTo>
                  <a:pt x="42" y="63"/>
                </a:lnTo>
                <a:lnTo>
                  <a:pt x="21" y="42"/>
                </a:lnTo>
                <a:lnTo>
                  <a:pt x="7" y="35"/>
                </a:lnTo>
                <a:lnTo>
                  <a:pt x="0" y="21"/>
                </a:lnTo>
                <a:lnTo>
                  <a:pt x="0" y="14"/>
                </a:lnTo>
                <a:lnTo>
                  <a:pt x="0" y="14"/>
                </a:lnTo>
              </a:path>
            </a:pathLst>
          </a:custGeom>
          <a:solidFill>
            <a:srgbClr val="0000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94120" y="2077920"/>
            <a:ext cx="528480" cy="316080"/>
          </a:xfrm>
          <a:custGeom>
            <a:avLst/>
            <a:gdLst/>
            <a:ahLst/>
            <a:rect l="l" t="t" r="r" b="b"/>
            <a:pathLst>
              <a:path w="333" h="199">
                <a:moveTo>
                  <a:pt x="64" y="7"/>
                </a:moveTo>
                <a:lnTo>
                  <a:pt x="100" y="0"/>
                </a:lnTo>
                <a:lnTo>
                  <a:pt x="142" y="7"/>
                </a:lnTo>
                <a:lnTo>
                  <a:pt x="185" y="15"/>
                </a:lnTo>
                <a:lnTo>
                  <a:pt x="234" y="29"/>
                </a:lnTo>
                <a:lnTo>
                  <a:pt x="263" y="36"/>
                </a:lnTo>
                <a:lnTo>
                  <a:pt x="277" y="43"/>
                </a:lnTo>
                <a:lnTo>
                  <a:pt x="298" y="57"/>
                </a:lnTo>
                <a:lnTo>
                  <a:pt x="312" y="71"/>
                </a:lnTo>
                <a:lnTo>
                  <a:pt x="319" y="85"/>
                </a:lnTo>
                <a:lnTo>
                  <a:pt x="326" y="100"/>
                </a:lnTo>
                <a:lnTo>
                  <a:pt x="333" y="114"/>
                </a:lnTo>
                <a:lnTo>
                  <a:pt x="333" y="128"/>
                </a:lnTo>
                <a:lnTo>
                  <a:pt x="333" y="156"/>
                </a:lnTo>
                <a:lnTo>
                  <a:pt x="333" y="177"/>
                </a:lnTo>
                <a:lnTo>
                  <a:pt x="333" y="192"/>
                </a:lnTo>
                <a:lnTo>
                  <a:pt x="326" y="199"/>
                </a:lnTo>
                <a:lnTo>
                  <a:pt x="319" y="199"/>
                </a:lnTo>
                <a:lnTo>
                  <a:pt x="312" y="199"/>
                </a:lnTo>
                <a:lnTo>
                  <a:pt x="305" y="199"/>
                </a:lnTo>
                <a:lnTo>
                  <a:pt x="291" y="192"/>
                </a:lnTo>
                <a:lnTo>
                  <a:pt x="270" y="185"/>
                </a:lnTo>
                <a:lnTo>
                  <a:pt x="255" y="177"/>
                </a:lnTo>
                <a:lnTo>
                  <a:pt x="227" y="170"/>
                </a:lnTo>
                <a:lnTo>
                  <a:pt x="206" y="156"/>
                </a:lnTo>
                <a:lnTo>
                  <a:pt x="149" y="128"/>
                </a:lnTo>
                <a:lnTo>
                  <a:pt x="107" y="107"/>
                </a:lnTo>
                <a:lnTo>
                  <a:pt x="71" y="85"/>
                </a:lnTo>
                <a:lnTo>
                  <a:pt x="43" y="71"/>
                </a:lnTo>
                <a:lnTo>
                  <a:pt x="22" y="57"/>
                </a:lnTo>
                <a:lnTo>
                  <a:pt x="8" y="43"/>
                </a:lnTo>
                <a:lnTo>
                  <a:pt x="0" y="36"/>
                </a:lnTo>
                <a:lnTo>
                  <a:pt x="0" y="29"/>
                </a:lnTo>
                <a:lnTo>
                  <a:pt x="8" y="22"/>
                </a:lnTo>
                <a:lnTo>
                  <a:pt x="15" y="15"/>
                </a:lnTo>
                <a:lnTo>
                  <a:pt x="36" y="15"/>
                </a:lnTo>
                <a:lnTo>
                  <a:pt x="64" y="7"/>
                </a:lnTo>
                <a:lnTo>
                  <a:pt x="64" y="7"/>
                </a:lnTo>
              </a:path>
            </a:pathLst>
          </a:custGeom>
          <a:solidFill>
            <a:srgbClr val="0000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800600" y="3505320"/>
            <a:ext cx="808200" cy="707760"/>
          </a:xfrm>
          <a:custGeom>
            <a:avLst/>
            <a:gdLst/>
            <a:ahLst/>
            <a:rect l="l" t="t" r="r" b="b"/>
            <a:pathLst>
              <a:path w="509" h="446">
                <a:moveTo>
                  <a:pt x="509" y="396"/>
                </a:moveTo>
                <a:lnTo>
                  <a:pt x="502" y="418"/>
                </a:lnTo>
                <a:lnTo>
                  <a:pt x="495" y="439"/>
                </a:lnTo>
                <a:lnTo>
                  <a:pt x="488" y="446"/>
                </a:lnTo>
                <a:lnTo>
                  <a:pt x="481" y="446"/>
                </a:lnTo>
                <a:lnTo>
                  <a:pt x="474" y="446"/>
                </a:lnTo>
                <a:lnTo>
                  <a:pt x="460" y="439"/>
                </a:lnTo>
                <a:lnTo>
                  <a:pt x="446" y="432"/>
                </a:lnTo>
                <a:lnTo>
                  <a:pt x="424" y="418"/>
                </a:lnTo>
                <a:lnTo>
                  <a:pt x="417" y="411"/>
                </a:lnTo>
                <a:lnTo>
                  <a:pt x="396" y="396"/>
                </a:lnTo>
                <a:lnTo>
                  <a:pt x="375" y="375"/>
                </a:lnTo>
                <a:lnTo>
                  <a:pt x="354" y="347"/>
                </a:lnTo>
                <a:lnTo>
                  <a:pt x="318" y="319"/>
                </a:lnTo>
                <a:lnTo>
                  <a:pt x="283" y="290"/>
                </a:lnTo>
                <a:lnTo>
                  <a:pt x="240" y="248"/>
                </a:lnTo>
                <a:lnTo>
                  <a:pt x="198" y="205"/>
                </a:lnTo>
                <a:lnTo>
                  <a:pt x="148" y="163"/>
                </a:lnTo>
                <a:lnTo>
                  <a:pt x="106" y="120"/>
                </a:lnTo>
                <a:lnTo>
                  <a:pt x="70" y="92"/>
                </a:lnTo>
                <a:lnTo>
                  <a:pt x="49" y="64"/>
                </a:lnTo>
                <a:lnTo>
                  <a:pt x="28" y="42"/>
                </a:lnTo>
                <a:lnTo>
                  <a:pt x="14" y="28"/>
                </a:lnTo>
                <a:lnTo>
                  <a:pt x="0" y="14"/>
                </a:lnTo>
                <a:lnTo>
                  <a:pt x="0" y="7"/>
                </a:lnTo>
                <a:lnTo>
                  <a:pt x="7" y="0"/>
                </a:lnTo>
                <a:lnTo>
                  <a:pt x="21" y="0"/>
                </a:lnTo>
                <a:lnTo>
                  <a:pt x="49" y="0"/>
                </a:lnTo>
                <a:lnTo>
                  <a:pt x="63" y="0"/>
                </a:lnTo>
                <a:lnTo>
                  <a:pt x="85" y="7"/>
                </a:lnTo>
                <a:lnTo>
                  <a:pt x="127" y="21"/>
                </a:lnTo>
                <a:lnTo>
                  <a:pt x="177" y="35"/>
                </a:lnTo>
                <a:lnTo>
                  <a:pt x="233" y="64"/>
                </a:lnTo>
                <a:lnTo>
                  <a:pt x="297" y="92"/>
                </a:lnTo>
                <a:lnTo>
                  <a:pt x="354" y="127"/>
                </a:lnTo>
                <a:lnTo>
                  <a:pt x="403" y="170"/>
                </a:lnTo>
                <a:lnTo>
                  <a:pt x="439" y="205"/>
                </a:lnTo>
                <a:lnTo>
                  <a:pt x="474" y="248"/>
                </a:lnTo>
                <a:lnTo>
                  <a:pt x="495" y="290"/>
                </a:lnTo>
                <a:lnTo>
                  <a:pt x="509" y="333"/>
                </a:lnTo>
                <a:lnTo>
                  <a:pt x="509" y="368"/>
                </a:lnTo>
                <a:lnTo>
                  <a:pt x="509" y="396"/>
                </a:lnTo>
                <a:lnTo>
                  <a:pt x="509" y="396"/>
                </a:lnTo>
              </a:path>
            </a:pathLst>
          </a:custGeom>
          <a:solidFill>
            <a:srgbClr val="0000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4411440" y="646200"/>
            <a:ext cx="4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识字（一）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195640" y="1628640"/>
            <a:ext cx="3898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Arial"/>
                <a:ea typeface="楷体_GB2312"/>
              </a:rPr>
              <a:t>（人</a:t>
            </a:r>
            <a:r>
              <a:rPr b="0" lang="zh-CN" sz="8000" spc="-1" strike="noStrike">
                <a:solidFill>
                  <a:srgbClr val="ff3300"/>
                </a:solidFill>
                <a:latin typeface="Arial"/>
                <a:ea typeface="楷体_GB2312"/>
              </a:rPr>
              <a:t>头</a:t>
            </a:r>
            <a:r>
              <a:rPr b="0" lang="zh-CN" sz="8000" spc="-1" strike="noStrike">
                <a:solidFill>
                  <a:srgbClr val="ffffff"/>
                </a:solidFill>
                <a:latin typeface="Arial"/>
                <a:ea typeface="楷体_GB2312"/>
              </a:rPr>
              <a:t>）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268360" y="3789360"/>
            <a:ext cx="381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Arial"/>
                <a:ea typeface="楷体_GB2312"/>
              </a:rPr>
              <a:t>（</a:t>
            </a:r>
            <a:r>
              <a:rPr b="0" lang="zh-CN" sz="8800" spc="-1" strike="noStrike">
                <a:solidFill>
                  <a:srgbClr val="ff3300"/>
                </a:solidFill>
                <a:latin typeface="Arial"/>
                <a:ea typeface="楷体_GB2312"/>
              </a:rPr>
              <a:t>头</a:t>
            </a:r>
            <a:r>
              <a:rPr b="0" lang="zh-CN" sz="8800" spc="-1" strike="noStrike">
                <a:solidFill>
                  <a:srgbClr val="ffffff"/>
                </a:solidFill>
                <a:latin typeface="Arial"/>
                <a:ea typeface="楷体_GB2312"/>
              </a:rPr>
              <a:t>发）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24000" y="2276640"/>
            <a:ext cx="2016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b200"/>
                </a:solidFill>
                <a:latin typeface="楷体_GB2312"/>
                <a:ea typeface="楷体_GB2312"/>
              </a:rPr>
              <a:t>t</a:t>
            </a:r>
            <a:r>
              <a:rPr b="0" lang="zh-CN" sz="8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óu</a:t>
            </a:r>
            <a:r>
              <a:rPr b="0" lang="zh-CN" sz="8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头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2590920" y="533520"/>
            <a:ext cx="4678200" cy="467820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4800600" y="1600200"/>
            <a:ext cx="285840" cy="2556000"/>
          </a:xfrm>
          <a:custGeom>
            <a:avLst/>
            <a:gdLst/>
            <a:ahLst/>
            <a:rect l="l" t="t" r="r" b="b"/>
            <a:pathLst>
              <a:path w="180" h="1610">
                <a:moveTo>
                  <a:pt x="174" y="66"/>
                </a:moveTo>
                <a:lnTo>
                  <a:pt x="180" y="96"/>
                </a:lnTo>
                <a:lnTo>
                  <a:pt x="168" y="120"/>
                </a:lnTo>
                <a:lnTo>
                  <a:pt x="162" y="132"/>
                </a:lnTo>
                <a:lnTo>
                  <a:pt x="150" y="162"/>
                </a:lnTo>
                <a:lnTo>
                  <a:pt x="144" y="198"/>
                </a:lnTo>
                <a:lnTo>
                  <a:pt x="138" y="245"/>
                </a:lnTo>
                <a:lnTo>
                  <a:pt x="138" y="275"/>
                </a:lnTo>
                <a:lnTo>
                  <a:pt x="138" y="311"/>
                </a:lnTo>
                <a:lnTo>
                  <a:pt x="132" y="353"/>
                </a:lnTo>
                <a:lnTo>
                  <a:pt x="132" y="401"/>
                </a:lnTo>
                <a:lnTo>
                  <a:pt x="132" y="455"/>
                </a:lnTo>
                <a:lnTo>
                  <a:pt x="132" y="515"/>
                </a:lnTo>
                <a:lnTo>
                  <a:pt x="126" y="587"/>
                </a:lnTo>
                <a:lnTo>
                  <a:pt x="126" y="658"/>
                </a:lnTo>
                <a:lnTo>
                  <a:pt x="120" y="808"/>
                </a:lnTo>
                <a:lnTo>
                  <a:pt x="120" y="946"/>
                </a:lnTo>
                <a:lnTo>
                  <a:pt x="114" y="1065"/>
                </a:lnTo>
                <a:lnTo>
                  <a:pt x="120" y="1185"/>
                </a:lnTo>
                <a:lnTo>
                  <a:pt x="126" y="1287"/>
                </a:lnTo>
                <a:lnTo>
                  <a:pt x="126" y="1383"/>
                </a:lnTo>
                <a:lnTo>
                  <a:pt x="126" y="1454"/>
                </a:lnTo>
                <a:lnTo>
                  <a:pt x="120" y="1514"/>
                </a:lnTo>
                <a:lnTo>
                  <a:pt x="114" y="1550"/>
                </a:lnTo>
                <a:lnTo>
                  <a:pt x="108" y="1580"/>
                </a:lnTo>
                <a:lnTo>
                  <a:pt x="96" y="1604"/>
                </a:lnTo>
                <a:lnTo>
                  <a:pt x="90" y="1610"/>
                </a:lnTo>
                <a:lnTo>
                  <a:pt x="78" y="1610"/>
                </a:lnTo>
                <a:lnTo>
                  <a:pt x="66" y="1604"/>
                </a:lnTo>
                <a:lnTo>
                  <a:pt x="54" y="1580"/>
                </a:lnTo>
                <a:lnTo>
                  <a:pt x="42" y="1556"/>
                </a:lnTo>
                <a:lnTo>
                  <a:pt x="24" y="1526"/>
                </a:lnTo>
                <a:lnTo>
                  <a:pt x="18" y="1502"/>
                </a:lnTo>
                <a:lnTo>
                  <a:pt x="6" y="1490"/>
                </a:lnTo>
                <a:lnTo>
                  <a:pt x="6" y="1484"/>
                </a:lnTo>
                <a:lnTo>
                  <a:pt x="6" y="1472"/>
                </a:lnTo>
                <a:lnTo>
                  <a:pt x="6" y="1448"/>
                </a:lnTo>
                <a:lnTo>
                  <a:pt x="6" y="1407"/>
                </a:lnTo>
                <a:lnTo>
                  <a:pt x="12" y="1353"/>
                </a:lnTo>
                <a:lnTo>
                  <a:pt x="18" y="1323"/>
                </a:lnTo>
                <a:lnTo>
                  <a:pt x="18" y="1281"/>
                </a:lnTo>
                <a:lnTo>
                  <a:pt x="18" y="1239"/>
                </a:lnTo>
                <a:lnTo>
                  <a:pt x="24" y="1185"/>
                </a:lnTo>
                <a:lnTo>
                  <a:pt x="30" y="1125"/>
                </a:lnTo>
                <a:lnTo>
                  <a:pt x="30" y="1059"/>
                </a:lnTo>
                <a:lnTo>
                  <a:pt x="36" y="988"/>
                </a:lnTo>
                <a:lnTo>
                  <a:pt x="42" y="910"/>
                </a:lnTo>
                <a:lnTo>
                  <a:pt x="42" y="826"/>
                </a:lnTo>
                <a:lnTo>
                  <a:pt x="48" y="754"/>
                </a:lnTo>
                <a:lnTo>
                  <a:pt x="48" y="688"/>
                </a:lnTo>
                <a:lnTo>
                  <a:pt x="48" y="628"/>
                </a:lnTo>
                <a:lnTo>
                  <a:pt x="54" y="575"/>
                </a:lnTo>
                <a:lnTo>
                  <a:pt x="54" y="527"/>
                </a:lnTo>
                <a:lnTo>
                  <a:pt x="54" y="443"/>
                </a:lnTo>
                <a:lnTo>
                  <a:pt x="48" y="311"/>
                </a:lnTo>
                <a:lnTo>
                  <a:pt x="42" y="180"/>
                </a:lnTo>
                <a:lnTo>
                  <a:pt x="36" y="132"/>
                </a:lnTo>
                <a:lnTo>
                  <a:pt x="30" y="90"/>
                </a:lnTo>
                <a:lnTo>
                  <a:pt x="24" y="60"/>
                </a:lnTo>
                <a:lnTo>
                  <a:pt x="12" y="42"/>
                </a:lnTo>
                <a:lnTo>
                  <a:pt x="0" y="18"/>
                </a:lnTo>
                <a:lnTo>
                  <a:pt x="6" y="6"/>
                </a:lnTo>
                <a:lnTo>
                  <a:pt x="18" y="0"/>
                </a:lnTo>
                <a:lnTo>
                  <a:pt x="36" y="0"/>
                </a:lnTo>
                <a:lnTo>
                  <a:pt x="66" y="6"/>
                </a:lnTo>
                <a:lnTo>
                  <a:pt x="96" y="12"/>
                </a:lnTo>
                <a:lnTo>
                  <a:pt x="132" y="24"/>
                </a:lnTo>
                <a:lnTo>
                  <a:pt x="156" y="36"/>
                </a:lnTo>
                <a:lnTo>
                  <a:pt x="168" y="54"/>
                </a:lnTo>
                <a:lnTo>
                  <a:pt x="174" y="66"/>
                </a:lnTo>
                <a:lnTo>
                  <a:pt x="174" y="66"/>
                </a:lnTo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362480" y="2122560"/>
            <a:ext cx="314280" cy="361800"/>
          </a:xfrm>
          <a:custGeom>
            <a:avLst/>
            <a:gdLst/>
            <a:ahLst/>
            <a:rect l="l" t="t" r="r" b="b"/>
            <a:pathLst>
              <a:path w="198" h="228">
                <a:moveTo>
                  <a:pt x="60" y="18"/>
                </a:moveTo>
                <a:lnTo>
                  <a:pt x="114" y="36"/>
                </a:lnTo>
                <a:lnTo>
                  <a:pt x="156" y="72"/>
                </a:lnTo>
                <a:lnTo>
                  <a:pt x="186" y="120"/>
                </a:lnTo>
                <a:lnTo>
                  <a:pt x="198" y="174"/>
                </a:lnTo>
                <a:lnTo>
                  <a:pt x="192" y="198"/>
                </a:lnTo>
                <a:lnTo>
                  <a:pt x="186" y="210"/>
                </a:lnTo>
                <a:lnTo>
                  <a:pt x="174" y="228"/>
                </a:lnTo>
                <a:lnTo>
                  <a:pt x="168" y="228"/>
                </a:lnTo>
                <a:lnTo>
                  <a:pt x="156" y="228"/>
                </a:lnTo>
                <a:lnTo>
                  <a:pt x="138" y="210"/>
                </a:lnTo>
                <a:lnTo>
                  <a:pt x="114" y="192"/>
                </a:lnTo>
                <a:lnTo>
                  <a:pt x="84" y="174"/>
                </a:lnTo>
                <a:lnTo>
                  <a:pt x="66" y="150"/>
                </a:lnTo>
                <a:lnTo>
                  <a:pt x="24" y="78"/>
                </a:lnTo>
                <a:lnTo>
                  <a:pt x="12" y="48"/>
                </a:lnTo>
                <a:lnTo>
                  <a:pt x="6" y="24"/>
                </a:lnTo>
                <a:lnTo>
                  <a:pt x="0" y="12"/>
                </a:lnTo>
                <a:lnTo>
                  <a:pt x="6" y="0"/>
                </a:lnTo>
                <a:lnTo>
                  <a:pt x="24" y="6"/>
                </a:lnTo>
                <a:lnTo>
                  <a:pt x="42" y="12"/>
                </a:lnTo>
                <a:lnTo>
                  <a:pt x="60" y="18"/>
                </a:lnTo>
                <a:lnTo>
                  <a:pt x="60" y="18"/>
                </a:lnTo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819600" y="2711520"/>
            <a:ext cx="1162080" cy="1122120"/>
          </a:xfrm>
          <a:custGeom>
            <a:avLst/>
            <a:gdLst/>
            <a:ahLst/>
            <a:rect l="l" t="t" r="r" b="b"/>
            <a:pathLst>
              <a:path w="732" h="707">
                <a:moveTo>
                  <a:pt x="174" y="539"/>
                </a:moveTo>
                <a:lnTo>
                  <a:pt x="228" y="497"/>
                </a:lnTo>
                <a:lnTo>
                  <a:pt x="276" y="449"/>
                </a:lnTo>
                <a:lnTo>
                  <a:pt x="330" y="389"/>
                </a:lnTo>
                <a:lnTo>
                  <a:pt x="384" y="324"/>
                </a:lnTo>
                <a:lnTo>
                  <a:pt x="444" y="258"/>
                </a:lnTo>
                <a:lnTo>
                  <a:pt x="504" y="180"/>
                </a:lnTo>
                <a:lnTo>
                  <a:pt x="570" y="90"/>
                </a:lnTo>
                <a:lnTo>
                  <a:pt x="630" y="0"/>
                </a:lnTo>
                <a:lnTo>
                  <a:pt x="732" y="30"/>
                </a:lnTo>
                <a:lnTo>
                  <a:pt x="654" y="138"/>
                </a:lnTo>
                <a:lnTo>
                  <a:pt x="570" y="240"/>
                </a:lnTo>
                <a:lnTo>
                  <a:pt x="492" y="329"/>
                </a:lnTo>
                <a:lnTo>
                  <a:pt x="420" y="413"/>
                </a:lnTo>
                <a:lnTo>
                  <a:pt x="348" y="485"/>
                </a:lnTo>
                <a:lnTo>
                  <a:pt x="276" y="545"/>
                </a:lnTo>
                <a:lnTo>
                  <a:pt x="204" y="599"/>
                </a:lnTo>
                <a:lnTo>
                  <a:pt x="138" y="641"/>
                </a:lnTo>
                <a:lnTo>
                  <a:pt x="78" y="671"/>
                </a:lnTo>
                <a:lnTo>
                  <a:pt x="36" y="695"/>
                </a:lnTo>
                <a:lnTo>
                  <a:pt x="12" y="707"/>
                </a:lnTo>
                <a:lnTo>
                  <a:pt x="0" y="707"/>
                </a:lnTo>
                <a:lnTo>
                  <a:pt x="0" y="701"/>
                </a:lnTo>
                <a:lnTo>
                  <a:pt x="6" y="689"/>
                </a:lnTo>
                <a:lnTo>
                  <a:pt x="18" y="677"/>
                </a:lnTo>
                <a:lnTo>
                  <a:pt x="36" y="659"/>
                </a:lnTo>
                <a:lnTo>
                  <a:pt x="60" y="635"/>
                </a:lnTo>
                <a:lnTo>
                  <a:pt x="96" y="605"/>
                </a:lnTo>
                <a:lnTo>
                  <a:pt x="132" y="575"/>
                </a:lnTo>
                <a:lnTo>
                  <a:pt x="174" y="539"/>
                </a:lnTo>
                <a:lnTo>
                  <a:pt x="174" y="539"/>
                </a:lnTo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876920" y="2666880"/>
            <a:ext cx="1477800" cy="1008360"/>
          </a:xfrm>
          <a:custGeom>
            <a:avLst/>
            <a:gdLst/>
            <a:ahLst/>
            <a:rect l="l" t="t" r="r" b="b"/>
            <a:pathLst>
              <a:path w="931" h="635">
                <a:moveTo>
                  <a:pt x="931" y="593"/>
                </a:moveTo>
                <a:lnTo>
                  <a:pt x="925" y="599"/>
                </a:lnTo>
                <a:lnTo>
                  <a:pt x="907" y="605"/>
                </a:lnTo>
                <a:lnTo>
                  <a:pt x="877" y="611"/>
                </a:lnTo>
                <a:lnTo>
                  <a:pt x="835" y="617"/>
                </a:lnTo>
                <a:lnTo>
                  <a:pt x="739" y="629"/>
                </a:lnTo>
                <a:lnTo>
                  <a:pt x="661" y="635"/>
                </a:lnTo>
                <a:lnTo>
                  <a:pt x="595" y="635"/>
                </a:lnTo>
                <a:lnTo>
                  <a:pt x="535" y="623"/>
                </a:lnTo>
                <a:lnTo>
                  <a:pt x="505" y="617"/>
                </a:lnTo>
                <a:lnTo>
                  <a:pt x="469" y="593"/>
                </a:lnTo>
                <a:lnTo>
                  <a:pt x="433" y="557"/>
                </a:lnTo>
                <a:lnTo>
                  <a:pt x="385" y="503"/>
                </a:lnTo>
                <a:lnTo>
                  <a:pt x="361" y="473"/>
                </a:lnTo>
                <a:lnTo>
                  <a:pt x="325" y="431"/>
                </a:lnTo>
                <a:lnTo>
                  <a:pt x="283" y="389"/>
                </a:lnTo>
                <a:lnTo>
                  <a:pt x="241" y="341"/>
                </a:lnTo>
                <a:lnTo>
                  <a:pt x="187" y="282"/>
                </a:lnTo>
                <a:lnTo>
                  <a:pt x="133" y="216"/>
                </a:lnTo>
                <a:lnTo>
                  <a:pt x="66" y="150"/>
                </a:lnTo>
                <a:lnTo>
                  <a:pt x="0" y="72"/>
                </a:lnTo>
                <a:lnTo>
                  <a:pt x="6" y="0"/>
                </a:lnTo>
                <a:lnTo>
                  <a:pt x="96" y="84"/>
                </a:lnTo>
                <a:lnTo>
                  <a:pt x="187" y="162"/>
                </a:lnTo>
                <a:lnTo>
                  <a:pt x="355" y="306"/>
                </a:lnTo>
                <a:lnTo>
                  <a:pt x="445" y="371"/>
                </a:lnTo>
                <a:lnTo>
                  <a:pt x="535" y="425"/>
                </a:lnTo>
                <a:lnTo>
                  <a:pt x="631" y="467"/>
                </a:lnTo>
                <a:lnTo>
                  <a:pt x="733" y="503"/>
                </a:lnTo>
                <a:lnTo>
                  <a:pt x="781" y="521"/>
                </a:lnTo>
                <a:lnTo>
                  <a:pt x="823" y="539"/>
                </a:lnTo>
                <a:lnTo>
                  <a:pt x="859" y="551"/>
                </a:lnTo>
                <a:lnTo>
                  <a:pt x="883" y="563"/>
                </a:lnTo>
                <a:lnTo>
                  <a:pt x="907" y="575"/>
                </a:lnTo>
                <a:lnTo>
                  <a:pt x="919" y="581"/>
                </a:lnTo>
                <a:lnTo>
                  <a:pt x="931" y="587"/>
                </a:lnTo>
                <a:lnTo>
                  <a:pt x="931" y="593"/>
                </a:lnTo>
                <a:lnTo>
                  <a:pt x="931" y="593"/>
                </a:lnTo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038480" y="2522520"/>
            <a:ext cx="1849680" cy="370080"/>
          </a:xfrm>
          <a:custGeom>
            <a:avLst/>
            <a:gdLst/>
            <a:ahLst/>
            <a:rect l="l" t="t" r="r" b="b"/>
            <a:pathLst>
              <a:path w="1165" h="233">
                <a:moveTo>
                  <a:pt x="114" y="233"/>
                </a:moveTo>
                <a:lnTo>
                  <a:pt x="102" y="227"/>
                </a:lnTo>
                <a:lnTo>
                  <a:pt x="78" y="215"/>
                </a:lnTo>
                <a:lnTo>
                  <a:pt x="48" y="197"/>
                </a:lnTo>
                <a:lnTo>
                  <a:pt x="0" y="173"/>
                </a:lnTo>
                <a:lnTo>
                  <a:pt x="114" y="155"/>
                </a:lnTo>
                <a:lnTo>
                  <a:pt x="216" y="137"/>
                </a:lnTo>
                <a:lnTo>
                  <a:pt x="312" y="119"/>
                </a:lnTo>
                <a:lnTo>
                  <a:pt x="396" y="107"/>
                </a:lnTo>
                <a:lnTo>
                  <a:pt x="480" y="89"/>
                </a:lnTo>
                <a:lnTo>
                  <a:pt x="570" y="71"/>
                </a:lnTo>
                <a:lnTo>
                  <a:pt x="672" y="53"/>
                </a:lnTo>
                <a:lnTo>
                  <a:pt x="781" y="30"/>
                </a:lnTo>
                <a:lnTo>
                  <a:pt x="883" y="12"/>
                </a:lnTo>
                <a:lnTo>
                  <a:pt x="973" y="0"/>
                </a:lnTo>
                <a:lnTo>
                  <a:pt x="1039" y="0"/>
                </a:lnTo>
                <a:lnTo>
                  <a:pt x="1087" y="12"/>
                </a:lnTo>
                <a:lnTo>
                  <a:pt x="1117" y="30"/>
                </a:lnTo>
                <a:lnTo>
                  <a:pt x="1141" y="41"/>
                </a:lnTo>
                <a:lnTo>
                  <a:pt x="1159" y="47"/>
                </a:lnTo>
                <a:lnTo>
                  <a:pt x="1165" y="53"/>
                </a:lnTo>
                <a:lnTo>
                  <a:pt x="1165" y="71"/>
                </a:lnTo>
                <a:lnTo>
                  <a:pt x="1159" y="83"/>
                </a:lnTo>
                <a:lnTo>
                  <a:pt x="1141" y="89"/>
                </a:lnTo>
                <a:lnTo>
                  <a:pt x="1111" y="95"/>
                </a:lnTo>
                <a:lnTo>
                  <a:pt x="1063" y="95"/>
                </a:lnTo>
                <a:lnTo>
                  <a:pt x="1003" y="95"/>
                </a:lnTo>
                <a:lnTo>
                  <a:pt x="853" y="101"/>
                </a:lnTo>
                <a:lnTo>
                  <a:pt x="684" y="113"/>
                </a:lnTo>
                <a:lnTo>
                  <a:pt x="510" y="137"/>
                </a:lnTo>
                <a:lnTo>
                  <a:pt x="420" y="161"/>
                </a:lnTo>
                <a:lnTo>
                  <a:pt x="330" y="185"/>
                </a:lnTo>
                <a:lnTo>
                  <a:pt x="246" y="209"/>
                </a:lnTo>
                <a:lnTo>
                  <a:pt x="186" y="221"/>
                </a:lnTo>
                <a:lnTo>
                  <a:pt x="144" y="233"/>
                </a:lnTo>
                <a:lnTo>
                  <a:pt x="114" y="233"/>
                </a:lnTo>
                <a:lnTo>
                  <a:pt x="114" y="233"/>
                </a:lnTo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181480" y="1905120"/>
            <a:ext cx="542880" cy="522000"/>
          </a:xfrm>
          <a:custGeom>
            <a:avLst/>
            <a:gdLst/>
            <a:ahLst/>
            <a:rect l="l" t="t" r="r" b="b"/>
            <a:pathLst>
              <a:path w="342" h="329">
                <a:moveTo>
                  <a:pt x="192" y="41"/>
                </a:moveTo>
                <a:lnTo>
                  <a:pt x="180" y="11"/>
                </a:lnTo>
                <a:lnTo>
                  <a:pt x="192" y="0"/>
                </a:lnTo>
                <a:lnTo>
                  <a:pt x="204" y="0"/>
                </a:lnTo>
                <a:lnTo>
                  <a:pt x="222" y="0"/>
                </a:lnTo>
                <a:lnTo>
                  <a:pt x="252" y="11"/>
                </a:lnTo>
                <a:lnTo>
                  <a:pt x="282" y="29"/>
                </a:lnTo>
                <a:lnTo>
                  <a:pt x="312" y="41"/>
                </a:lnTo>
                <a:lnTo>
                  <a:pt x="330" y="65"/>
                </a:lnTo>
                <a:lnTo>
                  <a:pt x="342" y="83"/>
                </a:lnTo>
                <a:lnTo>
                  <a:pt x="342" y="95"/>
                </a:lnTo>
                <a:lnTo>
                  <a:pt x="330" y="113"/>
                </a:lnTo>
                <a:lnTo>
                  <a:pt x="318" y="137"/>
                </a:lnTo>
                <a:lnTo>
                  <a:pt x="294" y="155"/>
                </a:lnTo>
                <a:lnTo>
                  <a:pt x="264" y="185"/>
                </a:lnTo>
                <a:lnTo>
                  <a:pt x="186" y="233"/>
                </a:lnTo>
                <a:lnTo>
                  <a:pt x="102" y="281"/>
                </a:lnTo>
                <a:lnTo>
                  <a:pt x="60" y="305"/>
                </a:lnTo>
                <a:lnTo>
                  <a:pt x="30" y="323"/>
                </a:lnTo>
                <a:lnTo>
                  <a:pt x="6" y="329"/>
                </a:lnTo>
                <a:lnTo>
                  <a:pt x="0" y="323"/>
                </a:lnTo>
                <a:lnTo>
                  <a:pt x="0" y="317"/>
                </a:lnTo>
                <a:lnTo>
                  <a:pt x="12" y="305"/>
                </a:lnTo>
                <a:lnTo>
                  <a:pt x="30" y="281"/>
                </a:lnTo>
                <a:lnTo>
                  <a:pt x="60" y="245"/>
                </a:lnTo>
                <a:lnTo>
                  <a:pt x="126" y="179"/>
                </a:lnTo>
                <a:lnTo>
                  <a:pt x="174" y="119"/>
                </a:lnTo>
                <a:lnTo>
                  <a:pt x="192" y="95"/>
                </a:lnTo>
                <a:lnTo>
                  <a:pt x="198" y="71"/>
                </a:lnTo>
                <a:lnTo>
                  <a:pt x="198" y="53"/>
                </a:lnTo>
                <a:lnTo>
                  <a:pt x="192" y="41"/>
                </a:lnTo>
                <a:lnTo>
                  <a:pt x="192" y="41"/>
                </a:lnTo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8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4411440" y="646200"/>
            <a:ext cx="4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识字（一）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39640" y="1628640"/>
            <a:ext cx="2509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9999"/>
                </a:solidFill>
                <a:latin typeface="宋体"/>
              </a:rPr>
              <a:t>m</a:t>
            </a:r>
            <a:r>
              <a:rPr b="0" lang="zh-CN" sz="9600" spc="-1" strike="noStrike">
                <a:solidFill>
                  <a:srgbClr val="ff3300"/>
                </a:solidFill>
                <a:latin typeface="宋体"/>
                <a:ea typeface="Arial"/>
              </a:rPr>
              <a:t>ǐ</a:t>
            </a:r>
            <a:r>
              <a:rPr b="0" lang="zh-CN" sz="9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米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03640" y="2781360"/>
            <a:ext cx="410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Arial"/>
                <a:ea typeface="楷体_GB2312"/>
              </a:rPr>
              <a:t>（一</a:t>
            </a:r>
            <a:r>
              <a:rPr b="0" lang="zh-CN" sz="8800" spc="-1" strike="noStrike">
                <a:solidFill>
                  <a:srgbClr val="ff3300"/>
                </a:solidFill>
                <a:latin typeface="Arial"/>
                <a:ea typeface="楷体_GB2312"/>
              </a:rPr>
              <a:t>米</a:t>
            </a:r>
            <a:r>
              <a:rPr b="0" lang="zh-CN" sz="8800" spc="-1" strike="noStrike">
                <a:solidFill>
                  <a:srgbClr val="ffffff"/>
                </a:solidFill>
                <a:latin typeface="Arial"/>
                <a:ea typeface="楷体_GB2312"/>
              </a:rPr>
              <a:t>）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132000" y="981000"/>
            <a:ext cx="431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Arial"/>
                <a:ea typeface="楷体_GB2312"/>
              </a:rPr>
              <a:t>（大</a:t>
            </a:r>
            <a:r>
              <a:rPr b="0" lang="zh-CN" sz="8800" spc="-1" strike="noStrike">
                <a:solidFill>
                  <a:srgbClr val="ff3300"/>
                </a:solidFill>
                <a:latin typeface="Arial"/>
                <a:ea typeface="楷体_GB2312"/>
              </a:rPr>
              <a:t>米</a:t>
            </a:r>
            <a:r>
              <a:rPr b="0" lang="zh-CN" sz="8800" spc="-1" strike="noStrike">
                <a:solidFill>
                  <a:srgbClr val="ffffff"/>
                </a:solidFill>
                <a:latin typeface="Arial"/>
                <a:ea typeface="楷体_GB2312"/>
              </a:rPr>
              <a:t>）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5791320" y="0"/>
            <a:ext cx="3352680" cy="266868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974880" y="271440"/>
            <a:ext cx="329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332000" y="907920"/>
            <a:ext cx="579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ccff"/>
                </a:solidFill>
                <a:latin typeface="Times New Roman"/>
                <a:ea typeface="楷体_GB2312"/>
              </a:rPr>
              <a:t>6</a:t>
            </a:r>
            <a:r>
              <a:rPr b="1" lang="zh-CN" sz="7200" spc="-1" strike="noStrike">
                <a:solidFill>
                  <a:srgbClr val="ccccff"/>
                </a:solidFill>
                <a:latin typeface="Times New Roman"/>
                <a:ea typeface="楷体_GB2312"/>
              </a:rPr>
              <a:t>、静</a:t>
            </a:r>
            <a:r>
              <a:rPr b="1" lang="zh-TW" sz="7200" spc="-1" strike="noStrike">
                <a:solidFill>
                  <a:srgbClr val="ccccff"/>
                </a:solidFill>
                <a:latin typeface="Times New Roman"/>
                <a:ea typeface="楷体_GB2312"/>
              </a:rPr>
              <a:t>夜思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3851280" y="0"/>
            <a:ext cx="5292720" cy="494172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3564000" y="5057640"/>
            <a:ext cx="2808360" cy="180036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3"/>
          <a:stretch/>
        </p:blipFill>
        <p:spPr>
          <a:xfrm>
            <a:off x="324000" y="5013360"/>
            <a:ext cx="3024000" cy="184464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4"/>
          <a:stretch/>
        </p:blipFill>
        <p:spPr>
          <a:xfrm>
            <a:off x="6588000" y="5032440"/>
            <a:ext cx="2556000" cy="182556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1335600" y="-394920"/>
            <a:ext cx="1094760" cy="56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9933"/>
                </a:solidFill>
                <a:latin typeface="Arial"/>
                <a:ea typeface="隶书"/>
              </a:rPr>
              <a:t>名 篇 欣 赏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5"/>
          <a:stretch/>
        </p:blipFill>
        <p:spPr>
          <a:xfrm>
            <a:off x="845964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restart="whenNotActive" nodeType="interactiveSeq" fill="hold">
                <p:stCondLst>
                  <p:cond evt="onClick">
                    <p:tgtEl>
                      <p:spTgt spid="450"/>
                    </p:tgtEl>
                  </p:cond>
                </p:stCondLst>
                <p:childTnLst>
                  <p:par>
                    <p:cTn id="273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6" dur="1" fill="hold"/>
                                        <p:tgtEl>
                                          <p:spTgt spid="4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3851280" y="0"/>
            <a:ext cx="5292720" cy="494172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1736640" y="549360"/>
            <a:ext cx="459000" cy="45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335600" y="-394920"/>
            <a:ext cx="1094760" cy="56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9933"/>
                </a:solidFill>
                <a:latin typeface="Arial"/>
                <a:ea typeface="隶书"/>
              </a:rPr>
              <a:t>名 篇 欣 赏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324000" y="5013360"/>
            <a:ext cx="3024000" cy="184464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3"/>
          <a:stretch/>
        </p:blipFill>
        <p:spPr>
          <a:xfrm>
            <a:off x="6588000" y="5032440"/>
            <a:ext cx="2556000" cy="182556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4"/>
          <a:stretch/>
        </p:blipFill>
        <p:spPr>
          <a:xfrm>
            <a:off x="3564000" y="5057640"/>
            <a:ext cx="2808360" cy="180036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/>
          <p:nvPr/>
        </p:nvSpPr>
        <p:spPr>
          <a:xfrm>
            <a:off x="4730760" y="404640"/>
            <a:ext cx="4413240" cy="54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隶书"/>
              </a:rPr>
              <a:t>　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赠汪伦　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隶书"/>
              </a:rPr>
              <a:t>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隶书"/>
              </a:rPr>
              <a:t>　　　　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李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Arial"/>
                <a:ea typeface="隶书"/>
              </a:rPr>
              <a:t>李白乘舟将欲行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Arial"/>
                <a:ea typeface="隶书"/>
              </a:rPr>
              <a:t>忽闻岸上踏歌声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Arial"/>
                <a:ea typeface="隶书"/>
              </a:rPr>
              <a:t>桃花潭水深千尺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Arial"/>
                <a:ea typeface="隶书"/>
              </a:rPr>
              <a:t>不及汪伦送我情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3000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88000" cy="685800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/>
          <p:nvPr/>
        </p:nvSpPr>
        <p:spPr>
          <a:xfrm>
            <a:off x="5148360" y="1052640"/>
            <a:ext cx="399564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望庐山瀑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　　　　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李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日照香炉生紫烟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遥看瀑布挂前川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飞流直下三千尺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疑是银河落九天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0" y="1052640"/>
            <a:ext cx="6048360" cy="52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黄鹤楼送孟浩然之广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隶书"/>
              </a:rPr>
              <a:t>　　　　　　　　　　　　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李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　　故人西辞黄鹤楼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　　烟花三月下扬州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　　孤帆远影碧空尽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　　唯见长江天际流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4411440" y="646200"/>
            <a:ext cx="4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识字（一）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286000" y="646200"/>
            <a:ext cx="464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、静夜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752480" y="175248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目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光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352680" y="167652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耳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目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029200" y="167652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入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目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752480" y="396252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人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头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752480" y="281952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耳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朵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352680" y="274320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耳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机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429000" y="388620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前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头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029200" y="274320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木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耳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105520" y="3886200"/>
            <a:ext cx="190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后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头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781680" y="396252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头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发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781680" y="274320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耳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目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781680" y="167652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眼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目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762120" y="3505320"/>
            <a:ext cx="1218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b200"/>
                </a:solidFill>
                <a:latin typeface="Arial"/>
              </a:rPr>
              <a:t>t</a:t>
            </a:r>
            <a:r>
              <a:rPr b="0" lang="zh-CN" sz="4400" spc="-1" strike="noStrike">
                <a:solidFill>
                  <a:srgbClr val="ff3300"/>
                </a:solidFill>
                <a:latin typeface="宋体"/>
                <a:ea typeface="Arial"/>
              </a:rPr>
              <a:t>óu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62120" y="990720"/>
            <a:ext cx="99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b200"/>
                </a:solidFill>
                <a:latin typeface="Arial"/>
              </a:rPr>
              <a:t>m</a:t>
            </a:r>
            <a:r>
              <a:rPr b="0" lang="zh-CN" sz="4400" spc="-1" strike="noStrike">
                <a:solidFill>
                  <a:srgbClr val="ff3300"/>
                </a:solidFill>
                <a:latin typeface="宋体"/>
                <a:ea typeface="Arial"/>
              </a:rPr>
              <a:t>ù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目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62120" y="2209680"/>
            <a:ext cx="99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Arial"/>
              </a:rPr>
              <a:t>ĕr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耳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838080" y="4724280"/>
            <a:ext cx="1219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b200"/>
                </a:solidFill>
                <a:latin typeface="Arial"/>
              </a:rPr>
              <a:t>m</a:t>
            </a:r>
            <a:r>
              <a:rPr b="0" lang="zh-CN" sz="4400" spc="-1" strike="noStrike">
                <a:solidFill>
                  <a:srgbClr val="ff3300"/>
                </a:solidFill>
                <a:latin typeface="宋体"/>
                <a:ea typeface="Arial"/>
              </a:rPr>
              <a:t>ǐ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米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352680" y="518148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米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粒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029200" y="510552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米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尺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781680" y="518148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一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米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676520" y="5181480"/>
            <a:ext cx="190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大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米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8317080" y="5877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5003640" y="476280"/>
            <a:ext cx="3746520" cy="587844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324000" y="476280"/>
            <a:ext cx="4392360" cy="2025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隶书"/>
              </a:rPr>
              <a:t>作者简介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Arial"/>
                <a:ea typeface="隶书"/>
              </a:rPr>
              <a:t>      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隶书"/>
              </a:rPr>
              <a:t>李白：字太白，我国唐代著名的诗人。他一生写了很多古诗。正因为他的诗写的多写的妙，简直就像一位作诗的神仙，所以人们就称他为“诗仙” 。</a:t>
            </a:r>
            <a:r>
              <a:rPr b="0" lang="zh-CN" sz="3600" spc="-1" strike="noStrike">
                <a:solidFill>
                  <a:srgbClr val="3333cc"/>
                </a:solidFill>
                <a:latin typeface="Arial"/>
                <a:ea typeface="隶书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62064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8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2"/>
          <a:srcRect l="19482" t="801" r="20054" b="0"/>
          <a:stretch/>
        </p:blipFill>
        <p:spPr>
          <a:xfrm>
            <a:off x="6804000" y="1916280"/>
            <a:ext cx="2016000" cy="472428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684360" y="66600"/>
            <a:ext cx="3979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0"/>
            <a:ext cx="70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远古的唐朝</a:t>
            </a: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一轮明月冉冉升起，月光明亮地照着苍茫大地。人们从四面八方回到自己的家乡与亲人团聚。月儿圆了，人团聚了，多美好啊！可是伟大的诗人李白，却无法回家与亲人分享这人间最温暖的时刻。他只身一人离家在外，看到这样圆圆的月亮，他想起了自己的故乡想起了亲人。深深思念中的他只能以写诗来排走心中的寂寞。现在我们一起读一遍这首留传千古的诗作《静夜思》。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3"/>
          <a:stretch/>
        </p:blipFill>
        <p:spPr>
          <a:xfrm>
            <a:off x="428472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355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355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80136" fill="hold"/>
                                        <p:tgtEl>
                                          <p:spTgt spid="3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1080" cy="675324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2"/>
          <a:srcRect l="0" t="0" r="7818" b="8393"/>
          <a:stretch/>
        </p:blipFill>
        <p:spPr>
          <a:xfrm>
            <a:off x="0" y="0"/>
            <a:ext cx="3166920" cy="177012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3"/>
          <a:srcRect l="44474" t="11182" r="11106" b="0"/>
          <a:stretch/>
        </p:blipFill>
        <p:spPr>
          <a:xfrm>
            <a:off x="6804000" y="2276640"/>
            <a:ext cx="1871640" cy="424800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5"/>
          <p:cNvSpPr/>
          <p:nvPr/>
        </p:nvSpPr>
        <p:spPr>
          <a:xfrm>
            <a:off x="1654200" y="189000"/>
            <a:ext cx="7489800" cy="617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561f"/>
                </a:solidFill>
                <a:latin typeface="Arial"/>
                <a:ea typeface="楷体_GB2312"/>
              </a:rPr>
              <a:t>     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jìng   yè</a:t>
            </a:r>
            <a:r>
              <a:rPr b="1" lang="zh-CN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   s</a:t>
            </a:r>
            <a:r>
              <a:rPr b="1" lang="zh-CN" sz="2400" spc="-1" strike="noStrike">
                <a:solidFill>
                  <a:srgbClr val="06561f"/>
                </a:solidFill>
                <a:latin typeface="Arial"/>
              </a:rPr>
              <a:t>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61f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静 夜</a:t>
            </a:r>
            <a:r>
              <a:rPr b="1" lang="zh-CN" sz="4000" spc="-1" strike="noStrike">
                <a:solidFill>
                  <a:srgbClr val="06561f"/>
                </a:solidFill>
                <a:latin typeface="Arial"/>
              </a:rPr>
              <a:t> 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561f"/>
                </a:solidFill>
                <a:latin typeface="Arial"/>
                <a:ea typeface="楷体_GB2312"/>
              </a:rPr>
              <a:t>                           </a:t>
            </a:r>
            <a:r>
              <a:rPr b="1" lang="zh-CN" sz="3200" spc="-1" strike="noStrike">
                <a:solidFill>
                  <a:srgbClr val="06561f"/>
                </a:solidFill>
                <a:latin typeface="Arial"/>
                <a:ea typeface="楷体_GB2312"/>
              </a:rPr>
              <a:t>李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chu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á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ng</a:t>
            </a:r>
            <a:r>
              <a:rPr b="1" lang="zh-CN" sz="2000" spc="-1" strike="noStrike">
                <a:solidFill>
                  <a:srgbClr val="06561f"/>
                </a:solidFill>
                <a:latin typeface="Arial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qi</a:t>
            </a:r>
            <a:r>
              <a:rPr b="1" lang="zh-CN" sz="2400" spc="-1" strike="noStrike">
                <a:solidFill>
                  <a:srgbClr val="06561f"/>
                </a:solidFill>
                <a:latin typeface="宋体"/>
              </a:rPr>
              <a:t>á</a:t>
            </a:r>
            <a:r>
              <a:rPr b="1" lang="zh-CN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n  </a:t>
            </a:r>
            <a:r>
              <a:rPr b="1" lang="zh-CN" sz="2800" spc="-1" strike="noStrike">
                <a:solidFill>
                  <a:srgbClr val="06561f"/>
                </a:solidFill>
                <a:latin typeface="Arial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míng</a:t>
            </a:r>
            <a:r>
              <a:rPr b="1" lang="zh-CN" sz="2800" spc="-1" strike="noStrike">
                <a:solidFill>
                  <a:srgbClr val="06561f"/>
                </a:solidFill>
                <a:latin typeface="Arial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yuè </a:t>
            </a:r>
            <a:r>
              <a:rPr b="1" lang="zh-CN" sz="2800" spc="-1" strike="noStrike">
                <a:solidFill>
                  <a:srgbClr val="06561f"/>
                </a:solidFill>
                <a:latin typeface="Arial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gu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ā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6561f"/>
                </a:solidFill>
                <a:latin typeface="Arial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床</a:t>
            </a:r>
            <a:r>
              <a:rPr b="1" lang="zh-CN" sz="4400" spc="-1" strike="noStrike">
                <a:solidFill>
                  <a:srgbClr val="06561f"/>
                </a:solidFill>
                <a:latin typeface="Arial"/>
                <a:ea typeface="楷体_GB2312"/>
              </a:rPr>
              <a:t>  前  明  月 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光</a:t>
            </a:r>
            <a:r>
              <a:rPr b="1" lang="zh-CN" sz="4400" spc="-1" strike="noStrike">
                <a:solidFill>
                  <a:srgbClr val="06561f"/>
                </a:solidFill>
                <a:latin typeface="Arial"/>
                <a:ea typeface="楷体_GB2312"/>
              </a:rPr>
              <a:t>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yí      shì     dì</a:t>
            </a:r>
            <a:r>
              <a:rPr b="1" lang="zh-CN" sz="2800" spc="-1" strike="noStrike">
                <a:solidFill>
                  <a:srgbClr val="06561f"/>
                </a:solidFill>
                <a:latin typeface="Arial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sh</a:t>
            </a:r>
            <a:r>
              <a:rPr b="1" lang="zh-CN" sz="2400" spc="-1" strike="noStrike">
                <a:solidFill>
                  <a:srgbClr val="06561f"/>
                </a:solidFill>
                <a:latin typeface="宋体"/>
              </a:rPr>
              <a:t>à</a:t>
            </a:r>
            <a:r>
              <a:rPr b="1" lang="zh-CN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ng shu</a:t>
            </a:r>
            <a:r>
              <a:rPr b="1" lang="zh-CN" sz="2400" spc="-1" strike="noStrike">
                <a:solidFill>
                  <a:srgbClr val="06561f"/>
                </a:solidFill>
                <a:latin typeface="Arial"/>
              </a:rPr>
              <a:t>ā</a:t>
            </a:r>
            <a:r>
              <a:rPr b="1" lang="zh-CN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6561f"/>
                </a:solidFill>
                <a:latin typeface="Arial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06561f"/>
                </a:solidFill>
                <a:latin typeface="Arial"/>
                <a:ea typeface="楷体_GB2312"/>
              </a:rPr>
              <a:t>疑  是  地  上  霜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j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ǔ</a:t>
            </a:r>
            <a:r>
              <a:rPr b="1" lang="zh-CN" sz="2400" spc="-1" strike="noStrike">
                <a:solidFill>
                  <a:srgbClr val="06561f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 tóu</a:t>
            </a:r>
            <a:r>
              <a:rPr b="1" lang="zh-CN" sz="2800" spc="-1" strike="noStrike">
                <a:solidFill>
                  <a:srgbClr val="06561f"/>
                </a:solidFill>
                <a:latin typeface="Arial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ng</a:t>
            </a:r>
            <a:r>
              <a:rPr b="1" lang="zh-CN" sz="2400" spc="-1" strike="noStrike">
                <a:solidFill>
                  <a:srgbClr val="06561f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 míng</a:t>
            </a:r>
            <a:r>
              <a:rPr b="1" lang="zh-CN" sz="2800" spc="-1" strike="noStrike">
                <a:solidFill>
                  <a:srgbClr val="06561f"/>
                </a:solidFill>
                <a:latin typeface="Arial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yu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6561f"/>
                </a:solidFill>
                <a:latin typeface="Arial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举</a:t>
            </a:r>
            <a:r>
              <a:rPr b="1" lang="zh-CN" sz="4400" spc="-1" strike="noStrike">
                <a:solidFill>
                  <a:srgbClr val="06561f"/>
                </a:solidFill>
                <a:latin typeface="Arial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头</a:t>
            </a:r>
            <a:r>
              <a:rPr b="1" lang="zh-CN" sz="4400" spc="-1" strike="noStrike">
                <a:solidFill>
                  <a:srgbClr val="06561f"/>
                </a:solidFill>
                <a:latin typeface="Arial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望</a:t>
            </a:r>
            <a:r>
              <a:rPr b="1" lang="zh-CN" sz="4400" spc="-1" strike="noStrike">
                <a:solidFill>
                  <a:srgbClr val="06561f"/>
                </a:solidFill>
                <a:latin typeface="Arial"/>
                <a:ea typeface="楷体_GB2312"/>
              </a:rPr>
              <a:t>  明  月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d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ī</a:t>
            </a:r>
            <a:r>
              <a:rPr b="1" lang="zh-CN" sz="2400" spc="-1" strike="noStrike">
                <a:solidFill>
                  <a:srgbClr val="06561f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 tóu     s</a:t>
            </a:r>
            <a:r>
              <a:rPr b="1" lang="zh-CN" sz="2400" spc="-1" strike="noStrike">
                <a:solidFill>
                  <a:srgbClr val="06561f"/>
                </a:solidFill>
                <a:latin typeface="Arial"/>
              </a:rPr>
              <a:t>ī     </a:t>
            </a:r>
            <a:r>
              <a:rPr b="1" lang="zh-CN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gù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xi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ā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6561f"/>
                </a:solidFill>
                <a:latin typeface="Arial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低</a:t>
            </a:r>
            <a:r>
              <a:rPr b="1" lang="zh-CN" sz="4400" spc="-1" strike="noStrike">
                <a:solidFill>
                  <a:srgbClr val="06561f"/>
                </a:solidFill>
                <a:latin typeface="Arial"/>
                <a:ea typeface="楷体_GB2312"/>
              </a:rPr>
              <a:t>  头  思 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故  乡</a:t>
            </a:r>
            <a:r>
              <a:rPr b="1" lang="zh-CN" sz="4400" spc="-1" strike="noStrike">
                <a:solidFill>
                  <a:srgbClr val="06561f"/>
                </a:solidFill>
                <a:latin typeface="Arial"/>
                <a:ea typeface="楷体_GB2312"/>
              </a:rPr>
              <a:t>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5"/>
          <p:cNvSpPr/>
          <p:nvPr/>
        </p:nvSpPr>
        <p:spPr>
          <a:xfrm>
            <a:off x="4284720" y="3141720"/>
            <a:ext cx="345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Text Box 6"/>
          <p:cNvSpPr/>
          <p:nvPr/>
        </p:nvSpPr>
        <p:spPr>
          <a:xfrm>
            <a:off x="1187280" y="4508640"/>
            <a:ext cx="6372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"/>
                <a:ea typeface="楷体_GB2312"/>
              </a:rPr>
              <a:t>床前明月光，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"/>
                <a:ea typeface="楷体_GB2312"/>
              </a:rPr>
              <a:t>疑是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地上霜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楷体_GB2312"/>
              </a:rPr>
              <a:t>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2" name="Picture 11" descr="665560959970"/>
          <p:cNvPicPr/>
          <p:nvPr/>
        </p:nvPicPr>
        <p:blipFill>
          <a:blip r:embed="rId1"/>
          <a:stretch/>
        </p:blipFill>
        <p:spPr>
          <a:xfrm>
            <a:off x="0" y="0"/>
            <a:ext cx="889308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5"/>
          <p:cNvSpPr/>
          <p:nvPr/>
        </p:nvSpPr>
        <p:spPr>
          <a:xfrm>
            <a:off x="4284720" y="3141720"/>
            <a:ext cx="345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6"/>
          <p:cNvSpPr/>
          <p:nvPr/>
        </p:nvSpPr>
        <p:spPr>
          <a:xfrm>
            <a:off x="0" y="45086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楷体_GB2312"/>
              </a:rPr>
              <a:t>明亮的月光照在诗人的床前，好像是铺在地上的白白的霜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5" name="Picture 11" descr="665560959970"/>
          <p:cNvPicPr/>
          <p:nvPr/>
        </p:nvPicPr>
        <p:blipFill>
          <a:blip r:embed="rId1"/>
          <a:stretch/>
        </p:blipFill>
        <p:spPr>
          <a:xfrm>
            <a:off x="0" y="0"/>
            <a:ext cx="889308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3" descr="无标题2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2"/>
          <p:cNvSpPr/>
          <p:nvPr/>
        </p:nvSpPr>
        <p:spPr>
          <a:xfrm>
            <a:off x="7948800" y="44280"/>
            <a:ext cx="9122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静夜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6"/>
          <p:cNvSpPr/>
          <p:nvPr/>
        </p:nvSpPr>
        <p:spPr>
          <a:xfrm>
            <a:off x="7412760" y="6021360"/>
            <a:ext cx="485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霜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horz"/>
    <p:sndAc>
      <p:stSnd>
        <p:snd r:embed="rId2" name="chimes.wav"/>
      </p:stSnd>
    </p:sndAc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5"/>
          <p:cNvSpPr/>
          <p:nvPr/>
        </p:nvSpPr>
        <p:spPr>
          <a:xfrm>
            <a:off x="4284720" y="3141720"/>
            <a:ext cx="345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Picture 11" descr="6655609599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3492360" y="108972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今晚，银白色的月光洒在地上，像铺了一层冰冷的霜一样。环境如此冷清，再加上诗人远离亲人的孤独，就更感到冷清了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2T06:02:00Z</dcterms:created>
  <dc:creator>微软用户</dc:creator>
  <dc:description/>
  <dc:language>en-US</dc:language>
  <cp:lastModifiedBy>zmj</cp:lastModifiedBy>
  <dcterms:modified xsi:type="dcterms:W3CDTF">2013-07-24T05:18:22Z</dcterms:modified>
  <cp:revision>18</cp:revision>
  <dc:subject/>
  <dc:title>幻灯片 1</dc:title>
</cp:coreProperties>
</file>