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4B9-B9AB-4F31-B9C3-BF7FD98C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860-61D5-48DB-B2C7-0B9240A0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A65-4C48-4474-818E-CE18433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515-6526-4BC0-9D4D-0AFDCCB7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E11-44A6-442E-9084-599D3252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7E3A-D9E9-4102-90F0-50287B3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50A9-5A09-4544-A313-662F1C2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8112-95B0-4CF0-985D-D5949A7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EA4E-8B9E-4E10-A66F-3A64CD3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F675-A89F-4A35-B5B2-36CDA4C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BF1-9766-4515-9550-398E09A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4F0-4213-420A-8175-9CC076A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ADA5-9DBC-4539-B857-88B8A31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84F-914A-40DB-BDEF-FC78A0D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2A52-97A2-4CB6-9256-6B862A6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1FF8-82BD-42CB-BBE0-F8FCC335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B13-E074-493E-BFFA-0E07C9D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820-213A-4800-A813-32E4C80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7B3-8BE2-44BE-B1CE-279EFF40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7B3-DE81-4F8C-BB8C-9502336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9A7-9440-450A-8291-90CBA2B4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05E-1E07-4F82-A8C3-820841D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61F-5C01-40EA-BC09-4AC59E6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FDD-3AA1-42CC-B70A-4823643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BBF-A9C7-4D3B-A60C-07B277058B4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90F-F33C-481D-A173-8C1E270958F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557360"/>
            <a:ext cx="7561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隶书"/>
              </a:rPr>
              <a:t>九月九日忆山东兄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隶书"/>
              <a:ea typeface="隶书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作者：王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67280" y="5950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东村中心学校   刘晓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2000" y="1916280"/>
            <a:ext cx="611964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巩固练习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《九月九日忆山东兄弟》这首诗中，“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”表达了诗人远离家乡的寂寞，思念亲人的心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”想象了今年重阳节亲人登高远眺的情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堂检测：按照课文内容填空。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《九月九日忆山东兄弟》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代　作者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__________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这首诗抒发了诗人（                 ）的思想感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54944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拓展练习：连一连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月初一               重阳节            吃元宵，闹花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五月初五               中秋节            贴春联，拜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八月十五               春节              吃粽子，赛龙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月初九               元宵节             吃月饼，赏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月十五               端午节             插茱萸，登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24000" y="1989000"/>
            <a:ext cx="496908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自学检查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认读词语：回忆、促进、插队、深厚、遥望、异乡、相逢、佳节、加倍、遍地、茱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朗读古诗《九月九日忆山东兄弟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古诗及作者简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24000" y="2060640"/>
            <a:ext cx="4681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设问导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332360" y="-3877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学习书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页第二首古诗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这首诗写了什么时间，谁在哪个地方的什么事？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请用一句完整的话回答：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题目中的“忆”是什么意思，你能从诗中找一个词来解释吗？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读古诗，借助文下注释或结合插图想一想全诗主要写了什么？表达了诗人怎样的情感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诗中的“佳节”指的什么节日？为什么这一天诗人“倍思亲”？我们中国有那些传统佳节？诗人在佳节里更加思念远方的亲人，你有这样的经历吗？                                                  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这首诗表达了诗人身在他乡，每逢佳节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_____________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思想感情，因此朗读时速度应稍（快  慢），声音应稍（低缓  高昂）。假如你的亲人在外地工作，春节即将来到，你把自己最想对亲人说的话浓缩为一句诗：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_____________,_______________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0920" y="1773360"/>
            <a:ext cx="4537080" cy="21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自学检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、辩一辩，选一选，把序号填在括号里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每逢佳节倍思亲   （    ）    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一倍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更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遍插茱萸少一人   （    ）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普遍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全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独在异乡为异客，每逢佳节倍思亲。这句诗意思是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_______________________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4:00:42Z</dcterms:created>
  <dc:creator>微软用户</dc:creator>
  <dc:description/>
  <dc:language>en-US</dc:language>
  <cp:lastModifiedBy>微软用户</cp:lastModifiedBy>
  <dcterms:modified xsi:type="dcterms:W3CDTF">2010-10-22T18:13:30Z</dcterms:modified>
  <cp:revision>22</cp:revision>
  <dc:subject/>
  <dc:title>幻灯片 1</dc:title>
</cp:coreProperties>
</file>