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5.jpeg" ContentType="image/jpeg"/>
  <Override PartName="/ppt/media/wind.wav" ContentType="audio/x-wav"/>
  <Override PartName="/ppt/media/chimes.wav" ContentType="audio/x-wav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510-C4F6-47E8-A55A-AC256516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EC1-E08B-40E9-BC04-C47EEF32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14C-594D-4167-B930-CF62D174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DBEA-D94C-4B35-BB82-0204B2C0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B329-B238-4993-8E33-CA2CF000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8A73-ED8F-48B5-9D70-B4FCDFB4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6BC-019C-41E3-885E-463098B4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14E6-1585-431F-9B89-CECFDACF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1486-B66B-4633-A823-EAD760C7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ADC-79EC-4016-872E-65180B0F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83F4-B567-42A5-932E-D3BA779F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37A6-7E22-4BCE-B5B6-2546045C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E499-DD66-4479-88F6-E61FD91AB3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ipic.com/show/4/111/6825339k06384905.htm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nipic.com/show/4/124/6521924k56368f37.html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8.xml"/><Relationship Id="rId6" Type="http://schemas.openxmlformats.org/officeDocument/2006/relationships/slide" Target="slide16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" name="Picture 4" descr="image1"/>
          <p:cNvPicPr/>
          <p:nvPr/>
        </p:nvPicPr>
        <p:blipFill>
          <a:blip r:embed="rId1"/>
          <a:stretch/>
        </p:blipFill>
        <p:spPr>
          <a:xfrm>
            <a:off x="-2143080" y="-500040"/>
            <a:ext cx="12430080" cy="85438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608200" y="134136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九月九日忆山东兄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28760" y="4929120"/>
            <a:ext cx="4022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010"/>
                </a:solidFill>
                <a:latin typeface="Tahoma"/>
              </a:rPr>
              <a:t>姓名：李时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010"/>
                </a:solidFill>
                <a:latin typeface="Tahoma"/>
              </a:rPr>
              <a:t>班级：</a:t>
            </a:r>
            <a:r>
              <a:rPr b="0" lang="en-US" sz="3200" spc="-1" strike="noStrike">
                <a:solidFill>
                  <a:srgbClr val="001010"/>
                </a:solidFill>
                <a:latin typeface="Tahoma"/>
              </a:rPr>
              <a:t>11</a:t>
            </a:r>
            <a:r>
              <a:rPr b="0" lang="zh-CN" sz="3200" spc="-1" strike="noStrike">
                <a:solidFill>
                  <a:srgbClr val="001010"/>
                </a:solidFill>
                <a:latin typeface="Tahoma"/>
              </a:rPr>
              <a:t>级初教</a:t>
            </a:r>
            <a:r>
              <a:rPr b="0" lang="en-US" sz="3200" spc="-1" strike="noStrike">
                <a:solidFill>
                  <a:srgbClr val="001010"/>
                </a:solidFill>
                <a:latin typeface="Tahoma"/>
              </a:rPr>
              <a:t>9</a:t>
            </a:r>
            <a:r>
              <a:rPr b="0" lang="zh-CN" sz="3200" spc="-1" strike="noStrike">
                <a:solidFill>
                  <a:srgbClr val="001010"/>
                </a:solidFill>
                <a:latin typeface="Tahoma"/>
              </a:rPr>
              <a:t>班学号：</a:t>
            </a:r>
            <a:r>
              <a:rPr b="0" lang="en-US" sz="3200" spc="-1" strike="noStrike">
                <a:solidFill>
                  <a:srgbClr val="001010"/>
                </a:solidFill>
                <a:latin typeface="Tahoma"/>
              </a:rPr>
              <a:t>11330090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-1785960" y="1000080"/>
            <a:ext cx="2000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年级上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圆角矩形 7"/>
          <p:cNvSpPr/>
          <p:nvPr/>
        </p:nvSpPr>
        <p:spPr>
          <a:xfrm>
            <a:off x="3357720" y="2357280"/>
            <a:ext cx="13572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王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08000" y="404640"/>
            <a:ext cx="5256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Rockwell"/>
              </a:rPr>
              <a:t>   </a:t>
            </a:r>
            <a:r>
              <a:rPr b="0" lang="zh-CN" sz="4400" spc="-1" strike="noStrike">
                <a:solidFill>
                  <a:srgbClr val="e5ffff"/>
                </a:solidFill>
                <a:latin typeface="Rockwell"/>
              </a:rPr>
              <a:t>独在异乡为异客</a:t>
            </a:r>
            <a:endParaRPr b="0" lang="en-US" sz="4400" spc="-1" strike="noStrike">
              <a:solidFill>
                <a:srgbClr val="e5ffff"/>
              </a:solidFill>
              <a:latin typeface="Rockwell"/>
            </a:endParaRPr>
          </a:p>
        </p:txBody>
      </p:sp>
      <p:pic>
        <p:nvPicPr>
          <p:cNvPr id="97" name="Picture 4" descr="1234"/>
          <p:cNvPicPr/>
          <p:nvPr/>
        </p:nvPicPr>
        <p:blipFill>
          <a:blip r:embed="rId1"/>
          <a:stretch/>
        </p:blipFill>
        <p:spPr>
          <a:xfrm>
            <a:off x="0" y="189000"/>
            <a:ext cx="3564000" cy="6480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5015160" y="2022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716360" y="2997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异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566240" y="41101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诗句的意思是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5364000" y="206064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：单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5853240" y="2997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别的，其他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6253920" y="494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我独自一个人居住在他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椭圆 10"/>
          <p:cNvSpPr/>
          <p:nvPr/>
        </p:nvSpPr>
        <p:spPr>
          <a:xfrm>
            <a:off x="8072280" y="6229440"/>
            <a:ext cx="928800" cy="628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708000" y="0"/>
            <a:ext cx="5435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Rockwell"/>
              </a:rPr>
              <a:t>每逢佳节倍思亲</a:t>
            </a:r>
            <a:endParaRPr b="0" lang="en-US" sz="44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24000" y="1699920"/>
            <a:ext cx="115092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Rockwell"/>
              </a:rPr>
              <a:t>逢：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107" name="Picture 4" descr="1234"/>
          <p:cNvPicPr/>
          <p:nvPr/>
        </p:nvPicPr>
        <p:blipFill>
          <a:blip r:embed="rId1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5484600" y="1700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遇到，碰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375800" y="256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ahoma"/>
              </a:rPr>
              <a:t>倍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383800" y="256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加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4421880" y="357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ahoma"/>
              </a:rPr>
              <a:t>诗句的意思是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4431240" y="4292640"/>
            <a:ext cx="37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每次遇到 重阳佳节我就加倍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思念家乡的亲人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椭圆 9">
            <a:hlinkClick r:id="rId2" action="ppaction://hlinksldjump"/>
          </p:cNvPr>
          <p:cNvSpPr/>
          <p:nvPr/>
        </p:nvSpPr>
        <p:spPr>
          <a:xfrm>
            <a:off x="8286840" y="6229440"/>
            <a:ext cx="857160" cy="628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8920" y="380880"/>
            <a:ext cx="871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Rockwell"/>
              </a:rPr>
              <a:t>独在异乡为异客，每逢佳节倍思亲</a:t>
            </a:r>
            <a:r>
              <a:rPr b="0" lang="zh-CN" sz="4400" spc="-1" strike="noStrike">
                <a:solidFill>
                  <a:srgbClr val="ff0000"/>
                </a:solidFill>
                <a:latin typeface="Rockwell"/>
              </a:rPr>
              <a:t>。</a:t>
            </a:r>
            <a:endParaRPr b="0" lang="en-US" sz="4400" spc="-1" strike="noStrike">
              <a:solidFill>
                <a:srgbClr val="e5ffff"/>
              </a:solidFill>
              <a:latin typeface="Rockwell"/>
            </a:endParaRPr>
          </a:p>
        </p:txBody>
      </p:sp>
      <p:pic>
        <p:nvPicPr>
          <p:cNvPr id="115" name="Picture 5" descr="中秋嫦娥月圆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781360"/>
            <a:ext cx="2087640" cy="1942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闹元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87640" y="2781360"/>
            <a:ext cx="2087640" cy="1942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200811591955161_2"/>
          <p:cNvPicPr/>
          <p:nvPr/>
        </p:nvPicPr>
        <p:blipFill>
          <a:blip r:embed="rId5"/>
          <a:stretch/>
        </p:blipFill>
        <p:spPr>
          <a:xfrm>
            <a:off x="5364000" y="2708280"/>
            <a:ext cx="2880000" cy="2016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919440" y="47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中秋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429360" y="4919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元宵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6351120" y="486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春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椭圆 8"/>
          <p:cNvSpPr/>
          <p:nvPr/>
        </p:nvSpPr>
        <p:spPr>
          <a:xfrm>
            <a:off x="8215200" y="6086520"/>
            <a:ext cx="928800" cy="7714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返回</a:t>
            </a:r>
            <a:r>
              <a:rPr b="0" lang="zh-CN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每逢佳节倍思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26105324abb5a6312b8740719e1143a0c174b542[1]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11280" y="380880"/>
            <a:ext cx="4475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Rockwell"/>
              </a:rPr>
              <a:t>（小组讨论）</a:t>
            </a:r>
            <a:endParaRPr b="0" lang="en-US" sz="44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11280" y="1981080"/>
            <a:ext cx="447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Rockwell"/>
              </a:rPr>
              <a:t>当王维思念家乡的时候他在思念家乡里的</a:t>
            </a:r>
            <a:r>
              <a:rPr b="1" lang="zh-CN" sz="3600" spc="-1" strike="noStrike">
                <a:solidFill>
                  <a:srgbClr val="ff0000"/>
                </a:solidFill>
                <a:latin typeface="Rockwell"/>
              </a:rPr>
              <a:t>谁</a:t>
            </a:r>
            <a:r>
              <a:rPr b="1" lang="zh-CN" sz="3600" spc="-1" strike="noStrike">
                <a:solidFill>
                  <a:srgbClr val="ffffff"/>
                </a:solidFill>
                <a:latin typeface="Rockwell"/>
              </a:rPr>
              <a:t>？想到他们在</a:t>
            </a:r>
            <a:r>
              <a:rPr b="1" lang="zh-CN" sz="3600" spc="-1" strike="noStrike">
                <a:solidFill>
                  <a:srgbClr val="ff0000"/>
                </a:solidFill>
                <a:latin typeface="Rockwell"/>
              </a:rPr>
              <a:t>做什么</a:t>
            </a:r>
            <a:r>
              <a:rPr b="1" lang="zh-CN" sz="3600" spc="-1" strike="noStrike">
                <a:solidFill>
                  <a:srgbClr val="ffffff"/>
                </a:solidFill>
                <a:latin typeface="Rockwell"/>
              </a:rPr>
              <a:t>？他们的</a:t>
            </a:r>
            <a:r>
              <a:rPr b="1" lang="zh-CN" sz="3600" spc="-1" strike="noStrike">
                <a:solidFill>
                  <a:srgbClr val="ff0000"/>
                </a:solidFill>
                <a:latin typeface="Rockwell"/>
              </a:rPr>
              <a:t>遗憾</a:t>
            </a:r>
            <a:r>
              <a:rPr b="1" lang="zh-CN" sz="3600" spc="-1" strike="noStrike">
                <a:solidFill>
                  <a:srgbClr val="ffffff"/>
                </a:solidFill>
                <a:latin typeface="Rockwell"/>
              </a:rPr>
              <a:t>是什么？哪两句诗叙述了想念的</a:t>
            </a:r>
            <a:r>
              <a:rPr b="1" lang="zh-CN" sz="3600" spc="-1" strike="noStrike">
                <a:solidFill>
                  <a:srgbClr val="ff0000"/>
                </a:solidFill>
                <a:latin typeface="Rockwell"/>
              </a:rPr>
              <a:t>内容</a:t>
            </a:r>
            <a:r>
              <a:rPr b="1" lang="zh-CN" sz="3600" spc="-1" strike="noStrike">
                <a:solidFill>
                  <a:srgbClr val="ffffff"/>
                </a:solidFill>
                <a:latin typeface="Rockwell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椭圆 4"/>
          <p:cNvSpPr/>
          <p:nvPr/>
        </p:nvSpPr>
        <p:spPr>
          <a:xfrm>
            <a:off x="8072280" y="6157800"/>
            <a:ext cx="1071720" cy="700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image1"/>
          <p:cNvPicPr/>
          <p:nvPr/>
        </p:nvPicPr>
        <p:blipFill>
          <a:blip r:embed="rId1"/>
          <a:stretch/>
        </p:blipFill>
        <p:spPr>
          <a:xfrm>
            <a:off x="-1189080" y="-1324080"/>
            <a:ext cx="11049120" cy="8543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遥知</a:t>
            </a: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e5ffff"/>
                </a:solidFill>
                <a:latin typeface="楷体_GB2312"/>
                <a:ea typeface="楷体_GB2312"/>
              </a:rPr>
              <a:t>兄弟</a:t>
            </a: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54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登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54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高处</a:t>
            </a:r>
            <a:r>
              <a:rPr b="1" lang="zh-CN" sz="5400" spc="-1" strike="noStrike">
                <a:solidFill>
                  <a:srgbClr val="e5ffff"/>
                </a:solidFill>
                <a:latin typeface="楷体_GB2312"/>
                <a:ea typeface="楷体_GB2312"/>
              </a:rPr>
              <a:t>，</a:t>
            </a:r>
            <a:br>
              <a:rPr sz="5400"/>
            </a:br>
            <a:r>
              <a:rPr b="1" lang="zh-CN" sz="54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遍</a:t>
            </a:r>
            <a:r>
              <a:rPr b="1" lang="zh-CN" sz="5400" spc="-1" strike="noStrike">
                <a:solidFill>
                  <a:srgbClr val="e5ffff"/>
                </a:solidFill>
                <a:latin typeface="楷体_GB2312"/>
                <a:ea typeface="楷体_GB2312"/>
              </a:rPr>
              <a:t>插</a:t>
            </a: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54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茱萸</a:t>
            </a: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e5ffff"/>
                </a:solidFill>
                <a:latin typeface="楷体_GB2312"/>
                <a:ea typeface="楷体_GB2312"/>
              </a:rPr>
              <a:t>少</a:t>
            </a: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54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一人</a:t>
            </a:r>
            <a:r>
              <a:rPr b="1" lang="zh-CN" sz="5400" spc="-1" strike="noStrike">
                <a:solidFill>
                  <a:srgbClr val="e5ffff"/>
                </a:solidFill>
                <a:latin typeface="楷体_GB2312"/>
                <a:ea typeface="楷体_GB2312"/>
              </a:rPr>
              <a:t>。</a:t>
            </a:r>
            <a:endParaRPr b="0" lang="en-US" sz="54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2637000"/>
            <a:ext cx="4879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茱萸：一种有浓烈香气的植物。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椭圆 4"/>
          <p:cNvSpPr/>
          <p:nvPr/>
        </p:nvSpPr>
        <p:spPr>
          <a:xfrm>
            <a:off x="8858160" y="6500880"/>
            <a:ext cx="914400" cy="7142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imag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010"/>
                </a:solidFill>
                <a:latin typeface="Rockwell"/>
              </a:rPr>
              <a:t>全诗的意思是：</a:t>
            </a:r>
            <a:endParaRPr b="0" lang="en-US" sz="32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46200" y="134136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我独自一个人居住在他乡，每到过节的时候我就更加思念自己家乡的亲人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在遥远的地方，想到兄弟们都登上高处，一个个都插上茱萸，单单缺少我一个人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95280" y="4076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这首诗表达了作者思念家乡、思念亲人的思想感情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椭圆 5"/>
          <p:cNvSpPr/>
          <p:nvPr/>
        </p:nvSpPr>
        <p:spPr>
          <a:xfrm>
            <a:off x="8229600" y="5943600"/>
            <a:ext cx="9144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get?name=T1t6dlBX_v1RCvBVd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364600" cy="47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Rockwell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Rockwell"/>
              </a:rPr>
              <a:t>我们班上有许多同学的爸爸、妈妈现在在外乡打工，中秋节快到了，我们可想而知，当看到明亮的灯光，皎洁的月光时，我们是多么想念爸爸妈妈，身处异乡的爸爸妈妈又是多么思念远在家乡的我们。让我们把这份思念长留心中，随着优美的音乐一起来背一背。</a:t>
            </a: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5733720"/>
            <a:ext cx="82296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" name="椭圆 5"/>
          <p:cNvSpPr/>
          <p:nvPr/>
        </p:nvSpPr>
        <p:spPr>
          <a:xfrm>
            <a:off x="8229600" y="5943600"/>
            <a:ext cx="9144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get?name=T1UthHB_CX1RCvBVd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Rockwell"/>
              </a:rPr>
              <a:t>以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ff0000"/>
                </a:solidFill>
                <a:latin typeface="Rockwell"/>
              </a:rPr>
              <a:t>妈妈（爸爸）我想对你说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ffffff"/>
                </a:solidFill>
                <a:latin typeface="Rockwell"/>
              </a:rPr>
              <a:t>为题目，写一段话，表达自己对爸爸妈妈的思念关心之情。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2" name="椭圆 5"/>
          <p:cNvSpPr/>
          <p:nvPr/>
        </p:nvSpPr>
        <p:spPr>
          <a:xfrm>
            <a:off x="8643960" y="6500880"/>
            <a:ext cx="9144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矩形 3"/>
          <p:cNvSpPr/>
          <p:nvPr/>
        </p:nvSpPr>
        <p:spPr>
          <a:xfrm>
            <a:off x="2428920" y="2357280"/>
            <a:ext cx="671508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ahoma"/>
              </a:rPr>
              <a:t>谢谢观赏</a:t>
            </a:r>
            <a:r>
              <a:rPr b="0" lang="en-US" sz="7200" spc="-1" strike="noStrike">
                <a:solidFill>
                  <a:srgbClr val="ff0000"/>
                </a:solidFill>
                <a:latin typeface="Tahoma"/>
              </a:rPr>
              <a:t>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Rockwell"/>
              </a:rPr>
              <a:t>目录</a:t>
            </a:r>
            <a:endParaRPr b="0" lang="en-US" sz="44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49" name="矩形 3">
            <a:hlinkClick r:id="rId1" action="ppaction://hlinksldjump"/>
          </p:cNvPr>
          <p:cNvSpPr/>
          <p:nvPr/>
        </p:nvSpPr>
        <p:spPr>
          <a:xfrm>
            <a:off x="1428840" y="1643040"/>
            <a:ext cx="2714400" cy="5000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图片欣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429120" y="1981080"/>
            <a:ext cx="88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" name="矩形 6">
            <a:hlinkClick r:id="rId2" action="ppaction://hlinksldjump"/>
          </p:cNvPr>
          <p:cNvSpPr/>
          <p:nvPr/>
        </p:nvSpPr>
        <p:spPr>
          <a:xfrm>
            <a:off x="1428840" y="2143080"/>
            <a:ext cx="2714400" cy="5000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文字介绍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矩形 7">
            <a:hlinkClick r:id="rId3" action="ppaction://hlinksldjump"/>
          </p:cNvPr>
          <p:cNvSpPr/>
          <p:nvPr/>
        </p:nvSpPr>
        <p:spPr>
          <a:xfrm>
            <a:off x="1428840" y="2643120"/>
            <a:ext cx="2714400" cy="6429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作者简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矩形 8">
            <a:hlinkClick r:id="rId4" action="ppaction://hlinksldjump"/>
          </p:cNvPr>
          <p:cNvSpPr/>
          <p:nvPr/>
        </p:nvSpPr>
        <p:spPr>
          <a:xfrm>
            <a:off x="1428840" y="3857760"/>
            <a:ext cx="2714400" cy="5713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诗歌学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矩形 9">
            <a:hlinkClick r:id="rId5" action="ppaction://hlinksldjump"/>
          </p:cNvPr>
          <p:cNvSpPr/>
          <p:nvPr/>
        </p:nvSpPr>
        <p:spPr>
          <a:xfrm>
            <a:off x="1428840" y="3286080"/>
            <a:ext cx="2714400" cy="571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视频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矩形 10"/>
          <p:cNvSpPr/>
          <p:nvPr/>
        </p:nvSpPr>
        <p:spPr>
          <a:xfrm>
            <a:off x="1428840" y="4429080"/>
            <a:ext cx="2714400" cy="5000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作业</a:t>
            </a:r>
            <a:r>
              <a:rPr b="0" lang="zh-CN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安排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椭圆 9"/>
          <p:cNvSpPr/>
          <p:nvPr/>
        </p:nvSpPr>
        <p:spPr>
          <a:xfrm>
            <a:off x="8072280" y="5929200"/>
            <a:ext cx="714600" cy="714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Rockwell"/>
              </a:rPr>
              <a:t>古人重阳节习俗</a:t>
            </a:r>
            <a:endParaRPr b="0" lang="en-US" sz="44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5516640"/>
            <a:ext cx="26956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Rockwell"/>
              </a:rPr>
              <a:t>登高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9" name="Picture 4" descr="26105324abb5a6312b8740719e1143a0c174b542[1]"/>
          <p:cNvPicPr/>
          <p:nvPr/>
        </p:nvPicPr>
        <p:blipFill>
          <a:blip r:embed="rId1"/>
          <a:stretch/>
        </p:blipFill>
        <p:spPr>
          <a:xfrm>
            <a:off x="1908000" y="1557360"/>
            <a:ext cx="2232360" cy="374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8607_570344[1]"/>
          <p:cNvPicPr/>
          <p:nvPr/>
        </p:nvPicPr>
        <p:blipFill>
          <a:blip r:embed="rId2"/>
          <a:stretch/>
        </p:blipFill>
        <p:spPr>
          <a:xfrm>
            <a:off x="5076720" y="1557360"/>
            <a:ext cx="1987560" cy="3672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5076720" y="537372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508720" y="5516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插茱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椭圆 7"/>
          <p:cNvSpPr/>
          <p:nvPr/>
        </p:nvSpPr>
        <p:spPr>
          <a:xfrm>
            <a:off x="8358120" y="6086520"/>
            <a:ext cx="785880" cy="7714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0000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2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66" name="Picture 4" descr="u=878891025,40075368&amp;fm=0&amp;gp=0[1]"/>
          <p:cNvPicPr/>
          <p:nvPr/>
        </p:nvPicPr>
        <p:blipFill>
          <a:blip r:embed="rId1"/>
          <a:stretch/>
        </p:blipFill>
        <p:spPr>
          <a:xfrm>
            <a:off x="900000" y="2781360"/>
            <a:ext cx="2159280" cy="2320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getimage[1]"/>
          <p:cNvPicPr/>
          <p:nvPr/>
        </p:nvPicPr>
        <p:blipFill>
          <a:blip r:embed="rId2"/>
          <a:stretch/>
        </p:blipFill>
        <p:spPr>
          <a:xfrm>
            <a:off x="3564000" y="2708280"/>
            <a:ext cx="2592360" cy="216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u=3638848896,3358250070&amp;fm=52&amp;gp=0[1]"/>
          <p:cNvPicPr/>
          <p:nvPr/>
        </p:nvPicPr>
        <p:blipFill>
          <a:blip r:embed="rId3"/>
          <a:stretch/>
        </p:blipFill>
        <p:spPr>
          <a:xfrm>
            <a:off x="6300720" y="3213000"/>
            <a:ext cx="2095560" cy="1390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1189080" y="522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放风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285080" y="5170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吃重阳糕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7093080" y="524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饮菊花酒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椭圆 9"/>
          <p:cNvSpPr/>
          <p:nvPr/>
        </p:nvSpPr>
        <p:spPr>
          <a:xfrm>
            <a:off x="8501040" y="6072120"/>
            <a:ext cx="642960" cy="785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u=2249211816,2172311700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1010"/>
                </a:solidFill>
                <a:latin typeface="Rockwell"/>
              </a:rPr>
              <a:t>九月九日是什么日子？</a:t>
            </a:r>
            <a:endParaRPr b="0" lang="en-US" sz="48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Rockwell"/>
              </a:rPr>
              <a:t>九月九日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Rockwell"/>
              </a:rPr>
              <a:t>指的是农历九月初九，这一天，是中国人的传统节日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Rockwell"/>
              </a:rPr>
              <a:t>重阳节。在我国古代，重阳节是一个重要的节日，这一天要举行各种活动，如：登高、插茱萸、赏菊、吃重阳糕、喝菊花酒等。如今，这个古老的节日又增加了新的内容，成为一年一度的“老人节”。因为两个九意味着生命长久、健康长寿。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椭圆 4"/>
          <p:cNvSpPr/>
          <p:nvPr/>
        </p:nvSpPr>
        <p:spPr>
          <a:xfrm>
            <a:off x="8358120" y="5572080"/>
            <a:ext cx="785880" cy="557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Rockwell"/>
              </a:rPr>
              <a:t>九月九日忆山东兄弟</a:t>
            </a:r>
            <a:endParaRPr b="0" lang="en-US" sz="44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13780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Rockwell"/>
              </a:rPr>
              <a:t>忆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187280" y="1773360"/>
            <a:ext cx="14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思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826920" y="2637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山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318200" y="2637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华山以东，指王维的家乡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539640" y="400536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题目的意思是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684360" y="184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3492360" y="3933720"/>
            <a:ext cx="489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重阳节思念自己家乡的兄弟亲人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椭圆 9"/>
          <p:cNvSpPr/>
          <p:nvPr/>
        </p:nvSpPr>
        <p:spPr>
          <a:xfrm>
            <a:off x="8358120" y="6229440"/>
            <a:ext cx="785880" cy="628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Rockwell"/>
                <a:ea typeface="DFKai-SB"/>
              </a:rPr>
              <a:t>认识王维</a:t>
            </a:r>
            <a:endParaRPr b="0" lang="en-US" sz="60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Rockwell"/>
              </a:rPr>
              <a:t>王维，唐朝诗人，１５岁时离开了故乡到长安去参加科举考试，２０岁时考上进士。在这段时间里，他一直漂泊在外，自然会想家，尤其是过节的时候，这种情感更加强烈。王维很有才华，他的诗被人誉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Rockwell"/>
              </a:rPr>
              <a:t>诗中有画，画中有诗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Rockwell"/>
              </a:rPr>
              <a:t>这首诗是诗人十七岁时离开家乡，远在京城长安写的。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" name="椭圆 3">
            <a:hlinkClick r:id="rId1" action="ppaction://hlinksldjump"/>
          </p:cNvPr>
          <p:cNvSpPr/>
          <p:nvPr/>
        </p:nvSpPr>
        <p:spPr>
          <a:xfrm>
            <a:off x="8358120" y="6086520"/>
            <a:ext cx="785880" cy="7714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5ffff"/>
              </a:solidFill>
              <a:latin typeface="Rockwell"/>
            </a:endParaRPr>
          </a:p>
        </p:txBody>
      </p:sp>
      <p:pic>
        <p:nvPicPr>
          <p:cNvPr id="90" name="029九月九日忆山东兄弟-古诗配乐朗诵.avi" descr=""/>
          <p:cNvPicPr/>
          <p:nvPr/>
        </p:nvPicPr>
        <p:blipFill>
          <a:blip r:embed="rId1"/>
          <a:stretch/>
        </p:blipFill>
        <p:spPr>
          <a:xfrm>
            <a:off x="0" y="500040"/>
            <a:ext cx="8715240" cy="5643720"/>
          </a:xfrm>
          <a:prstGeom prst="rect">
            <a:avLst/>
          </a:prstGeom>
          <a:ln w="0">
            <a:noFill/>
          </a:ln>
        </p:spPr>
      </p:pic>
      <p:sp>
        <p:nvSpPr>
          <p:cNvPr id="91" name="椭圆 4"/>
          <p:cNvSpPr/>
          <p:nvPr/>
        </p:nvSpPr>
        <p:spPr>
          <a:xfrm>
            <a:off x="7715160" y="5429160"/>
            <a:ext cx="785880" cy="700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返回</a:t>
            </a:r>
            <a:r>
              <a:rPr b="0" lang="zh-CN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认识王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70733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1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-357120" y="-214200"/>
            <a:ext cx="9325080" cy="6775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66"/>
                </a:solidFill>
                <a:latin typeface="Rockwell"/>
                <a:ea typeface="PMingLiU"/>
              </a:rPr>
              <a:t>九月九日</a:t>
            </a:r>
            <a:r>
              <a:rPr b="1" lang="zh-CN" sz="4800" spc="-1" strike="noStrike">
                <a:solidFill>
                  <a:srgbClr val="ff0066"/>
                </a:solidFill>
                <a:latin typeface="Rockwell"/>
                <a:ea typeface="PMingLiU"/>
              </a:rPr>
              <a:t>忆</a:t>
            </a:r>
            <a:r>
              <a:rPr b="1" lang="zh-TW" sz="4800" spc="-1" strike="noStrike">
                <a:solidFill>
                  <a:srgbClr val="ff0066"/>
                </a:solidFill>
                <a:latin typeface="Rockwell"/>
                <a:ea typeface="PMingLiU"/>
              </a:rPr>
              <a:t>山</a:t>
            </a:r>
            <a:r>
              <a:rPr b="1" lang="zh-CN" sz="4800" spc="-1" strike="noStrike">
                <a:solidFill>
                  <a:srgbClr val="ff0066"/>
                </a:solidFill>
                <a:latin typeface="Rockwell"/>
                <a:ea typeface="PMingLiU"/>
              </a:rPr>
              <a:t>东</a:t>
            </a:r>
            <a:r>
              <a:rPr b="1" lang="zh-TW" sz="4800" spc="-1" strike="noStrike">
                <a:solidFill>
                  <a:srgbClr val="ff0066"/>
                </a:solidFill>
                <a:latin typeface="Rockwell"/>
                <a:ea typeface="PMingLiU"/>
              </a:rPr>
              <a:t>兄弟</a:t>
            </a:r>
            <a:endParaRPr b="0" lang="en-US" sz="4800" spc="-1" strike="noStrike">
              <a:solidFill>
                <a:srgbClr val="e5ffff"/>
              </a:solidFill>
              <a:latin typeface="Rockwel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Rockwell"/>
                <a:ea typeface="DFKai-SB"/>
              </a:rPr>
              <a:t>                           </a:t>
            </a:r>
            <a:r>
              <a:rPr b="1" lang="zh-TW" sz="4400" spc="-1" strike="noStrike">
                <a:solidFill>
                  <a:srgbClr val="001010"/>
                </a:solidFill>
                <a:latin typeface="Rockwell"/>
                <a:ea typeface="DFKai-SB"/>
              </a:rPr>
              <a:t>王</a:t>
            </a:r>
            <a:r>
              <a:rPr b="1" lang="zh-CN" sz="4400" spc="-1" strike="noStrike">
                <a:solidFill>
                  <a:srgbClr val="001010"/>
                </a:solidFill>
                <a:latin typeface="Rockwell"/>
                <a:ea typeface="DFKai-SB"/>
              </a:rPr>
              <a:t>维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Rockwell"/>
                <a:ea typeface="DFKai-SB"/>
              </a:rPr>
              <a:t>       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独在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异乡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异客，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每逢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佳节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倍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思亲。 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遥知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兄弟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登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处，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遍插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茱萸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少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人。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" name="椭圆 6"/>
          <p:cNvSpPr/>
          <p:nvPr/>
        </p:nvSpPr>
        <p:spPr>
          <a:xfrm>
            <a:off x="8143920" y="5786280"/>
            <a:ext cx="714240" cy="62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2T16:47:39Z</dcterms:created>
  <dc:creator>微软用户</dc:creator>
  <dc:description/>
  <dc:language>en-US</dc:language>
  <cp:lastModifiedBy>john</cp:lastModifiedBy>
  <dcterms:modified xsi:type="dcterms:W3CDTF">2013-06-16T01:38:30Z</dcterms:modified>
  <cp:revision>24</cp:revision>
  <dc:subject/>
  <dc:title>古人重阳节习俗</dc:title>
</cp:coreProperties>
</file>