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8FA-AA1C-430B-A679-B67CEBF7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6B0-51FB-458E-AE39-0772363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0DC-BB4E-4100-86ED-40776B7E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3C7-73F1-4101-AC53-98D03F0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809-2790-49D5-BD9C-9CA217E1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07B-99B4-4212-8088-F8E376F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4D6-7768-4F1F-89B8-000C2DF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0EA-6BAF-45E5-BCAD-82E3CC6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7A7-EC1D-42FB-AC3E-CA8B5FC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ACE-111F-4093-93BE-2D870B6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741-9945-411A-88EA-2233F59C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DDB-53FB-48CD-9310-4AFE7700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汇元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logo_white"/>
          <p:cNvPicPr/>
          <p:nvPr/>
        </p:nvPicPr>
        <p:blipFill>
          <a:blip r:embed="rId4"/>
          <a:stretch/>
        </p:blipFill>
        <p:spPr>
          <a:xfrm>
            <a:off x="403200" y="6410160"/>
            <a:ext cx="1079640" cy="357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1kat_white"/>
          <p:cNvPicPr/>
          <p:nvPr/>
        </p:nvPicPr>
        <p:blipFill>
          <a:blip r:embed="rId5"/>
          <a:stretch/>
        </p:blipFill>
        <p:spPr>
          <a:xfrm>
            <a:off x="7139160" y="6424560"/>
            <a:ext cx="1712880" cy="357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1haot_white"/>
          <p:cNvPicPr/>
          <p:nvPr/>
        </p:nvPicPr>
        <p:blipFill>
          <a:blip r:embed="rId6"/>
          <a:stretch/>
        </p:blipFill>
        <p:spPr>
          <a:xfrm>
            <a:off x="3562200" y="6440400"/>
            <a:ext cx="162576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TextBox 8" descr=""/>
          <p:cNvPicPr/>
          <p:nvPr/>
        </p:nvPicPr>
        <p:blipFill>
          <a:blip r:embed="rId7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711-7DA7-4FD5-98BC-7567CA1156B2}" type="slidenum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ppt_汇元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10" descr=""/>
          <p:cNvPicPr/>
          <p:nvPr/>
        </p:nvPicPr>
        <p:blipFill>
          <a:blip r:embed="rId4"/>
          <a:stretch/>
        </p:blipFill>
        <p:spPr>
          <a:xfrm>
            <a:off x="3114720" y="4657680"/>
            <a:ext cx="539604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225440" y="1506240"/>
            <a:ext cx="59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736560" y="668880"/>
            <a:ext cx="724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zh-CN" sz="6000" spc="-1" strike="noStrike" u="sng">
                <a:solidFill>
                  <a:srgbClr val="f3031a"/>
                </a:solidFill>
                <a:uFillTx/>
                <a:latin typeface="新宋体"/>
                <a:ea typeface="新宋体"/>
              </a:rPr>
              <a:t>绞刑架下的报告</a:t>
            </a:r>
            <a:r>
              <a:rPr b="1" lang="zh-CN" sz="6000" spc="-1" strike="noStrike">
                <a:solidFill>
                  <a:srgbClr val="f3031a"/>
                </a:solidFill>
                <a:latin typeface="新宋体"/>
                <a:ea typeface="新宋体"/>
              </a:rPr>
              <a:t>   </a:t>
            </a:r>
            <a:r>
              <a:rPr b="1" lang="zh-CN" sz="4400" spc="-1" strike="noStrike">
                <a:solidFill>
                  <a:srgbClr val="f3031a"/>
                </a:solidFill>
                <a:latin typeface="新宋体"/>
                <a:ea typeface="新宋体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6853320" y="6151680"/>
            <a:ext cx="30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948120" y="3855960"/>
            <a:ext cx="49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伏契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"/>
          <p:cNvSpPr/>
          <p:nvPr/>
        </p:nvSpPr>
        <p:spPr>
          <a:xfrm>
            <a:off x="5864400" y="444600"/>
            <a:ext cx="311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2"/>
          <p:cNvSpPr/>
          <p:nvPr/>
        </p:nvSpPr>
        <p:spPr>
          <a:xfrm>
            <a:off x="851040" y="120636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行楷繁体"/>
                <a:ea typeface="方正行楷繁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没有心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呵，我有心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组对话非常精彩，你是怎样理解的，说说你的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4527720" y="330120"/>
            <a:ext cx="318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重点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851040" y="2946240"/>
            <a:ext cx="8292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高度概括伏契克的卓越表现及敌人的束手无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敌人：  生理上的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伏契克：精神上无比坚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意志上无比坚强的心灵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8953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1"/>
          <p:cNvSpPr/>
          <p:nvPr/>
        </p:nvSpPr>
        <p:spPr>
          <a:xfrm>
            <a:off x="4527720" y="330120"/>
            <a:ext cx="318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重点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2"/>
          <p:cNvSpPr/>
          <p:nvPr/>
        </p:nvSpPr>
        <p:spPr>
          <a:xfrm>
            <a:off x="0" y="1206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在遭受毒打的过程中产生了许多联想，讨论分析这些插叙部分的内容和作用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）相关语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收音机播出午夜时刻的信号。咖啡馆关门了，最后的顾客回家了，情人们还流连在门前难舍难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一点钟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三点钟。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五点，六点，七点，十点，中午了，工人们上工又下工，孩子们上学又放学，商店里做着买卖，家里烧着饭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606680" y="2490840"/>
            <a:ext cx="753732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031a"/>
                </a:solidFill>
                <a:latin typeface="黑体"/>
                <a:ea typeface="黑体"/>
              </a:rPr>
              <a:t>这是作者对人们如：情人话别、工人上班、孩子上学等宁静平和生活的联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3031a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）相关语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收音机播出午夜时刻的信号。咖啡馆关门了，最后的顾客回家了，情人们还流连在门前难舍难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一点钟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三点钟。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0060"/>
                </a:solidFill>
                <a:latin typeface="Arial"/>
                <a:ea typeface="黑体"/>
              </a:rPr>
              <a:t>五点，六点，七点，十点，中午了，工人们上工又下工，孩子们上学又放学，商店里做着买卖，家里烧着饭</a:t>
            </a:r>
            <a:r>
              <a:rPr b="1" lang="en-US" sz="3600" spc="-1" strike="noStrike">
                <a:solidFill>
                  <a:srgbClr val="60006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064040" y="278136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600200" y="2490840"/>
            <a:ext cx="75438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031a"/>
                </a:solidFill>
                <a:latin typeface="楷体_GB2312"/>
                <a:ea typeface="楷体_GB2312"/>
              </a:rPr>
              <a:t>体现了</a:t>
            </a:r>
            <a:r>
              <a:rPr b="1" lang="zh-CN" sz="3200" spc="-1" strike="noStrike">
                <a:solidFill>
                  <a:srgbClr val="f3031a"/>
                </a:solidFill>
                <a:latin typeface="楷体_GB2312"/>
                <a:ea typeface="楷体_GB2312"/>
              </a:rPr>
              <a:t>作者作为一名自觉的战士</a:t>
            </a:r>
            <a:r>
              <a:rPr b="1" lang="en-US" sz="3200" spc="-1" strike="noStrike">
                <a:solidFill>
                  <a:srgbClr val="f3031a"/>
                </a:solidFill>
                <a:latin typeface="楷体_GB2312"/>
                <a:ea typeface="楷体_GB2312"/>
              </a:rPr>
              <a:t>、清醒的革命家的崇高精神，包括热爱生活却又自觉牺牲，宁愿受苦受难也不让他人遭罪，为他人幸福生活而受难献身等崇高思想；也不无悲壮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50004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矩形 1"/>
          <p:cNvSpPr/>
          <p:nvPr/>
        </p:nvSpPr>
        <p:spPr>
          <a:xfrm>
            <a:off x="5864400" y="444600"/>
            <a:ext cx="311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"/>
          <p:cNvSpPr/>
          <p:nvPr/>
        </p:nvSpPr>
        <p:spPr>
          <a:xfrm>
            <a:off x="5378400" y="63360"/>
            <a:ext cx="318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重点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55760" y="1573200"/>
            <a:ext cx="8688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头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差五分就要敲十点钟了。一九四二年四月二十四日，一个美丽而温润的夜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差五分就要敲时点钟了。一九四二年四月二十五日，一个美丽而温润的春夜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55760" y="3463920"/>
            <a:ext cx="86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031a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3031a"/>
                </a:solidFill>
                <a:latin typeface="黑体"/>
                <a:ea typeface="黑体"/>
              </a:rPr>
              <a:t>在结构上，文章首尾呼应，构成一个整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11040" y="5597640"/>
            <a:ext cx="86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031a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3031a"/>
                </a:solidFill>
                <a:latin typeface="黑体"/>
                <a:ea typeface="黑体"/>
              </a:rPr>
              <a:t>作者还能如此精确诗意地记述时间，表现了他非凡的意志力和对生活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455760" y="4043520"/>
            <a:ext cx="86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031a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3031a"/>
                </a:solidFill>
                <a:latin typeface="黑体"/>
                <a:ea typeface="黑体"/>
              </a:rPr>
              <a:t>内容上，这是一种反衬，</a:t>
            </a:r>
            <a:r>
              <a:rPr b="1" lang="zh-CN" sz="3200" spc="-1" strike="noStrike">
                <a:solidFill>
                  <a:srgbClr val="f3031a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3031a"/>
                </a:solidFill>
                <a:latin typeface="黑体"/>
                <a:ea typeface="黑体"/>
              </a:rPr>
              <a:t>美丽而温润</a:t>
            </a:r>
            <a:r>
              <a:rPr b="1" lang="zh-CN" sz="3200" spc="-1" strike="noStrike">
                <a:solidFill>
                  <a:srgbClr val="f3031a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3031a"/>
                </a:solidFill>
                <a:latin typeface="黑体"/>
                <a:ea typeface="黑体"/>
              </a:rPr>
              <a:t>反衬受刑的阴郁、恐怖。同胞能够和平美好地生活，英雄才慷慨赴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1801800" y="399960"/>
            <a:ext cx="40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主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0" y="2960280"/>
            <a:ext cx="86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通过写作者被捕和遭受严刑拷打的经历，揭露了德国法西斯的凶狠残暴和色厉内荏的虚弱本质，表现了作者坚贞不屈的崇高品德和和视死如归大无畏的革命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"/>
          <p:cNvSpPr/>
          <p:nvPr/>
        </p:nvSpPr>
        <p:spPr>
          <a:xfrm>
            <a:off x="647640" y="176040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你见到受刑后的伏契克，你会对他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801800" y="399960"/>
            <a:ext cx="40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647640" y="351288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请你给革命烈士伏契克的墓碑上写几个字，评价他伟大的一生，你会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647640" y="534096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还知道哪些坚强不屈的革命志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141640" y="816120"/>
            <a:ext cx="686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66"/>
                </a:solidFill>
                <a:latin typeface="Arial"/>
                <a:ea typeface="微软雅黑"/>
              </a:rPr>
              <a:t>谢谢观赏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3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8953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464760"/>
            <a:ext cx="8394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学习目的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5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了解报告文学的特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理解课文内容，锻炼概括能力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理解革命者面对严刑拷打时的不屈精神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运用比较的方法全面理解革命者的形象，体会课文的语言风格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1"/>
          <p:cNvSpPr/>
          <p:nvPr/>
        </p:nvSpPr>
        <p:spPr>
          <a:xfrm>
            <a:off x="3768840" y="457200"/>
            <a:ext cx="31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"/>
          <p:cNvSpPr/>
          <p:nvPr/>
        </p:nvSpPr>
        <p:spPr>
          <a:xfrm>
            <a:off x="5284080" y="431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说说文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2"/>
          <p:cNvSpPr/>
          <p:nvPr/>
        </p:nvSpPr>
        <p:spPr>
          <a:xfrm>
            <a:off x="304920" y="140976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本文是一篇</a:t>
            </a:r>
            <a:r>
              <a:rPr b="1" lang="zh-CN" sz="4000" spc="-1" strike="noStrike">
                <a:solidFill>
                  <a:srgbClr val="f3031a"/>
                </a:solidFill>
                <a:latin typeface="Arial"/>
                <a:ea typeface="楷体_GB2312"/>
              </a:rPr>
              <a:t>特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是</a:t>
            </a:r>
            <a:r>
              <a:rPr b="1" lang="zh-CN" sz="4000" spc="-1" strike="noStrike">
                <a:solidFill>
                  <a:srgbClr val="f3031a"/>
                </a:solidFill>
                <a:latin typeface="Arial"/>
                <a:ea typeface="楷体_GB2312"/>
              </a:rPr>
              <a:t>报告文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一种形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报告文学是一种以文学手法及时反映和评论现实生活中</a:t>
            </a:r>
            <a:r>
              <a:rPr b="1" lang="zh-CN" sz="4000" spc="-1" strike="noStrike">
                <a:solidFill>
                  <a:srgbClr val="f3031a"/>
                </a:solidFill>
                <a:latin typeface="Arial"/>
                <a:ea typeface="楷体_GB2312"/>
              </a:rPr>
              <a:t>真人真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新闻文体，介于</a:t>
            </a:r>
            <a:r>
              <a:rPr b="1" lang="zh-CN" sz="4000" spc="-1" strike="noStrike">
                <a:solidFill>
                  <a:srgbClr val="f3031a"/>
                </a:solidFill>
                <a:latin typeface="Arial"/>
                <a:ea typeface="楷体_GB2312"/>
              </a:rPr>
              <a:t>通讯和小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之间，它有三个主要特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f3031a"/>
                </a:solidFill>
                <a:latin typeface="Arial"/>
                <a:ea typeface="楷体_GB2312"/>
              </a:rPr>
              <a:t>新闻性、文学性和政论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3768840" y="457200"/>
            <a:ext cx="31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708120" y="992160"/>
            <a:ext cx="7561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契克，捷克的优秀共产党员，著名的反法西斯战士、文艺评论家、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少年时代起，他就深切地感受到工人阶级的苦难生活。在俄国十月革命的影响下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就加入了捷克斯洛伐克共产党。为了维持生活，他兼做短工和街头广告员。后来，他被党指派为文艺与政治评论刊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总编辑和党中央机关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色权利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编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希特勒法西斯占领捷克斯洛伐克，伏契克留在布拉格坚持地下斗争，由于叛徒出卖，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不幸被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0" y="76320"/>
            <a:ext cx="37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作者与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3"/>
          <p:cNvSpPr/>
          <p:nvPr/>
        </p:nvSpPr>
        <p:spPr>
          <a:xfrm>
            <a:off x="231840" y="379440"/>
            <a:ext cx="8561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西斯残酷地毒打、折磨伏契克，又卑鄙地引诱他投降。伏契克在惨无人道的刑讯日子里，在随时有被拉上绞刑架的危险处境中，仍然不忘战斗。他用铅笔头在一张张碎纸片上写下了震撼人心的长篇特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绞刑架下的报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全世界人民控诉了德国法西斯的罪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伏契克被希特勒匪徒残酷地杀害于柏林的庞克拉茨监狱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绞刑架下的报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版以来，先后被译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语言，鼓舞着全世界革命人民争取自由、正义和共产主义事业的伟大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45072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2009880" y="465120"/>
            <a:ext cx="39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406440" y="1227240"/>
            <a:ext cx="84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线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濒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拼音写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ǐn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慎（       ）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ān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扶（   ）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14760" y="400680"/>
            <a:ext cx="28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1717560" y="4745160"/>
            <a:ext cx="58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622600" y="4365720"/>
            <a:ext cx="604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960560" y="4299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628640" y="37512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965160" y="493380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965160" y="4116240"/>
            <a:ext cx="817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文章记述了从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1942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24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日晚差五分十点至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1942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25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日晚差五分十点，伏契克集会</a:t>
            </a:r>
            <a:r>
              <a:rPr b="1" lang="zh-CN" sz="3600" spc="-1" strike="noStrike" u="sng">
                <a:solidFill>
                  <a:srgbClr val="600060"/>
                </a:solidFill>
                <a:uFillTx/>
                <a:latin typeface="黑体"/>
                <a:ea typeface="黑体"/>
              </a:rPr>
              <a:t>被捕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600060"/>
                </a:solidFill>
                <a:uFillTx/>
                <a:latin typeface="黑体"/>
                <a:ea typeface="黑体"/>
              </a:rPr>
              <a:t>坐牢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，遭</a:t>
            </a:r>
            <a:r>
              <a:rPr b="1" lang="zh-CN" sz="3600" spc="-1" strike="noStrike" u="sng">
                <a:solidFill>
                  <a:srgbClr val="600060"/>
                </a:solidFill>
                <a:uFillTx/>
                <a:latin typeface="黑体"/>
                <a:ea typeface="黑体"/>
              </a:rPr>
              <a:t>受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严</a:t>
            </a:r>
            <a:r>
              <a:rPr b="1" lang="zh-CN" sz="3600" spc="-1" strike="noStrike">
                <a:solidFill>
                  <a:srgbClr val="600060"/>
                </a:solidFill>
                <a:latin typeface="黑体"/>
                <a:ea typeface="黑体"/>
              </a:rPr>
              <a:t>刑</a:t>
            </a:r>
            <a:r>
              <a:rPr b="1" lang="zh-CN" sz="3600" spc="-1" strike="noStrike">
                <a:solidFill>
                  <a:srgbClr val="f3031a"/>
                </a:solidFill>
                <a:latin typeface="黑体"/>
                <a:ea typeface="黑体"/>
              </a:rPr>
              <a:t>拷打，直至牺牲前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965160" y="2316600"/>
            <a:ext cx="81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自己喜欢的方式读课文，试用一句话概述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3031a"/>
                </a:solidFill>
                <a:latin typeface="楷体_GB2312"/>
                <a:ea typeface="楷体_GB2312"/>
              </a:rPr>
              <a:t>提示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，地点、主要人物、事情的起因、经过、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78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8953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4514760" y="400680"/>
            <a:ext cx="28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717560" y="4745160"/>
            <a:ext cx="58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2600" y="4365720"/>
            <a:ext cx="604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1960560" y="4299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1628640" y="37512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965160" y="493380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851040" y="1658160"/>
            <a:ext cx="80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试找出伏契克</a:t>
            </a:r>
            <a:r>
              <a:rPr b="0" lang="zh-CN" sz="3200" spc="-1" strike="noStrike">
                <a:solidFill>
                  <a:srgbClr val="600060"/>
                </a:solidFill>
                <a:latin typeface="黑体"/>
                <a:ea typeface="黑体"/>
              </a:rPr>
              <a:t>五次遭受酷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对应的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74720" y="2498760"/>
          <a:ext cx="8158320" cy="3962520"/>
        </p:xfrm>
        <a:graphic>
          <a:graphicData uri="http://schemas.openxmlformats.org/drawingml/2006/table">
            <a:tbl>
              <a:tblPr/>
              <a:tblGrid>
                <a:gridCol w="1054080"/>
                <a:gridCol w="1346040"/>
                <a:gridCol w="1324080"/>
                <a:gridCol w="1327320"/>
                <a:gridCol w="1738080"/>
                <a:gridCol w="1368720"/>
              </a:tblGrid>
              <a:tr h="183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夜十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夜十一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午夜</a:t>
                      </a:r>
                      <a:r>
                        <a:rPr b="1" lang="en-US" sz="2400" spc="-1" strike="noStrike">
                          <a:solidFill>
                            <a:srgbClr val="f3031a"/>
                          </a:solidFill>
                          <a:latin typeface="Arial"/>
                          <a:ea typeface="楷体_GB2312"/>
                        </a:rPr>
                        <a:t>—</a:t>
                      </a: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早三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早四点</a:t>
                      </a:r>
                      <a:r>
                        <a:rPr b="1" lang="en-US" sz="2400" spc="-1" strike="noStrike">
                          <a:solidFill>
                            <a:srgbClr val="f3031a"/>
                          </a:solidFill>
                          <a:latin typeface="Arial"/>
                          <a:ea typeface="楷体_GB2312"/>
                        </a:rPr>
                        <a:t>—</a:t>
                      </a: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下午五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3031a"/>
                          </a:solidFill>
                          <a:latin typeface="楷体_GB2312"/>
                          <a:ea typeface="楷体_GB2312"/>
                        </a:rPr>
                        <a:t>下午五点以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段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Text Box 43"/>
          <p:cNvSpPr/>
          <p:nvPr/>
        </p:nvSpPr>
        <p:spPr>
          <a:xfrm>
            <a:off x="2935440" y="5803920"/>
            <a:ext cx="17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031a"/>
                </a:solidFill>
                <a:latin typeface="Arial"/>
              </a:rPr>
              <a:t>43—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4660920" y="588024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031a"/>
                </a:solidFill>
                <a:latin typeface="Arial"/>
              </a:rPr>
              <a:t>61—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5"/>
          <p:cNvSpPr/>
          <p:nvPr/>
        </p:nvSpPr>
        <p:spPr>
          <a:xfrm>
            <a:off x="6059520" y="57848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031a"/>
                </a:solidFill>
                <a:latin typeface="Arial"/>
              </a:rPr>
              <a:t>77—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6"/>
          <p:cNvSpPr/>
          <p:nvPr/>
        </p:nvSpPr>
        <p:spPr>
          <a:xfrm>
            <a:off x="7496280" y="578484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031a"/>
                </a:solidFill>
                <a:latin typeface="Arial"/>
              </a:rPr>
              <a:t>89—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4514760" y="43308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捆起来毒打、打落牙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0"/>
          <p:cNvSpPr/>
          <p:nvPr/>
        </p:nvSpPr>
        <p:spPr>
          <a:xfrm>
            <a:off x="5775480" y="4430880"/>
            <a:ext cx="19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以妻子诱降失败，漫长拷打，拔胡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1"/>
          <p:cNvSpPr/>
          <p:nvPr/>
        </p:nvSpPr>
        <p:spPr>
          <a:xfrm>
            <a:off x="7623000" y="465624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转监牢、痛昏后泼凉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2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89532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61"/>
          <p:cNvGrpSpPr/>
          <p:nvPr/>
        </p:nvGrpSpPr>
        <p:grpSpPr>
          <a:xfrm>
            <a:off x="1904040" y="5133960"/>
            <a:ext cx="1162080" cy="1237320"/>
            <a:chOff x="1904040" y="5133960"/>
            <a:chExt cx="1162080" cy="1237320"/>
          </a:xfrm>
        </p:grpSpPr>
        <p:sp>
          <p:nvSpPr>
            <p:cNvPr id="547" name="Rectangle 59"/>
            <p:cNvSpPr/>
            <p:nvPr/>
          </p:nvSpPr>
          <p:spPr>
            <a:xfrm>
              <a:off x="1966320" y="5133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Arial"/>
                </a:rPr>
                <a:t>拳打脚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0"/>
            <p:cNvSpPr/>
            <p:nvPr/>
          </p:nvSpPr>
          <p:spPr>
            <a:xfrm>
              <a:off x="1904040" y="59115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3031a"/>
                  </a:solidFill>
                  <a:latin typeface="Arial"/>
                </a:rPr>
                <a:t>23—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67"/>
          <p:cNvSpPr/>
          <p:nvPr/>
        </p:nvSpPr>
        <p:spPr>
          <a:xfrm>
            <a:off x="3174840" y="49338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用棍子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1"/>
          <p:cNvSpPr/>
          <p:nvPr/>
        </p:nvSpPr>
        <p:spPr>
          <a:xfrm>
            <a:off x="3768840" y="457200"/>
            <a:ext cx="31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"/>
          <p:cNvSpPr/>
          <p:nvPr/>
        </p:nvSpPr>
        <p:spPr>
          <a:xfrm>
            <a:off x="385920" y="3639960"/>
            <a:ext cx="80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从哪几方面使人感到作者镇定平静地面 毒打、折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790560" y="28440"/>
            <a:ext cx="26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3031a"/>
                </a:solidFill>
                <a:uFillTx/>
                <a:latin typeface="方正行楷繁体"/>
                <a:ea typeface="幼圆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790560" y="4481280"/>
            <a:ext cx="71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1a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客观平静陈述   </a:t>
            </a:r>
            <a:r>
              <a:rPr b="1" lang="en-US" sz="2800" spc="-1" strike="noStrike">
                <a:solidFill>
                  <a:srgbClr val="f3031a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节制简单写痛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031a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安静数数冷静计时  </a:t>
            </a:r>
            <a:r>
              <a:rPr b="1" lang="en-US" sz="2800" spc="-1" strike="noStrike">
                <a:solidFill>
                  <a:srgbClr val="f3031a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插入美好联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85920" y="552924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镇定平静突出反映了作者怎样的精神境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125280" y="5789160"/>
            <a:ext cx="901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反映了他非凡的意志力</a:t>
            </a:r>
            <a:r>
              <a:rPr b="1" lang="en-US" sz="3600" spc="-1" strike="noStrike">
                <a:solidFill>
                  <a:srgbClr val="f3031a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坚定的信念</a:t>
            </a:r>
            <a:r>
              <a:rPr b="1" lang="en-US" sz="2800" spc="-1" strike="noStrike">
                <a:solidFill>
                  <a:srgbClr val="f3031a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031a"/>
                </a:solidFill>
                <a:latin typeface="Arial"/>
              </a:rPr>
              <a:t>有一种为革命受难、献身的从容感、自豪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"/>
          <p:cNvSpPr/>
          <p:nvPr/>
        </p:nvSpPr>
        <p:spPr>
          <a:xfrm>
            <a:off x="523800" y="790560"/>
            <a:ext cx="8301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从文中找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敌人毒打、折磨伏契克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伏契克写自己心理痛楚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计算敌人毒打自己的次数及反复出现的时间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遭受毒打时插入的那些联想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2" descr="05_G_T{)9@E]I4(FOH51]46"/>
          <p:cNvPicPr/>
          <p:nvPr/>
        </p:nvPicPr>
        <p:blipFill>
          <a:blip r:embed="rId1"/>
          <a:stretch/>
        </p:blipFill>
        <p:spPr>
          <a:xfrm>
            <a:off x="-44280" y="0"/>
            <a:ext cx="57456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8T06:58:43Z</dcterms:created>
  <dc:creator/>
  <dc:description/>
  <cp:keywords/>
  <dc:language>en-US</dc:language>
  <cp:lastModifiedBy/>
  <dcterms:modified xsi:type="dcterms:W3CDTF">2014-04-28T06:58:56Z</dcterms:modified>
  <cp:revision>1</cp:revision>
  <dc:subject/>
  <dc:title/>
</cp:coreProperties>
</file>