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C8A4-290C-491A-B0FF-AF15DD6D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23F6-9066-46A8-A56C-1E7DA3AC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4B8B-7856-4457-964F-F7A3B279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28E1-25AB-4EB5-9414-D9A8EE04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0928-8ECA-4E92-A96D-1815E7AD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A76D-E9D5-4273-B8E8-D2CAC85B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5337-F1B2-4DFC-8A4F-9B29AD10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2998-D8D7-4F67-95BE-DA42C714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8DA0-1E1E-4C44-9452-C541D860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F3E0-86EA-4594-A507-95F3DAFC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5EAA-5D71-4510-ABD1-E352CE51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ADCF-078F-496B-ACE9-B1349387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A85B-25C6-436B-8F73-CA4484A4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0D9C-4A3A-4F41-A95C-83F4BEDF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3AAB-0555-4C2E-88C3-EBBB3A87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A028-4AD9-441D-8DA8-DB4CFA81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5FDC-29A1-4ACE-B8EA-9E16CDFA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F412-A1B2-409C-A116-ACDED52A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6446-1FF3-4753-9895-DAFFE166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A352-DB57-4571-8089-E92F453A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7B25-051E-402C-BE0F-4DFCEA43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3525-02DB-4653-A325-D5593D37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6532-26A7-490C-A934-71F31609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058F-8174-4E9A-A2CB-7EA4BFCB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62C4-D1C6-417D-BC91-A408DF9B11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未标题-2.psd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420840"/>
          </a:xfrm>
          <a:prstGeom prst="rect">
            <a:avLst/>
          </a:prstGeom>
          <a:ln w="0">
            <a:noFill/>
          </a:ln>
        </p:spPr>
      </p:pic>
      <p:pic>
        <p:nvPicPr>
          <p:cNvPr id="6" name="bamboo" descr=""/>
          <p:cNvPicPr/>
          <p:nvPr/>
        </p:nvPicPr>
        <p:blipFill>
          <a:blip r:embed="rId4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amboo" descr=""/>
          <p:cNvPicPr/>
          <p:nvPr/>
        </p:nvPicPr>
        <p:blipFill>
          <a:blip r:embed="rId3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3453-CE7A-47EE-92C6-64B203F92F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未标题-1.psd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&#21776;&#22826;&#23447;&#19982;&#39759;&#24449;.asf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&#35855;&#22826;&#23447;&#21313;&#24605;&#30095;.exe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90720" y="914400"/>
            <a:ext cx="601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00"/>
                </a:solidFill>
                <a:latin typeface="Times New Roman"/>
                <a:ea typeface="隶书"/>
              </a:rPr>
              <a:t>  </a:t>
            </a: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隶书"/>
              </a:rPr>
              <a:t>谏太宗十思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30481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隶书"/>
              </a:rPr>
              <a:t>魏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5391000" cy="6781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18360" y="1295280"/>
            <a:ext cx="13993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唐太宗—李世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94mc" descr=""/>
          <p:cNvPicPr/>
          <p:nvPr/>
        </p:nvPicPr>
        <p:blipFill>
          <a:blip r:embed="rId2"/>
          <a:stretch/>
        </p:blipFill>
        <p:spPr>
          <a:xfrm>
            <a:off x="982800" y="0"/>
            <a:ext cx="44272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296760" y="1752480"/>
            <a:ext cx="13993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诤臣—魏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4572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鹞死怀中——唐太宗的故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52388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9900"/>
                </a:solidFill>
                <a:latin typeface="华文行楷"/>
                <a:ea typeface="华文行楷"/>
              </a:rPr>
              <a:t>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</a:rPr>
              <a:t>一天，唐太宗得到一只雄健俊逸的鹞子，他让鹞子在自己的手臂上跳来跳去，赏玩得高兴时，魏征进来了。太宗怕魏征提意见，回避不及，赶紧把鹞子藏到怀里。这一切早被魏征看到，他禀报公事时故意喋喋不休，拖延时间。太宗不敢拿出鹞子，结果鹞子被憋死在怀里。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5410080"/>
            <a:ext cx="14479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请思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81080" y="2133720"/>
            <a:ext cx="426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唐太宗与魏征</a:t>
            </a:r>
            <a:br>
              <a:rPr sz="4800"/>
            </a:br>
            <a:r>
              <a:rPr b="0" lang="zh-CN" sz="4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的关系如何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838080"/>
            <a:ext cx="716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唐太宗和魏征，一个爱才如命，善于纳谏，是历史上的“明君”；一个忠心耿耿，敢于直谏 ，是历史上的“诤臣”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据史载：贞观十七年，魏征病卒。太宗自制碑文，并为书石。对侍臣说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人以铜为镜，可以正衣冠；以古为镜，可以知兴替；以人为镜，可以明得失。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魏征殁，吾失一镜矣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54100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视频赏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19320" y="304920"/>
            <a:ext cx="6838920" cy="610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00200" y="2209680"/>
            <a:ext cx="50292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ff3300"/>
                </a:solidFill>
                <a:uFillTx/>
                <a:latin typeface="Times New Roman"/>
                <a:ea typeface="华文新魏"/>
                <a:hlinkClick r:id="rId2"/>
              </a:rPr>
              <a:t>课文诵读欣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08:56:24Z</dcterms:created>
  <dc:creator>limin</dc:creator>
  <dc:description/>
  <dc:language>en-US</dc:language>
  <cp:lastModifiedBy>liguoliang</cp:lastModifiedBy>
  <dcterms:modified xsi:type="dcterms:W3CDTF">2003-12-10T05:40:17Z</dcterms:modified>
  <cp:revision>9</cp:revision>
  <dc:subject/>
  <dc:title>PowerPoint 演示文稿</dc:title>
</cp:coreProperties>
</file>