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BEC-A543-4341-82B1-DF0D186C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1F0-E7E3-437E-857F-9CD6DDEA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A7F-2A12-4E51-844A-DD8D936E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052-E63D-470C-A3F9-319BF2C3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89FA-0AF0-42BA-829E-A54E46D7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5394-81BA-4E75-8A78-BFCD107B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D16D-587E-4135-8261-F7BBF20E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92FB-8663-41EA-A588-FFDE03B2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ED66-BAF6-423A-9E00-2274A30B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772F-8004-48F9-8D48-03DFE328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DB86-E3F1-424C-8D87-E49106E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79A-9DD9-4B8A-B5E5-DC93C4F2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AEE0-696C-4776-A63E-7AC02A43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737C-E8C6-4D2E-B0BC-A5120BF5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506B-199B-4C7E-9FD6-CDABC3EC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48D9-ABAA-40E4-A171-FE19D238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60D2-8BFA-4C0C-8F08-24B9C9CB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229-1F6D-4859-B485-8B269E10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65E-0DC5-4FD8-802E-0DB8E352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840-2A2B-4E6C-8769-81072EEE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093-D7D2-4874-B4E8-87C90007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1BC-3795-4C71-8C41-BED3A8F7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8BB-FC9A-4EAE-953B-2BF037CB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3F1-8CE1-42E7-A9A6-2D44E58D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6E68-42FE-4ACA-9BE8-FE51FACE47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420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22E1-FA5D-4687-AED4-E7C76D43E6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7640" y="488880"/>
            <a:ext cx="6840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人以铜为镜，可以正衣冠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以古为镜，可以知兴替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以人为镜，可以明得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魏征殁，吾失一镜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60880" y="4133880"/>
            <a:ext cx="4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贞观十七年，魏征病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太宗自制碑文，并为书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2857680" cy="5543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48356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臣闻求木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长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者，必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固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其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根本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；欲流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远者，必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其泉源；思国之安者，必积其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德义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。源不深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望流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远，根不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固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而求木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长，德不厚而望国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治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虽在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下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愚，知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其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不可，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而况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于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明哲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乎？人君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当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器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居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域中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大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将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崇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极天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之峻，永保无疆之休，不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念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居安思危，戒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奢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俭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德不处其后，情不胜其欲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斯亦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伐根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求木茂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塞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源而欲流长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9280" y="331920"/>
            <a:ext cx="4391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固       使…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稳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根本     根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浚       疏通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治       稳定太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下       最、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当       掌管、主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神器     帝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斯       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崇       推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极天  至高无上的皇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峻      高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休      美好、福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1508760"/>
            <a:ext cx="612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之     助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谓间，取消句子独立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动词，用、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连词，表目的，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360" y="368280"/>
            <a:ext cx="89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听说：想要树木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长得高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一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使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的根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稳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；想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使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泉水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流得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一定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疏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的源泉；想要国家安定，一定要厚积道德仁义。源泉不深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希望泉水流得远，树根不稳固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想要树木生长，道德不厚实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想要国家安定，我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虽然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最愚昧无知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（也）知道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这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不可能的，何况（您这）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明智的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呢！国君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掌握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着国家的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重要职权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据有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天地间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重大的地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将会推崇皇权的高峻，永远保持无休止的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美善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不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考虑</a:t>
            </a:r>
            <a:r>
              <a:rPr b="1" lang="zh-CN" sz="32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在安逸的环境中想着危难，戒除奢侈而行节俭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道德不能保持敦厚，性情不能克服欲望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这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也（如同）是砍断树根来求得树木茂盛，堵住源泉而想要泉水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流得长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啊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423720"/>
            <a:ext cx="86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思考题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本段开头用了什么论证方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证明了什么观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答：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比喻论证    求木之长者，必固其根本；欲流之远者，必浚其泉源；思国之安者，必积其德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者认为人君怎样才能治理好国家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答：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居安思危，戒奢以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09680" y="809640"/>
            <a:ext cx="4017960" cy="126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求木长　固根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欲流远　浚泉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120" y="2538360"/>
            <a:ext cx="3873600" cy="126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源不深　望流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根不固　求木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1800" y="765000"/>
            <a:ext cx="194292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思国安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积德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56240" y="2538360"/>
            <a:ext cx="18954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德不厚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思国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4149720"/>
            <a:ext cx="414036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不念居安思危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戒奢以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4122720"/>
            <a:ext cx="3311640" cy="126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伐根　求木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塞源　欲流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1123920"/>
            <a:ext cx="1008000" cy="504720"/>
          </a:xfrm>
          <a:prstGeom prst="rightArrow">
            <a:avLst>
              <a:gd name="adj1" fmla="val 50000"/>
              <a:gd name="adj2" fmla="val 499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924280"/>
            <a:ext cx="1008000" cy="504720"/>
          </a:xfrm>
          <a:prstGeom prst="rightArrow">
            <a:avLst>
              <a:gd name="adj1" fmla="val 50000"/>
              <a:gd name="adj2" fmla="val 499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508640"/>
            <a:ext cx="1081080" cy="360360"/>
          </a:xfrm>
          <a:prstGeom prst="leftArrow">
            <a:avLst>
              <a:gd name="adj1" fmla="val 50000"/>
              <a:gd name="adj2" fmla="val 7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02880" y="50004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类  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9960" y="310212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反  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6160" y="187560"/>
            <a:ext cx="74678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居安思危    戒奢以俭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560" y="1449000"/>
            <a:ext cx="2932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木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固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根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欲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远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源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4802040"/>
            <a:ext cx="293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伐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根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  求  木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塞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源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  欲  流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14840" y="4802040"/>
            <a:ext cx="293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人君当重  居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不念安危  奢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13120" y="289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德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不厚  思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国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32240" y="388764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臣知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不可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 而况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明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2240" y="51069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13120" y="16779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思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国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安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 积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7320" y="152568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744640"/>
            <a:ext cx="293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源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不深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望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流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根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不固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求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木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27320" y="274464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8720" y="495468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94360" y="4954680"/>
            <a:ext cx="304560" cy="83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61040" y="343044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434484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98100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自读课文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段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参注释翻译文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勾划特殊词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本段中提出了什么观点，怎样论证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2200" y="1407600"/>
            <a:ext cx="84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凡百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元首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承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天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景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命，莫不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殷忧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道著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功成而德衰，有善始者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实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繁，能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克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者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盖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寡。岂其取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易而守之难乎？昔取之而有余，今守之而不足，何也？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夫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殷忧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必竭诚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待下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既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得志，则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纵情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傲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物；竭诚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则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吴越为一体，傲物则骨肉为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行路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虽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黑体"/>
                <a:ea typeface="黑体"/>
              </a:rPr>
              <a:t>董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之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严刑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振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之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威怒，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终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苟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免而不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怀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仁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貌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恭而不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服。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怨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不在大，可畏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惟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人；载舟覆舟，所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宜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黑体"/>
              </a:rPr>
              <a:t>深慎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1077120"/>
            <a:ext cx="3024360" cy="4360320"/>
          </a:xfrm>
          <a:prstGeom prst="rect">
            <a:avLst/>
          </a:prstGeom>
          <a:noFill/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凡百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所有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景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莫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没有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殷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深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傲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轻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行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路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董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督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439920"/>
            <a:ext cx="554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能够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盖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副词表推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发语词，引发议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既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已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苟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苟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只、只是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应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连词，表修饰，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介词，用、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而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连词，表承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连词，表并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连词，表修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连词，表转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8000" y="31104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历代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所有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帝王，承受上天的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重大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使命，没有不处在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深切的忧虑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之中而治道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显著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功德圆满之后德行就开始衰微了，开头做得好的实在很多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能够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善终的很少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难道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是取得天下容易守住天下困难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吗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当初取得天下时才能有余，现在守天下就显得才能不足，什么原因呢？因为处在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深重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忧患之中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一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竭尽诚心对待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臣民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已经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成功，就放纵自己的情感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看不起别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竭尽诚心，就会使敌对的势力（和自己）联合，傲视别人，就会使亲人成为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毫不相干的陌生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即使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用严酷的刑罚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监督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人民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用威风怒气来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威吓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他们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（人们）最终只是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苟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免于刑罚但是并不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感念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皇上的）仁慈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表面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恭敬而在内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心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却不服气。怨恨不在有多大，可怕的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只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民众（的力量）； （人民像水一样）能够负载船只，也能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使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船只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颠覆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这是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应当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深切戒慎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09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2720" y="549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魏徵，字玄成，唐代政治家、文学家、史学家。曾任谏议大夫，封郑国公。以直言敢谏著称，史称“诤臣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115920"/>
            <a:ext cx="86421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思考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1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作者认为得天下之君王为何易失人心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答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盖在殷忧必竭诚以待下，既得志则纵情以傲物；竭诚则吴越为一体，傲物则骨肉为行路。虽董之以严刑，振之以威怒，终苟免而不怀仁，貌恭而不心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作者如何肯定了人民的力量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答：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怨不在大，可畏惟人；载舟覆舟，所宜深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14698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取易               守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280" y="240516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殷忧  竭诚      得志  傲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476280"/>
            <a:ext cx="489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善始繁           克终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7320" y="3414600"/>
            <a:ext cx="36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吴越一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78200" y="44226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载舟                覆舟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3414600"/>
            <a:ext cx="33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骨肉行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1784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深  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2060640"/>
            <a:ext cx="431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060640"/>
            <a:ext cx="431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2411280" y="4941360"/>
            <a:ext cx="3456000" cy="287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86064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386244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52320" y="54360"/>
            <a:ext cx="789840" cy="62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分析历史     道理论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581760"/>
            <a:ext cx="818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翻译以下句子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人君当神器之重，居域中之大，不念居安思危，戒奢以俭，斯亦伐根以求木茂，塞源而欲流长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33468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凡百元首，承天景命，善始者实繁，克终者盖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虽董之以严刑，振之以威怒，终苟免而不怀仁，貌恭而不心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怨不在大，可畏惟人；载舟覆舟，所宜深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69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 Black"/>
              </a:rPr>
              <a:t>谏太宗十</a:t>
            </a:r>
            <a:r>
              <a:rPr b="1" lang="zh-CN" sz="7200" spc="-1" strike="noStrike">
                <a:solidFill>
                  <a:srgbClr val="ffffff"/>
                </a:solidFill>
                <a:latin typeface="Arial Black"/>
                <a:ea typeface="黑体"/>
              </a:rPr>
              <a:t>思</a:t>
            </a:r>
            <a:r>
              <a:rPr b="1" lang="zh-CN" sz="7200" spc="-1" strike="noStrike">
                <a:solidFill>
                  <a:srgbClr val="ffff00"/>
                </a:solidFill>
                <a:latin typeface="Arial Black"/>
              </a:rPr>
              <a:t>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51360" y="2421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正反类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析历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道理论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4656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积德安国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28920" y="3414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善始善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41497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竭诚待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9960" y="218052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戒奢以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居安思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4520" y="3308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载舟覆舟    所宜深慎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07880" y="1514520"/>
            <a:ext cx="31194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元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承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1557360"/>
            <a:ext cx="326880" cy="1019160"/>
          </a:xfrm>
          <a:custGeom>
            <a:avLst/>
            <a:gdLst>
              <a:gd name="textAreaLeft" fmla="*/ 208800 w 326880"/>
              <a:gd name="textAreaRight" fmla="*/ 327240 w 326880"/>
              <a:gd name="textAreaTop" fmla="*/ 26280 h 1019160"/>
              <a:gd name="textAreaBottom" fmla="*/ 992880 h 10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89600" y="1465200"/>
            <a:ext cx="1523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善始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克终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2684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殷忧  竭诚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一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3294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得志  纵情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行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41324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70080" y="4056120"/>
            <a:ext cx="241200" cy="957240"/>
          </a:xfrm>
          <a:custGeom>
            <a:avLst/>
            <a:gdLst>
              <a:gd name="textAreaLeft" fmla="*/ 154080 w 241200"/>
              <a:gd name="textAreaRight" fmla="*/ 241560 w 241200"/>
              <a:gd name="textAreaTop" fmla="*/ 24840 h 957240"/>
              <a:gd name="textAreaBottom" fmla="*/ 932400 h 9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0960" y="3979800"/>
            <a:ext cx="19814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董以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严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振以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威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13280" y="41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22760" y="4056120"/>
            <a:ext cx="201600" cy="957240"/>
          </a:xfrm>
          <a:custGeom>
            <a:avLst/>
            <a:gdLst>
              <a:gd name="textAreaLeft" fmla="*/ 128880 w 201600"/>
              <a:gd name="textAreaRight" fmla="*/ 201960 w 201600"/>
              <a:gd name="textAreaTop" fmla="*/ 24840 h 957240"/>
              <a:gd name="textAreaBottom" fmla="*/ 932400 h 9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4000" y="3979800"/>
            <a:ext cx="19810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免不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怀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恭不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心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5300640"/>
            <a:ext cx="39621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怨不在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可畏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惟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舟  所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深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42080" y="1498680"/>
            <a:ext cx="1066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取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守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7800" y="2637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吴越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一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7800" y="3246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骨肉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行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55640" y="981000"/>
            <a:ext cx="741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自读课文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段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参注释翻译文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勾划特殊词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作者从哪些方面提出了“十思”，他认为理想的政治境界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360" y="1285920"/>
            <a:ext cx="89647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奔车朽索，其可忽乎？君人者，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诚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能见可欲，则思知足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以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自戒；将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有作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，则思知止以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安人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；念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高危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，则思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谦冲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以自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牧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；惧满溢，则思江海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下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百川；</a:t>
            </a:r>
            <a:r>
              <a:rPr b="1" lang="zh-CN" sz="3400" spc="-1" strike="noStrike">
                <a:solidFill>
                  <a:srgbClr val="66ff33"/>
                </a:solidFill>
                <a:latin typeface="黑体"/>
                <a:ea typeface="黑体"/>
              </a:rPr>
              <a:t>乐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盘游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，则思三驱</a:t>
            </a:r>
            <a:r>
              <a:rPr b="1" lang="zh-CN" sz="3400" spc="-1" strike="noStrike">
                <a:solidFill>
                  <a:srgbClr val="66ff33"/>
                </a:solidFill>
                <a:latin typeface="黑体"/>
                <a:ea typeface="黑体"/>
              </a:rPr>
              <a:t>以为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度；忧懈怠，则思慎始而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敬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终；虑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壅蔽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，则思虚心以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纳下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；想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谗邪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，则思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正身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以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黜</a:t>
            </a:r>
            <a:r>
              <a:rPr b="1" lang="zh-CN" sz="3400" spc="-1" strike="noStrike">
                <a:solidFill>
                  <a:srgbClr val="66ff33"/>
                </a:solidFill>
                <a:latin typeface="黑体"/>
                <a:ea typeface="黑体"/>
              </a:rPr>
              <a:t>恶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；恩所加，则思无因喜以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谬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赏；罚所及，则思无因怒而滥刑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总此十思，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宏</a:t>
            </a:r>
            <a:r>
              <a:rPr b="1" lang="zh-CN" sz="3400" spc="-1" strike="noStrike">
                <a:solidFill>
                  <a:srgbClr val="66ff33"/>
                </a:solidFill>
                <a:latin typeface="黑体"/>
                <a:ea typeface="黑体"/>
              </a:rPr>
              <a:t>兹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九德，</a:t>
            </a:r>
            <a:r>
              <a:rPr b="1" lang="zh-CN" sz="3400" spc="-1" strike="noStrike">
                <a:solidFill>
                  <a:srgbClr val="66ff33"/>
                </a:solidFill>
                <a:latin typeface="黑体"/>
                <a:ea typeface="黑体"/>
              </a:rPr>
              <a:t>简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能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而任之，择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善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而从之，则智者尽其谋，勇者竭其力，仁者播其惠，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信者效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其忠；文武</a:t>
            </a:r>
            <a:r>
              <a:rPr b="1" lang="zh-CN" sz="3400" spc="-1" strike="noStrike">
                <a:solidFill>
                  <a:srgbClr val="00ff00"/>
                </a:solidFill>
                <a:latin typeface="黑体"/>
                <a:ea typeface="黑体"/>
              </a:rPr>
              <a:t>争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驰，君臣无事，可以尽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豫游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之乐，可以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养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松乔之寿。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鸣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琴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垂拱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，不言而化。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何必</a:t>
            </a:r>
            <a:r>
              <a:rPr b="1" lang="zh-CN" sz="3400" spc="-1" strike="noStrike">
                <a:solidFill>
                  <a:srgbClr val="00ff00"/>
                </a:solidFill>
                <a:latin typeface="黑体"/>
                <a:ea typeface="黑体"/>
              </a:rPr>
              <a:t>劳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神</a:t>
            </a:r>
            <a:r>
              <a:rPr b="1" lang="zh-CN" sz="3400" spc="-1" strike="noStrike">
                <a:solidFill>
                  <a:srgbClr val="00ff00"/>
                </a:solidFill>
                <a:latin typeface="黑体"/>
                <a:ea typeface="黑体"/>
              </a:rPr>
              <a:t>苦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思，代下司职，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役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聪明之耳目，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亏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无为之大道哉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99880" y="838080"/>
            <a:ext cx="859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作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兴建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谦冲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谦虚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牧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约束、修养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盘游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游猎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三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三面驱赶猎物，留一面放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敬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谨慎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壅蔽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被堵塞蒙蔽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排斥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谬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错误地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兹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这   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简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选拔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驰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奔波效劳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教化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司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管理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政策、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483120"/>
            <a:ext cx="907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安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使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使……安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下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用作动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居于……之下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乐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词意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以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为乐，喜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忧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词意动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为忧，担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虚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使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使……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正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使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使……端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恶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作名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恶人、品质不良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能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作名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贤能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善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作名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好的意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48360" y="450720"/>
            <a:ext cx="3945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其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语气副词，表反问、推测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诚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表假设，相当于“果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以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连词，表目的，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介词，把、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连词，表因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而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连词，表并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连词，表因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连词，表承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连词，表修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260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鹞死怀中——唐太宗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052640"/>
            <a:ext cx="813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00"/>
                </a:solidFill>
                <a:latin typeface="华文行楷"/>
                <a:ea typeface="华文行楷"/>
              </a:rPr>
              <a:t>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</a:rPr>
              <a:t>一天，唐太宗得到一只雄健俊逸的鹞子，他让鹞子在自己的手臂上跳来跳去，赏玩得高兴时，魏征进来了。太宗怕魏征提意见，回避不及，赶紧把鹞子藏到怀里。这一切早被魏征看到，他禀报公事时故意喋喋不休，拖延时间。太宗不敢拿出鹞子，结果鹞子被憋死在怀里。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6000" y="260280"/>
            <a:ext cx="874872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用腐烂的绳索驾驭疾驰的马车，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怎么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可以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忽视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呢？如果能够看见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自己想要的东西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，就想到知足来自我克制；将要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兴建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什么，就要想到适可而止，来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使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百姓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安宁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；想到（自己的君位）高而险，就要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谦虚谨慎，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自我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约束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；害怕会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骄傲自满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，就想到要像江海那样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居于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百川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之下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；喜爱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狩猎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，就想到用三面捕杀，留一面给它们逃生（不要赶尽杀绝），以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此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为限度；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担心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意志松懈，就想到（做事）要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慎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始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慎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终；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担心</a:t>
            </a:r>
            <a:r>
              <a:rPr b="1" lang="zh-CN" sz="3000" spc="-1" strike="noStrike">
                <a:solidFill>
                  <a:srgbClr val="00ff00"/>
                </a:solidFill>
                <a:latin typeface="Arial Black"/>
                <a:ea typeface="黑体"/>
              </a:rPr>
              <a:t>受蒙蔽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，就想到虚心采纳臣下的意见；畏惧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说坏话的人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，就想到</a:t>
            </a:r>
            <a:r>
              <a:rPr b="1" lang="zh-CN" sz="3000" spc="-1" strike="noStrike">
                <a:solidFill>
                  <a:srgbClr val="00ff00"/>
                </a:solidFill>
                <a:latin typeface="Arial Black"/>
                <a:ea typeface="黑体"/>
              </a:rPr>
              <a:t>使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自己的品德端</a:t>
            </a:r>
            <a:r>
              <a:rPr b="1" lang="zh-CN" sz="3000" spc="-1" strike="noStrike">
                <a:solidFill>
                  <a:srgbClr val="00ff00"/>
                </a:solidFill>
                <a:latin typeface="Arial Black"/>
                <a:ea typeface="黑体"/>
              </a:rPr>
              <a:t>正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来</a:t>
            </a:r>
            <a:r>
              <a:rPr b="1" lang="zh-CN" sz="3000" spc="-1" strike="noStrike">
                <a:solidFill>
                  <a:srgbClr val="00ff00"/>
                </a:solidFill>
                <a:latin typeface="Arial Black"/>
                <a:ea typeface="黑体"/>
              </a:rPr>
              <a:t>斥退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奸恶小人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；施加恩泽，就要考虑不要因为一时高兴而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黑体"/>
              </a:rPr>
              <a:t>错误地奖赏</a:t>
            </a:r>
            <a:r>
              <a:rPr b="1" lang="zh-CN" sz="3000" spc="-1" strike="noStrike">
                <a:solidFill>
                  <a:srgbClr val="ffff00"/>
                </a:solidFill>
                <a:latin typeface="Arial Black"/>
                <a:ea typeface="黑体"/>
              </a:rPr>
              <a:t>；动用刑罚，就要想到不要因为一时愤怒而滥用刑罚。</a:t>
            </a:r>
            <a:endParaRPr b="0" lang="en-US" sz="3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transition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108000"/>
            <a:ext cx="8964720" cy="66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全面做到这十件应该深思的事，</a:t>
            </a:r>
            <a:r>
              <a:rPr b="1" lang="zh-CN" sz="3300" spc="-1" strike="noStrike">
                <a:solidFill>
                  <a:srgbClr val="ffffff"/>
                </a:solidFill>
                <a:latin typeface="黑体"/>
                <a:ea typeface="黑体"/>
              </a:rPr>
              <a:t>弘扬这九种德行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，选拔</a:t>
            </a:r>
            <a:r>
              <a:rPr b="1" lang="zh-CN" sz="3300" spc="-1" strike="noStrike">
                <a:solidFill>
                  <a:srgbClr val="00ff00"/>
                </a:solidFill>
                <a:latin typeface="黑体"/>
                <a:ea typeface="黑体"/>
              </a:rPr>
              <a:t>有才能的人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而任用他，挑选</a:t>
            </a:r>
            <a:r>
              <a:rPr b="1" lang="zh-CN" sz="3300" spc="-1" strike="noStrike">
                <a:solidFill>
                  <a:srgbClr val="ffffff"/>
                </a:solidFill>
                <a:latin typeface="黑体"/>
                <a:ea typeface="黑体"/>
              </a:rPr>
              <a:t>好的意见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而听从它，那么有智慧的人就能充分献出他们的谋略，勇敢的人就能完全竭尽他们的力量，仁爱的人就能传播他们的恩惠，</a:t>
            </a:r>
            <a:r>
              <a:rPr b="1" lang="zh-CN" sz="3300" spc="-1" strike="noStrike">
                <a:solidFill>
                  <a:srgbClr val="ffffff"/>
                </a:solidFill>
                <a:latin typeface="黑体"/>
                <a:ea typeface="黑体"/>
              </a:rPr>
              <a:t>诚信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的人就能</a:t>
            </a:r>
            <a:r>
              <a:rPr b="1" lang="zh-CN" sz="3300" spc="-1" strike="noStrike">
                <a:solidFill>
                  <a:srgbClr val="ffffff"/>
                </a:solidFill>
                <a:latin typeface="黑体"/>
                <a:ea typeface="黑体"/>
              </a:rPr>
              <a:t>献出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他们的忠诚；文臣武将</a:t>
            </a:r>
            <a:r>
              <a:rPr b="1" lang="zh-CN" sz="3300" spc="-1" strike="noStrike">
                <a:solidFill>
                  <a:srgbClr val="ffffff"/>
                </a:solidFill>
                <a:latin typeface="黑体"/>
                <a:ea typeface="黑体"/>
              </a:rPr>
              <a:t>争着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做好自己的事情，君王大臣之间没有什么（烦心的）事情，可以尽享</a:t>
            </a:r>
            <a:r>
              <a:rPr b="1" lang="zh-CN" sz="3300" spc="-1" strike="noStrike">
                <a:solidFill>
                  <a:srgbClr val="ffffff"/>
                </a:solidFill>
                <a:latin typeface="黑体"/>
                <a:ea typeface="黑体"/>
              </a:rPr>
              <a:t>出巡游玩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的快乐，可以</a:t>
            </a:r>
            <a:r>
              <a:rPr b="1" lang="zh-CN" sz="3300" spc="-1" strike="noStrike">
                <a:solidFill>
                  <a:srgbClr val="ffffff"/>
                </a:solidFill>
                <a:latin typeface="黑体"/>
                <a:ea typeface="黑体"/>
              </a:rPr>
              <a:t>颐养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得像松、乔两位神仙那样长寿。（皇上）谈着琴，垂衣拱手（就能治理好天下），不必多说，老百姓就可以</a:t>
            </a:r>
            <a:r>
              <a:rPr b="1" lang="zh-CN" sz="3300" spc="-1" strike="noStrike">
                <a:solidFill>
                  <a:srgbClr val="ffffff"/>
                </a:solidFill>
                <a:latin typeface="黑体"/>
                <a:ea typeface="黑体"/>
              </a:rPr>
              <a:t>教化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3300" spc="-1" strike="noStrike">
                <a:solidFill>
                  <a:srgbClr val="ffffff"/>
                </a:solidFill>
                <a:latin typeface="黑体"/>
                <a:ea typeface="黑体"/>
              </a:rPr>
              <a:t>为什么一定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要</a:t>
            </a:r>
            <a:r>
              <a:rPr b="1" lang="zh-CN" sz="3300" spc="-1" strike="noStrike">
                <a:solidFill>
                  <a:srgbClr val="00ff00"/>
                </a:solidFill>
                <a:latin typeface="黑体"/>
                <a:ea typeface="黑体"/>
              </a:rPr>
              <a:t>使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自己劳神费思，代臣下管理职事，役使自己灵敏的耳朵，明亮的眼睛，毁坏无为而治的方针呢</a:t>
            </a:r>
            <a:r>
              <a:rPr b="1" lang="zh-CN" sz="3300" spc="-1" strike="noStrike">
                <a:solidFill>
                  <a:srgbClr val="ffff00"/>
                </a:solidFill>
                <a:latin typeface="黑体"/>
                <a:ea typeface="黑体"/>
              </a:rPr>
              <a:t>?</a:t>
            </a:r>
            <a:endParaRPr b="0" lang="en-US" sz="33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transition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357280" y="-270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戒奢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恤百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57280" y="11970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戒焦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不自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78160" y="24210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不放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不懈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30360" y="36306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纳忠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远小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0360" y="48690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克喜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明赏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3240" y="4428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3240" y="202248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3240" y="436572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20520" y="-27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顺民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安民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93600" y="36450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通言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清朝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93600" y="48546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重理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明法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36520" y="279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得民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81240" y="508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立国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8680" y="395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树正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9600" y="206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稳帝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35280" y="4005360"/>
            <a:ext cx="360360" cy="19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080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1628640"/>
            <a:ext cx="360360" cy="19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080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26028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080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08360" y="692280"/>
            <a:ext cx="503280" cy="0"/>
          </a:xfrm>
          <a:prstGeom prst="line">
            <a:avLst/>
          </a:prstGeom>
          <a:ln w="63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6000" y="692280"/>
            <a:ext cx="503280" cy="0"/>
          </a:xfrm>
          <a:prstGeom prst="line">
            <a:avLst/>
          </a:prstGeom>
          <a:ln w="63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2492280"/>
            <a:ext cx="502920" cy="0"/>
          </a:xfrm>
          <a:prstGeom prst="line">
            <a:avLst/>
          </a:prstGeom>
          <a:ln w="63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5516640"/>
            <a:ext cx="503280" cy="0"/>
          </a:xfrm>
          <a:prstGeom prst="line">
            <a:avLst/>
          </a:prstGeom>
          <a:ln w="63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81440" y="5589720"/>
            <a:ext cx="503280" cy="0"/>
          </a:xfrm>
          <a:prstGeom prst="line">
            <a:avLst/>
          </a:prstGeom>
          <a:ln w="63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365720"/>
            <a:ext cx="503280" cy="0"/>
          </a:xfrm>
          <a:prstGeom prst="line">
            <a:avLst/>
          </a:prstGeom>
          <a:ln w="63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0000" y="4365720"/>
            <a:ext cx="502920" cy="0"/>
          </a:xfrm>
          <a:prstGeom prst="line">
            <a:avLst/>
          </a:prstGeom>
          <a:ln w="63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3840" y="15080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养性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增智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强能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2492280"/>
            <a:ext cx="503280" cy="0"/>
          </a:xfrm>
          <a:prstGeom prst="line">
            <a:avLst/>
          </a:prstGeom>
          <a:ln w="63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49240" y="14364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诚能十思    垂拱而治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304640"/>
            <a:ext cx="28558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知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知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谦冲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自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溢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江海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下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游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三驱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怠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慎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敬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虑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蔽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虚心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纳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邪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正身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黜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恩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加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因喜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谬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及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怒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滥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51280" y="1268280"/>
            <a:ext cx="304560" cy="4648320"/>
          </a:xfrm>
          <a:custGeom>
            <a:avLst/>
            <a:gdLst>
              <a:gd name="textAreaLeft" fmla="*/ 0 w 304560"/>
              <a:gd name="textAreaRight" fmla="*/ 109800 w 30456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5840" y="2639880"/>
            <a:ext cx="12956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总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十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宏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九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简能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择善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56040" y="2639880"/>
            <a:ext cx="1371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智尽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勇竭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仁播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信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80280" y="317340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文武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用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垂拱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何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劳苦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  代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百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51480" y="2639880"/>
            <a:ext cx="304560" cy="1905120"/>
          </a:xfrm>
          <a:custGeom>
            <a:avLst/>
            <a:gdLst>
              <a:gd name="textAreaLeft" fmla="*/ 0 w 304560"/>
              <a:gd name="textAreaRight" fmla="*/ 109800 w 30456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51680" y="2639880"/>
            <a:ext cx="304560" cy="1905120"/>
          </a:xfrm>
          <a:custGeom>
            <a:avLst/>
            <a:gdLst>
              <a:gd name="textAreaLeft" fmla="*/ 0 w 304560"/>
              <a:gd name="textAreaRight" fmla="*/ 109800 w 30456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2360" y="189000"/>
            <a:ext cx="864072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写作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骈散结合，华美流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唐代的奏疏，习惯上都用骈文写。这篇奏疏虽然也用了许多骈偶句式，却突破了骈体的束缚，骈散语句交替运用，既有骈文的整齐华美，又有散文的自然流畅，易于诵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正反论述，务尽其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文以论述为主，对同一个问题，作者往往从正反两方面进行剖析，这样，说理更加透彻。如第一段先从正面论述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本疏源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再从反面阐述不这样做的危害；第二段关于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殷忧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"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竭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得志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"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傲物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反复论述，第三段贯穿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本能欲望（或反应）与理性自制的对举，都体现了这一特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比喻排比，生动有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章以浅显的比喻衬出中心论题，比喻作为一种推理手段，起到了生动、直观的效果；全文的论述多用排比句式，铺排罗列，勾连而下，气势不凡，增强了文章的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50920" y="476280"/>
            <a:ext cx="856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通假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　恩所加，则思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无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因喜以谬赏：“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无”通“毋”，不要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　虽董之以严刑，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振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之以威怒：“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振”通“震”，威吓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简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能而任之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：“简”同“拣”，选拔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8000" y="981000"/>
            <a:ext cx="460836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求木之长者，必固其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根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既得志，则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纵情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以傲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虑壅蔽，则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虚心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以纳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乐盘游，则思三驱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以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549360"/>
            <a:ext cx="26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56000" y="5300640"/>
            <a:ext cx="47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以为，古义：以（之）为；把（它）当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今义：认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1720" y="123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二、古今异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1080" y="104292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根本：古义，树木的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今义，指事物的本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2565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纵情：古义，放纵情感，即“骄傲”；     今义，尽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4720" y="3933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虚心：古义，使……谦虚；  今义，一种谦虚的美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9280" y="115920"/>
            <a:ext cx="856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词类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①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名词用作状语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恭而不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心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服 貌：表面上。心：在内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②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名词作动词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江海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百川 下：居于……之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君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人者，诚能见可欲 君：做君主，统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③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形容词用作名词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人君当神器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重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重：重任、重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居域中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大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大：重位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惧谗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邪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邪：邪恶的小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择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而从之 善：好的意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则思正身以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恶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恶：奸恶的小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简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能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而任之，择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而从之 能：有才能的人。善：好的意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居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危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安：安全的环境。危：危险的可能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360" y="517680"/>
            <a:ext cx="882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④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形容词用作动词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智者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尽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其谋 尽：用尽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源不深而望流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远：远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塞源而欲流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长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者 长：远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能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者盖寡 终：坚持到底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⑤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形容词使动用法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必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其根本 固：使……牢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知止以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人 安：使……安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宏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兹九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使……弘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何必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劳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神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苦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  劳：使……疲劳，苦：使……辛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正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身以黜恶 正：使……端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心以纳下 虚：使……谦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2360" y="333360"/>
            <a:ext cx="8496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⑥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动词用作名词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　君人者，诚能见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可欲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可欲：指看见想要的东西　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⑦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形容词意动用法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　乐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盘游，则三思以为度 乐：以……为乐，喜欢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　忧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懈怠，则慎思而敬终 忧：以……为忧，担心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0360" y="284040"/>
            <a:ext cx="874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公元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627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年，李世民登基，改元贞观。在贞观初年，他鉴于隋炀帝覆亡的教训，进一步保持了节俭、谨慎的作风，实行了不少有利国计民生的政策。经过十几年的治理，经济得到发展，百姓生活富足，加上边防巩固，内外无事，国家安定。唐太宗逐渐骄奢忘本，大修庙宇宫殿，广求珍宝，四处巡游，劳民伤财。魏征对此极为忧虑，他清醒地看到了在繁荣昌盛的后面隐藏着危机，在群臣齐唱赞歌时，独能上疏进谏，连进四疏，使太宗猛醒。太宗看后感到很惭愧，表示从谏改过。并把这些奏疏置于案头，奉为座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2920" y="189000"/>
            <a:ext cx="88930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四、重要虚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之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①臣闻求木之长者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结构助词，用在主谓之间，取消句子独立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②人君当神器之重，居域中之大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结构助词，的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③岂取之易而守之难乎？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代词，指代天下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以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①盖在殷忧，必竭诚以待下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来，表目的的连词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②虽董之以严刑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介词，用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③将有作，则思知止以安人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来，表目的的连词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④则思谦冲以自牧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连词，表递进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而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①源不深而望流之远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连词，表转折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②垂拱而治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连词，表修饰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③子产而死，谁气嗣之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连词，表假设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8000" y="260280"/>
            <a:ext cx="89647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五、重点实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盖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①善始者实繁，克终者盖寡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表示不十分肯定的判断，大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   ②盖在殷忧，必竭诚以待下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连词，承接上文，表示推断原因，因为      盖失强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虽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①臣虽下愚，知其不可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虽然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②虽董之以严刑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即使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诚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①必竭诚以待下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诚心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②诚能见可欲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如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下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①虑壅蔽，则思虚心以纳下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臣下的意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②虽在下愚，知其不可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智力低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③惧满溢，则思江海下百川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居于……之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 ④敏而好学，不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耻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下问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地位低下的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9280" y="-27000"/>
            <a:ext cx="8713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当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①诋大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当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死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对着，面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②人君当神器之重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掌握，主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③安步当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dàng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车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当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以从容的不行代替乘车。近义词：安贫乐道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反义词：急于求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安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①思国之安者，必积其德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安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②燕雀安知鸿之志哉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怎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③项王曰：“沛公安在？”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哪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④衣食所安，弗敢专也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享受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⑤不念居安思危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安全的环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⑥则思知止以安人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使……安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求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①求木之长者，必固其根本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想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（追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②予尝求古仁人之心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探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③客之美我者，欲有求于我也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请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④不求闻达与诸侯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追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⑤府史闻此变，因求假暂归：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请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360" y="368280"/>
            <a:ext cx="882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治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①望国之治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安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②医之好治不病以为功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医治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③不效则治臣之罪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惩治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所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①恩所加，则思无因喜以谬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所”加动词的固定结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②山峦为晴雪所洗。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表被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克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①能克终者盖寡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能够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②然操虽能克绍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战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③公乃与克日会战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约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④克己复礼为仁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约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终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①终苟免而不怀仁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最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②能克终者盖寡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坚持到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4360" y="333360"/>
            <a:ext cx="882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六、句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 虽董之以严刑，振之以威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状语后置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 乐盘游，则思三驱以（之）为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省略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 岂取之易而守之难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岂……乎”是固定句式，一般译为“难道……吗？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 斯亦伐根以求木茂，塞源而欲流长也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判断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774160" y="333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戒奢侈，恤百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74160" y="10000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戒焦躁，不自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74160" y="16304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不放纵，不懈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4160" y="22240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纳忠言，远小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74160" y="2871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克喜怒，明赏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31760" y="35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31760" y="105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修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31760" y="1628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做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31760" y="22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待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55880" y="287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政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42920" y="3645000"/>
            <a:ext cx="46087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52640" y="3645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十思           九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19120" y="45990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简能而任     择善而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19120" y="53910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文武并用     垂拱而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0800000">
            <a:off x="1692360" y="4220640"/>
            <a:ext cx="3456000" cy="287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1835280" y="5157720"/>
            <a:ext cx="3456000" cy="287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4360" y="620640"/>
            <a:ext cx="648000" cy="3456000"/>
          </a:xfrm>
          <a:custGeom>
            <a:avLst/>
            <a:gdLst>
              <a:gd name="textAreaLeft" fmla="*/ 0 w 648000"/>
              <a:gd name="textAreaRight" fmla="*/ 234000 w 64800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04320" y="84816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积其德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34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 Black"/>
              </a:rPr>
              <a:t>谏太宗十思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213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魏　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404640"/>
            <a:ext cx="799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读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1.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标注生词读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2.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注意正确断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3.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找到具体阐述“十思”的段落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1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检查自主学习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983160"/>
            <a:ext cx="6154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木之长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á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ng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浚其泉源（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ù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戒奢以俭（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ē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塞源（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殷忧（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ī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n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载舟覆舟（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虑壅蔽（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ng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黜恶（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ù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谬赏（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i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ù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宏兹九德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ī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5280" y="1127160"/>
            <a:ext cx="415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居安思危—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在平安稳定的时候要想到可能出现的危险灾难。指时时要提高警惕，预防祸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垂拱而治—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轻而易举就能把天下治理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为而治—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君主无所作为，天下也能安定太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868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 Black"/>
              </a:rPr>
              <a:t>谏太宗十</a:t>
            </a:r>
            <a:r>
              <a:rPr b="1" lang="zh-CN" sz="7200" spc="-1" strike="noStrike">
                <a:solidFill>
                  <a:srgbClr val="ffffff"/>
                </a:solidFill>
                <a:latin typeface="Arial Black"/>
                <a:ea typeface="黑体"/>
              </a:rPr>
              <a:t>思</a:t>
            </a:r>
            <a:r>
              <a:rPr b="1" lang="zh-CN" sz="7200" spc="-1" strike="noStrike">
                <a:solidFill>
                  <a:srgbClr val="ffff00"/>
                </a:solidFill>
                <a:latin typeface="Arial Black"/>
              </a:rPr>
              <a:t>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9200" y="15955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何思  思什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5760" y="1195560"/>
            <a:ext cx="4392720" cy="1296720"/>
          </a:xfrm>
          <a:prstGeom prst="upArrowCallout">
            <a:avLst>
              <a:gd name="adj1" fmla="val 18727"/>
              <a:gd name="adj2" fmla="val 51723"/>
              <a:gd name="adj3" fmla="val 15014"/>
              <a:gd name="adj4" fmla="val 6666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7440" y="306540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人君当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3680" y="3065400"/>
            <a:ext cx="42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居安思危，戒奢以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30178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提出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1450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为什么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1360" y="5084640"/>
            <a:ext cx="21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思些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96200" y="401940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分析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18160" y="5010120"/>
            <a:ext cx="27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解决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4560" y="4145040"/>
            <a:ext cx="48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载舟覆舟，所宜深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13000" y="5084640"/>
            <a:ext cx="53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诚能十思，垂拱而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98100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自读课文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段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参注释翻译文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勾划特殊词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本段中提出了什么观点，怎样论证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08:56:24Z</dcterms:created>
  <dc:creator>limin</dc:creator>
  <dc:description/>
  <dc:language>en-US</dc:language>
  <cp:lastModifiedBy>Lenovo User</cp:lastModifiedBy>
  <dcterms:modified xsi:type="dcterms:W3CDTF">2012-03-14T02:21:56Z</dcterms:modified>
  <cp:revision>133</cp:revision>
  <dc:subject/>
  <dc:title>PowerPoint 演示文稿</dc:title>
</cp:coreProperties>
</file>