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34C-F3DA-43D6-8045-BFA7B527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C5C-6900-4ABD-8E45-E2B378D3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275-AC8D-468A-888D-1E912E6F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BD1-8F19-4F0A-AEE7-54C6B651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1A3D-B41A-452B-8DDC-C616E4B5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A4B9-495F-4646-B167-603399C7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FB78-ABD1-4E4D-957B-6FCCF6E4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5824-A856-43CB-83C4-89E6AA21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86F4-BFEF-46AA-85F5-BC006771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22F8-028A-4F0D-B4E8-B9695BBD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50F4-5644-4FB0-A9FA-EB6B6944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B1C-37E1-4FEA-AE1F-E2C9AEB3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1837-F1F7-4CA0-8722-512294F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3AF9-19EF-4C1A-A4FA-110B6596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EF9-EC66-420F-8FBF-AC1EFED2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EC18-5B7C-4167-8711-8CDB992D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545F-A506-44A3-BA56-F4165439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172-0FD2-432B-A454-80AAA255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2F7-1748-435A-A569-EC5A6BB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F80-DF6B-47AC-B677-A9028EFC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B9F-F02E-4B05-9DEA-940B5C2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B46-3283-4445-BE9F-F97E993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F869-A3CD-4C40-A510-24AF51A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678-1170-4699-AE4F-9DA86EAA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8A33-B408-4CB2-9E2C-A2EF9E83BEA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4163-BD79-482B-8C61-68763A4CAED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295280"/>
            <a:ext cx="6933960" cy="21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　　</a:t>
            </a:r>
            <a:r>
              <a:rPr b="0" lang="zh-CN" sz="6000" spc="-1" strike="noStrike" u="sng">
                <a:solidFill>
                  <a:srgbClr val="ff33cc"/>
                </a:solidFill>
                <a:uFillTx/>
                <a:latin typeface="Times New Roman"/>
                <a:hlinkClick r:id="rId1" action="ppaction://hlinksldjump"/>
              </a:rPr>
              <a:t>景泰蓝</a:t>
            </a: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的制作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　　　　　　</a:t>
            </a:r>
            <a:r>
              <a:rPr b="0" lang="zh-CN" sz="4400" spc="-1" strike="noStrike" u="sng">
                <a:solidFill>
                  <a:srgbClr val="ff33cc"/>
                </a:solidFill>
                <a:uFillTx/>
                <a:latin typeface="Times New Roman"/>
                <a:hlinkClick r:id="rId2" action="ppaction://hlinksldjump"/>
              </a:rPr>
              <a:t>叶圣陶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7400" y="11430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Times New Roman"/>
                <a:ea typeface="黑体"/>
              </a:rPr>
              <a:t>景泰蓝的制作过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2514600"/>
            <a:ext cx="5715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黑体"/>
              </a:rPr>
              <a:t>制胎—掐丝—点蓝—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黑体"/>
              </a:rPr>
              <a:t>烧蓝—打磨—镀金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3049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景泰蓝的制作流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126828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黑体"/>
              </a:rPr>
              <a:t>制胎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989000"/>
            <a:ext cx="17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黑体"/>
              </a:rPr>
              <a:t>掐丝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黑体"/>
              </a:rPr>
              <a:t>点蓝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572000"/>
            <a:ext cx="22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烧蓝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257800"/>
            <a:ext cx="18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打磨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5950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镀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2952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举例说明制胎方法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尽打、接合、焊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26668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粘丝→烧焊→硫酸煮→清水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3962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黑体"/>
              </a:rPr>
              <a:t>磨色料→筛色料→填色料→三填三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144792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9400" y="205740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详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2920" y="4952880"/>
            <a:ext cx="66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b00b"/>
                </a:solidFill>
                <a:latin typeface="Times New Roman"/>
                <a:ea typeface="黑体"/>
              </a:rPr>
              <a:t>略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（剪、曲、夹、蘸、粘、焊、煮、洗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3505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捣、研、筛、和、舀、填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4648320"/>
            <a:ext cx="75960" cy="1828800"/>
          </a:xfrm>
          <a:custGeom>
            <a:avLst/>
            <a:gdLst>
              <a:gd name="textAreaLeft" fmla="*/ 48600 w 75960"/>
              <a:gd name="textAreaRight" fmla="*/ 76320 w 75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724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eaeaea"/>
                </a:solidFill>
                <a:latin typeface="宋体"/>
              </a:rPr>
              <a:t>放、送、烧、提）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54100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aea"/>
                </a:solidFill>
                <a:latin typeface="宋体"/>
              </a:rPr>
              <a:t>（金刚砂石水磨、磨刀石水磨、椴木碳水磨）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04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作者为什么详写掐丝、点蓝这两道工序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676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）这两道工序是景泰蓝制作所特有的，不为人所熟知的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00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）这两道工序最复杂、精细，最能体现景泰蓝制作的精细、繁复、手工制作的特点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）这两道工序决定景泰蓝质量和成品风格的关键工序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4-9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节，</a:t>
            </a: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作者在介绍掐丝这道工序时抓住了哪一个特点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990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精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7524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作者运用哪些说明方法说明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4382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下定义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：简要说明什么是掐丝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276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举例子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：以柳树为例，具体说明掐丝的操作方法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648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打比方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：像括号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54100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作比较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：与刺绣比较，说明都是细致的工作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533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综合运用多种说明方法有什么好处？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可以互相补充和配合，完整具体而翔实的说明事物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2971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作者在介绍掐丝时，插进了自己的感想和体会。请找出来，并说明起作用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4572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感叹这是一项精细的工作，肯定了景泰蓝手工工艺的价值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7160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为什么粘在铜胎上的图画都是繁笔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、铜丝在涂色料时，起了界限作用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454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、铜胎和色料的膨胀率不同，色料的面积不能过大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781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、在表面粘上繁笔的铜丝图画，禁得起打磨等外力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5029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制作方法和物理决定了景泰蓝掐丝的形式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3880" y="13716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黑体"/>
                <a:ea typeface="黑体"/>
              </a:rPr>
              <a:t>第</a:t>
            </a:r>
            <a:r>
              <a:rPr b="1" lang="zh-CN" sz="4000" spc="-1" strike="noStrike">
                <a:solidFill>
                  <a:srgbClr val="eeb00b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eeb00b"/>
                </a:solidFill>
                <a:latin typeface="黑体"/>
                <a:ea typeface="黑体"/>
              </a:rPr>
              <a:t>节主要采用什么方法来说明的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30481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黑体"/>
              </a:rPr>
              <a:t>列数字、作比较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2286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b00b"/>
                </a:solidFill>
                <a:latin typeface="Times New Roman"/>
                <a:ea typeface="黑体"/>
              </a:rPr>
              <a:t>《景泰蓝的制作》一文所采用的说明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91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分类别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：对景泰蓝的制作过程中的工序类别一一介绍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0574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下定义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：如说明“掐丝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举例子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：如说明制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352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打比方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：如举柳树来说明掐丝时，作者说柳叶像一个左括号，一个右括号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4956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作比较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：如作者把掐丝和刺绣、缂丝、象牙雕刻作比较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5638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6 .</a:t>
            </a: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列数字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：如一个花瓶，掐丝要花四五十个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228600"/>
            <a:ext cx="8001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在语言上，这篇文章遣词准确、造句严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、文中恰当地运用了一些</a:t>
            </a: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工艺术语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，如“掐丝”、“点蓝”、“烧焊”、“打磨”、“镀金’’等，这些术语的运用，能使说明的语言更加准确、精练，也使读者容易把握某道工序的内容和特点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、文中还使用了一些</a:t>
            </a: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科学术语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，如“延展性”、“膨胀率”、“机械力”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、文中还多处使用一些</a:t>
            </a:r>
            <a:r>
              <a:rPr b="1" lang="zh-CN" sz="3200" spc="-1" strike="noStrike">
                <a:solidFill>
                  <a:srgbClr val="eeb00b"/>
                </a:solidFill>
                <a:latin typeface="黑体"/>
                <a:ea typeface="黑体"/>
              </a:rPr>
              <a:t>平实的口语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，使介绍显得通俗朴实，好似作者在用白话式的语言解说，使读者有亲切感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茶壶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　　　　　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景泰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景泰蓝又名铜胎掐丝</a:t>
            </a:r>
            <a:r>
              <a:rPr b="1" lang="zh-CN" sz="3600" spc="-1" strike="noStrike" u="sng">
                <a:solidFill>
                  <a:srgbClr val="eaeaea"/>
                </a:solidFill>
                <a:uFillTx/>
                <a:latin typeface="黑体"/>
                <a:ea typeface="黑体"/>
              </a:rPr>
              <a:t>珐琅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，中国特种手工艺品，最早产于元朝时的古老京都，盛行于明朝景泰年间（１４５０年－１４５６年），因其釉料颜色主要以蓝色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孔雀蓝和宝石蓝）为主，古称为景泰蓝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珐琅（</a:t>
            </a:r>
            <a:r>
              <a:rPr b="1" lang="en-US" sz="3600" spc="-1" strike="noStrike">
                <a:solidFill>
                  <a:srgbClr val="eaeaea"/>
                </a:solidFill>
                <a:latin typeface="黑体"/>
                <a:ea typeface="黑体"/>
              </a:rPr>
              <a:t>fàláng</a:t>
            </a:r>
            <a:r>
              <a:rPr b="1" lang="en-US" sz="3600" spc="-1" strike="noStrike">
                <a:solidFill>
                  <a:srgbClr val="eaeaea"/>
                </a:solidFill>
                <a:latin typeface="黑体"/>
                <a:ea typeface="黑体"/>
              </a:rPr>
              <a:t>）：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某些矿物质原料烧成的像釉子的物质，多涂在铜质或银质器物表面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花瓶4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花瓶6" descr=""/>
          <p:cNvPicPr/>
          <p:nvPr/>
        </p:nvPicPr>
        <p:blipFill>
          <a:blip r:embed="rId1"/>
          <a:stretch/>
        </p:blipFill>
        <p:spPr>
          <a:xfrm>
            <a:off x="1809720" y="0"/>
            <a:ext cx="733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化妆盒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酒壶2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孔雀开屏2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艺术品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马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小坛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景泰蓝图示：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2895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  <a:ea typeface="黑体"/>
              </a:rPr>
              <a:t>八狮纹尊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黑体"/>
              </a:rPr>
              <a:t>，明中期制品。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该尊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黑体"/>
              </a:rPr>
              <a:t>通体为浅蓝色珐琅地，颈部和腹部共饰掐丝八狮戏球纹及杂宝纹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200411220353998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5029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缠枝莲纹象耳炉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，元代。 掐丝珐琅缠枝莲纹象耳炉。釉质莹润，有的部分釉质呈玻璃般的透明状，珐琅色泽浑厚，富丽典雅，是一件高水平的元代掐丝珐琅作品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2004112205334355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9320" y="304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黑体"/>
                <a:ea typeface="黑体"/>
              </a:rPr>
              <a:t>掐丝珐琅缠枝莲纹鼎式炉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，元代。这是有史料记载最早的掐丝珐琅产品，元代的代表作，现藏于故宫。图案布局疏朗，掐丝线条奔放有力。珐琅质地细腻洁净，釉面光亮，有水晶般的透明感，尤其是葡萄紫、草绿、绛黄等几种颜色更为耀眼夺目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2004112204528116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733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7652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黑体"/>
                <a:ea typeface="黑体"/>
              </a:rPr>
              <a:t>缠枝莲纹碗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，明万历年间精品。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6629400" cy="4724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67640" y="6308640"/>
            <a:ext cx="14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cc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609480"/>
            <a:ext cx="7696080" cy="20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b00b"/>
                </a:solidFill>
                <a:latin typeface="Times New Roman"/>
                <a:ea typeface="黑体"/>
              </a:rPr>
              <a:t>                    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  <a:ea typeface="黑体"/>
              </a:rPr>
              <a:t>叶圣陶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现代著名作家，</a:t>
            </a: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教育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家。名绍钧，江苏苏州人。创作涉及童话、散文、小说等领域。他写作态度严肃认真，风格朴素自然，语言洗练优美，有“</a:t>
            </a: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优秀的语言艺术家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”之称，其代表作有童话：《</a:t>
            </a: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稻草人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》、《古代英雄的石像》；短篇小说：《</a:t>
            </a: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夜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》、《多收了三五斗》；长篇小说：《</a:t>
            </a: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倪焕之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》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04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为下列加横线的字注音或根据拼音写出汉字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676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粘（　）丝    铁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砧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（　）  缂（　）丝椴（　　）木     白芨（　　）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962520"/>
            <a:ext cx="7696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黑体"/>
                <a:ea typeface="黑体"/>
              </a:rPr>
              <a:t>dù</a:t>
            </a:r>
            <a:r>
              <a:rPr b="1" lang="en-US" sz="3200" spc="-1" strike="noStrike">
                <a:solidFill>
                  <a:srgbClr val="eaeaea"/>
                </a:solidFill>
                <a:latin typeface="黑体"/>
                <a:ea typeface="黑体"/>
              </a:rPr>
              <a:t>（　　）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金　　　</a:t>
            </a:r>
            <a:r>
              <a:rPr b="1" lang="en-US" sz="3200" spc="-1" strike="noStrike">
                <a:solidFill>
                  <a:srgbClr val="eaeaea"/>
                </a:solidFill>
                <a:latin typeface="黑体"/>
                <a:ea typeface="黑体"/>
              </a:rPr>
              <a:t>shū(</a:t>
            </a:r>
            <a:r>
              <a:rPr b="1" lang="en-US" sz="3200" spc="-1" strike="noStrike">
                <a:solidFill>
                  <a:srgbClr val="eaeaea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eaeaea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黑体"/>
                <a:ea typeface="黑体"/>
              </a:rPr>
              <a:t>péng</a:t>
            </a:r>
            <a:r>
              <a:rPr b="1" lang="en-US" sz="3200" spc="-1" strike="noStrike">
                <a:solidFill>
                  <a:srgbClr val="eaeaea"/>
                </a:solidFill>
                <a:latin typeface="黑体"/>
                <a:ea typeface="黑体"/>
              </a:rPr>
              <a:t>（　　）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胀　　</a:t>
            </a:r>
            <a:r>
              <a:rPr b="1" lang="en-US" sz="3200" spc="-1" strike="noStrike">
                <a:solidFill>
                  <a:srgbClr val="eaeaea"/>
                </a:solidFill>
                <a:latin typeface="黑体"/>
                <a:ea typeface="黑体"/>
              </a:rPr>
              <a:t>zhàn</a:t>
            </a:r>
            <a:r>
              <a:rPr b="1" lang="en-US" sz="3200" spc="-1" strike="noStrike">
                <a:solidFill>
                  <a:srgbClr val="eaeaea"/>
                </a:solidFill>
                <a:latin typeface="黑体"/>
                <a:ea typeface="黑体"/>
              </a:rPr>
              <a:t>（　　）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水钢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048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黑体"/>
                <a:ea typeface="黑体"/>
              </a:rPr>
              <a:t>Zhān    zhēn   kè    duàn   j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56386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黑体"/>
                <a:ea typeface="黑体"/>
              </a:rPr>
              <a:t>镀     疏     膨     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3880" y="83808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快速浏览全文，思考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景泰蓝的制作过程分几步？是哪几步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048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注意</a:t>
            </a:r>
            <a:r>
              <a:rPr b="1" lang="zh-CN" sz="3600" spc="-1" strike="noStrike">
                <a:solidFill>
                  <a:srgbClr val="eeb00b"/>
                </a:solidFill>
                <a:latin typeface="Times New Roman"/>
                <a:ea typeface="黑体"/>
              </a:rPr>
              <a:t>衔接词（提示性词语）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191120"/>
            <a:ext cx="7391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开头”、“第二步”、“轮到”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eaeaea"/>
                </a:solidFill>
                <a:latin typeface="黑体"/>
                <a:ea typeface="黑体"/>
              </a:rPr>
              <a:t>该说”、“就是”、 “还得”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0:21:43Z</dcterms:created>
  <dc:creator>COMMON</dc:creator>
  <dc:description/>
  <dc:language>en-US</dc:language>
  <cp:lastModifiedBy>syj</cp:lastModifiedBy>
  <dcterms:modified xsi:type="dcterms:W3CDTF">2006-10-20T06:12:22Z</dcterms:modified>
  <cp:revision>54</cp:revision>
  <dc:subject/>
  <dc:title>　　景泰蓝的制作</dc:title>
</cp:coreProperties>
</file>