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F18-1B17-48A9-841B-5672F1EA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5BF-5C60-408C-AB61-BB3A78A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2BA-0603-406D-8C64-429417FE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916-6DDE-4FD7-B5AE-0DB1A370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DA-55CC-416C-B425-9F754745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371-D4E1-450E-9D0A-F9AC434B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52E-43DD-4F8B-92CF-8E7E986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136-1A5F-4024-85DA-54F8B50A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F94-EB0C-4235-A617-F89A46B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E6F-4D47-4008-A428-629F909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4FF-AC9C-46CB-ABFB-C7B42C1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3C4-20BB-428D-9E78-EAA9F87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8622-DC24-40D2-91EF-9AF70B4659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579600" y="469800"/>
            <a:ext cx="718020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此文档是由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生成的加密文档，当前软件无法进行正常查看和编辑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请下载支持文档加密的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WPS Office PC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版、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Android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版、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IOS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版客户端进行查看。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下载地址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官网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：</a:t>
            </a:r>
            <a:r>
              <a:rPr b="0" lang="en-US" sz="2000" spc="-1" strike="noStrike" u="sng">
                <a:solidFill>
                  <a:srgbClr val="0563c1"/>
                </a:solidFill>
                <a:uFillTx/>
                <a:latin typeface="等线"/>
                <a:hlinkClick r:id="rId1"/>
              </a:rPr>
              <a:t>http://www.wps.cn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等线"/>
              </a:rPr>
              <a:t>注：也可联系您的企业管理员获取最新</a:t>
            </a:r>
            <a:r>
              <a:rPr b="0" lang="en-US" sz="1400" spc="-1" strike="noStrike">
                <a:solidFill>
                  <a:srgbClr val="7f7f7f"/>
                </a:solidFill>
                <a:latin typeface="等线"/>
              </a:rPr>
              <a:t>WPS</a:t>
            </a:r>
            <a:r>
              <a:rPr b="0" lang="zh-CN" sz="1400" spc="-1" strike="noStrike">
                <a:solidFill>
                  <a:srgbClr val="7f7f7f"/>
                </a:solidFill>
                <a:latin typeface="等线"/>
              </a:rPr>
              <a:t>版本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等线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等线"/>
              </a:rPr>
              <a:t>【</a:t>
            </a:r>
            <a:r>
              <a:rPr b="0" lang="en-US" sz="1400" spc="-1" strike="noStrike">
                <a:solidFill>
                  <a:srgbClr val="7f7f7f"/>
                </a:solidFill>
                <a:latin typeface="等线"/>
              </a:rPr>
              <a:t>WPS</a:t>
            </a:r>
            <a:r>
              <a:rPr b="0" lang="zh-CN" sz="1400" spc="-1" strike="noStrike">
                <a:solidFill>
                  <a:srgbClr val="7f7f7f"/>
                </a:solidFill>
                <a:latin typeface="等线"/>
              </a:rPr>
              <a:t>文档加密可以轻松管理受保护的文件，通过授权账号权限有效控制文档安全性】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wps</cp:lastModifiedBy>
  <dcterms:modified xsi:type="dcterms:W3CDTF">2018-04-02T02:20:0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_MarkAsFinal">
    <vt:bool>1</vt:bool>
  </property>
</Properties>
</file>