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8F9-0157-4F61-8127-CD417E60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F42-7436-4145-8048-9A4F19DC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DA1-49EF-435D-B4CE-622B9FF1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3E4-677A-4397-A15C-D3B561C7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D42-5A5B-4076-84E8-799902F4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985-EF9B-40A9-A356-463853F2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678-3270-4E5E-9631-2D24879C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815-619A-4D6E-A51B-8B4F0267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680-5CF4-4600-B9F9-1582E02D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D6D-5CDC-4DEE-8745-BFCAF500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15C-6237-4D8D-82D2-E2C1EAD4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EF6-3414-4C78-8BAD-580DB385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017C-CBB6-46F8-A83F-322D06CE94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55080" y="304920"/>
            <a:ext cx="3399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  <a:ea typeface="隶书"/>
              </a:rPr>
              <a:t>今生今世的证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87800" y="4114800"/>
            <a:ext cx="152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隶书"/>
              </a:rPr>
              <a:t>刘亮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走的时候，我还不懂得怜惜曾经拥有的事物，我们随便把一堵院墙推倒，砍掉那些树，拆毁圈棚和炉灶，我们想它没用处了。我们搬去的地方会有许多新东西。一切都会再有的，随着日子一天天好转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23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44792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走的时候还不知道向那些熟悉的东西去告别。不知道回过头说一句：草，你要一年年地长下去啊。土墙，你站稳了，千万不能倒啊。房子，你能撑到哪年就强撑到哪一年，万一你塌了，可千万把破墙圈留下，把朝南的门洞和窗口留下一小块泥皮，即使墙皮全脱落光，也在不经意的、风雨冲刷不到的那个墙角上，留下巴掌大的一小块吧，留下泥皮上的烟垢和灰，留下划痕、朽在墙中的木和铁钉，这些都是我今生今世的证据啊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267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走的时候，我还不知道曾经的生活有一天，会需要证明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572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"/>
            <a:ext cx="1523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051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4724280"/>
            <a:ext cx="1752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905120"/>
            <a:ext cx="1371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4724280"/>
            <a:ext cx="12952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0"/>
            <a:ext cx="6094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3733920"/>
            <a:ext cx="2895480" cy="4572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4343400"/>
            <a:ext cx="838080" cy="5335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286000"/>
            <a:ext cx="79246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0" y="2590560"/>
            <a:ext cx="9144000" cy="75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148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5181480"/>
            <a:ext cx="7315200" cy="1295640"/>
          </a:xfr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是要经过人生历炼和心灵思考才会明白，等到明白时，许多事理时间的流水已经带走了许多的东西，所以人生常有遗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762120"/>
            <a:ext cx="1143000" cy="457200"/>
          </a:xfrm>
          <a:prstGeom prst="flowChartProcess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320" y="685800"/>
            <a:ext cx="876276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外拓展性阅读及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课外阅读刘亮程的散文，进一步走进他的精神世界，感受他精心构筑的精神氛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结合实际以“故乡”为话题写一篇随笔，可抒发思乡之情，也可写对故乡的思考。要有真情实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3625920"/>
            <a:ext cx="782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隶书"/>
              </a:rPr>
              <a:t>谢谢！再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44800" cy="396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5480" y="304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刘亮程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6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生于新疆沙湾县沙漠边缘的一个小村庄，在那里度过童年和青年时期。种过地，当过十几年乡农机管理员。劳动之余写点文字，几乎所有文字都在写自己生活多年的一个村子。在这个村子里，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</a:rPr>
              <a:t>房子被风吹旧，太阳将人晒老，所有树木都按自然的意志生叶展枝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在不慌不忙中努力接近一种自然生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2670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3257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起，刘亮程的散文在全国引起巨大反响，多家报刊对其作品都作了隆重介绍，作者本人亦一鸣惊人，被誉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20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世纪中国最后一位散文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乡村哲学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品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文集《一个人的村庄》、《风中的院门》，长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说《虚土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38480" y="1371600"/>
            <a:ext cx="50292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读书要读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读懂作者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读出自己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95360"/>
            <a:ext cx="8763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１、文章的题目是“今生今世的证据”，                      那么证据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２、作者认为以往的生活需要证据吗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３、作者今生今世的证据证明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没有了这些证据会怎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28600"/>
            <a:ext cx="3835440" cy="764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读懂作者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问题，了解文章思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在，谁还能说出一棵草、一根木头的全部真实。谁会看见一场一场的风吹旧墙、刮破院门，穿过一个人慢慢松开的骨缝，把所有所有的风声留在他的一生中。</a:t>
            </a:r>
            <a:r>
              <a:rPr b="0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一切，难道不是一场一场的梦？如果没有那些旧房子和路，没有扬起又落下的尘土，没有与我一同长大仍旧活在村里的人、牲畜，没有还在吹刮着那一场一场的风，谁会证实以往生活——即使有它们，一个人内心的生存谁又能见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3352680"/>
            <a:ext cx="7238880" cy="3124440"/>
          </a:xfrm>
          <a:prstGeom prst="borderCallout1">
            <a:avLst>
              <a:gd name="adj1" fmla="val -227"/>
              <a:gd name="adj2" fmla="val -3457"/>
              <a:gd name="adj3" fmla="val -227"/>
              <a:gd name="adj4" fmla="val 20810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章的意思又进一层。“内心的生存”是一个复杂的表述，包含了人内心丰富的精神生活。如果人“内心的生存”找不到依凭，那么就会产生空虚感和漂泊感，所谓“精神的流浪”是现代人常有的精神疾患。本文的“证据”、“村庄”、“家园”实际上都包含多层的意思，既是日常生活的，又是精神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124080"/>
            <a:ext cx="2819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0"/>
            <a:ext cx="129564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05920" y="0"/>
            <a:ext cx="68580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1371600"/>
            <a:ext cx="12952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828800"/>
            <a:ext cx="12952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828800"/>
            <a:ext cx="12952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86000"/>
            <a:ext cx="129564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1752480"/>
            <a:ext cx="586728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今生今世的证据证明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生命存在的痕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内心的生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259092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人要想将他生命的物质痕迹全部留住是不可能的，但它会长久地留在记忆中，成为人的精神财富和思想资源。只有这样，“家园”才不会“废失”，否则人只能在“虚无”之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6094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当家园废失，我知道所有回家的脚步都已踏踏实实地迈上了虚无之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52520" y="272412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977760"/>
            <a:ext cx="8915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故乡≠家　故乡≠出生地　      故乡≠旅游景区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故乡是恒久的烙印，是精神家园，是精神的归宿地，是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9000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古人讲读书不动笔等于不读书。读书不是纯粹单向的、被动的接受，同时也是在思考，思考有了心得，就随时记下来，书的空白处都是记录的地方，因此，评点不仅仅是读书一种方法，更重要的是一种习惯，一种读书的好习惯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789360"/>
            <a:ext cx="60195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评点方法与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画出评点的原文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从内容、情感、表现手法等方面进行评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52280"/>
            <a:ext cx="243864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读出自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44:36Z</dcterms:created>
  <dc:creator>zxl</dc:creator>
  <dc:description/>
  <dc:language>en-US</dc:language>
  <cp:lastModifiedBy>zxl</cp:lastModifiedBy>
  <dcterms:modified xsi:type="dcterms:W3CDTF">2006-10-08T14:43:28Z</dcterms:modified>
  <cp:revision>12</cp:revision>
  <dc:subject/>
  <dc:title>PowerPoint 演示文稿</dc:title>
</cp:coreProperties>
</file>