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wind.wav" ContentType="audio/x-wav"/>
  <Override PartName="/ppt/media/chimes.wav" ContentType="audio/x-wav"/>
  <Override PartName="/ppt/media/image6.png" ContentType="image/png"/>
  <Override PartName="/ppt/media/image5.jpeg" ContentType="image/jpeg"/>
  <Override PartName="/ppt/media/image7.png" ContentType="image/png"/>
  <Override PartName="/ppt/media/image1.jpeg" ContentType="image/jpeg"/>
  <Override PartName="/ppt/media/click.wav" ContentType="audio/x-wav"/>
  <Override PartName="/ppt/media/arrow.wav" ContentType="audio/x-wav"/>
  <Override PartName="/ppt/media/cashreg.wav" ContentType="audio/x-wav"/>
  <Override PartName="/ppt/media/hammer.wav" ContentType="audio/x-wav"/>
  <Override PartName="/ppt/media/explode.wav" ContentType="audio/x-wav"/>
  <Override PartName="/ppt/media/camera.wav" ContentType="audio/x-wav"/>
  <Override PartName="/ppt/media/type.wav" ContentType="audio/x-wav"/>
  <Override PartName="/ppt/media/image2.jpeg" ContentType="image/jpeg"/>
  <Override PartName="/ppt/media/image3.png" ContentType="image/png"/>
  <Override PartName="/ppt/media/suction.wav" ContentType="audio/x-wav"/>
  <Override PartName="/ppt/media/projctor.wav" ContentType="audio/x-wav"/>
  <Override PartName="/ppt/media/laser.wav" ContentType="audio/x-wav"/>
  <Override PartName="/ppt/media/image4.png" ContentType="image/png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7C00-C921-4489-B2EA-256BFB74AD7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139D-BFF2-4615-A7F4-036F60AAB9C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719-3030-4D44-9B17-0A893F5A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A9E-1F63-4E32-BE4E-10465A3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E6F-4FA4-4DF0-9CD7-5305FCD9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717-853F-4CDB-9E2E-DB63ECE0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E619-CF7E-4139-985B-EA2AD4FE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FBBD-FBF8-4EBC-95E3-D81F5652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BA96-6ED3-4047-8369-F23C50E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22EF-0F5A-4634-B569-C4758C4C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7C0-0FBD-4036-86AC-0F89C370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F597-BE9B-4C40-BCF5-00B9327D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D923-9ECF-49AE-8F11-41226BD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5B2-7113-4095-9030-9D21079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C27-6935-4531-BEA5-CE212EB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0118-6164-4D61-968D-7D69153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F800-B23F-4A5D-BE92-FBE386D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480D-3D55-4B39-BDA1-21C78F85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FCC1-96D9-4B37-AC7B-20267953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282-73D0-42C5-B134-E4D6D06D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9BE-49D4-433B-9DEF-8475445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8AA-C3D2-4574-9B8B-E07161A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7E3-9B6A-4BC5-86C9-265E3216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6FE-CD05-4AE0-8343-2EE7A82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551-DA2B-4245-A262-8FCD9B1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D06-5D81-44AE-A6DF-F071DB7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E131-D696-4F32-9C88-DCFDF3A542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046-C10B-4C1A-9386-3CDD3BF0164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pic019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-695160" y="-81000"/>
            <a:ext cx="10534320" cy="7020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先秦散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43828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历史散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382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诸子散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21"/>
          <p:cNvGrpSpPr/>
          <p:nvPr/>
        </p:nvGrpSpPr>
        <p:grpSpPr>
          <a:xfrm>
            <a:off x="3504960" y="4038480"/>
            <a:ext cx="3124080" cy="581400"/>
            <a:chOff x="3504960" y="4038480"/>
            <a:chExt cx="3124080" cy="581400"/>
          </a:xfrm>
        </p:grpSpPr>
        <p:sp>
          <p:nvSpPr>
            <p:cNvPr id="111" name="Text Box 8"/>
            <p:cNvSpPr/>
            <p:nvPr/>
          </p:nvSpPr>
          <p:spPr>
            <a:xfrm>
              <a:off x="4582080" y="4038480"/>
              <a:ext cx="204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ahoma"/>
                </a:rPr>
                <a:t>百家争鸣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504960" y="4343400"/>
              <a:ext cx="1076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3" name="Group 22"/>
          <p:cNvGrpSpPr/>
          <p:nvPr/>
        </p:nvGrpSpPr>
        <p:grpSpPr>
          <a:xfrm>
            <a:off x="6242760" y="3200400"/>
            <a:ext cx="2367720" cy="830520"/>
            <a:chOff x="6242760" y="3200400"/>
            <a:chExt cx="2367720" cy="830520"/>
          </a:xfrm>
        </p:grpSpPr>
        <p:sp>
          <p:nvSpPr>
            <p:cNvPr id="114" name="Line 10"/>
            <p:cNvSpPr/>
            <p:nvPr/>
          </p:nvSpPr>
          <p:spPr>
            <a:xfrm flipH="1">
              <a:off x="6242760" y="3496680"/>
              <a:ext cx="741600" cy="534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72388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ahoma"/>
                </a:rPr>
                <a:t>墨家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" name="Group 25"/>
          <p:cNvGrpSpPr/>
          <p:nvPr/>
        </p:nvGrpSpPr>
        <p:grpSpPr>
          <a:xfrm>
            <a:off x="6293160" y="4391280"/>
            <a:ext cx="2317320" cy="777600"/>
            <a:chOff x="6293160" y="4391280"/>
            <a:chExt cx="2317320" cy="777600"/>
          </a:xfrm>
        </p:grpSpPr>
        <p:sp>
          <p:nvSpPr>
            <p:cNvPr id="117" name="Line 13"/>
            <p:cNvSpPr/>
            <p:nvPr/>
          </p:nvSpPr>
          <p:spPr>
            <a:xfrm flipH="1" flipV="1">
              <a:off x="6293160" y="4391280"/>
              <a:ext cx="774000" cy="331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7238880" y="4648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Tahoma"/>
                </a:rPr>
                <a:t>儒家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6263640" y="4191120"/>
            <a:ext cx="2346840" cy="520560"/>
            <a:chOff x="6263640" y="4191120"/>
            <a:chExt cx="2346840" cy="520560"/>
          </a:xfrm>
        </p:grpSpPr>
        <p:sp>
          <p:nvSpPr>
            <p:cNvPr id="120" name="Line 12"/>
            <p:cNvSpPr/>
            <p:nvPr/>
          </p:nvSpPr>
          <p:spPr>
            <a:xfrm flipH="1" flipV="1">
              <a:off x="6263640" y="4231800"/>
              <a:ext cx="823680" cy="172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7238880" y="41911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ahoma"/>
                </a:rPr>
                <a:t>法家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2" name="Group 23"/>
          <p:cNvGrpSpPr/>
          <p:nvPr/>
        </p:nvGrpSpPr>
        <p:grpSpPr>
          <a:xfrm>
            <a:off x="6258600" y="3733920"/>
            <a:ext cx="2351880" cy="520560"/>
            <a:chOff x="6258600" y="3733920"/>
            <a:chExt cx="2351880" cy="520560"/>
          </a:xfrm>
        </p:grpSpPr>
        <p:sp>
          <p:nvSpPr>
            <p:cNvPr id="123" name="Line 11"/>
            <p:cNvSpPr/>
            <p:nvPr/>
          </p:nvSpPr>
          <p:spPr>
            <a:xfrm flipH="1">
              <a:off x="6258600" y="3952440"/>
              <a:ext cx="741600" cy="17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7238880" y="3733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ahoma"/>
                </a:rPr>
                <a:t>道家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1523880" y="2514600"/>
            <a:ext cx="838440" cy="1905120"/>
            <a:chOff x="1523880" y="2514600"/>
            <a:chExt cx="838440" cy="1905120"/>
          </a:xfrm>
        </p:grpSpPr>
        <p:sp>
          <p:nvSpPr>
            <p:cNvPr id="126" name="AutoShape 3"/>
            <p:cNvSpPr/>
            <p:nvPr/>
          </p:nvSpPr>
          <p:spPr>
            <a:xfrm>
              <a:off x="1981080" y="2514600"/>
              <a:ext cx="381240" cy="190512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8"/>
            <p:cNvSpPr/>
            <p:nvPr/>
          </p:nvSpPr>
          <p:spPr>
            <a:xfrm>
              <a:off x="1523880" y="350532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8" name="05. 渔舟唱晚.wav" descr=""/>
          <p:cNvPicPr/>
          <p:nvPr/>
        </p:nvPicPr>
        <p:blipFill>
          <a:blip r:embed="rId2"/>
          <a:stretch/>
        </p:blipFill>
        <p:spPr>
          <a:xfrm>
            <a:off x="8731080" y="6292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676520" y="30492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cc"/>
                </a:solidFill>
                <a:latin typeface="Tahoma"/>
                <a:ea typeface="隶书"/>
              </a:rPr>
              <a:t>背景简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0492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zh-CN" sz="3200" spc="-1" strike="noStrike">
                <a:solidFill>
                  <a:srgbClr val="cc00cc"/>
                </a:solidFill>
                <a:latin typeface="Tahoma"/>
                <a:ea typeface="黑体"/>
              </a:rPr>
              <a:t>孔子时代的鲁国，政治上处于动荡变革之中。当时，鲁桓公的后代季孙、孟孙、叔孙三大家族逐渐强大，鲁国王室日趋衰败。三大家族把持鲁国朝政，其中，季孙氏势力最大。他要讨伐颛臾的原因有二：其一贪其土地，其二是担心颛臾对自己不利。当时冉有、季路都在季氏门下，且都参与了出征前的筹划。也就是在这时候，二人把这个消息告诉了孔子，由此引出了孔子和两位弟子的对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16">
            <a:hlinkClick r:id="" action="ppaction://hlinkshowjump?jump=nextslide"/>
          </p:cNvPr>
          <p:cNvSpPr/>
          <p:nvPr/>
        </p:nvSpPr>
        <p:spPr>
          <a:xfrm flipH="1">
            <a:off x="8458200" y="6286680"/>
            <a:ext cx="457200" cy="34272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8808" h="21600">
                <a:moveTo>
                  <a:pt x="0" y="0"/>
                </a:moveTo>
                <a:lnTo>
                  <a:pt x="28808" y="0"/>
                </a:lnTo>
                <a:lnTo>
                  <a:pt x="28808" y="21600"/>
                </a:lnTo>
                <a:lnTo>
                  <a:pt x="0" y="21600"/>
                </a:lnTo>
                <a:close/>
              </a:path>
              <a:path fill="lightenLess" w="28808" h="21600">
                <a:moveTo>
                  <a:pt x="0" y="0"/>
                </a:moveTo>
                <a:lnTo>
                  <a:pt x="28808" y="0"/>
                </a:lnTo>
                <a:lnTo>
                  <a:pt x="27408" y="1400"/>
                </a:lnTo>
                <a:lnTo>
                  <a:pt x="1400" y="1400"/>
                </a:lnTo>
                <a:close/>
              </a:path>
              <a:path fill="darken" w="28808" h="21600">
                <a:moveTo>
                  <a:pt x="28808" y="0"/>
                </a:moveTo>
                <a:lnTo>
                  <a:pt x="28808" y="21600"/>
                </a:lnTo>
                <a:lnTo>
                  <a:pt x="27408" y="20200"/>
                </a:lnTo>
                <a:lnTo>
                  <a:pt x="27408" y="1400"/>
                </a:lnTo>
                <a:close/>
              </a:path>
              <a:path fill="darkenLess" w="28808" h="21600">
                <a:moveTo>
                  <a:pt x="28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8" y="20200"/>
                </a:lnTo>
                <a:close/>
              </a:path>
              <a:path fill="lighten" w="28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8" h="21600">
                <a:moveTo>
                  <a:pt x="7397" y="10800"/>
                </a:moveTo>
                <a:lnTo>
                  <a:pt x="21410" y="3794"/>
                </a:lnTo>
                <a:lnTo>
                  <a:pt x="21410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7">
            <a:hlinkClick r:id="" action="ppaction://hlinkshowjump?jump=previousslide"/>
          </p:cNvPr>
          <p:cNvSpPr/>
          <p:nvPr/>
        </p:nvSpPr>
        <p:spPr>
          <a:xfrm>
            <a:off x="7772400" y="6286680"/>
            <a:ext cx="457200" cy="34272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8808" h="21600">
                <a:moveTo>
                  <a:pt x="0" y="0"/>
                </a:moveTo>
                <a:lnTo>
                  <a:pt x="28808" y="0"/>
                </a:lnTo>
                <a:lnTo>
                  <a:pt x="28808" y="21600"/>
                </a:lnTo>
                <a:lnTo>
                  <a:pt x="0" y="21600"/>
                </a:lnTo>
                <a:close/>
              </a:path>
              <a:path fill="lightenLess" w="28808" h="21600">
                <a:moveTo>
                  <a:pt x="0" y="0"/>
                </a:moveTo>
                <a:lnTo>
                  <a:pt x="28808" y="0"/>
                </a:lnTo>
                <a:lnTo>
                  <a:pt x="27408" y="1400"/>
                </a:lnTo>
                <a:lnTo>
                  <a:pt x="1400" y="1400"/>
                </a:lnTo>
                <a:close/>
              </a:path>
              <a:path fill="darken" w="28808" h="21600">
                <a:moveTo>
                  <a:pt x="28808" y="0"/>
                </a:moveTo>
                <a:lnTo>
                  <a:pt x="28808" y="21600"/>
                </a:lnTo>
                <a:lnTo>
                  <a:pt x="27408" y="20200"/>
                </a:lnTo>
                <a:lnTo>
                  <a:pt x="27408" y="1400"/>
                </a:lnTo>
                <a:close/>
              </a:path>
              <a:path fill="darkenLess" w="28808" h="21600">
                <a:moveTo>
                  <a:pt x="28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8" y="20200"/>
                </a:lnTo>
                <a:close/>
              </a:path>
              <a:path fill="lighten" w="28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8" h="21600">
                <a:moveTo>
                  <a:pt x="7397" y="10800"/>
                </a:moveTo>
                <a:lnTo>
                  <a:pt x="21410" y="3794"/>
                </a:lnTo>
                <a:lnTo>
                  <a:pt x="21410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  <p:sndAc>
      <p:stSnd>
        <p:snd r:embed="rId1" name="suction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 flipH="1">
            <a:off x="1066680" y="1828800"/>
            <a:ext cx="68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《论语》是记录＿＿＿＿时期思想家孔子及其弟子言行的书，所以它是</a:t>
            </a:r>
            <a:r>
              <a:rPr b="1" lang="zh-CN" sz="3600" spc="-1" strike="noStrike" u="sng">
                <a:solidFill>
                  <a:srgbClr val="800080"/>
                </a:solidFill>
                <a:uFillTx/>
                <a:latin typeface="Tahoma"/>
              </a:rPr>
              <a:t>	</a:t>
            </a:r>
            <a:r>
              <a:rPr b="1" lang="zh-CN" sz="3600" spc="-1" strike="noStrike" u="sng">
                <a:solidFill>
                  <a:srgbClr val="800080"/>
                </a:solidFill>
                <a:uFillTx/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体，凡＿＿篇，为＿＿家思想的经典著作。北宋时，朱熹将《大学》 、《中庸》、 《论语》、 《孟子》编在一起，称为“＿＿＿＿”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3">
            <a:hlinkClick r:id="" action="ppaction://hlinkshowjump?jump=nextslide"/>
          </p:cNvPr>
          <p:cNvSpPr/>
          <p:nvPr/>
        </p:nvSpPr>
        <p:spPr>
          <a:xfrm flipH="1">
            <a:off x="8381880" y="6286680"/>
            <a:ext cx="457200" cy="34272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8808" h="21600">
                <a:moveTo>
                  <a:pt x="0" y="0"/>
                </a:moveTo>
                <a:lnTo>
                  <a:pt x="28808" y="0"/>
                </a:lnTo>
                <a:lnTo>
                  <a:pt x="28808" y="21600"/>
                </a:lnTo>
                <a:lnTo>
                  <a:pt x="0" y="21600"/>
                </a:lnTo>
                <a:close/>
              </a:path>
              <a:path fill="lightenLess" w="28808" h="21600">
                <a:moveTo>
                  <a:pt x="0" y="0"/>
                </a:moveTo>
                <a:lnTo>
                  <a:pt x="28808" y="0"/>
                </a:lnTo>
                <a:lnTo>
                  <a:pt x="27408" y="1400"/>
                </a:lnTo>
                <a:lnTo>
                  <a:pt x="1400" y="1400"/>
                </a:lnTo>
                <a:close/>
              </a:path>
              <a:path fill="darken" w="28808" h="21600">
                <a:moveTo>
                  <a:pt x="28808" y="0"/>
                </a:moveTo>
                <a:lnTo>
                  <a:pt x="28808" y="21600"/>
                </a:lnTo>
                <a:lnTo>
                  <a:pt x="27408" y="20200"/>
                </a:lnTo>
                <a:lnTo>
                  <a:pt x="27408" y="1400"/>
                </a:lnTo>
                <a:close/>
              </a:path>
              <a:path fill="darkenLess" w="28808" h="21600">
                <a:moveTo>
                  <a:pt x="28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8" y="20200"/>
                </a:lnTo>
                <a:close/>
              </a:path>
              <a:path fill="lighten" w="28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8" h="21600">
                <a:moveTo>
                  <a:pt x="7397" y="10800"/>
                </a:moveTo>
                <a:lnTo>
                  <a:pt x="21410" y="3794"/>
                </a:lnTo>
                <a:lnTo>
                  <a:pt x="21410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>
            <a:hlinkClick r:id="" action="ppaction://hlinkshowjump?jump=previousslide"/>
          </p:cNvPr>
          <p:cNvSpPr/>
          <p:nvPr/>
        </p:nvSpPr>
        <p:spPr>
          <a:xfrm>
            <a:off x="7772400" y="6286680"/>
            <a:ext cx="457200" cy="34272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28808" h="21600">
                <a:moveTo>
                  <a:pt x="0" y="0"/>
                </a:moveTo>
                <a:lnTo>
                  <a:pt x="28808" y="0"/>
                </a:lnTo>
                <a:lnTo>
                  <a:pt x="28808" y="21600"/>
                </a:lnTo>
                <a:lnTo>
                  <a:pt x="0" y="21600"/>
                </a:lnTo>
                <a:close/>
              </a:path>
              <a:path fill="lightenLess" w="28808" h="21600">
                <a:moveTo>
                  <a:pt x="0" y="0"/>
                </a:moveTo>
                <a:lnTo>
                  <a:pt x="28808" y="0"/>
                </a:lnTo>
                <a:lnTo>
                  <a:pt x="27408" y="1400"/>
                </a:lnTo>
                <a:lnTo>
                  <a:pt x="1400" y="1400"/>
                </a:lnTo>
                <a:close/>
              </a:path>
              <a:path fill="darken" w="28808" h="21600">
                <a:moveTo>
                  <a:pt x="28808" y="0"/>
                </a:moveTo>
                <a:lnTo>
                  <a:pt x="28808" y="21600"/>
                </a:lnTo>
                <a:lnTo>
                  <a:pt x="27408" y="20200"/>
                </a:lnTo>
                <a:lnTo>
                  <a:pt x="27408" y="1400"/>
                </a:lnTo>
                <a:close/>
              </a:path>
              <a:path fill="darkenLess" w="28808" h="21600">
                <a:moveTo>
                  <a:pt x="28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8" y="20200"/>
                </a:lnTo>
                <a:close/>
              </a:path>
              <a:path fill="lighten" w="28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8" h="21600">
                <a:moveTo>
                  <a:pt x="7397" y="10800"/>
                </a:moveTo>
                <a:lnTo>
                  <a:pt x="21410" y="3794"/>
                </a:lnTo>
                <a:lnTo>
                  <a:pt x="21410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447920" y="609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ffcc00"/>
                </a:solidFill>
                <a:latin typeface="Tahoma"/>
                <a:ea typeface="隶书"/>
              </a:rPr>
              <a:t>课前练习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1752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春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4197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语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7010280" y="2895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２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6732720" y="50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四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课文第一、二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对于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将伐颛臾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一事，冉有和季路是怎样向孔子表述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</a:rPr>
              <a:t>孔子是什么态度，理由是什么</a:t>
            </a:r>
            <a:r>
              <a:rPr b="0" lang="zh-CN" sz="3600" spc="-1" strike="noStrike">
                <a:solidFill>
                  <a:srgbClr val="000099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6"/>
          <p:cNvSpPr/>
          <p:nvPr/>
        </p:nvSpPr>
        <p:spPr>
          <a:xfrm>
            <a:off x="-1059120" y="333360"/>
            <a:ext cx="9779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季氏将伐颛臾 。冉有、季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见于孔子曰：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季氏将有事于颛 臾。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” </a:t>
            </a:r>
            <a:br>
              <a:rPr sz="3200"/>
            </a:b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孔子曰：“求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无乃尔是过 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？夫颛臾，昔者先王以为东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主，且在邦域之中矣，是社稷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臣也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何以伐为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？”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u"/>
    <p:sndAc>
      <p:stSnd>
        <p:snd r:embed="rId1" name="type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季氏将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有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于颛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冉有故意将讨伐轻描淡写，说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有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第三段又振振有词地提出讨伐的理由，可见他是赞同这场战争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4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357120" cy="4334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211">
                <a:moveTo>
                  <a:pt x="0" y="0"/>
                </a:moveTo>
                <a:lnTo>
                  <a:pt x="21600" y="0"/>
                </a:lnTo>
                <a:lnTo>
                  <a:pt x="21600" y="26211"/>
                </a:lnTo>
                <a:lnTo>
                  <a:pt x="0" y="26211"/>
                </a:lnTo>
                <a:close/>
              </a:path>
              <a:path fill="lightenLess" w="21600" h="262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1">
                <a:moveTo>
                  <a:pt x="21600" y="0"/>
                </a:moveTo>
                <a:lnTo>
                  <a:pt x="21600" y="26211"/>
                </a:lnTo>
                <a:lnTo>
                  <a:pt x="20200" y="24811"/>
                </a:lnTo>
                <a:lnTo>
                  <a:pt x="20200" y="1400"/>
                </a:lnTo>
                <a:close/>
              </a:path>
              <a:path fill="darkenLess" w="21600" h="26211">
                <a:moveTo>
                  <a:pt x="21600" y="26211"/>
                </a:moveTo>
                <a:lnTo>
                  <a:pt x="0" y="26211"/>
                </a:lnTo>
                <a:lnTo>
                  <a:pt x="1400" y="24811"/>
                </a:lnTo>
                <a:lnTo>
                  <a:pt x="20200" y="24811"/>
                </a:lnTo>
                <a:close/>
              </a:path>
              <a:path fill="lighten" w="21600" h="26211">
                <a:moveTo>
                  <a:pt x="0" y="262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1"/>
                </a:lnTo>
                <a:close/>
              </a:path>
              <a:path fill="darken" w="21600" h="26211">
                <a:moveTo>
                  <a:pt x="3794" y="13106"/>
                </a:moveTo>
                <a:lnTo>
                  <a:pt x="17806" y="6099"/>
                </a:lnTo>
                <a:lnTo>
                  <a:pt x="17806" y="2011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  <p:sndAc>
      <p:stSnd>
        <p:snd r:embed="rId1" name="laser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孔子的态度，理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孔子坚决反对讨伐，对二人当面斥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冉求，恐怕该责备你吧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先王以为东蒙 主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且在邦域之中矣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是社稷之臣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8400" y="-217440"/>
            <a:ext cx="67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257800" y="335268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可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486400" y="4038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必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410080" y="46483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当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4800600" y="3733920"/>
            <a:ext cx="99072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"/>
          <p:cNvSpPr/>
          <p:nvPr/>
        </p:nvSpPr>
        <p:spPr>
          <a:xfrm flipH="1">
            <a:off x="4648320" y="4343400"/>
            <a:ext cx="121896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0"/>
          <p:cNvSpPr/>
          <p:nvPr/>
        </p:nvSpPr>
        <p:spPr>
          <a:xfrm flipH="1">
            <a:off x="4648320" y="5029200"/>
            <a:ext cx="121896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两个重点句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无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与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相当于现代汉语中的恐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尔是过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宾语前置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过尔，责备你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，代词，复指宾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何以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反问句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何辞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?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《鸿门宴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课文第二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752480" y="2362320"/>
            <a:ext cx="6172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针对孔子的批评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冉有是怎样辩解的，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孔子又怎样反驳。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课文第二段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冉有曰：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夫子欲之，吾二臣者皆不欲也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　　孔子曰：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求！周任 有言曰：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‘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陈力就列 ，不能者止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。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’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危而不持，颠而不扶，则将焉用彼相 矣？且尔言过矣，虎兕 出于柙 ，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龟玉毁于椟 中，是谁之过与？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993300"/>
                </a:solidFill>
                <a:latin typeface="Tahoma"/>
              </a:rPr>
              <a:t> 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ut thruBlk="true"/>
    <p:sndAc>
      <p:stSnd>
        <p:snd r:embed="rId1" name="chimes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38080" y="380880"/>
            <a:ext cx="83059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陈力就列：陈，施展；力，才能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就，居，充任；列，职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冉求推卸责任说：“那都是长官的意思，我和子路都是不同意的， 可有什么办法呢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在《宪问》篇里，孔子曾经说过“不在其位，不谋其政。”那么，现在他说的意思就是“在其位，谋其政”了。即使使用我们今天并不那么先进的话说，起码也是，‘拿一份钱。做一份事”，“做一天和尚撞一天钟。”那钟也得撞响才是啊！ </a:t>
            </a:r>
            <a:br>
              <a:rPr sz="3200"/>
            </a:b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back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laser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200" y="0"/>
            <a:ext cx="8229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诸子十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儒、道、阴阳、法、名、墨、纵横、杂、农、小说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09480" y="1981080"/>
            <a:ext cx="461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儒：孔子《论语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仁政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859280" y="1989000"/>
            <a:ext cx="3608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孟子《孟子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荀子《荀子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495680" y="24382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572000" y="25909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971800" y="39625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4419720" y="2590920"/>
            <a:ext cx="30456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4495320" y="2514600"/>
            <a:ext cx="2286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380880" y="2819520"/>
            <a:ext cx="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09480" y="350532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道：老子《老子》，庄子《庄子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09480" y="4267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法：韩非子《韩非子》 “法治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09480" y="4876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墨：墨子《墨子》    “非攻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609480" y="571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纵横：“兵家”   孙子《孙子兵法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520" y="2209680"/>
            <a:ext cx="75960" cy="3886200"/>
          </a:xfrm>
          <a:custGeom>
            <a:avLst/>
            <a:gdLst>
              <a:gd name="textAreaLeft" fmla="*/ 48600 w 75960"/>
              <a:gd name="textAreaRight" fmla="*/ 76320 w 759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457200" y="2209680"/>
            <a:ext cx="152280" cy="3886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  <p:sndAc>
      <p:stSnd>
        <p:snd r:embed="rId1" name="projctor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719760" y="838080"/>
            <a:ext cx="6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5800" y="3200400"/>
            <a:ext cx="8153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见到主人有危险而不知尽忠， 眼睁睁地看着他往火坑里跳，往山崖下掉却袖手旁观，这难道是 正确的态度？何况，老虎兕牛出了笼子，龟甲美玉毁在了匣中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是什么人的过错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572000" y="54864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管理者的失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600200" y="762120"/>
            <a:ext cx="541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危，不稳定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颠，跌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持，扶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扶，搀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type.wav"/>
      </p:stSnd>
    </p:sndAc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Tahoma"/>
                <a:ea typeface="华文新魏"/>
              </a:rPr>
              <a:t>课文第三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冉有曰：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今夫颛臾，固而近于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费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 。今不取，后世必为子孙忧。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” 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 孔子曰：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求！君子疾夫舍曰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‘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欲之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’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而必为之辞。丘也闻有国有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家者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不患寡而患不均，不患贫而患不安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 。盖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均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无贫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和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无寡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安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无倾。夫如是，故远人不服，则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修文德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 以来之。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既来之，则安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之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。今由与求也，相夫子，远人不服，而不能来也；邦分崩离析，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而不能守也；而谋动干戈于邦内。吾恐季孙之忧，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不在颛臾，而在萧墙 之内也。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” </a:t>
            </a:r>
            <a:r>
              <a:rPr b="0" lang="zh-CN" sz="2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  <p:sndAc>
      <p:stSnd>
        <p:snd r:embed="rId1" name="wind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孔子是怎么样责备冉有的？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君子疾夫舍曰“欲之”而必为之辞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品德高尚的人最痛恨那些避而不谈“想要这么做”却一定要找出这种借口的做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夫：代词，那，句中位置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夫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颛臾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夫，放在句中，那，代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夫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如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夫，放在句首，发语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  <p:sndAc>
      <p:stSnd>
        <p:snd r:embed="rId1" name="type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2" dur="250" autoRev="1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250" autoRev="1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50" autoRev="1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250" autoRev="1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4" dur="250" autoRev="1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250" autoRev="1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50" autoRev="1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0" dur="250" autoRev="1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1" dur="250" autoRev="1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250" autoRev="1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6" dur="250" autoRev="1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250" autoRev="1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250" autoRev="1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2" dur="250" autoRev="1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250" autoRev="1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不患寡而患不均，不患贫而患不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实际上是说的均贫富，讲稳定，求发展的治国方略，既包括内政也包括外交，既涉及经济也涉及政治。其中尤其值得我们注意的是他的贫富思想。他的这种思想当然不同于共产主义，而具有平均主义的色彩。因为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患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而共产主义却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－－消灭贫穷的主义。当然，历史地看，孔子的均贫富思想仍然具有积极意义。至少，它成为后世不少农民起义的口号和目标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581" dur="1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吾恐季孙之忧，不在颛臾，而在萧墙之内也：后代形成成语“祸起萧墙”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0000"/>
                </a:solidFill>
                <a:latin typeface="Tahoma"/>
                <a:ea typeface="隶书"/>
              </a:rPr>
              <a:t>阅读、思考、讨论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219320" y="220968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ahoma"/>
              </a:rPr>
              <a:t>文章一共写了孔子与冉有三次对话。试概括三次对话的主要内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286000" y="374796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一次对话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二次对话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三次对话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572000" y="3733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阐述反对讨伐的理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572000" y="4495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批评两学生没有尽责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4572000" y="5181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提出自己的政治主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2133720" y="3962520"/>
            <a:ext cx="152280" cy="1676160"/>
            <a:chOff x="2133720" y="3962520"/>
            <a:chExt cx="152280" cy="1676160"/>
          </a:xfrm>
        </p:grpSpPr>
        <p:sp>
          <p:nvSpPr>
            <p:cNvPr id="250" name="AutoShape 8"/>
            <p:cNvSpPr/>
            <p:nvPr/>
          </p:nvSpPr>
          <p:spPr>
            <a:xfrm>
              <a:off x="2133720" y="3962520"/>
              <a:ext cx="152280" cy="1676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2133720" y="48006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2" name="Oval 11"/>
          <p:cNvSpPr/>
          <p:nvPr/>
        </p:nvSpPr>
        <p:spPr>
          <a:xfrm>
            <a:off x="0" y="4343400"/>
            <a:ext cx="2057400" cy="762120"/>
          </a:xfrm>
          <a:prstGeom prst="ellipse">
            <a:avLst/>
          </a:prstGeom>
          <a:solidFill>
            <a:srgbClr val="e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ahoma"/>
              </a:rPr>
              <a:t>季氏将伐颛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d"/>
    <p:sndAc>
      <p:stSnd>
        <p:snd r:embed="rId1" name="arrow.wav"/>
      </p:stSnd>
    </p:sndAc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9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3"/>
          <p:cNvSpPr/>
          <p:nvPr/>
        </p:nvSpPr>
        <p:spPr>
          <a:xfrm>
            <a:off x="1828800" y="2133720"/>
            <a:ext cx="685800" cy="3352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899800" y="2057400"/>
            <a:ext cx="60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657600" y="198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657600" y="15238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乃尔是过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3962520" y="243828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114800" y="2286000"/>
            <a:ext cx="3597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先王以为东蒙 主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且在邦域之中矣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社稷之臣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899440" y="3962520"/>
            <a:ext cx="66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3657600" y="38862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886200" y="380988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用名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43434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比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891520" y="5167440"/>
            <a:ext cx="667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3733920" y="51814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657600" y="5029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君子品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3733920" y="5486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政治主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962520" y="5943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揭穿阴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6705720" y="160020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19"/>
          <p:cNvSpPr/>
          <p:nvPr/>
        </p:nvSpPr>
        <p:spPr>
          <a:xfrm>
            <a:off x="6705720" y="3886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6705720" y="50292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6781680" y="2362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6172200" y="3962520"/>
            <a:ext cx="32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6781680" y="5486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ashreg.wav"/>
      </p:stSnd>
    </p:sndAc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归纳总结</a:t>
            </a: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思想内容方面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技巧方面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60020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现孔子的仁政思想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现孔子敏锐的政治洞察力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对话体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以理服人的辩驳艺术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  <p:sndAc>
      <p:stSnd>
        <p:snd r:embed="rId1" name="type.wav"/>
      </p:stSnd>
    </p:sndAc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新魏"/>
              </a:rPr>
              <a:t>猜一猜：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中宋"/>
              </a:rPr>
              <a:t>在三段对话中，季路一言不发，这是为什么？请从季路的性格或者心态方面探讨一下原因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新魏"/>
              </a:rPr>
              <a:t>三种可能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可能一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季路不善言辞，干脆让伶牙俐齿的冉有抢先发言，自个儿乐得清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可能二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季路城府极深，有意让冉有出头露面，自己躲在幕后，可进可退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可能三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对于攻伐颛臾，季路并非冉有那样的铁杆儿支持者，但驳不掉季氏和冉有的面子，只好一起面见孔子，却以沉默来表示自己的尴尬处境或矛盾心境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long"/>
          <p:cNvPicPr/>
          <p:nvPr/>
        </p:nvPicPr>
        <p:blipFill>
          <a:blip r:embed="rId1"/>
          <a:stretch/>
        </p:blipFill>
        <p:spPr>
          <a:xfrm>
            <a:off x="0" y="5111640"/>
            <a:ext cx="1828800" cy="1746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868680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152388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儒家：中国两千年封建社会的正统思想，创始人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3200" spc="-1" strike="noStrike">
                <a:solidFill>
                  <a:srgbClr val="cc0000"/>
                </a:solidFill>
                <a:latin typeface="华文中宋"/>
                <a:ea typeface="华文中宋"/>
              </a:rPr>
              <a:t>孔子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孟子。               积极入世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释家：由印度传入中土，创始人释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摩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释家讲因果报应，讲修行为来世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道家：中国土生土长的宗教，创始人：老子，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子；以出世之心行入世之举。无为而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极出世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中国封建社会影响最大的三大教派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04920" y="175248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523880" y="17524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447920" y="3276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523880" y="46483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419112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华文新魏"/>
              </a:rPr>
              <a:t>八、作业再巩固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课后作业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完成阅读思考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背熟课文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71520" y="57132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孔子是如何针对冉有的错误观点展开层层深入的辩驳的？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答：文章围绕孔子与弟子的三次思想交锋而展开，具有浓厚的论辩色彩。首段针对冉有的陈述，严词责备冉有的失责，谴责季式攻伐颛臾的谬论，观点鲜明，批驳有力。次段针对冉有的推诿和托词，先引用古代良史之言，明为臣之道；再巧设比喻，明冉有托词之谬误，直言冉有未能尽到劝阻季氏击伐颛臾的责任。末段针对冉有的狡辩，毫不留情地揭示冉有的虚妄与昏聩，并正面阐述了治国理政的思想主张。三番辩论，条分缕析，正对错误观点，摆事实，讲道理，层层驳诘，步步逼近，直斥其非，申明大义，具有很强的逻辑性和论证力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8015400" cy="17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谈谈对课文中所表现的孔子政治思想的思考。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25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答：本文以论季氏伐颛臾之非为核心，展开了孔子和弟子之间的对话，阐述了孔子主张修明文教、施行德化，以期安邦定国的政治思想。孔子认为，讲信修睦，公平正义，改良政治，注重教化，以德服人，才是社会政治稳固、长治久安的根本途径。体现了孔子“爱人”“复礼”的政治理念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26" descr="孔子头像2"/>
          <p:cNvPicPr/>
          <p:nvPr/>
        </p:nvPicPr>
        <p:blipFill>
          <a:blip r:embed="rId1"/>
          <a:stretch/>
        </p:blipFill>
        <p:spPr>
          <a:xfrm>
            <a:off x="0" y="0"/>
            <a:ext cx="46162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27" descr="大家"/>
          <p:cNvPicPr/>
          <p:nvPr/>
        </p:nvPicPr>
        <p:blipFill>
          <a:blip r:embed="rId2"/>
          <a:stretch/>
        </p:blipFill>
        <p:spPr>
          <a:xfrm>
            <a:off x="5791320" y="228600"/>
            <a:ext cx="199872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26"/>
          <p:cNvSpPr/>
          <p:nvPr/>
        </p:nvSpPr>
        <p:spPr>
          <a:xfrm>
            <a:off x="160020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方正姚体简体"/>
              </a:rPr>
              <a:t>孔子的生平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028"/>
          <p:cNvSpPr/>
          <p:nvPr/>
        </p:nvSpPr>
        <p:spPr>
          <a:xfrm>
            <a:off x="762120" y="259092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　　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名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字仲 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春秋末期鲁国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儒家学派的创始人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古代著名的思想家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教育家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962520" y="5562720"/>
            <a:ext cx="38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ahoma"/>
              </a:rPr>
              <a:t>（公元前５５１－－前４７９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1032">
            <a:hlinkClick r:id="" action="ppaction://hlinkshowjump?jump=nextslide"/>
          </p:cNvPr>
          <p:cNvSpPr/>
          <p:nvPr/>
        </p:nvSpPr>
        <p:spPr>
          <a:xfrm flipH="1">
            <a:off x="860976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1033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孔子1.AVI" descr=""/>
          <p:cNvPicPr/>
          <p:nvPr/>
        </p:nvPicPr>
        <p:blipFill>
          <a:blip r:embed="rId1"/>
          <a:stretch/>
        </p:blipFill>
        <p:spPr>
          <a:xfrm>
            <a:off x="4140360" y="2565360"/>
            <a:ext cx="3375000" cy="2532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suction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971800" y="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孔子思想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0948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政治：反对暴政，主张仁政，“礼治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1143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二修身：“克己复礼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非礼勿视、非礼勿听、非礼勿言、非礼勿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9640" y="234936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伦理思想：“仁”，“仁者爱人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 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己所不欲，勿施与人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57200" y="3505320"/>
            <a:ext cx="9601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政治思想：维护封建等级制正名思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         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君、臣臣、父父、子子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     “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名不正则言不顺，言不顺则事不成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533520" y="990720"/>
            <a:ext cx="228600" cy="4267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533520" y="914400"/>
            <a:ext cx="304560" cy="4495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33520" y="54864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五教育：主张“因材施教”“学而不厌诲人不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094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六品德：“温、良、恭、俭、让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80880" y="1981080"/>
            <a:ext cx="152640" cy="243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7391520" y="685800"/>
            <a:ext cx="8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孔子格言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088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君子之接如水，小人之接如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2133720"/>
            <a:ext cx="838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80880" y="1219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玉不琢不成器，人不学不知道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04920" y="5867280"/>
            <a:ext cx="92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女子与小人难养也，近之则不逊，远之则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80880" y="1981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无远虑，必有近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80880" y="26668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工欲善其事，必先利其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04920" y="51055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礼勿视，非礼勿听，非礼勿言，非礼勿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80880" y="3429000"/>
            <a:ext cx="73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己所不欲，勿施于人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04920" y="4267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鸟之将死，其鸣也哀；人之将死，其言也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419720" y="4267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欲速则不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名不正则言不顺，言不顺则事不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06668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成人之美，不成人之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57200" y="3581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海之内皆兄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67652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岁寒，然后知松柏之后凋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4267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后生可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572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士不可以不弘毅，任重而道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57200" y="2971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坦荡荡，小人长戚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720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朽木不可雕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57200" y="5486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文质彬彬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457200" y="6019920"/>
            <a:ext cx="34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尽善尽美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  <p:sndAc>
      <p:stSnd>
        <p:snd r:embed="rId1" name="wind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838080" y="2438280"/>
            <a:ext cx="7620120" cy="2895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61899" dir="2700000" blurRad="0" rotWithShape="0">
              <a:srgbClr val="c1c1c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" y="501480"/>
            <a:ext cx="90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ahoma"/>
                <a:ea typeface="方正魏碑简体"/>
              </a:rPr>
              <a:t>季氏将伐颛臾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/>
    <p:sndAc>
      <p:stSnd>
        <p:snd r:embed="rId2" name="click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1:47:08Z</dcterms:created>
  <dc:creator>8888</dc:creator>
  <dc:description/>
  <dc:language>en-US</dc:language>
  <cp:lastModifiedBy>微软中国</cp:lastModifiedBy>
  <dcterms:modified xsi:type="dcterms:W3CDTF">2016-09-05T23:34:25Z</dcterms:modified>
  <cp:revision>36</cp:revision>
  <dc:subject/>
  <dc:title>PowerPoint 演示文稿</dc:title>
</cp:coreProperties>
</file>