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arrow.wav" ContentType="audio/x-wav"/>
  <Override PartName="/ppt/media/type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wind.wav" ContentType="audio/x-wav"/>
  <Override PartName="/ppt/media/camera.wav" ContentType="audio/x-wav"/>
  <Override PartName="/ppt/media/image6.png" ContentType="image/png"/>
  <Override PartName="/ppt/media/image4.jpeg" ContentType="image/jpeg"/>
  <Override PartName="/ppt/media/cashreg.wav" ContentType="audio/x-wav"/>
  <Override PartName="/ppt/media/image5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E3B-A497-4304-B68F-D28E326C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928-2E9B-49BE-A06A-8AF750A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DCF-08BA-4C24-93DA-FDF064A7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73A-C482-4CA9-BC65-35A01DDB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5E31-5C00-4BC0-9AFB-E7F23842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7C70-F93D-492E-95FF-7FBF9511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E1CF-BDB4-4D76-A9D6-7FCF9DB5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69A7-D9F1-41AF-A330-A6A0C45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DF39-D0F4-4895-9465-EFA0A634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DA6E-63FA-40D9-9774-8BBFFCC9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2F1-3850-4B04-9537-794FC0B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649-5250-4CA4-AE31-B360F5A8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FAE-628E-437C-9C33-F9343F0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6F2D-C8C0-4FB1-95A4-C57F37B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1B3B-9D4F-4AB6-81D1-56B1B5EB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63C1-8B14-4E52-8AD4-C7927F75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E89D-9090-4896-9A52-11449493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77C4-F97B-4B45-9588-36E518DC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0CAD-C7E4-4E30-8662-C709705D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A751-B8D1-42F6-8413-8BC4D9B8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D888-C14A-491C-9FBA-7F4F169F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078C-4F61-4F48-A936-23D473E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148-AFAC-4B57-8DE3-64DA2EB8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5470-685F-4262-AEFE-C813005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554F-580A-4470-AA81-86C03FB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82F5-A6DD-42C7-9BFB-A421D62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6D72-FA0D-4400-930A-F312125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C4A0-9307-45F7-8778-F616CD5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593D-584B-4BA3-9360-A16EA913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DF14-14E6-4B78-AD65-6984D731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9B2C-6CAC-4EE5-86BE-B05FC369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62F2-56FC-4477-9CF1-5C28E36D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3663-3888-4491-A930-2D48EA9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4A6-1A18-4C7C-89E8-56BB096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AF97-F79D-4983-88F1-54CBE98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C24E-A2D2-42A1-BEFB-8B278AE0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9538-3CE0-48F2-88F7-88CB31E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1823-9DEE-477B-96CD-05E2EC6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CFA3-F26F-4C09-A895-42DAA3F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DCEB-102C-4BE5-9EFA-87D12C5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B47F-B629-48A0-88A4-57F427BF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20CB-AB26-4EEE-9F1C-DF4A9FE4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DF03-FD8B-4F83-8A69-65F02789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BB5-70E5-4D71-A7EA-BA62DD8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3AB-7C2F-4575-AFDE-C193E3A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CA5-F434-474F-8E53-2AB5004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46A-69DC-4ADA-9937-FA57F02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FEF-D250-44D0-A681-A40EF5C8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79E8-B28C-42F2-967C-9BB18AF5E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2B2-5EF3-47C8-832D-2A5459F59C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118B-90B1-45BB-937C-D6F0D01431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419-83B7-4416-9F57-01F3220D86D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rrow.wav" TargetMode="External"/><Relationship Id="rId2" Type="http://schemas.microsoft.com/office/2007/relationships/media" Target="file:///tmp/home/.config/libreoffice/4/user/gallery/arrow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95280" y="189000"/>
            <a:ext cx="5148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998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月，世界诺贝尔奖获得者在巴黎集会，发表宣言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“人类要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世纪生存下去，必须回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50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年，去吸取孔子的智慧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6464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解题：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</a:rPr>
              <a:t>季氏</a:t>
            </a:r>
            <a:r>
              <a:rPr b="1" lang="zh-CN" sz="6600" spc="-1" strike="noStrike" baseline="30000">
                <a:solidFill>
                  <a:srgbClr val="0000ff"/>
                </a:solidFill>
                <a:latin typeface="Arial"/>
              </a:rPr>
              <a:t>？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将伐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</a:rPr>
              <a:t>颛臾</a:t>
            </a:r>
            <a:r>
              <a:rPr b="1" lang="zh-CN" sz="6600" spc="-1" strike="noStrike" baseline="30000">
                <a:solidFill>
                  <a:srgbClr val="0000ff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510552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关键词语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914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114800" y="914400"/>
            <a:ext cx="77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3124080" y="914400"/>
            <a:ext cx="77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114800" y="838080"/>
            <a:ext cx="77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6553080" y="914400"/>
            <a:ext cx="6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6308640" y="990720"/>
            <a:ext cx="77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5580000" y="1700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ahoma"/>
                <a:ea typeface="华文新魏"/>
              </a:rPr>
              <a:t>将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32480" y="1544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2997360"/>
            <a:ext cx="83534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将：说明尚未实现，可以劝阻；如果可以劝阻而不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加努力，于理不通，于情不合。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653000"/>
            <a:ext cx="8534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伐：攻打，明目张胆，在本文中有以大欺小、以强凌弱的意思，所以“季氏伐颛臾”是非正义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听录音范读，正音断句，体会语气节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2809800"/>
            <a:ext cx="6705360" cy="1238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028000" y="3068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4000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55736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语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 )    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颛臾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 )    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⑤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出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柙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 )    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焉用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 )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有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⑨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椟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    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26028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正音：请你读读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12536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语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lún)     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颛臾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zhuāny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jì)        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s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⑤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出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柙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(xiá)   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焉用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矣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xià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gē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（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n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dú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26028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正音：请你读读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3880" y="5335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Tahoma"/>
                <a:ea typeface="隶书"/>
              </a:rPr>
              <a:t>朗读把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2286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分角色朗读课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注意人物的身份和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3860640"/>
            <a:ext cx="5867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叙述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冉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让我们来熟悉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、让你我心随问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一问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文章共写了孔子与冉有的几次对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问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话的背景事件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三问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冉有轻描淡写总共讲了哪三句话？就孔子而言，几次对话的要点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602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孔子要点：明态度，斥失职，立主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四问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季氏将有事于颛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”这话是谁说的？是冉有？是季路？还是两人一起说的？课文中有证据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是冉有说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孔子的责备针对冉有，这就是明证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[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求！无乃尔是过与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五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冉有为何不直接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季氏将伐颛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？而要拐弯抹角的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季氏将有事于颛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提示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冉有说这话的目的是什么？仅仅是客观的陈述事情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冉有是来试探孔子对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季氏将伐颛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态度的，只宜含蓄地表示，岂能露骨地表白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六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523880"/>
            <a:ext cx="8964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对于攻伐颛臾，孔子的态度是什么？列举了哪三条理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孔子旗帜鲜明地反对，义正词严地斥责攻伐颛臾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理由有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昔者先王以为东蒙主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先王所封，不可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且在邦域之中矣        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邦域之中，不必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社稷之臣也            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社稷之臣，不当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76520" y="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方正姚体简体"/>
              </a:rPr>
              <a:t>关于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36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名丘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仲 尼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春秋末期鲁国人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儒家学派的创始人。我国古代著名的思想家、政治家、教育家，世界十大文化名人之一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发愤为学，博学多能，开创了私人讲学的风气，不管贫富贵贱，广收门徒，据说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0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弟子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贤人。又是文化传播的使者：曾周游列国，晚年专心从事古代文献整理与传播工作，致力于教育，整理《诗》、《书》等古代典籍，编订《春秋》。其学生将其思想言行记载在《论语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510552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公元前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55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－－前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479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4862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段语言知识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通假字：无乃尔是过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个“于”字：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曰   有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颛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古今异义词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昔者先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以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东蒙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把（他）封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词类活用：无乃尔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名作动，过错——责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省略句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昔者先王以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为东蒙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个判断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社稷之臣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个宾前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20160" y="76320"/>
            <a:ext cx="27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）无乃尔是过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26828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无乃……与？” 是个文言固定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相当于“恐怕……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是：宾语提前的标志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[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是”宾前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8640" y="376704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无乃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过尔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3645000"/>
            <a:ext cx="86756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B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）何以伐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还原：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以何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伐为？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[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为：疑问句末语气助词，“呢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规则：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[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疑宾前：疑问句中代词作动词或介词宾语须前置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七问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“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夫子欲之，吾二臣者皆不欲也。”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冉有说这话想干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推卸责任（开脱自己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八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对于冉有推卸责任的态度，孔子用什么方法驳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先引名言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不能尽职就别尸位素餐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再作类比——既为辅助就当恪尽职守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后设比喻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猛兽出笼为害，龟玉毁于柙中，谁辞其咎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九问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对于攻伐颛臾，冉有真的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不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”吗？如果不是真的，课文中能找到确凿的证据吗？这说明冉有是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并非真的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不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证据是冉有的第三句话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“今夫颛臾，固而近于费，今不取，后世必为子孙忧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说明冉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口是心非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十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冉有三句话各有特点：或闪烁其辞，或言不由衷，或编造借口。那么，这每一种态度分别对应哪一句话？各想达到什么目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第一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闪烁其辞，试探孔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第二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言不由衷，推卸责任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第三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编造借口，掩盖本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十一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对于冉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编造借口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孔子为什么只批评了一句，就转换话题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谈论“文德”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这表明孔子的谈话艺术具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编造借口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属于冉有的个人品质问题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文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属于治国之本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前轻后重，孔子当然要避轻就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表明孔子谈话善于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撇开枝叶，紧抓主干，善于抓住主要矛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十二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孔子在批判了冉有的狡辩之后，正面提出了自己的治国思想，在孔子看来一个君主要治理好国家，对内对外各应当怎样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内要：均和安。对外要：修文德以来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怎么看：不患寡而患不均，不患贫而患不安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实际上是说的均贫富，讲稳定，求发展的治国方略，既包括内政也包括外交，既涉及经济也涉及政治。其中尤其值得我们注意的是他的贫富思想。他的这种思想当然不同于共产主义，而具有平均主义的色彩。因为他“不患贫”而共产主义却是“患贫”－－消灭贫穷的主义。当然，历史地看，孔子的均贫富思想仍然具有积极意义。至少，它成为后世不少农民起义的口号和目标。</a:t>
            </a:r>
            <a:r>
              <a:rPr b="0" lang="zh-CN" sz="2800" spc="-1" strike="noStrike">
                <a:solidFill>
                  <a:srgbClr val="996633"/>
                </a:solidFill>
                <a:latin typeface="Tahoma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十三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孔子在正面提出了自己的治国主张后，对照这一主张又斥责自己的学生犯下了哪三个错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3645000"/>
            <a:ext cx="77724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一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远人不服不能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二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分崩离析不能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三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——谋动干戈于邦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  <a:ea typeface="方正姚体简体"/>
              </a:rPr>
              <a:t>孔子的思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11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思想上，以“仁”为核心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崇礼反法；政治上，提倡仁义忠恕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德治国；生活上，主张“温良恭俭让”；教育上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开创私学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有教无类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因材施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484360" y="1379520"/>
            <a:ext cx="4678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8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十四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文中哪一句表现了孔子的远见卓识和敏锐的政治洞察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3645000"/>
            <a:ext cx="77724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季孙之忧，不在颛臾，而在萧墙之内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后代形成成语“祸起萧墙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924680" cy="6543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小结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3429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18148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新魏"/>
              </a:rPr>
              <a:t>力伐争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5181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华文新魏"/>
              </a:rPr>
              <a:t>文德治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38920" cy="4000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9fff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55640" y="2209680"/>
            <a:ext cx="76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文章一共写了孔子与冉有三次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74796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第一次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第二次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第三次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733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ahoma"/>
              </a:rPr>
              <a:t>阐述反对讨伐的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4495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ahoma"/>
              </a:rPr>
              <a:t>批评两学生没有尽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181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ahoma"/>
              </a:rPr>
              <a:t>提出自己的政治主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133720" y="3962520"/>
            <a:ext cx="152280" cy="1676160"/>
            <a:chOff x="2133720" y="3962520"/>
            <a:chExt cx="152280" cy="1676160"/>
          </a:xfrm>
        </p:grpSpPr>
        <p:sp>
          <p:nvSpPr>
            <p:cNvPr id="287" name=""/>
            <p:cNvSpPr/>
            <p:nvPr/>
          </p:nvSpPr>
          <p:spPr>
            <a:xfrm>
              <a:off x="2133720" y="3962520"/>
              <a:ext cx="152280" cy="16761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48006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4343400"/>
            <a:ext cx="2057400" cy="762120"/>
          </a:xfrm>
          <a:prstGeom prst="ellipse">
            <a:avLst/>
          </a:prstGeom>
          <a:solidFill>
            <a:srgbClr val="e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季氏将伐颛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  <p:sndAc>
      <p:stSnd>
        <p:snd r:embed="rId1" name="arrow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828800" y="2133720"/>
            <a:ext cx="685800" cy="3352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9800" y="2057400"/>
            <a:ext cx="60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198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15238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乃尔是过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438280"/>
            <a:ext cx="75960" cy="129564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286000"/>
            <a:ext cx="2544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先王以为东蒙 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且在邦域之中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社稷之臣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9440" y="3962520"/>
            <a:ext cx="66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3886200"/>
            <a:ext cx="482760" cy="1271520"/>
          </a:xfrm>
          <a:custGeom>
            <a:avLst/>
            <a:gdLst>
              <a:gd name="textAreaLeft" fmla="*/ 308520 w 482760"/>
              <a:gd name="textAreaRight" fmla="*/ 483120 w 482760"/>
              <a:gd name="textAreaTop" fmla="*/ 33120 h 1271520"/>
              <a:gd name="textAreaBottom" fmla="*/ 1238400 h 12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3809880"/>
            <a:ext cx="2381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类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19960" y="5659560"/>
            <a:ext cx="667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5445000"/>
            <a:ext cx="216000" cy="1413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6720 h 1413000"/>
              <a:gd name="textAreaBottom" fmla="*/ 1376280 h 14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5640" y="5305320"/>
            <a:ext cx="226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驳斥借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政治主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揭穿阴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160020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6720" y="3886200"/>
            <a:ext cx="417600" cy="1198440"/>
          </a:xfrm>
          <a:custGeom>
            <a:avLst/>
            <a:gdLst>
              <a:gd name="textAreaLeft" fmla="*/ 0 w 417600"/>
              <a:gd name="textAreaRight" fmla="*/ 150840 w 417600"/>
              <a:gd name="textAreaTop" fmla="*/ 30960 h 1198440"/>
              <a:gd name="textAreaBottom" fmla="*/ 1167480 h 11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59640" y="541008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7080" y="23493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晓之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8360" y="39625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晓之以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54864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晓之以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429000"/>
            <a:ext cx="2057400" cy="762120"/>
          </a:xfrm>
          <a:prstGeom prst="ellipse">
            <a:avLst/>
          </a:prstGeom>
          <a:solidFill>
            <a:srgbClr val="e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季氏将伐颛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ashreg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归纳总结——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思想内容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作技巧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现孔子的文德治国的仁政思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现孔子敏锐的政治洞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对话体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以理服人、层层深入、先破后立的辩驳艺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type.wav"/>
      </p:stSnd>
    </p:sndAc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066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研读课文，质疑问难，让你我的思维向纵深发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一问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冉有、季路告诉孔子“季氏将有事于颛臾”，是瞒着季氏，还是事先已征得季氏同意，或者干脆就是季氏授意他们来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种猜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家臣的一举一动都须秉承主子的旨意，不可能自作主张，因此，很可能是季氏授意他们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也不能完全排除冉有自作主张的可能，他有这毛病。试看他推卸责任那句话，就不可能是季氏的授意，很可能是他自己“灵机一动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二问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在三段对话中，季路一言不发，这是为什么？请从季路的性格或者心态方面探讨一下原因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于《论语》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《论语》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儒家“四书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”（另《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大学》《中庸》《孟子》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）之一，是孔子弟子及其后学者汇集整理而成的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语录体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文集，记录了孔子及其弟子们的言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论：编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古语：半部《论语》治天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儒家六经：《诗》《书》 《礼》 《易》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乐》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  《春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53280" y="548640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种可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964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可能一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季路不善言辞，干脆让伶牙俐齿的冉有抢先发言，自个儿乐得清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可能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季路城府极深，有意让冉有出头露面，自己躲在幕后，可进可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可能三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对于攻伐颛臾，季路并非冉有那样的铁杆儿支持者，但驳不掉季氏和冉有的面子，只好一起面见孔子，却以沉默来表示自己的尴尬处境或矛盾心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391520" y="685800"/>
            <a:ext cx="8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孔子格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君子之接如水，小人之接如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133720"/>
            <a:ext cx="838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197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玉不琢不成器，人不学不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5867280"/>
            <a:ext cx="92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唯女子与小人难养也，近之则不逊，远之则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无远虑，必有近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6668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工欲善其事，必先利其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51055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非礼勿视，非礼勿听，非礼勿言，非礼勿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3429000"/>
            <a:ext cx="73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己所不欲，勿施于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4267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鸟之将死，其鸣也哀；人之将死，其言也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4221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欲速则不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名不正则言不顺，言不顺则事不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06668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子成人之美，不成人之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581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四海之内皆兄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177336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岁寒，然后知松柏之后凋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士不可以不弘毅，任重而道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971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子坦荡荡，小人长戚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朽木不可雕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wind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457200"/>
            <a:ext cx="85345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弄清思路，理解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了解孔子的政治主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归纳文言词语意义及句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重点：文言多义词与句式辩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难点：孔子的主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76520" y="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背景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273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孔子时代的鲁国，政治上处于动荡变革之中。当时，鲁桓公的后代季孙、孟孙、叔孙三大家族逐渐强大，鲁国王室日趋衰败。三大家族把持鲁国朝政，其中，季孙氏势力最大。他要讨伐颛臾的原因有二：其一贪其土地，其二是担心颛臾对自己不利。当时冉有、季路都在季氏门下，且都参与了出征前的筹划。也就是在这时候，二人把这个消息告诉了孔子，由此引出了孔子和两位弟子的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5:17:03Z</dcterms:created>
  <dc:creator>沈一一</dc:creator>
  <dc:description/>
  <dc:language>en-US</dc:language>
  <cp:lastModifiedBy>微软用户</cp:lastModifiedBy>
  <dcterms:modified xsi:type="dcterms:W3CDTF">2004-02-10T07:43:09Z</dcterms:modified>
  <cp:revision>8</cp:revision>
  <dc:subject/>
  <dc:title>幻灯片 1</dc:title>
</cp:coreProperties>
</file>