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091A-77EA-4673-B1A8-22B552B33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BB5E-6187-42CC-9F5A-08D386DEF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20BDEC-C43A-4931-BD14-B4AE7835F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0ADBC8-6397-431A-9CEC-90D59F2F8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F4706E-9132-4876-ADC4-62FEC3786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E8A33F-713F-4103-87C0-39074C07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14DE68-778E-425E-97FC-36F57444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0D2AAE-4B82-441B-8CAB-8488B8758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1B8F7E-335C-44C3-9441-A3F304400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40731E-C1E0-4B95-9BC2-BF4FE9E61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6F158A-6F29-450A-856E-34E63889B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7560B7-F27E-4763-8F5A-5C882E121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5959-2959-4671-B3B9-54C199896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013E1D-C7ED-42E6-9255-B457D91EF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4EF40B-A90F-47D1-8707-7BA187D83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7B0BEA-145C-425F-BE3B-77EE6F17B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8CB06C-E271-4DA2-92BD-AA4F0981E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6621B3-62E7-46F1-AE6D-42BA7E231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005DCD-9EB0-4556-8C65-29463F09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5C602B-2970-4766-A2EC-3EE94B52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52FE58-0946-4D43-9996-A40417D21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B60F91-7521-4A41-AE81-B12E2F16D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38B346-3D4B-4927-9099-8DB79F996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F03E-6E01-4263-9907-1A7F98AF9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C890B9-8107-4D74-B6A6-F8B0917AA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C6298C-5D10-4328-BFCF-D36DDEF4E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A06970-E57D-42D5-9A01-76F87439A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46C3CA-B3F5-4E69-AC63-36F8C13AB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F8B044-ED58-4CBF-87A4-5DDF0BC1B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A28453-0B48-415F-BD6D-4D435C461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70DF35-6560-41E0-9C7E-B2921B6F9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5D4D82-09FA-4518-8784-8B022250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7FC5F8-04E6-4209-8F1B-3994A93F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123E10-E164-4D2B-82B2-E925ADB06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4FA00-4455-44C0-A604-20D32D431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296D5D-8AFD-4185-819D-9FA006927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CDF33F-A94F-4950-B9FE-12DDD572E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C1C979-5AD3-410C-B078-B5C6FF138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6364E-ABCD-4355-9FB4-501C792F6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A0795-6D4D-49B3-AB75-40FF79665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1C991-B026-4528-A15F-FAC368D86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E6DFD-995B-4530-A031-ED1D7AA7A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90FFE-5DDD-487B-A043-D8319D71A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DB9EA-302E-48C6-8DD5-D9FF0705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0282-086B-4626-8551-4D973DF07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E5012-10FA-4FB2-B1FF-4F326C09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D0A3C-44E1-40E9-A887-83C063BD8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70004-A11D-4C4F-92BD-17A8C008E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3F8D2-8120-4289-A364-5628A1761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BAB01-7F67-48B5-AC12-53A42FFC8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A5742-E811-4D41-95AA-632846AA8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A125E-4467-43A8-AE3E-292789FA8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E1BD9-9AF4-49B2-8518-E9ABB5483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D3F01-6E71-440F-995A-CF25939BA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13CE3-DC50-4FAD-95EE-F5CFADD5C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C1EE-9BB6-462B-BE36-17B0DE391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837B2-A68A-49A2-8620-E52C3169F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947FA-4FA4-40F8-99B1-ABF1A6C5E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1009D-051B-4189-98B3-B92ED181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070BE-7F3B-4CB9-B0DF-E9F4C54B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DF461-0199-4210-8B36-8947F7055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F822E-3C4B-4472-97D1-51ABDCCF6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D5087-DE33-4958-95CA-E0AAA149B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180DD-0364-4639-9AFD-59EF95264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38055-5C7C-43F7-BF56-E90463D07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60B53-900D-40AA-9519-E5F84C165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71FC-304B-42C9-A218-42B35A26E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F9655-7C70-4B37-87D6-883EDE764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F5851-E4ED-4FE1-AE55-1A54C2A65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8C9C0-102F-40CD-BB3D-54B9B6131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BDBDB-18DA-4C2B-8758-D9229E7AD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B1BB4-7116-4EFC-BD68-4E523670C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18301-8DD4-4CF7-BC7C-22121B94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BFE5E-45C4-4E08-87DD-7205043FA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57862-ABCA-4CA4-B584-371D24EB0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8E252-E494-49E5-9E83-CC965BD95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24D1E-BDCF-4B59-86EE-80F932F48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0A46-E9B3-41D1-A30E-1520E8475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B950BC-3104-4EF3-AFBD-002232BE2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9A008B-B05A-443E-976B-AEE1D7F42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44B02-C1E8-401C-85A1-47D5E9999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B79A78-1AAD-43C0-90A7-4BD0268FE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4BBEFA-3C03-4A27-93D1-DBFBCA75D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BA7C50-4089-4AFC-90A8-788ACEFCD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1FC2EF-EA88-46F6-927D-A81D3AA41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83064C-EB87-477E-A23E-DC4261E7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BCF89A-157A-41EF-9B32-D0AA36102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7817F-9C15-4FA6-A01B-DA179073B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9003-9668-4C6D-BA2A-ACB4FB052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30EB7-0E0D-4D1E-8091-14744F2CC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6BDC46-B92D-4D1D-A68B-B2AB296AF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3690C9-E933-4318-9C9E-8A9C10553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486D4D-1613-4F67-90B4-182279091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685D81-2B2C-41AB-86FC-4DBD94380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CE0611-A1DC-4301-BF50-8FE6AA00E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D33E3B-005B-4689-8696-D387BA9F9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6547F3-6E32-4FBE-9BF9-BD6B5D212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6F9719-EC31-4F02-9681-80D43A71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47D3A0-032D-4483-AC7A-47769506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D7E8-F70F-4C85-950E-9F3B0C87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5A00E1-7DE9-43C4-BC42-C7EE5D873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0A3BF0-A42E-45E4-A1FB-EEE254264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85CB41-A2AC-446E-B857-21E891631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7C7738-1BAD-4408-92DA-7DBBB65E6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D6001E-B424-451A-915B-14DEFD620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C43BD0-4346-4F3C-92F8-2DB771322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D5434F-9309-4AD1-821B-A23D7AD8D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442538-C78A-4230-9E82-2CFA5574E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6C29FD-BB52-45FF-BCA6-1FABF7B4B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3430D3-AD17-4E02-9101-423C8B690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7469-C7B7-4AD7-81F9-547F4576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9D3427-B863-4D88-977A-0F834F16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D60784-D1CA-42B4-87FB-D71ABC8C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8E2303-9C35-4CA9-A446-75AE30259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0466D4-96A6-4A10-A04C-76821FB61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1E09CA-D0AC-45BB-AA38-7A22F981F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6E4AB4-DC8A-49E4-A23E-842F3E50C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C3092C-B621-4232-BE91-5A8B2DEE3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9CB2BC-2DBA-45EA-BBFC-7A6A0947C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F6F8B0-5ED3-4E6D-9111-30259EEC3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A61460-8FC3-44BE-994E-2D0C2DCF5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2EA8-8B7E-446B-8B96-CF4809053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5A9D38-1C9E-4138-9D30-7C3C4F9DE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06AD83-3667-4972-B1BB-0963EA2B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611352-1355-4317-9B35-4C00E06C5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239B09-26D7-4FC4-8215-E975EDF9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B08829-950B-41E0-9762-CC7047155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355792-EDB2-4E66-BA70-071A1AA40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9F091F-49DC-4454-9503-FF1D3913A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FCFD94-E16C-4808-99AF-E7EE4DAFB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3E1F5E-71E1-49E5-9A0A-0F6FF783A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5153C3-5294-4567-8769-C9A656C66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D3894-F1F7-41C5-AB98-B3F1865F5C2B}" type="slidenum">
              <a:rPr b="0" lang="en-US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8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9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30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A237A-C457-4EE3-91C1-5A982BA9947B}" type="slidenum">
              <a:rPr b="0" lang="en-US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3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3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A1CD2-0492-4CC9-9C44-BEF4C0932E79}" type="slidenum">
              <a:rPr b="0" lang="en-US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685800" y="3197160"/>
            <a:ext cx="77724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9B0A6-041D-462A-802E-A29FEBE9AD00}" type="slidenum">
              <a:rPr b="0" lang="en-US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7308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5330880" y="6400440"/>
            <a:ext cx="373392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35C2E-6B9D-4561-B879-7A31AD67F6AC}" type="slidenum">
              <a:rPr b="0" lang="en-US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8"/>
          <p:cNvSpPr/>
          <p:nvPr/>
        </p:nvSpPr>
        <p:spPr>
          <a:xfrm>
            <a:off x="685800" y="3143160"/>
            <a:ext cx="77724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55B4D-9107-4419-9C05-CF6B2BF92FD6}" type="slidenum">
              <a:rPr b="0" lang="en-US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67A35-E312-40D9-8F44-8C91C91D337D}" type="slidenum">
              <a:rPr b="0" lang="en-US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AC2EC-03CB-4D91-B026-D2665F887922}" type="slidenum">
              <a:rPr b="0" lang="en-US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35A8E-CB7D-4012-934F-B067A5E91692}" type="slidenum">
              <a:rPr b="0" lang="en-US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869C5-DB4B-4ECD-AD8C-0E3AF32541AF}" type="slidenum">
              <a:rPr b="0" lang="en-US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矩形 8"/>
          <p:cNvSpPr/>
          <p:nvPr/>
        </p:nvSpPr>
        <p:spPr>
          <a:xfrm>
            <a:off x="2786040" y="1054080"/>
            <a:ext cx="59040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97AC1-02A1-4606-AA38-1B6F1C0FBEA3}" type="slidenum">
              <a:rPr b="0" lang="en-US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1"/>
          <p:cNvSpPr/>
          <p:nvPr/>
        </p:nvSpPr>
        <p:spPr>
          <a:xfrm>
            <a:off x="2819520" y="8506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学而不思则罔，思而不学则殆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工欲善其事，必先利其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己所不欲，勿施于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玉不琢不成器，人不学不知道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君子坦荡荡，小人长戚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13" descr="0000000"/>
          <p:cNvPicPr/>
          <p:nvPr/>
        </p:nvPicPr>
        <p:blipFill>
          <a:blip r:embed="rId2"/>
          <a:stretch/>
        </p:blipFill>
        <p:spPr>
          <a:xfrm>
            <a:off x="0" y="0"/>
            <a:ext cx="28954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f2f2f"/>
                </a:solidFill>
                <a:latin typeface="黑体"/>
                <a:ea typeface="黑体"/>
              </a:rPr>
              <a:t>思考：当听到“季氏将有事于颛臾”的消息，孔子有何反应？</a:t>
            </a:r>
            <a:endParaRPr b="0" lang="en-US" sz="36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228600" y="18284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求，无乃尔是过与？”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8" name="圆角矩形 3"/>
          <p:cNvSpPr/>
          <p:nvPr/>
        </p:nvSpPr>
        <p:spPr>
          <a:xfrm>
            <a:off x="533520" y="3581280"/>
            <a:ext cx="5562360" cy="762120"/>
          </a:xfrm>
          <a:prstGeom prst="roundRect">
            <a:avLst>
              <a:gd name="adj" fmla="val 16667"/>
            </a:avLst>
          </a:prstGeom>
          <a:solidFill>
            <a:srgbClr val="f5e1b3"/>
          </a:solidFill>
          <a:ln w="25560">
            <a:solidFill>
              <a:srgbClr val="faf0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Franklin Gothic Book"/>
                <a:ea typeface="黑体"/>
              </a:rPr>
              <a:t>无乃……与：恐怕……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圆角矩形 4"/>
          <p:cNvSpPr/>
          <p:nvPr/>
        </p:nvSpPr>
        <p:spPr>
          <a:xfrm>
            <a:off x="533520" y="4572000"/>
            <a:ext cx="7315200" cy="762120"/>
          </a:xfrm>
          <a:prstGeom prst="roundRect">
            <a:avLst>
              <a:gd name="adj" fmla="val 16667"/>
            </a:avLst>
          </a:prstGeom>
          <a:solidFill>
            <a:srgbClr val="f5e1b3"/>
          </a:solidFill>
          <a:ln w="25560">
            <a:solidFill>
              <a:srgbClr val="faf0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Franklin Gothic Book"/>
                <a:ea typeface="黑体"/>
              </a:rPr>
              <a:t>尔是过：责备你，宾语前置（疑问句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矩形 6" descr=""/>
          <p:cNvPicPr/>
          <p:nvPr/>
        </p:nvPicPr>
        <p:blipFill>
          <a:blip r:embed="rId2"/>
          <a:stretch/>
        </p:blipFill>
        <p:spPr>
          <a:xfrm>
            <a:off x="2494080" y="2255760"/>
            <a:ext cx="5924520" cy="10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f2f2f"/>
                </a:solidFill>
                <a:latin typeface="黑体"/>
                <a:ea typeface="黑体"/>
              </a:rPr>
              <a:t>思考：孔子为什么反对讨伐颛臾？</a:t>
            </a:r>
            <a:endParaRPr b="0" lang="en-US" sz="40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昔者先王以为东蒙主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                 ——</a:t>
            </a:r>
            <a:r>
              <a:rPr b="0" lang="zh-CN" sz="32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不可伐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且在邦域之中矣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                 ——</a:t>
            </a:r>
            <a:r>
              <a:rPr b="0" lang="zh-CN" sz="32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不必伐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③</a:t>
            </a:r>
            <a:r>
              <a:rPr b="0" lang="zh-CN" sz="32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是社稷之臣也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                 ——</a:t>
            </a:r>
            <a:r>
              <a:rPr b="0" lang="zh-CN" sz="32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不当伐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3" name="圆角矩形标注 3"/>
          <p:cNvSpPr/>
          <p:nvPr/>
        </p:nvSpPr>
        <p:spPr>
          <a:xfrm>
            <a:off x="3733920" y="228600"/>
            <a:ext cx="4038480" cy="1600200"/>
          </a:xfrm>
          <a:prstGeom prst="wedgeRoundRectCallout">
            <a:avLst>
              <a:gd name="adj1" fmla="val -61532"/>
              <a:gd name="adj2" fmla="val 37782"/>
              <a:gd name="adj3" fmla="val 16667"/>
            </a:avLst>
          </a:prstGeom>
          <a:solidFill>
            <a:srgbClr val="e7c8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Franklin Gothic Book"/>
                <a:ea typeface="黑体"/>
              </a:rPr>
              <a:t>省略句：</a:t>
            </a:r>
            <a:r>
              <a:rPr b="0" lang="zh-CN" sz="28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昔者先王以</a:t>
            </a:r>
            <a:r>
              <a:rPr b="0" lang="zh-CN" sz="2800" spc="-1" strike="noStrike">
                <a:solidFill>
                  <a:srgbClr val="ff0000"/>
                </a:solidFill>
                <a:latin typeface="Franklin Gothic Book"/>
                <a:ea typeface="黑体"/>
              </a:rPr>
              <a:t>之</a:t>
            </a:r>
            <a:r>
              <a:rPr b="0" lang="zh-CN" sz="28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为东蒙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圆角矩形标注 4"/>
          <p:cNvSpPr/>
          <p:nvPr/>
        </p:nvSpPr>
        <p:spPr>
          <a:xfrm>
            <a:off x="1752480" y="4724280"/>
            <a:ext cx="2743200" cy="1067040"/>
          </a:xfrm>
          <a:prstGeom prst="wedgeRoundRectCallout">
            <a:avLst>
              <a:gd name="adj1" fmla="val -1393"/>
              <a:gd name="adj2" fmla="val -63111"/>
              <a:gd name="adj3" fmla="val 16667"/>
            </a:avLst>
          </a:prstGeom>
          <a:solidFill>
            <a:srgbClr val="e7c8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Franklin Gothic Book"/>
                <a:ea typeface="黑体"/>
              </a:rPr>
              <a:t>判断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f2f2f"/>
                </a:solidFill>
                <a:latin typeface="黑体"/>
                <a:ea typeface="黑体"/>
              </a:rPr>
              <a:t>何以伐为？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何以……为？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       ——</a:t>
            </a:r>
            <a:r>
              <a:rPr b="0" lang="zh-CN" sz="36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固定搭配，表</a:t>
            </a:r>
            <a:r>
              <a:rPr b="0" lang="zh-CN" sz="3600" spc="-1" strike="noStrike">
                <a:solidFill>
                  <a:srgbClr val="ff0000"/>
                </a:solidFill>
                <a:latin typeface="Franklin Gothic Book"/>
                <a:ea typeface="黑体"/>
              </a:rPr>
              <a:t>反问</a:t>
            </a:r>
            <a:r>
              <a:rPr b="0" lang="zh-CN" sz="36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语气。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f2f2f"/>
                </a:solidFill>
                <a:latin typeface="黑体"/>
                <a:ea typeface="黑体"/>
              </a:rPr>
              <a:t>思考：针对孔子的批评，冉有自我辩解：“夫子欲之，吾二臣者皆不欲也。”孔子当即给予反驳。如何反驳？引用了哪些话？用了哪些比喻？</a:t>
            </a:r>
            <a:br>
              <a:rPr sz="3600"/>
            </a:br>
            <a:endParaRPr b="0" lang="en-US" sz="36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457200" y="3124080"/>
            <a:ext cx="822960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引用周任的话：“陈力就列，不能者止”。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51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用比喻：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51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A</a:t>
            </a:r>
            <a:r>
              <a:rPr b="0" lang="zh-CN" sz="30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．危</a:t>
            </a:r>
            <a:r>
              <a:rPr b="0" lang="zh-CN" sz="3000" spc="-1" strike="noStrike">
                <a:solidFill>
                  <a:srgbClr val="ff0000"/>
                </a:solidFill>
                <a:latin typeface="Franklin Gothic Book"/>
                <a:ea typeface="黑体"/>
              </a:rPr>
              <a:t>而</a:t>
            </a:r>
            <a:r>
              <a:rPr b="0" lang="zh-CN" sz="30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不持，颠而不扶，则将</a:t>
            </a:r>
            <a:r>
              <a:rPr b="0" lang="zh-CN" sz="3000" spc="-1" strike="noStrike">
                <a:solidFill>
                  <a:srgbClr val="ff0000"/>
                </a:solidFill>
                <a:latin typeface="Franklin Gothic Book"/>
                <a:ea typeface="黑体"/>
              </a:rPr>
              <a:t>焉</a:t>
            </a:r>
            <a:r>
              <a:rPr b="0" lang="zh-CN" sz="30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用彼相矣？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51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B</a:t>
            </a:r>
            <a:r>
              <a:rPr b="0" lang="zh-CN" sz="30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．虎兕出于柙，龟玉毁于椟中，是谁之过与？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9" name="圆角矩形标注 3"/>
          <p:cNvSpPr/>
          <p:nvPr/>
        </p:nvSpPr>
        <p:spPr>
          <a:xfrm>
            <a:off x="2133720" y="3429000"/>
            <a:ext cx="1523880" cy="838080"/>
          </a:xfrm>
          <a:prstGeom prst="wedgeRoundRectCallout">
            <a:avLst>
              <a:gd name="adj1" fmla="val -46148"/>
              <a:gd name="adj2" fmla="val 64203"/>
              <a:gd name="adj3" fmla="val 16667"/>
            </a:avLst>
          </a:prstGeom>
          <a:solidFill>
            <a:srgbClr val="e3d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Franklin Gothic Book"/>
                <a:ea typeface="黑体"/>
              </a:rPr>
              <a:t>转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圆角矩形标注 4"/>
          <p:cNvSpPr/>
          <p:nvPr/>
        </p:nvSpPr>
        <p:spPr>
          <a:xfrm>
            <a:off x="6019920" y="2666880"/>
            <a:ext cx="1981080" cy="1524240"/>
          </a:xfrm>
          <a:prstGeom prst="wedgeRoundRectCallout">
            <a:avLst>
              <a:gd name="adj1" fmla="val -39657"/>
              <a:gd name="adj2" fmla="val 60453"/>
              <a:gd name="adj3" fmla="val 16667"/>
            </a:avLst>
          </a:prstGeom>
          <a:solidFill>
            <a:srgbClr val="e3d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Franklin Gothic Book"/>
                <a:ea typeface="黑体"/>
              </a:rPr>
              <a:t>何，疑问句宾语前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动作按钮: 结束 6"/>
          <p:cNvSpPr/>
          <p:nvPr/>
        </p:nvSpPr>
        <p:spPr>
          <a:xfrm>
            <a:off x="7238880" y="5867280"/>
            <a:ext cx="914400" cy="60984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32381" h="21600">
                <a:moveTo>
                  <a:pt x="0" y="0"/>
                </a:moveTo>
                <a:lnTo>
                  <a:pt x="32381" y="0"/>
                </a:lnTo>
                <a:lnTo>
                  <a:pt x="32381" y="21600"/>
                </a:lnTo>
                <a:lnTo>
                  <a:pt x="0" y="21600"/>
                </a:lnTo>
                <a:close/>
              </a:path>
              <a:path fill="lightenLess" w="32381" h="21600">
                <a:moveTo>
                  <a:pt x="0" y="0"/>
                </a:moveTo>
                <a:lnTo>
                  <a:pt x="32381" y="0"/>
                </a:lnTo>
                <a:lnTo>
                  <a:pt x="30981" y="1400"/>
                </a:lnTo>
                <a:lnTo>
                  <a:pt x="1400" y="1400"/>
                </a:lnTo>
                <a:close/>
              </a:path>
              <a:path fill="darken" w="32381" h="21600">
                <a:moveTo>
                  <a:pt x="32381" y="0"/>
                </a:moveTo>
                <a:lnTo>
                  <a:pt x="32381" y="21600"/>
                </a:lnTo>
                <a:lnTo>
                  <a:pt x="30981" y="20200"/>
                </a:lnTo>
                <a:lnTo>
                  <a:pt x="30981" y="1400"/>
                </a:lnTo>
                <a:close/>
              </a:path>
              <a:path fill="darkenLess" w="32381" h="21600">
                <a:moveTo>
                  <a:pt x="32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1" y="20200"/>
                </a:lnTo>
                <a:close/>
              </a:path>
              <a:path fill="lighten" w="32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1" h="21600">
                <a:moveTo>
                  <a:pt x="19689" y="10800"/>
                </a:moveTo>
                <a:lnTo>
                  <a:pt x="9184" y="17806"/>
                </a:lnTo>
                <a:lnTo>
                  <a:pt x="9184" y="3794"/>
                </a:lnTo>
                <a:close/>
              </a:path>
              <a:path fill="darken" w="32381" h="21600">
                <a:moveTo>
                  <a:pt x="21535" y="3794"/>
                </a:moveTo>
                <a:lnTo>
                  <a:pt x="21535" y="17806"/>
                </a:lnTo>
                <a:lnTo>
                  <a:pt x="23197" y="17806"/>
                </a:lnTo>
                <a:lnTo>
                  <a:pt x="23197" y="3794"/>
                </a:lnTo>
                <a:close/>
              </a:path>
            </a:pathLst>
          </a:custGeom>
          <a:solidFill>
            <a:srgbClr val="dca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陈力就列，不能者止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陈：施展。力：才能。就：居，充任。列：职位。止：不去。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翻译：能施展才能就充任职位，否则就不要去（当那个官）。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4" name="动作按钮: 开始 3"/>
          <p:cNvSpPr/>
          <p:nvPr/>
        </p:nvSpPr>
        <p:spPr>
          <a:xfrm>
            <a:off x="6934320" y="5638680"/>
            <a:ext cx="1218960" cy="609840"/>
          </a:xfrm>
          <a:custGeom>
            <a:avLst/>
            <a:gdLst>
              <a:gd name="textAreaLeft" fmla="*/ 39240 w 1218960"/>
              <a:gd name="textAreaRight" fmla="*/ 1179720 w 121896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3162" h="21600">
                <a:moveTo>
                  <a:pt x="0" y="0"/>
                </a:moveTo>
                <a:lnTo>
                  <a:pt x="43162" y="0"/>
                </a:lnTo>
                <a:lnTo>
                  <a:pt x="43162" y="21600"/>
                </a:lnTo>
                <a:lnTo>
                  <a:pt x="0" y="21600"/>
                </a:lnTo>
                <a:close/>
              </a:path>
              <a:path fill="lightenLess" w="43162" h="21600">
                <a:moveTo>
                  <a:pt x="0" y="0"/>
                </a:moveTo>
                <a:lnTo>
                  <a:pt x="43162" y="0"/>
                </a:lnTo>
                <a:lnTo>
                  <a:pt x="41762" y="1400"/>
                </a:lnTo>
                <a:lnTo>
                  <a:pt x="1400" y="1400"/>
                </a:lnTo>
                <a:close/>
              </a:path>
              <a:path fill="darken" w="43162" h="21600">
                <a:moveTo>
                  <a:pt x="43162" y="0"/>
                </a:moveTo>
                <a:lnTo>
                  <a:pt x="43162" y="21600"/>
                </a:lnTo>
                <a:lnTo>
                  <a:pt x="41762" y="20200"/>
                </a:lnTo>
                <a:lnTo>
                  <a:pt x="41762" y="1400"/>
                </a:lnTo>
                <a:close/>
              </a:path>
              <a:path fill="darkenLess" w="43162" h="21600">
                <a:moveTo>
                  <a:pt x="431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2" y="20200"/>
                </a:lnTo>
                <a:close/>
              </a:path>
              <a:path fill="lighten" w="431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2" h="21600">
                <a:moveTo>
                  <a:pt x="18082" y="10800"/>
                </a:moveTo>
                <a:lnTo>
                  <a:pt x="28587" y="3794"/>
                </a:lnTo>
                <a:lnTo>
                  <a:pt x="28587" y="17806"/>
                </a:lnTo>
                <a:close/>
              </a:path>
              <a:path fill="darken" w="43162" h="21600">
                <a:moveTo>
                  <a:pt x="14574" y="3794"/>
                </a:moveTo>
                <a:lnTo>
                  <a:pt x="16237" y="3794"/>
                </a:lnTo>
                <a:lnTo>
                  <a:pt x="16237" y="17806"/>
                </a:lnTo>
                <a:lnTo>
                  <a:pt x="14574" y="17806"/>
                </a:lnTo>
                <a:close/>
              </a:path>
            </a:pathLst>
          </a:custGeom>
          <a:solidFill>
            <a:srgbClr val="dca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f2f2f"/>
                </a:solidFill>
                <a:latin typeface="黑体"/>
                <a:ea typeface="黑体"/>
              </a:rPr>
              <a:t>虎兕出于柙，龟玉毁于椟中，是谁之过与？</a:t>
            </a:r>
            <a:br>
              <a:rPr sz="4000"/>
            </a:br>
            <a:endParaRPr b="0" lang="en-US" sz="40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457200" y="2209680"/>
            <a:ext cx="8229600" cy="33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状语后置：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虎兕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于柙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出，龟玉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于椟中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毁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7" name="动作按钮: 开始 3"/>
          <p:cNvSpPr/>
          <p:nvPr/>
        </p:nvSpPr>
        <p:spPr>
          <a:xfrm>
            <a:off x="6858000" y="502920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4053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  <a:path fill="darken" w="35103" h="21600">
                <a:moveTo>
                  <a:pt x="10545" y="3794"/>
                </a:moveTo>
                <a:lnTo>
                  <a:pt x="12208" y="3794"/>
                </a:lnTo>
                <a:lnTo>
                  <a:pt x="12208" y="17806"/>
                </a:lnTo>
                <a:lnTo>
                  <a:pt x="10545" y="17806"/>
                </a:lnTo>
                <a:close/>
              </a:path>
            </a:pathLst>
          </a:custGeom>
          <a:solidFill>
            <a:srgbClr val="dca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f2f2f"/>
                </a:solidFill>
                <a:latin typeface="黑体"/>
                <a:ea typeface="黑体"/>
              </a:rPr>
              <a:t>思考：对讨伐颛臾一事冉有、季路真的是“皆不欲”吗？</a:t>
            </a:r>
            <a:endParaRPr b="0" lang="en-US" sz="40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457200" y="19810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Franklin Gothic Book"/>
                <a:ea typeface="黑体"/>
              </a:rPr>
              <a:t>冉有曰：“今夫颛臾，固而近于费。今不取，后世必为子孙忧。”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0" name="矩形 3"/>
          <p:cNvSpPr/>
          <p:nvPr/>
        </p:nvSpPr>
        <p:spPr>
          <a:xfrm>
            <a:off x="838080" y="34290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翻译：颛臾城墙坚固，而且离费地很近，现在不把它占领，日后一定会给子孙留下祸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圆角矩形标注 4"/>
          <p:cNvSpPr/>
          <p:nvPr/>
        </p:nvSpPr>
        <p:spPr>
          <a:xfrm>
            <a:off x="5562720" y="1143000"/>
            <a:ext cx="1600200" cy="685800"/>
          </a:xfrm>
          <a:prstGeom prst="wedgeRoundRectCallout">
            <a:avLst>
              <a:gd name="adj1" fmla="val -46726"/>
              <a:gd name="adj2" fmla="val 90625"/>
              <a:gd name="adj3" fmla="val 16667"/>
            </a:avLst>
          </a:prstGeom>
          <a:solidFill>
            <a:srgbClr val="dca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62626"/>
                </a:solidFill>
                <a:latin typeface="Franklin Gothic Book"/>
                <a:ea typeface="黑体"/>
              </a:rPr>
              <a:t>并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f2f2f"/>
                </a:solidFill>
                <a:latin typeface="黑体"/>
                <a:ea typeface="黑体"/>
              </a:rPr>
              <a:t>思考：冉有前后矛盾的两句话表明了冉有口心不一，对此，孔子的态度如何？</a:t>
            </a:r>
            <a:br>
              <a:rPr sz="4000"/>
            </a:br>
            <a:endParaRPr b="0" lang="en-US" sz="36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304920" y="25146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Franklin Gothic Book"/>
                <a:ea typeface="黑体"/>
              </a:rPr>
              <a:t>“</a:t>
            </a:r>
            <a:r>
              <a:rPr b="0" lang="zh-CN" sz="3600" spc="-1" strike="noStrike">
                <a:solidFill>
                  <a:srgbClr val="ff0000"/>
                </a:solidFill>
                <a:latin typeface="Franklin Gothic Book"/>
                <a:ea typeface="黑体"/>
              </a:rPr>
              <a:t>君子疾夫舍曰欲之而必为之辞”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疾：憎恨，厌恶。舍曰：避而不谈。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f2f2f"/>
                </a:solidFill>
                <a:latin typeface="黑体"/>
                <a:ea typeface="黑体"/>
              </a:rPr>
              <a:t>思考：孔子在政治上主张什么，反对什么呢？</a:t>
            </a:r>
            <a:endParaRPr b="0" lang="en-US" sz="40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7200" y="2285640"/>
            <a:ext cx="822960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Franklin Gothic Book"/>
                <a:ea typeface="黑体"/>
              </a:rPr>
              <a:t>对内</a:t>
            </a:r>
            <a:r>
              <a:rPr b="0" lang="zh-CN" sz="32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：做到均安民和。（“均无贫，和无寡，安无倾”）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Franklin Gothic Book"/>
                <a:ea typeface="黑体"/>
              </a:rPr>
              <a:t>对外</a:t>
            </a:r>
            <a:r>
              <a:rPr b="0" lang="zh-CN" sz="32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：“修文德以来之”，“既</a:t>
            </a:r>
            <a:r>
              <a:rPr b="0" lang="zh-CN" sz="3200" spc="-1" strike="noStrike">
                <a:solidFill>
                  <a:srgbClr val="ff0000"/>
                </a:solidFill>
                <a:latin typeface="Franklin Gothic Book"/>
                <a:ea typeface="黑体"/>
              </a:rPr>
              <a:t>来</a:t>
            </a:r>
            <a:r>
              <a:rPr b="0" lang="zh-CN" sz="32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之，则</a:t>
            </a:r>
            <a:r>
              <a:rPr b="0" lang="zh-CN" sz="3200" spc="-1" strike="noStrike">
                <a:solidFill>
                  <a:srgbClr val="ff0000"/>
                </a:solidFill>
                <a:latin typeface="Franklin Gothic Book"/>
                <a:ea typeface="黑体"/>
              </a:rPr>
              <a:t>安</a:t>
            </a:r>
            <a:r>
              <a:rPr b="0" lang="zh-CN" sz="32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之”，反对战争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36" name="矩形 3" descr=""/>
          <p:cNvPicPr/>
          <p:nvPr/>
        </p:nvPicPr>
        <p:blipFill>
          <a:blip r:embed="rId2"/>
          <a:stretch/>
        </p:blipFill>
        <p:spPr>
          <a:xfrm>
            <a:off x="3505320" y="4492800"/>
            <a:ext cx="5095800" cy="1182600"/>
          </a:xfrm>
          <a:prstGeom prst="rect">
            <a:avLst/>
          </a:prstGeom>
          <a:ln w="0">
            <a:noFill/>
          </a:ln>
        </p:spPr>
      </p:pic>
      <p:sp>
        <p:nvSpPr>
          <p:cNvPr id="537" name="圆角矩形标注 4"/>
          <p:cNvSpPr/>
          <p:nvPr/>
        </p:nvSpPr>
        <p:spPr>
          <a:xfrm>
            <a:off x="1600200" y="4724280"/>
            <a:ext cx="1905120" cy="1143000"/>
          </a:xfrm>
          <a:prstGeom prst="wedgeRoundRectCallout">
            <a:avLst>
              <a:gd name="adj1" fmla="val -70370"/>
              <a:gd name="adj2" fmla="val -82291"/>
              <a:gd name="adj3" fmla="val 16667"/>
            </a:avLst>
          </a:prstGeom>
          <a:solidFill>
            <a:srgbClr val="dca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62626"/>
                </a:solidFill>
                <a:latin typeface="Franklin Gothic Book"/>
                <a:ea typeface="黑体"/>
              </a:rPr>
              <a:t>使动用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Franklin Gothic Medium"/>
                <a:ea typeface="微软雅黑"/>
              </a:rPr>
              <a:t>祸起萧墙：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指祸乱发生在家里；比喻内部发生祸乱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萧墙：指的是古代的一种摆在室内的家具——屏风（萧墙是古代国君宫殿大门内（或者大门外）面对大门起屏障作用的矮墙，又称“塞门”；萧墙的作用，在于遮挡视线，防止外人向大门内窥视）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13" descr="0000000"/>
          <p:cNvPicPr/>
          <p:nvPr/>
        </p:nvPicPr>
        <p:blipFill>
          <a:blip r:embed="rId2"/>
          <a:stretch/>
        </p:blipFill>
        <p:spPr>
          <a:xfrm>
            <a:off x="0" y="0"/>
            <a:ext cx="3657600" cy="6858000"/>
          </a:xfrm>
          <a:prstGeom prst="rect">
            <a:avLst/>
          </a:prstGeom>
          <a:ln w="0">
            <a:noFill/>
          </a:ln>
        </p:spPr>
      </p:pic>
      <p:sp>
        <p:nvSpPr>
          <p:cNvPr id="484" name="矩形 4"/>
          <p:cNvSpPr/>
          <p:nvPr/>
        </p:nvSpPr>
        <p:spPr>
          <a:xfrm>
            <a:off x="3962520" y="53352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春秋末期思想家、政治家、教育家，儒家的创始者。名丘，字仲尼。鲁国人。教育上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开创私学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做到有教无类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因材施教。相传有弟子三千，贤者七十二。晚年致力于整理“六经”等古代文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ynng"/>
          <p:cNvPicPr/>
          <p:nvPr/>
        </p:nvPicPr>
        <p:blipFill>
          <a:blip r:embed="rId2"/>
          <a:stretch/>
        </p:blipFill>
        <p:spPr>
          <a:xfrm>
            <a:off x="1371600" y="695160"/>
            <a:ext cx="7924680" cy="6543720"/>
          </a:xfrm>
          <a:prstGeom prst="rect">
            <a:avLst/>
          </a:prstGeom>
          <a:ln w="0">
            <a:noFill/>
          </a:ln>
        </p:spPr>
      </p:pic>
      <p:sp>
        <p:nvSpPr>
          <p:cNvPr id="541" name="Text Box 5"/>
          <p:cNvSpPr/>
          <p:nvPr/>
        </p:nvSpPr>
        <p:spPr>
          <a:xfrm>
            <a:off x="613440" y="3205080"/>
            <a:ext cx="789840" cy="6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古人一般房屋建筑结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Franklin Gothic Medium"/>
                <a:ea typeface="微软雅黑"/>
              </a:rPr>
              <a:t>主题：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45720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本文通过孔子与弟子的对话，表明孔子反对战争，坚持礼治，均安民和，施行文德的“仁政”思想和主张，体现了孔子丰富的政治经验和深刻的政治眼光。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矩形 3"/>
          <p:cNvSpPr/>
          <p:nvPr/>
        </p:nvSpPr>
        <p:spPr>
          <a:xfrm>
            <a:off x="1405800" y="1600200"/>
            <a:ext cx="6440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《诗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《书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《礼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《易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《乐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《春秋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矩形 4" descr=""/>
          <p:cNvPicPr/>
          <p:nvPr/>
        </p:nvPicPr>
        <p:blipFill>
          <a:blip r:embed="rId2"/>
          <a:stretch/>
        </p:blipFill>
        <p:spPr>
          <a:xfrm>
            <a:off x="457200" y="73080"/>
            <a:ext cx="37180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论语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是孔子写的？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88" name="矩形 5" descr=""/>
          <p:cNvPicPr/>
          <p:nvPr/>
        </p:nvPicPr>
        <p:blipFill>
          <a:blip r:embed="rId2"/>
          <a:stretch/>
        </p:blipFill>
        <p:spPr>
          <a:xfrm>
            <a:off x="79200" y="225360"/>
            <a:ext cx="3718080" cy="1182600"/>
          </a:xfrm>
          <a:prstGeom prst="rect">
            <a:avLst/>
          </a:prstGeom>
          <a:ln w="0">
            <a:noFill/>
          </a:ln>
        </p:spPr>
      </p:pic>
      <p:sp>
        <p:nvSpPr>
          <p:cNvPr id="489" name="Rectangle 1"/>
          <p:cNvSpPr/>
          <p:nvPr/>
        </p:nvSpPr>
        <p:spPr>
          <a:xfrm>
            <a:off x="2192400" y="2446200"/>
            <a:ext cx="4743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记录孔子及其弟子言行的语录体散文集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儒家思想的经典著作。北宋时，朱熹将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《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大学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》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《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中庸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》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《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论语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》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《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孟子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》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编在一起，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为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“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四书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f2f2f"/>
                </a:solidFill>
                <a:latin typeface="黑体"/>
                <a:ea typeface="黑体"/>
              </a:rPr>
              <a:t>季氏将伐颛臾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pic>
        <p:nvPicPr>
          <p:cNvPr id="491" name="Picture 6" descr="huangshan"/>
          <p:cNvPicPr/>
          <p:nvPr/>
        </p:nvPicPr>
        <p:blipFill>
          <a:blip r:embed="rId2"/>
          <a:stretch/>
        </p:blipFill>
        <p:spPr>
          <a:xfrm>
            <a:off x="609480" y="1371600"/>
            <a:ext cx="73152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2f2f2f"/>
              </a:solidFill>
              <a:latin typeface="Franklin Gothic Medium"/>
              <a:ea typeface="微软雅黑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A </a:t>
            </a:r>
            <a:r>
              <a:rPr b="0" lang="zh-CN" sz="30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颛臾</a:t>
            </a:r>
            <a:r>
              <a:rPr b="0" lang="en-US" sz="30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(zhu</a:t>
            </a:r>
            <a:r>
              <a:rPr b="0" lang="zh-CN" sz="30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ā</a:t>
            </a:r>
            <a:r>
              <a:rPr b="0" lang="en-US" sz="30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n  x</a:t>
            </a:r>
            <a:r>
              <a:rPr b="0" lang="zh-CN" sz="30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ū</a:t>
            </a:r>
            <a:r>
              <a:rPr b="0" lang="zh-CN" sz="30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）</a:t>
            </a:r>
            <a:r>
              <a:rPr b="0" lang="en-US" sz="30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   </a:t>
            </a:r>
            <a:r>
              <a:rPr b="0" lang="zh-CN" sz="30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虎兕</a:t>
            </a:r>
            <a:r>
              <a:rPr b="0" lang="en-US" sz="30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(s</a:t>
            </a:r>
            <a:r>
              <a:rPr b="0" lang="zh-CN" sz="30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ì</a:t>
            </a:r>
            <a:r>
              <a:rPr b="0" lang="en-US" sz="30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)</a:t>
            </a:r>
            <a:r>
              <a:rPr b="0" lang="zh-CN" sz="30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出于柙</a:t>
            </a:r>
            <a:r>
              <a:rPr b="0" lang="en-US" sz="30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(xi)   </a:t>
            </a:r>
            <a:r>
              <a:rPr b="0" lang="zh-CN" sz="30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社稷</a:t>
            </a:r>
            <a:r>
              <a:rPr b="0" lang="en-US" sz="30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(j</a:t>
            </a:r>
            <a:r>
              <a:rPr b="0" lang="zh-CN" sz="30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ì</a:t>
            </a:r>
            <a:r>
              <a:rPr b="0" lang="en-US" sz="30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)</a:t>
            </a:r>
            <a:r>
              <a:rPr b="0" lang="zh-CN" sz="30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之臣</a:t>
            </a:r>
            <a:r>
              <a:rPr b="0" lang="en-US" sz="30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    </a:t>
            </a:r>
            <a:r>
              <a:rPr b="0" lang="zh-CN" sz="30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则将焉用彼相</a:t>
            </a:r>
            <a:r>
              <a:rPr b="0" lang="en-US" sz="30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(xi</a:t>
            </a:r>
            <a:r>
              <a:rPr b="0" lang="zh-CN" sz="30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ā</a:t>
            </a:r>
            <a:r>
              <a:rPr b="0" lang="en-US" sz="30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ng)</a:t>
            </a:r>
            <a:r>
              <a:rPr b="0" lang="zh-CN" sz="30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矣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B </a:t>
            </a:r>
            <a:r>
              <a:rPr b="0" lang="zh-CN" sz="30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颛臾</a:t>
            </a:r>
            <a:r>
              <a:rPr b="0" lang="en-US" sz="30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(chu</a:t>
            </a:r>
            <a:r>
              <a:rPr b="0" lang="zh-CN" sz="30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ǎ</a:t>
            </a:r>
            <a:r>
              <a:rPr b="0" lang="en-US" sz="30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n  y</a:t>
            </a:r>
            <a:r>
              <a:rPr b="0" lang="zh-CN" sz="30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ū</a:t>
            </a:r>
            <a:r>
              <a:rPr b="0" lang="en-US" sz="30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)    </a:t>
            </a:r>
            <a:r>
              <a:rPr b="0" lang="zh-CN" sz="30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虎兕</a:t>
            </a:r>
            <a:r>
              <a:rPr b="0" lang="en-US" sz="30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(sh</a:t>
            </a:r>
            <a:r>
              <a:rPr b="0" lang="zh-CN" sz="30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ì</a:t>
            </a:r>
            <a:r>
              <a:rPr b="0" lang="en-US" sz="30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)</a:t>
            </a:r>
            <a:r>
              <a:rPr b="0" lang="zh-CN" sz="30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出于柙</a:t>
            </a:r>
            <a:r>
              <a:rPr b="0" lang="en-US" sz="30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(xi</a:t>
            </a:r>
            <a:r>
              <a:rPr b="0" lang="zh-CN" sz="30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á</a:t>
            </a:r>
            <a:r>
              <a:rPr b="0" lang="en-US" sz="30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)  </a:t>
            </a:r>
            <a:r>
              <a:rPr b="0" lang="zh-CN" sz="30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社稷</a:t>
            </a:r>
            <a:r>
              <a:rPr b="0" lang="en-US" sz="30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(s</a:t>
            </a:r>
            <a:r>
              <a:rPr b="0" lang="zh-CN" sz="30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ù</a:t>
            </a:r>
            <a:r>
              <a:rPr b="0" lang="en-US" sz="30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)</a:t>
            </a:r>
            <a:r>
              <a:rPr b="0" lang="zh-CN" sz="30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之臣</a:t>
            </a:r>
            <a:r>
              <a:rPr b="0" lang="en-US" sz="30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   </a:t>
            </a:r>
            <a:r>
              <a:rPr b="0" lang="zh-CN" sz="30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则将焉用彼相</a:t>
            </a:r>
            <a:r>
              <a:rPr b="0" lang="en-US" sz="30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(xi</a:t>
            </a:r>
            <a:r>
              <a:rPr b="0" lang="zh-CN" sz="30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ā</a:t>
            </a:r>
            <a:r>
              <a:rPr b="0" lang="en-US" sz="30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ng)</a:t>
            </a:r>
            <a:r>
              <a:rPr b="0" lang="zh-CN" sz="30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矣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C</a:t>
            </a:r>
            <a:r>
              <a:rPr b="0" lang="zh-CN" sz="30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颛臾</a:t>
            </a:r>
            <a:r>
              <a:rPr b="0" lang="en-US" sz="30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(zhu</a:t>
            </a:r>
            <a:r>
              <a:rPr b="0" lang="zh-CN" sz="30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ā</a:t>
            </a:r>
            <a:r>
              <a:rPr b="0" lang="en-US" sz="30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n  y</a:t>
            </a:r>
            <a:r>
              <a:rPr b="0" lang="zh-CN" sz="30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ú</a:t>
            </a:r>
            <a:r>
              <a:rPr b="0" lang="en-US" sz="30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)    </a:t>
            </a:r>
            <a:r>
              <a:rPr b="0" lang="zh-CN" sz="30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虎兕</a:t>
            </a:r>
            <a:r>
              <a:rPr b="0" lang="en-US" sz="30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(s</a:t>
            </a:r>
            <a:r>
              <a:rPr b="0" lang="zh-CN" sz="30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ì</a:t>
            </a:r>
            <a:r>
              <a:rPr b="0" lang="en-US" sz="30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)</a:t>
            </a:r>
            <a:r>
              <a:rPr b="0" lang="zh-CN" sz="30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出于柙</a:t>
            </a:r>
            <a:r>
              <a:rPr b="0" lang="en-US" sz="30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(xi</a:t>
            </a:r>
            <a:r>
              <a:rPr b="0" lang="zh-CN" sz="30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á</a:t>
            </a:r>
            <a:r>
              <a:rPr b="0" lang="en-US" sz="30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)   </a:t>
            </a:r>
            <a:r>
              <a:rPr b="0" lang="zh-CN" sz="30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社稷</a:t>
            </a:r>
            <a:r>
              <a:rPr b="0" lang="en-US" sz="30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(j</a:t>
            </a:r>
            <a:r>
              <a:rPr b="0" lang="zh-CN" sz="30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ì</a:t>
            </a:r>
            <a:r>
              <a:rPr b="0" lang="en-US" sz="30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)</a:t>
            </a:r>
            <a:r>
              <a:rPr b="0" lang="zh-CN" sz="30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之臣</a:t>
            </a:r>
            <a:r>
              <a:rPr b="0" lang="en-US" sz="30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   </a:t>
            </a:r>
            <a:r>
              <a:rPr b="0" lang="zh-CN" sz="30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则将焉用彼相</a:t>
            </a:r>
            <a:r>
              <a:rPr b="0" lang="en-US" sz="30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(xi</a:t>
            </a:r>
            <a:r>
              <a:rPr b="0" lang="zh-CN" sz="30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à</a:t>
            </a:r>
            <a:r>
              <a:rPr b="0" lang="en-US" sz="30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ng)</a:t>
            </a:r>
            <a:r>
              <a:rPr b="0" lang="zh-CN" sz="30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矣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D</a:t>
            </a:r>
            <a:r>
              <a:rPr b="0" lang="zh-CN" sz="30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颛臾</a:t>
            </a:r>
            <a:r>
              <a:rPr b="0" lang="en-US" sz="30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(zhu</a:t>
            </a:r>
            <a:r>
              <a:rPr b="0" lang="zh-CN" sz="30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ā</a:t>
            </a:r>
            <a:r>
              <a:rPr b="0" lang="en-US" sz="30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n  y</a:t>
            </a:r>
            <a:r>
              <a:rPr b="0" lang="zh-CN" sz="30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ú</a:t>
            </a:r>
            <a:r>
              <a:rPr b="0" lang="en-US" sz="30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)   </a:t>
            </a:r>
            <a:r>
              <a:rPr b="0" lang="zh-CN" sz="30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虎兕</a:t>
            </a:r>
            <a:r>
              <a:rPr b="0" lang="en-US" sz="30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(sh</a:t>
            </a:r>
            <a:r>
              <a:rPr b="0" lang="zh-CN" sz="30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ì</a:t>
            </a:r>
            <a:r>
              <a:rPr b="0" lang="en-US" sz="30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)</a:t>
            </a:r>
            <a:r>
              <a:rPr b="0" lang="zh-CN" sz="30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出于柙</a:t>
            </a:r>
            <a:r>
              <a:rPr b="0" lang="en-US" sz="30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(ji</a:t>
            </a:r>
            <a:r>
              <a:rPr b="0" lang="zh-CN" sz="30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á</a:t>
            </a:r>
            <a:r>
              <a:rPr b="0" lang="en-US" sz="30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)   </a:t>
            </a:r>
            <a:r>
              <a:rPr b="0" lang="zh-CN" sz="30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社稷</a:t>
            </a:r>
            <a:r>
              <a:rPr b="0" lang="en-US" sz="30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(s</a:t>
            </a:r>
            <a:r>
              <a:rPr b="0" lang="zh-CN" sz="30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ù</a:t>
            </a:r>
            <a:r>
              <a:rPr b="0" lang="en-US" sz="30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)</a:t>
            </a:r>
            <a:r>
              <a:rPr b="0" lang="zh-CN" sz="30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之臣</a:t>
            </a:r>
            <a:r>
              <a:rPr b="0" lang="en-US" sz="30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   </a:t>
            </a:r>
            <a:r>
              <a:rPr b="0" lang="zh-CN" sz="30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则将焉用彼相</a:t>
            </a:r>
            <a:r>
              <a:rPr b="0" lang="en-US" sz="30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(xi</a:t>
            </a:r>
            <a:r>
              <a:rPr b="0" lang="zh-CN" sz="30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ā</a:t>
            </a:r>
            <a:r>
              <a:rPr b="0" lang="en-US" sz="30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ng)</a:t>
            </a:r>
            <a:r>
              <a:rPr b="0" lang="zh-CN" sz="30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矣</a:t>
            </a:r>
            <a:r>
              <a:rPr b="0" lang="en-US" sz="30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51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4" name="矩形 3"/>
          <p:cNvSpPr/>
          <p:nvPr/>
        </p:nvSpPr>
        <p:spPr>
          <a:xfrm>
            <a:off x="228600" y="3429000"/>
            <a:ext cx="870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Franklin Gothic Medium"/>
                <a:ea typeface="微软雅黑"/>
              </a:rPr>
              <a:t>√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f2f2f"/>
                </a:solidFill>
                <a:latin typeface="黑体"/>
                <a:ea typeface="黑体"/>
              </a:rPr>
              <a:t>思考：本文的对话是在什么情况或者背景下发生的？</a:t>
            </a:r>
            <a:br>
              <a:rPr sz="3600"/>
            </a:br>
            <a:endParaRPr b="0" lang="en-US" sz="36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80880" y="2209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Franklin Gothic Book"/>
                <a:ea typeface="黑体"/>
              </a:rPr>
              <a:t>季氏将伐颛臾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7" name="圆角矩形标注 3"/>
          <p:cNvSpPr/>
          <p:nvPr/>
        </p:nvSpPr>
        <p:spPr>
          <a:xfrm>
            <a:off x="3124080" y="3124080"/>
            <a:ext cx="3200400" cy="1524240"/>
          </a:xfrm>
          <a:prstGeom prst="wedgeRoundRectCallout">
            <a:avLst>
              <a:gd name="adj1" fmla="val -78870"/>
              <a:gd name="adj2" fmla="val -72500"/>
              <a:gd name="adj3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Box 4"/>
          <p:cNvSpPr/>
          <p:nvPr/>
        </p:nvSpPr>
        <p:spPr>
          <a:xfrm>
            <a:off x="3505320" y="342900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时代背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2286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    </a:t>
            </a:r>
            <a:r>
              <a:rPr b="0" lang="zh-CN" sz="30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当时的鲁国，政治上处于动荡变革之中鲁桓公的后代季孙、孟孙、叔孙三大家族把持鲁国朝政，而王室日趋衰败，这种情况到孔子生活的时期一直持续了一百六七十年之久，历史上被称为“三桓犯上”这其中，季氏的势力最大他之所以要讨伐颛臾一是贪其土地，二是担心颛臾对自己的势力构成威胁当时孔子的徒弟冉有、季路都在季氏门下，而且都参与了出征前的筹划也就是在这个时候，两人把这个消息告诉了孔子，由此引出了孔子和两位弟子的对话。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00" name="矩形 3" descr=""/>
          <p:cNvPicPr/>
          <p:nvPr/>
        </p:nvPicPr>
        <p:blipFill>
          <a:blip r:embed="rId2"/>
          <a:stretch/>
        </p:blipFill>
        <p:spPr>
          <a:xfrm>
            <a:off x="304920" y="225360"/>
            <a:ext cx="44067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f2f2f"/>
                </a:solidFill>
                <a:latin typeface="黑体"/>
                <a:ea typeface="黑体"/>
              </a:rPr>
              <a:t>思考：孔子与冉有、季路的对话从那句开始？</a:t>
            </a:r>
            <a:endParaRPr b="0" lang="en-US" sz="40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80880" y="20574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季氏将</a:t>
            </a:r>
            <a:r>
              <a:rPr b="1" lang="zh-CN" sz="4000" spc="-1" strike="noStrike">
                <a:solidFill>
                  <a:srgbClr val="ff0000"/>
                </a:solidFill>
                <a:latin typeface="Franklin Gothic Book"/>
                <a:ea typeface="黑体"/>
              </a:rPr>
              <a:t>有事</a:t>
            </a:r>
            <a:r>
              <a:rPr b="1" lang="zh-CN" sz="40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于颛臾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1001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3" name="折角形 3"/>
          <p:cNvSpPr/>
          <p:nvPr/>
        </p:nvSpPr>
        <p:spPr>
          <a:xfrm>
            <a:off x="609480" y="3048120"/>
            <a:ext cx="4724640" cy="1447560"/>
          </a:xfrm>
          <a:prstGeom prst="foldedCorner">
            <a:avLst>
              <a:gd name="adj" fmla="val 50000"/>
            </a:avLst>
          </a:prstGeom>
          <a:solidFill>
            <a:srgbClr val="faf0d9"/>
          </a:solidFill>
          <a:ln w="25560">
            <a:solidFill>
              <a:srgbClr val="695f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1"/>
          <p:cNvSpPr/>
          <p:nvPr/>
        </p:nvSpPr>
        <p:spPr>
          <a:xfrm>
            <a:off x="838080" y="3052440"/>
            <a:ext cx="41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古义：有军事行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今义：有事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折角形 5"/>
          <p:cNvSpPr/>
          <p:nvPr/>
        </p:nvSpPr>
        <p:spPr>
          <a:xfrm>
            <a:off x="609480" y="4724280"/>
            <a:ext cx="4724640" cy="1524240"/>
          </a:xfrm>
          <a:prstGeom prst="foldedCorner">
            <a:avLst>
              <a:gd name="adj" fmla="val 50000"/>
            </a:avLst>
          </a:prstGeom>
          <a:solidFill>
            <a:srgbClr val="faf0d9"/>
          </a:solidFill>
          <a:ln w="25560">
            <a:solidFill>
              <a:srgbClr val="695f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句式：状语后置倒装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于颛臾有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mj</cp:lastModifiedBy>
  <dcterms:modified xsi:type="dcterms:W3CDTF">2011-07-21T06:39:16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