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chimes.wav" ContentType="audio/x-wav"/>
  <Override PartName="/ppt/media/wind.wav" ContentType="audio/x-wav"/>
  <Override PartName="/ppt/media/camera.wav" ContentType="audio/x-wav"/>
  <Override PartName="/ppt/media/image7.png" ContentType="image/png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959-7F1C-4D7F-B72D-ED6FAEA3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C82-FF2D-4F03-8002-6C0DAC6A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D70-6E09-4215-A760-60C207A0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7B7-2611-4950-9FA5-B18EDEBF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70CC-FEC6-4616-8AC2-49DDDEDB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25EC-5A13-4933-9A2D-B6E66DB9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E3DA-E037-4404-BD8B-199E5F47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3774-4A30-45FC-8DCB-6F9B999F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64A4-606D-47E1-A2C8-A39B8305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58F4-F0D3-4022-9DAA-21423B0A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3BF7-82E7-408D-84C0-6C9956DD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BF7-B065-44A0-AF19-5D79EEF2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EBBF-6CB2-4894-92AC-42BD951E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76A4-27D2-47E2-978C-82886CD0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4D88-4E77-4862-974D-83ADA5CE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3725-D2FC-441B-93CE-915C4488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DD11-ED72-42ED-B363-CF5205A6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934-F101-4239-B08B-C1E161B4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CB3-3212-4FCE-951C-FDC031DD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D57-268B-4544-9C0E-C464FA7F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412-9DED-4216-8278-BF46FF40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71F-9D2B-4720-81FE-E1841E3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9D8-AA4C-49BC-9481-A2B354BC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929-6705-4406-ACDE-B40CA17F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FC7A-95B6-4A5F-BC90-4120DE51806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40E1-5D63-442E-9983-233EB8DA71E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200" y="3063960"/>
            <a:ext cx="8823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68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王国维在《宋元戏曲考序》中所说的一段话：</a:t>
            </a: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"</a:t>
            </a: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凡一代有一代之文学，楚之骚，汉之赋，六代之骈语，唐之诗，宋之词，元之曲，皆所谓一代之文学，而后世莫能继焉者。</a:t>
            </a: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200" y="3063960"/>
            <a:ext cx="8823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68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王国维在《宋元戏曲考序》中所说的一段话：</a:t>
            </a: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"</a:t>
            </a: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凡一代有一代之文学，楚之骚，汉之赋，六代之骈语，唐之诗，宋之词，元之曲，皆所谓一代之文学，而后世莫能继焉者。</a:t>
            </a: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86200"/>
            <a:ext cx="88232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68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王国维在《宋元戏曲考序》中所说的一段话：</a:t>
            </a: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"</a:t>
            </a: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凡一代有一代之文学，楚之骚，汉之赋，六代之骈语，唐之诗，宋之词，元之曲，皆所谓一代之文学，而后世莫能继焉者。</a:t>
            </a:r>
            <a:r>
              <a:rPr b="0" lang="zh-CN" sz="9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632720" cy="38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_x000b__x000c_"/>
              </a:rPr>
              <a:t>王国维在《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间词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写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_x000b__x000c_"/>
              </a:rPr>
              <a:t>：   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_x000b__x000c_"/>
              </a:rPr>
              <a:t>        “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  <a:ea typeface="_x000b__x000c_"/>
              </a:rPr>
              <a:t>凡一代有一代之文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_x000b__x000c_"/>
              </a:rPr>
              <a:t>，楚之骚，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_x000b__x000c_"/>
              </a:rPr>
              <a:t>之赋，六代之骈语，唐之诗，宋之词，元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_x000b__x000c_"/>
              </a:rPr>
              <a:t>之曲，皆所谓一代之文学，而后世莫能继焉者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_x000b__x000c_"/>
              </a:rPr>
              <a:t>"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391520" y="685800"/>
            <a:ext cx="83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孔子格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33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君子之接如水，小人之接如醴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133720"/>
            <a:ext cx="838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421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玉不琢不成器，人不学不知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31417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无远虑，必有近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8606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工欲善其事，必先利其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8770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非礼勿视，非礼勿听，非礼勿言，非礼勿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437000"/>
            <a:ext cx="73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己所不欲，勿施于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5084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鸟之将死，其鸣也哀；人之将死，其言也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4221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欲速则不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名不正则言不顺，言不顺则事不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052640"/>
            <a:ext cx="66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君子成人之美，不成人之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589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四海之内皆兄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645000"/>
            <a:ext cx="66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岁寒，然后知松柏之后凋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士不可以不弘毅，任重而道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2997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君子坦荡荡，小人长戚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朽木不可雕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1" name="wind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76520" y="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背景简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273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黑体"/>
              </a:rPr>
              <a:t>孔子时代的鲁国，政治上处于动荡变革之中。当时，鲁桓公的后代季孙、孟孙、叔孙三大家族逐渐强大，鲁国王室日趋衰败。三大家族把持鲁国朝政，其中，季孙氏势力最大。他要讨伐颛臾的原因有二：其一贪其土地，其二是担心颛臾对自己不利。当时冉有、季路都在季氏门下，且都参与了出征前的筹划。也就是在这时候，二人把这个消息告诉了孔子，由此引出了孔子和两位弟子的对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解题：</a:t>
            </a:r>
            <a:r>
              <a:rPr b="1" lang="zh-CN" sz="6600" spc="-1" strike="noStrike" u="sng">
                <a:solidFill>
                  <a:srgbClr val="333399"/>
                </a:solidFill>
                <a:uFillTx/>
                <a:latin typeface="Tahoma"/>
              </a:rPr>
              <a:t>季氏</a:t>
            </a:r>
            <a:r>
              <a:rPr b="1" lang="zh-CN" sz="6600" spc="-1" strike="noStrike" baseline="30000">
                <a:solidFill>
                  <a:srgbClr val="0000ff"/>
                </a:solidFill>
                <a:latin typeface="Tahoma"/>
              </a:rPr>
              <a:t>？</a:t>
            </a: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将伐</a:t>
            </a:r>
            <a:r>
              <a:rPr b="1" lang="zh-CN" sz="6600" spc="-1" strike="noStrike" u="sng">
                <a:solidFill>
                  <a:srgbClr val="333399"/>
                </a:solidFill>
                <a:uFillTx/>
                <a:latin typeface="Tahoma"/>
              </a:rPr>
              <a:t>颛臾</a:t>
            </a:r>
            <a:r>
              <a:rPr b="1" lang="zh-CN" sz="6600" spc="-1" strike="noStrike" baseline="30000">
                <a:solidFill>
                  <a:srgbClr val="0000ff"/>
                </a:solidFill>
                <a:latin typeface="Tahoma"/>
              </a:rPr>
              <a:t>？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510552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关键词语是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914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914400"/>
            <a:ext cx="77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914400"/>
            <a:ext cx="77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838080"/>
            <a:ext cx="77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914400"/>
            <a:ext cx="60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08640" y="990720"/>
            <a:ext cx="777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1700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ahoma"/>
                <a:ea typeface="华文新魏"/>
              </a:rPr>
              <a:t>将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32480" y="1544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997360"/>
            <a:ext cx="83534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c12a4"/>
                </a:solidFill>
                <a:latin typeface="Tahoma"/>
              </a:rPr>
              <a:t>将：说明尚未实现，可以劝阻；如果可以劝阻而不</a:t>
            </a:r>
            <a:br>
              <a:rPr sz="2800"/>
            </a:br>
            <a:r>
              <a:rPr b="1" lang="zh-CN" sz="2800" spc="-1" strike="noStrike">
                <a:solidFill>
                  <a:srgbClr val="3c12a4"/>
                </a:solidFill>
                <a:latin typeface="Tahoma"/>
              </a:rPr>
              <a:t>加努力，于理不通，于情不合。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653000"/>
            <a:ext cx="85345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伐：攻打，明目张胆，在本文中有以大欺小、以强凌弱的意思，所以“季氏伐颛臾”是非正义的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1339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孔子反对讨伐颛臾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7621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577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不可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13413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不必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2178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不当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609480" y="27874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孔子驳斥冉有的观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895480"/>
            <a:ext cx="304560" cy="457200"/>
          </a:xfrm>
          <a:custGeom>
            <a:avLst/>
            <a:gdLst>
              <a:gd name="textAreaLeft" fmla="*/ 106560 w 304560"/>
              <a:gd name="textAreaRight" fmla="*/ 198000 w 304560"/>
              <a:gd name="textAreaTop" fmla="*/ 159840 h 457200"/>
              <a:gd name="textAreaBottom" fmla="*/ 2973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572000"/>
            <a:ext cx="304920" cy="457200"/>
          </a:xfrm>
          <a:custGeom>
            <a:avLst/>
            <a:gdLst>
              <a:gd name="textAreaLeft" fmla="*/ 106560 w 304920"/>
              <a:gd name="textAreaRight" fmla="*/ 198360 w 304920"/>
              <a:gd name="textAreaTop" fmla="*/ 159840 h 457200"/>
              <a:gd name="textAreaBottom" fmla="*/ 2973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447920"/>
            <a:ext cx="304920" cy="457200"/>
          </a:xfrm>
          <a:custGeom>
            <a:avLst/>
            <a:gdLst>
              <a:gd name="textAreaLeft" fmla="*/ 106560 w 304920"/>
              <a:gd name="textAreaRight" fmla="*/ 198360 w 304920"/>
              <a:gd name="textAreaTop" fmla="*/ 159840 h 457200"/>
              <a:gd name="textAreaBottom" fmla="*/ 2973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5" y="7555"/>
                </a:lnTo>
                <a:lnTo>
                  <a:pt x="10800" y="0"/>
                </a:lnTo>
                <a:lnTo>
                  <a:pt x="14045" y="7555"/>
                </a:lnTo>
                <a:lnTo>
                  <a:pt x="21600" y="10800"/>
                </a:lnTo>
                <a:lnTo>
                  <a:pt x="14045" y="14045"/>
                </a:lnTo>
                <a:lnTo>
                  <a:pt x="10800" y="21600"/>
                </a:lnTo>
                <a:lnTo>
                  <a:pt x="7555" y="14045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4495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孔子提出自己的观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52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文章结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352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03920" y="5410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修文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43440" y="4038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59280" y="4724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65760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10"/>
                </a:lnTo>
                <a:cubicBezTo>
                  <a:pt x="10800" y="10710"/>
                  <a:pt x="5400" y="11610"/>
                  <a:pt x="0" y="11610"/>
                </a:cubicBezTo>
                <a:cubicBezTo>
                  <a:pt x="5400" y="11610"/>
                  <a:pt x="10800" y="12510"/>
                  <a:pt x="10800" y="134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77724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6" h="21600">
                <a:moveTo>
                  <a:pt x="14606" y="3794"/>
                </a:moveTo>
                <a:lnTo>
                  <a:pt x="28619" y="10800"/>
                </a:lnTo>
                <a:lnTo>
                  <a:pt x="146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419720" y="34920"/>
            <a:ext cx="4568760" cy="6781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280" y="3808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求！无乃尔是过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447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陈力就列，不能者止。危而不持，颠而不扶，则将焉用彼相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4038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隶书"/>
              </a:rPr>
              <a:t>盖均无贫，和无寡，安无倾。夫如是，故远人不服，则修文德以来之；即来之，则安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77724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6" h="21600">
                <a:moveTo>
                  <a:pt x="14606" y="3794"/>
                </a:moveTo>
                <a:lnTo>
                  <a:pt x="28619" y="10800"/>
                </a:lnTo>
                <a:lnTo>
                  <a:pt x="146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1143000"/>
            <a:ext cx="8458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隶书"/>
              </a:rPr>
              <a:t>一、用原文回答下列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、孔子为什么认为季氏不应该伐颛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、孔子提出了治理国家的什么主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352680"/>
            <a:ext cx="65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隶书"/>
              </a:rPr>
              <a:t>二、翻译下列句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ahoma"/>
                <a:ea typeface="隶书"/>
              </a:rPr>
              <a:t>1</a:t>
            </a:r>
            <a:r>
              <a:rPr b="1" lang="zh-CN" sz="3200" spc="-1" strike="noStrike">
                <a:solidFill>
                  <a:srgbClr val="1c1c1c"/>
                </a:solidFill>
                <a:latin typeface="Tahoma"/>
                <a:ea typeface="隶书"/>
              </a:rPr>
              <a:t>、陈力就列，不能者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ahoma"/>
                <a:ea typeface="隶书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Tahoma"/>
                <a:ea typeface="隶书"/>
              </a:rPr>
              <a:t>、危而不持，颠而不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ahoma"/>
                <a:ea typeface="隶书"/>
              </a:rPr>
              <a:t>3</a:t>
            </a:r>
            <a:r>
              <a:rPr b="1" lang="zh-CN" sz="3200" spc="-1" strike="noStrike">
                <a:solidFill>
                  <a:srgbClr val="1c1c1c"/>
                </a:solidFill>
                <a:latin typeface="Tahoma"/>
                <a:ea typeface="隶书"/>
              </a:rPr>
              <a:t>、均无贫，和无寡，安无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04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隶书"/>
              </a:rPr>
              <a:t>知识点检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3200400" cy="2490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696080" y="63244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19320" y="990720"/>
            <a:ext cx="6019560" cy="1600200"/>
            <a:chOff x="1219320" y="990720"/>
            <a:chExt cx="6019560" cy="1600200"/>
          </a:xfrm>
        </p:grpSpPr>
        <p:sp>
          <p:nvSpPr>
            <p:cNvPr id="210" name=""/>
            <p:cNvSpPr/>
            <p:nvPr/>
          </p:nvSpPr>
          <p:spPr>
            <a:xfrm>
              <a:off x="1219320" y="990720"/>
              <a:ext cx="6019560" cy="1600200"/>
            </a:xfrm>
            <a:prstGeom prst="horizontalScroll">
              <a:avLst>
                <a:gd name="adj" fmla="val 12500"/>
              </a:avLst>
            </a:prstGeom>
            <a:solidFill>
              <a:srgbClr val="c2de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7920" y="1143000"/>
              <a:ext cx="579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昔先王以为东蒙主，且在邦域之中矣。是社稷之臣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295280" y="2133720"/>
            <a:ext cx="6934320" cy="2971800"/>
            <a:chOff x="1295280" y="2133720"/>
            <a:chExt cx="6934320" cy="2971800"/>
          </a:xfrm>
        </p:grpSpPr>
        <p:sp>
          <p:nvSpPr>
            <p:cNvPr id="213" name=""/>
            <p:cNvSpPr/>
            <p:nvPr/>
          </p:nvSpPr>
          <p:spPr>
            <a:xfrm>
              <a:off x="1295280" y="2133720"/>
              <a:ext cx="6858000" cy="2971800"/>
            </a:xfrm>
            <a:prstGeom prst="horizontalScroll">
              <a:avLst>
                <a:gd name="adj" fmla="val 12500"/>
              </a:avLst>
            </a:prstGeom>
            <a:solidFill>
              <a:srgbClr val="cce3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00200" y="2590920"/>
              <a:ext cx="662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Tahoma"/>
                  <a:ea typeface="隶书"/>
                </a:rPr>
                <a:t>有国有家者，不患寡而患不均，不患贫而患不安。盖均无贫，和无寡，安无倾。夫如是，故远人不服，则修文德以来之；既来之则安之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838080" y="-162000"/>
            <a:ext cx="10534680" cy="702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29000" y="27432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历史散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诸子散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百家争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墨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道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法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3657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儒家《论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4267080"/>
            <a:ext cx="3812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97180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971800"/>
            <a:ext cx="0" cy="1295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58128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723920" y="426708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7640" y="3886200"/>
            <a:ext cx="60948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857640" y="426708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857640" y="4495320"/>
            <a:ext cx="60948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57640" y="4419360"/>
            <a:ext cx="60948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971440" y="4267080"/>
            <a:ext cx="15228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213372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《左传》：《烛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《国语》：《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《战国策》：《邹》《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2971800"/>
            <a:ext cx="83844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562360" y="3581280"/>
            <a:ext cx="2286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2362320"/>
            <a:ext cx="0" cy="12189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先秦散文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95280" y="189000"/>
            <a:ext cx="5148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1998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年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月，世界诺贝尔奖获得者在巴黎集会，发表宣言</a:t>
            </a:r>
            <a:r>
              <a:rPr b="1" lang="zh-CN" sz="4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“人类要在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21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世纪生存下去，必须回头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2500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年，去吸取孔子的智慧。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36464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91120" y="41148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52280"/>
            <a:ext cx="4572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孔子（</a:t>
            </a: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551-479</a:t>
            </a: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）名</a:t>
            </a:r>
            <a:r>
              <a:rPr b="1" i="1" lang="zh-CN" sz="4000" spc="-1" strike="noStrike">
                <a:solidFill>
                  <a:srgbClr val="ff0066"/>
                </a:solidFill>
                <a:latin typeface="Tahoma"/>
                <a:ea typeface="隶书"/>
              </a:rPr>
              <a:t>丘</a:t>
            </a: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，字</a:t>
            </a:r>
            <a:r>
              <a:rPr b="1" i="1" lang="zh-CN" sz="4000" spc="-1" strike="noStrike">
                <a:solidFill>
                  <a:srgbClr val="ff0066"/>
                </a:solidFill>
                <a:latin typeface="Tahoma"/>
                <a:ea typeface="隶书"/>
              </a:rPr>
              <a:t>仲尼</a:t>
            </a: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，</a:t>
            </a:r>
            <a:r>
              <a:rPr b="1" i="1" lang="zh-CN" sz="4000" spc="-1" strike="noStrike">
                <a:solidFill>
                  <a:srgbClr val="ff0066"/>
                </a:solidFill>
                <a:latin typeface="Tahoma"/>
                <a:ea typeface="隶书"/>
              </a:rPr>
              <a:t>春秋末期鲁国人</a:t>
            </a: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。中国历史上最重要的</a:t>
            </a:r>
            <a:r>
              <a:rPr b="1" i="1" lang="zh-CN" sz="4000" spc="-1" strike="noStrike">
                <a:solidFill>
                  <a:srgbClr val="ff0066"/>
                </a:solidFill>
                <a:latin typeface="Tahoma"/>
                <a:ea typeface="隶书"/>
              </a:rPr>
              <a:t>思想家</a:t>
            </a: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，中国第一个伟大的</a:t>
            </a:r>
            <a:r>
              <a:rPr b="1" i="1" lang="zh-CN" sz="4000" spc="-1" strike="noStrike">
                <a:solidFill>
                  <a:srgbClr val="ff0066"/>
                </a:solidFill>
                <a:latin typeface="Tahoma"/>
                <a:ea typeface="隶书"/>
              </a:rPr>
              <a:t>教育家</a:t>
            </a: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《</a:t>
            </a: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论语》是记载</a:t>
            </a:r>
            <a:r>
              <a:rPr b="1" i="1" lang="zh-CN" sz="4000" spc="-1" strike="noStrike">
                <a:solidFill>
                  <a:srgbClr val="ff0066"/>
                </a:solidFill>
                <a:latin typeface="Tahoma"/>
                <a:ea typeface="隶书"/>
              </a:rPr>
              <a:t>孔子及其弟子</a:t>
            </a: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言行的书，是</a:t>
            </a:r>
            <a:r>
              <a:rPr b="1" i="1" lang="zh-CN" sz="4000" spc="-1" strike="noStrike">
                <a:solidFill>
                  <a:srgbClr val="ff0066"/>
                </a:solidFill>
                <a:latin typeface="Tahoma"/>
                <a:ea typeface="隶书"/>
              </a:rPr>
              <a:t>儒家</a:t>
            </a:r>
            <a:r>
              <a:rPr b="1" lang="zh-CN" sz="4000" spc="-1" strike="noStrike">
                <a:solidFill>
                  <a:srgbClr val="41828f"/>
                </a:solidFill>
                <a:latin typeface="Tahoma"/>
                <a:ea typeface="隶书"/>
              </a:rPr>
              <a:t>的重要经典著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方正姚体简体"/>
              </a:rPr>
              <a:t>孔子的思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118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思想上，以“仁”为核心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崇礼反法；政治上，提倡仁义忠恕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德治国；生活上，主张“温良恭俭让”；教育上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开创私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教无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因材施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84360" y="1379520"/>
            <a:ext cx="46785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7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30492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ahoma"/>
                <a:ea typeface="隶书"/>
              </a:rPr>
              <a:t>孔子的思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一、“仁”的政治思想和伦理观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均、和、安。（己所不欲，勿施于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二、教育思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有教无类、因材施教、学而不厌，诲人不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77724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6" h="21600">
                <a:moveTo>
                  <a:pt x="14606" y="3794"/>
                </a:moveTo>
                <a:lnTo>
                  <a:pt x="28619" y="10800"/>
                </a:lnTo>
                <a:lnTo>
                  <a:pt x="146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隶书"/>
              </a:rPr>
              <a:t>四书五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905120"/>
            <a:ext cx="6400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四书：《论语》《大学》        《中庸》《孟子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五经：《诗》《书》                             《礼》 《易》 《春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关于《论语》—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《论语》是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ahoma"/>
              </a:rPr>
              <a:t>儒家“四书</a:t>
            </a: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”（另《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ahoma"/>
              </a:rPr>
              <a:t>大学》《中庸》《孟子》</a:t>
            </a: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）之一，是孔子弟子及其后学者汇集整理而成的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ahoma"/>
              </a:rPr>
              <a:t>语录体</a:t>
            </a: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文集，记录了孔子及其弟子们的言行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论：编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古语：半部《论语》治天下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儒家六经：《诗》《书》 《礼》 《易》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《乐》</a:t>
            </a:r>
            <a:r>
              <a:rPr b="1" lang="zh-CN" sz="3600" spc="-1" strike="noStrike">
                <a:solidFill>
                  <a:srgbClr val="800080"/>
                </a:solidFill>
                <a:latin typeface="Tahoma"/>
              </a:rPr>
              <a:t>  《春秋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8153280" y="548640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05:53:31Z</dcterms:created>
  <dc:creator>user</dc:creator>
  <dc:description/>
  <dc:language>en-US</dc:language>
  <cp:lastModifiedBy>番茄花园</cp:lastModifiedBy>
  <dcterms:modified xsi:type="dcterms:W3CDTF">2008-04-25T02:36:40Z</dcterms:modified>
  <cp:revision>66</cp:revision>
  <dc:subject/>
  <dc:title>PowerPoint 演示文稿</dc:title>
</cp:coreProperties>
</file>