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E51-C77B-4B0F-A75A-7998F932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FDF-BBE7-4512-A63C-25B5D401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693-912D-44B8-A942-3EE14BF0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8E0-2A35-4190-8843-BEDFCF5C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CFC8-58AF-40D2-AB2C-CDD130BC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C56-5D25-4927-A198-1A51052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D10B-78BB-4BD5-859B-AFE20B5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1749-A19C-4747-AA94-0A3D4E1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3CE8-4CA6-4D31-BCCA-F9459FD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2D57-CE2C-44C5-A192-0A687E94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0420-F95C-4916-9BAD-C173691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13B-ADE2-4595-AB7E-6D0D90B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477-E5BE-46CD-8859-1BABAD6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B69B-824C-4192-862C-4717ED4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C57C-C7FA-4FA4-B4DF-3BF95AE8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4753-7447-4E6E-B220-29EC68E4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032-D4E0-4ED1-9004-5A0BD9FA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AE4-7B90-41B0-82D7-41BEA88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AF3-2EF7-47C8-A7D3-D593AECE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6F3-11B7-408C-AA83-41AAA74C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3BE-DBF3-446B-9B2A-13D6CDB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5AF-D402-4424-8780-42CB4B0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65E-4F9B-443F-BE72-7C349BC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B4A-B240-4F7B-AB51-DCF2DEA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698-957E-465E-AAE3-E55750B4654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A90-A430-4284-9089-8B589930E6B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文鼎中特广告体"/>
              </a:rPr>
              <a:t>江南逢李龟年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作者：杜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33564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江南逢李龟年 （杜甫）　　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        岐王宅里寻常见，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　　崔九堂前几度闻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　　正是江南好风景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　　落花时节又逢君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08720" y="4365720"/>
            <a:ext cx="2735280" cy="228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flipH="1">
            <a:off x="6227280" y="2637000"/>
            <a:ext cx="2729160" cy="4076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a77"/>
                </a:solidFill>
                <a:latin typeface="Arial"/>
                <a:ea typeface="文鼎贱狗体"/>
              </a:rPr>
              <a:t>语言特色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诗的开首二句是追忆昔日与李龟年的接触，寄寓诗人对开元初年鼎盛的眷怀；后两句是对国事凋零，艺人颠沛流离的感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997360"/>
            <a:ext cx="5760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仅仅四句却概括了整个开元时期（注：开元时期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1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4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）的时代沧桑，人生巨变。语极平淡，内涵却无限丰满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flipH="1">
            <a:off x="6227280" y="2637000"/>
            <a:ext cx="272916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583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a77"/>
                </a:solidFill>
                <a:latin typeface="Arial"/>
                <a:ea typeface="文鼎贱狗体"/>
              </a:rPr>
              <a:t>语言特色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诗是感伤世态炎凉的。虽全诗并无直接抒情之语，但时世之凋敝丧乱与人   生之凄凉飘零，却尽寓其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3048120" cy="426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1680" y="476280"/>
            <a:ext cx="54943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文鼎贱狗体"/>
              </a:rPr>
              <a:t>全诗主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运用了对比手法，抒写了时代的变迁，流露了诗人对开元全盛日的无限眷恋和伤感之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2:46:35Z</dcterms:created>
  <dc:creator>USER</dc:creator>
  <dc:description/>
  <dc:language>en-US</dc:language>
  <cp:lastModifiedBy>USER</cp:lastModifiedBy>
  <dcterms:modified xsi:type="dcterms:W3CDTF">2002-12-31T16:40:40Z</dcterms:modified>
  <cp:revision>5</cp:revision>
  <dc:subject/>
  <dc:title>江南逢李龟年</dc:title>
</cp:coreProperties>
</file>