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29.gif" ContentType="image/gif"/>
  <Override PartName="/ppt/media/image6.gif" ContentType="image/gif"/>
  <Override PartName="/ppt/media/image28.gif" ContentType="image/gif"/>
  <Override PartName="/ppt/media/image5.gif" ContentType="image/gif"/>
  <Override PartName="/ppt/media/image8.png" ContentType="image/png"/>
  <Override PartName="/ppt/media/image30.gif" ContentType="image/gif"/>
  <Override PartName="/ppt/media/image10.gif" ContentType="image/gif"/>
  <Override PartName="/ppt/media/image11.jpeg" ContentType="image/jpeg"/>
  <Override PartName="/ppt/media/image9.gif" ContentType="image/gif"/>
  <Override PartName="/ppt/media/image12.gif" ContentType="image/gif"/>
  <Override PartName="/ppt/media/image13.gif" ContentType="image/gif"/>
  <Override PartName="/ppt/media/image7.png" ContentType="image/png"/>
  <Override PartName="/ppt/media/image1.jpeg" ContentType="image/jpeg"/>
  <Override PartName="/ppt/media/image3.gif" ContentType="image/gif"/>
  <Override PartName="/ppt/media/image26.gif" ContentType="image/gif"/>
  <Override PartName="/ppt/media/image2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media/image19.gif" ContentType="image/gif"/>
  <Override PartName="/ppt/media/image21.gif" ContentType="image/gif"/>
  <Override PartName="/ppt/media/image20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232A-C643-4573-BCFC-AEB38A8635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41C-36ED-4447-8E6C-6B6EE4DF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D49-A1B2-4CDF-9D00-93A1E33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212-12E2-472F-B0C5-30EF98D8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D24-F046-4AD1-80B3-3A19EF67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AD8-C9B9-4E34-B9FF-FD43D8E1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CAE-470F-4B8E-B6E2-1CE2E53F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2C2-51A2-471B-9853-AA14D2FB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F63-F154-4985-8E5D-7EE26241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C7D-E34E-415E-A3F8-07052984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5AB-A148-4CC0-9824-A443608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9B5-21A6-4CF7-9FD5-0F35DC3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862-28BC-4848-90F4-316C8A3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7034-A8A0-4019-8A83-5D915A74C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8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网背2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5840">
            <a:solidFill>
              <a:srgbClr val="ccffcc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1185840" y="98100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战旗美如画，英雄的鲜血染红了她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为什么大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春常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英雄的生命开鲜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ackgd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009092414562369"/>
          <p:cNvPicPr/>
          <p:nvPr/>
        </p:nvPicPr>
        <p:blipFill>
          <a:blip r:embed="rId3"/>
          <a:stretch/>
        </p:blipFill>
        <p:spPr>
          <a:xfrm>
            <a:off x="3132000" y="314172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52" name="79657418409122460.mp3" descr=""/>
          <p:cNvPicPr/>
          <p:nvPr/>
        </p:nvPicPr>
        <p:blipFill>
          <a:blip r:embed="rId4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672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55640" y="620640"/>
            <a:ext cx="3038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研读 探究主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484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目中“艰难的国运”与“雄健的国民”各指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55640" y="2924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难的国运”指的是作者所处的时代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军阀混战，列强入侵，社会动荡，国家和民族到了非常时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4360" y="494172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健的国民”表现了国民的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无畏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种乐观的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4762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些词语表现了国运的艰难？哪些词语显示了国民的雄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9640" y="1989000"/>
            <a:ext cx="820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难的国运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回环曲折   极其险峻  崎岖险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健的国民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奇绝壮绝   壮美的趣味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浩浩荡荡  浊流滚滚   一泻千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4821564210"/>
          <p:cNvPicPr/>
          <p:nvPr/>
        </p:nvPicPr>
        <p:blipFill>
          <a:blip r:embed="rId1"/>
          <a:stretch/>
        </p:blipFill>
        <p:spPr>
          <a:xfrm>
            <a:off x="457200" y="0"/>
            <a:ext cx="7391520" cy="358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2004822532120"/>
          <p:cNvPicPr/>
          <p:nvPr/>
        </p:nvPicPr>
        <p:blipFill>
          <a:blip r:embed="rId2"/>
          <a:stretch/>
        </p:blipFill>
        <p:spPr>
          <a:xfrm>
            <a:off x="533520" y="3352680"/>
            <a:ext cx="731520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900000" y="8366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试阐释文中提倡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雄健的精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66680" y="17524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雄健的精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，也就是民族的精神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扬子江及黄河遇见沙漠、遇见山峡都是浩浩荡荡地往前流过去，以成其浊流滚滚、一泻万里的魄势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雄健的精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也就是这种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华文中宋"/>
              </a:rPr>
              <a:t>冲破一切艰难险阻，勇往直前的精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4822359635"/>
          <p:cNvPicPr/>
          <p:nvPr/>
        </p:nvPicPr>
        <p:blipFill>
          <a:blip r:embed="rId1"/>
          <a:stretch/>
        </p:blipFill>
        <p:spPr>
          <a:xfrm>
            <a:off x="-179280" y="-530280"/>
            <a:ext cx="9142200" cy="6856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258920" y="620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理解作者所说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趣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42920" y="2286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种冒险的美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奇趣横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种壮美的趣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亦是人生最有趣味的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这种种趣味，其实都是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经历艰难险阻以后的趣味，是一种快乐、一种幸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09520" y="3249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历史发展是曲折的，只有具有雄健的精神敢于面对现实、敢于斗争的革命者，才会在奇绝壮绝的斗争中获得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壮美的趣味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81080" y="390600"/>
            <a:ext cx="89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本文结尾说：“要知在艰难的国运中建造国家亦是人生最有趣味的事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这个看法对不对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艰难的国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雄健的国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之间有什么联系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0880" y="1447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只有雄健的国民才能扭转艰难的国运；惟有在艰难的国运中建造国家才更能锻炼、造就国民的雄健精神。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35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假如有人以为，课题中的两个短语的次序更换一下，并不改变题意，你以为如何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49280" y="4724280"/>
            <a:ext cx="86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是艰难国运造就了一大批真正的猛士，真正的革命者，倘若把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雄健的国民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放到前面，因果关系就颠倒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4822211608"/>
          <p:cNvPicPr/>
          <p:nvPr/>
        </p:nvPicPr>
        <p:blipFill>
          <a:blip r:embed="rId1"/>
          <a:stretch/>
        </p:blipFill>
        <p:spPr>
          <a:xfrm>
            <a:off x="1600200" y="1265400"/>
            <a:ext cx="5334120" cy="4754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057400" y="2057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本文用一系列比喻来说理，既生动形象又有说服力。试指出文中用了哪些比喻，表现作者什么情怀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2209680" y="457200"/>
            <a:ext cx="373392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小组探究</a:t>
            </a:r>
            <a:endParaRPr b="1" lang="en-US" sz="24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260280"/>
            <a:ext cx="8677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、文中最显著的特色是比喻说理，你能将下列本体、喻体准确对应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长江大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华民族历史势不可挡，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                一往无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扬子江、黄河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华民族历史的顺利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浩浩荡荡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华民族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平原无际，一泻千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华民族历史前进中的艰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                难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曲折回环，崎岖险阻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华民族历史的光明前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扬子江黄河，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F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民族生命进程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穿沙漠，过山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浊流滚滚，一泻千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G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华民族历史所逢的艰难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                国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旅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H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比喻人类在历史上的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2340000" y="1773360"/>
            <a:ext cx="2087640" cy="2808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059280" y="2421000"/>
            <a:ext cx="1368360" cy="503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2411280" y="1773360"/>
            <a:ext cx="2016360" cy="1224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4067280" y="2565000"/>
            <a:ext cx="360360" cy="64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4067280" y="4437000"/>
            <a:ext cx="433440" cy="863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3419640" y="3428640"/>
            <a:ext cx="1008000" cy="1584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067280" y="4149360"/>
            <a:ext cx="360360" cy="1150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763640" y="6381720"/>
            <a:ext cx="25923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004822532120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76320" y="228600"/>
          <a:ext cx="7315200" cy="5837400"/>
        </p:xfrm>
        <a:graphic>
          <a:graphicData uri="http://schemas.openxmlformats.org/drawingml/2006/table">
            <a:tbl>
              <a:tblPr/>
              <a:tblGrid>
                <a:gridCol w="3352680"/>
                <a:gridCol w="3962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本        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喻      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33"/>
          <p:cNvSpPr/>
          <p:nvPr/>
        </p:nvSpPr>
        <p:spPr>
          <a:xfrm>
            <a:off x="3049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江大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3505320" y="990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民族生命进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380880" y="1752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扬子江黄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3581280" y="16765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华民族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304920" y="251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浩浩荡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35812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历史势不可挡，一往无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15228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原无际，一泻万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3505320" y="3200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历史的顺利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2286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曲折回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崎岖险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5053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历史所逢的艰难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0" y="4724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江黄河穿沙漠、过山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5053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前进中的艰难斗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2286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浊流滚滚，一泻万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3581280" y="54100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的光明前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7391520" y="228600"/>
            <a:ext cx="1447560" cy="5867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7623720" y="457200"/>
            <a:ext cx="11552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表现了作者内心的豪情壮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004822232998"/>
          <p:cNvPicPr/>
          <p:nvPr/>
        </p:nvPicPr>
        <p:blipFill>
          <a:blip r:embed="rId1"/>
          <a:stretch/>
        </p:blipFill>
        <p:spPr>
          <a:xfrm>
            <a:off x="685800" y="533520"/>
            <a:ext cx="7238880" cy="5562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447920" y="175248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以大河奔流比喻民族生命进程，以崎岖险路比喻中华民族所逢的史路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在艰难困苦中毫不气馁，坚信革命必胜，民族必兴，气魄雄健豪壮，表现了革命乐观主义情怀和强烈的爱国主义感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2819520" y="1066680"/>
            <a:ext cx="335268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行楷"/>
              </a:rPr>
              <a:t>课堂小结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行楷"/>
              <a:ea typeface="华文行楷"/>
            </a:endParaRPr>
          </a:p>
        </p:txBody>
      </p:sp>
      <p:pic>
        <p:nvPicPr>
          <p:cNvPr id="171" name="Picture 5" descr="Gif0405_092"/>
          <p:cNvPicPr/>
          <p:nvPr/>
        </p:nvPicPr>
        <p:blipFill>
          <a:blip r:embed="rId4"/>
          <a:stretch/>
        </p:blipFill>
        <p:spPr>
          <a:xfrm>
            <a:off x="228600" y="5867280"/>
            <a:ext cx="8458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xs06gif037"/>
          <p:cNvPicPr/>
          <p:nvPr/>
        </p:nvPicPr>
        <p:blipFill>
          <a:blip r:embed="rId1"/>
          <a:stretch/>
        </p:blipFill>
        <p:spPr>
          <a:xfrm>
            <a:off x="228600" y="533520"/>
            <a:ext cx="800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>
            <a:off x="990720" y="1371600"/>
            <a:ext cx="7391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 </a:t>
            </a:r>
            <a:r>
              <a:rPr b="1" lang="zh-CN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艰难的国运与雄健的国民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5" name="WordArt 4" descr="10"/>
          <p:cNvPicPr/>
          <p:nvPr/>
        </p:nvPicPr>
        <p:blipFill>
          <a:blip r:embed="rId5"/>
          <a:stretch/>
        </p:blipFill>
        <p:spPr>
          <a:xfrm>
            <a:off x="5168880" y="4565520"/>
            <a:ext cx="3193920" cy="118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00492221417696"/>
          <p:cNvPicPr/>
          <p:nvPr/>
        </p:nvPicPr>
        <p:blipFill>
          <a:blip r:embed="rId6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200492221417696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49"/>
          <p:cNvPicPr/>
          <p:nvPr/>
        </p:nvPicPr>
        <p:blipFill>
          <a:blip r:embed="rId8"/>
          <a:stretch/>
        </p:blipFill>
        <p:spPr>
          <a:xfrm>
            <a:off x="1295280" y="38862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57200" y="304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艰难的国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124080" y="304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雄健的国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867280" y="304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雄健的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352680" y="1066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林则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6212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鸦片战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352680" y="1828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李大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62120" y="1828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四时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762120" y="2590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伐战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352680" y="2514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叶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276720" y="3200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胡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6212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抗日战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76212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放战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27672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董存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2767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继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762120" y="4648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抗美援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762120" y="5486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革时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27672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志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181480" y="1295280"/>
            <a:ext cx="549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文鼎粗魏碑"/>
              </a:rPr>
              <a:t>人民群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文鼎粗魏碑"/>
              </a:rPr>
              <a:t>无名英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6248520" y="1600200"/>
            <a:ext cx="2895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</a:rPr>
              <a:t>无私奉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</a:rPr>
              <a:t>顽强拼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6248520" y="3500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</a:rPr>
              <a:t>英勇无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6300720" y="4365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</a:rPr>
              <a:t>一往直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今天社会主义革命和社会主义建设的新长征途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要不要雄健的精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发扬雄健的精神，是时代的需要。在今天，也同样会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遇见沙漠、遇见山峡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，遇见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崎岖险路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，出现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奇绝壮绝的境界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，仍然需要我们拿出雄健的精神，建设我们美好的祖国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一条大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合）这是美丽的祖国 是我生长的地方 在这片辽阔的土地上 到处都有明媚的风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郭）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姑娘好像花儿一样 小伙儿心胸多宽广 为了开辟新天地 唤醒了沉睡的高山 让那河流改变了模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合）这是英雄的祖国 是我生长的地方 在这片古老的土地上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到处都有青春的力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yitiaodahe.mp3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7246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5800" y="10666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为世界进文明，为人类造幸福，以青春之我，创造青春之家庭，青春之国家，青春之民族，青春之人类，青春之地与球，资以乐其无涯之生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————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李大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2"/>
          <p:cNvPicPr/>
          <p:nvPr/>
        </p:nvPicPr>
        <p:blipFill>
          <a:blip r:embed="rId1"/>
          <a:stretch/>
        </p:blipFill>
        <p:spPr>
          <a:xfrm>
            <a:off x="0" y="0"/>
            <a:ext cx="1371600" cy="70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Gif0405_118"/>
          <p:cNvPicPr/>
          <p:nvPr/>
        </p:nvPicPr>
        <p:blipFill>
          <a:blip r:embed="rId2"/>
          <a:stretch/>
        </p:blipFill>
        <p:spPr>
          <a:xfrm>
            <a:off x="3124080" y="5737320"/>
            <a:ext cx="1463760" cy="1120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Gif0405_118"/>
          <p:cNvPicPr/>
          <p:nvPr/>
        </p:nvPicPr>
        <p:blipFill>
          <a:blip r:embed="rId3"/>
          <a:stretch/>
        </p:blipFill>
        <p:spPr>
          <a:xfrm>
            <a:off x="1523880" y="5737320"/>
            <a:ext cx="1463760" cy="1120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Gif0405_118"/>
          <p:cNvPicPr/>
          <p:nvPr/>
        </p:nvPicPr>
        <p:blipFill>
          <a:blip r:embed="rId4"/>
          <a:stretch/>
        </p:blipFill>
        <p:spPr>
          <a:xfrm>
            <a:off x="0" y="5737320"/>
            <a:ext cx="1463760" cy="1120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Gif0405_118"/>
          <p:cNvPicPr/>
          <p:nvPr/>
        </p:nvPicPr>
        <p:blipFill>
          <a:blip r:embed="rId5"/>
          <a:stretch/>
        </p:blipFill>
        <p:spPr>
          <a:xfrm>
            <a:off x="4648320" y="5737320"/>
            <a:ext cx="1463400" cy="1120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Gif0405_118"/>
          <p:cNvPicPr/>
          <p:nvPr/>
        </p:nvPicPr>
        <p:blipFill>
          <a:blip r:embed="rId6"/>
          <a:stretch/>
        </p:blipFill>
        <p:spPr>
          <a:xfrm>
            <a:off x="6095880" y="5737320"/>
            <a:ext cx="1463760" cy="112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Gif0405_118"/>
          <p:cNvPicPr/>
          <p:nvPr/>
        </p:nvPicPr>
        <p:blipFill>
          <a:blip r:embed="rId7"/>
          <a:stretch/>
        </p:blipFill>
        <p:spPr>
          <a:xfrm>
            <a:off x="7543800" y="5737320"/>
            <a:ext cx="1463760" cy="112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2"/>
          <p:cNvPicPr/>
          <p:nvPr/>
        </p:nvPicPr>
        <p:blipFill>
          <a:blip r:embed="rId8"/>
          <a:stretch/>
        </p:blipFill>
        <p:spPr>
          <a:xfrm>
            <a:off x="2666880" y="0"/>
            <a:ext cx="1371600" cy="708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2"/>
          <p:cNvPicPr/>
          <p:nvPr/>
        </p:nvPicPr>
        <p:blipFill>
          <a:blip r:embed="rId9"/>
          <a:stretch/>
        </p:blipFill>
        <p:spPr>
          <a:xfrm>
            <a:off x="3962520" y="0"/>
            <a:ext cx="1371600" cy="70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2"/>
          <p:cNvPicPr/>
          <p:nvPr/>
        </p:nvPicPr>
        <p:blipFill>
          <a:blip r:embed="rId10"/>
          <a:stretch/>
        </p:blipFill>
        <p:spPr>
          <a:xfrm>
            <a:off x="5334120" y="0"/>
            <a:ext cx="1371600" cy="70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2"/>
          <p:cNvPicPr/>
          <p:nvPr/>
        </p:nvPicPr>
        <p:blipFill>
          <a:blip r:embed="rId11"/>
          <a:stretch/>
        </p:blipFill>
        <p:spPr>
          <a:xfrm>
            <a:off x="6553080" y="0"/>
            <a:ext cx="1371600" cy="7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2"/>
          <p:cNvPicPr/>
          <p:nvPr/>
        </p:nvPicPr>
        <p:blipFill>
          <a:blip r:embed="rId12"/>
          <a:stretch/>
        </p:blipFill>
        <p:spPr>
          <a:xfrm>
            <a:off x="7772400" y="0"/>
            <a:ext cx="1371600" cy="70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2"/>
          <p:cNvPicPr/>
          <p:nvPr/>
        </p:nvPicPr>
        <p:blipFill>
          <a:blip r:embed="rId13"/>
          <a:stretch/>
        </p:blipFill>
        <p:spPr>
          <a:xfrm>
            <a:off x="1371600" y="0"/>
            <a:ext cx="1371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09480" y="1828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没有伟大的人物出现的民族，是世界上最可怜的生物之群；有了伟大的人物，而无拥护、爱戴、崇仰的国家，是没有希望的奴隶之邦。  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郁达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3" descr="宽形长板2"/>
          <p:cNvPicPr/>
          <p:nvPr/>
        </p:nvPicPr>
        <p:blipFill>
          <a:blip r:embed="rId1"/>
          <a:stretch/>
        </p:blipFill>
        <p:spPr>
          <a:xfrm>
            <a:off x="2438280" y="-150840"/>
            <a:ext cx="3962520" cy="1446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2895480" y="3049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格言共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3520" y="4419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天奋斗，其乐无穷；与地奋斗，其乐无穷；与人奋斗，其乐无穷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毛泽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Gif0405_124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Gif0405_084"/>
          <p:cNvPicPr/>
          <p:nvPr/>
        </p:nvPicPr>
        <p:blipFill>
          <a:blip r:embed="rId3"/>
          <a:stretch/>
        </p:blipFill>
        <p:spPr>
          <a:xfrm>
            <a:off x="0" y="609588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Gif0405_124"/>
          <p:cNvPicPr/>
          <p:nvPr/>
        </p:nvPicPr>
        <p:blipFill>
          <a:blip r:embed="rId4"/>
          <a:stretch/>
        </p:blipFill>
        <p:spPr>
          <a:xfrm>
            <a:off x="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19"/>
          <p:cNvPicPr/>
          <p:nvPr/>
        </p:nvPicPr>
        <p:blipFill>
          <a:blip r:embed="rId5"/>
          <a:stretch/>
        </p:blipFill>
        <p:spPr>
          <a:xfrm>
            <a:off x="457200" y="3886200"/>
            <a:ext cx="82296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429000" y="546120"/>
            <a:ext cx="5715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李大钊（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889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27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），字</a:t>
            </a:r>
            <a:r>
              <a:rPr b="1" lang="zh-CN" sz="27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守常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700" spc="-1" strike="noStrike">
                <a:solidFill>
                  <a:srgbClr val="ff3300"/>
                </a:solidFill>
                <a:latin typeface="华文中宋"/>
                <a:ea typeface="华文中宋"/>
              </a:rPr>
              <a:t>河北乐亭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人。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与陈独秀创办《每周评论》，并参与</a:t>
            </a:r>
            <a:r>
              <a:rPr b="1" lang="zh-CN" sz="2700" spc="-1" strike="noStrike">
                <a:solidFill>
                  <a:srgbClr val="ff3300"/>
                </a:solidFill>
                <a:latin typeface="宋体"/>
              </a:rPr>
              <a:t>《新青年》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的编辑工作，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2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月，在北京成立共产主义小组，成为中国共产党的创始人之一。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27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日，被奉系军阀张作霖杀害于北京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李大钊不仅是</a:t>
            </a:r>
            <a:r>
              <a:rPr b="1" lang="zh-CN" sz="2700" spc="-1" strike="noStrike">
                <a:solidFill>
                  <a:srgbClr val="ff3300"/>
                </a:solidFill>
                <a:latin typeface="黑体"/>
                <a:ea typeface="黑体"/>
              </a:rPr>
              <a:t>伟大的马克思主义者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，也是一位</a:t>
            </a:r>
            <a:r>
              <a:rPr b="1" lang="zh-CN" sz="2700" spc="-1" strike="noStrike">
                <a:solidFill>
                  <a:srgbClr val="ff3300"/>
                </a:solidFill>
                <a:latin typeface="黑体"/>
                <a:ea typeface="黑体"/>
              </a:rPr>
              <a:t>学者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700" spc="-1" strike="noStrike">
                <a:solidFill>
                  <a:srgbClr val="ff3300"/>
                </a:solidFill>
                <a:latin typeface="黑体"/>
                <a:ea typeface="黑体"/>
              </a:rPr>
              <a:t>诗人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。他的诗文被</a:t>
            </a:r>
            <a:r>
              <a:rPr b="1" lang="zh-CN" sz="2700" spc="-1" strike="noStrike">
                <a:solidFill>
                  <a:srgbClr val="ff3300"/>
                </a:solidFill>
                <a:latin typeface="黑体"/>
                <a:ea typeface="黑体"/>
              </a:rPr>
              <a:t>鲁迅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誉为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2700" spc="-1" strike="noStrike">
                <a:solidFill>
                  <a:srgbClr val="ff3300"/>
                </a:solidFill>
                <a:latin typeface="黑体"/>
                <a:ea typeface="黑体"/>
              </a:rPr>
              <a:t>革命史上的丰碑</a:t>
            </a:r>
            <a:r>
              <a:rPr b="1" lang="zh-CN" sz="27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。著作有《守常文集》（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39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出版）、《李大钊选集》（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59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出版）、《李大钊诗选注》（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1979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出版）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228600" y="457200"/>
            <a:ext cx="32767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648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黑体"/>
              </a:rPr>
              <a:t>了解作者</a:t>
            </a:r>
            <a:endParaRPr b="1" lang="en-US" sz="2400" spc="1" strike="noStrike">
              <a:ln w="648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黑体"/>
              <a:ea typeface="黑体"/>
            </a:endParaRPr>
          </a:p>
        </p:txBody>
      </p:sp>
      <p:pic>
        <p:nvPicPr>
          <p:cNvPr id="61" name="Picture 4" descr="16"/>
          <p:cNvPicPr/>
          <p:nvPr/>
        </p:nvPicPr>
        <p:blipFill>
          <a:blip r:embed="rId3"/>
          <a:stretch/>
        </p:blipFill>
        <p:spPr>
          <a:xfrm>
            <a:off x="380880" y="1447920"/>
            <a:ext cx="2743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752480" y="380880"/>
            <a:ext cx="29718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华文中宋"/>
              </a:rPr>
              <a:t>了解背景</a:t>
            </a:r>
            <a:endParaRPr b="1" lang="en-US" sz="2400" spc="1" strike="noStrike">
              <a:ln w="12600">
                <a:solidFill>
                  <a:srgbClr val="00cc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华文中宋"/>
              <a:ea typeface="华文中宋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2120" y="838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本文写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代。当时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中宋"/>
              </a:rPr>
              <a:t>帝国主义列强虎视眈眈，国内军阀混战，人民生活在水深火热之中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一部分五四运动期间一度觉醒的知识分子又陷于迷惘之中，走到了十字路口。他们有一腔爱国热血，却看不到中国的希望，不知所措地叹息、彷徨。李大钊等革命先驱者则已找到了中华民族的希望之光，已经全身心地投入救国救民的伟大事业之中。在这篇文章中，李大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告诉人们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不要为面前的困难吓倒，有困难，但更有希望；与困难作斗争，趣味无穷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企望动员更多的人投身于救国救民的伟大事业，使救国的事业变成全民的事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gif068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if170"/>
          <p:cNvPicPr/>
          <p:nvPr/>
        </p:nvPicPr>
        <p:blipFill>
          <a:blip r:embed="rId4"/>
          <a:stretch/>
        </p:blipFill>
        <p:spPr>
          <a:xfrm>
            <a:off x="0" y="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2"/>
          <p:cNvPicPr/>
          <p:nvPr/>
        </p:nvPicPr>
        <p:blipFill>
          <a:blip r:embed="rId5"/>
          <a:stretch/>
        </p:blipFill>
        <p:spPr>
          <a:xfrm>
            <a:off x="6705720" y="5638680"/>
            <a:ext cx="243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5640" y="1413000"/>
            <a:ext cx="7488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千里       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丛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岭   　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逼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   奇趣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滚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旅    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李大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āo)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413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724360" y="1413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763640" y="220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51640" y="2205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556000" y="38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崎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258920" y="2997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64000" y="38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01200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é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5092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根据汉字写拼音或根据拼音写汉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627280" y="472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309800" y="4495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50920" y="693000"/>
            <a:ext cx="3456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逼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崎岖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阻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回环曲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亦复如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雄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境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863720" y="84312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形容很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狭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825560" y="16351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形容山路不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854360" y="2421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阻止、抑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779560" y="3213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曲折环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759040" y="394020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同样如此，也是这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892160" y="474984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强健有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5116320" y="5518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事物所达到的程度或表现的情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90720" y="0"/>
            <a:ext cx="34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解释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826920" y="325440"/>
            <a:ext cx="3810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朗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47640" y="3200400"/>
            <a:ext cx="83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、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、饱含感情朗读（充满乐观，铿锵有力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BOOK1"/>
          <p:cNvPicPr/>
          <p:nvPr/>
        </p:nvPicPr>
        <p:blipFill>
          <a:blip r:embed="rId1"/>
          <a:stretch/>
        </p:blipFill>
        <p:spPr>
          <a:xfrm>
            <a:off x="4257720" y="1676520"/>
            <a:ext cx="267660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《艰难的国运与雄健的国民》.mp3" descr=""/>
          <p:cNvPicPr/>
          <p:nvPr/>
        </p:nvPicPr>
        <p:blipFill>
          <a:blip r:embed="rId2"/>
          <a:stretch/>
        </p:blipFill>
        <p:spPr>
          <a:xfrm>
            <a:off x="305928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863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4821549802"/>
          <p:cNvPicPr/>
          <p:nvPr/>
        </p:nvPicPr>
        <p:blipFill>
          <a:blip r:embed="rId1"/>
          <a:stretch/>
        </p:blipFill>
        <p:spPr>
          <a:xfrm>
            <a:off x="0" y="3790800"/>
            <a:ext cx="8915400" cy="30672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380880" y="304920"/>
            <a:ext cx="8153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自由朗读课文，归纳各段内容 要点</a:t>
            </a:r>
            <a:endParaRPr b="1" lang="en-US" sz="2400" spc="1" strike="noStrike">
              <a:ln w="1584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1219320"/>
            <a:ext cx="4876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人类历史的道路是不平坦的，只有靠雄健的精神才能冲过艰难险阻的境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以长江大河比喻民族生命的进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以旅途征人以冒险为美趣比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类在历史上的生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中华民族现在所逢的史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以扬子江、黄河比喻我们的民族精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638680" y="1143000"/>
            <a:ext cx="3048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人类历史的道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715000" y="2209680"/>
            <a:ext cx="3124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民族生命的进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715000" y="3429000"/>
            <a:ext cx="3124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人类历史的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638680" y="4495680"/>
            <a:ext cx="3276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的史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562720" y="5638680"/>
            <a:ext cx="3581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华民族的民族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6858000" y="1600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6934320" y="2743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693432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6934320" y="5029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he Great Wall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304920" y="609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(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人类</a:t>
            </a:r>
            <a:r>
              <a:rPr b="1" i="1" lang="en-US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)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历史道路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1828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民族生命进程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30621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人类历史生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4343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中华民族史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2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华文楷体"/>
              </a:rPr>
              <a:t>中华民族精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1676520" y="1143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752480" y="24382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752480" y="36576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1752480" y="4876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3809880" y="762120"/>
            <a:ext cx="304920" cy="5486400"/>
          </a:xfrm>
          <a:custGeom>
            <a:avLst/>
            <a:gdLst>
              <a:gd name="textAreaLeft" fmla="*/ 0 w 304920"/>
              <a:gd name="textAreaRight" fmla="*/ 110160 w 304920"/>
              <a:gd name="textAreaTop" fmla="*/ 43200 h 5486400"/>
              <a:gd name="textAreaBottom" fmla="*/ 544320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2"/>
                  <a:pt x="10800" y="544"/>
                </a:cubicBezTo>
                <a:lnTo>
                  <a:pt x="10800" y="10200"/>
                </a:lnTo>
                <a:cubicBezTo>
                  <a:pt x="10800" y="10472"/>
                  <a:pt x="16200" y="10744"/>
                  <a:pt x="21600" y="10744"/>
                </a:cubicBezTo>
                <a:cubicBezTo>
                  <a:pt x="16200" y="10744"/>
                  <a:pt x="10800" y="11016"/>
                  <a:pt x="10800" y="11288"/>
                </a:cubicBezTo>
                <a:lnTo>
                  <a:pt x="10800" y="21056"/>
                </a:lnTo>
                <a:cubicBezTo>
                  <a:pt x="10800" y="2132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343400" y="1676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艰难国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267080" y="3048120"/>
            <a:ext cx="2895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雄健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壮美趣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6553080" y="3124080"/>
            <a:ext cx="381240" cy="1447920"/>
          </a:xfrm>
          <a:custGeom>
            <a:avLst/>
            <a:gdLst>
              <a:gd name="textAreaLeft" fmla="*/ 0 w 381240"/>
              <a:gd name="textAreaRight" fmla="*/ 137520 w 381240"/>
              <a:gd name="textAreaTop" fmla="*/ 11160 h 1447920"/>
              <a:gd name="textAreaBottom" fmla="*/ 14367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2"/>
                  <a:pt x="10800" y="544"/>
                </a:cubicBezTo>
                <a:lnTo>
                  <a:pt x="10800" y="10200"/>
                </a:lnTo>
                <a:cubicBezTo>
                  <a:pt x="10800" y="10472"/>
                  <a:pt x="16200" y="10744"/>
                  <a:pt x="21600" y="10744"/>
                </a:cubicBezTo>
                <a:cubicBezTo>
                  <a:pt x="16200" y="10744"/>
                  <a:pt x="10800" y="11016"/>
                  <a:pt x="10800" y="11288"/>
                </a:cubicBezTo>
                <a:lnTo>
                  <a:pt x="10800" y="21056"/>
                </a:lnTo>
                <a:cubicBezTo>
                  <a:pt x="10800" y="2132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934320" y="342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雄健国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1:08:46Z</dcterms:created>
  <dc:creator>微软用户</dc:creator>
  <dc:description/>
  <dc:language>en-US</dc:language>
  <cp:lastModifiedBy>11</cp:lastModifiedBy>
  <dcterms:modified xsi:type="dcterms:W3CDTF">2017-11-15T06:57:25Z</dcterms:modified>
  <cp:revision>3</cp:revision>
  <dc:subject/>
  <dc:title>幻灯片 1</dc:title>
</cp:coreProperties>
</file>