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AF9-FCB3-44D8-83A1-51F79618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82D-5701-4645-B932-CF685E43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44F-35DF-4359-8518-169388DD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EE9-519D-49F5-896B-A85490ED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CA4-438C-4A9A-83B5-68B6AB68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CF6-7707-4E25-A028-D0E1F54F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1A2-E788-461E-9F0A-FB437032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303-DA01-4CCD-8A1F-306CA289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527-20B7-4AE4-B301-20077EDD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20F-FB5D-45B4-85FA-610F2074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506-36A3-4F29-93B1-FD9C372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9D5-F5DD-4AA5-A9DF-E683F7E5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9E7F-53F1-4EF7-A248-EB8D19067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04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创新求变的中唐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6560" y="1341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安史之乱”以后，唐朝由盛转衰，诗坛也失去了盛唐的蓬勃气象。这一时期的诗歌，其情感基调是徘徊惆怅，哀怨感伤；其艺术风格或高雅闲淡，或雕琢炼饰；其审美趣味有外拓趋向内敛，有昂扬趋向低沉，有浓郁趋向高秀。唐诗可谓是风格种种，流派多多。 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中唐时期“创新”与“求变”是其诗歌的主要创作趋向，中唐的社会背景（如藩镇割据、朋党之争、科举考试的弊端以及用人制度诸因素），为诗人群体的产生提供了客观条件；也促使不同群体形成风格各异的诗歌流派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1592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唐诗歌大约有以下几派： 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以白居易和元稹为首，包括李绅、王建、张籍等人在内，倡导新乐府的创作，要求“文章合为时而著歌诗合为事而作”，揭露中唐社会政治的各种弊端，反映时弊民疾，在诗歌形式上只要求浅显平易通俗自然，他们的创作在当时乃至以后都产生了深刻的影响。 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以韩愈孟郊为代表的一派诗人，从尚奇怪，重主观的创作主张出发，着力于探讨诗歌的新的艺术形式，并且通过个人的遭遇来反映社会的黑暗。这一派诗人除了韩孟之外，还有刘叉、卢仝、马异、贾岛、李贺等，其中韩、孟、李最为出色。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韩、孟、元、白之前的中唐早期，尚有刘长卿、韦应物与大历十才子等诗人，带着对盛唐的依恋，以萧条、冷落的心境表现山林隐逸的生活情趣。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柳宗元、刘禹锡等“元和贬谪”诗人，或借异乡山水以抒发贬谪之苦闷，或借历史古迹抒发千古兴亡之慨叹，柳的山水诗写得清淡秀丽，峻洁峭激，刘的咏史诗则豪迈畅朗。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30440" y="692280"/>
            <a:ext cx="26182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6633"/>
                </a:solidFill>
                <a:latin typeface="Arial"/>
                <a:ea typeface="华文隶书"/>
              </a:rPr>
              <a:t>寄李儋元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6680" y="3716280"/>
            <a:ext cx="729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韦应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30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初读诗歌，理解大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504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年春天花开时节，我与您在长安分别，现在春暖花开了，又是一年。国家的前途，个人的前程，都觉得茫茫一片，自己无法预料。面对春色，心中闷闷不乐，独自睡去，难以睡着。我身体多病，想回乡归隐，自己任刺史所管辖的地区，还有逃亡流落在外的饥民，我拿了俸禄而没有使百姓免于饥寒，因而感到惭愧。听说您要来，我不断地探望，多少次月儿缺了又圆，我站在西楼上眺望，仍不见您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404640"/>
            <a:ext cx="727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联意为去年春天在长安分别以来，已经一年。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：为何从“花”写起？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29336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以花里逢别起，即景勾起往事，有欣然回忆的意味；而以花开一年比衬，则不仅显出时光迅速，更流露出别后境况萧索的感慨。正有“年年岁岁花相似，岁岁年年人不同”的感伤意味。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联写自己的烦恼苦闷。（结合背景谈谈诗人的苦闷所在。） 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在作者出任滁州刺史的当年冬天，长安发生了朱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cǐ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叛乱，称帝号秦，唐德宗仓皇出逃，前来增援的朔方军又与朱泚相勾结，致使战乱进一步扩大。当时，诗人曾自滁州间道遣使探听消息，写作此诗时，使者尚未返滁。因此，“世事茫茫”是指国家的前途，也包含个人的前途。这种形势下，他只得感慨自己无法料想国家及个人的前途，觉得茫茫一片。他作为朝廷任命的一个地方行政官员，到任一年了，眼前又是美好的春天，但他只有忧愁苦闷，感到百无聊赖，一筹莫展，无所作为，黯然无光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33336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联具体写自己的思想矛盾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：“愧俸钱”可看诗人怎样的人生态度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正说明诗人志在有为，不甘窃位苟禄，乃是作者思想的主导因素。正因为他有志而无奈，所以多病更促使他想辞官归隐；但因为他忠于职守，看到百姓贫穷逃亡，自己未尽职责，于国于民都有愧，所以他不能一走了事。这样进退两难的矛盾苦闷处境下，诗人十分需要友情的慰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54936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末联便以感激李儋的问候和亟盼他来访作结。“闻道欲来”，写对方关念自己；“西楼望月”写自己盼望对方。怀人望月，由来已久。就本篇来说，诗人不仅想借普照两地的月光来传递相互关照之情，更要用月轮的缺而复圆来寄托盼望朋友团圆的拳拳之心。而“望月几回圆”，又正说明了自己盼友为时之久，心情之切。至此，招请速来之意，不言自明，耐人体味。全诗始于感叹分别，终于盼望团聚，绾合紧密，浑然一体，而友情之深挚浑厚，溢于言表。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63640" y="26028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写作特色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韦诗以描写山水见长，但其诗中亦有不少忧念国事、关怀民疾的内容。在这首怀念友人的诗篇中，作者对大唐王朝前途的叹惋，对自己忧愧交加的内心世界的揭示，都说明诗人对国计民生的大事并没有忘怀。尤其是“身多疾病思田里，邑有流亡愧俸钱”两句，一直受到人们的赞扬，被誉为“不负心语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沈德潜《唐诗别裁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这两句诗真实地表现了当时的社会条件下，一个正直的地方官吏无可奈何的处境和高尚的人格美。这首律诗写来平易亲切，通篇不用典实，节奏流丽响亮。刘熙载《艺概》说：“律诗不难于凝重，亦不难于流动，难在又凝重又流动耳。”既凝重又流动，正是这首诗的特色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3:30:17Z</dcterms:created>
  <dc:creator>hp</dc:creator>
  <dc:description/>
  <dc:language>en-US</dc:language>
  <cp:lastModifiedBy>hp</cp:lastModifiedBy>
  <dcterms:modified xsi:type="dcterms:W3CDTF">2009-12-10T06:48:36Z</dcterms:modified>
  <cp:revision>5</cp:revision>
  <dc:subject/>
  <dc:title>幻灯片 1</dc:title>
</cp:coreProperties>
</file>