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019-DCE7-4559-9F6E-40A139A7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CE1-D354-4392-9747-F6EF0512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B30-8096-44A5-BC3E-0466D42D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C47-53B7-46C5-9491-2F8B9DF7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913-1600-4FB2-90BA-E2EE8F86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6D1-7C4D-4FC7-818D-C429E157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07E-2A2F-43EE-B3B8-4FC46373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804-C200-4BC3-9EDB-38B9D93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F5B-9349-4499-999B-AF33B894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770-146F-4C47-A193-0399E54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8E2-85D8-4E81-A506-942B40A6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9B8-BE08-4D65-B5B2-718844B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5306-414D-48ED-BD7B-F1A33982C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collect.net/antiqueEstimation/show-85174-1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40464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第三单元：</a:t>
            </a:r>
            <a:r>
              <a:rPr b="0" lang="zh-CN" sz="6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春秋笔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2060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晋灵公不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75200" y="3933720"/>
            <a:ext cx="14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《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左传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20060403230943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484280"/>
            <a:ext cx="4897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标题 3" descr=""/>
          <p:cNvPicPr/>
          <p:nvPr/>
        </p:nvPicPr>
        <p:blipFill>
          <a:blip r:embed="rId2"/>
          <a:stretch/>
        </p:blipFill>
        <p:spPr>
          <a:xfrm>
            <a:off x="438120" y="152280"/>
            <a:ext cx="3719520" cy="1176480"/>
          </a:xfrm>
          <a:prstGeom prst="rect">
            <a:avLst/>
          </a:prstGeom>
          <a:ln w="0">
            <a:noFill/>
          </a:ln>
        </p:spPr>
      </p:pic>
      <p:sp>
        <p:nvSpPr>
          <p:cNvPr id="65" name="内容占位符 2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合注解注音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声朗读课文，注意节奏、停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合课文注解和补充注释，口头翻译全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095640" y="476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晋灵公不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95280" y="1844640"/>
            <a:ext cx="844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本文选自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左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宣公二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，题目是编者后加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晋灵公，从其谥号“灵”可见，他不是一个好国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不君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不行君道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君：名词用作动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100160" y="138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字词读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11600" y="1125360"/>
            <a:ext cx="7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鉏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169960" y="105264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197080" y="112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197080" y="17002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195640" y="220500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195640" y="270828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269440" y="328464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256840" y="3789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ǔ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256840" y="43657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269440" y="501336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  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228720" y="1052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156360" y="162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300720" y="213372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6218280" y="2637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302160" y="3213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6430680" y="3716280"/>
            <a:ext cx="3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6301800" y="43657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6372360" y="49417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50920" y="1052640"/>
            <a:ext cx="856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晋灵公：晋国国君，名夷皋，文公之孙，襄公之子。不君：不行君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厚敛：加重征收赋税。雕墙：装饰墙壁。这里指修筑豪华宫室，过着奢侈的生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过而能改：犯过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初：开端 。终：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374120" y="189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仿宋_GB2312"/>
              </a:rPr>
              <a:t>第一段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68360" y="126828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晋灵公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不行君道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（他）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大量征收赋税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用来雕饰墙壁（满足奢侈的生活）；（他）从高台上用弹弓弹射行人，来观看他们躲避弹丸（的样子）；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厨师没有把熊掌炖烂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（他）就把厨师杀了，（把尸体）放在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筐里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让宫女们拿着经过朝堂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240200" y="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6600ff"/>
                </a:solidFill>
                <a:latin typeface="Arial"/>
                <a:ea typeface="黑体"/>
              </a:rPr>
              <a:t>译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79280" y="78732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臣赵盾和士季看见露出的死人手，便询问厨师被杀的原因，并为晋灵公的无道而忧虑。赵盾准备进谏，士季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果您的谏言没有被采纳，那就没有人能接着进谏了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先去规劝，他不接受，您就接着去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季去见晋灵公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往前走了三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到了屋檐下，晋灵公才抬头看他，并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已经知道自己的过错了，打算改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季叩头回答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哪个人能不犯错误呢，犯了错误能够改正，没有比这更大的好事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没有谁没有个好的开始，但很少有人有个好结局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这样，那么弥补过失的人就太少了。您如能有始有终，那么国家就稳固了，哪里仅仅是臣子们有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依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烝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说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天子有了过失，只有仲山甫来弥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说周宣王能补救过失。国君能够弥补过失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君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不会失去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818360" y="5493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作者开篇写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件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50920" y="2276640"/>
            <a:ext cx="90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件事：“厚敛以雕墙”。这表现了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贪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72680" y="3429000"/>
            <a:ext cx="403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件事：“从台上弹人，而观其辟丸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表现了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荒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091240" y="501336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件事：“宰夫胹熊蹯不熟，杀之，置诸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使妇人载以过朝。”这又表现出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残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187280" y="62064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i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者写了大臣们对 晋灵公的劝谏。在这里，作者运用了</a:t>
            </a:r>
            <a:r>
              <a:rPr b="0" i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繁简对比</a:t>
            </a:r>
            <a:r>
              <a:rPr b="0" i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手法。用繁笔写的是士季进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 flipV="1" rot="10800000">
            <a:off x="0" y="1557000"/>
            <a:ext cx="877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辟：开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将朝：准备上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7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主：主宰，靠山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9240" y="26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第二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90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是晋灵公仍旧没有改正。赵盾又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劝谏，晋灵公感到厌恶，便派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鉏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去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刺杀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赵盾。鉏麑一大早就去了赵盾的家，只见卧室的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开着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赵盾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穿戴好礼服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准备上朝，时间还早，他和衣坐着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打盹儿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鉏麑退了出来，感叹地说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种时候还不忘记恭敬国君，真是百姓的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靠山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啊。杀害百姓的靠山，这是不忠；背弃国君的命令，这是失信。这两条当中占了一条，还不如去死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，鉏麑一头撞在槐树上死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0"/>
            <a:ext cx="21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译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674000" y="4046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史学的发展历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4292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155736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中国古代修史的传统非常悠久。中国现存最早的历史著作是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《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尚书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》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和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《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春秋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》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尚书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是历史文献集，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春秋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是编年体史书。这两部书后来成为儒家经典，列入经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755800" y="1197000"/>
            <a:ext cx="404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伏：埋伏。甲：披甲的士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右：车右。 提弥明：晋国勇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赵盾的车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爵：三巡。  爵：古时的酒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6948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第三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90792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九月，晋灵公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盾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喝酒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事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准备杀掉赵盾。赵盾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弥明发现了这个阴谋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步走上殿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臣下侍奉君王宴饮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酒过三巡还不告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不合礼仪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他扶起赵盾走下殿堂。晋灵公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猛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咬赵盾。提弥明徒手上前搏斗，打死了猛犬。赵盾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人而用狗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即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凶猛，又有什么用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两人与埋伏的武士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边打边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结果，提弥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盾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战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99072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468360" y="2349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之：给他东西吃。舍其半：留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遗：送给。请以（之）遗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而：后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5904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第四段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4302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初，赵盾到首阳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住在翳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看见有个叫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人饿倒了，便去问他的病情。灵辄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已经三天没吃东西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他东西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留下了一半。赵盾问为什么，灵辄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别人当奴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年了，不知道家中老母是否活着。现在离家近了，请让我把（留下的食物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盾让他把食物吃完，另外给他准备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篮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肉，放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给他。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后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晋灵公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（他在搏杀中）把武器倒过来抵挡晋灵公手下的人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使赵盾免于祸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赵盾问他为什么这样做，他回答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就是在翳桑的饿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盾再问他的姓名和住处，他没有回答就退走了。赵盾自己也逃走了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9976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译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297000" y="1413000"/>
            <a:ext cx="8847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5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赵穿：晋国大夫，赵盾的堂兄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6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攻：杀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大史：太史，掌纪国家大事的史官。     这里指晋国史官董狐。书：写，记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8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竟：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反：同“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9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恶：指弑君的恶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32120" y="260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第五段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4302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月二十六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赵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桃园杀掉了晋灵公。赵盾还没有走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国境的山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听到灵公被杀便返回来了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晋国太史董狐记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：“赵盾杀了他的国君。”他还把（这个说法）拿到朝廷上公布。赵盾说： “不是这样。”董狐说：“您身为正卿，逃亡而不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回来后又不讨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叛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是您杀了国君又是谁呢？”赵盾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啊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 说：‘我心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怀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祖国，反而给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留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伤。’这话大概说的是我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孔子说：“董狐是古代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好史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事的原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书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隐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赵盾是古代的好大夫，因为史官的记事原则而蒙受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弑君的恶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可惜啊，如果他出了国境，就会避免弑君之名了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译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250920" y="260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讨论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865600" y="2205000"/>
            <a:ext cx="106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析人物形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梳理故事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900000" y="3500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提弥明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勇猛善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机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95280" y="33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物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00000" y="443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灵辄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知恩图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是非分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勇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90000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士季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忠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尽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讲究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00000" y="2565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鉏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忠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守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明是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68360" y="1125360"/>
            <a:ext cx="770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晋灵公不君之典型事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士季进谏，灵公不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赵盾多次进谏，灵公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鉏麑行刺，鉏麑自愧触槐而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灵公设宴诱杀赵盾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提弥明为赵盾而战死。最终，灵辄救了赵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赵穿杀死灵公，赵盾听说后返国。 董狐、孔子解释“赵盾弑其君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50920" y="18900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情节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背景图片\背景图片11\图片6.jpg"/>
          <p:cNvPicPr/>
          <p:nvPr/>
        </p:nvPicPr>
        <p:blipFill>
          <a:blip r:embed="rId1"/>
          <a:stretch/>
        </p:blipFill>
        <p:spPr>
          <a:xfrm>
            <a:off x="-11160" y="-111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3564000" y="17002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方正启体简体"/>
              </a:rPr>
              <a:t>晋灵公不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932360" y="342900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方正启体简体"/>
              </a:rPr>
              <a:t>《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启体简体"/>
              </a:rPr>
              <a:t>左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方正启体简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背景02"/>
          <p:cNvPicPr/>
          <p:nvPr/>
        </p:nvPicPr>
        <p:blipFill>
          <a:blip r:embed="rId2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背景02"/>
          <p:cNvPicPr/>
          <p:nvPr/>
        </p:nvPicPr>
        <p:blipFill>
          <a:blip r:embed="rId3"/>
          <a:stretch/>
        </p:blipFill>
        <p:spPr>
          <a:xfrm>
            <a:off x="0" y="6475320"/>
            <a:ext cx="9144000" cy="382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6445440" y="558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三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549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的史学在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春秋战国时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历了第一个高峰，出现了许多优秀历史著作，但这些史书大多在后来的流传过程中散佚了。流传至今的有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语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左传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战国策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32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两汉时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国史学继续发展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史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汉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这个时期最重要的两部史书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创立了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纪传体史书体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汉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则是我国第一部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纪传体断代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这两部书成为后代正史的典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基础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620640"/>
            <a:ext cx="46432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解释下列划线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晋灵公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寝门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子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鉏麑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赵盾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子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首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翳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书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635280" y="112536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名词作动词，行君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3528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635280" y="220500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兼词，相当于“之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635280" y="263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多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708360" y="3141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刺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708360" y="371628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给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708360" y="422100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打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708360" y="4653000"/>
            <a:ext cx="47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名词作动词，住宿    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s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780000" y="515772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给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吃   读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780000" y="5734080"/>
            <a:ext cx="52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使动用法，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免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780000" y="633888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记事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翻译下列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、 谏而不入，则莫之继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如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您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谏言没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被采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 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没有人能接着您进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、人谁无过，过而能改，善莫大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谁没有过错呢，犯了错能够改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没有比这更大的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事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           </a:t>
            </a:r>
            <a:r>
              <a:rPr b="1" lang="en-US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诗</a:t>
            </a:r>
            <a:r>
              <a:rPr b="1" lang="en-US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曰：</a:t>
            </a:r>
            <a:r>
              <a:rPr b="1" lang="zh-CN" sz="3600" spc="-1" strike="noStrike">
                <a:solidFill>
                  <a:srgbClr val="7e1e00"/>
                </a:solidFill>
                <a:latin typeface="仿宋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我之怀矣，自诒伊戚。</a:t>
            </a:r>
            <a:r>
              <a:rPr b="1" lang="zh-CN" sz="3600" spc="-1" strike="noStrike">
                <a:solidFill>
                  <a:srgbClr val="7e1e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7e1e00"/>
                </a:solidFill>
                <a:latin typeface="楷体_GB2312"/>
                <a:ea typeface="楷体_GB2312"/>
              </a:rPr>
              <a:t>其我之谓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 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心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怀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，反而给自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留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忧伤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大概说的是我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979280" y="2133360"/>
            <a:ext cx="3529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厚敛雕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弹人观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虐杀宰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进谏不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患谏贼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伏甲嗾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93040" y="2421000"/>
            <a:ext cx="13993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晋灵公不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763640" y="2421000"/>
            <a:ext cx="142920" cy="352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91800 h 3527280"/>
              <a:gd name="textAreaBottom" fmla="*/ 3435480 h 35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284720" y="393372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580000" y="285264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贪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荒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残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昏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96480" y="2602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二、合作讨论，掌握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24000" y="1052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晋灵公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君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表现在哪些事件上呢？由此可以看出晋灵公是一个怎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9"/>
          <p:cNvSpPr/>
          <p:nvPr/>
        </p:nvSpPr>
        <p:spPr>
          <a:xfrm>
            <a:off x="468360" y="1125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为什么孔子评价赵盾是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古之良大夫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（合作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95280" y="2924280"/>
            <a:ext cx="1944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骤谏灵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盛服候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救济饿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"/>
                <a:ea typeface="楷体"/>
              </a:rPr>
              <a:t>尊重史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419640" y="2924280"/>
            <a:ext cx="432108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直言敢谏，忠君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守职敬业，宵衣旰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关爱百姓，体贴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恪尽臣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340000" y="3645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0" y="1268280"/>
            <a:ext cx="914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赵穿杀死了晋灵公。董狐为什么要记录成“赵盾弑其君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新宋体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2e18b4"/>
                </a:solidFill>
                <a:latin typeface="新宋体"/>
                <a:ea typeface="新宋体"/>
              </a:rPr>
              <a:t>子为正卿，亡不越竟，反不讨贼，非子而谁</a:t>
            </a:r>
            <a:r>
              <a:rPr b="1" lang="zh-CN" sz="3200" spc="-1" strike="noStrike">
                <a:solidFill>
                  <a:srgbClr val="000066"/>
                </a:solidFill>
                <a:latin typeface="新宋体"/>
                <a:ea typeface="新宋体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董狐的记录显然与事实不符，孔子为什么赞成董狐的做法并称其为“古之良史”呢？你赞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结合注释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P28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春秋笔法”思考讨论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91284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三、深入探究，疑难点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春秋笔法</a:t>
            </a:r>
            <a:br>
              <a:rPr sz="40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我国古代的一种历史叙述方式和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合乎礼法作为标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隐晦事实真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当时的伦理道德出发，以定名分、明等级作为评判人物和事件的标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褒贬劝惩，各有义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晋灵公不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还有哪些地方体现了“春秋笔法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836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君，臣臣，父父，子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君者说话做事要符合君道，为臣者要符合臣道，为父者要符合父道，为子者要符合子道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627280" y="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四、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24000" y="2421000"/>
            <a:ext cx="8426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2e18b4"/>
                </a:solidFill>
                <a:latin typeface="楷体"/>
                <a:ea typeface="楷体"/>
              </a:rPr>
              <a:t>思考讨论：本文是如何体现儒家“君君，臣臣，父父，子子”的人伦道德观念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晋灵公不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士季、赵盾直言进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灵辄孝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董狐从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礼法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的角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认为是赵盾弑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24000" y="1268280"/>
            <a:ext cx="85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本文写晋灵公搜刮民财，残酷暴虐，最终被臣下杀死的故事，赞扬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赵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敢于直谏、忠于国事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董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不畏权贵、秉笔直书的精神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时把儒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君君，臣臣，父父，子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道理做了形象化的说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394440" y="26028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五、总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476360" y="33336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六、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962000" y="1773360"/>
            <a:ext cx="457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考一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言文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郑伯克段于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并思考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体现“春秋笔法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692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魏晋南北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是中国史学的第二个高峰。这个时期史学逐渐成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一门独立的学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并出现了许多新的史书体裁，史书的地位也逐渐提高到仅次于经的一大部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4000" y="357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隋唐五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在中国史学发展史上承上启下的作用，这个时期诞生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我国第一部史学理论著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史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（刘知几）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对唐以前的史学和史书发展做了系统的总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258920" y="404640"/>
            <a:ext cx="76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两宋时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史学的第三个高峰，无论是史籍的种类、数量和质量都超过了前代，且为元明所不及。这个时期最重要的历史著作是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司马光主编的编年体通史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资治通鉴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403280" y="342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元明时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史学没有大的发展，值得一提的史书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马端临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文献通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332000" y="530064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史学在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清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获得了较大的发展。清代史学的主要成就是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史考和史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83664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i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随着史学的发展，史书的体裁也逐渐丰富起来。其中影响最为深远的是</a:t>
            </a:r>
            <a:r>
              <a:rPr b="0" i="1" lang="zh-CN" sz="5400" spc="-1" strike="noStrike">
                <a:solidFill>
                  <a:srgbClr val="cc3300"/>
                </a:solidFill>
                <a:latin typeface="Arial"/>
                <a:ea typeface="黑体"/>
              </a:rPr>
              <a:t>编年体、纪传体和纪事本末体</a:t>
            </a:r>
            <a:r>
              <a:rPr b="0" i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4005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纪事本末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是以事件为中心的著史体裁。纪事本末体裁，每事一题，为一专篇，把分散的材料，按时间先后加以集中叙述，兼有编年体和纪传体的优点，详於记事，方便阅读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编年体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年代为线索编排有关历史事件。编年体史书以时间为中心，按年、月、日顺序记述史事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0920" y="213372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纪传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东亚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史书的一种形式，是以本纪、列传人物为纲、时间为纬、反映历史事件的一种史书编纂体例。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334160" y="26028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左传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介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1557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左氏春秋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简称，又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左氏春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是我国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第一部叙事完备的编年体史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378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内容十分丰富，举凡天文、地理、氏族、制度、人物、军事、外交、经济、礼俗以及鬼神、灾祥、卜筮之事无不记载，史料价值非常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30200" y="836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不仅是一部优秀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仿宋_GB2312"/>
              </a:rPr>
              <a:t>史学著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同时也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仿宋_GB2312"/>
              </a:rPr>
              <a:t>叙事文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的代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5280" y="270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善于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简练精当的语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来刻画人物和记述事件，叙事富于故事性、戏剧性，细节描写尤为出色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长于描写战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且极富变化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善于记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无论是大臣的谏说还是外交辞令都描摹精当，非常符合人物的身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02:30:46Z</dcterms:created>
  <dc:creator>西门大哥</dc:creator>
  <dc:description/>
  <dc:language>en-US</dc:language>
  <cp:lastModifiedBy>wwj</cp:lastModifiedBy>
  <dcterms:modified xsi:type="dcterms:W3CDTF">2014-04-15T08:24:36Z</dcterms:modified>
  <cp:revision>67</cp:revision>
  <dc:subject/>
  <dc:title>幻灯片 1</dc:title>
</cp:coreProperties>
</file>