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8.xml"/><Relationship Id="rId3" Type="http://schemas.openxmlformats.org/officeDocument/2006/relationships/slide" Target="slide31.xml"/><Relationship Id="rId4" Type="http://schemas.openxmlformats.org/officeDocument/2006/relationships/slide" Target="slide42.xml"/><Relationship Id="rId5" Type="http://schemas.openxmlformats.org/officeDocument/2006/relationships/slide" Target="slide3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8.xml"/><Relationship Id="rId3" Type="http://schemas.openxmlformats.org/officeDocument/2006/relationships/slide" Target="slide21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6.xm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slide8.xml"/><Relationship Id="rId3" Type="http://schemas.openxmlformats.org/officeDocument/2006/relationships/slide" Target="slide21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6.xml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slide8.xml"/><Relationship Id="rId3" Type="http://schemas.openxmlformats.org/officeDocument/2006/relationships/slide" Target="slide21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6.xml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rId2" action="ppaction://hlinksldjump"/>
          </p:cNvPr>
          <p:cNvSpPr/>
          <p:nvPr/>
        </p:nvSpPr>
        <p:spPr>
          <a:xfrm>
            <a:off x="385128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宋体"/>
              </a:rPr>
              <a:t>自主学习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>
            <a:hlinkClick r:id="rId3" action="ppaction://hlinksldjump"/>
          </p:cNvPr>
          <p:cNvSpPr/>
          <p:nvPr/>
        </p:nvSpPr>
        <p:spPr>
          <a:xfrm>
            <a:off x="495144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宋体"/>
              </a:rPr>
              <a:t>合作探究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>
            <a:hlinkClick r:id="rId4" action="ppaction://hlinksldjump"/>
          </p:cNvPr>
          <p:cNvSpPr/>
          <p:nvPr/>
        </p:nvSpPr>
        <p:spPr>
          <a:xfrm>
            <a:off x="708984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活页规范训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rId5" action="ppaction://hlinksldjump"/>
          </p:cNvPr>
          <p:cNvSpPr/>
          <p:nvPr/>
        </p:nvSpPr>
        <p:spPr>
          <a:xfrm>
            <a:off x="6010200" y="6524640"/>
            <a:ext cx="9622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审美写作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>
            <a:hlinkClick r:id="rId6" action="ppaction://hlinksldjump"/>
          </p:cNvPr>
          <p:cNvSpPr/>
          <p:nvPr/>
        </p:nvSpPr>
        <p:spPr>
          <a:xfrm>
            <a:off x="2817720" y="6524640"/>
            <a:ext cx="9622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温馨晨读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385128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宋体"/>
              </a:rPr>
              <a:t>自主学习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144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宋体"/>
              </a:rPr>
              <a:t>合作探究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708984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活页规范训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6010200" y="6524640"/>
            <a:ext cx="9622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审美写作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2817720" y="6524640"/>
            <a:ext cx="9622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温馨晨读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385128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宋体"/>
              </a:rPr>
              <a:t>自主学习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495144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宋体"/>
              </a:rPr>
              <a:t>合作探究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708984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活页规范训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6010200" y="6524640"/>
            <a:ext cx="9622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审美写作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2817720" y="6524640"/>
            <a:ext cx="9622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温馨晨读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385128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宋体"/>
              </a:rPr>
              <a:t>自主学习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495144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宋体"/>
              </a:rPr>
              <a:t>合作探究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708984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活页规范训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5" action="ppaction://hlinksldjump"/>
          </p:cNvPr>
          <p:cNvSpPr/>
          <p:nvPr/>
        </p:nvSpPr>
        <p:spPr>
          <a:xfrm>
            <a:off x="6010200" y="6524640"/>
            <a:ext cx="9622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审美写作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2817720" y="6524640"/>
            <a:ext cx="9622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温馨晨读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5128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宋体"/>
              </a:rPr>
              <a:t>自主学习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5144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宋体"/>
              </a:rPr>
              <a:t>合作探究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8984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活页规范训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10200" y="6524640"/>
            <a:ext cx="9622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审美写作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17720" y="6524640"/>
            <a:ext cx="9622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温馨晨读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128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宋体"/>
              </a:rPr>
              <a:t>自主学习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5144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宋体"/>
              </a:rPr>
              <a:t>合作探究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8984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活页规范训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0200" y="6524640"/>
            <a:ext cx="9622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审美写作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17720" y="6524640"/>
            <a:ext cx="9622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温馨晨读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5128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宋体"/>
              </a:rPr>
              <a:t>自主学习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5144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  <a:ea typeface="宋体"/>
              </a:rPr>
              <a:t>合作探究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89840" y="6523200"/>
            <a:ext cx="9619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活页规范训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10200" y="6524640"/>
            <a:ext cx="9622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审美写作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7720" y="6524640"/>
            <a:ext cx="9622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温馨晨读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4920" y="15840"/>
            <a:ext cx="9075600" cy="1684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700360" y="2517840"/>
            <a:ext cx="3672000" cy="839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7240" y="4221000"/>
            <a:ext cx="9051840" cy="64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24000" y="1268280"/>
            <a:ext cx="8353440" cy="16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左传》虽是史学著作，但从广义上看，也可以说是中国第一部大规模的叙事性文学作品。较以前任何一本著作，它的叙事能力都表现出惊人的发展。许多头绪纷杂、变化多端的历史大事件，都能处理得有条不紊、繁而不乱。其中关于战争的描写尤其出色。另外还善于刻画人物，重视记录辞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38200" y="871560"/>
            <a:ext cx="82818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左传》的思想倾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左传》有鲜明的政治与道德倾向。其观念较接近于儒家，强调等级秩序与宗法伦理，重视长幼尊卑之别，同时也表现出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民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思想。可以看出这是春秋战国时代一种重要的思想进步。作者要求担负领导国家责任的统治者不可逞一己之私欲，而要从整个统治集团和他们所拥有的国家的长远利益考虑问题，这些都反映出儒家的政治理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14520" y="620640"/>
            <a:ext cx="827856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预习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通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而观其辟丸也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三进及溜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寘诸畚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衮职有阙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宣子田于首山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08720" y="48434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畋　         打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78560" y="20350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避　             躲避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48360" y="27558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罶       　 这里指屋檐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80000" y="3429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置　              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53080" y="4149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缺　            过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68360" y="652320"/>
            <a:ext cx="8424720" cy="51069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5080" y="5203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严格限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21440" y="117144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穿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32720" y="16765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名词，犯错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20000" y="21798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名词，过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2144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超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21440" y="31878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看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308720" y="36925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副词，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20000" y="4221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克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091280" y="4724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战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569440" cy="4597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7093080" y="5013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副词，立刻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29440" y="836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形容词，非正式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93080" y="13874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连词，如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18921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借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93080" y="23954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宽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164360" y="29005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名词，假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93080" y="3429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登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64360" y="39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登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451640" y="4484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95280" y="685800"/>
            <a:ext cx="8464680" cy="50734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948360" y="5229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避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91280" y="6681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住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21440" y="1171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留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21440" y="1676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放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20000" y="2205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丢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20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放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75240" y="3187800"/>
            <a:ext cx="25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筑舍定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62520" y="3716280"/>
            <a:ext cx="40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的使动用法，使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20000" y="4221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避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20000" y="4724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，免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39640" y="608040"/>
            <a:ext cx="777744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词类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晋灵公不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问其故，而患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使麑贼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提弥明死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倒戟以御公徒，而免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舍于翳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00360" y="48560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名词用作动词，住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773440" y="137484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名词活用为动词，行君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20937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名词活用为动词，担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84360" y="27669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名词活用为动词，刺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00360" y="34624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的为动用法，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而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40360" y="41353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动词的使动用法，使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免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484360" y="1811160"/>
            <a:ext cx="114480" cy="1051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2771640" y="2482920"/>
            <a:ext cx="114480" cy="1047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835280" y="3187800"/>
            <a:ext cx="114120" cy="1047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2165400" y="3882960"/>
            <a:ext cx="114120" cy="1047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3695760" y="4621320"/>
            <a:ext cx="114120" cy="1047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228680" y="5326200"/>
            <a:ext cx="114480" cy="10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09480" y="608040"/>
            <a:ext cx="799488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、古今异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书法不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古义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今义：文字的书写艺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古之良大夫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古义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今义：医生的别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20720" y="4124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古代官职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63640" y="2060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记事的原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方法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66560" y="260280"/>
            <a:ext cx="8066160" cy="62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五、文言句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谏而不入，则莫之继也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晨往，寝门辟矣，盛服将朝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尚早，坐而假寐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不忘恭敬，民之主也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有一于此，不如死也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乙丑，赵穿攻灵公于桃园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亡不越竟，反不讨贼，非子而谁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我之谓矣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05440" y="5877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宾语前置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04000" y="10270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宾语前置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91280" y="1700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省略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91280" y="2421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省略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93080" y="31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判断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29440" y="38354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介词结构后置句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83280" y="4508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介词结构后置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93080" y="5203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疑问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12720" y="725400"/>
            <a:ext cx="777564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六、名句默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人谁无过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靡不有初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庆父不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外举不弃仇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居安思危，思则有备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356000" y="42530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有备无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76720" y="151776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过而能改　                   善莫大焉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87640" y="21654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鲜克有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32000" y="28843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鲁难未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76720" y="35798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内举不失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22200" y="476280"/>
            <a:ext cx="849780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哲思短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坚守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我是一个中心点，一个人有了坚实的自我，他在这个世界上便有了精神的坐标，无论走多远都能够找到回家的路。换一个比方，我们不妨说，一个有着坚实自我的人便仿佛有了一个精神的密友，他无论走到哪里都带着这个密友，这个密友将忠实地分享他的一切遭遇，倾听他的一切心语。如果一个人有自己的心灵追求，又在世界上闯荡了一番，有了相当的人生阅历，那么，他就会逐渐认识到自己在这个世界上的位置。世界无限广阔，诱惑永无止境，然而，属于每一个人的现实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407440" cy="583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22200" y="189000"/>
            <a:ext cx="8642520" cy="3354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352440" y="3645000"/>
            <a:ext cx="8612280" cy="276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95280" y="271440"/>
            <a:ext cx="8497800" cy="596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24000" y="388800"/>
            <a:ext cx="8496000" cy="556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65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41360" y="233280"/>
            <a:ext cx="8594640" cy="6148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24000" y="376200"/>
            <a:ext cx="8496000" cy="564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250920" y="442800"/>
            <a:ext cx="8569080" cy="5578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65240" y="368280"/>
            <a:ext cx="8727840" cy="558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50920" y="471600"/>
            <a:ext cx="8713800" cy="569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50920" y="558720"/>
            <a:ext cx="856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88560"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终究是有限的。你不妨对一切可能性保持着开放的心态，因为那是人生魅力的源泉，但同时你也要早一些在世界之海上抛下自己的锚，找到最适合自己的领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214720"/>
            <a:ext cx="820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人不论伟大还是平凡，只要他顺应自己的天性，找到了自己真正喜欢做的事，并且一心把自己喜欢做的事做得尽善尽美，他在这世界上就有了牢不可破的家园。于是，他不但会有足够的勇气去承受外界的压力，而且会有足够的清醒来面对形形色色的诱惑。我们当然没有理由怀疑，这样的一个人必能获得生活的充实和心灵的宁静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497800" cy="3031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4920" y="50760"/>
            <a:ext cx="9051840" cy="6415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22200" y="1830240"/>
            <a:ext cx="835344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旨归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本文从多个角度，以鲜活生动的材料集中突出了晋灵公的残暴和应得的下场，通过正反两方面的三个典型事例，对儒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君君，臣臣，父父，子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道理作了形象化的说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411280" y="33336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重点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68360" y="1444680"/>
            <a:ext cx="1266840" cy="3999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24000" y="1268280"/>
            <a:ext cx="84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晋灵公不君》一文是从哪几个方面集中写晋灵公的残暴和应得的下场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5280" y="2637000"/>
            <a:ext cx="842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提示　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本文从多个角度、以鲜活生动的材料集中突现了晋灵公的残暴和应得的下场：第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段以典型的事例写晋灵公的苛政、奢侈及虚言接受士季的劝谏。第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段写晋灵公不但不改正错误，反而对劝谏他的赵盾连续下毒手。第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段写了晋灵公被赵穿所杀，赵盾身背弑君之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1266840" cy="399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693800" y="476280"/>
            <a:ext cx="69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儒家的观点来看，应该如何认识赵盾这个人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5280" y="1335240"/>
            <a:ext cx="8353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提示　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从赵盾的种种表现可以看出，赵盾确乎是按照儒家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臣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道而行的一个良臣。赵盾作为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古之良大夫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，对待自己的职责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盛服将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坐而假寐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不忘恭敬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。看到晋灵公随意杀人，非常忧心。多次劝谏晋灵公，希望晋灵公有所悔改，成为一个好的君主，体贴下情。看到灵辄饿病了，就给他吃的；听说他要省下食物给家人，就给他家人也准备了一份丰盛的食品。虽然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为法受恶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，但充分尊重史官的记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496800" y="369720"/>
            <a:ext cx="1266840" cy="400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95280" y="115920"/>
            <a:ext cx="8353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法受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什么？如何理解赵盾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法受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1397160"/>
            <a:ext cx="8424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提示　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为法受恶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仿宋_GB2312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法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即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书法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，也就是记事的原则。晋国太史董狐的记事原则是不隐晦事实真相，评价事实的标准是当时被普遍认可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礼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，在董狐看来，赵盾作为晋国正卿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亡不越竟，反不讨贼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，应对晋灵公之死承担责任，所以记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赵盾弑其君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是合乎礼法的。甚至在孔子看来，赵盾是国之良臣，对他寄予同情，却又认为他背负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弑君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的罪名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为法受恶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，并不算冤枉。但是，在今天的我们来看，这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为法受恶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模糊了事实真相，给后世造成了不必要的误解。假如没有《左传》为《春秋》所做的解释，那么我们所能见到的历史就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晋赵盾弑其君夷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。这显然不是历史的真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93840" y="260280"/>
            <a:ext cx="8281800" cy="12225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96720" y="1557360"/>
            <a:ext cx="8496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提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　这是史书中一种常见的写法，可以叫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悬揣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，就是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想当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的意思。钱钟书先生曾经说过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史家追叙真人真事，每须遥体人情，悬想时势，设身局中，潜心腔内，忖之度之，以揣以摩，庶几入情合理，盖与小说、院本之臆造人物、虚构境地，不尽同而可相通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”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遥体人情，悬想时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，换句话说，就是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想当然耳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，这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想当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并不是凭空虚构，而是作者根据当时的情境、事情的结果和人物的性格进行的一种合理想象。 这种情况在《左传》中还有很多。因为它符合人物的性格，可以合理解释结果，所以读者非但不觉得失实，反而有一种历史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带入感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，感到可信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7240" y="50760"/>
            <a:ext cx="9051840" cy="6415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24000" y="1052640"/>
            <a:ext cx="842472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文本审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左传》不满足于《春秋》对历史史事作简单陈述的笔法，创造了在生动记叙史事的基础上显示各种人物形象、心态，表达作者观点立场的方法。《晋灵公不君》一文，繁简得宜，剪裁材料的手法最令人称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全文只有几百字，给人的印象却非常深刻。作者在表现晋灵公残暴贪婪荒唐的行为时，只挑选了三件最有代表性的事情，就让读者充分感到，晋灵公实在不配当君主，他的被杀完全是情理之中的事。此为简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24000" y="333360"/>
            <a:ext cx="842472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情理之中的事。此为简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写大臣们对晋灵公的劝谏时，作者运用了繁简对比的手法。用繁笔写的是士季。士季如何去见灵公，灵公如何假装没看见，士季向前走了三次，最后来到滴水檐下了，灵公才不得不抬眼看士季。其中描写士季的言行，揣摩灵公的心理，作者写得很详细，也很有趣。这是繁笔。用简笔写的是赵盾。作者只写了一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宣子骤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至于赵盾是如何进谏的，进谏了多少次，灵公每次怎样对付的，作者全都省略了，一切都留给读者去想象。赵盾是文中的主要人物，按理说，应当大书特书一番，但作者却以简笔入题，把大块的笔墨放到后面。繁则极繁，简则极简，让人佩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22200" y="268200"/>
            <a:ext cx="84978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赵盾多次劝谏，晋灵公不仅不收敛，反而把赵盾视为仇敌，必欲除之而后快。于是，在接下来的两个场景中，三个武士依次出场。麑的形象非常光彩，伏义而死，不助纣为虐；提弥明勇猛善战，讲究策略；灵辄知恩图报，是非分明。作者对每个人都只写了一两个片段，却让人过目不忘，就是因为作者抓住了最能表现人物性格的细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晋灵公不君》是《左传》中的著名篇章，剪裁得当，叙事流畅，人物形象饱满，性格鲜明。文章的最后，借孔子的话进行了评论，一切以礼法为标准，又揆之以人情，体现了《左传》尊礼重民的思想。这种叙事在前、议论收尾的写法对中国后世史书产生了深远的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95280" y="689040"/>
            <a:ext cx="8424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写作迁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中国史学有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秉笔直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春秋笔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两大传统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秉笔直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即直笔，遵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书法不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据事直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写史原则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春秋笔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源自孔子修《春秋》，每用一字，必寓褒贬，后因此称曲折而意含褒贬的文字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春秋笔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你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秉笔直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春秋笔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怎样认识的？请写一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字左右的文字表达你的观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95280" y="836640"/>
            <a:ext cx="820908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修身名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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爱子，教之以义方，弗纳于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左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隐公三年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" y="2732040"/>
            <a:ext cx="842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赏读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：喜欢子女，应该用道义去教导他，不要让他走上邪路。这是春秋时期卫国大夫石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碏劝谏卫庄公的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，卫庄公不听劝谏，他的宠子公子州吁终于招致杀身之祸。溺爱，会使子女走上邪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044720" y="171288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22200" y="476280"/>
            <a:ext cx="849780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角度】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秉笔直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能著万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春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孔子高度评价董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书法不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司马迁著《史记》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虚美，不隐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被人称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受到了崇高的赞誉。我觉得，凡历史必得澄澈如镜，不能遮掩，方能还历史以真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左传》记载了这样一件事：齐国大夫崔杼杀其国君齐庄公后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太史书曰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崔杼弑其君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崔子杀之。其弟嗣书，而死者二人。其弟又书，乃舍之。南史氏闻太史尽死，执简已往，闻既书矣，乃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左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襄公二十五年》，齐太史兄弟三人先后被杀，四弟继续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终于成功。古代如此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66560" y="765000"/>
            <a:ext cx="835344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近代亦然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在北京创办《京报》的邵飘萍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八惨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生后，由于坚持披露事实真相，支持民众反帝反军阀斗争，被奉系军阀杀害。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，不少记者不愿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人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流合污，敢于说真话，说实话。他们虽然遭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人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种种迫害，却表现了一个正直的新闻工作者的尊严，人民是会永远铭记他们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有秉笔直书，才会真正著成千古流传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51840" cy="6415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000080" y="2421000"/>
            <a:ext cx="2376360" cy="178272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2"/>
          <p:cNvSpPr/>
          <p:nvPr/>
        </p:nvSpPr>
        <p:spPr>
          <a:xfrm>
            <a:off x="3254400" y="3068640"/>
            <a:ext cx="354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Word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版活页训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620720" y="18921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吹毛而求小疵。                ——《韩非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体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245916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赏读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：不要去挑剔别人的小毛病。金无足赤，人无完人，喜欢挑剔别人的小毛病就是自己的大缺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5080" y="1989000"/>
            <a:ext cx="287280" cy="28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476360" y="16765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以规矩，不能成方圆。           ——《孟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离娄上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2163600"/>
            <a:ext cx="856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赏读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：不用圆规和曲尺，就不能画出矩形和圆形来。我们的生活，办事情，都必须遵循一定的规章制度，否则，各行其是，准会乱了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403280" y="1676520"/>
            <a:ext cx="77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仓廪实而知礼节，衣食足而知荣辱。——《管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牧民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3840" y="2421000"/>
            <a:ext cx="8281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赏读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：粮仓充实，百姓才懂得礼节制度；衣食丰足，百姓才知道荣誉耻辱。物质文明是精神文明的基础。治理国家的人，首先要考虑老百姓的生活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116000" y="174312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51840" cy="6415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66560" y="981000"/>
            <a:ext cx="82821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知识卡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作家作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丘明，春秋末期鲁国人。双目失明，曾任鲁太史。其知识渊博，品德高尚，孔子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同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曾与孔子一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乘如周，观书于周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相传他据鲁国以及其他封侯各国的大量史料，依《春秋》著成了中国古代第一部记事详细、议论精辟的编年史《左传》，又传著有现存最早的一部国别史《国语》，成为史家的开山鼻祖。他不仅是一个杰出的历史学家，同时也是一个天才的文学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95280" y="452520"/>
            <a:ext cx="820908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文体常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左传》的编纂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左传》的体例是编年纪事体，内容大部分是传著史事，叙述《春秋》经文重要史事的过程。起于鲁隐公元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终于鲁哀公二十七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《左传》补充并丰富了《春秋》的内容，不但记鲁国一国的史实，而且还兼记各国历史；不但记政治大事，还广泛涉及社会各个领域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一改《春秋》流水账式的记史方法，代之以有系统、有组织的史书编纂方法；不但记春秋时史实，而且征引了许多古代史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09:55Z</dcterms:created>
  <dc:creator>user</dc:creator>
  <dc:description/>
  <dc:language>en-US</dc:language>
  <cp:lastModifiedBy>user</cp:lastModifiedBy>
  <dcterms:modified xsi:type="dcterms:W3CDTF">2013-03-07T12:29:13Z</dcterms:modified>
  <cp:revision>352</cp:revision>
  <dc:subject/>
  <dc:title>幻灯片 1</dc:title>
</cp:coreProperties>
</file>