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F73D-54DF-4C4F-9F84-379502AF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7AF6-82B4-4C8E-8072-825AA926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F7B7-CB1A-4E39-B84C-FD6BBEEA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9D7-72D1-4319-B994-C2713DBA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822F-2E0B-411D-9276-741E1E0F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D590-2878-471B-8E9E-A6005548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F8F0-27D4-43A6-83CD-184E34F1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7356-DA4F-42A8-8B5B-79AD5A1C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37BA-AB3F-40A3-A8F4-4223FD3B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683C-76AA-42C8-B943-FD69ECDF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3042-9C5A-4AD6-BAB2-C9F8B313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B176-404C-4E19-BA3B-A7FEBC0D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19B7-FA67-4982-9AC5-72764188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13F6-D5A8-4441-8D9D-4B83F872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C199-9790-420C-8CEB-C658160D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866A-E208-4CF9-BF32-8669D780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EA2D-EEC1-4B24-BFF4-D7749F78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65FA-FA66-426E-A372-972F1BB4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6D0C-632C-4D89-AF80-D107F409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705-6651-4C82-A3BF-854FDB98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AE35-C0D6-4BCE-8C88-6754EA34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65D-6E34-4E4A-B38A-E151A008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4C4-4AED-4087-9A71-362414B5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432B-90A8-4ADD-8F26-4D3F08FB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91137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矩形 91138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任意多边形 91139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任意多边形 91140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任意多边形 91141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任意多边形 91142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任意多边形 91143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任意多边形 91144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任意多边形 91145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任意多边形 91146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任意多边形 91147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任意多边形 91148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矩形 91149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矩形 91150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任意多边形 91151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任意多边形 91152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任意多边形 91153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任意多边形 91154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任意多边形 91155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任意多边形 91156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任意多边形 91157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任意多边形 91158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任意多边形 91159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任意多边形 91160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矩形 91161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矩形 91162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任意多边形 91163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任意多边形 91164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任意多边形 91165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任意多边形 91166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任意多边形 91167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任意多边形 91168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任意多边形 91169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任意多边形 91170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任意多边形 91171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任意多边形 91172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矩形 91173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矩形 91174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任意多边形 91175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任意多边形 91176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任意多边形 91177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任意多边形 91178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任意多边形 91179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任意多边形 91180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任意多边形 91181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任意多边形 91182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任意多边形 91183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任意多边形 91184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矩形 91185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矩形 91186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任意多边形 91187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任意多边形 91188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任意多边形 91189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任意多边形 91190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任意多边形 91191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任意多边形 91192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任意多边形 91193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任意多边形 91194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任意多边形 91195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任意多边形 91196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矩形 91197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矩形 91198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任意多边形 91199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任意多边形 91200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任意多边形 91201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任意多边形 91202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任意多边形 91203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任意多边形 91204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任意多边形 91205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任意多边形 91206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任意多边形 91207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任意多边形 91208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矩形 91209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矩形 91210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任意多边形 91211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任意多边形 91212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任意多边形 91213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任意多边形 91214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任意多边形 91215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任意多边形 91216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任意多边形 91217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任意多边形 91218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任意多边形 91219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任意多边形 91220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矩形 91221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矩形 91222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任意多边形 91223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任意多边形 91224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任意多边形 91225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任意多边形 91226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任意多边形 91227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任意多边形 91228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任意多边形 91229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任意多边形 91230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任意多边形 91231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任意多边形 91232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矩形 91233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矩形 91234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任意多边形 91235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任意多边形 91236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任意多边形 91237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任意多边形 91238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任意多边形 91239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任意多边形 91240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任意多边形 91241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任意多边形 91242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任意多边形 91243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任意多边形 91244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矩形 91245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矩形 91246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任意多边形 91247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任意多边形 91248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任意多边形 91249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任意多边形 91250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任意多边形 91251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任意多边形 91252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任意多边形 91253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任意多边形 91254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任意多边形 91255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任意多边形 91256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矩形 91257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矩形 91258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任意多边形 91259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任意多边形 91260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任意多边形 91261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任意多边形 91262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任意多边形 91263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任意多边形 91264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任意多边形 91265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任意多边形 91266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任意多边形 91267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任意多边形 91268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矩形 91269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矩形 91270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任意多边形 91271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任意多边形 91272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任意多边形 91273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任意多边形 91274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任意多边形 91275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任意多边形 91276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任意多边形 91277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任意多边形 91278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任意多边形 91279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任意多边形 91280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矩形 91281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任意多边形 91282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组合 91283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任意多边形 91284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任意多边形 91285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任意多边形 91286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任意多边形 91287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任意多边形 91288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任意多边形 91289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任意多边形 91290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任意多边形 91291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任意多边形 91292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任意多边形 91293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任意多边形 91294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任意多边形 91295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任意多边形 91296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组合 91297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任意多边形 91298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任意多边形 91299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任意多边形 91300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任意多边形 91301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91302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任意多边形 91303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任意多边形 91304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91305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91306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任意多边形 91307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任意多边形 91308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任意多边形 91309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任意多边形 91310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组合 91311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任意多边形 91312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任意多边形 91313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任意多边形 91314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任意多边形 91315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任意多边形 91316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任意多边形 91317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任意多边形 91318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任意多边形 91319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任意多边形 91320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任意多边形 91321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任意多边形 91322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任意多边形 91323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任意多边形 91324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组合 91325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任意多边形 91326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任意多边形 91327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任意多边形 91328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任意多边形 91329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任意多边形 91330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任意多边形 91331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任意多边形 91332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任意多边形 91333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任意多边形 91334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任意多边形 91335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任意多边形 91336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任意多边形 91337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任意多边形 91338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组合 91339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任意多边形 91340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任意多边形 91341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任意多边形 91342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任意多边形 91343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任意多边形 91344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任意多边形 91345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任意多边形 91346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任意多边形 91347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任意多边形 91348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任意多边形 91349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任意多边形 91350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任意多边形 91351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任意多边形 91352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组合 91353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任意多边形 91354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任意多边形 91355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任意多边形 91356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任意多边形 91357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任意多边形 91358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任意多边形 91359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任意多边形 91360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任意多边形 91361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任意多边形 91362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任意多边形 91363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任意多边形 91364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任意多边形 91365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任意多边形 91366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组合 91367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任意多边形 91368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组合 91369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任意多边形 91370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任意多边形 91371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任意多边形 91372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任意多边形 91373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任意多边形 91374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任意多边形 91375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任意多边形 91376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任意多边形 91377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任意多边形 91378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任意多边形 91379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任意多边形 91380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任意多边形 91381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任意多边形 91382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9699-80F6-4738-B193-E9DC20519E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任意多边形 92161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组合 92162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任意多边形 92163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任意多边形 92164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任意多边形 92165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任意多边形 92166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任意多边形 92167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任意多边形 92168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任意多边形 92169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任意多边形 92170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任意多边形 92171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任意多边形 92172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任意多边形 92173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任意多边形 92174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任意多边形 92175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组合 92176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矩形 92177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任意多边形 92178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任意多边形 92179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任意多边形 92180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任意多边形 92181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任意多边形 92182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任意多边形 92183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任意多边形 92184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任意多边形 92185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任意多边形 92186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任意多边形 92187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矩形 92188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矩形 92189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任意多边形 92190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任意多边形 92191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任意多边形 92192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任意多边形 92193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任意多边形 92194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任意多边形 92195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任意多边形 92196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任意多边形 92197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任意多边形 92198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任意多边形 92199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矩形 92200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矩形 92201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任意多边形 92202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任意多边形 92203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任意多边形 92204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任意多边形 92205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任意多边形 92206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任意多边形 92207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任意多边形 92208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任意多边形 92209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任意多边形 92210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任意多边形 92211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矩形 92212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矩形 92213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任意多边形 92214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任意多边形 92215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任意多边形 92216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任意多边形 92217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任意多边形 92218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任意多边形 92219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任意多边形 92220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任意多边形 92221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任意多边形 92222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任意多边形 92223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矩形 92224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矩形 92225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任意多边形 92226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任意多边形 92227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任意多边形 92228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任意多边形 92229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任意多边形 92230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任意多边形 92231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任意多边形 92232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任意多边形 92233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任意多边形 92234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任意多边形 92235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矩形 92236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矩形 92237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任意多边形 92238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任意多边形 92239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任意多边形 92240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任意多边形 92241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任意多边形 92242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任意多边形 92243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任意多边形 92244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任意多边形 92245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任意多边形 92246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任意多边形 92247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矩形 92248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矩形 92249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任意多边形 92250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任意多边形 92251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任意多边形 92252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任意多边形 92253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任意多边形 92254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任意多边形 92255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任意多边形 92256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任意多边形 92257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任意多边形 92258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任意多边形 92259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矩形 92260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矩形 92261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任意多边形 92262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任意多边形 92263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任意多边形 92264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任意多边形 92265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任意多边形 92266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任意多边形 92267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任意多边形 92268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任意多边形 92269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任意多边形 92270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任意多边形 92271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矩形 92272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矩形 92273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任意多边形 92274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任意多边形 92275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任意多边形 92276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任意多边形 92277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任意多边形 92278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任意多边形 92279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任意多边形 92280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任意多边形 92281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任意多边形 92282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任意多边形 92283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矩形 92284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矩形 92285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任意多边形 92286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任意多边形 92287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任意多边形 92288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任意多边形 92289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任意多边形 92290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任意多边形 92291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任意多边形 92292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任意多边形 92293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任意多边形 92294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任意多边形 92295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矩形 92296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矩形 92297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任意多边形 92298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任意多边形 92299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任意多边形 92300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任意多边形 92301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任意多边形 92302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任意多边形 92303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任意多边形 92304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任意多边形 92305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任意多边形 92306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任意多边形 92307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矩形 92308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矩形 92309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任意多边形 92310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任意多边形 92311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任意多边形 92312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任意多边形 92313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任意多边形 92314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任意多边形 92315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任意多边形 92316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任意多边形 92317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任意多边形 92318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任意多边形 92319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矩形 92320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任意多边形 92321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组合 92327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任意多边形 92328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任意多边形 92329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任意多边形 92330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任意多边形 92331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任意多边形 92332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任意多边形 92333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任意多边形 92334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任意多边形 92335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任意多边形 92336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任意多边形 92337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任意多边形 92338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任意多边形 92339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任意多边形 92340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1582-6707-42E7-9AEE-CEBDE9A0CF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文本框 4102"/>
          <p:cNvSpPr/>
          <p:nvPr/>
        </p:nvSpPr>
        <p:spPr>
          <a:xfrm>
            <a:off x="684360" y="476280"/>
            <a:ext cx="7848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习本文运用衬托手法表彰、显扬赵盾的忠诚和正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联系所学的文字、语法知识，正确分析本文中出现的双宾句、省略句、古今字、古今异义和通假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教学重点、难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会正确分析双宾句、承前省略句的各种情况，掌握古今字、古今异义和通假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时安排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教学内容和过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三、讲解课文，分析第一段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3" name="矩形 10246"/>
          <p:cNvSpPr/>
          <p:nvPr/>
        </p:nvSpPr>
        <p:spPr>
          <a:xfrm>
            <a:off x="971640" y="1844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赵盾、士季对晋灵公无君道的行为进行进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11280" y="3357360"/>
            <a:ext cx="81532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行君道。君：名词用作动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厚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重赋税。敛：收取赋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：连词，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雕：刻画，绘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684000" y="549000"/>
            <a:ext cx="7607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弹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á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用弹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à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丸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“避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宰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厨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胹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烂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蹯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á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足、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兼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‘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于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忧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要进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纳，指被采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95280" y="549360"/>
            <a:ext cx="83692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莫之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有谁继你之后（进谏）了。莫：否定性无定代词，没有谁。之：代词，指赵盾。因为在否定句中，所以置于动词“继”的前面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宾语前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如动词，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前先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指先去进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代词，这里指士季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次向前走。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“霤”，房上流泻雨水的地方，即指屋檐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犯的过错，错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文本框 24581"/>
          <p:cNvSpPr/>
          <p:nvPr/>
        </p:nvSpPr>
        <p:spPr>
          <a:xfrm>
            <a:off x="539640" y="404640"/>
            <a:ext cx="7940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稽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礼九拜中最恭敬的礼节。稽：稽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谁无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谁没有过错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善莫大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有比这更大的善事了（指能改过）。焉：兼词，相当于“于是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靡不有初，鲜克有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有谁没个开始的，但很少有人能够有始有终。靡：没有谁。初：开始。鲜：少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克：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语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照这样改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28677"/>
          <p:cNvSpPr/>
          <p:nvPr/>
        </p:nvSpPr>
        <p:spPr>
          <a:xfrm>
            <a:off x="468360" y="47628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巩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“唯”，仅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依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衮职有阙，惟仲山甫补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宣王有了过失，只有仲山甫来弥补。衮：天子之服，这里指宣王。职：职责。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“缺”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衮不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衮服可以不被废弃，喻可以保全君位。暗含君位难保之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971280" y="692280"/>
            <a:ext cx="7391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30725"/>
          <p:cNvSpPr/>
          <p:nvPr/>
        </p:nvSpPr>
        <p:spPr>
          <a:xfrm>
            <a:off x="395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晋灵公不行国君之道。加重赋税用来装饰墙壁。他还从台上用弹弓射人，观看人们躲避弹丸来取乐。有一次厨子炖熊掌没有炖熟，灵公就杀死他，把尸体装在畚箕里，命妇女用车载着经过朝廷。赵盾和士季发现了厨子的手，追问厨子被杀的原因，并为这件事忧虑。赵盾准备进谏，士季说：“您进谏，如果国君不采纳，那就没有谁能接着进谏了。请让我先去吧，没有采纳，您再继续进谏。”士季往前走了三次，伏地行礼三次，到了屋檐下，晋灵公才看了看他，说道：“我知道所犯的错误了，将要改正它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文本框 30726"/>
          <p:cNvSpPr/>
          <p:nvPr/>
        </p:nvSpPr>
        <p:spPr>
          <a:xfrm>
            <a:off x="3492360" y="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翻   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文本框 26629"/>
          <p:cNvSpPr/>
          <p:nvPr/>
        </p:nvSpPr>
        <p:spPr>
          <a:xfrm>
            <a:off x="539640" y="69228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士季叩头回答道：“哪个人没有过错呢？有了过错却能改正，没有比这更大的善事了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说：‘没有谁没个好的开头的，但很少能有始有终。’照这样说来，能够纠正错误的人是很少的。您能有始有终，那么国家就巩固了，难道仅仅是群臣们依靠它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又说：‘周宣王有过失，只有仲山甫来弥补。意思是说过失是能够弥补的，您能弥补自己的过失，君位就可以保全啦。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文本框 26630"/>
          <p:cNvSpPr/>
          <p:nvPr/>
        </p:nvSpPr>
        <p:spPr>
          <a:xfrm>
            <a:off x="3492360" y="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翻   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370689"/>
          <p:cNvSpPr/>
          <p:nvPr/>
        </p:nvSpPr>
        <p:spPr>
          <a:xfrm>
            <a:off x="0" y="476280"/>
            <a:ext cx="9144000" cy="5832360"/>
          </a:xfrm>
          <a:prstGeom prst="rect">
            <a:avLst/>
          </a:prstGeom>
          <a:solidFill>
            <a:srgbClr val="fefdca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文本框 370690"/>
          <p:cNvSpPr/>
          <p:nvPr/>
        </p:nvSpPr>
        <p:spPr>
          <a:xfrm>
            <a:off x="466560" y="18446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晋灵公不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表现在哪些地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文本框 370691"/>
          <p:cNvSpPr/>
          <p:nvPr/>
        </p:nvSpPr>
        <p:spPr>
          <a:xfrm>
            <a:off x="395280" y="2852640"/>
            <a:ext cx="7850160" cy="26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厚敛雕墙（贪婪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弹人观辟（荒唐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虐杀宰夫（残暴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虚言纳谏（堵士季劝谏之口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⑤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（对赵盾骤谏）患谏贼之，伏甲嗾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文本框 370692"/>
          <p:cNvSpPr/>
          <p:nvPr/>
        </p:nvSpPr>
        <p:spPr>
          <a:xfrm>
            <a:off x="466560" y="566100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晋灵公：贪婪、荒唐、残暴、不行君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文本框 4"/>
          <p:cNvSpPr/>
          <p:nvPr/>
        </p:nvSpPr>
        <p:spPr>
          <a:xfrm>
            <a:off x="1937520" y="1066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思考与探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文本框 16389"/>
          <p:cNvSpPr/>
          <p:nvPr/>
        </p:nvSpPr>
        <p:spPr>
          <a:xfrm>
            <a:off x="3533760" y="1844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二课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文本框 1"/>
          <p:cNvSpPr/>
          <p:nvPr/>
        </p:nvSpPr>
        <p:spPr>
          <a:xfrm>
            <a:off x="3165480" y="3470400"/>
            <a:ext cx="127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学习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学习第二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学习第三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、讲解课文，分析第二段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6836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犹不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是不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，多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憎恶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意动用法，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为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刺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盛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é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穿戴好朝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假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脱冠衣睡觉打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民之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姓的依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32773"/>
          <p:cNvSpPr/>
          <p:nvPr/>
        </p:nvSpPr>
        <p:spPr>
          <a:xfrm>
            <a:off x="4474440" y="9079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本段写赵盾骤谏，晋灵公要暗杀赵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文本框 18437"/>
          <p:cNvSpPr/>
          <p:nvPr/>
        </p:nvSpPr>
        <p:spPr>
          <a:xfrm>
            <a:off x="4067280" y="18446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一课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文本框 1"/>
          <p:cNvSpPr/>
          <p:nvPr/>
        </p:nvSpPr>
        <p:spPr>
          <a:xfrm>
            <a:off x="2952360" y="3395520"/>
            <a:ext cx="194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学习内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春秋笔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谥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学习第一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文本框 12294"/>
          <p:cNvSpPr/>
          <p:nvPr/>
        </p:nvSpPr>
        <p:spPr>
          <a:xfrm>
            <a:off x="395280" y="907920"/>
            <a:ext cx="83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晋灵公仍旧不改。赵盾多次进谏。晋灵公很厌恶他，就派鉏麑暗杀他。鉏麑清早前往，看到卧室的门已打开了。赵盾已穿戴整齐准备上朝。由于时间还早，就端坐在那里打瞌睡。鉏麑退出来，感叹地说：“不忘记恭敬，真是百姓的主啊。杀害百姓的主，就是不忠；不履行国君的使命，就是不守信用。在不忠不信两者之中必有一种，不如死了。”便撞死在槐树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文本框 12295"/>
          <p:cNvSpPr/>
          <p:nvPr/>
        </p:nvSpPr>
        <p:spPr>
          <a:xfrm>
            <a:off x="3492360" y="18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翻   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文本框 12296"/>
          <p:cNvSpPr/>
          <p:nvPr/>
        </p:nvSpPr>
        <p:spPr>
          <a:xfrm>
            <a:off x="755640" y="5445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通过鉏麑反衬赵盾的忠诚。但是鉏麑是愚忠。在这次暗地较量中，忠义获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、讲解课文，分析第三段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8" name="文本框 40965"/>
          <p:cNvSpPr/>
          <p:nvPr/>
        </p:nvSpPr>
        <p:spPr>
          <a:xfrm>
            <a:off x="3954600" y="112536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写晋灵公摆酒诱杀赵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文本框 40966"/>
          <p:cNvSpPr/>
          <p:nvPr/>
        </p:nvSpPr>
        <p:spPr>
          <a:xfrm>
            <a:off x="324000" y="1773360"/>
            <a:ext cx="8589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饮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ì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赵盾喝酒。饮：使动用法，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饮，这是一个双宾语句。“赵盾”是饮的近宾语，“酒”是远宾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伏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埋伏甲士。甲：铠甲，这里指武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趋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快步登上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何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什么，有什么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死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赵盾而死。死：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死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动用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文本框 47109"/>
          <p:cNvSpPr/>
          <p:nvPr/>
        </p:nvSpPr>
        <p:spPr>
          <a:xfrm>
            <a:off x="3492360" y="18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翻   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文本框 47110"/>
          <p:cNvSpPr/>
          <p:nvPr/>
        </p:nvSpPr>
        <p:spPr>
          <a:xfrm>
            <a:off x="395280" y="692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秋九月，晋灵公赐赵盾酒喝，预先埋伏好身穿铠甲的武士，准备攻杀赵盾。赵盾的车右提弥明发现了情况，快步走上堂去，说：“臣子侍奉国君饮酒，超过了三杯，不合乎礼仪。”接着扶赵盾下堂。晋灵公唤出那条猛犬向赵盾扑去。提弥明徒手搏击猛犬，把它打死了。赵盾说：“不用人而用狗，即使凶猛，又有什么用？”一边搏斗，一边退出宫门。提弥明为赵盾战死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文本框 47111"/>
          <p:cNvSpPr/>
          <p:nvPr/>
        </p:nvSpPr>
        <p:spPr>
          <a:xfrm>
            <a:off x="395280" y="5013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本段晋灵公和赵盾发生正面冲突，由于赵盾识人、善于用人，所以获胜。暗示赵盾有才干、知人善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第三课时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学习第四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学习第五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小结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一、讲解课文，分析第四段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矩形 51205"/>
          <p:cNvSpPr/>
          <p:nvPr/>
        </p:nvSpPr>
        <p:spPr>
          <a:xfrm>
            <a:off x="395280" y="170028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同“畋”，打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舍于翳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在翳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饿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他东西吃。食：使动用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遗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wè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留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，用作动词，指全部吃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倒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倒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抵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己逃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文本框 51206"/>
          <p:cNvSpPr/>
          <p:nvPr/>
        </p:nvSpPr>
        <p:spPr>
          <a:xfrm>
            <a:off x="3713400" y="105264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写灵辄报恩，赵盾死里逃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文本框 53254"/>
          <p:cNvSpPr/>
          <p:nvPr/>
        </p:nvSpPr>
        <p:spPr>
          <a:xfrm>
            <a:off x="395280" y="4302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初，赵盾在首阳山打猎，住在翳桑。看见灵辄饿倒在地，问他得了什么病，灵辄说：“已经多日没有吃东西了。”赵盾让他东西吃。灵辄留下一半食物不吃。问他原因，答道：“我在外当贵族的仆隶已经多年，不知道母亲还在不在。现在离家近了，请让我把这些东西送给她。”赵盾要他吃光，并为他预备一筐饭和肉，放在袋子里送给他。不久灵辄做了晋灵公的甲士，就把戟掉过头来抵御灵公手下的人，使赵盾幸免于难。赵盾问他为什么这样做，他回答说：“我就是您在翳桑救的饿汉呀。”问名字和住处，他没有告诉就走了。接着赵盾也逃亡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文本框 53255"/>
          <p:cNvSpPr/>
          <p:nvPr/>
        </p:nvSpPr>
        <p:spPr>
          <a:xfrm>
            <a:off x="3492360" y="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翻   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二、讲解课文，分析第五段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09120" y="1599840"/>
            <a:ext cx="8153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返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代臣杀君、子杀父叫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是这样，不对。然：代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“境”，指晋国国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讨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之怀矣，自诒伊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于我对国家的怀恋，结果给自己招来了忧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事的原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受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蒙受弑君的恶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65541"/>
          <p:cNvSpPr/>
          <p:nvPr/>
        </p:nvSpPr>
        <p:spPr>
          <a:xfrm>
            <a:off x="4004640" y="98100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写晋灵公被杀，赵盾蒙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文本框 75783"/>
          <p:cNvSpPr/>
          <p:nvPr/>
        </p:nvSpPr>
        <p:spPr>
          <a:xfrm>
            <a:off x="3492360" y="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翻   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文本框 75784"/>
          <p:cNvSpPr/>
          <p:nvPr/>
        </p:nvSpPr>
        <p:spPr>
          <a:xfrm>
            <a:off x="324000" y="765000"/>
            <a:ext cx="85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九月二十六日，赵穿在桃园杀死了晋灵公。赵盾还没有逃出国境的山界就回来了。太史（董狐）记载说：“赵盾弑其君。”并且把这条记载拿到朝廷上公布。赵盾说：“不是这样的。”太史回答说：“您是正卿，逃亡没有越过国境，回来后又不声讨叛贼，弑君的不是您又是谁？”赵盾说：“唉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：‘由于我怀念祖国，反而给自己招来了忧患。’大概是说我吧！”孔子说：“董狐，是古代的好史官，据法直书不隐讳。赵盾，是古代的好大夫，为了记事的原则而承受恶名。可惜呀！要是逃出了国境就可以免掉罪名了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73733"/>
          <p:cNvSpPr/>
          <p:nvPr/>
        </p:nvSpPr>
        <p:spPr>
          <a:xfrm>
            <a:off x="971640" y="620640"/>
            <a:ext cx="70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段写晋灵公行为不符合君道被杀，赵盾听说后返国。孔子对赵盾表示惋惜感慨。表现了赵盾是个忠直之臣，对祖国一片赤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矩形 371713"/>
          <p:cNvSpPr/>
          <p:nvPr/>
        </p:nvSpPr>
        <p:spPr>
          <a:xfrm>
            <a:off x="0" y="476280"/>
            <a:ext cx="9144000" cy="5832360"/>
          </a:xfrm>
          <a:prstGeom prst="rect">
            <a:avLst/>
          </a:prstGeom>
          <a:solidFill>
            <a:srgbClr val="fefdca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文本框 371714"/>
          <p:cNvSpPr/>
          <p:nvPr/>
        </p:nvSpPr>
        <p:spPr>
          <a:xfrm>
            <a:off x="395280" y="765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为什么说赵盾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左之良大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文本框 371715"/>
          <p:cNvSpPr/>
          <p:nvPr/>
        </p:nvSpPr>
        <p:spPr>
          <a:xfrm>
            <a:off x="611280" y="1639800"/>
            <a:ext cx="78483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忧心国事，骤谏灵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②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盛服将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坐而假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不忘恭敬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民之主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恩惠养民，体贴下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例见对灵辄的态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虽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为法受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，但尊重史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文本框 371716"/>
          <p:cNvSpPr/>
          <p:nvPr/>
        </p:nvSpPr>
        <p:spPr>
          <a:xfrm>
            <a:off x="324000" y="5300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赵　盾：直言敢谏、忠诚仁义、古之良大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282625" descr=""/>
          <p:cNvPicPr/>
          <p:nvPr/>
        </p:nvPicPr>
        <p:blipFill>
          <a:blip r:embed="rId1"/>
          <a:srcRect l="4322" t="2753" r="80717" b="2753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文本框 282626"/>
          <p:cNvSpPr/>
          <p:nvPr/>
        </p:nvSpPr>
        <p:spPr>
          <a:xfrm>
            <a:off x="1619280" y="1268280"/>
            <a:ext cx="711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春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之称，微而显，志而晦，婉而成章，尽而不污，惩恶而劝善，非贤人谁能修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左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成十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文本框 282627"/>
          <p:cNvSpPr/>
          <p:nvPr/>
        </p:nvSpPr>
        <p:spPr>
          <a:xfrm>
            <a:off x="1547640" y="3790800"/>
            <a:ext cx="73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春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的记述，用词细密而意思显明，记载史实而含蓄深远，婉转而顺理成章，穷尽而无所歪曲，警诫邪恶而褒奖善良。如果不是圣人谁能够编写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文本框 1" descr=""/>
          <p:cNvPicPr/>
          <p:nvPr/>
        </p:nvPicPr>
        <p:blipFill>
          <a:blip r:embed="rId2"/>
          <a:stretch/>
        </p:blipFill>
        <p:spPr>
          <a:xfrm>
            <a:off x="3309840" y="469800"/>
            <a:ext cx="3598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三、课文小结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通篇的中心人物是赵盾，写他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忠心、正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虽然文字不多，但他的形象非常丰满。而且多是通过别人的行为和言语来反衬他光辉的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而从今天来看，我们更赞赏赵穿。晋灵公残害百姓和臣子、祸害国家，赵穿做得正确。赵盾也有时代局限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280577"/>
          <p:cNvSpPr/>
          <p:nvPr/>
        </p:nvSpPr>
        <p:spPr>
          <a:xfrm>
            <a:off x="0" y="476280"/>
            <a:ext cx="9144000" cy="5832360"/>
          </a:xfrm>
          <a:prstGeom prst="rect">
            <a:avLst/>
          </a:prstGeom>
          <a:solidFill>
            <a:srgbClr val="fefdca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文本框 280578"/>
          <p:cNvSpPr/>
          <p:nvPr/>
        </p:nvSpPr>
        <p:spPr>
          <a:xfrm>
            <a:off x="2987640" y="62064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春秋笔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文本框 280579"/>
          <p:cNvSpPr/>
          <p:nvPr/>
        </p:nvSpPr>
        <p:spPr>
          <a:xfrm>
            <a:off x="250920" y="155592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Wingdings 2"/>
                <a:ea typeface="Wingdings 2"/>
              </a:rPr>
              <a:t>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晋代杜预解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　　一曰微而显。（微言大义，暗含褒贬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　　二曰志而晦。（隐晦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　　三曰婉而成章。（避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　　四曰尽而不污，直书其事。（实录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文本框 280580"/>
          <p:cNvSpPr/>
          <p:nvPr/>
        </p:nvSpPr>
        <p:spPr>
          <a:xfrm>
            <a:off x="250920" y="43228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Wingdings 2"/>
                <a:ea typeface="Wingdings 2"/>
              </a:rPr>
              <a:t>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孔子所谓的直书有两重涵义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　　其一是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史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的标准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　　其二是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史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（符合纲常伦理道德）的标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文本框 263169"/>
          <p:cNvSpPr/>
          <p:nvPr/>
        </p:nvSpPr>
        <p:spPr>
          <a:xfrm>
            <a:off x="2987640" y="33336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春秋笔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文本框 263170"/>
          <p:cNvSpPr/>
          <p:nvPr/>
        </p:nvSpPr>
        <p:spPr>
          <a:xfrm>
            <a:off x="468360" y="1341360"/>
            <a:ext cx="82090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春秋笔法，也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春秋书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微言大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是我国古代的一种历史叙述方式和技巧。即按照一定的义例，通过选择特定称谓或在叙述时使用某些字眼，是非分明而又简约、含蓄地表明对历史人物与事件的道德评判，以达到征实和劝惩的目的。春秋笔法以合乎礼法作为标准，既包括不隐晦事实真相、据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直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的一面，也包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为尊者讳，为贤者讳，为亲者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曲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的一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68000" y="1599840"/>
            <a:ext cx="82947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出处《左转》（《春秋左氏传》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灵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谥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逸周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谥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郑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通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均有记载，谥法是给予谥号的标准，用一些固定的字，赋予特定的涵义，用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指称死者的美德、恶德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文本框 1"/>
          <p:cNvSpPr/>
          <p:nvPr/>
        </p:nvSpPr>
        <p:spPr>
          <a:xfrm>
            <a:off x="3287880" y="5698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二、题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、表扬</a:t>
            </a:r>
            <a:br>
              <a:rPr sz="4400"/>
            </a:b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经纬天地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文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，布义行刚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景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，威强叡德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武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，柔质慈民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惠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，圣闻周达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昭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，圣善闻周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宣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，行义悦民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，安民立政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，布刚治纪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平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，照临四方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明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，辟土服远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桓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，聪明睿知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献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， 温柔好乐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康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，布德执义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穆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                   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批评</a:t>
            </a:r>
            <a:br>
              <a:rPr sz="4000"/>
            </a:b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乱而不损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灵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，好内远礼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炀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，</a:t>
            </a:r>
            <a:br>
              <a:rPr sz="4000"/>
            </a:b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杀戳无辜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厉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，</a:t>
            </a:r>
            <a:br>
              <a:rPr sz="4000"/>
            </a:b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                      </a:t>
            </a:r>
            <a:r>
              <a:rPr b="1" lang="en-US" sz="4000" spc="-1" strike="noStrike">
                <a:solidFill>
                  <a:srgbClr val="e4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、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同情</a:t>
            </a:r>
            <a:br>
              <a:rPr sz="4000"/>
            </a:b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恭仁短折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哀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，在国遭忧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愍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，</a:t>
            </a:r>
            <a:br>
              <a:rPr sz="4000"/>
            </a:b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慈仁短折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怀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两三字：魏安厘王、赵孝成王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后世谥号除皇帝外，多用二字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忠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侯（孔明）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文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公（欧阳修），武穆王（岳飞）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文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公（范仲淹）。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611280" y="836280"/>
            <a:ext cx="815328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刻画了昏君当政的诸侯国晋国，一批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忠心报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臣子形象，其中最主要的人物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赵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他对国家忠诚；对于国君，他既敢于提意见，又保护、尊敬，他希望国君能改正错误，更好地治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通篇都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彰、显扬赵盾的忠诚和正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1:45:05Z</dcterms:created>
  <dc:creator>陈文雍</dc:creator>
  <dc:description/>
  <dc:language>en-US</dc:language>
  <cp:lastModifiedBy>13865344846</cp:lastModifiedBy>
  <dcterms:modified xsi:type="dcterms:W3CDTF">2016-03-03T13:33:21Z</dcterms:modified>
  <cp:revision>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