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120-7343-4433-9CFB-64766860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3E7-028E-443A-B4C4-CB710798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D4A47-0865-407D-AED6-E9EFCEBE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BFA72-70EC-4DEC-ABA3-F3232764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7AC16-AE57-41A1-B096-F3E8BE60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608F0-6578-441F-9D5D-F752D2DC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AD167-89B0-45B4-A3A3-601BF958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64A7A-F507-42A5-886D-E931EC1B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74CA8-1FD1-4FF7-99DA-30C393CD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37968-396A-48AC-9A30-A5E41399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FE59A-DC8D-427C-A55B-19D5DF74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CCAD3-3EE5-4D17-9258-D054B1D6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864-AD87-49EC-8476-55E56FD1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9CEE0-146F-4721-B04C-26999056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647EC-38D3-46E4-A9D5-4ADCBD48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817D4-0E8F-41E5-918B-95887AFE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00206-9809-4799-B07F-B451F9B5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F8B79-E029-4646-91AD-A76D86CE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CBC91-617F-4553-B5C6-BC782F1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1C991-ACD0-4272-9A5B-DDD5BE72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0920F-185F-41E3-A1B9-F6EF3889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037B0-0D93-43A5-A454-73036AC1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40971-7CAF-443A-855F-CF820DCA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28C-F3D8-47AE-8850-232B9D83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6B306-95E2-4DAF-995B-43037B84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2B4FC-D9B4-4119-9B61-2340C85E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ACD33-EEB9-4A0B-8588-C71AB6C3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A6E4A-EFF1-4DD8-BF5D-03957B9A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95CF7-D059-42B0-A4A1-A6C89CAC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FEDC7-486B-41C3-BDA2-60697F58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63222-2A99-4802-8FA8-A9C84FEF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AA27C-404A-4091-9291-535D4F7A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43958-B3C9-43F5-9046-89728D58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EC556-C9EE-4970-A0F0-5400D9BC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4D40-F53F-4E82-9F7D-7E8B3ED6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EB9D0-4C9F-4132-9975-C09C7A6C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C8BE7-70E8-4348-B402-07103F3F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EFE42-E8F4-49FB-81CD-0A210F24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04281-7F02-4267-B941-3348161A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F71C1-745E-482E-AFAE-6CE61A00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C33B5-8909-4533-ADD6-05ADD97E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A014D-4C2A-46EB-A415-2BC3DC7B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9C77F-BEFE-418F-97E9-6E4694AE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A7867-80E2-427E-A95B-58153968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388DB-6F69-433E-8F55-453ECB0E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8263-F93E-426A-A8B9-A8733E1D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AEC32-7ACC-4D01-9F66-2881A44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289A5-FF17-4A03-8EA2-894B20D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A3C08-3D70-4281-BCCC-233E6EFD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513FC-C2B4-4947-A056-8C9F81DA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CF348-E1EB-4510-B39D-A15C3A4E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C672-FA71-47D8-B5B5-4AF24BF9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605D-F43C-4667-B3F8-6D0A809A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78FA-7FA5-4E5B-BF1E-481B7807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BB2C-039A-489F-BE18-A008A31C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CC6D-ADC1-4EC8-92EB-E2F77F61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465-132A-4BC7-A29D-2AAE71B1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25FB-63B7-417C-BF0A-C64E9FEC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5949-D55F-41EA-A46E-F1CCC70F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00F7-81F7-42B0-8F1E-5FF1BE28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AAB7-2377-4633-A8C8-44330844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21E0-B2E8-4FD1-9F9F-14E6A994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6F9F6-94FD-461E-94C4-CDFA2C50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DB15-7071-4708-8E2E-2E6774C8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4566-86D1-4CAF-B1CE-97EDB1C7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32DA-3100-4314-B45F-2022AE40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89AA-DE86-4395-8FE7-603A6B52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1CB-BAA8-40B2-8AA9-7F83BF30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21E8-A1F7-4890-A4C6-7CC9F0F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E00A-799A-4594-9D72-936C113C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2E2BA-896F-4F39-B410-28A6982C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C678-D07E-4D87-810E-4476601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FE4F6-E604-4A80-882F-80CCD037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61C8-A61D-4202-9F4C-7D799329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CEFC-9544-4849-BBDA-2B290F9F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53B9-A39F-462D-89A9-06A4C63C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5FF8-DAC1-4F1D-A58F-A82F089C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0361-B8C3-4095-9064-25D64424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538-BA05-42A9-9C64-B0FD7AFF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F85D1-CE6E-4CA2-9E16-8804ED41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E880-6F8C-45CB-BD9E-85513BDD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C34A3-F190-424B-8919-4C98C561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4203E-BBC8-45DF-A958-F67D9DDF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C0A6-3113-4E90-9433-98336359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DB77-142F-4AD2-8D0C-8EEEC588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6679-B546-410D-A571-C6729A9E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3B79-627E-4A06-9F4C-699F5AD3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71E43-0A37-4E43-9BB4-DB0F484B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1E82E-7555-475B-A18D-B970C7AD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A92-0810-41DE-BE2A-0FADE4C2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7CEC5-CA41-4E57-81F8-CBC7210B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EF05C-1C1C-445E-82AE-19D8B5C3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3EA3-5105-4EB3-8F89-4859F19C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BCF0-811C-41F7-BBA0-774D8F2B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B3519-E637-44D8-8357-D4F51AE9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0D852-E543-4121-A6EC-5F401178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ABEF8-3D53-48C3-B85B-B8E17F0F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3488E-47FE-497A-85B1-BF31AA75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5352B-C799-40F7-AC03-CB8F21D0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BC944-C870-4C83-B5D6-5CC7B1A1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AB1-2AAB-40AF-A23E-F4DDDE48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E3A86-9101-4E59-81E1-C4F42E4F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4C12C-2424-4D9E-B0E2-8FF3DB3C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3384-1AB4-4B24-8EBF-3413425D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D9C7D-E76B-4AD1-AA3F-EA9D7D30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B466D-2BC8-4A24-9B32-3B201575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BDD31-3AB5-4066-8A1B-B4AE7602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FE1CC-281A-4E83-95E7-155CDB8C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FADA1-0551-4747-BB13-C445FA7F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97767-558F-43A1-8699-2E24F550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611B-8CA5-498A-A121-FB490C1E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589-43B4-4CE6-A18D-493C8AD0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C7A17-626C-487B-9B8F-01DF718C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BEB4-5950-48D1-BBB4-27E7599A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1B3F2-4645-4E41-953C-59BBCA0B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7AD52-DE92-44DC-A0CF-BAF24A13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8A44B-2DB1-45DF-B716-E000D774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2B0D5-2415-4B56-84A7-13AF12F8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241A3-524C-4816-860C-3C963940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7DC17-ECA8-4FC9-B9C6-977EE946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0D695-0384-46C7-BFEB-5310D92C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B54FA-604A-4D21-8314-91076C26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F9C-1E06-4C8A-8EC0-8EE9C754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0269C-A94B-4A78-949B-8944821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4E22B-4D5B-488A-B1CC-542DD759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A283C-40A0-4FFF-89B6-0926B2D0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42A09-1BC3-4B54-8F04-F75C5C61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4A101-E933-4A82-85E9-B291CD63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2540E-E33E-490D-81E3-4A72504F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23E26-B834-4913-9CED-53867B15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23AAA-54CA-4BB1-B4A1-96B12DAF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AFF1B-3ABB-4845-8F2C-87EC26BA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9D126-EBC3-4D65-808B-FFF9BD37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16D-6EB6-44BD-AC03-D19070B5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F3882-D34F-4788-AAAE-D201C9B0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DF7D-3341-45F7-9B9B-CC2D300B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77838-6394-4EA5-9F73-9B76DD92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017B6-FD42-4E9C-8ECE-8ECF5B0C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733C6-B392-4AE2-BBAA-6F6E9777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C43D-14F0-45C9-9D58-D336AE93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8863E-2AFD-4637-B62A-80D12CC7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135BC-745F-4E7F-A5BB-E6ACD72B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1877E-1D68-4042-B6CA-88637F4C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934E0-1009-4FF0-9168-7301552F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CB2D-5EC3-4D09-B0EB-436BB9E41610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2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3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5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436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DD0C-ADD5-44D1-B43A-877B6CF946AD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0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1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484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3AC0-A940-4A4B-8EB0-85022CE27ABE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8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9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1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32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54F5-E075-4FF8-8908-2E5F9D937497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3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矩形 14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圆角矩形 15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组合 16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圆角矩形 17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流程图: 延期 18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06E6-93F9-4DAF-9FF6-B223A9D73A16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00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BB03-591E-4053-AA98-B2B80CB1183A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48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342C-91CC-4433-B23D-714FB7F2E030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2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3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5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96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4927-2984-40DA-892F-986FC3F18498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0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1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3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244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D48-E99A-41E3-8225-B9396D22B5CC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1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292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2AC7-513C-4DA9-AF0F-A72D6848C331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6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7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340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4D68-798A-426C-9689-08D054CE5B5E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7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388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2EF1-4B67-4716-B1EE-808F65AAF1A9}" type="slidenum">
              <a:rPr b="1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副标题 4098" descr=""/>
          <p:cNvPicPr/>
          <p:nvPr/>
        </p:nvPicPr>
        <p:blipFill>
          <a:blip r:embed="rId1"/>
          <a:stretch/>
        </p:blipFill>
        <p:spPr>
          <a:xfrm>
            <a:off x="4419720" y="3876840"/>
            <a:ext cx="2262240" cy="798480"/>
          </a:xfrm>
          <a:prstGeom prst="rect">
            <a:avLst/>
          </a:prstGeom>
          <a:ln w="0">
            <a:noFill/>
          </a:ln>
        </p:spPr>
      </p:pic>
      <p:pic>
        <p:nvPicPr>
          <p:cNvPr id="576" name="矩形 1" descr=""/>
          <p:cNvPicPr/>
          <p:nvPr/>
        </p:nvPicPr>
        <p:blipFill>
          <a:blip r:embed="rId2"/>
          <a:stretch/>
        </p:blipFill>
        <p:spPr>
          <a:xfrm>
            <a:off x="719280" y="1023840"/>
            <a:ext cx="794844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6666"/>
                </a:solidFill>
                <a:latin typeface="Arial"/>
              </a:rPr>
              <a:t>为什么说刘邓大军承受的苦难是今人的财富？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那些苦难，为我们换来了今天国家的辉煌和人民的幸福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先辈们奋勇抗争，坚强不屈的精神激励我们为建设更美好的祖国而努力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标题 14337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11458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本文通过叙述刘邓大军挺进大别山后经历的磨难，高度肯定和赞扬了他们为国家所做的巨大牺牲和贡献，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告诉每一位读者，不能忘记这些英雄，同时要珍惜来之不易的幸福生活，为祖国美好的未来而努力奋斗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爱国诗词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文本框 15363"/>
          <p:cNvSpPr/>
          <p:nvPr/>
        </p:nvSpPr>
        <p:spPr>
          <a:xfrm>
            <a:off x="3940920" y="2971800"/>
            <a:ext cx="1802160" cy="33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3366"/>
                </a:solidFill>
                <a:latin typeface="Arial"/>
                <a:ea typeface="宋体"/>
              </a:rPr>
              <a:t>一寸丹心为报国，两行清泪为思亲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——</a:t>
            </a: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明</a:t>
            </a: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·</a:t>
            </a: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于谦《立春日感怀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3366"/>
                </a:solidFill>
                <a:latin typeface="Arial"/>
                <a:ea typeface="宋体"/>
              </a:rPr>
              <a:t>我自横刀向天笑。去留肝胆两昆仑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——</a:t>
            </a: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清</a:t>
            </a: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·</a:t>
            </a: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谭嗣同《狱中题壁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3366"/>
                </a:solidFill>
                <a:latin typeface="Arial"/>
                <a:ea typeface="宋体"/>
              </a:rPr>
              <a:t>只解沙场为国死，何须马革裹尸还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——</a:t>
            </a: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清</a:t>
            </a: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·</a:t>
            </a:r>
            <a:r>
              <a:rPr b="0" sz="2800" spc="-1" strike="noStrike">
                <a:solidFill>
                  <a:srgbClr val="000099"/>
                </a:solidFill>
                <a:latin typeface="Arial"/>
                <a:ea typeface="宋体"/>
              </a:rPr>
              <a:t>徐锡麟《出塞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标题 5121" descr=""/>
          <p:cNvPicPr/>
          <p:nvPr/>
        </p:nvPicPr>
        <p:blipFill>
          <a:blip r:embed="rId1"/>
          <a:stretch/>
        </p:blipFill>
        <p:spPr>
          <a:xfrm>
            <a:off x="536400" y="304920"/>
            <a:ext cx="7925040" cy="114588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1.</a:t>
            </a:r>
            <a:r>
              <a:rPr b="0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掌握本课的生字生词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2.</a:t>
            </a:r>
            <a:r>
              <a:rPr b="0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学习本课的写作技法（对比、正面侧面描写等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3.</a:t>
            </a:r>
            <a:r>
              <a:rPr b="0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体会刘邓大军挺进大别山为中华人民共和国所做的伟大贡献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4.</a:t>
            </a:r>
            <a:r>
              <a:rPr b="0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感受当下幸福生活来之不易，要珍惜幸福时光，努力学习报效国家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标题 6145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7924680" cy="113976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429000" y="914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朱苏进，南京人，</a:t>
            </a:r>
            <a:r>
              <a:rPr b="0" lang="en-US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20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世纪</a:t>
            </a:r>
            <a:r>
              <a:rPr b="0" lang="en-US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90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年代，以一系列军旅小说成名，代表作</a:t>
            </a:r>
            <a:r>
              <a:rPr b="0" lang="en-US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《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射天狼</a:t>
            </a:r>
            <a:r>
              <a:rPr b="0" lang="en-US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》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、</a:t>
            </a:r>
            <a:r>
              <a:rPr b="0" lang="en-US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《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醉太平</a:t>
            </a:r>
            <a:r>
              <a:rPr b="0" lang="en-US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》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、</a:t>
            </a:r>
            <a:r>
              <a:rPr b="0" lang="en-US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《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接近于无限透明</a:t>
            </a:r>
            <a:r>
              <a:rPr b="0" lang="en-US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》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等，本文是</a:t>
            </a:r>
            <a:r>
              <a:rPr b="0" lang="en-US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《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冷的冬，热的雪：刘邓大军在</a:t>
            </a:r>
            <a:r>
              <a:rPr b="0" lang="en-US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1947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年的那个寒冬</a:t>
            </a:r>
            <a:r>
              <a:rPr b="0" lang="en-US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》</a:t>
            </a:r>
            <a:r>
              <a:rPr b="0" lang="zh-CN" sz="3200" spc="-1" strike="noStrike">
                <a:solidFill>
                  <a:srgbClr val="00b050"/>
                </a:solidFill>
                <a:latin typeface="华文行楷"/>
                <a:ea typeface="华文行楷"/>
              </a:rPr>
              <a:t>一书中的序言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1" name="图片 6147" descr="838ba61ea8d3fd1fde749a56374e251f95ca5f58"/>
          <p:cNvPicPr/>
          <p:nvPr/>
        </p:nvPicPr>
        <p:blipFill>
          <a:blip r:embed="rId2"/>
          <a:stretch/>
        </p:blipFill>
        <p:spPr>
          <a:xfrm>
            <a:off x="530280" y="1523880"/>
            <a:ext cx="268920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标题 7169" descr=""/>
          <p:cNvPicPr/>
          <p:nvPr/>
        </p:nvPicPr>
        <p:blipFill>
          <a:blip r:embed="rId2"/>
          <a:stretch/>
        </p:blipFill>
        <p:spPr>
          <a:xfrm>
            <a:off x="225360" y="-291960"/>
            <a:ext cx="7925040" cy="159696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7170"/>
          <p:cNvSpPr/>
          <p:nvPr/>
        </p:nvSpPr>
        <p:spPr>
          <a:xfrm>
            <a:off x="1187280" y="145584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文本框 7171"/>
          <p:cNvSpPr/>
          <p:nvPr/>
        </p:nvSpPr>
        <p:spPr>
          <a:xfrm>
            <a:off x="2117880" y="1531800"/>
            <a:ext cx="9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à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文本框 7172"/>
          <p:cNvSpPr/>
          <p:nvPr/>
        </p:nvSpPr>
        <p:spPr>
          <a:xfrm>
            <a:off x="3184560" y="153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文本框 7173"/>
          <p:cNvSpPr/>
          <p:nvPr/>
        </p:nvSpPr>
        <p:spPr>
          <a:xfrm>
            <a:off x="1203480" y="2065320"/>
            <a:ext cx="105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苍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文本框 7174"/>
          <p:cNvSpPr/>
          <p:nvPr/>
        </p:nvSpPr>
        <p:spPr>
          <a:xfrm>
            <a:off x="2255760" y="200484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ió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文本框 7175"/>
          <p:cNvSpPr/>
          <p:nvPr/>
        </p:nvSpPr>
        <p:spPr>
          <a:xfrm>
            <a:off x="1263600" y="259884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酩酊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文本框 7176"/>
          <p:cNvSpPr/>
          <p:nvPr/>
        </p:nvSpPr>
        <p:spPr>
          <a:xfrm>
            <a:off x="2308320" y="2522520"/>
            <a:ext cx="20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ǐng  dǐ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文本框 7177"/>
          <p:cNvSpPr/>
          <p:nvPr/>
        </p:nvSpPr>
        <p:spPr>
          <a:xfrm>
            <a:off x="1427760" y="304812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浩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瀚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文本框 7178"/>
          <p:cNvSpPr/>
          <p:nvPr/>
        </p:nvSpPr>
        <p:spPr>
          <a:xfrm>
            <a:off x="2271600" y="30351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à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文本框 7179"/>
          <p:cNvSpPr/>
          <p:nvPr/>
        </p:nvSpPr>
        <p:spPr>
          <a:xfrm>
            <a:off x="1279440" y="351324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愕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然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文本框 7180"/>
          <p:cNvSpPr/>
          <p:nvPr/>
        </p:nvSpPr>
        <p:spPr>
          <a:xfrm>
            <a:off x="2254320" y="3589200"/>
            <a:ext cx="3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文本框 7181"/>
          <p:cNvSpPr/>
          <p:nvPr/>
        </p:nvSpPr>
        <p:spPr>
          <a:xfrm>
            <a:off x="1279440" y="412272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甸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文本框 7182"/>
          <p:cNvSpPr/>
          <p:nvPr/>
        </p:nvSpPr>
        <p:spPr>
          <a:xfrm>
            <a:off x="2651040" y="4199040"/>
            <a:ext cx="9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à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文本框 7183"/>
          <p:cNvSpPr/>
          <p:nvPr/>
        </p:nvSpPr>
        <p:spPr>
          <a:xfrm>
            <a:off x="1203480" y="473220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偃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旗息鼓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文本框 7184"/>
          <p:cNvSpPr/>
          <p:nvPr/>
        </p:nvSpPr>
        <p:spPr>
          <a:xfrm>
            <a:off x="3082680" y="474804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yǎ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文本框 7185"/>
          <p:cNvSpPr/>
          <p:nvPr/>
        </p:nvSpPr>
        <p:spPr>
          <a:xfrm>
            <a:off x="5390280" y="137160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喟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然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文本框 7186"/>
          <p:cNvSpPr/>
          <p:nvPr/>
        </p:nvSpPr>
        <p:spPr>
          <a:xfrm>
            <a:off x="6293880" y="139536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u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文本框 7187"/>
          <p:cNvSpPr/>
          <p:nvPr/>
        </p:nvSpPr>
        <p:spPr>
          <a:xfrm>
            <a:off x="5165640" y="1989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气喘吁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文本框 7188"/>
          <p:cNvSpPr/>
          <p:nvPr/>
        </p:nvSpPr>
        <p:spPr>
          <a:xfrm>
            <a:off x="7147080" y="198900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xū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文本框 7189"/>
          <p:cNvSpPr/>
          <p:nvPr/>
        </p:nvSpPr>
        <p:spPr>
          <a:xfrm>
            <a:off x="5482440" y="252252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粮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饷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文本框 7190"/>
          <p:cNvSpPr/>
          <p:nvPr/>
        </p:nvSpPr>
        <p:spPr>
          <a:xfrm>
            <a:off x="6603840" y="2502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xiǎ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文本框 7191"/>
          <p:cNvSpPr/>
          <p:nvPr/>
        </p:nvSpPr>
        <p:spPr>
          <a:xfrm>
            <a:off x="5466600" y="304812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淤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泥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文本框 7192"/>
          <p:cNvSpPr/>
          <p:nvPr/>
        </p:nvSpPr>
        <p:spPr>
          <a:xfrm>
            <a:off x="6511680" y="30718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yū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文本框 7193"/>
          <p:cNvSpPr/>
          <p:nvPr/>
        </p:nvSpPr>
        <p:spPr>
          <a:xfrm>
            <a:off x="5318280" y="3589200"/>
            <a:ext cx="11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惊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惶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文本框 7194"/>
          <p:cNvSpPr/>
          <p:nvPr/>
        </p:nvSpPr>
        <p:spPr>
          <a:xfrm>
            <a:off x="6614640" y="358920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uá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文本框 7195"/>
          <p:cNvSpPr/>
          <p:nvPr/>
        </p:nvSpPr>
        <p:spPr>
          <a:xfrm>
            <a:off x="5378400" y="4145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文本框 7196"/>
          <p:cNvSpPr/>
          <p:nvPr/>
        </p:nvSpPr>
        <p:spPr>
          <a:xfrm>
            <a:off x="5558760" y="419904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屹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文本框 7197"/>
          <p:cNvSpPr/>
          <p:nvPr/>
        </p:nvSpPr>
        <p:spPr>
          <a:xfrm>
            <a:off x="6522480" y="41385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文本框 7198"/>
          <p:cNvSpPr/>
          <p:nvPr/>
        </p:nvSpPr>
        <p:spPr>
          <a:xfrm>
            <a:off x="5634720" y="480852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侵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文本框 7199"/>
          <p:cNvSpPr/>
          <p:nvPr/>
        </p:nvSpPr>
        <p:spPr>
          <a:xfrm>
            <a:off x="6461280" y="480852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h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标题 8193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11458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450800" y="22096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a85ff"/>
                </a:solidFill>
                <a:latin typeface="Arial"/>
              </a:rPr>
              <a:t>偃旗息鼓：偃，倒下。原指行军时隐藏行动，不让敌人察觉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a85ff"/>
                </a:solidFill>
                <a:latin typeface="Arial"/>
              </a:rPr>
              <a:t>深不可测：比喻对事物情况琢磨不透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a85ff"/>
                </a:solidFill>
                <a:latin typeface="Arial"/>
              </a:rPr>
              <a:t>浩如烟海：形容文献、资料等极为丰富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a85ff"/>
                </a:solidFill>
                <a:latin typeface="Arial"/>
              </a:rPr>
              <a:t>皮开肉绽：形容伤势严重，多指受严刑拷打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标题 9217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114588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9218"/>
          <p:cNvSpPr/>
          <p:nvPr/>
        </p:nvSpPr>
        <p:spPr>
          <a:xfrm>
            <a:off x="1357200" y="2209680"/>
            <a:ext cx="12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第一部分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文本框 9219"/>
          <p:cNvSpPr/>
          <p:nvPr/>
        </p:nvSpPr>
        <p:spPr>
          <a:xfrm>
            <a:off x="3260880" y="2278080"/>
            <a:ext cx="55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刘邓大军当年挺进大别山给后人的感受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文本框 9220"/>
          <p:cNvSpPr/>
          <p:nvPr/>
        </p:nvSpPr>
        <p:spPr>
          <a:xfrm>
            <a:off x="609480" y="3505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第二部分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—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文本框 9221"/>
          <p:cNvSpPr/>
          <p:nvPr/>
        </p:nvSpPr>
        <p:spPr>
          <a:xfrm>
            <a:off x="3048120" y="34290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具体介绍刘邓大军当年挺进大别山遇到的困难和忍受的苦难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文本框 9222"/>
          <p:cNvSpPr/>
          <p:nvPr/>
        </p:nvSpPr>
        <p:spPr>
          <a:xfrm>
            <a:off x="457200" y="4952880"/>
            <a:ext cx="28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第三部分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—9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文本框 9223"/>
          <p:cNvSpPr/>
          <p:nvPr/>
        </p:nvSpPr>
        <p:spPr>
          <a:xfrm>
            <a:off x="3048120" y="487692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赞颂刘邓大军挺进大别山为中华人民共和国所做的巨大贡献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标题 10241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119520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3366"/>
                </a:solidFill>
                <a:uFillTx/>
                <a:latin typeface="Arial"/>
              </a:rPr>
              <a:t>刘邓大军挺进大别山后，遇到了哪些困难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文本框 10243"/>
          <p:cNvSpPr/>
          <p:nvPr/>
        </p:nvSpPr>
        <p:spPr>
          <a:xfrm>
            <a:off x="898560" y="3602160"/>
            <a:ext cx="81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进入大别山区的部队完全没有后方，没有友军，没有供给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文本框 10244"/>
          <p:cNvSpPr/>
          <p:nvPr/>
        </p:nvSpPr>
        <p:spPr>
          <a:xfrm>
            <a:off x="914400" y="5486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敌人凶狠的围追堵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文本框 10245"/>
          <p:cNvSpPr/>
          <p:nvPr/>
        </p:nvSpPr>
        <p:spPr>
          <a:xfrm>
            <a:off x="838080" y="4191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浓密的苦雨，无边无际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㢓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湿，惊慌逃避的百姓，愕然不懂的方言，单薄的军装腐烂如缕，赤裸的双足皮开肉绽，嗡然不绝的毒虫，莫名的伤病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文本框 10246"/>
          <p:cNvSpPr/>
          <p:nvPr/>
        </p:nvSpPr>
        <p:spPr>
          <a:xfrm>
            <a:off x="990720" y="6095880"/>
            <a:ext cx="29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无奈舍弃武器和战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文本框 10247"/>
          <p:cNvSpPr/>
          <p:nvPr/>
        </p:nvSpPr>
        <p:spPr>
          <a:xfrm>
            <a:off x="4267080" y="5638680"/>
            <a:ext cx="45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断粮断药的部队出现意志薄弱违反军纪的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6666"/>
                </a:solidFill>
                <a:latin typeface="Arial"/>
              </a:rPr>
              <a:t>刘邓大军挺进大别山遭受的苦难，体现了中国革命红军怎样的品格精神？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文本框 11266"/>
          <p:cNvSpPr/>
          <p:nvPr/>
        </p:nvSpPr>
        <p:spPr>
          <a:xfrm>
            <a:off x="762120" y="2590920"/>
            <a:ext cx="78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Arial"/>
              </a:rPr>
              <a:t>奋勇抗争，不畏艰险，不怕牺牲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800000"/>
                </a:solidFill>
                <a:uFillTx/>
                <a:latin typeface="Arial"/>
              </a:rPr>
              <a:t>纪律严明，坚强不屈的革命精神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6666"/>
                </a:solidFill>
                <a:latin typeface="Arial"/>
              </a:rPr>
              <a:t>文中哪些语句为刘邓大军所做的巨大贡献给予了肯定与赞扬？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2" name="文本框 12290"/>
          <p:cNvSpPr/>
          <p:nvPr/>
        </p:nvSpPr>
        <p:spPr>
          <a:xfrm>
            <a:off x="2730960" y="220968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寂静的山岭正在拔地而起，无声地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震撼苍穹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文本框 12291"/>
          <p:cNvSpPr/>
          <p:nvPr/>
        </p:nvSpPr>
        <p:spPr>
          <a:xfrm>
            <a:off x="914400" y="2895480"/>
            <a:ext cx="72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那一年寒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后来它被人称之为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大转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从战略防御到战略进攻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文本框 12292"/>
          <p:cNvSpPr/>
          <p:nvPr/>
        </p:nvSpPr>
        <p:spPr>
          <a:xfrm>
            <a:off x="609480" y="3886200"/>
            <a:ext cx="81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在那个寒冷的冬天，一支军队为了在严酷环境中屹立不倒，需要多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坚强的意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文本框 12293"/>
          <p:cNvSpPr/>
          <p:nvPr/>
        </p:nvSpPr>
        <p:spPr>
          <a:xfrm>
            <a:off x="898560" y="4876920"/>
            <a:ext cx="65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我们此刻享受的美好阳光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也是今人的财富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文本框 12294"/>
          <p:cNvSpPr/>
          <p:nvPr/>
        </p:nvSpPr>
        <p:spPr>
          <a:xfrm>
            <a:off x="685800" y="5486400"/>
            <a:ext cx="86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寂静的山岭之所以震撼苍穹，因为山中有过我们的刘邓大军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文本框 12295"/>
          <p:cNvSpPr/>
          <p:nvPr/>
        </p:nvSpPr>
        <p:spPr>
          <a:xfrm>
            <a:off x="685800" y="6172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中国革命者曾有过的伟大，从另一个角度证明我们人类的伟大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7T04:33:09Z</dcterms:created>
  <dc:creator>admin</dc:creator>
  <dc:description/>
  <cp:keywords/>
  <dc:language>en-US</dc:language>
  <cp:lastModifiedBy>d z</cp:lastModifiedBy>
  <dcterms:modified xsi:type="dcterms:W3CDTF">2017-05-23T07:02:1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  <property fmtid="{D5CDD505-2E9C-101B-9397-08002B2CF9AE}" pid="3" name="Version">
    <vt:r8>1</vt:r8>
  </property>
</Properties>
</file>