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150E-5C3F-414A-85F5-5E22F370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6A8-53DD-417F-A312-5FBA31FF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3C6C-80D7-44C4-B0D3-F1A633C89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D904-6ABE-402F-B1F2-1FC5BB44A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DE2-580F-48DA-BD58-D254326A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BC59-CE13-4CC5-9A7B-BA96A8E8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C2A9-A744-4D76-AA9B-571081FE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788-122F-4F57-92BB-DDEF6731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AE6E-DCF8-4246-838D-57F1F18E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90B-01D2-4EED-9756-A63B16396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1D6-4D73-477F-8E81-39FA5A3F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9D9-90D6-482A-88AF-D3BE5FFB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55EE-CFA6-4594-B318-33565855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432-2336-4D3D-8E78-F32253B5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193-4AFB-45D0-8C3D-D62B6BD3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6823-589E-4046-B479-4D9B0513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1EE-408F-4679-AE0A-A5B7FA75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25C-7DE5-4AA0-BDC6-396AD67B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C28-27FC-4AF5-A471-A734C306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251-D14B-4B8E-BB3B-5C52A5954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8F1A-ADB8-4755-A4AF-33F4DE31E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E538-84A9-4A79-8B02-CA6CB7BE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FF8-6BA6-416D-BE63-99FF9532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F219-B9F8-4238-A5E8-C5D53DE4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F231-A9EF-4E0E-B8D6-26665EF4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5255-3A1C-49CE-B86E-04D8EADF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F42-3391-4F7A-BC65-C2AEB240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D6E-41C6-4525-AA85-2822CAB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EC5-291C-49DC-8805-B5F17C4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7ED-FE51-4F63-A5B7-421C39CA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448-1056-4204-A781-FED28855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A46-C6FF-483A-B031-752830DA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3E1-D014-47EE-A1DC-2E2BAB07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FE3-46E7-49BC-A690-C63FA1BB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806-A134-402E-A195-CDEFFF26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254-A7B1-49D5-BC27-976065F9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D6B-408F-4619-AA78-D1855644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F81-4443-4484-A09A-F31CEE9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C6DC-6973-45C8-B3ED-BB2ACF06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7236000" y="189000"/>
            <a:ext cx="1152360" cy="2288520"/>
          </a:xfrm>
          <a:prstGeom prst="rect">
            <a:avLst/>
          </a:prstGeom>
          <a:solidFill>
            <a:srgbClr val="fbfb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锦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732720" y="1844640"/>
            <a:ext cx="50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商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71640" y="4005360"/>
            <a:ext cx="77724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哀怨的基调  迷离的意境  清丽的语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476280"/>
            <a:ext cx="46753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望帝啼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帝，古代神话中蜀王杜宇的称号。传说他因水灾让位给他的臣子，自己隐居山中，死后灵魂化为杜鹃，又名子规，啼声非常悲凄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动人心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杜宇啼春，与锦瑟有何关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锦瑟繁弦，哀音怨曲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引起诗人无限的悲感，难言的冤愤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如闻杜鹃之凄音，送春归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个“托”字，不但写了杜宇之托春心于杜鹃，也写了佳人之托春心于锦瑟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824260_1078833577390"/>
          <p:cNvPicPr/>
          <p:nvPr/>
        </p:nvPicPr>
        <p:blipFill>
          <a:blip r:embed="rId2"/>
          <a:stretch/>
        </p:blipFill>
        <p:spPr>
          <a:xfrm>
            <a:off x="5292720" y="404640"/>
            <a:ext cx="3616200" cy="625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91080" y="1773360"/>
            <a:ext cx="35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庄生晓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迷蝴蝶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望帝春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托杜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87200" y="2923200"/>
            <a:ext cx="89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典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表现对美好事物的怀恋、迷惘之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476280"/>
            <a:ext cx="882000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鲛人泣泪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物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有海中鲛人泣泪成珠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海外有鲛人，水居如鱼，不废绩织，其眼能泣珠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鲛人泣泪，颗颗成珠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明月、珍珠、眼泪，美丽与痛苦相连，凄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4200" y="3143160"/>
            <a:ext cx="83584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沧海月明这个境界，诗人尤有特殊的深厚感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只将沧海月，高压赤城霞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他对此境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一方面于其高旷皓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十分爱赏，一方面于其凄寒孤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又十分感伤：一种复杂的难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怅惘之怀，溢于言表。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798046_1068387176812"/>
          <p:cNvPicPr/>
          <p:nvPr/>
        </p:nvPicPr>
        <p:blipFill>
          <a:blip r:embed="rId2"/>
          <a:stretch/>
        </p:blipFill>
        <p:spPr>
          <a:xfrm>
            <a:off x="5486400" y="3716280"/>
            <a:ext cx="36576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798046_1068387176812"/>
          <p:cNvPicPr/>
          <p:nvPr/>
        </p:nvPicPr>
        <p:blipFill>
          <a:blip r:embed="rId2"/>
          <a:stretch/>
        </p:blipFill>
        <p:spPr>
          <a:xfrm>
            <a:off x="5143680" y="3857760"/>
            <a:ext cx="365760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684360" y="549360"/>
            <a:ext cx="799128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暖玉生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说蓝田美玉深埋地下，不为人所见，但它那温润的精气却能透过泥土，烟雾般升腾到空中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但美玉的精气远察如在，近观却无，所以可望而不可置诸眉睫之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714240" y="4214880"/>
            <a:ext cx="414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代表了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种异常美好的理想景色，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美好愿望可望而不可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42512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沧海月明珠有泪，蓝田日暖玉生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266560" y="2780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用典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，美好愿望可望而不可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C3303101-2"/>
          <p:cNvPicPr/>
          <p:nvPr/>
        </p:nvPicPr>
        <p:blipFill>
          <a:blip r:embed="rId2"/>
          <a:stretch/>
        </p:blipFill>
        <p:spPr>
          <a:xfrm>
            <a:off x="4284720" y="4184640"/>
            <a:ext cx="4635360" cy="267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642960" y="294804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拢束全篇，明白提出“此情”二字，与开端的“华年”相为呼应。诗句是说：如此情怀，岂待今朝回忆始感无穷怅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在当时早已是令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胜惘然惆怅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朝追忆，其为怅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当如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071720" y="285840"/>
            <a:ext cx="76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此情可待成追忆，只是当时已惘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06960" y="17146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怅惘苦痛、无可奈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28800" y="1643040"/>
            <a:ext cx="41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00"/>
                </a:solidFill>
                <a:uFillTx/>
                <a:latin typeface="Times New Roman"/>
                <a:ea typeface="隶书"/>
              </a:rPr>
              <a:t>诗意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928880" y="2643120"/>
            <a:ext cx="81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谈谈你对这首诗歌主旨的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C3303101-2"/>
          <p:cNvPicPr/>
          <p:nvPr/>
        </p:nvPicPr>
        <p:blipFill>
          <a:blip r:embed="rId2"/>
          <a:stretch/>
        </p:blipFill>
        <p:spPr>
          <a:xfrm>
            <a:off x="4284720" y="4184640"/>
            <a:ext cx="4635360" cy="26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20840" y="2133720"/>
            <a:ext cx="820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悼亡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3604320" y="2955960"/>
            <a:ext cx="97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感怀身世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575520" y="3720960"/>
            <a:ext cx="11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政治寄托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363840" y="4572000"/>
            <a:ext cx="9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咏锦瑟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648880" y="1000080"/>
            <a:ext cx="354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锦瑟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的几种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1413000"/>
            <a:ext cx="82090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、悼亡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朱彝尊曰：此悼亡诗也。意亡者喜弹此，故睹物思人，因托物起兴也。瑟本二十五弦，弦断而为五十弦矣，故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也，取断弦之意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弦一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思华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二十五岁而殁也。蝴蝶、杜鹃言已化去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珠有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哭之也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玉生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已葬也，犹言埋香葬玉也。此情岂待今日追忆乎？是当时生存之日已常忧其至此，而预为之惘然，必其婉弱多病，故云然也。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李义山诗集集评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卷二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268360" y="189000"/>
            <a:ext cx="4896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对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锦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几种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981000"/>
            <a:ext cx="8640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、感怀身世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汪师韩云：锦瑟乃是以古瑟自况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世所用者，二十五弦之瑟，而此乃五十弦之古制，不为时尚；成此才学，有此文章，即已亦不解其故，故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犹言无谓也。自顾头颅老大，一弦，一柱，盖已半百之年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晓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喻少年时事，义山早负才名，登第入仕，都如一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春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者，壮心也，壮志消歇，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望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杜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才已成隔世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皆宝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沧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则有遗珠之叹，难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照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生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者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精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虽不为人来，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之精气，自在蓝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追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谓后世之人追忆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者，犹云必传于后无疑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指现在言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惘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所适从也。言后世之传，虽可自信，而即今沦落为可叹耳。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诗学纂闻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340000" y="189000"/>
            <a:ext cx="4896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对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锦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几种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李商隐"/>
          <p:cNvPicPr/>
          <p:nvPr/>
        </p:nvPicPr>
        <p:blipFill>
          <a:blip r:embed="rId2"/>
          <a:stretch/>
        </p:blipFill>
        <p:spPr>
          <a:xfrm>
            <a:off x="0" y="1981080"/>
            <a:ext cx="3048120" cy="4496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771640" y="685800"/>
            <a:ext cx="6193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字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义山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号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玉谿生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牛李党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影响，被人排挤，潦倒终身。所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咏史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多托古讽今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无题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很有意蕴。擅长律、绝，富于文采，具有独特风格，特别是他的近体律绝，其中的优秀篇章都具有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深婉绵密、典丽精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艺术特色。有人认为李商隐诗有用典太多、意旨隐晦之病。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义山诗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95280" y="333360"/>
            <a:ext cx="46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333399"/>
                </a:solidFill>
                <a:uFillTx/>
                <a:latin typeface="Times New Roman"/>
                <a:ea typeface="隶书"/>
              </a:rPr>
              <a:t>李商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1484280"/>
            <a:ext cx="83534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、政治寄托说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吴汝沦云：此诗疑为感国祚兴衰而作。五十弦，一弦一柱，则百年矣。盖自安史之乱至义山作诗，时几百年也。梦迷蝴蝶，谓天宝政治昏乱也；望帝春心，谓上皇失势之乱也。沧海明珠，谓利尽南海；蓝玉生烟，谓斯人憔悴也。结言不但后人感吊，即当时识者已有颠覆之忧也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桐城先生评点唐诗鼓吹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68360" y="189000"/>
            <a:ext cx="4896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对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锦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几种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11280" y="1197000"/>
            <a:ext cx="78483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、咏锦瑟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黄）山谷云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余读此诗，殊不晓其意。后以问东坡，东坡云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古今乐志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云锦瑟之为器也，其弦五十，其柱如之，其声也，适、怨、清、和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案李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庄生晓梦迷蝴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适也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望帝春心托杜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怨也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沧海月明珠有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清也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蓝田日暖工生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和也。一篇之中，曲尽其意，史称其瑰迈奇古，信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苕溪渔隐丛话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前集卷二十二引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缃素杂记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68360" y="189000"/>
            <a:ext cx="4896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对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锦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几种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09480" y="53352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  <a:ea typeface="隶书"/>
              </a:rPr>
              <a:t>《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Arial"/>
                <a:ea typeface="隶书"/>
              </a:rPr>
              <a:t>锦瑟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  <a:ea typeface="隶书"/>
              </a:rPr>
              <a:t>》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Arial"/>
                <a:ea typeface="隶书"/>
              </a:rPr>
              <a:t>背景与题旨争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95280" y="1773360"/>
            <a:ext cx="5715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锦瑟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约作于诗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时。当时诗人刚刚被罢官，回家闲居，不久病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14240" y="3429000"/>
            <a:ext cx="5715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张中行的观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古今解此诗者总有几十家吧，其结果自然众说纷纭，莫衷一是。我有时想，与其胶柱鼓此锦瑟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不如重点取意境而不求甚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824260_1078831791484"/>
          <p:cNvPicPr/>
          <p:nvPr/>
        </p:nvPicPr>
        <p:blipFill>
          <a:blip r:embed="rId2"/>
          <a:stretch/>
        </p:blipFill>
        <p:spPr>
          <a:xfrm>
            <a:off x="6442200" y="1341360"/>
            <a:ext cx="270180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1500120" y="1357200"/>
            <a:ext cx="63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乐游原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向晚意不适， 驱车登古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夕阳无限好， 只是近黄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571680" y="1071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夜雨寄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君问归期未有期， 巴山夜雨涨秋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何当共剪西窗烛， 却话巴山夜雨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285840" y="92880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题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见时难别亦难， 　　东风无力百花残。 　　春蚕到死丝方尽， 　　蜡炬成灰泪始干。 　　晓镜但愁云鬓改， 　　夜吟应觉月光寒。 　　蓬山此去无多路， 　　青鸟殷勤为探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500040" y="357120"/>
            <a:ext cx="8072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商隐诗里面的那种残破、那种没落、那种凄婉之美，觉得好像是最后的斜阳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像是“留得残荷听雨声”，最后的败荷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像是那种“夜阑客散之后，更持红烛赏残花”，最后那一点点心情在人年轻的时候是根本无法体会的。但是你背了，留在心里，有的时候触摸到的可能是它表面的一种滋味，而非它本身的质地，但等一番境遇之后，是一定能体会内里的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79640" y="2205000"/>
            <a:ext cx="774036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锦瑟无端五十弦，一弦一柱思华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庄生晓梦迷蝴蝶，望帝春心托杜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沧海月明珠有泪，蓝田日暖玉生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情可待成追忆，只是当时已惘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547640" y="692280"/>
            <a:ext cx="472464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锦　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　　　　　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李商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11280" y="2924280"/>
            <a:ext cx="788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一联都代表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种</a:t>
            </a:r>
            <a:r>
              <a:rPr b="1" lang="zh-CN" sz="3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心境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一种</a:t>
            </a:r>
            <a:r>
              <a:rPr b="1" lang="zh-CN" sz="3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心绪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你试着说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424960" y="1505880"/>
            <a:ext cx="4905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国诗歌史上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斯芬克思之谜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842920" y="2895480"/>
            <a:ext cx="6148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华年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美丽的青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宋）贺铸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锦瑟华年谁与度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玉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元好问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人锦瑟怨华年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论诗三十首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聆锦瑟之繁弦，思华年之往事；音繁而绪乱，怅惘以难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锦瑟诗画欣赏"/>
          <p:cNvPicPr/>
          <p:nvPr/>
        </p:nvPicPr>
        <p:blipFill>
          <a:blip r:embed="rId2"/>
          <a:stretch/>
        </p:blipFill>
        <p:spPr>
          <a:xfrm>
            <a:off x="0" y="3733920"/>
            <a:ext cx="2895480" cy="2616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50920" y="907920"/>
            <a:ext cx="8599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五十弦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瑟，到底原有多少条弦，到李商隐时代又实有多少条弦，其实都不必“考证”，诗人不过借以遣词见意而已。据记载，古瑟五十弦，所以玉谿写瑟，常用“五十”之数，如“雨打湘灵五十弦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商隐虚写五十弦，正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制造气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  <a:ea typeface="华文新魏"/>
              </a:rPr>
              <a:t>以见往事之千重，情肠之九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871720" y="1413000"/>
            <a:ext cx="3343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锦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端五十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弦一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思华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35680" y="3572640"/>
            <a:ext cx="19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锦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起兴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思忆青春年华，惋惜、伤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18760" y="2205000"/>
            <a:ext cx="262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锦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美好年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弦一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年又一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2214720" y="4572000"/>
            <a:ext cx="7715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聆锦瑟之繁弦，思华年之往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音繁而绪乱，怅惘以难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91080" y="1773360"/>
            <a:ext cx="35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庄生晓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迷蝴蝶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望帝春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托杜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71680" y="500040"/>
            <a:ext cx="528624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隶书"/>
                <a:ea typeface="隶书"/>
              </a:rPr>
              <a:t>1</a:t>
            </a:r>
            <a:r>
              <a:rPr b="1" lang="zh-CN" sz="2600" spc="-1" strike="noStrike">
                <a:solidFill>
                  <a:srgbClr val="cc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庄周梦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庄周梦见自己变成了一只翩翩起舞的蝴蝶。庄周非常快乐，悠然自得，竟然忘记了自己是庄周。梦醒后，庄周十分疑惑，不知是自己做梦变成了蝴蝶，还是蝴蝶做梦变成了庄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佳人锦瑟，一曲繁弦，惊醒了诗人的梦境，不复成寐。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面隐约包涵着美好的情境，却又是虚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缈的梦境。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生如梦的惆怅和迷惘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824260_1078832232687"/>
          <p:cNvPicPr/>
          <p:nvPr/>
        </p:nvPicPr>
        <p:blipFill>
          <a:blip r:embed="rId2"/>
          <a:stretch/>
        </p:blipFill>
        <p:spPr>
          <a:xfrm>
            <a:off x="6012000" y="333360"/>
            <a:ext cx="2952720" cy="6048360"/>
          </a:xfrm>
          <a:prstGeom prst="rect">
            <a:avLst/>
          </a:prstGeom>
          <a:ln w="0">
            <a:noFill/>
          </a:ln>
        </p:spPr>
      </p:pic>
      <p:sp>
        <p:nvSpPr>
          <p:cNvPr id="69" name="矩形 6"/>
          <p:cNvSpPr/>
          <p:nvPr/>
        </p:nvSpPr>
        <p:spPr>
          <a:xfrm>
            <a:off x="571680" y="535788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表现了对美好情感的追怀，尽管欢乐短暂，也足以珍惜一生一世。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7:15:50Z</dcterms:created>
  <dc:creator/>
  <dc:description/>
  <cp:keywords/>
  <dc:language>en-US</dc:language>
  <cp:lastModifiedBy/>
  <dcterms:modified xsi:type="dcterms:W3CDTF">2016-01-26T03:35:56Z</dcterms:modified>
  <cp:revision>1</cp:revision>
  <dc:subject>  </dc:subject>
  <dc:title>  </dc:title>
</cp:coreProperties>
</file>