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C77-025A-488E-B01C-2B1BACBD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444-EBB2-40C5-91FC-28DF594F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5CA-FFFD-4699-B516-7AE1633A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93A-6E6A-4E7A-B247-08363B6F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CAC5-D11C-4DEF-80C6-8DECD49F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41E4-C587-43DC-8D87-D8E3C58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7598-D497-4B9F-AC41-406D46B6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5752-E1F1-49B0-B78B-5EA76B09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5CD1-7E90-4543-9CF6-A6A78566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E08A-83AA-42EC-8066-677D27EC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AEF4-EA86-4216-A2D7-A7EE49F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7FE-7E4F-47B2-97CB-F08F6E0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DDE3-184F-41B8-BD2D-6002C6D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1794-F3D3-4C87-983C-61CB353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C423-1C6F-4AB2-BDC5-52F188B0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F42F-E60A-4629-9965-5779FAB6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4E00-1BB3-4865-8117-B1CBA770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4E7-0E2E-4975-80C3-1A5B60A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283-EF2B-4E24-8611-61DE571F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B52-A26B-4C37-BE66-1299403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FB4-63BC-4C13-9097-A933884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6E2-E931-4F9B-AC3A-C9070E68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BE9-7DB0-495F-85C4-7BE81CE6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DF8-4F78-4EFE-B6EF-8FA4F0F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6eb4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6eb4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C93-5695-40B8-80D1-76ECADD99220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537-70E6-4A43-967B-ADB756770947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c.dc.yesky.com/pic/bizhi/fj/164/504164_2.s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C:/Documents%20and%20Settings/Owner/Local%20Settings/Temp/Rar$DI00.406/&#38182;&#29791;3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Administrator/&#26700;&#38754;/&#36951;&#20256;&#30149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49528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春心莫与花争发—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95288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6eb4"/>
                </a:solidFill>
                <a:latin typeface="黑体"/>
                <a:ea typeface="黑体"/>
              </a:rPr>
              <a:t>一寸相思一寸灰 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00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夕阳无限好——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590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身无彩凤双飞翼—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33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何当共剪西窗烛—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1676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6eb4"/>
                </a:solidFill>
                <a:latin typeface="黑体"/>
                <a:ea typeface="黑体"/>
              </a:rPr>
              <a:t>只是近黄昏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2743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6eb4"/>
                </a:solidFill>
                <a:latin typeface="黑体"/>
                <a:ea typeface="黑体"/>
              </a:rPr>
              <a:t>心有灵犀一点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809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6eb4"/>
                </a:solidFill>
                <a:latin typeface="黑体"/>
                <a:ea typeface="黑体"/>
              </a:rPr>
              <a:t>却话巴山夜雨时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28600"/>
            <a:ext cx="266688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黑体"/>
              </a:rPr>
              <a:t>名句填空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望帝啼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望帝， 传说周朝末年蜀地的君主，名叫杜宇，后来禅位退隐，不幸国 亡 身死，魂化为鸟，暮春啼叫，以至口中流血，其声哀怨悲凄，动人心腑，名为杜鹃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2421000"/>
            <a:ext cx="7993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杜鹃  杜鹃啼血猿哀鸣。白居易《琵琶行》  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春心  春心莫共花争发，一寸相思一寸灰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一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般指对爱情的向往追求，也可借喻对美好事物的 追求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望帝          失国         失命          哀伤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472428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诗人                     春心              爱情                      哀伤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558972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当爱已成往事，留下的只有感伤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2492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愁苦    哀怨   思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174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沧海月明珠有泪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蓝天日暖玉生烟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14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象青苍的大海之中明月映照着寂寂流泪的遗珠，象蓝田玉山之上升起丝丝缕缕可望不可及的青烟．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37396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沧海珠泪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鲛人泣泪 张华《博物志》里有海中鲛人泣泪成珠的故事。南海有蛟人，水居如鱼，不废织绩，眼能泣珠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珠生于蚌，蚌在于海，每当夜静月明，蚌则向月张开，以养其珠，于是珠得月华，晶莹如同泪珠一般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42100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蓝田玉烟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传说蓝田美玉深埋地下，不为人所见，但它那温润的精气却能透过泥土，烟雾般升腾到空中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93372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珠玉             沉于海埋于土            泣泪生烟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4581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诗人           沉寂下僚 半世蹉跎       自伤自怜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5157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年少时   玉生烟      而今日      珠有泪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80536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怎一个           字了得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51280" y="5589720"/>
            <a:ext cx="66024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 rot="21360600">
            <a:off x="6732720" y="3428640"/>
            <a:ext cx="1828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沧海遗珠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良玉深藏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6922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沧海月明珠有泪，蓝田日暖玉生烟。”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89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颈联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341360"/>
            <a:ext cx="8137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沧海、明月、明珠、泪珠”，这一连串凭借联想交融起的意象，幻化成了一个难以分辨的可望而不可即的又带有哀婉的妙境；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蓝田日暖玉生烟”代表了一种异常美好的理想景色，只是它只能远观，不能把握，也无法亲近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此联用阴阳冷暖的不同境界展现了诗人高洁的感情、执著的爱慕和无尽的哀思与怅恨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805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行楷"/>
              </a:rPr>
              <a:t>用典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绝美风景壁纸极品选萃桌面壁纸下载-风景壁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-38088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此情可待成追忆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只是当时已惘然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371600"/>
            <a:ext cx="236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这种情境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何须今天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再去追忆，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既便在它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们产生的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当时就让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人不胜惘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然……</a:t>
            </a: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.</a:t>
            </a:r>
            <a:r>
              <a:rPr b="1" lang="en-US" sz="3600" spc="-1" strike="noStrike">
                <a:solidFill>
                  <a:srgbClr val="cccc00"/>
                </a:solidFill>
                <a:latin typeface="华文新魏"/>
                <a:ea typeface="华文新魏"/>
              </a:rPr>
              <a:t>！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066680"/>
            <a:ext cx="98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此情可待成追忆，只是当时已惘然。”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2602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汉仪菱心体简"/>
              </a:rPr>
              <a:t>尾联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1337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7d7a"/>
                </a:solidFill>
                <a:latin typeface="Arial"/>
                <a:ea typeface="黑体"/>
              </a:rPr>
              <a:t>如此哀怨怅恨的情怀哪里是现在回忆才感到的啊，在当时就已经令人惘然无措了。既然此等情怀在当时就如此，那么今朝追忆此情又会惹起怎样的怅恨，怎样的哀怨，怎样的苦痛呢？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　　——诗人直截了当地表达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自己的怅惘苦痛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260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汉仪菱心体简"/>
              </a:rPr>
              <a:t>直抒胸臆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42920" y="260280"/>
            <a:ext cx="7561440" cy="54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d7a"/>
                </a:solidFill>
                <a:latin typeface="Arial"/>
                <a:ea typeface="楷体_GB2312"/>
              </a:rPr>
              <a:t>诗歌内容：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  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（首联）锦瑟牵情，回首往事             （颔联）往事如梦，感伤深沉             （颈联）对月而泣，美梦如烟             （尾联）追忆此情，当时惘然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d7a"/>
                </a:solidFill>
                <a:latin typeface="Arial"/>
                <a:ea typeface="楷体_GB2312"/>
              </a:rPr>
              <a:t>诗的情感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追忆华年的迷惘与感伤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d7a"/>
                </a:solidFill>
                <a:latin typeface="Arial"/>
                <a:ea typeface="楷体_GB2312"/>
              </a:rPr>
              <a:t>诗的写作特点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大量用典（往往不用原典的事理，而着眼于从原典中生发诗意的联想，借以传递情绪和感受。 ）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1557360"/>
            <a:ext cx="741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后人对《锦瑟》的解读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、对亡妻的深情悼念（悼亡诗）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、思念而不能相聚的痛苦（爱情诗）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、作者的身世自伤（咏怀诗） 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468360" y="765000"/>
            <a:ext cx="8136000" cy="46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何事：</a:t>
            </a:r>
            <a:r>
              <a:rPr b="1" lang="en-US" sz="3600" spc="-1" strike="noStrike">
                <a:solidFill>
                  <a:srgbClr val="ffe2c5"/>
                </a:solidFill>
                <a:latin typeface="Arial"/>
                <a:ea typeface="楷体_GB2312"/>
              </a:rPr>
              <a:t>  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何象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何情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何技：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起兴，工用典，   语言绮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763640" y="1484280"/>
            <a:ext cx="6769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理想成空  人生如梦  爱情悲剧   功业无成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63640" y="3860640"/>
            <a:ext cx="4967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追忆华年的迷惘与感伤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627280" y="5300640"/>
            <a:ext cx="5616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量用典（往往不用原典的事理，而着眼于从原典中生发诗意的联想，借以传递情绪和感受。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何人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692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诗人自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3860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为什么受伤的总是我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333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24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庄生梦蝶  望帝啼鹃  沧海珠泪  蓝田玉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7a"/>
                </a:solidFill>
                <a:latin typeface="Arial"/>
              </a:rPr>
              <a:t>学有所得，授人以鱼</a:t>
            </a:r>
            <a:endParaRPr b="0" lang="en-US" sz="4400" spc="-1" strike="noStrike">
              <a:solidFill>
                <a:srgbClr val="007d7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52070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知人论世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708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品评意象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350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体悟情感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4292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赏析技法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1" name="20080112_e1e00e5ac1fb423ec8c2nRkNMHMyUrmH" descr=""/>
          <p:cNvPicPr/>
          <p:nvPr/>
        </p:nvPicPr>
        <p:blipFill>
          <a:blip r:embed="rId2"/>
          <a:srcRect l="16814" t="19734" r="12408" b="9203"/>
          <a:stretch/>
        </p:blipFill>
        <p:spPr>
          <a:xfrm>
            <a:off x="5076720" y="1557360"/>
            <a:ext cx="2735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1">
                                  <p:stCondLst>
                                    <p:cond delay="6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40464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作者简介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41300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李商隐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约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813—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约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858)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晚唐诗人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字义山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0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号玉谿生，河南沁阳人。出身小官僚世家，祖父、父亲皆早亡，幼年身体羸弱，性格内向敏感。他年轻时受牛党令狐楚赏识而中进士，登第后娶李党骨干王茂元之女为妻，被视为骑墙派。无意卷入朋党之争的漩涡，却受到两派的打压、排挤，终身沉寂下僚，抑郁不得志。其情感经历也异于常人，年轻时曾有一场为世俗所不容的爱情，后与妻子琴瑟相合，但中年丧妻。四十六岁就悒郁而亡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知人论世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765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李商隐的诗为何会陷入既朦胧晦涩又妇孺皆知的悖论？为何人人猜测不清的诗句却为大家所热爱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3" name="393787c076fc22540ff477b3" descr=""/>
          <p:cNvPicPr/>
          <p:nvPr/>
        </p:nvPicPr>
        <p:blipFill>
          <a:blip r:embed="rId2"/>
          <a:stretch/>
        </p:blipFill>
        <p:spPr>
          <a:xfrm>
            <a:off x="6588000" y="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4360" y="5445000"/>
            <a:ext cx="84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能让读者产生共鸣的作品就是成功的作品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能让不同时代的读者产生共鸣的作品就是伟大的作品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205000"/>
            <a:ext cx="6551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诗人一己的生命经历     我们共通的情感体验 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那悄然流逝的青春年华，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那缤纷美丽的遥远梦想，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那缱绻悱恻的纯真情感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伤感    痛惜   追忆   追求  幻灭  迷茫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18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扩展延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42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朦胧多义   代入填充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mszb2006061000036v01b006"/>
          <p:cNvPicPr/>
          <p:nvPr/>
        </p:nvPicPr>
        <p:blipFill>
          <a:blip r:embed="rId2"/>
          <a:stretch/>
        </p:blipFill>
        <p:spPr>
          <a:xfrm>
            <a:off x="468360" y="2276640"/>
            <a:ext cx="8207280" cy="4292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1258920" y="549360"/>
            <a:ext cx="54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cc0000"/>
                </a:solidFill>
                <a:uFillTx/>
                <a:latin typeface="Times New Roman"/>
                <a:ea typeface="隶书"/>
              </a:rPr>
              <a:t>锦　瑟</a:t>
            </a:r>
            <a:endParaRPr b="0" lang="en-US" sz="9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435640" y="1628640"/>
            <a:ext cx="1981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ea typeface="华文行楷"/>
                <a:hlinkClick r:id="rId3"/>
              </a:rPr>
              <a:t>李商隐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2"/>
          </p:cNvPr>
          <p:cNvSpPr/>
          <p:nvPr/>
        </p:nvSpPr>
        <p:spPr>
          <a:xfrm>
            <a:off x="468360" y="476280"/>
            <a:ext cx="8207280" cy="67068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锦瑟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1484280"/>
            <a:ext cx="532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锦瑟无端五十弦，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一弦一柱思华年。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庄生晓梦迷蝴蝶，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望帝春心托杜鹃。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沧海月明珠有泪，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蓝田日暖玉生烟。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此情可待成追忆，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只是当时已惘然。</a:t>
            </a: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4032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31237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锦瑟</a:t>
            </a:r>
            <a:r>
              <a:rPr b="0" lang="en-US" sz="4000" spc="-1" strike="noStrike">
                <a:solidFill>
                  <a:srgbClr val="007d7a"/>
                </a:solidFill>
                <a:latin typeface="黑体"/>
                <a:ea typeface="黑体"/>
              </a:rPr>
              <a:t>无端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五十弦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一弦一柱思</a:t>
            </a:r>
            <a:r>
              <a:rPr b="0" lang="en-US" sz="4000" spc="-1" strike="noStrike">
                <a:solidFill>
                  <a:srgbClr val="007d7a"/>
                </a:solidFill>
                <a:latin typeface="黑体"/>
                <a:ea typeface="黑体"/>
              </a:rPr>
              <a:t>华年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414972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锦瑟啊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来由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地为什么竟有五十根弦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那弦弦柱柱所奏出的悲音使我不由自主地思忆起那逝去的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盛岁年华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1341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锦瑟无端五十弦，一弦一柱思华年。”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708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诗人以“锦瑟”喻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美好的“华年”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，以“思”引发“无端”之问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开门见山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，点出自己因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回首青春往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而引发的一声感慨。</a:t>
            </a:r>
            <a:r>
              <a:rPr b="1" lang="en-US" sz="3600" spc="-1" strike="noStrike">
                <a:solidFill>
                  <a:srgbClr val="ffe2c5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54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汉仪菱心体简"/>
              </a:rPr>
              <a:t>首联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5516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起兴   比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庄生晓梦迷蝴蝶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望帝春心托杜鹃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36572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象庄生梦化蝴蝶，变幻迷离，晓梦醒来，转眼成空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象望帝身死化魂，满腔的春情春恨，都托于泣血悲啼的杜鹃．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981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庄生晓梦迷蝴蝶，望帝春心托杜鹃。”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汉仪菱心体简"/>
              </a:rPr>
              <a:t>颔联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89000"/>
            <a:ext cx="8075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庄生梦蝶”包含了诗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美好却又十分虚缈的心灵寄托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；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5805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典故  传说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248600" y="0"/>
            <a:ext cx="1895400" cy="1562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47520" y="3276720"/>
            <a:ext cx="337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杜鹃啼血”包含了诗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无限的悲感、难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言的愁绪与怨愤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22480" y="44956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而“晓、春”又似乎蕴含了诗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对人生之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路的光明与生机的一种期盼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424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庄周梦蝶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《庄子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齐物论》载：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昔者庄周梦为蝴蝶，栩栩然蝴蝶也，自喻适志与，不知周也。俄然觉，则遽遽然周也。不知周之梦为蝴蝶与？蝴蝶之梦周与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3657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庄周   梦中   蝴蝶        快乐    梦后            怅然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2924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一天，庄周梦见自己变成了一只翩翩起舞的蝴蝶。庄周非常快乐，悠然自得，竟然忘记了自己是庄周。梦醒后，庄周十分疑惑，不知是自己做梦变成了蝴蝶，还是蝴蝶做梦变成了庄周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01336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             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及第娶妻仕进  快乐    现在  发妻早逝 沉寂下僚   晓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0" y="260280"/>
            <a:ext cx="11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意象把握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5589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再回首时，多少往事云烟如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01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诗人     早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1:02:18Z</dcterms:created>
  <dc:creator>dfxh</dc:creator>
  <dc:description/>
  <dc:language>en-US</dc:language>
  <cp:lastModifiedBy>zmj</cp:lastModifiedBy>
  <dcterms:modified xsi:type="dcterms:W3CDTF">2013-03-29T11:20:37Z</dcterms:modified>
  <cp:revision>29</cp:revision>
  <dc:subject/>
  <dc:title>锦        瑟</dc:title>
</cp:coreProperties>
</file>