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7E6-7699-4BD5-9D0E-D1621A4D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31F-6694-4AD9-AA72-7FD66489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840-70A6-4F25-B5AC-1529AE14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1BE-EA6E-44BB-B092-87C1F429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7F9-8F8A-4747-B54A-CB83F834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6B7-EC41-46E6-99D6-43F26AC6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083-3D7F-41D1-8864-896503F0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EF7-EA20-4211-BC76-69D042D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F47-DB0B-41DE-856C-BB9E7632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2CB-BB06-4BF8-9DE8-4949533A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527-F105-4103-8361-B5F42FE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2A6-B56E-4EFD-9A2C-A898BA71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51F7-46E6-414E-BCAE-F531F349E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贾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商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基本解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诗写贾谊与汉文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臣遇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片段史实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托古讽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抒发自己的感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一般封建文人心目中，这大概是值得大加渲染的君臣遇合盛事。但诗人却独具只眼，抓住不为人们所注意的“问鬼神”之事，翻出了一段新警透辟、发人深省的诗的议论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宣室求贤访逐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汉文帝在宣室求问被贬谪的贤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句“宣室求贤访逐臣”正面写汉文帝宣室召见贾谊。一“求”一“访”，把文帝求贤意愿之殷切和诚恳表现出来，特别还是对一位被贬的臣子，真可谓贤明的君主了。这是诗人欲抑先扬之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贾生才调更无伦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贾谊的才华和格调更是无可比伦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贾生才调更无伦”是对贾谊的赞扬，着眼于其才华高超、议论风发和神采照人，无与伦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怜夜半虚前席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至深夜汉文帝挪动双膝靠近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句“可怜夜半虚前席”是全诗承、转的关键。“可怜”，可叹，诗人笔触一转，文帝虚心倾听的细节成了诗人叹息和微讽的对象。着一“虚”字，举重若轻，把文帝前面求贤的举动从根本上让人产生疑问，留下悬念，诗情就显得跌宕起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问苍生问鬼神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惜他不垂询民生却是穷究鬼神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末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不问苍生问鬼神”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诗警策之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是直接对“可怜”一词的回应。不问苍生问鬼神。郑重求贤，虚心垂询，推重叹服，乃至“夜半前席”，不是为了询求治国安民之道，却是为了“问鬼神”的本原问题！这究竟是什么样的求贤，对贤者又究竟意味着什么啊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样的求贤对天下苍生有什么意义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样的君臣遇合对臣子来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幸还是不幸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人仍只点破而不说尽──通过“问”与“不问”的对照，让读者自己对此得出应有的结论。辞锋极犀利，讽刺极辛辣，感概极深沉，却又极抑扬吞吐之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鉴赏要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诗托古讽今，言有尽而意无穷，含蓄丰富。诗中有讽刺，有感慨。从表面看，诗人是讽汉文帝，实际上是托古讽今，晚唐许多皇帝大都崇佛或信道，服药求仙，以求长生，而不问民生疾苦，更难礼贤下士。在寓讽时主的同时，诗中又寓有诗人自己怀才不遇的深沉感慨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怜贾谊正是自怜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人夙怀“欲回天地”之志，但偏遭党争，沉沦下僚，诗中常有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贾生年少虚垂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之类的感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7:52:07Z</dcterms:created>
  <dc:creator>dk</dc:creator>
  <dc:description/>
  <dc:language>en-US</dc:language>
  <cp:lastModifiedBy>dk</cp:lastModifiedBy>
  <dcterms:modified xsi:type="dcterms:W3CDTF">2012-02-07T08:04:44Z</dcterms:modified>
  <cp:revision>4</cp:revision>
  <dc:subject/>
  <dc:title>贾生</dc:title>
</cp:coreProperties>
</file>