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C47-1817-4EF0-BD32-9149A28B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10B-E736-400B-A09F-E56799F5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17F-8408-4999-BAEC-BFDC095A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E0E-0361-43BA-8A66-02DC6846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E2B-BD8B-45A8-973C-24D23C1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BFC-707D-4355-A307-DF2BEB81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E4E-6E17-4918-9139-DAED534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7C5-D932-4CEE-BC88-DE4FDC40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408-F650-49EE-85B8-40FD7CC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AB4-ACFC-4D0C-BF0C-7E26EF11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B10-6A87-453E-A355-2AB0787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4E8-AF18-4CE5-BBD1-DD89998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7C5C-6190-4B43-AB23-8D903E8732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image/8640bf8b482f164f9f2fb40f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image/8640bf8b482f164f9f2fb40f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152388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7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《贾生》</a:t>
            </a:r>
            <a:endParaRPr b="0" i="1" lang="en-US" sz="72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91120" y="3886200"/>
            <a:ext cx="2666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—</a:t>
            </a:r>
            <a:r>
              <a:rPr b="0" i="1" lang="zh-CN" sz="72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李商隐</a:t>
            </a:r>
            <a:endParaRPr b="0" i="1" lang="en-US" sz="72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911 C 0.02344 -0.14659 0.06424 -0.22451 0.1132 -0.22451 C 0.18525 -0.22451 0.24428 -0.14335 0.24428 -0.04 C 0.24428 -0.00647 0.2382 0.02451 0.22639 0.05179 C 0.22848 0.05179 -4.44444E-006 0.46381 -4.44444E-006 0.46751 C -4.44444E-006 0.46381 -0.22847 0.05179 -0.22656 0.05179 C -0.23836 0.02451 -0.24392 -0.00647 -0.24392 -0.04 C -0.24392 -0.14335 -0.18541 -0.22451 -0.11111 -0.22451 C -0.06441 -0.22451 -0.02343 -0.14659 -4.44444E-006 -0.0911 Z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911 C 0.02344 -0.14659 0.06424 -0.22451 0.1132 -0.22451 C 0.18525 -0.22451 0.24428 -0.14335 0.24428 -0.04 C 0.24428 -0.00647 0.2382 0.02451 0.22639 0.05179 C 0.22848 0.05179 -4.44444E-006 0.46381 -4.44444E-006 0.46751 C -4.44444E-006 0.46381 -0.22847 0.05179 -0.22656 0.05179 C -0.23836 0.02451 -0.24392 -0.00647 -0.24392 -0.04 C -0.24392 -0.14335 -0.18541 -0.22451 -0.11111 -0.22451 C -0.06441 -0.22451 -0.02343 -0.14659 -4.44444E-006 -0.0911 Z">
                                      <p:cBhvr>
                                        <p:cTn id="9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636360" y="47628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华文行楷"/>
              </a:rPr>
              <a:t>宣室求贤访逐臣，贾生才调更无伦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268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前两句纯从正面着笔，丝毫不露贬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首句特标“求”、“访”（咨询），仿佛热烈颂扬文帝贤意愿之切、之殷，待贤态度之诚、之谦，所谓求贤若渴，虚怀若谷。“求贤”而至“访逐臣”，更可见其网罗贤才已达到“野无遗贤”的程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幼圆"/>
              </a:rPr>
              <a:t>次句隐括文帝对贾谊的推服赞叹之词。“才调”，兼包才能风调，与“更无伦”的赞叹配合，令人宛见贾生少年才俊、议论风发、华采照人的精神风貌，诗的形象感和咏叹的情调也就自然地显示出来。这两句，由“求”而“访”而赞，层层递进，表现了文帝对贾生的推服器重。如果不看下文，几乎会误认为这是一篇圣主求贤颂。其实，这正是作者故弄狡狯之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2198520" y="685800"/>
            <a:ext cx="77612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可怜夜半虚前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6684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第三句承、转交错，是全诗枢纽。承，即所谓“夜半前席”，把文帝当时那种虚心垂询、凝神倾听、以至于“不自知膝之前于席”的情状描绘得维妙维肖，使历史陈迹变成了充满生活气息、鲜明可触的画面。这种善于选取典型细节，善于“从小物寄慨”的艺术手段，正是李商隐咏史诗的绝招。通过这个生动的细节的渲染，才把由“求”而“访”而赞的那架“重贤”的云梯升到了最高处；而“转”，也就在这戏剧高潮中同时开始。不过，它并不露筋突骨，硬转逆折，而是用咏叹之笔轻轻拨转——在“夜半虚前席”前加上可怜两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87280" y="620640"/>
            <a:ext cx="75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宋体-PUA"/>
              </a:rPr>
              <a:t>可怜，即可惜。不用感情色彩强烈的“可悲”、“可叹”一类词语，只说“可怜”，一方面是为末句── 一篇之警策预留地步；另一方面也是因为在这里貌似轻描淡写的“可怜”，比剑拔弩张的“可悲”、“可叹”更为含蕴，更耐人寻味。仿佛给文帝留有余地，其实却隐含着冷隽的嘲讽，可谓似轻而实重。“虚”者，空自、徒然之谓。虽只轻轻一点，却使读者对文帝“夜半前席”的重贤姿态从根本上产生了怀疑，可谓举重而若轻。如此推重贤者，何以竟然成“虚”？诗人引而不发，给读者留下了悬念，诗也就显出跌宕波折的情致，而不是一泻无余。这一句承转交错的艺术处理，精炼，自然，和谐，浑然无迹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6458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可爱：可怜体无比，阿母为汝求。（《孔雀东南飞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　可怜九月初三夜，露似珍珠月似弓。（白居易《暮江吟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　可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　　 ② 可惜：了却君王天下事，赢得生前身后名。可怜白发生。（辛弃疾《破阵子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　西北望长安，可怜无数山。（辛弃疾《菩萨蛮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　　 ③可怪：可怜陌上离离草，一种逢春各短长。（陆游《平水》）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140360" y="3573360"/>
            <a:ext cx="9144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可怜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916360" y="692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不问苍生问鬼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134136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末句方引满而发，紧承“可怜”与“虚”──不问苍生问鬼神。郑重求贤，虚心垂询，推重叹服，乃至“夜半前席”，不是为了询求治国安民之道，却是为了“问鬼神”的本原问题！这究竟是什么样的求贤，对贤者又究竟意味着什么啊！诗人仍只点破而不说尽──通过“问”与“不问”的对照，让读者自己对此得出应有的结论。辞锋极犀利，讽刺极辛辣，感概极深沉，却又极抑扬吞吐之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880" y="2805840"/>
            <a:ext cx="821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幼圆"/>
              </a:rPr>
              <a:t>艺术特色方面，运用典故，借古讽今，通过讽刺文帝来讽刺当今圣上的昏庸。此诗立意精警，咏史、议论、抒情三者融合为一体。《史记。屈原贾生列传》载：贾生征见。孝文帝方受厘，坐宣室。上因感鬼神事，而问鬼神之本。贾生因具道所以然之状。至夜半，文帝前席（在坐席上移膝靠近对方）。既罢，曰：“吾久不见贾生，自以为过之，今不及也。”这段极平凡的史实，一经诗人锻炼，翻出了一段精辟的议论，赞美贾谊，讽刺文帝，作成一首咏史之作。诗人又寓意其中，慨叹时政，借古讽今，“在咏史的基调上又添上政治议论色彩”。同时诗人自己又是羁旅他乡，怀才不遇，以贾生自况，感伤自己，添加了一定得抒情成份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253188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幼圆"/>
              </a:rPr>
              <a:t>李商隐诗的前两句，从正面下笔。写贾谊的才能无与伦比，汉文帝好像极为爱惜贤才，特地将贾谊从放逐地长沙召回至“宣室”访问。“求”、“访”二字，似乎表明汉文帝求贤若渴，同时，衬托出贾谊的才能超群不凡。“可怜夜半虚前席”，这句承上启下。汉文帝与贾谊谈话，一直到夜半时分，似乎更见出汉文帝的爱惜贤才，也从侧面烘托了“贾生才调更无伦”。接下来笔锋一转，引出下句：“不问苍生问鬼神。”结句分别以“不问”与“问”、“苍生”与“鬼神”相对照，表明文帝不是关心国计民生的大事，以治国安民之方求教于贾谊，而是问他些毫无道理的鬼神之事，由上文的“扬”转而为“抑”，显示出了文帝的昏庸与贾谊的不遇。   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7773840" y="1738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欲抑先扬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9810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【小结】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在一般封建文人心目中，“宣室夜对”大概是值得大加渲染的君臣遇合的盛事。但诗人却独具慧眼，抓住不为人们所注意的“问鬼神”这件事，借题发挥，翻出了一段新  警透辟、发人深省的议论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汉文帝史称明君，贾宜更是一代贤才。文帝把谪居长沙的贾宜召回京城，在宣室接见他，君臣晤谈，直至夜半。尽管文帝求贤若渴，可惜，他殷殷垂询的不是安民之策，虚心听取的只是鬼神之事，虽然听得入神甚至移膝前席，又有何用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这是首咏叹贾生故事的短诗，其着眼点，不在个人的穷通得失，而在于指出封建统治者不能真正重视人才，使其在政治上发挥作用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  <a:ea typeface="幼圆"/>
              </a:rPr>
              <a:t>讽文帝实刺唐帝，怜贾生实亦自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91120" y="367308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宣室求贤访逐臣，贾生才调更无伦。 可怜夜半虚前席，不问苍生问鬼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410080" y="762120"/>
            <a:ext cx="152424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cc99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贾生</a:t>
            </a:r>
            <a:endParaRPr b="0" lang="en-US" sz="6000" spc="1" strike="noStrike">
              <a:ln w="0">
                <a:noFill/>
              </a:ln>
              <a:solidFill>
                <a:srgbClr val="cc99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4280" y="22096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作者：李商隐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138480"/>
            <a:ext cx="66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李商隐（八一二－八五八），字义山，号玉溪生，怀州河内（今河南沁阳县）人。开成二年（八三七）进士，授秘书省校书郎，补宏农尉。年轻时即以文才受令狐楚的赏识，可是李商隐却与泾源节度使王茂元之女结婚。当时牛李党争正在尖锐时期，令狐楚是牛党，王茂元则是与李党有关。宣宗即位以后，牛党当权，令狐楚儿子当了宰相，打击一切与李党有关的人，从此李商隐一直被压抑而抬不起头。几次到长安活动，只补得了一个太常博士。最后死于荥阳，年仅四十七岁。 李商隐是唐朝一位有着独特成就，对后世产生过巨大影响而大家的评价又极为分歧的诗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6212520" y="1643760"/>
            <a:ext cx="35290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了解作者</a:t>
            </a:r>
            <a:endParaRPr b="0" i="1" lang="en-US" sz="60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407664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4076640"/>
            <a:ext cx="1944720" cy="259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6212520" y="1643760"/>
            <a:ext cx="352908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幼圆"/>
              </a:rPr>
              <a:t>了解作者</a:t>
            </a:r>
            <a:endParaRPr b="0" i="1" lang="en-US" sz="6000" spc="1" strike="noStrike">
              <a:ln w="9360">
                <a:solidFill>
                  <a:srgbClr val="00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312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诗，有的是直接对时事政治表示态度的；有的是托古讽今，歌咏历史题材；有的是抒写友朋生死之情的；有的是感伤身世之作，而人们最熟悉的则是他的爱情诗。这些异常复杂的内容，又几乎都是和他的身世遭遇有着密切的联系。 李商隐是晚唐诗坛的一颗明星。他的多愁善感和繁博的事象及复杂的意念，在他的诗里往往是避实就虚，透过一种象征手法把它表现出来。他的近体诗，尤其是七律更有独特的风格，绣织丽字，镶嵌典故，包藏细密，意境朦胧，对诗的艺术形式发展有重大贡献。著有《玉溪生诗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01480" y="1143000"/>
            <a:ext cx="864252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行楷"/>
              </a:rPr>
              <a:t>背景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方正硬笔楷书简体"/>
              </a:rPr>
              <a:t> 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行楷"/>
              </a:rPr>
              <a:t>晚唐时期，许多皇帝，大都崇佛媚道，服药求仙，不顾民生，不任贤才，李商隐无法施展自己的抱负。而且李商隐被卷入了牛李党争，屡遭排挤，怀才不遇，于是他借吊贾谊来抒发自己的感慨。贾谊贬长沙，久已成为诗人们抒写不遇之感的熟滥题材。作者独辟蹊径，特意选取贾谊自长沙召回，宣室夜对的情节作为诗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2522160"/>
            <a:ext cx="80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贾生，名谊、贾谊、又称贾太傅、贾长沙。洛阳（今河南洛阳市东）人。西汉初年著名的政治家、文学家。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18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岁即有才名，年轻时由河南郡守吴公推荐，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20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余岁被文帝召为博士。不到一年被破格提为太中大夫。但是在二十三岁时，因遭群臣忌恨，被贬为长沙王的太傅。后被召回长安，为梁怀王太傅。梁怀王坠马而死后，贾谊深自歉疚，直至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33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岁忧伤而死。其著作主要有散文和辞赋两类。散文如《过秦论》、《论积贮疏》、《陈政事疏》（一称《治安策》）等都很有名；辞赋以《吊屈原赋》、《鵩鸟赋》最著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308720" y="4724280"/>
            <a:ext cx="13622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117648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宋 王安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时谋议略施行， 谁道君王薄贾生。 爵位自高言尽废， 古来何啻万公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8838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贾谊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贾生才调更无伦，哭泣情怀吊屈文。梁王堕马寻常事，何用哀伤付一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069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七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咏贾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少年倜傥廊庙才，壮志未酬事堪哀。胸罗文章兵百万，胆照华国树千台。 雄英无计倾圣主，高节终竟受疑猜。千古同惜长沙傅，空白汨罗步尘埃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554688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田园言怀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贾谊三年谪，班超万里侯。 何如牵白犊，饮水对清流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3306960"/>
            <a:ext cx="35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长沙过贾谊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唐 刘长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年谪宦此栖迟，万古惟留楚客悲。秋草独寻人去后，寒林空见日斜时。 汉文有道恩犹薄，湘水无情吊岂知？寂寂江山摇落处，怜君何事到天涯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609480"/>
            <a:ext cx="7848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注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宣室：汉未央宫前正室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逐臣：指贾谊曾被贬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才调：才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851280" y="170028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译文</a:t>
            </a:r>
            <a:endParaRPr b="0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0366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  <a:ea typeface="华文行楷"/>
              </a:rPr>
              <a:t>汉文帝求贤若渴，竟然在宣室接见了曾经被放逐的臣子贾谊，贾谊的才华确实还是是那样无与伦比。可叹的是，空有了文帝挪前席位与臣子近如此投机的交谈，因为他们探讨的不是天下民生大事，而是那些虚妄的鬼神之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2-27T06:11:1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