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0D14-4726-45C5-977E-9F4DE5A30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8333-FF6F-4351-8FB7-A0F277163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03D1-855D-4CE5-94B0-A691318D5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6306-D09D-44DE-848F-E7FD6C686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F746-241B-49B4-B1D1-D9A587617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E334-1D83-4817-9B72-5342B204C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7BC0-3E75-45B8-AD6F-BD1853CA4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8EC9-1E17-4C8A-B34D-52532D128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3D29-B834-4A8B-BC33-D735BED91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F87F-5F3D-4D9B-8196-B984BD8BB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D100-85BB-4EA5-8EBA-DE2AE504E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800D-5C9A-418C-89DC-EDD1DC47F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0540D-B9C1-4621-AE60-6C8E1F6B4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38E53-CC2D-4ECD-A8F1-DD359FEC3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B9AB3-B11B-4B5D-A0D6-6B0463FCC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C8DDC-C5F2-4DA6-8076-65B5B2277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5C669-F090-49CC-AE64-763DEE748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BDA2C-8D59-4BB8-B69A-B27E3E151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B633D-4F38-4136-86C8-D09898F95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C1F5F-F35C-4040-8E1F-2794C514B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D9DE0-3B2A-427D-A031-BA7FD2A28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02369-FB36-4D64-AE11-0BD294247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89EDB-A504-4EB5-A54E-49E204374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CB75A-FEA8-4A23-A6F3-7080D6479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025" descr="16507_23254_38b019cd34ba7d7"/>
          <p:cNvPicPr/>
          <p:nvPr/>
        </p:nvPicPr>
        <p:blipFill>
          <a:blip r:embed="rId2"/>
          <a:srcRect l="5904" t="6553" r="8266" b="46603"/>
          <a:stretch/>
        </p:blipFill>
        <p:spPr>
          <a:xfrm>
            <a:off x="0" y="4437000"/>
            <a:ext cx="9144000" cy="242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23B34-87A0-4013-95C7-741CDF489A8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图片 3078" descr="16507_23254_38b019cd34ba7d7"/>
          <p:cNvPicPr/>
          <p:nvPr/>
        </p:nvPicPr>
        <p:blipFill>
          <a:blip r:embed="rId2"/>
          <a:srcRect l="5904" t="6553" r="8266" b="46603"/>
          <a:stretch/>
        </p:blipFill>
        <p:spPr>
          <a:xfrm>
            <a:off x="0" y="4437000"/>
            <a:ext cx="9144000" cy="242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0682A-A642-45F7-AB7F-4A009C0152C2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baike.baidu.com/image/4075890a2d54a15995ca6bc5" TargetMode="External"/><Relationship Id="rId2" Type="http://schemas.openxmlformats.org/officeDocument/2006/relationships/hyperlink" Target="http://baike.baidu.com/image/4075890a2d54a15995ca6bc5" TargetMode="External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图片 5123" descr=""/>
          <p:cNvPicPr/>
          <p:nvPr/>
        </p:nvPicPr>
        <p:blipFill>
          <a:blip r:embed="rId1"/>
          <a:stretch/>
        </p:blipFill>
        <p:spPr>
          <a:xfrm>
            <a:off x="4788000" y="3573360"/>
            <a:ext cx="4752720" cy="3284640"/>
          </a:xfrm>
          <a:prstGeom prst="rect">
            <a:avLst/>
          </a:prstGeom>
          <a:ln w="0">
            <a:noFill/>
          </a:ln>
        </p:spPr>
      </p:pic>
      <p:pic>
        <p:nvPicPr>
          <p:cNvPr id="121" name="图片 5124" descr=""/>
          <p:cNvPicPr/>
          <p:nvPr/>
        </p:nvPicPr>
        <p:blipFill>
          <a:blip r:embed="rId2"/>
          <a:stretch/>
        </p:blipFill>
        <p:spPr>
          <a:xfrm>
            <a:off x="4719600" y="46080"/>
            <a:ext cx="4896000" cy="3527280"/>
          </a:xfrm>
          <a:prstGeom prst="rect">
            <a:avLst/>
          </a:prstGeom>
          <a:ln w="0">
            <a:noFill/>
          </a:ln>
        </p:spPr>
      </p:pic>
      <p:pic>
        <p:nvPicPr>
          <p:cNvPr id="122" name="图片 5125" descr=""/>
          <p:cNvPicPr/>
          <p:nvPr/>
        </p:nvPicPr>
        <p:blipFill>
          <a:blip r:embed="rId3"/>
          <a:stretch/>
        </p:blipFill>
        <p:spPr>
          <a:xfrm>
            <a:off x="1440" y="3575160"/>
            <a:ext cx="4788000" cy="3282840"/>
          </a:xfrm>
          <a:prstGeom prst="rect">
            <a:avLst/>
          </a:prstGeom>
          <a:ln w="0">
            <a:noFill/>
          </a:ln>
        </p:spPr>
      </p:pic>
      <p:pic>
        <p:nvPicPr>
          <p:cNvPr id="123" name="图片 5126" descr=""/>
          <p:cNvPicPr/>
          <p:nvPr/>
        </p:nvPicPr>
        <p:blipFill>
          <a:blip r:embed="rId4"/>
          <a:stretch/>
        </p:blipFill>
        <p:spPr>
          <a:xfrm>
            <a:off x="1440" y="44280"/>
            <a:ext cx="4789800" cy="3530880"/>
          </a:xfrm>
          <a:prstGeom prst="rect">
            <a:avLst/>
          </a:prstGeom>
          <a:ln w="0">
            <a:noFill/>
          </a:ln>
        </p:spPr>
      </p:pic>
      <p:sp>
        <p:nvSpPr>
          <p:cNvPr id="124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78920" y="4509720"/>
            <a:ext cx="87138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14338"/>
          <p:cNvSpPr/>
          <p:nvPr/>
        </p:nvSpPr>
        <p:spPr>
          <a:xfrm>
            <a:off x="2124000" y="5084640"/>
            <a:ext cx="4824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3" name="文本框 14339"/>
          <p:cNvSpPr/>
          <p:nvPr/>
        </p:nvSpPr>
        <p:spPr>
          <a:xfrm>
            <a:off x="179280" y="476280"/>
            <a:ext cx="885852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宋体"/>
                <a:ea typeface="楷体"/>
              </a:rPr>
              <a:t>      </a:t>
            </a:r>
            <a:r>
              <a:rPr b="1" lang="zh-CN" sz="4000" spc="-1" strike="noStrike">
                <a:solidFill>
                  <a:srgbClr val="007a77"/>
                </a:solidFill>
                <a:latin typeface="宋体"/>
                <a:ea typeface="楷体"/>
              </a:rPr>
              <a:t>二十九日，星期五，雨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   </a:t>
            </a:r>
            <a:r>
              <a:rPr b="1" lang="zh-CN" sz="4800" spc="-1" strike="noStrike">
                <a:solidFill>
                  <a:srgbClr val="007a77"/>
                </a:solidFill>
                <a:latin typeface="宋体"/>
              </a:rPr>
              <a:t>家国沦亡，小民乏食，</a:t>
            </a:r>
            <a:r>
              <a:rPr b="0" lang="zh-CN" sz="4800" spc="-1" strike="noStrike">
                <a:solidFill>
                  <a:srgbClr val="007a77"/>
                </a:solidFill>
                <a:latin typeface="宋体"/>
              </a:rPr>
              <a:t>我下半年更不知将如何卒岁；引领西望</a:t>
            </a:r>
            <a:r>
              <a:rPr b="1" lang="zh-CN" sz="4800" spc="-1" strike="noStrike">
                <a:solidFill>
                  <a:srgbClr val="007a77"/>
                </a:solidFill>
                <a:latin typeface="宋体"/>
              </a:rPr>
              <a:t>，更为老母担忧，因伊风烛残年，</a:t>
            </a:r>
            <a:r>
              <a:rPr b="0" lang="zh-CN" sz="4800" spc="-1" strike="noStrike">
                <a:solidFill>
                  <a:srgbClr val="007a77"/>
                </a:solidFill>
                <a:latin typeface="宋体"/>
              </a:rPr>
              <a:t>急盼我这没有出息的幼子能自成立也。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4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0" y="18900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二十八日，星期四，微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今天为杭市防空演习之第一天，路上时时断绝交通；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长街化作冷巷，百姓如丧考妣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395280" y="47772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十一月十九日，星期二，在杭州的场官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天气实在晴爽得可爱，……像这样一个平和的冬日清晨，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谁又想得到北五省在谋独立，日兵在山海关整军，而阔人又都在向外国的大银行里存他们的几万万的私款呢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对话心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怎样理解作者的悠闲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对话心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上海的政治迫害更加猖獗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------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（作者）遭到南京国民党政府的秘密通缉”，“各种政论时评的写作都不得不停止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开始写出一批游记，这是他用来麻痹敌人掩护自己的对策，以便转移当局对他的注意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----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郁云《郁达夫传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</a:rPr>
              <a:t>表面的悠闲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-25560" y="43920"/>
            <a:ext cx="9134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也恰是诗人精心构建自己的精神家园，尽享人生的绮丽与安宁的时期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    ——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熊芳芳《寻找回来的达夫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--&lt;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江南的冬景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的深度阅读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对话心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这是作者在动乱的年代里孜孜追求的理想</a:t>
            </a: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图片 22529" descr="1.gif (1628 字节)"/>
          <p:cNvPicPr/>
          <p:nvPr/>
        </p:nvPicPr>
        <p:blipFill>
          <a:blip r:embed="rId1"/>
          <a:stretch/>
        </p:blipFill>
        <p:spPr>
          <a:xfrm>
            <a:off x="5962680" y="333360"/>
            <a:ext cx="3181320" cy="4824360"/>
          </a:xfrm>
          <a:prstGeom prst="rect">
            <a:avLst/>
          </a:prstGeom>
          <a:ln w="0">
            <a:noFill/>
          </a:ln>
        </p:spPr>
      </p:pic>
      <p:sp>
        <p:nvSpPr>
          <p:cNvPr id="173" name="矩形 22530"/>
          <p:cNvSpPr/>
          <p:nvPr/>
        </p:nvSpPr>
        <p:spPr>
          <a:xfrm>
            <a:off x="6804000" y="450864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方正舒体"/>
              </a:rPr>
              <a:t>知人论世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4" name="矩形 22531"/>
          <p:cNvSpPr/>
          <p:nvPr/>
        </p:nvSpPr>
        <p:spPr>
          <a:xfrm>
            <a:off x="-25560" y="44280"/>
            <a:ext cx="65772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郁达夫（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96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_GB2312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45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，原名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郁文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浙江富阳人，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现代著名作家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早年留学日本，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代以后积极投身左翼文学运动和抗日救国运动，是著名的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新文学团体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创造社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发起人之一。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45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被日本宪兵秘密杀害于苏门答腊，建国后被追认为革命烈士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投桃报李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4560" y="83664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要求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以“春天，我漫步在美丽的校园”为开头，写校园的景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字左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至少用课本中出现的一种手法（比喻、借代、引用、对比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20111172296112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-228600"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8000" spc="-1" strike="noStrike">
                <a:solidFill>
                  <a:srgbClr val="99cc00"/>
                </a:solidFill>
                <a:latin typeface="Arial"/>
              </a:rPr>
              <a:t>走，散步去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图片 6145" descr="26088594_1"/>
          <p:cNvPicPr/>
          <p:nvPr/>
        </p:nvPicPr>
        <p:blipFill>
          <a:blip r:embed="rId1"/>
          <a:stretch/>
        </p:blipFill>
        <p:spPr>
          <a:xfrm>
            <a:off x="-36360" y="0"/>
            <a:ext cx="9144000" cy="74804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Arial"/>
              </a:rPr>
              <a:t>江南的冬景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郁达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31" name="Picture 8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矩形 7169"/>
          <p:cNvSpPr/>
          <p:nvPr/>
        </p:nvSpPr>
        <p:spPr>
          <a:xfrm>
            <a:off x="395280" y="2457360"/>
            <a:ext cx="874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3" name="矩形 7170"/>
          <p:cNvSpPr/>
          <p:nvPr/>
        </p:nvSpPr>
        <p:spPr>
          <a:xfrm>
            <a:off x="2268360" y="5556240"/>
            <a:ext cx="6659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　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  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文本框 7171"/>
          <p:cNvSpPr/>
          <p:nvPr/>
        </p:nvSpPr>
        <p:spPr>
          <a:xfrm>
            <a:off x="2246400" y="690480"/>
            <a:ext cx="491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7a77"/>
                </a:solidFill>
                <a:latin typeface="Arial"/>
              </a:rPr>
              <a:t>教学目标</a:t>
            </a:r>
            <a:endParaRPr b="0" lang="en-US" sz="7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5" name="文本框 7172"/>
          <p:cNvSpPr/>
          <p:nvPr/>
        </p:nvSpPr>
        <p:spPr>
          <a:xfrm>
            <a:off x="179280" y="2081160"/>
            <a:ext cx="8964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Arial"/>
              </a:rPr>
              <a:t>一、品读语言</a:t>
            </a:r>
            <a:r>
              <a:rPr b="1" lang="zh-CN" sz="4800" spc="-1" strike="noStrike">
                <a:solidFill>
                  <a:srgbClr val="007a77"/>
                </a:solidFill>
                <a:latin typeface="Arial"/>
              </a:rPr>
              <a:t>,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7a77"/>
                </a:solidFill>
                <a:latin typeface="Arial"/>
              </a:rPr>
              <a:t>学习写景方法 。                                                                            二、感悟情感，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7a77"/>
                </a:solidFill>
                <a:latin typeface="Arial"/>
              </a:rPr>
              <a:t>探究情感根源  。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6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走马观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江南的冬景美在哪里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请以“江南的冬景真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___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，你看，第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___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自然段的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___”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句式回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流连忘返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10243"/>
          <p:cNvSpPr/>
          <p:nvPr/>
        </p:nvSpPr>
        <p:spPr>
          <a:xfrm>
            <a:off x="1440" y="1628640"/>
            <a:ext cx="914400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Arial"/>
              </a:rPr>
              <a:t>请选择最喜欢的一处景色进行赏析</a:t>
            </a:r>
            <a:r>
              <a:rPr b="0" lang="zh-CN" sz="54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（提醒：可以从艺术手法、用词、画面、意境、感情等几个角度的一方面或几方面）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57200" y="47592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能饮一杯无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寒沙梅影路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风雪夜归人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前村深雪里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敢问郁公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539640" y="2421000"/>
            <a:ext cx="8229600" cy="22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冬天的江南真的是一个世外桃源吗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3240" y="477720"/>
            <a:ext cx="903456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一九三五年）十一月三十日，星期六，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今晨一早即醒，因昨晚入睡早也，觉头脑清醒，为续写那篇《文学》的散文《江南的冬景》，写至午后写毕，成两千余字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2T09:33:53Z</dcterms:created>
  <dc:creator/>
  <dc:description/>
  <cp:keywords/>
  <dc:language>en-US</dc:language>
  <cp:lastModifiedBy>hj</cp:lastModifiedBy>
  <dcterms:modified xsi:type="dcterms:W3CDTF">2016-05-23T06:29:19Z</dcterms:modified>
  <cp:revision>10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文档</vt:lpwstr>
  </property>
  <property fmtid="{D5CDD505-2E9C-101B-9397-08002B2CF9AE}" pid="3" name="KSOProductBuildVer">
    <vt:lpwstr>2052-10.1.0.5559</vt:lpwstr>
  </property>
  <property fmtid="{D5CDD505-2E9C-101B-9397-08002B2CF9AE}" pid="4" name="是否置顶">
    <vt:lpwstr>0</vt:lpwstr>
  </property>
</Properties>
</file>