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2.jpeg" ContentType="image/jpeg"/>
  <Override PartName="/ppt/media/image3.gif" ContentType="image/gif"/>
  <Override PartName="/ppt/media/image4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EFC-FF85-432D-A5F9-3076BEA8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B01-F69B-4D39-95CF-402D4E8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031-E55F-439F-BA7F-EAC7EBE9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F62-FDED-46AF-964F-B08B7861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F405-D740-455E-8F11-90C68DB3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3B6-1D3B-4CCF-AA0E-0338AC2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D756-22A2-420A-A9CD-4A1771C4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CF6-9D20-4B66-9374-0FFDB2B8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4353-4393-4374-88AF-0A0EFC77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3595-0AE7-4802-A8BF-E23E914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9B0-26A3-4B35-B758-797B470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99A-EA9E-47E5-9EE3-B912BFA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961-47B8-4EE0-844F-2EE4478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AB3-B28D-48FF-B63A-F9505DF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C1E6-DE29-456E-9229-481E4D4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421-548C-4DAC-B803-FC87E3AF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3542-2A27-4969-AC4C-21F01A26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5D9-EE13-4C6D-865E-17F7835F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949-0DFC-4E55-9C1D-E054F0A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813-7EE3-46C2-B586-0AAF5AD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99A-91BE-4582-BD20-8C39696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1CB-2051-43F9-B650-02C763F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C60-9126-4134-9933-B2F822E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294-29E0-4D8F-9BC7-9403243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588-CD4F-4BEA-90C3-EA88819DA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CAE-5868-4189-B158-E256366220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.baidu.com/i?ct=503316480&amp;z=0&amp;tn=baiduimagedetail&amp;word=%CA&#40750;&amp;in=706&amp;cl=2&amp;cm=1&amp;sc=0&amp;lm=-1&amp;pn=14&amp;rn=1&amp;di=1310245688&amp;ln=2000" TargetMode="Externa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3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精读与略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>
            <a:lum bright="12000"/>
          </a:blip>
          <a:srcRect l="61184" t="7377" r="0" b="638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4643280" y="26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13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精读与略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812000" y="404640"/>
            <a:ext cx="287280" cy="287640"/>
          </a:xfrm>
          <a:prstGeom prst="triangle">
            <a:avLst>
              <a:gd name="adj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96000" y="1197000"/>
            <a:ext cx="39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苏教版小学五年级语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0" t="11848" r="0" b="0"/>
          <a:stretch/>
        </p:blipFill>
        <p:spPr>
          <a:xfrm>
            <a:off x="4516560" y="1268280"/>
            <a:ext cx="4627440" cy="51897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-305280" y="12679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汤姆叔叔的小屋》（美 斯托夫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窗边的小豆豆》    《男生日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智慧背囊》    《海底两万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走近冰心》    《清华名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华成语故事》    《昆虫记》（法 法布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天才诗人普希金》   《中国短篇小说精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外国名家短篇小说经典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老象恩仇记》  沈石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外名人故事》      《哈利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波特》（英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J·k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罗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三毛流浪记》（张乐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水浒传》 《红楼梦》《三国演义》《西游记》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红岩》     《铁道游击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福尔摩斯探案集》（英 柯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纽约时报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位科学家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目击历史》（叶永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916360" y="189000"/>
            <a:ext cx="1828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阅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18730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4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-228600" y="149400"/>
            <a:ext cx="9753480" cy="66643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要求一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自读课文，要求把字词、句子读准确、流利。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思考：什么是精读？什么是略读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4067280" y="-1467000"/>
            <a:ext cx="460836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rcRect l="0" t="6527" r="0" b="0"/>
          <a:stretch/>
        </p:blipFill>
        <p:spPr>
          <a:xfrm>
            <a:off x="-533520" y="0"/>
            <a:ext cx="1021104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276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2819520" cy="100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050920" y="2133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书 籍      刊 物       梗 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71640" y="1628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jí         kān            g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4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389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籍 透彻 大略 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刊 梗概 概述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浩如烟海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一目十行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-781200"/>
            <a:ext cx="9753480" cy="76392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要求二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快速默读课文，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思考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①精读、略读各有什么作用？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②怎样进行略读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651640" y="-458640"/>
            <a:ext cx="374472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0" b="13046"/>
          <a:stretch/>
        </p:blipFill>
        <p:spPr>
          <a:xfrm>
            <a:off x="0" y="0"/>
            <a:ext cx="90234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885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</a:t>
            </a: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讨论：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 你认为是精读重要还是略读重要？为什么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18730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rcRect l="0" t="0" r="0" b="133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rcRect l="0" t="10309" r="0" b="0"/>
          <a:stretch/>
        </p:blipFill>
        <p:spPr>
          <a:xfrm>
            <a:off x="0" y="0"/>
            <a:ext cx="5867280" cy="6524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520" y="2438280"/>
            <a:ext cx="388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自由发言时间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300320" y="3714840"/>
            <a:ext cx="6856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哪些书你会精读？哪些书你会略读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622920" y="18900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102680" cy="69246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990720" y="19051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读书有三到：心到、眼到、口到。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旧书不厌百回读，熟读深思子自知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山有路勤为径，学海无涯苦作舟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读书破万卷，下笔如有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是逆境中的慰藉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房是文人精神的巢穴，生命的禅堂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世界上最壮丽的宫殿是藏书最多的图书馆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年轻时读书就像迎着朝阳走路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92440" y="801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读书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5:01:04Z</dcterms:created>
  <dc:creator>已锁定</dc:creator>
  <dc:description/>
  <dc:language>en-US</dc:language>
  <cp:lastModifiedBy>已锁定</cp:lastModifiedBy>
  <dcterms:modified xsi:type="dcterms:W3CDTF">2014-11-20T09:45:31Z</dcterms:modified>
  <cp:revision>4</cp:revision>
  <dc:subject/>
  <dc:title>13 精读与略读</dc:title>
</cp:coreProperties>
</file>