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2-03-14T20:42:44.879000000" idx="1">
    <p:pos x="5097" y="1418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415-8D22-4345-90F6-1240155E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9CB-B1A8-4018-9B3E-FB233C9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AA4-0201-448B-ADF4-AE14E94D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166-83C0-4CDF-96D9-98560B8F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447-F950-4613-8B29-1F8EA65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3EA-233F-4BD4-A596-C82C65A2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1AA-BB67-444A-96B5-1460E1A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95C-911F-4191-9083-776FC67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09E-44B0-4AF0-9DAA-8B4067BB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AA5-5DB5-407D-B5AD-96A6EBA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4C8-8179-4D80-9DD0-A1BC7AA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8FB-64E4-4BC0-94C2-1FCA36B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4ED-4797-43B7-A002-2891146B6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A&#40750;&amp;in=706&amp;cl=2&amp;cm=1&amp;sc=0&amp;lm=-1&amp;pn=14&amp;rn=1&amp;di=1310245688&amp;ln=200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1638000" cy="233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1844640"/>
            <a:ext cx="626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2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精读与略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0"/>
            <a:ext cx="480060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爱的教育》 （意大利 亚米契斯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英雄书—激励孩子身心成长的英雄故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唐诗宋词名句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北大的校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院士人生》 《哥白尼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汤姆叔叔的小屋》（美 斯托夫人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天才诗人普希金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短篇小说精选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外国名家短篇小说经典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老象恩仇记》  沈石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外名人故事》《安徒生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哈利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特》（英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·k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三毛流浪记》（张乐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水浒传》 《红楼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三国演义》《西游记》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红岩》 《铁道游击队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福尔摩斯探案集》（英柯南尔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纽约时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科学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目击历史》（叶永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科学巨擘 ——院士风采录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外探险故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60480"/>
            <a:ext cx="320040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上下五千年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十万个为什么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鲁滨逊漂流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杨红缨系列小说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伊索寓言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窗边的小豆豆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男生日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瞧，那群俏丫头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怎样提高学习能力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智慧背囊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海底两万里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走近冰心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清华名流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华成语故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昆虫记》（法 法布尔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484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要积累知识，就必须读书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重要的文章和书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认真读反复读，要逐字逐句地深入钻研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重要的语句和章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表达的思想内容还要做到透彻理解。这就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精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们所读的课文，都是经过精心编选的，对我们学习语文很有帮助，因此须要精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5589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明读书的重要性 和 精读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9228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一段你读懂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然而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的精力是有限的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书籍却浩如烟海，谁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可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完所有的书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更不可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本书每篇文章都去精读。为了获取更多的知识，更多的信息，又必须读大量的书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因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还须要学会略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620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要学会略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69228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484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　　略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是大略地读。略读可以增加阅读量。通过略读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较少的时间阅读大量的书刊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从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扩大自己的知识面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获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有关读物的总的认识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便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需要的时候去查找。略读又是精读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基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通过略读，可以在很短的时间内知道一篇文章或一本书的基本内容，从而确定它是否须要精读，或哪些地方须要精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47628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略读有哪些好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5493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怎样进行略读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271520"/>
            <a:ext cx="77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如果面对一大堆读物，我们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每本书的内容提要、前言、章节目录等很快地从头到尾看一遍，这样就能大致了解每本书的梗概、特点及应用范围等。对一本读物来说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段几段地粗读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也可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页几页地翻阅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不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逐一探究每个字、词或句子的意思。俗话说的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目十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，就是指这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走马观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快速阅读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提高读书速度，略读通常采用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默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70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然，略读也不是读完了事。每次略读完毕，也可以回想一下所读的东西，最好用简练的语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概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下读物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内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493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怎样进行略读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20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只要我们善于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精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略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起来，就能取得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最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读书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907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书的重要性和精读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299736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略读的常识和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要略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342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略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285264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508464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读和略读相结合，就能取得最佳读书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5280" y="1419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有三到：心到、眼到、口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书不厌百回读，熟读深思子自知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山有路勤为径，学海无涯苦作舟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破万卷，下笔如有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是逆境中的慰藉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房是文人精神的巢穴，生命的禅堂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壮丽的宫殿是藏书最多的图书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时读书就像迎着朝阳走路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淡的墨水也胜过最强的记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在某种意义上来说是养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6920" y="54936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读书名言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9-03-03T11:26:12Z</dcterms:modified>
  <cp:revision>28</cp:revision>
  <dc:subject/>
  <dc:title>幻灯片 1</dc:title>
</cp:coreProperties>
</file>