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7BD5-8040-4B52-9B9A-B6858CFE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0BD5-7B41-40C5-8F17-AEA0590B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9221-1815-41FF-82A6-6968D4019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BE90-9010-4356-ADD9-260D6BDE0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8F31-320D-4D9A-B379-F2659618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4C86-4265-44B3-ABFA-9B9CD417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3752-8BFA-4DCE-865D-D73D4B32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14F0-0639-4923-AFE3-E0C38969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41B9-1B5F-4603-9463-20C692BE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9854-836E-4602-B548-0B131994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C6A2-F336-4974-AE4B-EFAA7EB3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E5AD-F2F5-412A-AD6B-D7E5A2BD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F35E-88A7-4D70-BC70-475FB9DB4A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894280" y="0"/>
            <a:ext cx="29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华文行楷"/>
              </a:rPr>
              <a:t>六安市长安小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hyperlink" Target="http://young001.blog.hexun.com/10208034_d.html" TargetMode="External"/><Relationship Id="rId5" Type="http://schemas.openxmlformats.org/officeDocument/2006/relationships/image" Target="../media/image5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hyperlink" Target="http://young001.blog.hexun.com/10208034_d.html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hyperlink" Target="http://young001.blog.hexun.com/10208034_d.html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hyperlink" Target="http://young001.blog.hexun.com/10208034_d.html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hyperlink" Target="http://young001.blog.hexun.com/10208034_d.html" TargetMode="External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hyperlink" Target="http://young001.blog.hexun.com/10208034_d.html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hyperlink" Target="http://young001.blog.hexun.com/10208034_d.html" TargetMode="External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hyperlink" Target="http://young001.blog.hexun.com/10208034_d.html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8839440" cy="6553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533520" y="1752480"/>
            <a:ext cx="3657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精读与略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4" name=""/>
          <p:cNvSpPr/>
          <p:nvPr/>
        </p:nvSpPr>
        <p:spPr>
          <a:xfrm>
            <a:off x="4343400" y="17524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04920" y="0"/>
            <a:ext cx="8839080" cy="5943600"/>
            <a:chOff x="304920" y="0"/>
            <a:chExt cx="8839080" cy="5943600"/>
          </a:xfrm>
        </p:grpSpPr>
        <p:grpSp>
          <p:nvGrpSpPr>
            <p:cNvPr id="118" name=""/>
            <p:cNvGrpSpPr/>
            <p:nvPr/>
          </p:nvGrpSpPr>
          <p:grpSpPr>
            <a:xfrm>
              <a:off x="304920" y="0"/>
              <a:ext cx="8839080" cy="5943600"/>
              <a:chOff x="304920" y="0"/>
              <a:chExt cx="8839080" cy="5943600"/>
            </a:xfrm>
          </p:grpSpPr>
          <p:pic>
            <p:nvPicPr>
              <p:cNvPr id="11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920" y="0"/>
                <a:ext cx="8839080" cy="594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838080" y="304920"/>
                <a:ext cx="7848360" cy="14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1" name="" descr=""/>
            <p:cNvPicPr/>
            <p:nvPr/>
          </p:nvPicPr>
          <p:blipFill>
            <a:blip r:embed="rId3"/>
            <a:srcRect l="0" t="0" r="80415" b="0"/>
            <a:stretch/>
          </p:blipFill>
          <p:spPr>
            <a:xfrm rot="16200000">
              <a:off x="4445280" y="1397880"/>
              <a:ext cx="557280" cy="792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400800" y="990720"/>
            <a:ext cx="2324160" cy="1898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09480" y="137160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怎样进行略读呢？请同学们读课文，谈谈你的体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28195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对一本读物来说，可以几段几段地精读，也可以几页几页地翻阅，而不必逐一探究每个字、词或句子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46483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请同学们选择自己喜欢的部分，读一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0"/>
            <a:ext cx="8839080" cy="5943600"/>
            <a:chOff x="0" y="0"/>
            <a:chExt cx="8839080" cy="5943600"/>
          </a:xfrm>
        </p:grpSpPr>
        <p:grpSp>
          <p:nvGrpSpPr>
            <p:cNvPr id="127" name=""/>
            <p:cNvGrpSpPr/>
            <p:nvPr/>
          </p:nvGrpSpPr>
          <p:grpSpPr>
            <a:xfrm>
              <a:off x="0" y="0"/>
              <a:ext cx="8839080" cy="5943600"/>
              <a:chOff x="0" y="0"/>
              <a:chExt cx="8839080" cy="5943600"/>
            </a:xfrm>
          </p:grpSpPr>
          <p:pic>
            <p:nvPicPr>
              <p:cNvPr id="12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8839080" cy="594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533160" y="304920"/>
                <a:ext cx="7848360" cy="14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0" name="" descr=""/>
            <p:cNvPicPr/>
            <p:nvPr/>
          </p:nvPicPr>
          <p:blipFill>
            <a:blip r:embed="rId3"/>
            <a:srcRect l="0" t="0" r="80415" b="0"/>
            <a:stretch/>
          </p:blipFill>
          <p:spPr>
            <a:xfrm rot="16200000">
              <a:off x="4140360" y="1397880"/>
              <a:ext cx="557280" cy="792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6400800" y="990720"/>
            <a:ext cx="2324160" cy="1898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62120" y="17524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同学们，你们平常的略读方法是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3610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华文中宋"/>
              </a:rPr>
              <a:t>为了提高读书速度，略读通常采用默读的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838080" y="3124080"/>
            <a:ext cx="1055880" cy="11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304920" y="0"/>
            <a:ext cx="8839080" cy="5943600"/>
            <a:chOff x="304920" y="0"/>
            <a:chExt cx="8839080" cy="5943600"/>
          </a:xfrm>
        </p:grpSpPr>
        <p:grpSp>
          <p:nvGrpSpPr>
            <p:cNvPr id="136" name=""/>
            <p:cNvGrpSpPr/>
            <p:nvPr/>
          </p:nvGrpSpPr>
          <p:grpSpPr>
            <a:xfrm>
              <a:off x="304920" y="0"/>
              <a:ext cx="8839080" cy="5943600"/>
              <a:chOff x="304920" y="0"/>
              <a:chExt cx="8839080" cy="5943600"/>
            </a:xfrm>
          </p:grpSpPr>
          <p:pic>
            <p:nvPicPr>
              <p:cNvPr id="13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920" y="0"/>
                <a:ext cx="8839080" cy="594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>
                <a:off x="838080" y="304920"/>
                <a:ext cx="7848360" cy="14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9" name="" descr=""/>
            <p:cNvPicPr/>
            <p:nvPr/>
          </p:nvPicPr>
          <p:blipFill>
            <a:blip r:embed="rId3"/>
            <a:srcRect l="0" t="0" r="80415" b="0"/>
            <a:stretch/>
          </p:blipFill>
          <p:spPr>
            <a:xfrm rot="16200000">
              <a:off x="4445280" y="1397880"/>
              <a:ext cx="557280" cy="792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6400800" y="990720"/>
            <a:ext cx="2324160" cy="18986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62120" y="17524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你认为怎样才能达到最佳的读书效果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33526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只要我们善于把精读和略读结合起来，就能取得最佳的读书效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7315200" y="4114800"/>
            <a:ext cx="106668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304920" y="0"/>
            <a:ext cx="8839080" cy="5943600"/>
            <a:chOff x="304920" y="0"/>
            <a:chExt cx="8839080" cy="5943600"/>
          </a:xfrm>
        </p:grpSpPr>
        <p:grpSp>
          <p:nvGrpSpPr>
            <p:cNvPr id="145" name=""/>
            <p:cNvGrpSpPr/>
            <p:nvPr/>
          </p:nvGrpSpPr>
          <p:grpSpPr>
            <a:xfrm>
              <a:off x="304920" y="0"/>
              <a:ext cx="8839080" cy="5943600"/>
              <a:chOff x="304920" y="0"/>
              <a:chExt cx="8839080" cy="5943600"/>
            </a:xfrm>
          </p:grpSpPr>
          <p:pic>
            <p:nvPicPr>
              <p:cNvPr id="1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920" y="0"/>
                <a:ext cx="8839080" cy="594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"/>
              <p:cNvSpPr/>
              <p:nvPr/>
            </p:nvSpPr>
            <p:spPr>
              <a:xfrm>
                <a:off x="838080" y="304920"/>
                <a:ext cx="7848360" cy="14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8" name="" descr=""/>
            <p:cNvPicPr/>
            <p:nvPr/>
          </p:nvPicPr>
          <p:blipFill>
            <a:blip r:embed="rId3"/>
            <a:srcRect l="0" t="0" r="80415" b="0"/>
            <a:stretch/>
          </p:blipFill>
          <p:spPr>
            <a:xfrm rot="16200000">
              <a:off x="4445280" y="1397880"/>
              <a:ext cx="557280" cy="792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00800" y="990720"/>
            <a:ext cx="2324160" cy="18986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914400" y="283536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Arial"/>
                <a:ea typeface="隶书"/>
              </a:rPr>
              <a:t>       </a:t>
            </a:r>
            <a:r>
              <a:rPr b="0" lang="zh-CN" sz="4400" spc="-1" strike="noStrike">
                <a:solidFill>
                  <a:srgbClr val="000066"/>
                </a:solidFill>
                <a:latin typeface="Arial"/>
                <a:ea typeface="隶书"/>
              </a:rPr>
              <a:t>学完这篇课文，说说你的收获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371600" y="1676520"/>
            <a:ext cx="2514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谈收获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4114800" y="1447920"/>
            <a:ext cx="10666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152280" y="0"/>
            <a:ext cx="8839440" cy="5943600"/>
            <a:chOff x="152280" y="0"/>
            <a:chExt cx="8839440" cy="5943600"/>
          </a:xfrm>
        </p:grpSpPr>
        <p:grpSp>
          <p:nvGrpSpPr>
            <p:cNvPr id="154" name=""/>
            <p:cNvGrpSpPr/>
            <p:nvPr/>
          </p:nvGrpSpPr>
          <p:grpSpPr>
            <a:xfrm>
              <a:off x="152280" y="0"/>
              <a:ext cx="8839440" cy="5943600"/>
              <a:chOff x="152280" y="0"/>
              <a:chExt cx="8839440" cy="5943600"/>
            </a:xfrm>
          </p:grpSpPr>
          <p:pic>
            <p:nvPicPr>
              <p:cNvPr id="1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280" y="0"/>
                <a:ext cx="8839440" cy="594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"/>
              <p:cNvSpPr/>
              <p:nvPr/>
            </p:nvSpPr>
            <p:spPr>
              <a:xfrm>
                <a:off x="685800" y="304920"/>
                <a:ext cx="7848720" cy="14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7" name="" descr=""/>
            <p:cNvPicPr/>
            <p:nvPr/>
          </p:nvPicPr>
          <p:blipFill>
            <a:blip r:embed="rId3"/>
            <a:srcRect l="0" t="0" r="80415" b="0"/>
            <a:stretch/>
          </p:blipFill>
          <p:spPr>
            <a:xfrm rot="16200000">
              <a:off x="4293360" y="1397880"/>
              <a:ext cx="557280" cy="7925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6400800" y="990720"/>
            <a:ext cx="2324160" cy="1898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990720" y="28195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、课外搜集一篇略读课文和一篇精读课文，读一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411480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、选其中的一篇课文写读后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514600" y="1752480"/>
            <a:ext cx="2590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隶书"/>
              </a:rPr>
              <a:t>课外练习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隶书"/>
              <a:ea typeface="隶书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990720" y="1447920"/>
            <a:ext cx="100944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04920" y="0"/>
            <a:ext cx="8839080" cy="5943600"/>
            <a:chOff x="304920" y="0"/>
            <a:chExt cx="8839080" cy="5943600"/>
          </a:xfrm>
        </p:grpSpPr>
        <p:grpSp>
          <p:nvGrpSpPr>
            <p:cNvPr id="46" name=""/>
            <p:cNvGrpSpPr/>
            <p:nvPr/>
          </p:nvGrpSpPr>
          <p:grpSpPr>
            <a:xfrm>
              <a:off x="304920" y="0"/>
              <a:ext cx="8839080" cy="5943600"/>
              <a:chOff x="304920" y="0"/>
              <a:chExt cx="8839080" cy="5943600"/>
            </a:xfrm>
          </p:grpSpPr>
          <p:pic>
            <p:nvPicPr>
              <p:cNvPr id="4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920" y="0"/>
                <a:ext cx="8839080" cy="594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838080" y="304920"/>
                <a:ext cx="7848360" cy="14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" name="" descr=""/>
            <p:cNvPicPr/>
            <p:nvPr/>
          </p:nvPicPr>
          <p:blipFill>
            <a:blip r:embed="rId3"/>
            <a:srcRect l="0" t="0" r="80415" b="0"/>
            <a:stretch/>
          </p:blipFill>
          <p:spPr>
            <a:xfrm rot="16200000">
              <a:off x="4445280" y="1397880"/>
              <a:ext cx="557280" cy="792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00800" y="990720"/>
            <a:ext cx="2324160" cy="1898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2057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一个人要积累知识就要读书，平时我们用哪些方法读书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3733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今天我们来学习两种读书的方法。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304920" y="0"/>
            <a:ext cx="8839080" cy="5943600"/>
            <a:chOff x="304920" y="0"/>
            <a:chExt cx="8839080" cy="5943600"/>
          </a:xfrm>
        </p:grpSpPr>
        <p:grpSp>
          <p:nvGrpSpPr>
            <p:cNvPr id="54" name=""/>
            <p:cNvGrpSpPr/>
            <p:nvPr/>
          </p:nvGrpSpPr>
          <p:grpSpPr>
            <a:xfrm>
              <a:off x="304920" y="0"/>
              <a:ext cx="8839080" cy="5943600"/>
              <a:chOff x="304920" y="0"/>
              <a:chExt cx="8839080" cy="5943600"/>
            </a:xfrm>
          </p:grpSpPr>
          <p:grpSp>
            <p:nvGrpSpPr>
              <p:cNvPr id="55" name=""/>
              <p:cNvGrpSpPr/>
              <p:nvPr/>
            </p:nvGrpSpPr>
            <p:grpSpPr>
              <a:xfrm>
                <a:off x="304920" y="0"/>
                <a:ext cx="8839080" cy="5943600"/>
                <a:chOff x="304920" y="0"/>
                <a:chExt cx="8839080" cy="5943600"/>
              </a:xfrm>
            </p:grpSpPr>
            <p:pic>
              <p:nvPicPr>
                <p:cNvPr id="5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04920" y="0"/>
                  <a:ext cx="8839080" cy="5943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" name=""/>
                <p:cNvSpPr/>
                <p:nvPr/>
              </p:nvSpPr>
              <p:spPr>
                <a:xfrm>
                  <a:off x="838080" y="304920"/>
                  <a:ext cx="7848360" cy="1447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8" name="" descr=""/>
              <p:cNvPicPr/>
              <p:nvPr/>
            </p:nvPicPr>
            <p:blipFill>
              <a:blip r:embed="rId3"/>
              <a:srcRect l="0" t="0" r="80415" b="0"/>
              <a:stretch/>
            </p:blipFill>
            <p:spPr>
              <a:xfrm rot="16200000">
                <a:off x="4445280" y="1397880"/>
                <a:ext cx="557280" cy="7924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9" name="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6553080" y="381240"/>
              <a:ext cx="2323800" cy="189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609480" y="14479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同学们看了课题之后有什么问题想提呢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0481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华文中宋"/>
                <a:ea typeface="华文中宋"/>
              </a:rPr>
              <a:t>(1)</a:t>
            </a:r>
            <a:r>
              <a:rPr b="0" lang="zh-CN" sz="3200" spc="-1" strike="noStrike">
                <a:solidFill>
                  <a:srgbClr val="003300"/>
                </a:solidFill>
                <a:latin typeface="华文中宋"/>
                <a:ea typeface="华文中宋"/>
              </a:rPr>
              <a:t>什么叫精读</a:t>
            </a:r>
            <a:r>
              <a:rPr b="0" lang="zh-CN" sz="3200" spc="-1" strike="noStrike">
                <a:solidFill>
                  <a:srgbClr val="003300"/>
                </a:solidFill>
                <a:latin typeface="华文中宋"/>
                <a:ea typeface="华文中宋"/>
              </a:rPr>
              <a:t>,</a:t>
            </a:r>
            <a:r>
              <a:rPr b="0" lang="zh-CN" sz="3200" spc="-1" strike="noStrike">
                <a:solidFill>
                  <a:srgbClr val="003300"/>
                </a:solidFill>
                <a:latin typeface="华文中宋"/>
                <a:ea typeface="华文中宋"/>
              </a:rPr>
              <a:t>什么叫略读</a:t>
            </a:r>
            <a:r>
              <a:rPr b="0" lang="zh-CN" sz="3200" spc="-1" strike="noStrike">
                <a:solidFill>
                  <a:srgbClr val="003300"/>
                </a:solidFill>
                <a:latin typeface="华文中宋"/>
                <a:ea typeface="华文中宋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388620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华文中宋"/>
                <a:ea typeface="华文中宋"/>
              </a:rPr>
              <a:t>(2)</a:t>
            </a:r>
            <a:r>
              <a:rPr b="0" lang="zh-CN" sz="3200" spc="-1" strike="noStrike">
                <a:solidFill>
                  <a:srgbClr val="003300"/>
                </a:solidFill>
                <a:latin typeface="华文中宋"/>
                <a:ea typeface="华文中宋"/>
              </a:rPr>
              <a:t>哪些课文需要精读</a:t>
            </a:r>
            <a:r>
              <a:rPr b="0" lang="zh-CN" sz="3200" spc="-1" strike="noStrike">
                <a:solidFill>
                  <a:srgbClr val="003300"/>
                </a:solidFill>
                <a:latin typeface="华文中宋"/>
                <a:ea typeface="华文中宋"/>
              </a:rPr>
              <a:t>,</a:t>
            </a:r>
            <a:r>
              <a:rPr b="0" lang="zh-CN" sz="3200" spc="-1" strike="noStrike">
                <a:solidFill>
                  <a:srgbClr val="003300"/>
                </a:solidFill>
                <a:latin typeface="华文中宋"/>
                <a:ea typeface="华文中宋"/>
              </a:rPr>
              <a:t>哪些课文需要略读</a:t>
            </a:r>
            <a:r>
              <a:rPr b="0" lang="zh-CN" sz="3200" spc="-1" strike="noStrike">
                <a:solidFill>
                  <a:srgbClr val="003300"/>
                </a:solidFill>
                <a:latin typeface="华文中宋"/>
                <a:ea typeface="华文中宋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304920" y="0"/>
            <a:ext cx="8839080" cy="5943600"/>
            <a:chOff x="304920" y="0"/>
            <a:chExt cx="8839080" cy="5943600"/>
          </a:xfrm>
        </p:grpSpPr>
        <p:grpSp>
          <p:nvGrpSpPr>
            <p:cNvPr id="64" name=""/>
            <p:cNvGrpSpPr/>
            <p:nvPr/>
          </p:nvGrpSpPr>
          <p:grpSpPr>
            <a:xfrm>
              <a:off x="304920" y="0"/>
              <a:ext cx="8839080" cy="5943600"/>
              <a:chOff x="304920" y="0"/>
              <a:chExt cx="8839080" cy="5943600"/>
            </a:xfrm>
          </p:grpSpPr>
          <p:pic>
            <p:nvPicPr>
              <p:cNvPr id="6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920" y="0"/>
                <a:ext cx="8839080" cy="594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"/>
              <p:cNvSpPr/>
              <p:nvPr/>
            </p:nvSpPr>
            <p:spPr>
              <a:xfrm>
                <a:off x="838080" y="304920"/>
                <a:ext cx="7848360" cy="14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7" name="" descr=""/>
            <p:cNvPicPr/>
            <p:nvPr/>
          </p:nvPicPr>
          <p:blipFill>
            <a:blip r:embed="rId3"/>
            <a:srcRect l="0" t="0" r="80415" b="0"/>
            <a:stretch/>
          </p:blipFill>
          <p:spPr>
            <a:xfrm rot="16200000">
              <a:off x="4445280" y="1397880"/>
              <a:ext cx="557280" cy="792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00800" y="990720"/>
            <a:ext cx="2324160" cy="1898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3520" y="12193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请同学们自由读第一段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说说什么叫精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260676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  <a:ea typeface="华文中宋"/>
              </a:rPr>
              <a:t>对重要的文章和书籍，要认真读反复读，要逐字逐句地深入钻研，对重要的语句和章节所表达的思想内容还要做到透彻理解。这就是精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152280" y="0"/>
            <a:ext cx="8839440" cy="5943600"/>
            <a:chOff x="152280" y="0"/>
            <a:chExt cx="8839440" cy="5943600"/>
          </a:xfrm>
        </p:grpSpPr>
        <p:grpSp>
          <p:nvGrpSpPr>
            <p:cNvPr id="72" name=""/>
            <p:cNvGrpSpPr/>
            <p:nvPr/>
          </p:nvGrpSpPr>
          <p:grpSpPr>
            <a:xfrm>
              <a:off x="152280" y="0"/>
              <a:ext cx="8839440" cy="5943600"/>
              <a:chOff x="152280" y="0"/>
              <a:chExt cx="8839440" cy="5943600"/>
            </a:xfrm>
          </p:grpSpPr>
          <p:pic>
            <p:nvPicPr>
              <p:cNvPr id="7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280" y="0"/>
                <a:ext cx="8839440" cy="594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"/>
              <p:cNvSpPr/>
              <p:nvPr/>
            </p:nvSpPr>
            <p:spPr>
              <a:xfrm>
                <a:off x="685800" y="304920"/>
                <a:ext cx="7848720" cy="14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5" name="" descr=""/>
            <p:cNvPicPr/>
            <p:nvPr/>
          </p:nvPicPr>
          <p:blipFill>
            <a:blip r:embed="rId3"/>
            <a:srcRect l="0" t="0" r="80415" b="0"/>
            <a:stretch/>
          </p:blipFill>
          <p:spPr>
            <a:xfrm rot="16200000">
              <a:off x="4293360" y="1397880"/>
              <a:ext cx="557280" cy="7925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00800" y="990720"/>
            <a:ext cx="2324160" cy="1898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33520" y="14479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同学们，用自己的话说说“略读”的意思，同桌之间交流一下自己的意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441972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华文中宋"/>
              </a:rPr>
              <a:t>略读就是大略地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828800" y="373392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我来说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609480" y="3429000"/>
            <a:ext cx="1009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04920" y="0"/>
            <a:ext cx="8839080" cy="5943600"/>
            <a:chOff x="304920" y="0"/>
            <a:chExt cx="8839080" cy="5943600"/>
          </a:xfrm>
        </p:grpSpPr>
        <p:grpSp>
          <p:nvGrpSpPr>
            <p:cNvPr id="82" name=""/>
            <p:cNvGrpSpPr/>
            <p:nvPr/>
          </p:nvGrpSpPr>
          <p:grpSpPr>
            <a:xfrm>
              <a:off x="304920" y="0"/>
              <a:ext cx="8839080" cy="5943600"/>
              <a:chOff x="304920" y="0"/>
              <a:chExt cx="8839080" cy="5943600"/>
            </a:xfrm>
          </p:grpSpPr>
          <p:pic>
            <p:nvPicPr>
              <p:cNvPr id="8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920" y="0"/>
                <a:ext cx="8839080" cy="594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"/>
              <p:cNvSpPr/>
              <p:nvPr/>
            </p:nvSpPr>
            <p:spPr>
              <a:xfrm>
                <a:off x="838080" y="304920"/>
                <a:ext cx="7848360" cy="14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5" name="" descr=""/>
            <p:cNvPicPr/>
            <p:nvPr/>
          </p:nvPicPr>
          <p:blipFill>
            <a:blip r:embed="rId3"/>
            <a:srcRect l="0" t="0" r="80415" b="0"/>
            <a:stretch/>
          </p:blipFill>
          <p:spPr>
            <a:xfrm rot="16200000">
              <a:off x="4445280" y="1397880"/>
              <a:ext cx="557280" cy="792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00800" y="990720"/>
            <a:ext cx="2324160" cy="1898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3520" y="13240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同学们，说说哪些课文需要我们去精读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9718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华文中宋"/>
              </a:rPr>
              <a:t>       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华文中宋"/>
              </a:rPr>
              <a:t>我们所读的课文，都是经过精心编选的，对我们学习语文很有帮助，因此须要精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304920" y="0"/>
            <a:ext cx="8839080" cy="5943600"/>
            <a:chOff x="304920" y="0"/>
            <a:chExt cx="8839080" cy="5943600"/>
          </a:xfrm>
        </p:grpSpPr>
        <p:grpSp>
          <p:nvGrpSpPr>
            <p:cNvPr id="90" name=""/>
            <p:cNvGrpSpPr/>
            <p:nvPr/>
          </p:nvGrpSpPr>
          <p:grpSpPr>
            <a:xfrm>
              <a:off x="304920" y="0"/>
              <a:ext cx="8839080" cy="5943600"/>
              <a:chOff x="304920" y="0"/>
              <a:chExt cx="8839080" cy="5943600"/>
            </a:xfrm>
          </p:grpSpPr>
          <p:pic>
            <p:nvPicPr>
              <p:cNvPr id="9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920" y="0"/>
                <a:ext cx="8839080" cy="594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>
                <a:off x="838080" y="304920"/>
                <a:ext cx="7848360" cy="14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3" name="" descr=""/>
            <p:cNvPicPr/>
            <p:nvPr/>
          </p:nvPicPr>
          <p:blipFill>
            <a:blip r:embed="rId3"/>
            <a:srcRect l="0" t="0" r="80415" b="0"/>
            <a:stretch/>
          </p:blipFill>
          <p:spPr>
            <a:xfrm rot="16200000">
              <a:off x="4445280" y="1397880"/>
              <a:ext cx="557280" cy="792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00800" y="990720"/>
            <a:ext cx="2324160" cy="1898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14400" y="18288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小组内交流，略读有哪些好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133720" y="1143000"/>
            <a:ext cx="2133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隶书"/>
              </a:rPr>
              <a:t>交流会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隶书"/>
              <a:ea typeface="隶书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32004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）通过略读，可以用较少的时间阅读大量的书刊，从而扩大自己的知识面，获得对有关读物的总的认识，便于以后需要的时候去查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762120" y="914400"/>
            <a:ext cx="100944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304920" y="0"/>
            <a:ext cx="8839080" cy="5943600"/>
            <a:chOff x="304920" y="0"/>
            <a:chExt cx="8839080" cy="5943600"/>
          </a:xfrm>
        </p:grpSpPr>
        <p:grpSp>
          <p:nvGrpSpPr>
            <p:cNvPr id="100" name=""/>
            <p:cNvGrpSpPr/>
            <p:nvPr/>
          </p:nvGrpSpPr>
          <p:grpSpPr>
            <a:xfrm>
              <a:off x="304920" y="0"/>
              <a:ext cx="8839080" cy="5943600"/>
              <a:chOff x="304920" y="0"/>
              <a:chExt cx="8839080" cy="5943600"/>
            </a:xfrm>
          </p:grpSpPr>
          <p:pic>
            <p:nvPicPr>
              <p:cNvPr id="10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920" y="0"/>
                <a:ext cx="8839080" cy="594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>
                <a:off x="838080" y="304920"/>
                <a:ext cx="7848360" cy="14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" name="" descr=""/>
            <p:cNvPicPr/>
            <p:nvPr/>
          </p:nvPicPr>
          <p:blipFill>
            <a:blip r:embed="rId3"/>
            <a:srcRect l="0" t="0" r="80415" b="0"/>
            <a:stretch/>
          </p:blipFill>
          <p:spPr>
            <a:xfrm rot="16200000">
              <a:off x="4445280" y="1397880"/>
              <a:ext cx="557280" cy="792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400800" y="990720"/>
            <a:ext cx="2324160" cy="1898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38080" y="18288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小组内交流，略读有哪些好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057400" y="1143000"/>
            <a:ext cx="2133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隶书"/>
              </a:rPr>
              <a:t>交流会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隶书"/>
              <a:ea typeface="隶书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2004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）略读又是精读的基础，通过略读，可以在很短的时间内知道一篇文章或一本书的基本内容，从而确定它是否须要精读，或哪些地方须要精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762120" y="914400"/>
            <a:ext cx="100944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304920" y="0"/>
            <a:ext cx="8839080" cy="5943600"/>
            <a:chOff x="304920" y="0"/>
            <a:chExt cx="8839080" cy="5943600"/>
          </a:xfrm>
        </p:grpSpPr>
        <p:grpSp>
          <p:nvGrpSpPr>
            <p:cNvPr id="110" name=""/>
            <p:cNvGrpSpPr/>
            <p:nvPr/>
          </p:nvGrpSpPr>
          <p:grpSpPr>
            <a:xfrm>
              <a:off x="304920" y="0"/>
              <a:ext cx="8839080" cy="5943600"/>
              <a:chOff x="304920" y="0"/>
              <a:chExt cx="8839080" cy="5943600"/>
            </a:xfrm>
          </p:grpSpPr>
          <p:pic>
            <p:nvPicPr>
              <p:cNvPr id="11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920" y="0"/>
                <a:ext cx="8839080" cy="594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838080" y="304920"/>
                <a:ext cx="7848360" cy="14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3" name="" descr=""/>
            <p:cNvPicPr/>
            <p:nvPr/>
          </p:nvPicPr>
          <p:blipFill>
            <a:blip r:embed="rId3"/>
            <a:srcRect l="0" t="0" r="80415" b="0"/>
            <a:stretch/>
          </p:blipFill>
          <p:spPr>
            <a:xfrm rot="16200000">
              <a:off x="4445280" y="1397880"/>
              <a:ext cx="557280" cy="792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00800" y="990720"/>
            <a:ext cx="2324160" cy="1898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09480" y="129528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怎样进行略读呢？请同学们读课文，谈谈你的体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27432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如果面对一大堆读物，我们可以将每本书的内容提要、前言、章节目录等很快地从头到尾看一遍，这样就能大致了解每本书的梗概、特点及应用范围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07-10-26T19:33:11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