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DC1-0932-4F1C-B10E-508CEA74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B8D-AF98-42BF-BB53-F61C78A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402-B25C-411A-8298-B21A47F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9B9-A9C2-4954-8A9D-1F2ADA2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D791-DB00-4A2D-8B8A-D0DA2D6F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E53D-1AD3-46EC-BBD9-0AF27EF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E986-8E75-4A05-BE09-A511A09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8F8-916A-4F5C-8AC3-B4537BD9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B8A6-057E-41A3-82CC-214AC26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45DF-99FA-4874-A47F-3D31B0EA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C97-21AB-4DCB-A939-B0AC9CF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CA8-B800-4A95-8585-E4EEA87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4DA-230B-4962-BFDA-1A445D8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732-14F9-4D7A-84B6-5F3AB91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A47-38AF-40D8-8BCA-FC1D218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619A-B5CB-47F4-B93E-0B4F0B5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C01-0FE4-49A4-8797-63B06D77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428B-2667-4F11-8CEF-5116669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5D2F-D342-4142-A8CD-209E3E1D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F86F-0907-497E-BB73-50B157D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0DE5-2DD2-45B8-BB90-C0F4299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A2EE-A3A4-4ABC-8F17-30AC819C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1DA-E965-4B3D-98E2-AE27537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D912-E26A-495A-83D8-AAFD0CA7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515D-B608-4D33-B106-C0E8D82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A48A-238D-46EC-8178-BC9F16D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9E11-262D-4F9F-B740-F5924C5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BCF4-A9F3-4724-902C-30E7FFE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D9A6-9E89-4366-B752-483D28E4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4D2F-FBBA-4695-9600-B6BAC18F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B63-F1F2-4301-B36C-456F67D1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5F0-91D8-4047-B63A-664D02A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1DB-8ECE-48E2-AA53-1A826D0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108-B98B-41EF-8571-65BCF13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EDE-F32A-4BE9-BF79-8BE79A6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D36-481E-4A7A-A18C-44E06FD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9C7-2B23-47AD-A75F-B7156C51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D65-6D63-40D4-8A97-5B99AF1BE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600-DFEF-4D7C-B7F9-29485AD447F4}" type="slidenum">
              <a:rPr b="0" lang="en-US" sz="1400" spc="-1" strike="noStrike">
                <a:solidFill>
                  <a:srgbClr val="007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chinaschool.net/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chinaschool.net/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chinaschool.net/" TargetMode="Externa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.baidu.com/i?ct=503316480&amp;z=0&amp;tn=baiduimagedetail&amp;word=%CA&#40750;&amp;in=706&amp;cl=2&amp;cm=1&amp;sc=0&amp;lm=-1&amp;pn=14&amp;rn=1&amp;di=1310245688&amp;ln=2000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chinaschool.net/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chinaschool.net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hyperlink" Target="http://www.chinaschool.net/" TargetMode="Externa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http://www.chinaschool.net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chinaschool.net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530280" y="-119160"/>
            <a:ext cx="10207800" cy="697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905120" y="1752480"/>
            <a:ext cx="50292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12 </a:t>
            </a: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精读与略读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-301680"/>
            <a:ext cx="6191280" cy="6188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438280"/>
            <a:ext cx="388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由发言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00320" y="3714840"/>
            <a:ext cx="6856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哪些书你会精读？哪些书你会略读？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6360" y="1341360"/>
            <a:ext cx="43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◆</a:t>
            </a: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名人的读书方法</a:t>
            </a:r>
            <a:r>
              <a:rPr b="0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844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毛泽东的读书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毛泽东毕生珍惜时间，博览群书。其中“三复四温”式阅读和“不动笔墨不读书”是他主要的读书方法。他在青年时期就熟读了《史记》等古籍，并且不断地重温；就是到了晚年，对他喜爱的同一本史书，也是反复研读，并有读过一遍书在封面划上一个圈作记号的习惯，所以，在他读过的许多书籍中，均留下了他读过二遍、三遍的圈记。毛泽东在青年时代读书时即有“读得多，想得多，写得多，问得多”的习惯。他的写作多表现在做内容摘录，在重要的地方划上圈、杠、点等符号，作批注以及写读书日记、在原书上改错纠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76360" y="1655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◆</a:t>
            </a: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名人的读书方法</a:t>
            </a:r>
            <a:r>
              <a:rPr b="0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2349360"/>
            <a:ext cx="655308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鲁迅的读书法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鲁迅在博览群籍的基础上，形成了有自己特色的读书方法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一是泛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二是硬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三是专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四是活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五是参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79640" y="2924280"/>
            <a:ext cx="56167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策略之一：定向阅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策略之二：选择阅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策略之三：时间巧安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871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◆</a:t>
            </a: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阅读策略</a:t>
            </a:r>
            <a:r>
              <a:rPr b="0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3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55280" y="1419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有三到：心到、眼到、口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书不厌百回读，熟读深思子自知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山有路勤为径，学海无涯苦作舟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破万卷，下笔如有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是逆境中的慰藉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房是文人精神的巢穴，生命的禅堂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壮丽的宫殿是藏书最多的图书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时读书就像迎着朝阳走路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淡的墨水也胜过最强的记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在某种意义上来说是养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920" y="549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读书名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627440" cy="5886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0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书香缕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汤姆叔叔的小屋》（美 斯托夫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窗边的小豆豆》    《男生日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智慧背囊》    《海底两万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走近冰心》    《清华名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华成语故事》    《昆虫记》（法 法布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天才诗人普希金》   《中国短篇小说精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外国名家短篇小说经典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老象恩仇记》  沈石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外名人故事》      《哈利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波特》（英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J·k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罗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三毛流浪记》（张乐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水浒传》 《红楼梦》《三国演义》《西游记》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红岩》     《铁道游击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福尔摩斯探案集》（英 柯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纽约时报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位科学家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目击历史》（叶永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19280" y="2276640"/>
            <a:ext cx="691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沿着这条小路走，能到金明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改成反问句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听到波涛的轰鸣和狂风怒号，桑娜感到心惊肉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改成反问句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妈妈对我说：“明天我要出差，这几天只好你自己照顾自己了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改为转述句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泰山日出的景色真美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改成感叹句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1628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◆</a:t>
            </a: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练一练</a:t>
            </a:r>
            <a:r>
              <a:rPr b="0" lang="en-US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80000" y="5805360"/>
            <a:ext cx="172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63640" y="17175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4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19280" y="1557360"/>
            <a:ext cx="5904000" cy="438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872320"/>
            <a:ext cx="172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0920" y="1773360"/>
            <a:ext cx="36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Arial"/>
                <a:ea typeface="楷体_GB2312"/>
              </a:rPr>
              <a:t>按要求朗读课文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2428920"/>
            <a:ext cx="684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Arial"/>
              </a:rPr>
              <a:t>　　（</a:t>
            </a:r>
            <a:r>
              <a:rPr b="1" lang="en-US" sz="2600" spc="-1" strike="noStrike">
                <a:solidFill>
                  <a:srgbClr val="0074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7400"/>
                </a:solidFill>
                <a:latin typeface="Arial"/>
              </a:rPr>
              <a:t>）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保持良好的读书姿势，做到不动笔墨不读书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读准生字新词，根据上下文理解生字新词的意思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把课文读通读顺，遇到难读的句子或者长句多读几遍，并在不懂的或有疑问的地方作上记号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边读边思考：读书时怎样进行精读与略读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190520" y="1579680"/>
            <a:ext cx="3309840" cy="2570040"/>
            <a:chOff x="1190520" y="1579680"/>
            <a:chExt cx="3309840" cy="257004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1190520" y="1579680"/>
              <a:ext cx="21574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76360" y="2205000"/>
              <a:ext cx="302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Arial"/>
                  <a:ea typeface="楷体_GB2312"/>
                </a:rPr>
                <a:t>文章结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132000" y="2523960"/>
            <a:ext cx="4896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第一段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：说明读书的重要和“精读”的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第二段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～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：介绍“略读”的常识和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第三段（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：说明只要精读与略读相结合，就能取得最佳读书效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4"/>
          </p:cNvPr>
          <p:cNvSpPr/>
          <p:nvPr/>
        </p:nvSpPr>
        <p:spPr>
          <a:xfrm>
            <a:off x="179280" y="6524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38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籍 透彻 大略 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刊 梗概 概述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浩如烟海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一目十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225360" y="149400"/>
            <a:ext cx="9750240" cy="6664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求一：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自读课文，要求把字词、句子读准确、流利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思考：什么是精读？什么是略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777960"/>
            <a:ext cx="9753480" cy="7635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求二：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快速默读课文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思考：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①精读、略读各有什么作用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②怎样进行略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0600" y="0"/>
            <a:ext cx="9023400" cy="7203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</a:t>
            </a:r>
            <a:r>
              <a:rPr b="0" lang="zh-CN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讨论：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你认为是精读重要还是略读重要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1:41:32Z</dcterms:created>
  <dc:creator/>
  <dc:description/>
  <dc:language>en-US</dc:language>
  <cp:lastModifiedBy>微软用户</cp:lastModifiedBy>
  <dcterms:modified xsi:type="dcterms:W3CDTF">2013-04-10T11:57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