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DE7-A8AA-4657-8C32-383BE259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855-B125-4022-998E-70AF18EF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79A5-9474-458B-A602-3ECF3AA3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C24-4343-4EB6-9D11-CC8D890A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C148-55B7-4DA8-B802-790BB382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95DD-70F6-4222-85FB-EAFE5488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D06E-EBB3-4CB8-872A-53A4927B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C245-CC90-4D55-9677-72E3CF3D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2B7A-F4C0-4C16-93BB-45B34BB0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4E6A-27BE-4EDC-B7CB-FFF86E65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7DF4-F60D-4993-97E8-4FBED506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9628-3184-4E13-9D4A-382107BC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0B4F-000A-4CA1-8EB8-51E63DF4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1981-37C3-46CF-8A7C-A95A35F9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77EE-9133-4A1A-9065-D46987D5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0059-CEB9-4A2F-B21A-D29DF62A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8514-19BF-410A-A512-D13170C9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820-253E-4F74-9D93-A1863166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0B3-024C-4E4F-BA5D-85F1D3D2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91C-DE8F-4796-9C90-F5E340EF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BA4-6691-4516-A500-BC7BA33A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856-3AE6-4E3F-A0C3-9D65A8F4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04E3-30AB-44D9-BA94-EE9F2848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3A1-18E7-489F-B1A5-8AAF5FF6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991C-17B5-43F6-97D6-44711C2B5D9E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B6F1-923A-49E4-8F96-C0E71E1944DF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1125360"/>
            <a:ext cx="446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Haettenschweiler"/>
                <a:ea typeface="华文彩云"/>
              </a:rPr>
              <a:t>甜蜜的思念</a:t>
            </a:r>
            <a:endParaRPr b="0" lang="en-US" sz="6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1280" y="2060640"/>
            <a:ext cx="8064360" cy="23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这个世界上有一种爱情叫伤心欲绝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有一种思念叫痛彻心扉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51640" y="5877000"/>
            <a:ext cx="1008000" cy="36036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836640"/>
            <a:ext cx="842472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爱情，无论是爱一个人或被一个人爱总是幸福的，思念，无论是思念一个人或被一个人思念总是甜蜜的。但是世上就存在这样一种爱情，拥有她叫伤心欲绝，又一种思念，拥有她叫痛彻心扉。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只有两世相隔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的这种爱情，这种思念才会如此的让人心碎，才会演绎得如此动人心弦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333360"/>
            <a:ext cx="89647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（公元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055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年，一对新人结婚了。新郎是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9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岁的苏东坡，新娘是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6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岁的王弗。新郎羽扇纶巾，雄姿英发，新娘年轻美貌，天资聪颖，一对新人可谓才子佳人。王弗贤淑端庄，对苏轼的事业、人生给予了巨大的激励和帮助。王弗不但是苏轼生活上的伴侣，而且是文学上的知音，事业上的贤内助，可惜天妒良缘，红颜薄命，王弗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26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岁时就去世了。这对苏轼是一个沉重的打击。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1075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年，苏东坡被贬谪到密州（今山东诸城县）任知州，这一年正月二十日夜，他梦见爱妻王氏，便写下《江城子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乙卯正月二十日夜记梦》的悼亡词。此时诗人四十岁，其妻王弗去世整十年。）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981000"/>
            <a:ext cx="7632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江 城 子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·</a:t>
            </a:r>
            <a:r>
              <a:rPr b="1" lang="zh-CN" sz="3200" spc="-1" strike="noStrike">
                <a:solidFill>
                  <a:srgbClr val="0033cc"/>
                </a:solidFill>
                <a:latin typeface="华文新魏"/>
                <a:ea typeface="华文新魏"/>
              </a:rPr>
              <a:t>乙卯正月二十夜记梦</a:t>
            </a:r>
            <a:br>
              <a:rPr sz="3200"/>
            </a:br>
            <a:br>
              <a:rPr sz="3200"/>
            </a:b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                       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苏 轼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十年生死两茫茫，不思量，自难忘。 千里孤坟，无处话凄凉。纵使相逢应不识，尘满面，鬓如霜。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夜来幽梦忽还乡。小轩窗，正梳妆。 相顾无言，惟有泪千行。料得年年肠断处：明月夜，短松冈。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20000" y="5734080"/>
            <a:ext cx="1368360" cy="43164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6920" y="836640"/>
            <a:ext cx="74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读下片，找到梦境里最清晰的画面，并说说你的感受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3068640"/>
            <a:ext cx="475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33cc"/>
                </a:solidFill>
                <a:latin typeface="Times New Roman"/>
              </a:rPr>
              <a:t>小轩窗，正梳妆         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33cc"/>
                </a:solidFill>
                <a:latin typeface="Times New Roman"/>
              </a:rPr>
              <a:t>相顾无言，惟有泪千行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33cc"/>
                </a:solidFill>
                <a:latin typeface="Times New Roman"/>
              </a:rPr>
              <a:t>明月夜，短松冈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000" y="69228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读上片，找到你认为较清晰的画面，并说说你的感受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068640"/>
            <a:ext cx="33116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33cc"/>
                </a:solidFill>
                <a:latin typeface="Times New Roman"/>
              </a:rPr>
              <a:t>千里孤坟，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33cc"/>
                </a:solidFill>
                <a:latin typeface="Times New Roman"/>
              </a:rPr>
              <a:t>尘满面，鬓如霜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90792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苏轼为什么会做这个梦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2565360"/>
            <a:ext cx="53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对亡妻的思念，深厚的感情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371628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历经尘世沧桑，失落的自叹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1280" y="134136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这首词将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梦境与现实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交融而为一体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虚实结合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，浓郁的情思与率直的笔法相互映衬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既是悼亡，也是伤时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，把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哀思与自叹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融和，情真意切，哀惋欲绝，读之催人泪下。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6000" y="5950080"/>
            <a:ext cx="1223640" cy="35856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1197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若王弗地下有知她会对苏轼说什么？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2:32:59Z</dcterms:created>
  <dc:creator>huyumei</dc:creator>
  <dc:description/>
  <dc:language>en-US</dc:language>
  <cp:lastModifiedBy>MC SYSTEM</cp:lastModifiedBy>
  <dcterms:modified xsi:type="dcterms:W3CDTF">2008-10-21T05:02:05Z</dcterms:modified>
  <cp:revision>52</cp:revision>
  <dc:subject/>
  <dc:title>PowerPoint 演示文稿</dc:title>
</cp:coreProperties>
</file>