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projctor.wav" ContentType="audio/x-wav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7DAA-EFC7-492B-92EF-1B5BF013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198-86E5-4407-B717-8B8F8DD3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B6A-84DF-4365-B54F-EDCFFE65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FC1-4425-403C-8BE8-CAD07B44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FB25-81E1-4B7D-88BD-B8EC945F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5FE-D65D-4CD6-AFC6-A8187791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BA4A-83AA-4F9C-9CA5-92FA4C0E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A10-7F38-4DDD-9503-98D262E5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24F-1330-4B35-BA44-E4B77E77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785-A21A-4F90-A788-7168ABB6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788-6310-479A-AA66-80855DC2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3CA-34C0-4043-9723-1BBD60F7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71CC-F4FA-4C77-8606-06701C4107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3640" y="2565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75440" y="4114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苏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赠孟浩然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85880" y="33480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03640" y="380880"/>
            <a:ext cx="281484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江城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乙卯正月二十日夜记梦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苏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71240" y="3581280"/>
            <a:ext cx="91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深州中学      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A174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260280"/>
            <a:ext cx="77724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</a:rPr>
              <a:t>艺术特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2952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内容层层推进，引出梦中相遇，抒发悼亡之情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305920" y="6400800"/>
            <a:ext cx="738000" cy="357120"/>
          </a:xfrm>
          <a:custGeom>
            <a:avLst/>
            <a:gdLst>
              <a:gd name="textAreaLeft" fmla="*/ 66600 w 738000"/>
              <a:gd name="textAreaRight" fmla="*/ 671400 w 738000"/>
              <a:gd name="textAreaTop" fmla="*/ 66600 h 357120"/>
              <a:gd name="textAreaBottom" fmla="*/ 290520 h 357120"/>
            </a:gdLst>
            <a:ahLst/>
            <a:rect l="textAreaLeft" t="textAreaTop" r="textAreaRight" b="textAreaBottom"/>
            <a:pathLst>
              <a:path w="44614" h="21600">
                <a:moveTo>
                  <a:pt x="0" y="0"/>
                </a:moveTo>
                <a:lnTo>
                  <a:pt x="44614" y="0"/>
                </a:lnTo>
                <a:lnTo>
                  <a:pt x="44614" y="21600"/>
                </a:lnTo>
                <a:lnTo>
                  <a:pt x="0" y="21600"/>
                </a:lnTo>
                <a:close/>
              </a:path>
              <a:path fill="lightenLess" w="44614" h="21600">
                <a:moveTo>
                  <a:pt x="0" y="0"/>
                </a:moveTo>
                <a:lnTo>
                  <a:pt x="44614" y="0"/>
                </a:lnTo>
                <a:lnTo>
                  <a:pt x="40579" y="4035"/>
                </a:lnTo>
                <a:lnTo>
                  <a:pt x="4035" y="4035"/>
                </a:lnTo>
                <a:close/>
              </a:path>
              <a:path fill="darken" w="44614" h="21600">
                <a:moveTo>
                  <a:pt x="44614" y="0"/>
                </a:moveTo>
                <a:lnTo>
                  <a:pt x="44614" y="21600"/>
                </a:lnTo>
                <a:lnTo>
                  <a:pt x="40579" y="17565"/>
                </a:lnTo>
                <a:lnTo>
                  <a:pt x="40579" y="4035"/>
                </a:lnTo>
                <a:close/>
              </a:path>
              <a:path fill="darkenLess" w="44614" h="21600">
                <a:moveTo>
                  <a:pt x="44614" y="21600"/>
                </a:moveTo>
                <a:lnTo>
                  <a:pt x="0" y="21600"/>
                </a:lnTo>
                <a:lnTo>
                  <a:pt x="4035" y="17565"/>
                </a:lnTo>
                <a:lnTo>
                  <a:pt x="40579" y="17565"/>
                </a:lnTo>
                <a:close/>
              </a:path>
              <a:path fill="lighten" w="44614" h="21600">
                <a:moveTo>
                  <a:pt x="0" y="21600"/>
                </a:moveTo>
                <a:lnTo>
                  <a:pt x="0" y="0"/>
                </a:lnTo>
                <a:lnTo>
                  <a:pt x="4035" y="4035"/>
                </a:lnTo>
                <a:lnTo>
                  <a:pt x="4035" y="17565"/>
                </a:lnTo>
                <a:close/>
              </a:path>
              <a:path fill="darken" w="44614" h="21600">
                <a:moveTo>
                  <a:pt x="19789" y="10800"/>
                </a:moveTo>
                <a:lnTo>
                  <a:pt x="27349" y="5758"/>
                </a:lnTo>
                <a:lnTo>
                  <a:pt x="27349" y="15842"/>
                </a:lnTo>
                <a:close/>
              </a:path>
              <a:path fill="darken" w="44614" h="21600">
                <a:moveTo>
                  <a:pt x="17265" y="5758"/>
                </a:moveTo>
                <a:lnTo>
                  <a:pt x="18461" y="5758"/>
                </a:lnTo>
                <a:lnTo>
                  <a:pt x="18461" y="15842"/>
                </a:lnTo>
                <a:lnTo>
                  <a:pt x="17265" y="15842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666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记叙描写抒情议论相结合，抒发对亡妻的掉念和自己对自己身世经历的感慨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41911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虚实结合，以虚衬实，抒发悼亡之情。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Water%20lilies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63640" y="2565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752480"/>
            <a:ext cx="7772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宋体"/>
              </a:rPr>
              <a:t>苏幕遮</a:t>
            </a:r>
            <a:r>
              <a:rPr b="1" lang="zh-CN" sz="5400" spc="-1" strike="noStrike">
                <a:solidFill>
                  <a:srgbClr val="e07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8800" y="400680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周邦彦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684864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8305920" y="6400800"/>
            <a:ext cx="738000" cy="357120"/>
          </a:xfrm>
          <a:custGeom>
            <a:avLst/>
            <a:gdLst>
              <a:gd name="textAreaLeft" fmla="*/ 66600 w 738000"/>
              <a:gd name="textAreaRight" fmla="*/ 671400 w 738000"/>
              <a:gd name="textAreaTop" fmla="*/ 66600 h 357120"/>
              <a:gd name="textAreaBottom" fmla="*/ 290520 h 357120"/>
            </a:gdLst>
            <a:ahLst/>
            <a:rect l="textAreaLeft" t="textAreaTop" r="textAreaRight" b="textAreaBottom"/>
            <a:pathLst>
              <a:path w="44614" h="21600">
                <a:moveTo>
                  <a:pt x="0" y="0"/>
                </a:moveTo>
                <a:lnTo>
                  <a:pt x="44614" y="0"/>
                </a:lnTo>
                <a:lnTo>
                  <a:pt x="44614" y="21600"/>
                </a:lnTo>
                <a:lnTo>
                  <a:pt x="0" y="21600"/>
                </a:lnTo>
                <a:close/>
              </a:path>
              <a:path fill="lightenLess" w="44614" h="21600">
                <a:moveTo>
                  <a:pt x="0" y="0"/>
                </a:moveTo>
                <a:lnTo>
                  <a:pt x="44614" y="0"/>
                </a:lnTo>
                <a:lnTo>
                  <a:pt x="40579" y="4035"/>
                </a:lnTo>
                <a:lnTo>
                  <a:pt x="4035" y="4035"/>
                </a:lnTo>
                <a:close/>
              </a:path>
              <a:path fill="darken" w="44614" h="21600">
                <a:moveTo>
                  <a:pt x="44614" y="0"/>
                </a:moveTo>
                <a:lnTo>
                  <a:pt x="44614" y="21600"/>
                </a:lnTo>
                <a:lnTo>
                  <a:pt x="40579" y="17565"/>
                </a:lnTo>
                <a:lnTo>
                  <a:pt x="40579" y="4035"/>
                </a:lnTo>
                <a:close/>
              </a:path>
              <a:path fill="darkenLess" w="44614" h="21600">
                <a:moveTo>
                  <a:pt x="44614" y="21600"/>
                </a:moveTo>
                <a:lnTo>
                  <a:pt x="0" y="21600"/>
                </a:lnTo>
                <a:lnTo>
                  <a:pt x="4035" y="17565"/>
                </a:lnTo>
                <a:lnTo>
                  <a:pt x="40579" y="17565"/>
                </a:lnTo>
                <a:close/>
              </a:path>
              <a:path fill="lighten" w="44614" h="21600">
                <a:moveTo>
                  <a:pt x="0" y="21600"/>
                </a:moveTo>
                <a:lnTo>
                  <a:pt x="0" y="0"/>
                </a:lnTo>
                <a:lnTo>
                  <a:pt x="4035" y="4035"/>
                </a:lnTo>
                <a:lnTo>
                  <a:pt x="4035" y="17565"/>
                </a:lnTo>
                <a:close/>
              </a:path>
              <a:path fill="darken" w="44614" h="21600">
                <a:moveTo>
                  <a:pt x="19789" y="10800"/>
                </a:moveTo>
                <a:lnTo>
                  <a:pt x="27349" y="5758"/>
                </a:lnTo>
                <a:lnTo>
                  <a:pt x="27349" y="15842"/>
                </a:lnTo>
                <a:close/>
              </a:path>
              <a:path fill="darken" w="44614" h="21600">
                <a:moveTo>
                  <a:pt x="17265" y="5758"/>
                </a:moveTo>
                <a:lnTo>
                  <a:pt x="18461" y="5758"/>
                </a:lnTo>
                <a:lnTo>
                  <a:pt x="18461" y="15842"/>
                </a:lnTo>
                <a:lnTo>
                  <a:pt x="17265" y="15842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57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诗人小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523880"/>
            <a:ext cx="7543800" cy="2043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邦彦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56—112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字美成，自号清真居士，北宋钱塘（今浙江杭州）人。曾提举大晟府。做过知州等官，卒年六十六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周邦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负一代词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其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浑厚和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《词源》）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缜密典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对后世影响较大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3733920" y="838080"/>
            <a:ext cx="51814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苏幕遮</a:t>
            </a:r>
            <a:r>
              <a:rPr b="0" lang="zh-CN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周邦彦</a:t>
            </a:r>
            <a:r>
              <a:rPr b="0" lang="zh-CN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燎沈香，消溽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鸟雀呼晴，侵晓窥檐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叶上初阳乾宿雨，水面清圆，一一风荷举。</a:t>
            </a:r>
            <a:br>
              <a:rPr sz="2800"/>
            </a:br>
            <a:r>
              <a:rPr b="0" lang="zh-CN" sz="2800" spc="-1" strike="noStrike">
                <a:solidFill>
                  <a:srgbClr val="006699"/>
                </a:solidFill>
                <a:latin typeface="Times New Roman"/>
              </a:rPr>
              <a:t>　</a:t>
            </a:r>
            <a:br>
              <a:rPr sz="2800"/>
            </a:br>
            <a:r>
              <a:rPr b="0" lang="zh-CN" sz="2800" spc="-1" strike="noStrike">
                <a:solidFill>
                  <a:srgbClr val="006699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故乡遥，何日去？</a:t>
            </a:r>
            <a:br>
              <a:rPr sz="3200"/>
            </a:b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　家住吴门，久作长安旅。</a:t>
            </a:r>
            <a:br>
              <a:rPr sz="3200"/>
            </a:b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　五月渔郎相忆否？</a:t>
            </a:r>
            <a:br>
              <a:rPr sz="3200"/>
            </a:b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　小辑轻舟，梦入芙蓉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17640" y="197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38YS_200573221522203" descr=""/>
          <p:cNvPicPr/>
          <p:nvPr/>
        </p:nvPicPr>
        <p:blipFill>
          <a:blip r:embed="rId2"/>
          <a:stretch/>
        </p:blipFill>
        <p:spPr>
          <a:xfrm>
            <a:off x="0" y="0"/>
            <a:ext cx="335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2514600"/>
            <a:ext cx="7620120" cy="642600"/>
          </a:xfrm>
          <a:prstGeom prst="rect">
            <a:avLst/>
          </a:prstGeom>
          <a:solidFill>
            <a:srgbClr val="cc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此词以咏雨后荷花为中心，表现思念故乡的情怀。全词天然真美，不事雕饰，别具风韵。词以写雨后风荷为中心，由此而引入故乡归梦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9144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3809880" y="45720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燎沈香，消溽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鸟雀呼晴，侵晓窥檐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上初阳乾宿雨，水面清圆，一一风荷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17640" y="197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251460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600" spc="-1" strike="noStrike">
                <a:solidFill>
                  <a:srgbClr val="0000ff"/>
                </a:solidFill>
                <a:latin typeface="Times New Roman"/>
              </a:rPr>
              <a:t>这三句所写荷花的神态。写当宿雨初收，晓风吹过水面，红艳的初日照耀下，圆润的荷叶，绿净如拭，亭亭玉立的荷花，随风一一颤动起来。这样作者用十分生动的素描将一个活泼清远的词境，再现于读者面前。只一个“举”字，便刻画出荷花的动态。词之上片描写盛夏晨景。</a:t>
            </a:r>
            <a:r>
              <a:rPr b="0" lang="zh-CN" sz="11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Water%20lilies" descr=""/>
          <p:cNvPicPr/>
          <p:nvPr/>
        </p:nvPicPr>
        <p:blipFill>
          <a:blip r:embed="rId2"/>
          <a:stretch/>
        </p:blipFill>
        <p:spPr>
          <a:xfrm>
            <a:off x="0" y="0"/>
            <a:ext cx="335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3733920" y="83808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故乡遥，何日去？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　家住吴门，久作长安旅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　五月渔郎相忆否？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　小辑轻舟，梦入芙蓉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7640" y="197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38YS_200573221522203" descr=""/>
          <p:cNvPicPr/>
          <p:nvPr/>
        </p:nvPicPr>
        <p:blipFill>
          <a:blip r:embed="rId2"/>
          <a:stretch/>
        </p:blipFill>
        <p:spPr>
          <a:xfrm>
            <a:off x="0" y="0"/>
            <a:ext cx="33526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733920" y="297180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者面对着象征江南陂塘风色的荷花，很自然地会钩起乡心，词的结尾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小辑轻舟，梦入芙蓉浦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绾合，上下片联成一气，融景入情，不着痕迹。下片抒思乡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3809880" y="4572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艺术特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17640" y="197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1295280"/>
            <a:ext cx="533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此词通过回忆、想象、联想，以荷花贯穿，既细致传神地写景状物，又颇有诗意地表现思乡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值得注意表现手法还有：细节描写，写出夏天早晨雨过天晴的美好；转换叙述角度，使用曲笔，含蓄表达出对故乡的思念；虚实结合，将对故乡的思念写的真切具体可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全词语言自然明丽，淡雅素洁，别具一格，词境清新而爽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Water%20lilies" descr=""/>
          <p:cNvPicPr/>
          <p:nvPr/>
        </p:nvPicPr>
        <p:blipFill>
          <a:blip r:embed="rId2"/>
          <a:stretch/>
        </p:blipFill>
        <p:spPr>
          <a:xfrm>
            <a:off x="0" y="0"/>
            <a:ext cx="335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渡荆门送别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6019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95280" y="1905120"/>
            <a:ext cx="61722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谢谢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66560"/>
            <a:ext cx="81532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8305920" y="6400800"/>
            <a:ext cx="738000" cy="357120"/>
          </a:xfrm>
          <a:custGeom>
            <a:avLst/>
            <a:gdLst>
              <a:gd name="textAreaLeft" fmla="*/ 66600 w 738000"/>
              <a:gd name="textAreaRight" fmla="*/ 671400 w 738000"/>
              <a:gd name="textAreaTop" fmla="*/ 66600 h 357120"/>
              <a:gd name="textAreaBottom" fmla="*/ 290520 h 357120"/>
            </a:gdLst>
            <a:ahLst/>
            <a:rect l="textAreaLeft" t="textAreaTop" r="textAreaRight" b="textAreaBottom"/>
            <a:pathLst>
              <a:path w="44614" h="21600">
                <a:moveTo>
                  <a:pt x="0" y="0"/>
                </a:moveTo>
                <a:lnTo>
                  <a:pt x="44614" y="0"/>
                </a:lnTo>
                <a:lnTo>
                  <a:pt x="44614" y="21600"/>
                </a:lnTo>
                <a:lnTo>
                  <a:pt x="0" y="21600"/>
                </a:lnTo>
                <a:close/>
              </a:path>
              <a:path fill="lightenLess" w="44614" h="21600">
                <a:moveTo>
                  <a:pt x="0" y="0"/>
                </a:moveTo>
                <a:lnTo>
                  <a:pt x="44614" y="0"/>
                </a:lnTo>
                <a:lnTo>
                  <a:pt x="40579" y="4035"/>
                </a:lnTo>
                <a:lnTo>
                  <a:pt x="4035" y="4035"/>
                </a:lnTo>
                <a:close/>
              </a:path>
              <a:path fill="darken" w="44614" h="21600">
                <a:moveTo>
                  <a:pt x="44614" y="0"/>
                </a:moveTo>
                <a:lnTo>
                  <a:pt x="44614" y="21600"/>
                </a:lnTo>
                <a:lnTo>
                  <a:pt x="40579" y="17565"/>
                </a:lnTo>
                <a:lnTo>
                  <a:pt x="40579" y="4035"/>
                </a:lnTo>
                <a:close/>
              </a:path>
              <a:path fill="darkenLess" w="44614" h="21600">
                <a:moveTo>
                  <a:pt x="44614" y="21600"/>
                </a:moveTo>
                <a:lnTo>
                  <a:pt x="0" y="21600"/>
                </a:lnTo>
                <a:lnTo>
                  <a:pt x="4035" y="17565"/>
                </a:lnTo>
                <a:lnTo>
                  <a:pt x="40579" y="17565"/>
                </a:lnTo>
                <a:close/>
              </a:path>
              <a:path fill="lighten" w="44614" h="21600">
                <a:moveTo>
                  <a:pt x="0" y="21600"/>
                </a:moveTo>
                <a:lnTo>
                  <a:pt x="0" y="0"/>
                </a:lnTo>
                <a:lnTo>
                  <a:pt x="4035" y="4035"/>
                </a:lnTo>
                <a:lnTo>
                  <a:pt x="4035" y="17565"/>
                </a:lnTo>
                <a:close/>
              </a:path>
              <a:path fill="darken" w="44614" h="21600">
                <a:moveTo>
                  <a:pt x="19789" y="10800"/>
                </a:moveTo>
                <a:lnTo>
                  <a:pt x="27349" y="5758"/>
                </a:lnTo>
                <a:lnTo>
                  <a:pt x="27349" y="15842"/>
                </a:lnTo>
                <a:close/>
              </a:path>
              <a:path fill="darken" w="44614" h="21600">
                <a:moveTo>
                  <a:pt x="17265" y="5758"/>
                </a:moveTo>
                <a:lnTo>
                  <a:pt x="18461" y="5758"/>
                </a:lnTo>
                <a:lnTo>
                  <a:pt x="18461" y="15842"/>
                </a:lnTo>
                <a:lnTo>
                  <a:pt x="17265" y="15842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7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诗人小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523880"/>
            <a:ext cx="7543800" cy="106884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苏轼（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1037~1101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），字子瞻，号东坡居士。四川眉山人，北宋著名文学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中进士，开始为宦生涯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首词作于宋神宗熙宁八年。当时苏轼因与王安石政见不和，自请外调，在密州做地方官。那时他已经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了，二十年仕途奔波，妻子亡故。这一切的一切都令他感伤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1752480"/>
            <a:ext cx="7620120" cy="1191240"/>
          </a:xfrm>
          <a:prstGeom prst="rect">
            <a:avLst/>
          </a:prstGeom>
          <a:solidFill>
            <a:srgbClr val="cc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乙卯”年是宋神宗熙宁八年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07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，苏东坡任密州（今山东诸城）知州，年已四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正月二十日这天夜里，他梦见爱妻王弗，便写下了这首悼亡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609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写作背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4038480" y="457200"/>
            <a:ext cx="41911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7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e07000"/>
                </a:solidFill>
                <a:latin typeface="Times New Roman"/>
              </a:rPr>
              <a:t>江城子</a:t>
            </a:r>
            <a:r>
              <a:rPr b="1" lang="zh-CN" sz="3200" spc="-1" strike="noStrike">
                <a:solidFill>
                  <a:srgbClr val="e07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e07000"/>
                </a:solidFill>
                <a:latin typeface="Times New Roman"/>
              </a:rPr>
              <a:t>乙卯正月二十日夜记梦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7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e07000"/>
                </a:solidFill>
                <a:latin typeface="Times New Roman"/>
              </a:rPr>
              <a:t>苏轼</a:t>
            </a:r>
            <a:br>
              <a:rPr sz="3200"/>
            </a:br>
            <a:r>
              <a:rPr b="1" lang="zh-CN" sz="3200" spc="-1" strike="noStrike">
                <a:solidFill>
                  <a:srgbClr val="e07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十年生死两茫茫。不思量，自难忘。千里孤坟，无处话凄凉。 “千里孤坟，无处话凄凉”纵使相逢应不识，尘满面，鬓如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夜来幽梦忽还乡，小轩窗，正梳妆。相顾无言，惟有泪千行。料得年年肠断处：明月夜，短松冈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1143000"/>
            <a:ext cx="69339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十年生死两茫茫。 不思量，自难忘。</a:t>
            </a:r>
            <a:br>
              <a:rPr sz="2800"/>
            </a:br>
            <a:r>
              <a:rPr b="1" lang="zh-CN" sz="2800" spc="-1" strike="noStrike">
                <a:solidFill>
                  <a:srgbClr val="2b2bad"/>
                </a:solidFill>
                <a:latin typeface="Times New Roman"/>
              </a:rPr>
              <a:t>　  “十年生死两茫茫”生死相隔，死者对人世是茫然无知了，而活着的人对逝者不也同样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b2bad"/>
                </a:solidFill>
                <a:latin typeface="Times New Roman"/>
              </a:rPr>
              <a:t>   “</a:t>
            </a:r>
            <a:r>
              <a:rPr b="1" lang="zh-CN" sz="2800" spc="-1" strike="noStrike">
                <a:solidFill>
                  <a:srgbClr val="2b2bad"/>
                </a:solidFill>
                <a:latin typeface="Times New Roman"/>
              </a:rPr>
              <a:t>不思量，自难忘”人虽云亡，而过去美好的情景“自难忘”呵！这十年间，诗人颇受压制，心境悲愤；到密州后，又忙于处理政务，生活困苦，他又怎能“不思量”那聪慧明理的贤内助呢。作者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将“不思量”与“自难忘”并举，看似矛盾的心态，真实而深刻地揭示自己内心的思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174%5B1%5D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182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174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685440"/>
            <a:ext cx="2133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1854360"/>
            <a:ext cx="693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174%5B1%5D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033520" y="1752480"/>
            <a:ext cx="7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千里孤坟，无处话凄凉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8195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爱妻华年早逝，远隔千里，无处可以话凄凉。其实即便坟墓近在身边，隔着生死，就能话凄凉了吗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这是抹煞了生死界限的痴语，情语，因此格外感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174%5B1%5D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62320" y="380880"/>
            <a:ext cx="2133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1854360"/>
            <a:ext cx="693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A174%5B1%5D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90920" y="1371600"/>
            <a:ext cx="75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纵使相逢应不识，尘满面，鬓如霜。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2514600"/>
            <a:ext cx="6400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这三个长短句，又把现实与梦幻混同了起来，把死别后的个人忧愤，包括在苍老衰颓之中，这时他才四十岁，已经“鬓如霜”了。妻子辞别人世已经十年了，“纵使相逢”恐怕也认“我”不出了。这个不可能的假设，感情深沉悲痛，表现了对爱侣的深切怀念，也寄寓了自己的身世之感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A174%5B1%5D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-360"/>
            <a:ext cx="2133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1854360"/>
            <a:ext cx="693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A174%5B1%5D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66880" y="6858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夜来幽梦忽还乡，小轩窗，正梳妆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相顾无言，惟有泪千行。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1981080"/>
            <a:ext cx="64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这五句，才入题 “记梦”。“夜来幽梦忽还乡”，是记叙，写自己梦中忽然回到了时念中的故乡，那个两人曾共度甜蜜岁月的地方。“小轩窗，正梳妆”那小室，亲切而又熟悉，她情态容貌，依稀当年，正梳妆打扮。夫妻相见，没有出现久别重逢、卿卿我我的亲昵，而是“相顾无言，唯有泪千行”！“无言”，包括了千言万语，表现了“此时无声胜有声”的沉痛，别后种种从何说起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174%5B1%5D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240" y="-360"/>
            <a:ext cx="2133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1854360"/>
            <a:ext cx="693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A174%5B1%5D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666880" y="11430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料得年年肠断处：明月夜，短松冈。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228600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作者料想长眠地下的爱侣，年年伤逝的这个日子，为了眷恋人世、难舍亲人，该是柔肠寸断了吧？推己至人，作者设想此时亡妻一个人凄冷幽独的“明月”之夜的心境，可谓用心良苦。这番痴情苦心实可感天动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6:22:47Z</dcterms:created>
  <dc:creator>李达均</dc:creator>
  <dc:description/>
  <dc:language>en-US</dc:language>
  <cp:lastModifiedBy>Billgates</cp:lastModifiedBy>
  <dcterms:modified xsi:type="dcterms:W3CDTF">2007-10-06T16:15:05Z</dcterms:modified>
  <cp:revision>24</cp:revision>
  <dc:subject/>
  <dc:title>高三册·近体裁诗八首·山居秋暝</dc:title>
</cp:coreProperties>
</file>