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825-1FD3-47F8-ABE2-D062CD74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947-2948-458E-8A75-4112FAF7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3F2-DB20-4DB0-9B42-225F5899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518-4810-404E-A32D-C24A6D2D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1E12-6DB0-468B-8A7F-773B58BC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4884-BD32-423C-BBBA-D0D8DA09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2A5-8EA5-418D-89DB-C25F0756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DFE2-BCE7-470A-B6D5-F5B0B278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D5D1-A239-4B02-B8F8-C5C8F913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3F70-16F8-4A6E-812A-42CC9BDE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3E8-426A-4E1C-AC4E-F9006B6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12A-FB04-45AE-93D4-577DB9CF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4EB0-13A9-457E-BEE9-2A4B3A4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90F9-3919-4754-AD29-5CE0AE37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2F76-D258-4C8E-B1B7-DDA6DE88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160-E964-447D-9369-621BA5D52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7284-F280-4029-A24E-D8C562F2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C1E0-770E-4E89-9A3A-A7EA57B8C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63CE-B553-4465-9408-5225264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AF26-4040-45B9-BAE4-351D802D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76D1-2CF6-4F52-9612-6E3D8EB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9256-0F5C-4A96-AE01-211295E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E6A-59B9-4381-950A-9B15F5C7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F631-92E1-48B9-B26D-BC41637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E8C3-21D9-4DC8-B7A1-81781C13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A74DC-74E7-45A2-BB0A-B76770A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3330-A963-47DB-99C6-264F01C1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B0B3-7604-4F6F-BC50-6737B726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3C32-46F8-464C-881A-7BAB5EDD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70F5-EEC6-474E-8BB6-284CE0E6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502A7-ADE4-4157-8B9A-2F457565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4A558-1984-45E8-BFF6-665E8FA1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2F58B-D9D2-4168-8055-CAF1F1E5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ACB-BE6A-47FB-A104-E1F31BF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6FE9-F545-4EEC-A395-2CF3A0C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03C17-7F0F-4BD7-BEC2-FF1DC7FA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97D31-9AE0-414C-A774-D77208F0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620C-BD26-49AB-8E5F-67894A9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8756-39B0-41C9-B265-9A42063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78D25-3C58-47F9-B5D1-A63C75E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CD3B9-5BAE-4686-903A-B0361063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E986-F466-4D0C-9B28-4AE6E61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C6817-2AF5-467D-A006-78DEF020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DF4-9AC5-407E-B799-71599C6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31C-9A3C-42CB-8371-6822B137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72D-962B-4E6A-8A2B-6794EB6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D150-82A3-4D67-BD4B-DBDA821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E87-BCEB-4BF2-BACF-63D36B5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6F5-CD75-46BA-ADCC-6C9A788EE5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52B-0163-4519-932F-983FBF8353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1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1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5A4B-6ABE-42E9-95BD-989B47F88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7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8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10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4792-FD07-4FBC-84DB-3F56A36693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53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6.png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8600" y="762120"/>
            <a:ext cx="854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cc"/>
                </a:solidFill>
                <a:latin typeface="华文行楷"/>
                <a:ea typeface="华文行楷"/>
              </a:rPr>
              <a:t>江 城 子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乙卯正月二十日夜记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24080" y="32767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苏 轼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诵读上阕 思考问题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18288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隶书"/>
              </a:rPr>
              <a:t>纵使相逢应不识，尘满面，鬓如霜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苏轼其时不过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岁，是什么让他“尘满面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鬓如霜”？（仅仅是胡子多了些，不洗脸？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诵读下阕  思考问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143000" y="198108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夜来幽梦忽还乡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幽梦”写出了梦的什么特点？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小轩窗。正梳妆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11280" y="1916280"/>
            <a:ext cx="81532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什么梦到的妻子在窗前梳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诵读下阕  思考问题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1752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相顾无言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唯有泪千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为什么梦到了却无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只有默默流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是因为不相识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料得年年肠断处，明月夜，短松冈。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5800" y="2359080"/>
            <a:ext cx="81532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(1)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断肠处”指上片中的哪里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在结尾用“年年”表达了苏轼的对妻子什么的感情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小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4560" y="2057400"/>
            <a:ext cx="856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首词以“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梦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梦中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梦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为时间线索，将“现实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梦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实”交织起来。题虽为记梦，实际是通过记梦来抒写对亡妻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真挚的爱情和深沉的思念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全词感情深挚，充满一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凄婉哀伤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调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梦前——此情无计可消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梦中——此时无声胜有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梦后——此恨绵绵无绝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隶书"/>
              </a:rPr>
              <a:t>小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04920" y="2133720"/>
            <a:ext cx="8569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以虚映实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虚中见实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是这首词在艺术表现上的显著特色。梦是虚幻的、缥缈的，然而梦中人的感情却显得那么真挚、深沉，实实在在。正是因为借助于梦境的虚幻与缥缈，才格外地显得情真意切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2209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妻已逝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夫独留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万般凄情蚀九肠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人归去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情依旧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千载缘分绵且稠</a:t>
            </a:r>
            <a:br>
              <a:rPr sz="4800"/>
            </a:b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个世界上有一种别离叫伤心欲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有一种回忆叫痛彻心扉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324000" y="2708280"/>
            <a:ext cx="1800000" cy="8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华文行楷"/>
                <a:ea typeface="华文行楷"/>
                <a:hlinkClick r:id="rId3" action="ppaction://hlinksldjump"/>
              </a:rPr>
              <a:t>梦  前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1080" y="2637000"/>
            <a:ext cx="1888920" cy="8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ea typeface="华文新魏"/>
                <a:hlinkClick r:id="rId4" action="ppaction://hlinksldjump"/>
              </a:rPr>
              <a:t>梦  后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04000" y="4365720"/>
            <a:ext cx="208908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月圆人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421080" y="4365720"/>
            <a:ext cx="208764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相顾无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360" y="4368960"/>
            <a:ext cx="2051280" cy="6426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"/>
              </a:rPr>
              <a:t>十年生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340000" y="2924280"/>
            <a:ext cx="936720" cy="431640"/>
          </a:xfrm>
          <a:custGeom>
            <a:avLst/>
            <a:gdLst>
              <a:gd name="textAreaLeft" fmla="*/ 146160 w 936720"/>
              <a:gd name="textAreaRight" fmla="*/ 819720 w 93672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651640" y="2852640"/>
            <a:ext cx="936360" cy="432000"/>
          </a:xfrm>
          <a:custGeom>
            <a:avLst/>
            <a:gdLst>
              <a:gd name="textAreaLeft" fmla="*/ 146160 w 936360"/>
              <a:gd name="textAreaRight" fmla="*/ 819360 w 936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5"/>
          <a:stretch/>
        </p:blipFill>
        <p:spPr>
          <a:xfrm>
            <a:off x="7308720" y="5734080"/>
            <a:ext cx="728640" cy="7286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564000" y="2708280"/>
            <a:ext cx="1800000" cy="8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华文行楷"/>
                <a:ea typeface="华文行楷"/>
                <a:hlinkClick r:id="rId6" action="ppaction://hlinksldjump"/>
              </a:rPr>
              <a:t>梦  中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>
            <a:hlinkClick r:id="rId7" action="ppaction://hlinksldjump"/>
          </p:cNvPr>
          <p:cNvSpPr/>
          <p:nvPr/>
        </p:nvSpPr>
        <p:spPr>
          <a:xfrm>
            <a:off x="8028000" y="5877000"/>
            <a:ext cx="11160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990720" y="304920"/>
            <a:ext cx="7391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教学目标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一、了解苏词艺术风格的多样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宋体"/>
              </a:rPr>
              <a:t>二、体会文章表达的艺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三、体会作者的思想感情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476280"/>
            <a:ext cx="8839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公元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1055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年，一对新人结婚了。新郎是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19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岁的四川才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苏东坡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，新娘是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16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岁的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王弗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。新郎羽扇纶巾，雄姿英发，新娘也是年轻美貌，天资聪颖，一对新人可谓才子佳人。王弗贤淑端庄，曾对苏轼的事业、为人处事进行过多次有识见的告诫、嘱咐。王弗生前，不但是苏轼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生活上的伴侣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，而且是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文学上的知音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事业上的贤内助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可惜天妒良缘，红颜薄命，王弗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26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岁时就去世了。这对诗人是一个沉重的打击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公元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1075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年，苏东坡来到密州（今山东诸城县），这一年正月二十日夜，他梦见爱妻王氏，便写下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《江城子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乙卯正月二十日夜记梦》</a:t>
            </a:r>
            <a:r>
              <a:rPr b="1" lang="zh-CN" sz="4000" spc="-1" strike="noStrike">
                <a:solidFill>
                  <a:srgbClr val="080808"/>
                </a:solidFill>
                <a:latin typeface="宋体"/>
              </a:rPr>
              <a:t>的悼亡词。此时诗人三十八岁，其妻王弗去世整十年。题目上“乙卯”，指的就是这一年。</a:t>
            </a:r>
            <a:r>
              <a:rPr b="1" lang="zh-CN" sz="3200" spc="-1" strike="noStrike">
                <a:solidFill>
                  <a:srgbClr val="080808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华文行楷"/>
              </a:rPr>
              <a:t>整体阅读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、题为“记梦”，可以从题目中读出什么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?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那上阕是写梦吗？是否删除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2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、从词中可以体会到什么样的感情呢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3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黑体"/>
              </a:rPr>
              <a:t>、本词是按什么顺序写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诵读上阕 思考问题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9280" y="1341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  <a:ea typeface="隶书"/>
              </a:rPr>
              <a:t>十年生死两茫茫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十年不短，也不算太长。对作者来说长不长？为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）“茫茫”看不清楚？为何看不清？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诵读上阕 思考问题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84200" y="1905120"/>
            <a:ext cx="8659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“</a:t>
            </a:r>
            <a:r>
              <a:rPr b="0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不思量。自难忘。”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是为什么在“自难忘”之前加了“不思量”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不显得有点矛盾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  <a:ea typeface="隶书"/>
              </a:rPr>
              <a:t>诵读上阕 思考问题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09480" y="1600200"/>
            <a:ext cx="8153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千里孤坟、无处话凄凉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“无处”是什么意思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话的是什么“凄凉”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7:28:32Z</dcterms:created>
  <dc:creator/>
  <dc:description/>
  <dc:language>en-US</dc:language>
  <cp:lastModifiedBy>吴向涛</cp:lastModifiedBy>
  <dcterms:modified xsi:type="dcterms:W3CDTF">2008-05-18T11:59:28Z</dcterms:modified>
  <cp:revision>25</cp:revision>
  <dc:subject/>
  <dc:title>江城子</dc:title>
</cp:coreProperties>
</file>