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B23-D836-4ED6-B869-761A8AB9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CF9-3CA1-4D39-A794-D49FE9C5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B67-AEA9-4565-AF8A-CC2C1DAF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C2F-BBAE-47BB-88AE-1D90CBA4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38E3-20F6-4F26-A453-26A61AFF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A858-0388-4DE7-A723-F750A6E8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9C18-ECC4-47C0-A41B-4585BDD6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0959-9073-4371-B365-2A7A0591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0FFF-3827-4C74-816E-E2C0AF3B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0F09-E806-4962-A970-CE152A6A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2660-D9B1-4C70-A301-E614E1AB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9FF-CDCD-4935-B9E2-EF21710C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990B-E7B3-4E26-B7FB-B1624C81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815F-66BE-488D-8A58-E9B638E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981C-059A-4165-91DD-E635BEA4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305C-D8A2-42B7-8458-04834CEF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8F62-FB28-4C7F-93CE-70C29980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E1B-014F-4CA1-800A-69FBA55D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CFC-1967-4D9E-AE1F-C20AFC3C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A6B-99B3-40A0-8822-2FDF0EBC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378-D420-41B7-9CAE-B5BCF962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B07-59AE-4AFF-A679-F8813FA4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638-14DB-496D-BCBC-BE8F3C81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1E6-CB61-4E22-8BD0-945162B4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A9C5-574C-4551-9755-5D4498B229E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BBB8-1AEB-4ECF-95AC-469BA0BBF46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92360" y="1052640"/>
            <a:ext cx="61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黄州新建小竹楼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王禹偁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66240" y="414972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课件制作、授课人：         </a:t>
            </a: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东山二中     陈贵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63640" y="404640"/>
            <a:ext cx="561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99"/>
                </a:solidFill>
                <a:latin typeface="Arial"/>
              </a:rPr>
              <a:t>虞美人</a:t>
            </a:r>
            <a:br>
              <a:rPr sz="4000"/>
            </a:br>
            <a:r>
              <a:rPr b="1" lang="zh-TW" sz="40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南宋  </a:t>
            </a:r>
            <a:r>
              <a:rPr b="1" lang="zh-TW" sz="3600" spc="-1" strike="noStrike">
                <a:solidFill>
                  <a:srgbClr val="003399"/>
                </a:solidFill>
                <a:latin typeface="Arial"/>
              </a:rPr>
              <a:t>蒋捷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064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少年听雨歌楼上，红烛昏罗帐。壮年听雨客舟中，江阔云低，断雁叫西风。而今听雨僧庐下，鬓已星星也。悲欢离合总无情，一任阶前、点滴到天明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12733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王禹偁（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954-100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）：字元之，宋济州钜野（今山东巨野县）人，家世务农，出身清寒，九岁能文。中（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98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）进士，任右拾遗、左司谏等官。因敢言而“四年三黜”，作《三黜赋》，以“屈于身兮不屈其道，虽百谪而何亏”自勉。真宗时，与修《太祖实录》，直书史事，被出知黄州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33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华文中宋"/>
              </a:rPr>
              <a:t>作者简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640" y="90756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chuán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  刳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k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  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雉堞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di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   圮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p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毁  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挹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y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江濑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lài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幽阒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q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      辽夐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xiòn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 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chǎng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稔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ěn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忍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47628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9400" y="390600"/>
            <a:ext cx="52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六“宜”从哪一个角度写小竹楼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5400000">
            <a:off x="490680" y="1137240"/>
            <a:ext cx="743040" cy="1725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87280" y="2349360"/>
            <a:ext cx="7632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楼中六“宜”以声写楼，以声抒情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构思独具匠心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302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斯楼之不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这句话有三层转折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宦途升沉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四年三黜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与竹楼十年至二十年的生命而言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太微不足道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竹楼仅十至二十年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已算易朽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文学不朽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精神不死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;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小竹楼记不朽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王氏精神不朽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以文学对抗政治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才有可能不朽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才能昂扬士志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这也是曹丕典论论文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:“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年寿有时而尽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荣乐止乎其身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二者必至之常期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未若文章之无穷。”之意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.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18900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琥珀"/>
                <a:ea typeface="华文琥珀"/>
              </a:rPr>
              <a:t>　　小    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907920"/>
            <a:ext cx="828036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　　儒家对个人的处世之道：达则兼济天下，穷则独善其身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一方面积极地入世，去实现自已的大济苍生的理想．另一方面以隐居出世的修养，超越功名利禄的世俗欲望。在仕途之外的人生寻求、创造、享受生活的诗意与自由，用审美的追求与获得来弥补功利的追求或失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92360" y="1085760"/>
            <a:ext cx="7081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华文中宋"/>
              </a:rPr>
              <a:t>人，诗意地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华文中宋"/>
              </a:rPr>
              <a:t>     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华文中宋"/>
              </a:rPr>
              <a:t>栖息在大地上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69520" y="3573360"/>
            <a:ext cx="391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——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德国哲学家     海德格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620640"/>
            <a:ext cx="8282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cc"/>
                </a:solidFill>
                <a:latin typeface="Arial Unicode MS"/>
              </a:rPr>
              <a:t>点绛唇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雨恨云愁，江南依旧称佳丽。水村渔市，一缕孤烟①细。天际征鸿，遥认行如缀②。平生事，此时凝睇③，谁会④凭栏意？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【注释】  ①孤烟：炊烟。    ②行如缀：排成行的大雁，一只接一只，如同缀在一起。    ③凝睇：凝视。　睇：斜视的样子。④会：理解。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03:21:36Z</dcterms:created>
  <dc:creator>Zhangluting</dc:creator>
  <dc:description/>
  <dc:language>en-US</dc:language>
  <cp:lastModifiedBy>MC SYSTEM</cp:lastModifiedBy>
  <dcterms:modified xsi:type="dcterms:W3CDTF">2008-03-05T10:15:59Z</dcterms:modified>
  <cp:revision>28</cp:revision>
  <dc:subject/>
  <dc:title>幻灯片 1</dc:title>
</cp:coreProperties>
</file>