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1.wmf" ContentType="image/x-wmf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A8F7-0D2E-43BF-B77B-C7CC9BE09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AD3A-0EED-4D3D-9BAB-6D211574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2280-C7A5-4062-B247-225AD281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7DF5-6EC2-452E-A14F-DCB6142B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1E27-1BCC-4BC7-BE55-B4A12D5E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7BDD-A445-4D9B-A249-40AE090B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CCD4-0DF7-4FDF-B345-770EBDBF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18C5-F9B6-41D6-A160-7D67A6EA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9085-FF1E-4EFB-9593-DE451617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5C53-0D7C-4527-80AC-C31E862D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6A68-1E24-4F76-B3E9-8880D057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1213-BF24-43EC-8E2C-6FBDB1D6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6595-9081-4CDD-A3CE-F3D392CC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2B17-96A4-4D79-9A57-6002E531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E272-AC30-4CA7-A71A-5ECD0EBB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2EA4-A7B4-4343-81DE-6F06E26C3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A019-8B02-4EB7-98D9-473CC3B39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2D28-D3F1-4274-9BE7-6A3784CE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EB7B-385D-4746-BC94-A4D25704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3484-6AAC-4B66-BA58-3CAE5793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07DF-EA05-447B-B01E-2F5FD170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A1C2-058B-4679-9860-47E2DADF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F717-33F4-408E-A25C-480A48E3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4136-99AA-471A-90CA-7DC441C4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9219-F2C3-44F1-B42C-4B3D568941A1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3930-B63B-4BCF-B89A-3763C3BA9105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e.baidu.com/image/2e6fa738d5856efdd4622531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95280" y="333360"/>
            <a:ext cx="82821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宋体"/>
                <a:ea typeface="Times New Roman"/>
              </a:rPr>
              <a:t>黄州新建小竹楼记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br>
              <a:rPr sz="6000"/>
            </a:br>
            <a:r>
              <a:rPr b="1" lang="zh-CN" sz="6000" spc="-1" strike="noStrike">
                <a:solidFill>
                  <a:srgbClr val="000000"/>
                </a:solidFill>
                <a:latin typeface="宋体"/>
                <a:ea typeface="Times New Roman"/>
              </a:rPr>
              <a:t>王禹偁   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95280" y="2180520"/>
            <a:ext cx="8496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答案　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作者先叙述黄州多竹的特点，点明以竹为楼的原因。再围绕“声”字一气描写了竹楼的六“宜”，以声写楼，以声抒情，构思独具匠心，读来别有韵味。具体说来，本文以“亦谪居之胜概也”为界，大致分前后两部分，前为记叙描绘，后为发慨咏志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  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第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段：竹楼新建之因。（注意文面所示的原因和隐含的原因的分析，捕捉“竹”的影子。）</a:t>
            </a:r>
            <a:br>
              <a:rPr sz="4800"/>
            </a:b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    第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段：竹楼视听之美。（视之美注意“吞”和“挹”的赏析，听之美结合练习第四题赏析，朗诵精彩片段）</a:t>
            </a:r>
            <a:br>
              <a:rPr sz="4800"/>
            </a:b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    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8893080" cy="59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第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段：竹楼闲居之乐。（读书之乐强调“销遣世虑”，揽胜之乐强调回归自然。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第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段：竹楼的诗人风韵。（引天下名楼的目的——鄙夷权贵，反衬竹楼风韵、作者志向）</a:t>
            </a:r>
            <a:br>
              <a:rPr sz="4800"/>
            </a:b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第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段：为竹楼祝福。（四年奔波，人不如竹的慨叹，祝福竹楼不朽的隐含之义。</a:t>
            </a:r>
            <a:br>
              <a:rPr sz="4800"/>
            </a:b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作者为什么以竹子﹑竹楼为描写对象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因为竹常用于表示高洁的志向。本文采取托物言志的手法，小竹楼是作者亲手所建，它寄托着作者的理想与情操。通过写小竹楼，表明作者自己向往不朽的人生境界的崇高心志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8423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中心主旨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黄州虽然是宋代贬官任职的穷乡僻壤，但它南临奔腾的长江，西接起伏的丘陵，从这里入江的滔滔巴水气象万千，境内名胜赤壁游人如织。但作者却无视江山胜景，也不发思古幽情，偏偏着眼于平平常常的竹子，对竹楼这一描写对象进行了深入开掘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竹对于中华民族来说实在不是一种平凡的植物，它常常作为一种人格力量、人格理想的象征。千古以来文人雅士，多乐以竹为对象吟诗作文作曲绘画，表现狷介人格，展露隐逸意趣。王禹偁被贬黄州，而其地多竹，这就自然地使他借竹来抒发自己的身世之叹。作者没有正面描写竹、赞美竹，而是描写以竹所构建的竹楼，实际上是他的“心灵宅宇”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99"/>
                </a:solidFill>
                <a:latin typeface="Arial"/>
              </a:rPr>
              <a:t>作者为什么要追求一种清幽寂静的境界呢？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答案　这是因为，他对坎坷曲折的仕途感到疲倦，对污浊喧闹的官场感到无奈，试图在旷远寂静的环境里解除自身的烦恼。这里，表面上王禹偁是写在政治挫折面前的淡漠态度，实际上是写他刚正不阿的傲岸性格。他并不因为贬职而自怨自艾，也不因此而随波逐流。因此，作者笔下的独具风韵的小竹楼，实际上已成了“屈身”而“不屈道”的贬官的象征，而充满声色玩好的豪华楼观则又成了居高位、甘堕落的权佞的代称。两相比较，作者的取舍态度是十分明确的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324000" y="0"/>
          <a:ext cx="8135640" cy="6858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0"/>
                    <a:ext cx="8135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4040280" y="488160"/>
            <a:ext cx="111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EU-B1"/>
              </a:rPr>
              <a:t>连，并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57920" y="1135800"/>
            <a:ext cx="111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EU-B1"/>
              </a:rPr>
              <a:t>汲取，这里指收入眼底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19800" y="1639080"/>
            <a:ext cx="111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EU-B1"/>
              </a:rPr>
              <a:t>回家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50240" y="2215440"/>
            <a:ext cx="10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EU-B1"/>
              </a:rPr>
              <a:t>只，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72320" y="2791440"/>
            <a:ext cx="10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EU-B1"/>
              </a:rPr>
              <a:t>美好的境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00360" y="33678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EU-B1"/>
              </a:rPr>
              <a:t>谷子一熟叫一稔，引申指一年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29280" y="4004280"/>
            <a:ext cx="111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EU-B1"/>
              </a:rPr>
              <a:t>继续；修理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56160" y="4580640"/>
            <a:ext cx="111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EU-B1"/>
              </a:rPr>
              <a:t>或许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40000" y="189000"/>
            <a:ext cx="302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斯楼之不朽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这句话有三层转折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宦途升沉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四年三黜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与竹楼十年至二十年的生命而言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太微不足道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竹楼仅十至二十年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已算易朽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文学不朽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精神不死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;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小竹楼记不朽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王氏精神不朽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以文学对抗政治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才有可能不朽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才能昂扬士志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这也是曹丕典论论文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:“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年寿有时而尽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荣乐止乎其身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二者必至之常期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未若文章之无穷。”之意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.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4360" y="47628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89400" y="390600"/>
            <a:ext cx="526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六“宜”从哪一个角度写小竹楼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 rot="5400000">
            <a:off x="490680" y="1137240"/>
            <a:ext cx="743040" cy="1725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187280" y="2349360"/>
            <a:ext cx="7632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楼中六“宜”以声写楼，以声抒情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构思独具匠心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34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竹楼之“听”                               宜听急雨</a:t>
            </a:r>
            <a:br>
              <a:rPr sz="5400"/>
            </a:b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宜听密雪</a:t>
            </a:r>
            <a:br>
              <a:rPr sz="5400"/>
            </a:b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宜弹琴</a:t>
            </a:r>
            <a:br>
              <a:rPr sz="5400"/>
            </a:b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宜吟诗</a:t>
            </a:r>
            <a:br>
              <a:rPr sz="5400"/>
            </a:b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宜下棋</a:t>
            </a:r>
            <a:br>
              <a:rPr sz="5400"/>
            </a:b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宜投壶豁达自适的雅兴</a:t>
            </a:r>
            <a:br>
              <a:rPr sz="5400"/>
            </a:b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68360" y="18900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华文琥珀"/>
                <a:ea typeface="华文琥珀"/>
              </a:rPr>
              <a:t>　　小    结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907920"/>
            <a:ext cx="8280360" cy="22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　　儒家对个人的处世之道：达则兼济天下，穷则独善其身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一方面积极地入世，去实现自已的大济苍生的理想．另一方面以隐居出世的修养，超越功名利禄的世俗欲望。在仕途之外的人生寻求、创造、享受生活的诗意与自由，用审美的追求与获得来弥补功利的追求或失意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692360" y="1085760"/>
            <a:ext cx="7081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Arial"/>
                <a:ea typeface="华文中宋"/>
              </a:rPr>
              <a:t>人，诗意地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Arial"/>
                <a:ea typeface="华文中宋"/>
              </a:rPr>
              <a:t>     </a:t>
            </a:r>
            <a:r>
              <a:rPr b="1" lang="zh-CN" sz="5400" spc="-1" strike="noStrike">
                <a:solidFill>
                  <a:srgbClr val="003399"/>
                </a:solidFill>
                <a:latin typeface="Arial"/>
                <a:ea typeface="华文中宋"/>
              </a:rPr>
              <a:t>栖息在大地上。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69520" y="3573360"/>
            <a:ext cx="3917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——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德国哲学家     海德格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9640" y="620640"/>
            <a:ext cx="8282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cc"/>
                </a:solidFill>
                <a:latin typeface="Arial Unicode MS"/>
              </a:rPr>
              <a:t>点绛唇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　雨恨云愁，江南依旧称佳丽。水村渔市，一缕孤烟①细。天际征鸿，遥认行如缀②。平生事，此时凝睇③，谁会④凭栏意？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　【注释】  ①孤烟：炊烟。    ②行如缀：排成行的大雁，一只接一只，如同缀在一起。    ③凝睇：凝视。　睇：斜视的样子。④会：理解。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35000" y="0"/>
            <a:ext cx="900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73454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王禹偁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954-100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：字元之，宋济州钜野（今山东巨野县）人，家世务农，出身清寒，九岁能文。中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98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进士，任右拾遗、左司谏等官。因敢言而“四年三黜”，一贬商州，二贬滁州，三贬黄州。真宗时，修《太祖实录》，直书史事，被出知黄州。就地取材建此竹楼。作《三黜赋》，以“屈于身兮不屈其道，虽百谪而何亏，吾当守正直兮佩仁义，期终身以行之”自勉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33336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华文中宋"/>
              </a:rPr>
              <a:t>作者简介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889280"/>
            <a:ext cx="9144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　椽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(chuán) 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　  刳（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kū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雉堞（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dié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）   圮（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pǐ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）毁  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 挹（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yì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）      江濑（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lài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）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 幽阒（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qù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）    辽夐（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xiònɡ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　氅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(chǎng)     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稔（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rěn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7280" y="189000"/>
            <a:ext cx="288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260280"/>
            <a:ext cx="29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2200" y="266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85840"/>
            <a:ext cx="38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课文朗读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51640" y="42084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56038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1680" y="25992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全文除末段记写作时间外，其余五段都是围绕竹楼展开的，分别介绍了哪些与竹楼有关的事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3T03:21:36Z</dcterms:created>
  <dc:creator>Zhangluting</dc:creator>
  <dc:description/>
  <dc:language>en-US</dc:language>
  <cp:lastModifiedBy>zmj</cp:lastModifiedBy>
  <dcterms:modified xsi:type="dcterms:W3CDTF">2011-02-28T06:49:13Z</dcterms:modified>
  <cp:revision>55</cp:revision>
  <dc:subject/>
  <dc:title>幻灯片 1</dc:title>
</cp:coreProperties>
</file>