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12.jpeg" ContentType="image/jpeg"/>
  <Override PartName="/ppt/media/image6.gif" ContentType="image/gif"/>
  <Override PartName="/ppt/media/image7.gif" ContentType="image/gif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C3D-CA85-4F0B-9F22-DD1F0D50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846-7C26-4BB9-AD7F-F5B02BBB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BB8-5574-44D3-A3B8-E571D110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214-CB75-4794-AE75-855AF837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B6A-E985-457F-B81B-821399FF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62C-8BCB-4859-8603-7AEBD6B2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406-B642-4139-885C-B0B4438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8E8-13DE-4F96-9585-99E2E0D9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700-A4CC-4543-86C4-E0BB6685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181-D8E4-429E-B811-893312F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050-1DCA-436D-9E2F-384C96AD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1A1-EF6C-46F6-BBEC-E2A0686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B40-3757-4D7A-9EF3-F4FABD874A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新课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40" y="500040"/>
            <a:ext cx="908532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选自《通俗论集》，标题是一个关系型的题目，表面看二者是并列的，实际上重点在谈“怀疑”的重要性，怀疑是一切学问的前提基础和手段，没有怀疑的精神就没有新发明、新学说的产生和创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运用举例论证和道理论证的方法，根据自己的经验，提出中心论点：治学必须有怀疑精神，才能辨伪去妄，才能建设新学说，启迪新发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1274" descr="t015f2610feadc0b6a7"/>
          <p:cNvPicPr/>
          <p:nvPr/>
        </p:nvPicPr>
        <p:blipFill>
          <a:blip r:embed="rId1"/>
          <a:stretch/>
        </p:blipFill>
        <p:spPr>
          <a:xfrm>
            <a:off x="-55440" y="98280"/>
            <a:ext cx="1008000" cy="77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在文章中起到哪些作用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引出下文，使文章上下紧紧相联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段讲了做学问的一个必不可少的依据是“靠别人的传说”，自然就要出现一个问题——如何对待这“传说”，而下文紧接着就谈论这个问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 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61446" descr="w006"/>
          <p:cNvPicPr/>
          <p:nvPr/>
        </p:nvPicPr>
        <p:blipFill>
          <a:blip r:embed="rId1"/>
          <a:stretch/>
        </p:blipFill>
        <p:spPr>
          <a:xfrm>
            <a:off x="0" y="5168880"/>
            <a:ext cx="9144000" cy="168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120" y="-25920"/>
            <a:ext cx="91566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形成层进，使文章论说深入一步，进了一层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段讲学问的基础是什么，下面进一步讲如何对待这个基础，内容深入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      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铺石垫基，使文章的说服力增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学问应该如何对待传说这个关系到全篇中。动议题的问题，本段虽未加以论说，而“别人的传说，不一定可靠”这点已在本段得到说明，这就为后文论述做学问应该如何对待传说垫下了基石，增强了文章的说服力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段可以分三层意思，是哪三层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 第一层（开头到“这是做一切学问的基本条件”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指出“怀疑的精神”“是做一切学问的基本条件”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对于传说的话，不论信不信，都应当经过一番思考，不应当随随便便就信了。我们信它，因为它‘是’；不信它，因为它‘非’”，这种“事前的思索”，“不随便轻信”的怀疑精神乃是“做一切学问的基本条件”。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2548" descr="t01791e969b9c2aa868"/>
          <p:cNvPicPr/>
          <p:nvPr/>
        </p:nvPicPr>
        <p:blipFill>
          <a:blip r:embed="rId1"/>
          <a:stretch/>
        </p:blipFill>
        <p:spPr>
          <a:xfrm>
            <a:off x="4003560" y="5894280"/>
            <a:ext cx="5140440" cy="96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7889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第二层（“我们听说中国古代有三皇、五帝……有什么科学根据”）举二例（“三皇、五帝”的传说、“腐草为萤”的记载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具体说明如何以怀疑的精神对待传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第三层（末句“我们若能这样追问，一切虚妄的学说便不攻自破了”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指出怀疑的精神对做学问的重要意义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61446" descr="w006"/>
          <p:cNvPicPr/>
          <p:nvPr/>
        </p:nvPicPr>
        <p:blipFill>
          <a:blip r:embed="rId1"/>
          <a:stretch/>
        </p:blipFill>
        <p:spPr>
          <a:xfrm>
            <a:off x="0" y="5156280"/>
            <a:ext cx="9144000" cy="170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99"/>
          <p:cNvSpPr/>
          <p:nvPr/>
        </p:nvSpPr>
        <p:spPr>
          <a:xfrm>
            <a:off x="-7920" y="-28440"/>
            <a:ext cx="92217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和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同是谈怀疑精神对做学问的意义，为什么写了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还写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，是否可以去掉第五段？两段的内容有何相异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可以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说的是对于“传说”要用怀疑精神对待，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则说“我们不论对干哪一本书，哪一种学问，都要经过自己的怀疑”。各种各样的书本，各家各派的学问，做学问者时时在评判，常常要弃取，这方面论及了，文章的论述才算是全面，漏掉了，将是缺陷。写了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，又写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段，可见作者构思的周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53265" descr="4"/>
          <p:cNvPicPr/>
          <p:nvPr/>
        </p:nvPicPr>
        <p:blipFill>
          <a:blip r:embed="rId1"/>
          <a:stretch/>
        </p:blipFill>
        <p:spPr>
          <a:xfrm>
            <a:off x="0" y="633888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99"/>
          <p:cNvSpPr/>
          <p:nvPr/>
        </p:nvSpPr>
        <p:spPr>
          <a:xfrm>
            <a:off x="-33480" y="-19080"/>
            <a:ext cx="915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段用了哪几种论证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本段用了正反对比（“因怀疑而思索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否则便是盲从，便是迷信”）和道理论证（孟子所谓“尽信书不如无书”）两种论证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61441" descr="z2"/>
          <p:cNvPicPr/>
          <p:nvPr/>
        </p:nvPicPr>
        <p:blipFill>
          <a:blip r:embed="rId1"/>
          <a:stretch/>
        </p:blipFill>
        <p:spPr>
          <a:xfrm>
            <a:off x="-33480" y="3260880"/>
            <a:ext cx="9256680" cy="361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"/>
          <p:cNvSpPr/>
          <p:nvPr/>
        </p:nvSpPr>
        <p:spPr>
          <a:xfrm>
            <a:off x="-9360" y="-12600"/>
            <a:ext cx="912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段课文第一句话在全文中起什么作用？论述了什么分论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】承上启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归结了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段课文分论点后，提出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段课文的分论点：怀疑也是从积极方面建设新学说，启迪新发明的基本条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61449" descr="风景"/>
          <p:cNvPicPr/>
          <p:nvPr/>
        </p:nvPicPr>
        <p:blipFill>
          <a:blip r:embed="rId1"/>
          <a:stretch/>
        </p:blipFill>
        <p:spPr>
          <a:xfrm>
            <a:off x="-9360" y="4527720"/>
            <a:ext cx="9127800" cy="237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786960"/>
            <a:ext cx="91440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文的中心论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本文的中心论点是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治学必须有怀疑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文的两个分论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论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疑是从消极方面辨伪去妄的步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论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疑是从积极方面建设新学说启迪新发明的基本条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55297" descr="1"/>
          <p:cNvPicPr/>
          <p:nvPr/>
        </p:nvPicPr>
        <p:blipFill>
          <a:blip r:embed="rId1"/>
          <a:stretch/>
        </p:blipFill>
        <p:spPr>
          <a:xfrm>
            <a:off x="0" y="6558120"/>
            <a:ext cx="9126360" cy="29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文的事实论据和道理论据有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 事实论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国难危机时的口头消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听说古代有三皇、五帝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听说“腐草为萤”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戴震善问的例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22548" descr="t01791e969b9c2aa868"/>
          <p:cNvPicPr/>
          <p:nvPr/>
        </p:nvPicPr>
        <p:blipFill>
          <a:blip r:embed="rId1"/>
          <a:stretch/>
        </p:blipFill>
        <p:spPr>
          <a:xfrm>
            <a:off x="0" y="5345280"/>
            <a:ext cx="9144000" cy="151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48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92160" y="574200"/>
            <a:ext cx="92664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通读课文，同学之间讨论：文中所说的怀疑精神有什么样的内涵？它对做学问有什么重要意义？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对于传说的话，应当经过一番思考，不随便轻信的态度，就是作者所说的怀疑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怀疑精神是一切学问的基本条件，是做学问的前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62518" descr="t01245d76c3fc0828db"/>
          <p:cNvPicPr/>
          <p:nvPr/>
        </p:nvPicPr>
        <p:blipFill>
          <a:blip r:embed="rId1"/>
          <a:stretch/>
        </p:blipFill>
        <p:spPr>
          <a:xfrm>
            <a:off x="-6480" y="5789520"/>
            <a:ext cx="9182160" cy="107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4000" y="804600"/>
            <a:ext cx="909648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作家、作品，学习文中生字、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理解中心论点与分论点及之间的逻辑联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理解举例论证、道理论证的运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理解论证的层次和过渡句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1273" descr="t01bd3616c9c4a3c445"/>
          <p:cNvPicPr/>
          <p:nvPr/>
        </p:nvPicPr>
        <p:blipFill>
          <a:blip r:embed="rId1"/>
          <a:stretch/>
        </p:blipFill>
        <p:spPr>
          <a:xfrm>
            <a:off x="-561960" y="5421240"/>
            <a:ext cx="9807480" cy="1862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40" y="10800"/>
            <a:ext cx="9145440" cy="68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切学问家，不但对于流俗传说，就是对于过去学者的学说也常常要抱怀疑的态度，常常和书中的学说辩论，常常评判书中的学说，常常修正书中的学说。 要这样才能有更新更善的学说产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开头的“一切”是否太绝对了？对此，你怎么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绝对。凡是称得上学问家的，都具备怀疑精神，没有这种精神，他也成不了学问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6840" y="-12600"/>
            <a:ext cx="9132840" cy="61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这段文字中有四个“常常”开头的短句，它们的顺序是否可以任意调整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顺序不能调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，这四个“常常……” 是“一切学问家”对“流俗传说”“过去学者的学说”从“怀疑”到“修正”的认识发展过程，是符合逻辑的，体现了议论文语言严谨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63542" descr="t014a10199af74244ce"/>
          <p:cNvPicPr/>
          <p:nvPr/>
        </p:nvPicPr>
        <p:blipFill>
          <a:blip r:embed="rId1"/>
          <a:stretch/>
        </p:blipFill>
        <p:spPr>
          <a:xfrm>
            <a:off x="-6480" y="5419800"/>
            <a:ext cx="9134640" cy="151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7640" y="-97200"/>
            <a:ext cx="910872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摘抄、熟记课文所引用的名言，并在课外搜集有关治学方法的名言警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学问对人们要求最大的紧张和最大的热情。                   （巴甫洛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读书破万卷，下笔若有神。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杜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应随时学习，学习一切：应该集中全力，以求知道得更多，知道一切。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高尔基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学贵精不贵博。   （戴震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0" y="11160"/>
            <a:ext cx="9304560" cy="69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议论文论述了怎样做学问。作者根据自己的经验，提出中心论点：治学必须有怀疑精神，才能辨伪去妄，才能建设新学说、启迪新发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特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中心论点鲜明突出，论证鞭辟入里，令人信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引用名言、列举事例论证论点，说服力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53265" descr="4"/>
          <p:cNvPicPr/>
          <p:nvPr/>
        </p:nvPicPr>
        <p:blipFill>
          <a:blip r:embed="rId1"/>
          <a:stretch/>
        </p:blipFill>
        <p:spPr>
          <a:xfrm>
            <a:off x="0" y="279396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2040" y="817560"/>
            <a:ext cx="917100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百年来，无数志士仁人和文人墨客，为我们留下了许多宝贵的文化遗产，这是我们净化自我、感悟人生、丰富知识、提高修养的至善秘籍。只要我们敢于怀疑这些圣贤和经典，只要我们去研究揣摩，就一定会获得巨大的喜悦和无穷的收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63542" descr="t014a10199af74244ce"/>
          <p:cNvPicPr/>
          <p:nvPr/>
        </p:nvPicPr>
        <p:blipFill>
          <a:blip r:embed="rId1"/>
          <a:stretch/>
        </p:blipFill>
        <p:spPr>
          <a:xfrm>
            <a:off x="-31680" y="5359320"/>
            <a:ext cx="9171000" cy="151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2040" y="-127080"/>
            <a:ext cx="29113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5760" y="23760"/>
            <a:ext cx="66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顾颉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893-19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我国当代史学家，江苏苏州人。 长期从事教育工作和历史研究，于怀疑和辨伪，有不少创见。著有《汉代学术史略》、《史林杂识初编》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7170" descr="顾颉刚"/>
          <p:cNvPicPr/>
          <p:nvPr/>
        </p:nvPicPr>
        <p:blipFill>
          <a:blip r:embed="rId1"/>
          <a:stretch/>
        </p:blipFill>
        <p:spPr>
          <a:xfrm>
            <a:off x="-31680" y="660240"/>
            <a:ext cx="2555640" cy="630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6320" y="-360"/>
            <a:ext cx="8167680" cy="69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程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í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张载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ài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虚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à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停滞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hì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凶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iǎ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视察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á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ī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信               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á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从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h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扣                流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ú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譬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怀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í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塾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ià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顾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不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ō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自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腐草为萤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-64440" y="2417760"/>
            <a:ext cx="7898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60420" descr="w035"/>
          <p:cNvPicPr/>
          <p:nvPr/>
        </p:nvPicPr>
        <p:blipFill>
          <a:blip r:embed="rId1"/>
          <a:stretch/>
        </p:blipFill>
        <p:spPr>
          <a:xfrm>
            <a:off x="4000680" y="0"/>
            <a:ext cx="1143000" cy="616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80" y="599760"/>
            <a:ext cx="91393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凶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iōng   xiǎ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狠毒奸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危险可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凶狠险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视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ì    ch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级人员到下级机构或现场检查工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轻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īng   xì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轻率地相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虚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ū    wà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没有事实根据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盲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máng  có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盲目地附合随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折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é    kòu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照标价减去一个数目，减到原标价的十分之几叫做几折或几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60419" descr="w003"/>
          <p:cNvPicPr/>
          <p:nvPr/>
        </p:nvPicPr>
        <p:blipFill>
          <a:blip r:embed="rId1"/>
          <a:stretch/>
        </p:blipFill>
        <p:spPr>
          <a:xfrm>
            <a:off x="7128000" y="2540160"/>
            <a:ext cx="2133360" cy="177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7280" y="11160"/>
            <a:ext cx="9132840" cy="68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iú   s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社会上流行的风俗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墨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mò  shǒ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固执拘泥，不会变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停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íng   zh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停下，受到阻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攻自破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ù   gōng   zì    p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容情节、论点虚谬，经不起反驳、攻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譬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ì     r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辨伪去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iàn  wěi  qù  wà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识别虚假的，去掉无事实根据的（多指理念或学说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信书不如无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jìn  xìn  shū  bù  rú  wú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思是完全相信书还不如没有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53265" descr="4"/>
          <p:cNvPicPr/>
          <p:nvPr/>
        </p:nvPicPr>
        <p:blipFill>
          <a:blip r:embed="rId1"/>
          <a:stretch/>
        </p:blipFill>
        <p:spPr>
          <a:xfrm>
            <a:off x="0" y="6338880"/>
            <a:ext cx="9150480" cy="41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640" y="-12600"/>
            <a:ext cx="9121680" cy="69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引用名言，提出中心论点：治学必须有怀疑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论证第一个分论点，怀疑是从消极方面辨伪去妄的必要步骤。这部分可分两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论证第二个分论点，怀疑是从积极方面建设新学说、启迪新发明的基本条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37902" descr="t01e990f56903985822"/>
          <p:cNvPicPr/>
          <p:nvPr/>
        </p:nvPicPr>
        <p:blipFill>
          <a:blip r:embed="rId1"/>
          <a:stretch/>
        </p:blipFill>
        <p:spPr>
          <a:xfrm>
            <a:off x="6327720" y="5425920"/>
            <a:ext cx="2816280" cy="143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23760" y="926640"/>
            <a:ext cx="916776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引用学者的名言以提出论点，这种写法有什么好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种写法，既提出了论点，同时学者的名言本身也是一个证明论点的有力论据，这就使得论点的说服力更为增强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61447" descr="country road1"/>
          <p:cNvPicPr/>
          <p:nvPr/>
        </p:nvPicPr>
        <p:blipFill>
          <a:blip r:embed="rId1"/>
          <a:stretch/>
        </p:blipFill>
        <p:spPr>
          <a:xfrm>
            <a:off x="-23760" y="4875120"/>
            <a:ext cx="9070920" cy="198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第三句“譬如在国难危急的时候……”，是举例论证还是比喻论证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句是比喻论证，设喻以说明“事实和根据”的两种“来源”，不是举例论证。如果举例论证，那就要举出做学问的实例，“譬如”后面所言，并非做学问的实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53265" descr="4"/>
          <p:cNvPicPr/>
          <p:nvPr/>
        </p:nvPicPr>
        <p:blipFill>
          <a:blip r:embed="rId1"/>
          <a:stretch/>
        </p:blipFill>
        <p:spPr>
          <a:xfrm>
            <a:off x="0" y="633888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33:00Z</dcterms:created>
  <dc:creator>微软用户</dc:creator>
  <dc:description/>
  <dc:language>en-US</dc:language>
  <cp:lastModifiedBy>Administrator</cp:lastModifiedBy>
  <dcterms:modified xsi:type="dcterms:W3CDTF">2018-09-29T15:03:4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