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707-EC8C-487F-9602-20A596FB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DAF-254B-4892-9047-B72E128B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151-1825-4F6F-B558-3A10AE9B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2C0-45FB-45E3-AD61-7355B8E0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08A-2AF7-417C-B644-BC80D9C1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AAA-1ABA-48E9-9959-DAAD5CB5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E01-E520-4824-8EB8-29B135FC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FDC-23A4-45A2-8352-A4C45712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423-1828-4CFF-BA1F-DF62EAB2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DA8-510A-4B7B-B2BA-E28690E3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225-8988-4DE9-83F3-7AF3BB24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875-C8A6-4909-92F5-9BCD18C0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46BE-53CF-4457-BD21-EA63D2B839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89154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380880"/>
          <a:ext cx="8686800" cy="609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68680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8600"/>
            <a:ext cx="883908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教学目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解作家、作品，学习文中生字、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理解中心论点与分论点及之间的逻辑联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理解举例论证、道理论证的运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理解论证的层次和过渡句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10287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87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66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666666"/>
                </a:solidFill>
                <a:latin typeface="Times New Roman"/>
              </a:rPr>
              <a:t>顾颉刚（</a:t>
            </a:r>
            <a:r>
              <a:rPr b="1" lang="zh-CN" sz="4000" spc="-1" strike="noStrike">
                <a:solidFill>
                  <a:srgbClr val="666666"/>
                </a:solidFill>
                <a:latin typeface="Times New Roman"/>
              </a:rPr>
              <a:t>1893-1980</a:t>
            </a:r>
            <a:r>
              <a:rPr b="1" lang="zh-CN" sz="4000" spc="-1" strike="noStrike">
                <a:solidFill>
                  <a:srgbClr val="666666"/>
                </a:solidFill>
                <a:latin typeface="Times New Roman"/>
              </a:rPr>
              <a:t>），我国当代史学家  ，江苏苏州人。 长期从事教育工作和历史研究，于怀疑和辨伪，有不少创见。著有《汉代学术史略》、《史林杂识初编》等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3862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6858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08000" y="-243000"/>
            <a:ext cx="9252000" cy="28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指导自读课文（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边读边讨论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阅读全文后用自己的话概括作者在本文中提出的论点。你认为课文中哪些语句可作为论点。       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本文开头有何特点？        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分别概括第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3-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第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段的内容。          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找出中心论点统率下的两个分论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57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导读提纲二：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本文主要运用举例论证、道理论证的方法，标出第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段中各句的序号，分别指出这两段中运用这两种论证方法的句子。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什么是怀疑的精神？它有何作用？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“尽信书不如无书”的意思是：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完全相信书不如没书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尽管有好书，但是不用，等于没有书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尽量相信书，不要无视书的价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引用学者的名言以提出论点，这种写法有什么好处？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2852280"/>
            <a:ext cx="8497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这种写法，既提出了论点，同时学者的名言本身也是一个证明论点的有力论据，这就使得论点的说服力更为增强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53:21Z</dcterms:created>
  <dc:creator>ynzx</dc:creator>
  <dc:description/>
  <dc:language>en-US</dc:language>
  <cp:lastModifiedBy>Xtzj.User</cp:lastModifiedBy>
  <dcterms:modified xsi:type="dcterms:W3CDTF">2008-02-25T04:48:02Z</dcterms:modified>
  <cp:revision>11</cp:revision>
  <dc:subject/>
  <dc:title>PowerPoint 演示文稿</dc:title>
</cp:coreProperties>
</file>