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2.gif" ContentType="image/gif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AA5-6410-42F0-9DC3-59B143CE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93B-F85A-4621-9A5F-ADE91C7B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AF4-108F-459B-8CC5-AC5E960D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24F-4186-46B9-9494-E954AB62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8FF-C101-435D-BD4C-954CA632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517-9BBE-481D-8189-BB20D6A5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E1E-558A-4520-8518-CA8A4620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45D-1A0E-4C36-97EF-C31C17E0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A33-9A74-4660-A20F-48ED7185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CA3-ED29-431F-BB0B-EBA779FA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B71-32AF-4DDC-AD7B-932D07B1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958-E88D-444E-87E9-E8AB26E0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6821-A9FE-49DF-A776-A6483BB2BF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16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228600"/>
            <a:ext cx="8305920" cy="61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议论文知识回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议论文的三要素是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____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._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是作者对所论述问题的见解和主张。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是议论文中用来证明论点、支撑论点的材料。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是用论据证明论点的过程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三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论点要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四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论据的两种基本形式是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论证方法主要有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__________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__________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838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论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838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论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295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论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4648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事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道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5410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举例论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5410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道理论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943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对比论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比喻论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057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论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6668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论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3276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论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962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3962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鲜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有针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237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609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、这段四句话之间层次关系如何？怎样划分层次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三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371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因果关系        ①②③︱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133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、第三句是举例论证还是比喻论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9718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例论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657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、本段在文章中起到哪些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343400"/>
            <a:ext cx="8305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引出下文，使文章上下紧紧相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层递，使文章论说深入一步，进了一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铺石垫基，使文章的说服力增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286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第四、五段思考讨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523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、 什么是怀疑的精神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、举例论证有何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问书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332080" cy="1676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120" y="3276720"/>
            <a:ext cx="7696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、“怀疑”“思索”“辨别”这三个步骤能否前后对换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、引用名言有何好处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0"/>
            <a:ext cx="7391520" cy="131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2)(3)(4)(5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句同第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句之间有什么关系？这四句中，又可分哪几个小层次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8229600" cy="70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2)(3)(4)(5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句是用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道理去论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句提出的论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276720"/>
            <a:ext cx="75438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2)(3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第一层：从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反面说理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指出没有怀疑精神永远不能治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572000"/>
            <a:ext cx="838188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4)(5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第二层：从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正面说理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指出只有常常怀疑、常常发问，一切学问才会起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0"/>
            <a:ext cx="91440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第六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304920"/>
            <a:ext cx="79246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第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、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、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三句同第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句之间有什么关系？这三句中，又可分为哪几个小层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209680"/>
            <a:ext cx="7848720" cy="11912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第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三句是用事例去论证第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句提出的论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581280"/>
            <a:ext cx="80773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句是第一层：提出一个小论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419720"/>
            <a:ext cx="76960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句是第二层：用大学问家戴震的事例来证明第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句的小论点和第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句的全段论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304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第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句“一切”和“四个常常”能删去吗？为什么？句中的冒号为什么不宜改为句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4382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5909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286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不能。用这些词，是为了强调所有的学问家全部都包括在内，都善于经常的怀疑、提问、评判、修正过去学者的学说。这是建设新学说的基本条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句中的冒号表示后面的一句是前几句的总括。所以不能改为句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第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、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两句是分别从什么方面论述的？第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句中的“学术”和“文化”这两个词能互换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7524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正面论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第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句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反面论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10824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1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中的“学术”和“文化”这两个词不能互换。因为“学术”是人类众多的“文化”活动中的一种， “一切学术也就停滞，人类的文化也就不会进步了”，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从部分说到整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互换位置后就讲不通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d15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544320" y="2590920"/>
            <a:ext cx="1277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怀疑与学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990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533520" cy="44197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0"/>
            <a:ext cx="754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心论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429000"/>
            <a:ext cx="53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论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438280"/>
            <a:ext cx="304920" cy="3429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63656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怀疑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怀疑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证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证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1905120"/>
            <a:ext cx="14479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消极方面辨伪去妄的必要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251460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1646280"/>
            <a:ext cx="60958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传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主要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证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论对于哪一本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哪一种学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主要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证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304920"/>
            <a:ext cx="7239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治学必须有怀疑精神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(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学者先要会疑”、     “学则须疑”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1447920"/>
            <a:ext cx="5867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不论信不信都应当经过一番思考，不应当随随便便就信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2590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276720"/>
            <a:ext cx="556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都要经过自已的怀疑，辨别是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道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800600"/>
            <a:ext cx="7162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积极方面建设新学说，启迪新发明的基本条件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5791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道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5791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s237" descr=""/>
          <p:cNvPicPr/>
          <p:nvPr/>
        </p:nvPicPr>
        <p:blipFill>
          <a:blip r:embed="rId2"/>
          <a:stretch/>
        </p:blipFill>
        <p:spPr>
          <a:xfrm>
            <a:off x="8077320" y="5756400"/>
            <a:ext cx="10666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BJ2001" descr=""/>
          <p:cNvPicPr/>
          <p:nvPr/>
        </p:nvPicPr>
        <p:blipFill>
          <a:blip r:embed="rId1">
            <a:lum contrast="-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1143000"/>
            <a:ext cx="84582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多疑，往往是不好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因为多疑是一种不健康的心理状况。俗话说：疑心生暗鬼。确有一定的道理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古往今来，不少人由于多疑，不知闹出了多少笑话，演出了多少悲剧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不说“杯弓蛇影”使人大病一场，给疑者带来的痛苦有多大，就因为多疑而夭折的也并非一起。《红楼梦》中的林黛玉，因生性多疑，以致忧郁成疾，这也是造成宝黛爱情悲剧的原因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s237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380880"/>
            <a:ext cx="39625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阅读理解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BJ2001" descr=""/>
          <p:cNvPicPr/>
          <p:nvPr/>
        </p:nvPicPr>
        <p:blipFill>
          <a:blip r:embed="rId1">
            <a:lum contrast="-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5800" y="609480"/>
            <a:ext cx="7696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如果说封建社会的大家闺秀，由于多疑而只是个人遗恨终身的话，那么一些赫赫有名的政治家、军事家由于多疑而造成损兵折将的也为数不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曹操就是一个。因多疑，错杀了不少忠臣良将！推迟了曹魏政权的建立。以前事，无须多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contrast="-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304920"/>
            <a:ext cx="82296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今天我们的一些同志由于多疑，为人办事互不信任，疑心叠起，顾虑重重，当齐心的不齐心，当合作的不合作，甚至故意设置障碍，出些难题，给事业造成难以挽回的损失。因此，同志之间应互相信任，去疑存诚。当然对某些人和事物，不轻信，存疑端，也是必要的。但这就另当别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8380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M_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 rot="5400000">
            <a:off x="1180800" y="2857680"/>
            <a:ext cx="3581280" cy="2133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隶书"/>
              </a:rPr>
              <a:t>怀 疑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隶书"/>
              <a:ea typeface="隶书"/>
            </a:endParaRPr>
          </a:p>
        </p:txBody>
      </p:sp>
      <p:sp>
        <p:nvSpPr>
          <p:cNvPr id="61" name=""/>
          <p:cNvSpPr txBox="1"/>
          <p:nvPr/>
        </p:nvSpPr>
        <p:spPr>
          <a:xfrm rot="5400000">
            <a:off x="4647960" y="2666880"/>
            <a:ext cx="3124440" cy="1752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隶书"/>
              </a:rPr>
              <a:t>学问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隶书"/>
              <a:ea typeface="隶书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191120" y="205740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与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4154760" y="55468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隶书"/>
                <a:ea typeface="隶书"/>
              </a:rPr>
              <a:t>顾 颉 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4489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237" descr=""/>
          <p:cNvPicPr/>
          <p:nvPr/>
        </p:nvPicPr>
        <p:blipFill>
          <a:blip r:embed="rId2"/>
          <a:stretch/>
        </p:blipFill>
        <p:spPr>
          <a:xfrm>
            <a:off x="8001000" y="5897520"/>
            <a:ext cx="11430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962520"/>
            <a:ext cx="80773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不矛盾。本段主张“不要多疑”，是从与人相处的角度提出的；课文主张“要多疑”，是从治学角度提出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676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多疑，往往是不好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段论证的论点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666880"/>
            <a:ext cx="8153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段论点与课文《怀疑与学问》的论点是否矛盾？为什么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077320" y="5897520"/>
            <a:ext cx="106668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380880"/>
            <a:ext cx="86868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段的论证思路是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正到反    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古及今   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远及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304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1752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举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286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道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7339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809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181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段末两句能不能删去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867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不能。避免误解，使论述周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200400"/>
            <a:ext cx="88390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划线的三句话在结构上的作用分别是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       )    (       )   (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统领全段     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承上启下      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领起下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752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段论证的方法主要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论证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论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077320" y="5897520"/>
            <a:ext cx="106668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195640" y="1052640"/>
            <a:ext cx="591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99"/>
                </a:solidFill>
                <a:latin typeface="Times New Roman"/>
                <a:ea typeface="隶书"/>
              </a:rPr>
              <a:t>　　</a:t>
            </a:r>
            <a:r>
              <a:rPr b="0" lang="zh-CN" sz="4800" spc="-1" strike="noStrike">
                <a:solidFill>
                  <a:srgbClr val="00cc99"/>
                </a:solidFill>
                <a:latin typeface="Times New Roman"/>
                <a:ea typeface="隶书"/>
              </a:rPr>
              <a:t>在学习上，在生活中，你一定有过不少怀疑的经历。请选择你印象最深刻的一次，写一篇六百字左右的记叙文。题目自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286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04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53352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53352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380880"/>
            <a:ext cx="838080" cy="838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380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4572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J12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14400" y="2133720"/>
            <a:ext cx="6781680" cy="46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一、学习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治学必须有怀疑精神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的思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二、理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层层深入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论证，用分论点论证中心论点的方法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三、理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例论证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道理论证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的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6094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学习目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s237" descr=""/>
          <p:cNvPicPr/>
          <p:nvPr/>
        </p:nvPicPr>
        <p:blipFill>
          <a:blip r:embed="rId2"/>
          <a:stretch/>
        </p:blipFill>
        <p:spPr>
          <a:xfrm>
            <a:off x="7924680" y="5759280"/>
            <a:ext cx="12193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J1238" descr="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0" y="0"/>
            <a:ext cx="9144000" cy="7039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83808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根据下列句子的意思在括号内填上词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因循守旧，不知改进。（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辨别虚假的并除去不合实际的。（   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形容论点站不住脚，经不起反驳或攻击。（   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没有事实根据的。（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墨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辨伪去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19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不攻自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181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虚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s237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1143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O01871_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1447920"/>
            <a:ext cx="82296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的中心论点是什么？这个论点是如何提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895480"/>
            <a:ext cx="8381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心论点：治学必须有怀疑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019400"/>
            <a:ext cx="79246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的中心论点是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引用古代名言，开门见山地提出来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572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思考题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eefe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762120"/>
            <a:ext cx="8153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思考题二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本文的两个分论点是什么？文中哪句话揭示了这两个分论点？这句话在文中还有何作用？分论点与总论点之间有何联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120" y="457200"/>
            <a:ext cx="266688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怀疑与学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752480"/>
            <a:ext cx="205740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心论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1676520"/>
            <a:ext cx="640080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学必须有怀疑精神（引用名言“学者先要会疑”或“学则须疑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625920"/>
            <a:ext cx="198108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论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3473280"/>
            <a:ext cx="640080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怀疑是辩伪去妄的必要步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4143240"/>
            <a:ext cx="640080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怀疑是建设新学说、启迪新发明的基本条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438280"/>
            <a:ext cx="990720" cy="1067040"/>
          </a:xfrm>
          <a:prstGeom prst="upArrow">
            <a:avLst>
              <a:gd name="adj1" fmla="val 50000"/>
              <a:gd name="adj2" fmla="val 269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7" action="ppaction://hlinksldjump"/>
          </p:cNvPr>
          <p:cNvSpPr/>
          <p:nvPr/>
        </p:nvSpPr>
        <p:spPr>
          <a:xfrm>
            <a:off x="8229600" y="74674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c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52388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分两个部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一（第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段）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提出文章的中心论点：治学必须有怀疑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二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3—6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段）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阐明中心论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一层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3-5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：怀疑是从消极方面辨伪去妄的必要步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二层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：怀疑是从积极方面建设新学说，启迪新发明的基本条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考题三：本文的结构层次如何划分？各部分的内容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3880" y="18288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引用学者的名言以提出论点，这种写法有什么好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分析课文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7621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第一、二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4290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提出了中心论点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又将它作为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道理论据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有力地证明了论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03:25:27Z</dcterms:created>
  <dc:creator>COMMON</dc:creator>
  <dc:description/>
  <dc:language>en-US</dc:language>
  <cp:lastModifiedBy>软件仓库</cp:lastModifiedBy>
  <dcterms:modified xsi:type="dcterms:W3CDTF">2005-09-10T02:24:24Z</dcterms:modified>
  <cp:revision>6</cp:revision>
  <dc:subject/>
  <dc:title>PowerPoint 演示文稿</dc:title>
</cp:coreProperties>
</file>