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gif" ContentType="image/gif"/>
  <Override PartName="/ppt/media/image13.png" ContentType="image/png"/>
  <Override PartName="/ppt/media/image16.png" ContentType="image/png"/>
  <Override PartName="/ppt/media/image15.png" ContentType="image/png"/>
  <Override PartName="/ppt/media/image7.gif" ContentType="image/gif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AB63-2F97-4874-8ACF-FAF4CA716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D834-E742-4EC4-9F32-39B54FEE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2372-F071-426F-8C70-425583982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990A-67E6-4FDE-842A-88209F0C6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6A04-E459-410C-AA67-4B6A8252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11F5-902C-41BE-AB7A-D74844AF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D2E2-3AC2-46A9-A64A-9A9DEC68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11FC-273D-48B3-9A63-2D1387D9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9535-64A4-4CD7-8F16-958BD8D1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06D0-7510-41E7-9C2E-E3211708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8F97-53CF-481F-8E22-6CB90B0C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E26C-84CA-4DD9-B8B3-D486F6FB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E071-75E6-46C7-99D3-ED2B6312A8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7.wmf"/><Relationship Id="rId9" Type="http://schemas.openxmlformats.org/officeDocument/2006/relationships/image" Target="../media/image17.wmf"/><Relationship Id="rId10" Type="http://schemas.openxmlformats.org/officeDocument/2006/relationships/image" Target="../media/image17.wmf"/><Relationship Id="rId11" Type="http://schemas.openxmlformats.org/officeDocument/2006/relationships/image" Target="../media/image17.wmf"/><Relationship Id="rId12" Type="http://schemas.openxmlformats.org/officeDocument/2006/relationships/image" Target="../media/image17.wmf"/><Relationship Id="rId13" Type="http://schemas.openxmlformats.org/officeDocument/2006/relationships/image" Target="../media/image17.wmf"/><Relationship Id="rId1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slide" Target="slide3.xml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43400" y="2514240"/>
            <a:ext cx="5105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</a:rPr>
              <a:t>画</a:t>
            </a:r>
            <a:br>
              <a:rPr sz="8800"/>
            </a:br>
            <a:r>
              <a:rPr b="1" lang="zh-CN" sz="8800" spc="-1" strike="noStrike">
                <a:solidFill>
                  <a:srgbClr val="ff0000"/>
                </a:solidFill>
                <a:latin typeface="Arial"/>
              </a:rPr>
              <a:t>杨</a:t>
            </a:r>
            <a:br>
              <a:rPr sz="8800"/>
            </a:br>
            <a:r>
              <a:rPr b="1" lang="zh-CN" sz="8800" spc="-1" strike="noStrike">
                <a:solidFill>
                  <a:srgbClr val="ff0000"/>
                </a:solidFill>
                <a:latin typeface="Arial"/>
              </a:rPr>
              <a:t>桃</a:t>
            </a:r>
            <a:br>
              <a:rPr sz="4000"/>
            </a:b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5715000" cy="608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73200" y="1639800"/>
            <a:ext cx="785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近义词：审视—审察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              半晌—半天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教诲—教导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反义词：和颜悦色—疾言厉色　　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熟悉—陌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5480" y="692280"/>
            <a:ext cx="2087640" cy="936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98560" y="76356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  <a:ea typeface="华文新魏"/>
              </a:rPr>
              <a:t>我会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9640" y="1557360"/>
            <a:ext cx="7920000" cy="17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这篇课文主要讲了在图画课上，我把————，结果同学们都————。老师让同学们坐到我的座位上观察，发现————，由此教育同学们———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68360" y="1413000"/>
            <a:ext cx="80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他对我要求很严，经常叮嘱我：“你看见一件东西，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是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什么样的，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就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画成什么样，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不要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想当然，画走了样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0" t="0" r="5394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rcRect l="28154" t="0" r="17285" b="44706"/>
          <a:stretch/>
        </p:blipFill>
        <p:spPr>
          <a:xfrm>
            <a:off x="7236000" y="4437000"/>
            <a:ext cx="1714320" cy="2016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9640" y="1700280"/>
            <a:ext cx="81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omic Sans MS"/>
              </a:rPr>
              <a:t>我看到的杨桃根本不像平时看到的那样，而像是五个角的什么东西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10920" y="765000"/>
            <a:ext cx="10810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049480" y="1700280"/>
            <a:ext cx="5283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omic Sans MS"/>
                <a:ea typeface="仿宋_GB2312"/>
              </a:rPr>
              <a:t>“</a:t>
            </a:r>
            <a:r>
              <a:rPr b="1" lang="zh-CN" sz="5400" spc="-1" strike="noStrike">
                <a:solidFill>
                  <a:srgbClr val="ff0000"/>
                </a:solidFill>
                <a:latin typeface="Comic Sans MS"/>
                <a:ea typeface="仿宋_GB2312"/>
              </a:rPr>
              <a:t>杨桃是这个样子的吗？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omic Sans MS"/>
                <a:ea typeface="仿宋_GB2312"/>
              </a:rPr>
              <a:t>“</a:t>
            </a:r>
            <a:r>
              <a:rPr b="1" lang="zh-CN" sz="5400" spc="-1" strike="noStrike">
                <a:solidFill>
                  <a:srgbClr val="ff0000"/>
                </a:solidFill>
                <a:latin typeface="Comic Sans MS"/>
                <a:ea typeface="仿宋_GB2312"/>
              </a:rPr>
              <a:t>倒不如说是五角星吧！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9640" y="1197000"/>
            <a:ext cx="8062920" cy="34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老师看了看这幅画，走到我的座位坐下来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审视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了一下讲桌上的杨桃，然后回到讲台，举起我的画问大家：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　　“这幅画画得像不像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  “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不像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  “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它像什么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  “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像五角星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0" t="0" r="5394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-228600" y="105876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1197000"/>
            <a:ext cx="763272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老师请同学们坐到我的座位上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杨桃，是老师巧妙设计的教育学生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时机。请你想象当时的情景，同学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这一看，看出了怎样的结果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一看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一看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一看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13115" t="0" r="14362" b="1566"/>
          <a:stretch/>
        </p:blipFill>
        <p:spPr>
          <a:xfrm>
            <a:off x="6659640" y="3716280"/>
            <a:ext cx="2162160" cy="2737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253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33789" t="31260" r="31262" b="33797"/>
          <a:stretch/>
        </p:blipFill>
        <p:spPr>
          <a:xfrm>
            <a:off x="457200" y="44280"/>
            <a:ext cx="2133720" cy="17258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32536" t="30000" r="30016" b="32546"/>
          <a:stretch/>
        </p:blipFill>
        <p:spPr>
          <a:xfrm>
            <a:off x="6477120" y="44280"/>
            <a:ext cx="2286000" cy="1849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438280" y="476280"/>
            <a:ext cx="441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9640" y="2205000"/>
            <a:ext cx="49323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“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不像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“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像五角星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63640" y="2349360"/>
            <a:ext cx="142920" cy="1152720"/>
          </a:xfrm>
          <a:custGeom>
            <a:avLst/>
            <a:gdLst>
              <a:gd name="textAreaLeft" fmla="*/ 91440 w 142920"/>
              <a:gd name="textAreaRight" fmla="*/ 143280 w 14292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92360" y="4365720"/>
            <a:ext cx="71280" cy="1081080"/>
          </a:xfrm>
          <a:custGeom>
            <a:avLst/>
            <a:gdLst>
              <a:gd name="textAreaLeft" fmla="*/ 45720 w 71280"/>
              <a:gd name="textAreaRight" fmla="*/ 71640 w 71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69240" y="4149720"/>
            <a:ext cx="37954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“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不……像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“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像……五……角星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88000" y="24922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omic Sans MS"/>
                <a:ea typeface="华文中宋"/>
              </a:rPr>
              <a:t>（想当然不假思索的语气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92720" y="3645000"/>
            <a:ext cx="36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（回答支支吾吾，结结巴巴，迟迟疑疑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0" t="0" r="5394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173844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549360"/>
            <a:ext cx="8496360" cy="8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4000" spc="-1" strike="noStrike">
                <a:solidFill>
                  <a:srgbClr val="0066ff"/>
                </a:solidFill>
                <a:latin typeface="Times New Roman"/>
              </a:rPr>
              <a:t>提起杨桃，大家都很熟悉。但是，看的角度不同，杨桃的样子也就不一样，有时候看起来真像个五角星。因此，当我们看见别人把杨桃画成五角星的时候，不要忙着发笑，要看人家是从什么角度看的。我们应该相信自己的眼睛，看到是什么样的就画成什么样</a:t>
            </a: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0" t="0" r="5394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755280" y="2636640"/>
            <a:ext cx="74898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（这是个循循善诱的好老师，他要创设机会，既保护我幼小的心灵不受伤害，又要让其他学生自己发现错误，自己教育自己，让学生心悦诚服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18900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我想知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1125360"/>
            <a:ext cx="727416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为什么老师没有在审视杨桃后就用这段话语来教育我们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0" t="0" r="5394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920" y="19512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1052640"/>
            <a:ext cx="75610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老师和父亲的话语那么相似。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们相同的地方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4005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他们不同之处又是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2421000"/>
            <a:ext cx="74898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（要实事求是地表现自己的角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看到的东西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4869000"/>
            <a:ext cx="777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（老师的话语中又提到要尊重别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的看法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4000" y="2354760"/>
            <a:ext cx="84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中宋"/>
              </a:rPr>
              <a:t>        </a:t>
            </a: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中宋"/>
              </a:rPr>
              <a:t>岑桑： </a:t>
            </a: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中宋"/>
              </a:rPr>
              <a:t>1926</a:t>
            </a: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中宋"/>
              </a:rPr>
              <a:t>年生 广东顺德市人。</a:t>
            </a: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中宋"/>
              </a:rPr>
              <a:t>1949</a:t>
            </a: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中宋"/>
              </a:rPr>
              <a:t>年毕业于中山大学，</a:t>
            </a: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中宋"/>
              </a:rPr>
              <a:t>1958</a:t>
            </a: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中宋"/>
              </a:rPr>
              <a:t>年起在广州文化出版社、花城出版社、广东人民出版社、广东教育出版社、新世纪出版社工作，曾任社长兼总编辑。我国当代著名作家。</a:t>
            </a: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中宋"/>
              </a:rPr>
              <a:t>1942</a:t>
            </a: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中宋"/>
              </a:rPr>
              <a:t>年开始发表作品。著有《当你还是一朵花》、《在大海那边》、《岑桑散文选》、 评论集《美的追求》、诗集《眼睛和橄榄》 等</a:t>
            </a: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中宋"/>
              </a:rPr>
              <a:t>20</a:t>
            </a: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华文中宋"/>
              </a:rPr>
              <a:t>余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55640" y="22050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omic Sans MS"/>
                <a:ea typeface="仿宋_GB2312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Comic Sans MS"/>
                <a:ea typeface="仿宋_GB2312"/>
              </a:rPr>
              <a:t>岑桑说：“多年来，我一直脚踏实地，实事求是地做人、做事，这来自于小时候老师、父亲对我的教诲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000" y="1125000"/>
            <a:ext cx="82803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诚实和勤勉，应该成为你永久的伴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                   ——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富兰克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只有在自己诚实之时，才会一眼看出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旁不诚实的人。          ——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加藤谛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正直是这么美妙的东西，重金难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诚实是人生绝妙的法宝。虽然对人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实，你可能付出一定的代价，但日后你得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，远比付出的多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9640" y="44280"/>
            <a:ext cx="2232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资料库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9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8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4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4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9640" y="765000"/>
            <a:ext cx="2087640" cy="936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2720" y="83664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  <a:ea typeface="华文新魏"/>
              </a:rPr>
              <a:t>我会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690560" y="170028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274920" y="3213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3348000" y="170028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5076720" y="328464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3203640" y="472428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6877080" y="3213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5003640" y="472428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9"/>
          <a:stretch/>
        </p:blipFill>
        <p:spPr>
          <a:xfrm>
            <a:off x="1547640" y="472428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0"/>
          <a:stretch/>
        </p:blipFill>
        <p:spPr>
          <a:xfrm>
            <a:off x="6804000" y="472428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1"/>
          <a:stretch/>
        </p:blipFill>
        <p:spPr>
          <a:xfrm>
            <a:off x="6948360" y="170028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2"/>
          <a:stretch/>
        </p:blipFill>
        <p:spPr>
          <a:xfrm>
            <a:off x="5148360" y="170028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3"/>
          <a:stretch/>
        </p:blipFill>
        <p:spPr>
          <a:xfrm>
            <a:off x="1619280" y="3284640"/>
            <a:ext cx="936720" cy="9363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63640" y="1773000"/>
            <a:ext cx="6408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Arial"/>
              </a:rPr>
              <a:t>叮      嘱       排       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19280" y="4869000"/>
            <a:ext cx="64087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Arial"/>
              </a:rPr>
              <a:t>悦      熟       悉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800" spc="-1" strike="noStrike">
                <a:solidFill>
                  <a:srgbClr val="0066ff"/>
                </a:solidFill>
                <a:latin typeface="Arial"/>
              </a:rPr>
              <a:t>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92360" y="3284640"/>
            <a:ext cx="611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Arial"/>
              </a:rPr>
              <a:t>幅      审       肃       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152280"/>
            <a:ext cx="8610480" cy="6458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90920" y="5257800"/>
            <a:ext cx="313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50292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杨　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686800" cy="6175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281952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杨　　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14680" y="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3520" y="373392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杨桃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又名羊桃，五敛子。常绿或半常绿乔木。花小，钟形，紫红色。浆果椭圆形，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，有五棱，间或三到六棱，未熟前果皮青绿色，熟时黄色。一年内开花数次，自夏至秋相继不绝，秋冬果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54380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543800" y="5335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8001000" y="1219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0" y="304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685800" y="914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533520" y="20574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547560"/>
            <a:ext cx="9144000" cy="6121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826920" y="981000"/>
            <a:ext cx="23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请观察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0" name=""/>
          <p:cNvSpPr/>
          <p:nvPr/>
        </p:nvSpPr>
        <p:spPr>
          <a:xfrm>
            <a:off x="1476360" y="5300640"/>
            <a:ext cx="64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omic Sans MS"/>
                <a:ea typeface="华文中宋"/>
              </a:rPr>
              <a:t>这两个杨桃有什么不同</a:t>
            </a:r>
            <a:r>
              <a:rPr b="0" lang="zh-CN" sz="4400" spc="-1" strike="noStrike">
                <a:solidFill>
                  <a:srgbClr val="ffffff"/>
                </a:solidFill>
                <a:latin typeface="Comic Sans MS"/>
                <a:ea typeface="华文中宋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115640" y="1916280"/>
            <a:ext cx="72010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2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叮嘱    前排    靠边     准确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审视    讲台    神情     严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半晌    轮流     和颜悦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熟悉    角度    相似      教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907920"/>
            <a:ext cx="2087640" cy="936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97956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  <a:ea typeface="华文新魏"/>
              </a:rPr>
              <a:t>我会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58920" y="35002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华文新魏"/>
              </a:rPr>
              <a:t>sh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华文中宋"/>
              </a:rPr>
              <a:t>ǎ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华文新魏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65800" y="263196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华文中宋"/>
              </a:rPr>
              <a:t>s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6858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叮嘱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63640" y="62064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再三嘱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181296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教诲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181296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教导，训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295596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审视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295596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仔细地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09896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半晌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409896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半天或好大一阵子功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5241960"/>
            <a:ext cx="289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颜悦色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2419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形容态度温和可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16292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943600" y="7621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657600" y="990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2819520" y="2743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4800600" y="34290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772400" y="55627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zourujuan</dc:creator>
  <dc:description/>
  <dc:language>en-US</dc:language>
  <cp:lastModifiedBy>微软用户</cp:lastModifiedBy>
  <dcterms:modified xsi:type="dcterms:W3CDTF">2014-01-29T14:46:12Z</dcterms:modified>
  <cp:revision>899</cp:revision>
  <dc:subject/>
  <dc:title>幻灯片 1</dc:title>
</cp:coreProperties>
</file>