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74E-D69C-499C-AD68-CC82D91EB7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PowerClick&gt;&lt;Answer&gt;0&lt;/Answer&gt;&lt;Option&gt;4&lt;/Option&gt;&lt;Point&gt;1&lt;/Point&gt;&lt;/PowerCli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PowerClick&gt;&lt;Answer&gt;0&lt;/Answer&gt;&lt;Option&gt;3&lt;/Option&gt;&lt;Point&gt;1&lt;/Point&gt;&lt;/PowerCli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PowerClick&gt;&lt;Answer&gt;0&lt;/Answer&gt;&lt;Option&gt;3&lt;/Option&gt;&lt;Point&gt;1&lt;/Point&gt;&lt;/PowerCli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PowerClick&gt;&lt;Answer&gt;0&lt;/Answer&gt;&lt;Option&gt;4&lt;/Option&gt;&lt;Point&gt;1&lt;/Point&gt;&lt;/PowerCli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PowerClick&gt;&lt;Answer&gt;0&lt;/Answer&gt;&lt;Option&gt;4&lt;/Option&gt;&lt;Point&gt;1&lt;/Point&gt;&lt;/PowerCli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9FB-9095-401A-A9BC-04FF2EBA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8BA-C086-42FE-A6F4-7DC7CF5D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F5D-5793-4567-9B39-44AB0F07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09D-5624-44AE-AF21-7065D33A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A4D-DB75-4BBE-897B-97ADC9CB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79E-6EB2-4FDA-B885-6E920D74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8BF-39A8-475B-B27A-09C24B8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7AF-19A0-4E64-AC17-9853726A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819-74B6-40A3-9C7E-B93D638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0D5-C6B9-419A-9080-E546AD4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0D9-8253-40DE-8FA9-8658166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399-4170-44ED-B75F-4D37DA6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D09-A73C-4FC1-A409-D68A269D7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《画杨桃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515772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济水东园小学：行菊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9220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0"/>
            <a:ext cx="352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叮  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2637000"/>
            <a:ext cx="86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开了，妈妈叮嘱我：“马上把火关上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到违章车辆，警察叮嘱司机：“靠边，快停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叮嘱我们：“要抓紧时间写作业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园叮嘱妹妹：“书写要工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484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叮嘱”放在哪句话里使用得恰当，请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95640" y="20239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精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78280"/>
            <a:ext cx="82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认认真真地看，老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实实地画，自己觉得画得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准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260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准  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33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443700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适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忍耐某种遭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遭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76280"/>
            <a:ext cx="26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受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31768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们的教诲使我一生受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59640" y="299736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573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”字哪个解释是正确的，请选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92360" y="90972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严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00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35116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神情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严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935520"/>
            <a:ext cx="93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老师的神情变得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严肃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00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56000" y="1339920"/>
            <a:ext cx="3816360" cy="3816360"/>
            <a:chOff x="2556000" y="1339920"/>
            <a:chExt cx="3816360" cy="3816360"/>
          </a:xfrm>
        </p:grpSpPr>
        <p:sp>
          <p:nvSpPr>
            <p:cNvPr id="106" name=""/>
            <p:cNvSpPr/>
            <p:nvPr/>
          </p:nvSpPr>
          <p:spPr>
            <a:xfrm>
              <a:off x="2556000" y="1339920"/>
              <a:ext cx="3816360" cy="381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56000" y="32832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27640" y="1339920"/>
              <a:ext cx="0" cy="3816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71640" y="105264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肃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43160" y="2006640"/>
          <a:ext cx="2684520" cy="26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006640"/>
                    <a:ext cx="26845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6804000" y="3500280"/>
            <a:ext cx="2016000" cy="1696320"/>
            <a:chOff x="6804000" y="3500280"/>
            <a:chExt cx="2016000" cy="1696320"/>
          </a:xfrm>
        </p:grpSpPr>
        <p:sp>
          <p:nvSpPr>
            <p:cNvPr id="113" name=""/>
            <p:cNvSpPr/>
            <p:nvPr/>
          </p:nvSpPr>
          <p:spPr>
            <a:xfrm>
              <a:off x="6804000" y="4005360"/>
              <a:ext cx="201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聿部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8360" y="3500280"/>
              <a:ext cx="14400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9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yu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0360" y="3718080"/>
              <a:ext cx="7128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5300640"/>
            <a:ext cx="113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200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先两边后中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37500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从左到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先中间后两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782640"/>
            <a:ext cx="90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肃”哪个笔顺是正确的，请选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97280" y="1989000"/>
            <a:ext cx="3114720" cy="838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7920" y="3330720"/>
            <a:ext cx="3124080" cy="81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26080" y="4659480"/>
            <a:ext cx="3085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00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56000" y="1339920"/>
            <a:ext cx="3816360" cy="3816360"/>
            <a:chOff x="2556000" y="1339920"/>
            <a:chExt cx="3816360" cy="3816360"/>
          </a:xfrm>
        </p:grpSpPr>
        <p:sp>
          <p:nvSpPr>
            <p:cNvPr id="126" name=""/>
            <p:cNvSpPr/>
            <p:nvPr/>
          </p:nvSpPr>
          <p:spPr>
            <a:xfrm>
              <a:off x="2556000" y="1339920"/>
              <a:ext cx="3816360" cy="381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56000" y="328320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7640" y="1339920"/>
              <a:ext cx="0" cy="3816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771640" y="105264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000000"/>
                </a:solidFill>
                <a:latin typeface="Arial"/>
                <a:ea typeface="楷体_GB2312"/>
              </a:rPr>
              <a:t>肃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87840" y="2400480"/>
          <a:ext cx="14986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7840" y="2400480"/>
                    <a:ext cx="14986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143160" y="2700360"/>
          <a:ext cx="266220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2700360"/>
                    <a:ext cx="2662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48240" y="3119400"/>
          <a:ext cx="133164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8240" y="3119400"/>
                    <a:ext cx="13316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140360" y="1700280"/>
          <a:ext cx="368280" cy="288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1700280"/>
                    <a:ext cx="36828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100320" y="3213000"/>
            <a:ext cx="895320" cy="147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3635280" y="3284640"/>
            <a:ext cx="62892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4470480" y="3284640"/>
            <a:ext cx="533160" cy="799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4788000" y="2987640"/>
            <a:ext cx="581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523880" y="-993600"/>
            <a:ext cx="12072960" cy="8537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752480" y="-8380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课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360" y="13716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、交流资料，质疑，引入新课</a:t>
            </a:r>
            <a:r>
              <a:rPr b="1" lang="zh-CN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0574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（出示杨桃图片）  师：“同学们，你们知道这是什么水果吗？”（板书：杨桃）“谁能把课前你了解到的有关杨桃的情况向同学们介绍一下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30492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3352680" cy="327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9074160" y="0"/>
            <a:ext cx="6984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-380880" y="0"/>
            <a:ext cx="9524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看到题目中的画字，你又想到了什么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生：谁画的杨桃？  怎么画的？画的好不好？ 画杨桃的过程发生了什么事？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49080" y="404640"/>
            <a:ext cx="18396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23622" r="19963" b="0"/>
          <a:stretch/>
        </p:blipFill>
        <p:spPr>
          <a:xfrm>
            <a:off x="0" y="-193680"/>
            <a:ext cx="9144000" cy="7051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课文，深入品味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本文的作者小时候在一次图画课上画过一次杨桃，并给他留下了深刻的印象，现在让我们一起来看看图画课上发生了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3123720"/>
            <a:ext cx="8142120" cy="17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_x000b__x000c_"/>
              </a:rPr>
              <a:t>抓住“我”的动作，神态，体会“我”的实事求是与情感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_x000b__x000c_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”之所以把杨桃画成了“五个角的什么东西。”，是因为</a:t>
            </a:r>
            <a:r>
              <a:rPr b="1" lang="zh-CN" sz="2800" spc="-1" strike="noStrike">
                <a:solidFill>
                  <a:srgbClr val="ff0000"/>
                </a:solidFill>
                <a:latin typeface="_x000b__x000c_"/>
              </a:rPr>
              <a:t>____________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br>
              <a:rPr sz="2800"/>
            </a:b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87692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、我的座位在前排的地方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、我看到的杨桃根本不像平时看到的那样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而像是五个角的什么东西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、我认认真真地看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老老实实地画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</a:rPr>
              <a:t>自己觉得画得很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489744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25880"/>
            <a:ext cx="3504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22"/>
                </a:solidFill>
                <a:latin typeface="Times New Roman"/>
                <a:ea typeface="黑体"/>
              </a:rPr>
              <a:t>第一课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2222"/>
                </a:solidFill>
                <a:latin typeface="Times New Roman"/>
                <a:ea typeface="仿宋_GB2312"/>
              </a:rPr>
              <a:t>初读课文，整体感知，学会生字，初步理解部分词语和课文的大意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对比朗读教师与同学们的两次对话，体会“同学们”态度的变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这幅画画得像不像？”“不像！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它像什么？”“像五角星！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现在你看看还像杨桃吗？”“不……像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那么，像什么呢？”“像……五……五角星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好，下一个。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3048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幅画画得像不像？”“不像！”同学们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假思索地大声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“它像什么？”“像五角星！”大家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异口同声地回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现在你看看还像杨桃吗？”“不……像。”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那个同学发现他这时候看到的杨桃真像个五角星，有点难以置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“那么，像什么呢？”“像……五……五角星。”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迟迟疑疑地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8667720" y="-22320"/>
            <a:ext cx="18432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说话。老师请同学们坐到我的座位上看杨桃，请你想象当时的情景，同学们这一看，看出了怎样的结果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一看，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这一看，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这一看，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）这一看，同学们发现从“我”的角度看杨桃，它确实像个五角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）这一看，同学们知道嘲笑“我”是错的。他们的神态发生了变化，一个个脸色通红，说话结结巴巴。（学生表演朗读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）这一看，同学们都不好意思了，一个个脸羞得红红的。他们请求我的原谅。他们说：“对不起，我们不应该嘲笑你。你能实事求是地画出你看到的，是多么不容易。原谅我们吧！”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）这一看，同学们懂得不能想当然地嘲笑别人。要实事求是，设身处地，尊重别人的看法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（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）这一看，同学们理解了我。他们嘲笑我的时候，我没有流泪，而这时候，我却热泪盈眶，我的心里感到暖融融的，因为我得到了同学们的理解和尊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            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28360" y="2205000"/>
            <a:ext cx="7596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、同学们终于理解了我，那么是谁帮我解除了同学们对我的错误理解？（是 老师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   让我们来看看老师是怎么做的？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出示课文，读“审视”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　　老师看了看这幅画，走到我的座位坐下来，审视了一下讲桌上的杨桃，然后回到讲台，举起我的画问大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幅画画得像不像？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理解“审视”和老师为什么审视。“审视”是指审慎地观察。老师之所以要走到我的座位上坐下来，审视讲桌上的杨桃，是因为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27560"/>
            <a:ext cx="548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） 对我的图画感到有点惊讶，也想看个究竟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） 想保护“我”的自尊心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） 对同学们的嘲笑感到不满，想考证后教育孩子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） 他是一个严谨认真的教师，不想当然地评价学生，他要根据事实进行评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74160" y="189000"/>
            <a:ext cx="6984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、联系生活，想像拓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同学们，我们已经在这节画杨桃的图画课上认识了这个班级的老师、同学，还有那个画画特别认真的“我”，也了解了发生在他们中间的故事。现在，你想对他们说些什么呢？请选择其中一个人物，对他说几句话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我想对作者说：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我想对曾经嘲笑过“我”的孩子们说：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我想对循循善诱的老师说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_x000b__x000c_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。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25080" y="404640"/>
            <a:ext cx="9036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72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95320" y="-2289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四、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19360" y="914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学习这篇课文，让我们也明白了一个道理，那么在日常生活中你听到或遇到过像画杨桃这样的事情吗？在平日里你一定也听过一些使你受益的话，通过学习和联系自己生活实际你都有哪些体会、感受，从中你明白了什么道理。请你也拿起笔写一写你的这些体会、感受和明白的道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74160" y="6400800"/>
            <a:ext cx="6984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87640" y="692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熟  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79736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提起杨桃，大家都很熟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1890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sh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880" y="2492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2060640"/>
            <a:ext cx="504720" cy="1873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720" y="192096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h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360" y="314496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hó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33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108756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教  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636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h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8400" y="4314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781360"/>
            <a:ext cx="649440" cy="2519280"/>
          </a:xfrm>
          <a:custGeom>
            <a:avLst/>
            <a:gdLst>
              <a:gd name="textAreaLeft" fmla="*/ 415080 w 649440"/>
              <a:gd name="textAreaRight" fmla="*/ 649800 w 649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88400" y="2874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87640" y="6922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审  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3357720"/>
            <a:ext cx="54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详细，仔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审问，讯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知道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确，果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28920" y="1700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56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审”字哪个解释是正确的，请选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116064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平着看是：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(     )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2887560"/>
            <a:ext cx="75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抬头看是：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(     )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761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互相看是：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(     )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84360" y="234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悦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2492280"/>
            <a:ext cx="410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蔼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xi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总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189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和颜悦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24200" y="12682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77336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和”字哪个意思是正确的，请选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>
            <a:lum bright="70000"/>
          </a:blip>
          <a:stretch/>
        </p:blipFill>
        <p:spPr>
          <a:xfrm>
            <a:off x="8459640" y="61657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6:44:27Z</dcterms:created>
  <dc:creator>为您服务教育网　http://www.wsbedu.com/</dc:creator>
  <dc:description/>
  <dc:language>en-US</dc:language>
  <cp:lastModifiedBy>雨林木风</cp:lastModifiedBy>
  <dcterms:modified xsi:type="dcterms:W3CDTF">2011-02-16T12:57:22Z</dcterms:modified>
  <cp:revision>19</cp:revision>
  <dc:subject/>
  <dc:title>PowerPoint 演示文稿</dc:title>
</cp:coreProperties>
</file>