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31B-D28B-40FC-AEA7-585B6F0F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E72-BD5A-48CD-AE8F-1F931D26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160-527C-4A20-B519-EA3F5CEC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796-8F8D-4D57-8373-6A73365F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72A9-944E-4B1D-A035-3C67E3F2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7CF9-BC94-4251-9D81-B4E9B736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FDD0-E724-424A-AF0F-69133206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0A74-4A6B-46EE-8A1F-7D8171C4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9FDC-DB9C-4558-83E8-AF6F45D7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EFED-EC03-418E-89BD-4E10B20E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3006-752D-4907-B0C3-44F33CC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41B-812C-446B-8902-62702C2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8353-AAF2-4163-9A42-0CE0A373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6B1C-A55C-4F88-81D1-64CB58A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72D1-08A8-40AB-9D9D-238F7509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DC3B-824A-48EC-8286-05095884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E305-70E3-462C-9D7A-6243521F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CF7D-DCDB-4C18-A894-2FF03BB8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A590-0FA9-4C47-8B76-C60246C1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2DAD-ABEC-4967-9D8A-981500A0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1783-2759-4DFA-AA5C-5A052B7D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DEE4-4C59-4A72-9788-3DB70A58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50D-1566-4731-A191-F3CD57C0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12F9-D53C-4582-AD8D-FBDA9B95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4A21-2BC6-4BCB-A8C4-A3D0B9E0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54351-051D-45C9-B5E5-C7823F77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C7EB-86A2-4771-B025-F7E65FE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79A2-0606-47D1-B70E-6288B8AB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5BB3-527F-4BBF-8935-517CAEF0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0456-05E0-48C6-9638-6A64669B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8019A-C3D1-47F2-BF8F-5238E7F4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DCC35-6FB8-453F-9C0E-B852744E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DD24-2F81-4A52-B39A-DC9153EC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C07-0005-4263-A240-6905994F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286B-05A2-4198-859F-D0EAF0DD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77B65-C511-4130-A0E0-0A4352FD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537DD-0C1F-4D64-96ED-A0DB522C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A61B-D154-485B-8634-0CBD4E8D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7665-C7BB-4F15-AED9-7D9AD55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8336-CD82-455B-AFDB-03F48CF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EC78B-9805-4378-A769-946A5B6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1709-3CDC-43C7-8E9E-E6D1BCED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B8337-7699-49A8-B3F1-8725C092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357F-53BD-41A7-8DF9-BB13055A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B6C-1C66-404D-9F40-157BA7F3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A73C5-7A10-4877-8B9D-5EED69EE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2F017-B079-4158-A733-CC9796AE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8CD21-F2AC-4C36-BF80-12CBB7A1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DDBE-D103-48E8-8539-7842E720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556A-1585-4470-BF80-220530FC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DF74A-32C9-41EE-A6A3-C41A3EB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D2D4-5580-4DF9-99DC-64D38E9E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6DD68-420E-44AF-B5A6-65B85758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D70B-3361-4F91-ACF1-4E2F4281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0B43A-B0A7-4657-BCDD-9B764607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CD0-2E8D-47EA-A51C-8A96C450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7EE9-641B-44A6-BAC1-83CC5F63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C74E4-ABF3-4C91-A16C-BEB5F530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8F7C9-7B6D-4C50-9B98-429F5E9E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99F26-612A-4070-86DA-9FB15816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0F90A-365B-4E25-98FE-8A8FAB3F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69AEC-D745-435E-A08F-DFB1057A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059FF-7080-4BBF-AFEE-EE43B2C8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87228-8D5C-428D-9C55-CE3ED516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EB25E-522E-42BA-B2C7-894C0A2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7A0B7-88F1-4116-8DB4-D901174A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EB2-F3D0-4ECC-AF0D-1CAA658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525F-587D-4F9A-8059-9F5DEF24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4842-09F1-487E-82D9-D9991BC5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89276-8712-473D-B598-3A5D1149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414-6989-40B7-AA1C-7C23A64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632-4726-44AB-B7C1-775E4991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2EB9-0DDC-4A73-A116-D0157F826B0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AF9-56C1-4D74-B514-79C7C9E9F4C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B277-3036-4114-BAFD-C9CA4F7E9FD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9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9A46-5FE3-4EA3-9214-6CBF38E5671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72F3-4D69-4261-81ED-1C2529DF1EE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8664-3951-44CF-BB9A-4CE29DA8CC1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1371600" y="10666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杨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-324000" y="-458640"/>
            <a:ext cx="9468000" cy="79167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-252360" y="-316080"/>
            <a:ext cx="9396360" cy="7639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-396720" y="-387360"/>
            <a:ext cx="9540720" cy="77756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-252360" y="0"/>
            <a:ext cx="9396360" cy="7101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-396720" y="-458640"/>
            <a:ext cx="9540720" cy="75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68360" y="0"/>
            <a:ext cx="867564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提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画课上，“我”是怎么画杨桃的？为什么这样做？（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在课文中画出相关的句子，把自已的体会批注在旁边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了我画的杨桃，老师的神情发生了怎样的变化？为什么会发生变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和父亲的话有哪些相似处？在课文中画出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你从他们的话中明白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Comic Sans MS"/>
              </a:rPr>
              <a:t>我认认真真地看，老老实实地画，自已觉得画得很准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1692360" y="2492280"/>
            <a:ext cx="1871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64000" y="249228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95280" y="1268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认认真真地看，老老实实地画，自已觉得画得很准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350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认真地看，老实地画，自已觉得画得很准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191628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3280" y="198900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76360" y="41497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14972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你看见一件东西，是什么样的，就画成什么样，不要想当然，画走了样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5651640" y="3068640"/>
            <a:ext cx="194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42920" y="364500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06400" y="53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333360"/>
            <a:ext cx="417528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于是，老师请这几个同学轮流坐到我的座位上。他对第一个坐下的同学说：“现在你看看那杨桃，像你平时看到的杨桃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“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不……像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“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那么，像什么呢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“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像……五……五角星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5280" y="620640"/>
            <a:ext cx="4176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</a:rPr>
              <a:t>老师看了看这幅画儿，走到我的座位坐下来，审视了一下讲桌上的杨桃，然后回到讲台，举起我的画儿问大家：“这幅画儿画得像不像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Comic Sans MS"/>
              </a:rPr>
              <a:t>    “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</a:rPr>
              <a:t>不像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Comic Sans MS"/>
              </a:rPr>
              <a:t>    “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</a:rPr>
              <a:t>它像什么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Comic Sans MS"/>
              </a:rPr>
              <a:t>    “</a:t>
            </a:r>
            <a:r>
              <a:rPr b="0" lang="zh-CN" sz="2800" spc="-1" strike="noStrike">
                <a:solidFill>
                  <a:srgbClr val="080808"/>
                </a:solidFill>
                <a:latin typeface="Comic Sans MS"/>
              </a:rPr>
              <a:t>像五角星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549360"/>
            <a:ext cx="71280" cy="5975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71640" y="549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看见一件东西，是什么样的，就画成什么样，不要想当然，画走了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628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提起杨桃，大家都很熟悉。但是，看的角度不同，杨桃的样子也就不一样，有时候看起来真像个五角星。因此，当我们看见别人把杨桃画成五角星的时候，不要忙着发笑，要看看人家是从什么角度看的。我们应该相信自已的眼睛，看到的是什么样就画成什么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40360" y="62064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1197000"/>
            <a:ext cx="14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08720" y="5013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0" y="5516640"/>
            <a:ext cx="3097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270920" cy="34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作业加油站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1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有感情地朗读课文，背诵最后两个自然段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复述课文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5:17:07Z</dcterms:created>
  <dc:creator>COMMON</dc:creator>
  <dc:description/>
  <dc:language>en-US</dc:language>
  <cp:lastModifiedBy>lenovo</cp:lastModifiedBy>
  <dcterms:modified xsi:type="dcterms:W3CDTF">2011-11-16T11:53:11Z</dcterms:modified>
  <cp:revision>36</cp:revision>
  <dc:subject/>
  <dc:title>PowerPoint 演示文稿</dc:title>
</cp:coreProperties>
</file>