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128-EF2D-4A90-A6B3-3F1A78DD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4BD-6024-426E-A1F0-38FA4AD3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38A-CF30-49D6-8FF3-CB9F1685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DAA-1E05-40E9-AE8A-2C73182E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C1C-BEFF-4A43-A53A-E4004071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C32-ABA9-4EB7-9A87-C7015300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BF6-3BB1-4B05-A858-842EBAA3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E01-0450-4B01-8D63-8E0B21F0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1EF-5BB6-42F7-80ED-E3554C58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7FF-CACB-4892-AA6A-3A4DA92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B22-CD11-4F2E-B574-B46DDB82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790-0DE5-4BB0-BE72-94A10150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FE60-59BE-4417-AB28-CBF6F59865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91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2064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341000"/>
            <a:ext cx="6769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作业窗：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抄写生字词，牢记在脑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5757840" cy="451332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3"/>
          <a:srcRect l="0" t="0" r="0" b="10346"/>
          <a:stretch/>
        </p:blipFill>
        <p:spPr>
          <a:xfrm>
            <a:off x="1619280" y="1341360"/>
            <a:ext cx="5757840" cy="467856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690560" y="1341360"/>
            <a:ext cx="5769000" cy="467856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619280" y="1341360"/>
            <a:ext cx="5757840" cy="467856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693800" y="1414440"/>
            <a:ext cx="5757840" cy="4678560"/>
          </a:xfrm>
          <a:prstGeom prst="rect">
            <a:avLst/>
          </a:prstGeom>
          <a:ln w="76320">
            <a:solidFill>
              <a:srgbClr val="8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1619280" y="873000"/>
            <a:ext cx="5904000" cy="511200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9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7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628640"/>
            <a:ext cx="705672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黑体"/>
              </a:rPr>
              <a:t>         </a:t>
            </a: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黑体"/>
              </a:rPr>
              <a:t>阅读第一自然段，用“—”圈画出能体现槐花美的语句。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（有了答案，和大家交流交流。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417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山山洼洼，坡坡岗岗，似瑞雪初降，一片白茫茫。有的槐花抱在一起，远看像玉雕的圆球；有的槐花一条一条地挂满枝头，近看如维吾尔族姑娘披散在肩头上的小辫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417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山山洼洼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坡坡岗岗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瑞雪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初降，一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白茫茫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。有的槐花抱在一起，远看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玉雕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圆球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；有的槐花一条一条地挂满枝头，近看如维吾尔族姑娘披散在肩头上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辫儿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417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山山洼洼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坡坡岗岗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似瑞雪初降，一片白茫茫。有的槐花抱在一起，远看像玉雕的圆球；有的槐花一条一条地挂满枝头，近看如维吾尔族姑娘披散在肩头上的小辫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417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山山洼洼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坡坡岗岗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瑞雪初降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一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白茫茫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。有的槐花抱在一起，远看像玉雕的圆球；有的槐花一条一条地挂满枝头，近看如维吾尔族姑娘披散在肩头上的小辫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417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山山洼洼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坡坡岗岗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瑞雪初降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一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白茫茫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。有的槐花抱在一起，远看像玉雕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圆球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；有的槐花一条一条地挂满枝头，近看如维吾尔族姑娘披散在肩头上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辫儿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0" t="0" r="0" b="10342"/>
          <a:stretch/>
        </p:blipFill>
        <p:spPr>
          <a:xfrm>
            <a:off x="1187280" y="1052640"/>
            <a:ext cx="6697800" cy="496872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58920" y="1052640"/>
            <a:ext cx="6553080" cy="482436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16000" y="1052640"/>
            <a:ext cx="6769080" cy="504036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7280" y="907920"/>
            <a:ext cx="6769440" cy="504036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60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191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417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山山洼洼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坡坡岗岗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瑞雪初降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一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白茫茫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。有的槐花抱在一起，远看像玉雕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圆球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；有的槐花一条一条地挂满枝头，近看如维吾尔族姑娘披散在肩头上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辫儿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3824280" y="-216000"/>
            <a:ext cx="1711440" cy="5832720"/>
          </a:xfrm>
          <a:custGeom>
            <a:avLst/>
            <a:gdLst>
              <a:gd name="textAreaLeft" fmla="*/ 83520 w 1711440"/>
              <a:gd name="textAreaRight" fmla="*/ 1627920 w 1711440"/>
              <a:gd name="textAreaTop" fmla="*/ 83520 h 5832720"/>
              <a:gd name="textAreaBottom" fmla="*/ 5749200 h 5832720"/>
            </a:gdLst>
            <a:ahLst/>
            <a:rect l="textAreaLeft" t="textAreaTop" r="textAreaRight" b="textAreaBottom"/>
            <a:pathLst>
              <a:path w="21600" h="73604">
                <a:moveTo>
                  <a:pt x="3600" y="0"/>
                </a:moveTo>
                <a:arcTo wR="3600" hR="3600" stAng="16200000" swAng="-5400000"/>
                <a:lnTo>
                  <a:pt x="0" y="70004"/>
                </a:lnTo>
                <a:arcTo wR="3600" hR="3600" stAng="10800000" swAng="-5400000"/>
                <a:lnTo>
                  <a:pt x="18000" y="73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00360" y="206064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槐乡五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191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129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似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。有的槐花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远看像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；有的槐花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近看如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五月，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槐花飘香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的季节，是槐乡孩子的季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6842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黑体"/>
              </a:rPr>
              <a:t>        </a:t>
            </a: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黑体"/>
              </a:rPr>
              <a:t>默读课文一、二两自然段，圈画出具体描写“槐花飘香”的语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6913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黑体"/>
              </a:rPr>
              <a:t>默读课文一、二两自然段，圈画出具体描写“槐花飘香”的语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8880" y="69516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20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午，桌上就摆出了香喷喷的槐花饭，清香、醇香、浓香……这时候，连风打的旋儿都香气扑鼻，整个槐乡都浸在香海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8880" y="69516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20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午，桌上就摆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喷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槐花饭，清香、醇香、浓香……这时候，连风打的旋儿都香气扑鼻，整个槐乡都浸在香海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8880" y="69516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20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午，桌上就摆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喷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槐花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清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醇香、浓香……这时候，连风打的旋儿都香气扑鼻，整个槐乡都浸在香海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8880" y="69516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20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午，桌上就摆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喷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槐花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清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醇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浓香……这时候，连风打的旋儿都香气扑鼻，整个槐乡都浸在香海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8880" y="69516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20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午，桌上就摆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喷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槐花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清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醇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浓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……这时候，连风打的旋儿都香气扑鼻，整个槐乡都浸在香海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8880" y="69516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20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午，桌上就摆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喷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槐花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清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醇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浓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……这时候，连风打的旋儿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气扑鼻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整个槐乡都浸在香海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20720" y="692280"/>
            <a:ext cx="7702560" cy="54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1267920"/>
            <a:ext cx="7201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说一说：</a:t>
            </a:r>
            <a:br>
              <a:rPr sz="4400"/>
            </a:b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br>
              <a:rPr sz="4400"/>
            </a:b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    你的脑海中浮现出了哪些画面？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8880" y="69516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20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午，桌上就摆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喷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槐花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清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醇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浓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……这时候，连风打的旋儿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气扑鼻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整个槐乡都浸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8880" y="69516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20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午，桌上就摆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喷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槐花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清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醇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浓香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这时候，连风打的旋儿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气扑鼻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整个槐乡都浸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20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午，桌上就摆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喷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槐花饭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清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醇香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浓香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这时候，连风打的旋儿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气扑鼻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，整个槐乡都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楷体_GB2312"/>
              </a:rPr>
              <a:t>浸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76680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662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在洋槐开花的季节，只要哪位小朋友走进槐乡，他呀，准会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气熏醉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了，傻乎乎地卧在槐树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想回家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360" y="4941360"/>
            <a:ext cx="6408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五月，是槐花飘香的季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6913800" cy="388800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6920" y="1341000"/>
            <a:ext cx="69138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五月，是槐花飘香的季节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是槐乡孩子的季节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4360" y="1137960"/>
            <a:ext cx="727236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默读二、三自然段，想一想：</a:t>
            </a:r>
            <a:br>
              <a:rPr sz="4000"/>
            </a:br>
            <a:r>
              <a:rPr b="0" lang="zh-CN" sz="4000" spc="-1" strike="noStrike">
                <a:solidFill>
                  <a:srgbClr val="6600ff"/>
                </a:solidFill>
                <a:latin typeface="Arial"/>
                <a:ea typeface="黑体"/>
              </a:rPr>
              <a:t>        为什么说五月是孩子的季节？用“——”圈画出相关语句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。 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（有了答案，和同学们一起交流交流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91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好客的槐乡孩子就会把他拉到家中，请他美美地吃上一顿槐花饭。槐花饭是用大米拌槐花蒸的。吃咸的，浇上麻油、蒜泥、陈醋；吃甜的，撒上炒芝麻、拌上槐花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691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小朋友临走时，槐乡的孩子还会送他一大包蒸过晒干的槐花，外加一小罐清亮清亮的槐花新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129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小姑娘变得更俊俏了，她们的衣襟上别着槐花，发辫上戴着槐花，她们飘到哪里，哪里就会有一阵清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720" y="692280"/>
            <a:ext cx="7702560" cy="54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1052640"/>
            <a:ext cx="7056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．读准字音，读通课文。</a:t>
            </a:r>
            <a:br>
              <a:rPr sz="4400"/>
            </a:br>
            <a:r>
              <a:rPr b="0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．想一想：课文从哪些方面写了五月的槐乡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129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小小子呢，衣裤的口袋里装的是槐花，手上拿的还是槐花。他们大大咧咧的，不时就朝嘴里塞上一把，甜丝丝、香喷喷的，可真有口福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91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姑娘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变得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俊俏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了，她们的衣襟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别着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花，发辫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戴着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花，她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飘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到哪里，哪里就会有一阵清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7488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小小子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呢，衣裤的口袋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装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的是槐花，手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拿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的还是槐花。他们大大咧咧的，不时就朝嘴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塞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上一把，甜丝丝、香喷喷的，可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有口福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34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姑娘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变得更俊俏了，她们的衣襟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别着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花，发辫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戴着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花，她们飘到哪里，哪里就会有一阵清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4560" y="1052640"/>
            <a:ext cx="7129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乡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姑娘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变得更俊俏了，她们的衣襟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别着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花，发辫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戴着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槐花，她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飘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到哪里，哪里就会有一阵清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980640"/>
            <a:ext cx="7129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小子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呢，衣裤的口袋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装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是槐花，手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拿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的还是槐花。他们大大咧咧的，不时就朝嘴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塞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上一把，甜丝丝、香喷喷的，可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有口福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1063" t="0" r="0" b="0"/>
          <a:stretch/>
        </p:blipFill>
        <p:spPr>
          <a:xfrm>
            <a:off x="1258920" y="1052640"/>
            <a:ext cx="6626160" cy="3887640"/>
          </a:xfrm>
          <a:prstGeom prst="rect">
            <a:avLst/>
          </a:prstGeom>
          <a:ln w="17460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"/>
          <p:cNvSpPr/>
          <p:nvPr/>
        </p:nvSpPr>
        <p:spPr>
          <a:xfrm>
            <a:off x="1474920" y="465300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515772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五月，是槐乡孩子的季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12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我为槐乡来拍照</a:t>
            </a:r>
            <a:br>
              <a:rPr sz="4000"/>
            </a:b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232000" cy="168300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2376720" cy="1627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922560" y="1916280"/>
            <a:ext cx="3990960" cy="4033800"/>
          </a:xfrm>
          <a:prstGeom prst="rect">
            <a:avLst/>
          </a:prstGeom>
          <a:ln w="7632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0720" y="692280"/>
            <a:ext cx="7702560" cy="54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4520" y="62064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68407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洋槐  肩头  芝麻  咸的  摆</a:t>
            </a:r>
            <a:br>
              <a:rPr sz="4000"/>
            </a:b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蒜泥  一顿饭 挎篮子 拌  炒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山山洼洼  嗡嗡  酿蜜  醇香  浸  熏醉  陈醋  小罐  俊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0720" y="692280"/>
            <a:ext cx="7702560" cy="54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68407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洋槐  肩头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芝麻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咸的  摆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蒜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泥  一顿饭 挎篮子 拌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炒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山山洼洼  嗡嗡  酿蜜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醇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香  浸  熏醉  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醋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小罐  俊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064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读词语</a:t>
            </a:r>
            <a:r>
              <a:rPr b="0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,</a:t>
            </a:r>
            <a:r>
              <a:rPr b="0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体会特点</a:t>
            </a:r>
            <a:br>
              <a:rPr sz="4000"/>
            </a:b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白茫茫    白生生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（颜色）</a:t>
            </a:r>
            <a:br>
              <a:rPr sz="4000"/>
            </a:b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香喷喷    甜丝丝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（味道）</a:t>
            </a:r>
            <a:br>
              <a:rPr sz="4000"/>
            </a:b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喜盈盈    傻乎乎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（样子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56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槐   肩   挎   摆  </a:t>
            </a:r>
            <a:br>
              <a:rPr sz="4800"/>
            </a:b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顿   拌   咸   蒜  </a:t>
            </a:r>
            <a:br>
              <a:rPr sz="4800"/>
            </a:b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炒   芝   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4360" y="585720"/>
            <a:ext cx="777384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561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槐</a:t>
            </a: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肩   挎   摆  </a:t>
            </a:r>
            <a:br>
              <a:rPr sz="4800"/>
            </a:b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顿</a:t>
            </a: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拌   咸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蒜</a:t>
            </a: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4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炒   芝   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01:17:27Z</dcterms:created>
  <dc:creator>USER</dc:creator>
  <dc:description/>
  <dc:language>en-US</dc:language>
  <cp:lastModifiedBy>制作中心</cp:lastModifiedBy>
  <dcterms:modified xsi:type="dcterms:W3CDTF">2007-11-09T02:17:28Z</dcterms:modified>
  <cp:revision>84</cp:revision>
  <dc:subject/>
  <dc:title>“词典”</dc:title>
</cp:coreProperties>
</file>