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chimes.wav" ContentType="audio/x-wav"/>
  <Override PartName="/ppt/media/image16.jpeg" ContentType="image/jpeg"/>
  <Override PartName="/ppt/media/image21.gif" ContentType="image/gif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23.png" ContentType="image/png"/>
  <Override PartName="/ppt/media/image13.jpeg" ContentType="image/jpeg"/>
  <Override PartName="/ppt/media/image4.png" ContentType="image/pn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5CF8-CE44-4FBE-857A-8B6BBCD7A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020E-0BD0-4E01-AC39-FA0976272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8BAD-CFF2-45E1-A119-2E5AE8C5A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DB33-B84E-4626-BEB8-3BBD8B943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29ED1-8259-4BD2-8B2C-CFF83E04E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6C26D-E3B7-4B2D-8659-4193F1535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D4083-5B83-4D3C-955D-D9DB14E96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B6745-3A60-4D75-BD3F-10689D6AD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682DE-C9D6-4FE1-B8EB-EC01C308A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963C2-AEB1-4A53-8DF5-4EEDF83F1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1AFFC-7867-4403-A3DB-AB1C116D2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699C-F79F-42CA-BE80-05B03F7C2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FC942-5598-45D0-BB1F-64A454105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E868C-ADBA-46CA-8634-C6BAB6FA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67CA4-C27C-4F1D-8AD0-EF1C5FEAF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5E59D-8E98-42A0-92FD-A8E553CAF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607E4-9112-42AC-A381-7DDF9D15A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F13CF-4D19-4C2E-9898-276710C26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42FB4-4016-4EF5-8099-871AA58D7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FB0A6-1903-4B64-B564-0CFDB8978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0A09A-E2C0-47A1-AD00-4E95526D3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654A7-6F99-44B6-A208-E957158F9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25FF-1679-4710-AECB-57A5612FD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223C5-51AE-41E6-B75C-E0D2A5E30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21D54-DA0E-401A-AA72-D89FF163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4803C-A2EC-49C1-AE71-1D873EDC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FDE55-608D-4FD0-8398-6DB5CC81B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DDC6D-5DC5-4ED8-8B20-7554D1D4F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C63C2-B59F-4F96-BC6B-529C4F5EF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C03E0-2798-45C0-8584-51AF2BD8E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6107-4022-48B8-A99D-44E709F55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BE8F-18E8-4FA0-8457-98313A688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582F-C83A-40DC-A89A-C0C8B01FF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22DE-FC90-417C-ADF4-02C3F2332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3F72-4A02-415F-BAE0-A5B7E7BFA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5883-B1EC-440E-8DE0-671450C1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CC0E6-088F-42B5-BB2E-ED1FC37F4B6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71D16-73D6-4400-9E19-843BCDC2CD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F5885-AE78-460A-83EC-57989E13BC4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7.xml"/><Relationship Id="rId3" Type="http://schemas.openxmlformats.org/officeDocument/2006/relationships/slide" Target="slide32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2.jpeg"/><Relationship Id="rId3" Type="http://schemas.openxmlformats.org/officeDocument/2006/relationships/image" Target="../media/image18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2.jpeg"/><Relationship Id="rId3" Type="http://schemas.openxmlformats.org/officeDocument/2006/relationships/image" Target="../media/image18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" Target="slide7.xml"/><Relationship Id="rId8" Type="http://schemas.openxmlformats.org/officeDocument/2006/relationships/slide" Target="slide32.xml"/><Relationship Id="rId9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7.xml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image" Target="../media/image21.gif"/><Relationship Id="rId4" Type="http://schemas.openxmlformats.org/officeDocument/2006/relationships/image" Target="../media/image21.gif"/><Relationship Id="rId5" Type="http://schemas.openxmlformats.org/officeDocument/2006/relationships/image" Target="../media/image21.gif"/><Relationship Id="rId6" Type="http://schemas.openxmlformats.org/officeDocument/2006/relationships/image" Target="../media/image21.gif"/><Relationship Id="rId7" Type="http://schemas.openxmlformats.org/officeDocument/2006/relationships/slide" Target="slide14.xml"/><Relationship Id="rId8" Type="http://schemas.openxmlformats.org/officeDocument/2006/relationships/image" Target="../media/image22.jpeg"/><Relationship Id="rId9" Type="http://schemas.openxmlformats.org/officeDocument/2006/relationships/slide" Target="slide7.xml"/><Relationship Id="rId10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" Target="slide27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826920" y="5805360"/>
            <a:ext cx="505080" cy="5050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-1015560" y="792000"/>
            <a:ext cx="2923560" cy="46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0" spc="-1" strike="noStrike">
                <a:solidFill>
                  <a:srgbClr val="ffff66"/>
                </a:solidFill>
                <a:latin typeface="Arial"/>
                <a:ea typeface="楷体_GB2312"/>
              </a:rPr>
              <a:t>槐乡五月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83624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"/>
          <p:cNvGrpSpPr/>
          <p:nvPr/>
        </p:nvGrpSpPr>
        <p:grpSpPr>
          <a:xfrm>
            <a:off x="0" y="0"/>
            <a:ext cx="9144000" cy="404640"/>
            <a:chOff x="0" y="0"/>
            <a:chExt cx="9144000" cy="404640"/>
          </a:xfrm>
        </p:grpSpPr>
        <p:sp>
          <p:nvSpPr>
            <p:cNvPr id="226" name=""/>
            <p:cNvSpPr/>
            <p:nvPr/>
          </p:nvSpPr>
          <p:spPr>
            <a:xfrm>
              <a:off x="0" y="0"/>
              <a:ext cx="9144000" cy="37620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0" y="404640"/>
              <a:ext cx="9144000" cy="0"/>
            </a:xfrm>
            <a:prstGeom prst="line">
              <a:avLst/>
            </a:prstGeom>
            <a:ln w="7632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0" y="6453360"/>
            <a:ext cx="9144000" cy="404640"/>
            <a:chOff x="0" y="6453360"/>
            <a:chExt cx="9144000" cy="404640"/>
          </a:xfrm>
        </p:grpSpPr>
        <p:sp>
          <p:nvSpPr>
            <p:cNvPr id="229" name=""/>
            <p:cNvSpPr/>
            <p:nvPr/>
          </p:nvSpPr>
          <p:spPr>
            <a:xfrm>
              <a:off x="0" y="6481800"/>
              <a:ext cx="9144000" cy="37620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0" y="6453360"/>
              <a:ext cx="9144000" cy="0"/>
            </a:xfrm>
            <a:prstGeom prst="line">
              <a:avLst/>
            </a:prstGeom>
            <a:ln w="7632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3780000" y="476280"/>
            <a:ext cx="5364000" cy="357516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0" y="364500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4000" y="2997360"/>
            <a:ext cx="8424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84360" y="2205000"/>
            <a:ext cx="7416720" cy="30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槐乡的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山山洼洼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坡坡岗岗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，似瑞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初降，一片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白茫茫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>
            <a:hlinkClick r:id="rId2" action="ppaction://hlinksldjump"/>
          </p:cNvPr>
          <p:cNvSpPr/>
          <p:nvPr/>
        </p:nvSpPr>
        <p:spPr>
          <a:xfrm>
            <a:off x="395280" y="5877000"/>
            <a:ext cx="360360" cy="4316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31640"/>
              <a:gd name="textAreaBottom" fmla="*/ 408600 h 431640"/>
            </a:gdLst>
            <a:ahLst/>
            <a:rect l="textAreaLeft" t="textAreaTop" r="textAreaRight" b="textAreaBottom"/>
            <a:pathLst>
              <a:path w="21600" h="25868">
                <a:moveTo>
                  <a:pt x="0" y="0"/>
                </a:moveTo>
                <a:lnTo>
                  <a:pt x="21600" y="0"/>
                </a:lnTo>
                <a:lnTo>
                  <a:pt x="21600" y="25868"/>
                </a:lnTo>
                <a:lnTo>
                  <a:pt x="0" y="25868"/>
                </a:lnTo>
                <a:close/>
              </a:path>
              <a:path fill="lightenLess" w="21600" h="2586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868">
                <a:moveTo>
                  <a:pt x="21600" y="0"/>
                </a:moveTo>
                <a:lnTo>
                  <a:pt x="21600" y="25868"/>
                </a:lnTo>
                <a:lnTo>
                  <a:pt x="20200" y="24468"/>
                </a:lnTo>
                <a:lnTo>
                  <a:pt x="20200" y="1400"/>
                </a:lnTo>
                <a:close/>
              </a:path>
              <a:path fill="darkenLess" w="21600" h="25868">
                <a:moveTo>
                  <a:pt x="21600" y="25868"/>
                </a:moveTo>
                <a:lnTo>
                  <a:pt x="0" y="25868"/>
                </a:lnTo>
                <a:lnTo>
                  <a:pt x="1400" y="24468"/>
                </a:lnTo>
                <a:lnTo>
                  <a:pt x="20200" y="24468"/>
                </a:lnTo>
                <a:close/>
              </a:path>
              <a:path fill="lighten" w="21600" h="25868">
                <a:moveTo>
                  <a:pt x="0" y="25868"/>
                </a:moveTo>
                <a:lnTo>
                  <a:pt x="0" y="0"/>
                </a:lnTo>
                <a:lnTo>
                  <a:pt x="1400" y="1400"/>
                </a:lnTo>
                <a:lnTo>
                  <a:pt x="1400" y="24468"/>
                </a:lnTo>
                <a:close/>
              </a:path>
              <a:path fill="darken" w="21600" h="25868">
                <a:moveTo>
                  <a:pt x="3794" y="12934"/>
                </a:moveTo>
                <a:lnTo>
                  <a:pt x="17806" y="5928"/>
                </a:lnTo>
                <a:lnTo>
                  <a:pt x="17806" y="19941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>
            <a:hlinkClick r:id="rId3" action="ppaction://hlinksldjump"/>
          </p:cNvPr>
          <p:cNvSpPr/>
          <p:nvPr/>
        </p:nvSpPr>
        <p:spPr>
          <a:xfrm>
            <a:off x="8532720" y="5950080"/>
            <a:ext cx="432000" cy="3585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6020" h="21600">
                <a:moveTo>
                  <a:pt x="0" y="0"/>
                </a:moveTo>
                <a:lnTo>
                  <a:pt x="26020" y="0"/>
                </a:lnTo>
                <a:lnTo>
                  <a:pt x="26020" y="21600"/>
                </a:lnTo>
                <a:lnTo>
                  <a:pt x="0" y="21600"/>
                </a:lnTo>
                <a:close/>
              </a:path>
              <a:path fill="lightenLess" w="26020" h="21600">
                <a:moveTo>
                  <a:pt x="0" y="0"/>
                </a:moveTo>
                <a:lnTo>
                  <a:pt x="26020" y="0"/>
                </a:lnTo>
                <a:lnTo>
                  <a:pt x="24620" y="1400"/>
                </a:lnTo>
                <a:lnTo>
                  <a:pt x="1400" y="1400"/>
                </a:lnTo>
                <a:close/>
              </a:path>
              <a:path fill="darken" w="26020" h="21600">
                <a:moveTo>
                  <a:pt x="26020" y="0"/>
                </a:moveTo>
                <a:lnTo>
                  <a:pt x="26020" y="21600"/>
                </a:lnTo>
                <a:lnTo>
                  <a:pt x="24620" y="20200"/>
                </a:lnTo>
                <a:lnTo>
                  <a:pt x="24620" y="1400"/>
                </a:lnTo>
                <a:close/>
              </a:path>
              <a:path fill="darkenLess" w="26020" h="21600">
                <a:moveTo>
                  <a:pt x="260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20" y="20200"/>
                </a:lnTo>
                <a:close/>
              </a:path>
              <a:path fill="lighten" w="260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20" h="21600">
                <a:moveTo>
                  <a:pt x="6003" y="3794"/>
                </a:moveTo>
                <a:lnTo>
                  <a:pt x="20016" y="10800"/>
                </a:lnTo>
                <a:lnTo>
                  <a:pt x="6003" y="17806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"/>
          <p:cNvGrpSpPr/>
          <p:nvPr/>
        </p:nvGrpSpPr>
        <p:grpSpPr>
          <a:xfrm>
            <a:off x="0" y="0"/>
            <a:ext cx="9144000" cy="404640"/>
            <a:chOff x="0" y="0"/>
            <a:chExt cx="9144000" cy="404640"/>
          </a:xfrm>
        </p:grpSpPr>
        <p:sp>
          <p:nvSpPr>
            <p:cNvPr id="238" name=""/>
            <p:cNvSpPr/>
            <p:nvPr/>
          </p:nvSpPr>
          <p:spPr>
            <a:xfrm>
              <a:off x="0" y="0"/>
              <a:ext cx="9144000" cy="37620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0" y="404640"/>
              <a:ext cx="9144000" cy="0"/>
            </a:xfrm>
            <a:prstGeom prst="line">
              <a:avLst/>
            </a:prstGeom>
            <a:ln w="7632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0" y="6453360"/>
            <a:ext cx="9144000" cy="404640"/>
            <a:chOff x="0" y="6453360"/>
            <a:chExt cx="9144000" cy="404640"/>
          </a:xfrm>
        </p:grpSpPr>
        <p:sp>
          <p:nvSpPr>
            <p:cNvPr id="241" name=""/>
            <p:cNvSpPr/>
            <p:nvPr/>
          </p:nvSpPr>
          <p:spPr>
            <a:xfrm>
              <a:off x="0" y="6481800"/>
              <a:ext cx="9144000" cy="37620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0" y="6453360"/>
              <a:ext cx="9144000" cy="0"/>
            </a:xfrm>
            <a:prstGeom prst="line">
              <a:avLst/>
            </a:prstGeom>
            <a:ln w="7632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3780000" y="404640"/>
            <a:ext cx="5364000" cy="280836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0" y="364500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299736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900" spc="-1" strike="noStrike">
                <a:solidFill>
                  <a:srgbClr val="000000"/>
                </a:solidFill>
                <a:latin typeface="Arial"/>
              </a:rPr>
              <a:t>有的槐花抱在一起，远看像玉雕的圆球</a:t>
            </a:r>
            <a:r>
              <a:rPr b="1" lang="zh-CN" sz="39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3900" spc="-1" strike="noStrike">
                <a:solidFill>
                  <a:srgbClr val="000000"/>
                </a:solidFill>
                <a:latin typeface="Arial"/>
              </a:rPr>
              <a:t>有的槐花一条一条地挂满枝头，近看如维吾尔族姑娘披散在肩头上的小辫儿。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4500720" y="0"/>
            <a:ext cx="4643280" cy="371628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468360" y="4508640"/>
            <a:ext cx="813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有的槐花抱在一起，远看像玉雕的圆球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4500720" y="0"/>
            <a:ext cx="4643280" cy="37162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468360" y="4508640"/>
            <a:ext cx="813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有的槐花抱在一起，远看像玉雕的圆球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00720" cy="3778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4500720" y="0"/>
            <a:ext cx="4643280" cy="37162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468360" y="4508640"/>
            <a:ext cx="813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有的槐花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抱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在一起，远看像玉雕的圆球。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也会写：——像——。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00720" cy="377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4500720" y="0"/>
            <a:ext cx="4643280" cy="371628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468360" y="4508640"/>
            <a:ext cx="813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有的槐花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抱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在一起，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远看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像玉雕的圆球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00720" cy="377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508464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508464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539640" y="530064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的槐花一条一条地挂满枝头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近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维吾尔族姑娘披散在肩头上的小辫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"/>
          <p:cNvGrpSpPr/>
          <p:nvPr/>
        </p:nvGrpSpPr>
        <p:grpSpPr>
          <a:xfrm>
            <a:off x="0" y="0"/>
            <a:ext cx="9144000" cy="404640"/>
            <a:chOff x="0" y="0"/>
            <a:chExt cx="9144000" cy="404640"/>
          </a:xfrm>
        </p:grpSpPr>
        <p:sp>
          <p:nvSpPr>
            <p:cNvPr id="266" name=""/>
            <p:cNvSpPr/>
            <p:nvPr/>
          </p:nvSpPr>
          <p:spPr>
            <a:xfrm>
              <a:off x="0" y="0"/>
              <a:ext cx="9144000" cy="37620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0" y="404640"/>
              <a:ext cx="9144000" cy="0"/>
            </a:xfrm>
            <a:prstGeom prst="line">
              <a:avLst/>
            </a:prstGeom>
            <a:ln w="7632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0" y="6453360"/>
            <a:ext cx="9144000" cy="404640"/>
            <a:chOff x="0" y="6453360"/>
            <a:chExt cx="9144000" cy="404640"/>
          </a:xfrm>
        </p:grpSpPr>
        <p:sp>
          <p:nvSpPr>
            <p:cNvPr id="269" name=""/>
            <p:cNvSpPr/>
            <p:nvPr/>
          </p:nvSpPr>
          <p:spPr>
            <a:xfrm>
              <a:off x="0" y="6481800"/>
              <a:ext cx="9144000" cy="37620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0" y="6453360"/>
              <a:ext cx="9144000" cy="0"/>
            </a:xfrm>
            <a:prstGeom prst="line">
              <a:avLst/>
            </a:prstGeom>
            <a:ln w="7632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3780000" y="476280"/>
            <a:ext cx="5364000" cy="357516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0" y="364500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24000" y="2997360"/>
            <a:ext cx="842472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900" spc="-1" strike="noStrike">
                <a:solidFill>
                  <a:srgbClr val="000000"/>
                </a:solidFill>
                <a:latin typeface="Arial"/>
              </a:rPr>
              <a:t>有的槐花抱在一起，远看像玉雕的圆球</a:t>
            </a:r>
            <a:r>
              <a:rPr b="1" lang="zh-CN" sz="39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3900" spc="-1" strike="noStrike">
                <a:solidFill>
                  <a:srgbClr val="000000"/>
                </a:solidFill>
                <a:latin typeface="Arial"/>
              </a:rPr>
              <a:t>有的槐花一条一条地挂满枝头，近看如维吾尔族姑娘披散在肩头上的小辫儿。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"/>
          <p:cNvGrpSpPr/>
          <p:nvPr/>
        </p:nvGrpSpPr>
        <p:grpSpPr>
          <a:xfrm>
            <a:off x="0" y="0"/>
            <a:ext cx="9144000" cy="404640"/>
            <a:chOff x="0" y="0"/>
            <a:chExt cx="9144000" cy="404640"/>
          </a:xfrm>
        </p:grpSpPr>
        <p:sp>
          <p:nvSpPr>
            <p:cNvPr id="275" name=""/>
            <p:cNvSpPr/>
            <p:nvPr/>
          </p:nvSpPr>
          <p:spPr>
            <a:xfrm>
              <a:off x="0" y="0"/>
              <a:ext cx="9144000" cy="37620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0" y="404640"/>
              <a:ext cx="9144000" cy="0"/>
            </a:xfrm>
            <a:prstGeom prst="line">
              <a:avLst/>
            </a:prstGeom>
            <a:ln w="7632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0" y="6453360"/>
            <a:ext cx="9144000" cy="404640"/>
            <a:chOff x="0" y="6453360"/>
            <a:chExt cx="9144000" cy="404640"/>
          </a:xfrm>
        </p:grpSpPr>
        <p:sp>
          <p:nvSpPr>
            <p:cNvPr id="278" name=""/>
            <p:cNvSpPr/>
            <p:nvPr/>
          </p:nvSpPr>
          <p:spPr>
            <a:xfrm>
              <a:off x="0" y="6481800"/>
              <a:ext cx="9144000" cy="37620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0" y="6453360"/>
              <a:ext cx="9144000" cy="0"/>
            </a:xfrm>
            <a:prstGeom prst="line">
              <a:avLst/>
            </a:prstGeom>
            <a:ln w="7632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3780000" y="476280"/>
            <a:ext cx="5364000" cy="357516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0" y="364500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24000" y="2997360"/>
            <a:ext cx="842472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900" spc="-1" strike="noStrike">
                <a:solidFill>
                  <a:srgbClr val="000000"/>
                </a:solidFill>
                <a:latin typeface="Arial"/>
              </a:rPr>
              <a:t>有的槐花抱在一起，远看像玉雕的圆球</a:t>
            </a:r>
            <a:r>
              <a:rPr b="1" lang="zh-CN" sz="39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3900" spc="-1" strike="noStrike">
                <a:solidFill>
                  <a:srgbClr val="000000"/>
                </a:solidFill>
                <a:latin typeface="Arial"/>
              </a:rPr>
              <a:t>有的槐花一条一条地挂满枝头，近看如维吾尔族姑娘披散在肩头上的小辫儿</a:t>
            </a:r>
            <a:r>
              <a:rPr b="1" lang="zh-CN" sz="3900" spc="-1" strike="noStrike">
                <a:solidFill>
                  <a:srgbClr val="ff0000"/>
                </a:solidFill>
                <a:latin typeface="Arial"/>
              </a:rPr>
              <a:t>……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611280" y="5734080"/>
            <a:ext cx="504720" cy="50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1" dur="1" fill="hold"/>
                                        <p:tgtEl>
                                          <p:spTgt spid="2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1015560" y="792000"/>
            <a:ext cx="2923560" cy="46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0" spc="-1" strike="noStrike">
                <a:solidFill>
                  <a:srgbClr val="ffff66"/>
                </a:solidFill>
                <a:latin typeface="Arial"/>
                <a:ea typeface="楷体_GB2312"/>
              </a:rPr>
              <a:t>槐乡五月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84720" y="5734080"/>
            <a:ext cx="61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福鼎市实验小学  郑晓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-250920" y="-176040"/>
            <a:ext cx="9394920" cy="7034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8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48000" cy="299736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3203640" y="0"/>
            <a:ext cx="3240000" cy="299736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3"/>
          <a:stretch/>
        </p:blipFill>
        <p:spPr>
          <a:xfrm>
            <a:off x="6372360" y="0"/>
            <a:ext cx="2771640" cy="299736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0" y="2997360"/>
            <a:ext cx="3203640" cy="259236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3203640" y="2997360"/>
            <a:ext cx="3240000" cy="259236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6"/>
          <a:stretch/>
        </p:blipFill>
        <p:spPr>
          <a:xfrm>
            <a:off x="6443640" y="2997360"/>
            <a:ext cx="2700360" cy="259236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0" y="5734080"/>
            <a:ext cx="88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有的槐花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＿＿＿＿＿＿＿，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像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＿＿＿＿＿＿＿＿＿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48000" cy="299736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3203640" y="0"/>
            <a:ext cx="3240000" cy="299736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3"/>
          <a:stretch/>
        </p:blipFill>
        <p:spPr>
          <a:xfrm>
            <a:off x="6372360" y="0"/>
            <a:ext cx="2771640" cy="29973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4"/>
          <a:stretch/>
        </p:blipFill>
        <p:spPr>
          <a:xfrm>
            <a:off x="0" y="2997360"/>
            <a:ext cx="3203640" cy="259236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5"/>
          <a:stretch/>
        </p:blipFill>
        <p:spPr>
          <a:xfrm>
            <a:off x="3203640" y="2997360"/>
            <a:ext cx="3240000" cy="259236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6"/>
          <a:stretch/>
        </p:blipFill>
        <p:spPr>
          <a:xfrm>
            <a:off x="6443640" y="2997360"/>
            <a:ext cx="2700360" cy="259236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0" y="5734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Times New Roman"/>
              </a:rPr>
              <a:t>有的槐花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＿＿＿＿＿＿，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</a:rPr>
              <a:t>像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＿＿＿＿＿＿……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</a:rPr>
              <a:t>真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       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>
            <a:hlinkClick r:id="rId7" action="ppaction://hlinksldjump"/>
          </p:cNvPr>
          <p:cNvSpPr/>
          <p:nvPr/>
        </p:nvSpPr>
        <p:spPr>
          <a:xfrm>
            <a:off x="1908000" y="6497640"/>
            <a:ext cx="358920" cy="360360"/>
          </a:xfrm>
          <a:custGeom>
            <a:avLst/>
            <a:gdLst>
              <a:gd name="textAreaLeft" fmla="*/ 23040 w 358920"/>
              <a:gd name="textAreaRight" fmla="*/ 335880 w 35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87">
                <a:moveTo>
                  <a:pt x="0" y="0"/>
                </a:moveTo>
                <a:lnTo>
                  <a:pt x="21600" y="0"/>
                </a:lnTo>
                <a:lnTo>
                  <a:pt x="21600" y="21687"/>
                </a:lnTo>
                <a:lnTo>
                  <a:pt x="0" y="21687"/>
                </a:lnTo>
                <a:close/>
              </a:path>
              <a:path fill="lightenLess" w="21600" h="2168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87">
                <a:moveTo>
                  <a:pt x="21600" y="0"/>
                </a:moveTo>
                <a:lnTo>
                  <a:pt x="21600" y="21687"/>
                </a:lnTo>
                <a:lnTo>
                  <a:pt x="20200" y="20287"/>
                </a:lnTo>
                <a:lnTo>
                  <a:pt x="20200" y="1400"/>
                </a:lnTo>
                <a:close/>
              </a:path>
              <a:path fill="darkenLess" w="21600" h="21687">
                <a:moveTo>
                  <a:pt x="21600" y="21687"/>
                </a:moveTo>
                <a:lnTo>
                  <a:pt x="0" y="21687"/>
                </a:lnTo>
                <a:lnTo>
                  <a:pt x="1400" y="20287"/>
                </a:lnTo>
                <a:lnTo>
                  <a:pt x="20200" y="20287"/>
                </a:lnTo>
                <a:close/>
              </a:path>
              <a:path fill="lighten" w="21600" h="21687">
                <a:moveTo>
                  <a:pt x="0" y="2168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87"/>
                </a:lnTo>
                <a:close/>
              </a:path>
              <a:path fill="darken" w="21600" h="21687">
                <a:moveTo>
                  <a:pt x="3794" y="10843"/>
                </a:moveTo>
                <a:lnTo>
                  <a:pt x="17806" y="3837"/>
                </a:lnTo>
                <a:lnTo>
                  <a:pt x="17806" y="17850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8604360" y="6453360"/>
            <a:ext cx="360360" cy="4046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04640"/>
              <a:gd name="textAreaBottom" fmla="*/ 381600 h 404640"/>
            </a:gdLst>
            <a:ahLst/>
            <a:rect l="textAreaLeft" t="textAreaTop" r="textAreaRight" b="textAreaBottom"/>
            <a:pathLst>
              <a:path w="21600" h="24251">
                <a:moveTo>
                  <a:pt x="0" y="0"/>
                </a:moveTo>
                <a:lnTo>
                  <a:pt x="21600" y="0"/>
                </a:lnTo>
                <a:lnTo>
                  <a:pt x="21600" y="24251"/>
                </a:lnTo>
                <a:lnTo>
                  <a:pt x="0" y="24251"/>
                </a:lnTo>
                <a:close/>
              </a:path>
              <a:path fill="lightenLess" w="21600" h="242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51">
                <a:moveTo>
                  <a:pt x="21600" y="0"/>
                </a:moveTo>
                <a:lnTo>
                  <a:pt x="21600" y="24251"/>
                </a:lnTo>
                <a:lnTo>
                  <a:pt x="20200" y="22851"/>
                </a:lnTo>
                <a:lnTo>
                  <a:pt x="20200" y="1400"/>
                </a:lnTo>
                <a:close/>
              </a:path>
              <a:path fill="darkenLess" w="21600" h="24251">
                <a:moveTo>
                  <a:pt x="21600" y="24251"/>
                </a:moveTo>
                <a:lnTo>
                  <a:pt x="0" y="24251"/>
                </a:lnTo>
                <a:lnTo>
                  <a:pt x="1400" y="22851"/>
                </a:lnTo>
                <a:lnTo>
                  <a:pt x="20200" y="22851"/>
                </a:lnTo>
                <a:close/>
              </a:path>
              <a:path fill="lighten" w="21600" h="24251">
                <a:moveTo>
                  <a:pt x="0" y="242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51"/>
                </a:lnTo>
                <a:close/>
              </a:path>
              <a:path fill="darken" w="21600" h="24251">
                <a:moveTo>
                  <a:pt x="3794" y="5119"/>
                </a:moveTo>
                <a:lnTo>
                  <a:pt x="17806" y="12126"/>
                </a:lnTo>
                <a:lnTo>
                  <a:pt x="3794" y="1913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>
            <a:hlinkClick r:id="rId8" action="ppaction://hlinksldjump"/>
          </p:cNvPr>
          <p:cNvSpPr/>
          <p:nvPr/>
        </p:nvSpPr>
        <p:spPr>
          <a:xfrm>
            <a:off x="8459640" y="6381720"/>
            <a:ext cx="433440" cy="476280"/>
          </a:xfrm>
          <a:custGeom>
            <a:avLst/>
            <a:gdLst>
              <a:gd name="textAreaLeft" fmla="*/ 28080 w 433440"/>
              <a:gd name="textAreaRight" fmla="*/ 405360 w 433440"/>
              <a:gd name="textAreaTop" fmla="*/ 28080 h 476280"/>
              <a:gd name="textAreaBottom" fmla="*/ 448200 h 476280"/>
            </a:gdLst>
            <a:ahLst/>
            <a:rect l="textAreaLeft" t="textAreaTop" r="textAreaRight" b="textAreaBottom"/>
            <a:pathLst>
              <a:path w="21600" h="23733">
                <a:moveTo>
                  <a:pt x="0" y="0"/>
                </a:moveTo>
                <a:lnTo>
                  <a:pt x="21600" y="0"/>
                </a:lnTo>
                <a:lnTo>
                  <a:pt x="21600" y="23733"/>
                </a:lnTo>
                <a:lnTo>
                  <a:pt x="0" y="23733"/>
                </a:lnTo>
                <a:close/>
              </a:path>
              <a:path fill="lightenLess" w="21600" h="2373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33">
                <a:moveTo>
                  <a:pt x="21600" y="0"/>
                </a:moveTo>
                <a:lnTo>
                  <a:pt x="21600" y="23733"/>
                </a:lnTo>
                <a:lnTo>
                  <a:pt x="20200" y="22333"/>
                </a:lnTo>
                <a:lnTo>
                  <a:pt x="20200" y="1400"/>
                </a:lnTo>
                <a:close/>
              </a:path>
              <a:path fill="darkenLess" w="21600" h="23733">
                <a:moveTo>
                  <a:pt x="21600" y="23733"/>
                </a:moveTo>
                <a:lnTo>
                  <a:pt x="0" y="23733"/>
                </a:lnTo>
                <a:lnTo>
                  <a:pt x="1400" y="22333"/>
                </a:lnTo>
                <a:lnTo>
                  <a:pt x="20200" y="22333"/>
                </a:lnTo>
                <a:close/>
              </a:path>
              <a:path fill="lighten" w="21600" h="23733">
                <a:moveTo>
                  <a:pt x="0" y="2373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33"/>
                </a:lnTo>
                <a:close/>
              </a:path>
              <a:path fill="darken" w="21600" h="23733">
                <a:moveTo>
                  <a:pt x="3794" y="4860"/>
                </a:moveTo>
                <a:lnTo>
                  <a:pt x="17806" y="11867"/>
                </a:lnTo>
                <a:lnTo>
                  <a:pt x="3794" y="18873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"/>
          <p:cNvGrpSpPr/>
          <p:nvPr/>
        </p:nvGrpSpPr>
        <p:grpSpPr>
          <a:xfrm>
            <a:off x="0" y="0"/>
            <a:ext cx="9144000" cy="404640"/>
            <a:chOff x="0" y="0"/>
            <a:chExt cx="9144000" cy="404640"/>
          </a:xfrm>
        </p:grpSpPr>
        <p:sp>
          <p:nvSpPr>
            <p:cNvPr id="312" name=""/>
            <p:cNvSpPr/>
            <p:nvPr/>
          </p:nvSpPr>
          <p:spPr>
            <a:xfrm>
              <a:off x="0" y="0"/>
              <a:ext cx="9144000" cy="37620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0" y="404640"/>
              <a:ext cx="9144000" cy="0"/>
            </a:xfrm>
            <a:prstGeom prst="line">
              <a:avLst/>
            </a:prstGeom>
            <a:ln w="7632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0" y="6453360"/>
            <a:ext cx="9144000" cy="404640"/>
            <a:chOff x="0" y="6453360"/>
            <a:chExt cx="9144000" cy="404640"/>
          </a:xfrm>
        </p:grpSpPr>
        <p:sp>
          <p:nvSpPr>
            <p:cNvPr id="315" name=""/>
            <p:cNvSpPr/>
            <p:nvPr/>
          </p:nvSpPr>
          <p:spPr>
            <a:xfrm>
              <a:off x="0" y="6481800"/>
              <a:ext cx="9144000" cy="37620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0" y="6453360"/>
              <a:ext cx="9144000" cy="0"/>
            </a:xfrm>
            <a:prstGeom prst="line">
              <a:avLst/>
            </a:prstGeom>
            <a:ln w="7632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3780000" y="476280"/>
            <a:ext cx="5364000" cy="35751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0" y="364500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24000" y="2997360"/>
            <a:ext cx="8424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9972720" y="476280"/>
            <a:ext cx="225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241960" y="2441520"/>
            <a:ext cx="4294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508640" y="4267080"/>
            <a:ext cx="3168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6836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中午，桌上就摆出了香喷喷的槐花饭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清香、醇香、浓香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......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这时候，连风打的旋儿都 香气扑鼻，整个槐乡都 浸在香海中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"/>
          <p:cNvGrpSpPr/>
          <p:nvPr/>
        </p:nvGrpSpPr>
        <p:grpSpPr>
          <a:xfrm>
            <a:off x="0" y="0"/>
            <a:ext cx="9144000" cy="404640"/>
            <a:chOff x="0" y="0"/>
            <a:chExt cx="9144000" cy="404640"/>
          </a:xfrm>
        </p:grpSpPr>
        <p:sp>
          <p:nvSpPr>
            <p:cNvPr id="325" name=""/>
            <p:cNvSpPr/>
            <p:nvPr/>
          </p:nvSpPr>
          <p:spPr>
            <a:xfrm>
              <a:off x="0" y="0"/>
              <a:ext cx="9144000" cy="37620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0" y="404640"/>
              <a:ext cx="9144000" cy="0"/>
            </a:xfrm>
            <a:prstGeom prst="line">
              <a:avLst/>
            </a:prstGeom>
            <a:ln w="7632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0" y="6453360"/>
            <a:ext cx="9144000" cy="404640"/>
            <a:chOff x="0" y="6453360"/>
            <a:chExt cx="9144000" cy="404640"/>
          </a:xfrm>
        </p:grpSpPr>
        <p:sp>
          <p:nvSpPr>
            <p:cNvPr id="328" name=""/>
            <p:cNvSpPr/>
            <p:nvPr/>
          </p:nvSpPr>
          <p:spPr>
            <a:xfrm>
              <a:off x="0" y="6481800"/>
              <a:ext cx="9144000" cy="37620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0" y="6453360"/>
              <a:ext cx="9144000" cy="0"/>
            </a:xfrm>
            <a:prstGeom prst="line">
              <a:avLst/>
            </a:prstGeom>
            <a:ln w="7632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3780000" y="476280"/>
            <a:ext cx="5364000" cy="35751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0" y="364500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24000" y="2997360"/>
            <a:ext cx="8424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9972720" y="476280"/>
            <a:ext cx="225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241960" y="2441520"/>
            <a:ext cx="4294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508640" y="4267080"/>
            <a:ext cx="3168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6836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中午，桌上就摆出了香喷喷的槐花饭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清香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醇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香、浓香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......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这时候，连风打的旋儿都 香气扑鼻，整个槐乡都 浸在香海中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flower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0864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914400" y="5257800"/>
            <a:ext cx="7924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Times New Roman"/>
                <a:ea typeface="仿宋_GB2312"/>
              </a:rPr>
              <a:t>清香     </a:t>
            </a:r>
            <a:r>
              <a:rPr b="1" lang="zh-CN" sz="5400" spc="-1" strike="noStrike">
                <a:solidFill>
                  <a:srgbClr val="ff9900"/>
                </a:solidFill>
                <a:latin typeface="Times New Roman"/>
                <a:ea typeface="仿宋_GB2312"/>
              </a:rPr>
              <a:t>醇香</a:t>
            </a:r>
            <a:r>
              <a:rPr b="1" lang="zh-CN" sz="4400" spc="-1" strike="noStrike">
                <a:solidFill>
                  <a:srgbClr val="ff9900"/>
                </a:solidFill>
                <a:latin typeface="Times New Roman"/>
                <a:ea typeface="仿宋_GB2312"/>
              </a:rPr>
              <a:t>        </a:t>
            </a:r>
            <a:r>
              <a:rPr b="1" lang="zh-CN" sz="6600" spc="-1" strike="noStrike">
                <a:solidFill>
                  <a:srgbClr val="ff9900"/>
                </a:solidFill>
                <a:latin typeface="Times New Roman"/>
                <a:ea typeface="仿宋_GB2312"/>
              </a:rPr>
              <a:t>浓香</a:t>
            </a:r>
            <a:r>
              <a:rPr b="1" lang="zh-CN" sz="6600" spc="-1" strike="noStrike">
                <a:solidFill>
                  <a:srgbClr val="ff9900"/>
                </a:solidFill>
                <a:latin typeface="Times New Roman"/>
                <a:ea typeface="仿宋_GB2312"/>
              </a:rPr>
              <a:t>.....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0" y="0"/>
            <a:ext cx="9144000" cy="404640"/>
            <a:chOff x="0" y="0"/>
            <a:chExt cx="9144000" cy="404640"/>
          </a:xfrm>
        </p:grpSpPr>
        <p:sp>
          <p:nvSpPr>
            <p:cNvPr id="130" name=""/>
            <p:cNvSpPr/>
            <p:nvPr/>
          </p:nvSpPr>
          <p:spPr>
            <a:xfrm>
              <a:off x="0" y="0"/>
              <a:ext cx="9144000" cy="37620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0" y="404640"/>
              <a:ext cx="9144000" cy="0"/>
            </a:xfrm>
            <a:prstGeom prst="line">
              <a:avLst/>
            </a:prstGeom>
            <a:ln w="7632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0" y="6453360"/>
            <a:ext cx="9144000" cy="404640"/>
            <a:chOff x="0" y="6453360"/>
            <a:chExt cx="9144000" cy="404640"/>
          </a:xfrm>
        </p:grpSpPr>
        <p:sp>
          <p:nvSpPr>
            <p:cNvPr id="133" name=""/>
            <p:cNvSpPr/>
            <p:nvPr/>
          </p:nvSpPr>
          <p:spPr>
            <a:xfrm>
              <a:off x="0" y="6481800"/>
              <a:ext cx="9144000" cy="37620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0" y="6453360"/>
              <a:ext cx="9144000" cy="0"/>
            </a:xfrm>
            <a:prstGeom prst="line">
              <a:avLst/>
            </a:prstGeom>
            <a:ln w="7632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780000" y="476280"/>
            <a:ext cx="5364000" cy="35751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0" y="364500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2997360"/>
            <a:ext cx="8424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9972720" y="476280"/>
            <a:ext cx="225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41960" y="2441520"/>
            <a:ext cx="4294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08640" y="4267080"/>
            <a:ext cx="3168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8360" y="1989000"/>
            <a:ext cx="457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332000" y="2349360"/>
            <a:ext cx="3043080" cy="29973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636560" y="2771640"/>
            <a:ext cx="2351160" cy="2216160"/>
          </a:xfrm>
          <a:custGeom>
            <a:avLst/>
            <a:gdLst/>
            <a:ahLst/>
            <a:rect l="l" t="t" r="r" b="b"/>
            <a:pathLst>
              <a:path w="1481" h="1396">
                <a:moveTo>
                  <a:pt x="353" y="58"/>
                </a:moveTo>
                <a:lnTo>
                  <a:pt x="347" y="53"/>
                </a:lnTo>
                <a:lnTo>
                  <a:pt x="342" y="42"/>
                </a:lnTo>
                <a:lnTo>
                  <a:pt x="342" y="37"/>
                </a:lnTo>
                <a:lnTo>
                  <a:pt x="342" y="32"/>
                </a:lnTo>
                <a:lnTo>
                  <a:pt x="342" y="26"/>
                </a:lnTo>
                <a:lnTo>
                  <a:pt x="342" y="21"/>
                </a:lnTo>
                <a:lnTo>
                  <a:pt x="347" y="16"/>
                </a:lnTo>
                <a:lnTo>
                  <a:pt x="353" y="10"/>
                </a:lnTo>
                <a:lnTo>
                  <a:pt x="353" y="10"/>
                </a:lnTo>
                <a:lnTo>
                  <a:pt x="358" y="10"/>
                </a:lnTo>
                <a:lnTo>
                  <a:pt x="363" y="10"/>
                </a:lnTo>
                <a:lnTo>
                  <a:pt x="374" y="10"/>
                </a:lnTo>
                <a:lnTo>
                  <a:pt x="385" y="10"/>
                </a:lnTo>
                <a:lnTo>
                  <a:pt x="395" y="10"/>
                </a:lnTo>
                <a:lnTo>
                  <a:pt x="406" y="16"/>
                </a:lnTo>
                <a:lnTo>
                  <a:pt x="422" y="21"/>
                </a:lnTo>
                <a:lnTo>
                  <a:pt x="433" y="26"/>
                </a:lnTo>
                <a:lnTo>
                  <a:pt x="449" y="32"/>
                </a:lnTo>
                <a:lnTo>
                  <a:pt x="454" y="37"/>
                </a:lnTo>
                <a:lnTo>
                  <a:pt x="465" y="42"/>
                </a:lnTo>
                <a:lnTo>
                  <a:pt x="470" y="48"/>
                </a:lnTo>
                <a:lnTo>
                  <a:pt x="476" y="53"/>
                </a:lnTo>
                <a:lnTo>
                  <a:pt x="481" y="58"/>
                </a:lnTo>
                <a:lnTo>
                  <a:pt x="481" y="64"/>
                </a:lnTo>
                <a:lnTo>
                  <a:pt x="481" y="69"/>
                </a:lnTo>
                <a:lnTo>
                  <a:pt x="481" y="80"/>
                </a:lnTo>
                <a:lnTo>
                  <a:pt x="481" y="85"/>
                </a:lnTo>
                <a:lnTo>
                  <a:pt x="481" y="96"/>
                </a:lnTo>
                <a:lnTo>
                  <a:pt x="481" y="112"/>
                </a:lnTo>
                <a:lnTo>
                  <a:pt x="481" y="128"/>
                </a:lnTo>
                <a:lnTo>
                  <a:pt x="476" y="144"/>
                </a:lnTo>
                <a:lnTo>
                  <a:pt x="476" y="160"/>
                </a:lnTo>
                <a:lnTo>
                  <a:pt x="476" y="170"/>
                </a:lnTo>
                <a:lnTo>
                  <a:pt x="476" y="181"/>
                </a:lnTo>
                <a:lnTo>
                  <a:pt x="476" y="197"/>
                </a:lnTo>
                <a:lnTo>
                  <a:pt x="470" y="213"/>
                </a:lnTo>
                <a:lnTo>
                  <a:pt x="470" y="229"/>
                </a:lnTo>
                <a:lnTo>
                  <a:pt x="470" y="245"/>
                </a:lnTo>
                <a:lnTo>
                  <a:pt x="470" y="266"/>
                </a:lnTo>
                <a:lnTo>
                  <a:pt x="465" y="287"/>
                </a:lnTo>
                <a:lnTo>
                  <a:pt x="465" y="314"/>
                </a:lnTo>
                <a:lnTo>
                  <a:pt x="465" y="335"/>
                </a:lnTo>
                <a:lnTo>
                  <a:pt x="465" y="362"/>
                </a:lnTo>
                <a:lnTo>
                  <a:pt x="465" y="394"/>
                </a:lnTo>
                <a:lnTo>
                  <a:pt x="459" y="421"/>
                </a:lnTo>
                <a:lnTo>
                  <a:pt x="459" y="453"/>
                </a:lnTo>
                <a:lnTo>
                  <a:pt x="459" y="485"/>
                </a:lnTo>
                <a:lnTo>
                  <a:pt x="459" y="517"/>
                </a:lnTo>
                <a:lnTo>
                  <a:pt x="454" y="586"/>
                </a:lnTo>
                <a:lnTo>
                  <a:pt x="454" y="655"/>
                </a:lnTo>
                <a:lnTo>
                  <a:pt x="454" y="724"/>
                </a:lnTo>
                <a:lnTo>
                  <a:pt x="449" y="788"/>
                </a:lnTo>
                <a:lnTo>
                  <a:pt x="449" y="847"/>
                </a:lnTo>
                <a:lnTo>
                  <a:pt x="449" y="911"/>
                </a:lnTo>
                <a:lnTo>
                  <a:pt x="449" y="970"/>
                </a:lnTo>
                <a:lnTo>
                  <a:pt x="449" y="1023"/>
                </a:lnTo>
                <a:lnTo>
                  <a:pt x="443" y="1055"/>
                </a:lnTo>
                <a:lnTo>
                  <a:pt x="443" y="1076"/>
                </a:lnTo>
                <a:lnTo>
                  <a:pt x="443" y="1103"/>
                </a:lnTo>
                <a:lnTo>
                  <a:pt x="443" y="1130"/>
                </a:lnTo>
                <a:lnTo>
                  <a:pt x="438" y="1151"/>
                </a:lnTo>
                <a:lnTo>
                  <a:pt x="438" y="1172"/>
                </a:lnTo>
                <a:lnTo>
                  <a:pt x="438" y="1193"/>
                </a:lnTo>
                <a:lnTo>
                  <a:pt x="438" y="1209"/>
                </a:lnTo>
                <a:lnTo>
                  <a:pt x="433" y="1231"/>
                </a:lnTo>
                <a:lnTo>
                  <a:pt x="433" y="1247"/>
                </a:lnTo>
                <a:lnTo>
                  <a:pt x="433" y="1263"/>
                </a:lnTo>
                <a:lnTo>
                  <a:pt x="433" y="1279"/>
                </a:lnTo>
                <a:lnTo>
                  <a:pt x="427" y="1295"/>
                </a:lnTo>
                <a:lnTo>
                  <a:pt x="427" y="1305"/>
                </a:lnTo>
                <a:lnTo>
                  <a:pt x="422" y="1316"/>
                </a:lnTo>
                <a:lnTo>
                  <a:pt x="422" y="1327"/>
                </a:lnTo>
                <a:lnTo>
                  <a:pt x="417" y="1343"/>
                </a:lnTo>
                <a:lnTo>
                  <a:pt x="411" y="1359"/>
                </a:lnTo>
                <a:lnTo>
                  <a:pt x="411" y="1375"/>
                </a:lnTo>
                <a:lnTo>
                  <a:pt x="406" y="1385"/>
                </a:lnTo>
                <a:lnTo>
                  <a:pt x="401" y="1391"/>
                </a:lnTo>
                <a:lnTo>
                  <a:pt x="401" y="1396"/>
                </a:lnTo>
                <a:lnTo>
                  <a:pt x="395" y="1396"/>
                </a:lnTo>
                <a:lnTo>
                  <a:pt x="395" y="1396"/>
                </a:lnTo>
                <a:lnTo>
                  <a:pt x="390" y="1396"/>
                </a:lnTo>
                <a:lnTo>
                  <a:pt x="385" y="1391"/>
                </a:lnTo>
                <a:lnTo>
                  <a:pt x="379" y="1385"/>
                </a:lnTo>
                <a:lnTo>
                  <a:pt x="374" y="1375"/>
                </a:lnTo>
                <a:lnTo>
                  <a:pt x="374" y="1369"/>
                </a:lnTo>
                <a:lnTo>
                  <a:pt x="369" y="1353"/>
                </a:lnTo>
                <a:lnTo>
                  <a:pt x="363" y="1343"/>
                </a:lnTo>
                <a:lnTo>
                  <a:pt x="363" y="1327"/>
                </a:lnTo>
                <a:lnTo>
                  <a:pt x="358" y="1311"/>
                </a:lnTo>
                <a:lnTo>
                  <a:pt x="353" y="1295"/>
                </a:lnTo>
                <a:lnTo>
                  <a:pt x="353" y="1284"/>
                </a:lnTo>
                <a:lnTo>
                  <a:pt x="347" y="1273"/>
                </a:lnTo>
                <a:lnTo>
                  <a:pt x="347" y="1263"/>
                </a:lnTo>
                <a:lnTo>
                  <a:pt x="347" y="1252"/>
                </a:lnTo>
                <a:lnTo>
                  <a:pt x="347" y="1236"/>
                </a:lnTo>
                <a:lnTo>
                  <a:pt x="347" y="1231"/>
                </a:lnTo>
                <a:lnTo>
                  <a:pt x="347" y="1220"/>
                </a:lnTo>
                <a:lnTo>
                  <a:pt x="347" y="1209"/>
                </a:lnTo>
                <a:lnTo>
                  <a:pt x="347" y="1199"/>
                </a:lnTo>
                <a:lnTo>
                  <a:pt x="353" y="1183"/>
                </a:lnTo>
                <a:lnTo>
                  <a:pt x="353" y="1167"/>
                </a:lnTo>
                <a:lnTo>
                  <a:pt x="353" y="1151"/>
                </a:lnTo>
                <a:lnTo>
                  <a:pt x="358" y="1135"/>
                </a:lnTo>
                <a:lnTo>
                  <a:pt x="358" y="1114"/>
                </a:lnTo>
                <a:lnTo>
                  <a:pt x="363" y="1092"/>
                </a:lnTo>
                <a:lnTo>
                  <a:pt x="363" y="1071"/>
                </a:lnTo>
                <a:lnTo>
                  <a:pt x="369" y="1044"/>
                </a:lnTo>
                <a:lnTo>
                  <a:pt x="374" y="1012"/>
                </a:lnTo>
                <a:lnTo>
                  <a:pt x="374" y="980"/>
                </a:lnTo>
                <a:lnTo>
                  <a:pt x="379" y="943"/>
                </a:lnTo>
                <a:lnTo>
                  <a:pt x="379" y="906"/>
                </a:lnTo>
                <a:lnTo>
                  <a:pt x="385" y="863"/>
                </a:lnTo>
                <a:lnTo>
                  <a:pt x="385" y="820"/>
                </a:lnTo>
                <a:lnTo>
                  <a:pt x="390" y="772"/>
                </a:lnTo>
                <a:lnTo>
                  <a:pt x="390" y="724"/>
                </a:lnTo>
                <a:lnTo>
                  <a:pt x="390" y="671"/>
                </a:lnTo>
                <a:lnTo>
                  <a:pt x="395" y="618"/>
                </a:lnTo>
                <a:lnTo>
                  <a:pt x="395" y="565"/>
                </a:lnTo>
                <a:lnTo>
                  <a:pt x="401" y="506"/>
                </a:lnTo>
                <a:lnTo>
                  <a:pt x="401" y="479"/>
                </a:lnTo>
                <a:lnTo>
                  <a:pt x="401" y="453"/>
                </a:lnTo>
                <a:lnTo>
                  <a:pt x="401" y="426"/>
                </a:lnTo>
                <a:lnTo>
                  <a:pt x="395" y="399"/>
                </a:lnTo>
                <a:lnTo>
                  <a:pt x="395" y="373"/>
                </a:lnTo>
                <a:lnTo>
                  <a:pt x="395" y="351"/>
                </a:lnTo>
                <a:lnTo>
                  <a:pt x="395" y="330"/>
                </a:lnTo>
                <a:lnTo>
                  <a:pt x="395" y="309"/>
                </a:lnTo>
                <a:lnTo>
                  <a:pt x="395" y="287"/>
                </a:lnTo>
                <a:lnTo>
                  <a:pt x="395" y="271"/>
                </a:lnTo>
                <a:lnTo>
                  <a:pt x="390" y="234"/>
                </a:lnTo>
                <a:lnTo>
                  <a:pt x="390" y="202"/>
                </a:lnTo>
                <a:lnTo>
                  <a:pt x="385" y="176"/>
                </a:lnTo>
                <a:lnTo>
                  <a:pt x="385" y="149"/>
                </a:lnTo>
                <a:lnTo>
                  <a:pt x="379" y="128"/>
                </a:lnTo>
                <a:lnTo>
                  <a:pt x="379" y="112"/>
                </a:lnTo>
                <a:lnTo>
                  <a:pt x="374" y="96"/>
                </a:lnTo>
                <a:lnTo>
                  <a:pt x="369" y="85"/>
                </a:lnTo>
                <a:lnTo>
                  <a:pt x="363" y="74"/>
                </a:lnTo>
                <a:lnTo>
                  <a:pt x="358" y="64"/>
                </a:lnTo>
                <a:lnTo>
                  <a:pt x="353" y="58"/>
                </a:lnTo>
                <a:lnTo>
                  <a:pt x="353" y="58"/>
                </a:lnTo>
                <a:close/>
                <a:moveTo>
                  <a:pt x="337" y="437"/>
                </a:moveTo>
                <a:lnTo>
                  <a:pt x="358" y="431"/>
                </a:lnTo>
                <a:lnTo>
                  <a:pt x="374" y="426"/>
                </a:lnTo>
                <a:lnTo>
                  <a:pt x="390" y="421"/>
                </a:lnTo>
                <a:lnTo>
                  <a:pt x="406" y="415"/>
                </a:lnTo>
                <a:lnTo>
                  <a:pt x="422" y="410"/>
                </a:lnTo>
                <a:lnTo>
                  <a:pt x="433" y="405"/>
                </a:lnTo>
                <a:lnTo>
                  <a:pt x="449" y="405"/>
                </a:lnTo>
                <a:lnTo>
                  <a:pt x="459" y="399"/>
                </a:lnTo>
                <a:lnTo>
                  <a:pt x="470" y="399"/>
                </a:lnTo>
                <a:lnTo>
                  <a:pt x="481" y="394"/>
                </a:lnTo>
                <a:lnTo>
                  <a:pt x="486" y="394"/>
                </a:lnTo>
                <a:lnTo>
                  <a:pt x="497" y="394"/>
                </a:lnTo>
                <a:lnTo>
                  <a:pt x="502" y="394"/>
                </a:lnTo>
                <a:lnTo>
                  <a:pt x="508" y="394"/>
                </a:lnTo>
                <a:lnTo>
                  <a:pt x="508" y="389"/>
                </a:lnTo>
                <a:lnTo>
                  <a:pt x="513" y="389"/>
                </a:lnTo>
                <a:lnTo>
                  <a:pt x="524" y="394"/>
                </a:lnTo>
                <a:lnTo>
                  <a:pt x="534" y="394"/>
                </a:lnTo>
                <a:lnTo>
                  <a:pt x="545" y="399"/>
                </a:lnTo>
                <a:lnTo>
                  <a:pt x="561" y="410"/>
                </a:lnTo>
                <a:lnTo>
                  <a:pt x="566" y="415"/>
                </a:lnTo>
                <a:lnTo>
                  <a:pt x="572" y="421"/>
                </a:lnTo>
                <a:lnTo>
                  <a:pt x="577" y="426"/>
                </a:lnTo>
                <a:lnTo>
                  <a:pt x="577" y="426"/>
                </a:lnTo>
                <a:lnTo>
                  <a:pt x="582" y="437"/>
                </a:lnTo>
                <a:lnTo>
                  <a:pt x="582" y="442"/>
                </a:lnTo>
                <a:lnTo>
                  <a:pt x="582" y="442"/>
                </a:lnTo>
                <a:lnTo>
                  <a:pt x="577" y="447"/>
                </a:lnTo>
                <a:lnTo>
                  <a:pt x="572" y="447"/>
                </a:lnTo>
                <a:lnTo>
                  <a:pt x="566" y="453"/>
                </a:lnTo>
                <a:lnTo>
                  <a:pt x="561" y="458"/>
                </a:lnTo>
                <a:lnTo>
                  <a:pt x="550" y="458"/>
                </a:lnTo>
                <a:lnTo>
                  <a:pt x="540" y="463"/>
                </a:lnTo>
                <a:lnTo>
                  <a:pt x="529" y="469"/>
                </a:lnTo>
                <a:lnTo>
                  <a:pt x="518" y="469"/>
                </a:lnTo>
                <a:lnTo>
                  <a:pt x="502" y="474"/>
                </a:lnTo>
                <a:lnTo>
                  <a:pt x="486" y="479"/>
                </a:lnTo>
                <a:lnTo>
                  <a:pt x="465" y="485"/>
                </a:lnTo>
                <a:lnTo>
                  <a:pt x="449" y="490"/>
                </a:lnTo>
                <a:lnTo>
                  <a:pt x="427" y="495"/>
                </a:lnTo>
                <a:lnTo>
                  <a:pt x="406" y="501"/>
                </a:lnTo>
                <a:lnTo>
                  <a:pt x="379" y="506"/>
                </a:lnTo>
                <a:lnTo>
                  <a:pt x="358" y="511"/>
                </a:lnTo>
                <a:lnTo>
                  <a:pt x="331" y="517"/>
                </a:lnTo>
                <a:lnTo>
                  <a:pt x="310" y="522"/>
                </a:lnTo>
                <a:lnTo>
                  <a:pt x="288" y="527"/>
                </a:lnTo>
                <a:lnTo>
                  <a:pt x="272" y="533"/>
                </a:lnTo>
                <a:lnTo>
                  <a:pt x="256" y="533"/>
                </a:lnTo>
                <a:lnTo>
                  <a:pt x="240" y="538"/>
                </a:lnTo>
                <a:lnTo>
                  <a:pt x="224" y="543"/>
                </a:lnTo>
                <a:lnTo>
                  <a:pt x="208" y="543"/>
                </a:lnTo>
                <a:lnTo>
                  <a:pt x="198" y="543"/>
                </a:lnTo>
                <a:lnTo>
                  <a:pt x="187" y="549"/>
                </a:lnTo>
                <a:lnTo>
                  <a:pt x="181" y="549"/>
                </a:lnTo>
                <a:lnTo>
                  <a:pt x="171" y="549"/>
                </a:lnTo>
                <a:lnTo>
                  <a:pt x="165" y="549"/>
                </a:lnTo>
                <a:lnTo>
                  <a:pt x="160" y="549"/>
                </a:lnTo>
                <a:lnTo>
                  <a:pt x="160" y="549"/>
                </a:lnTo>
                <a:lnTo>
                  <a:pt x="149" y="549"/>
                </a:lnTo>
                <a:lnTo>
                  <a:pt x="139" y="549"/>
                </a:lnTo>
                <a:lnTo>
                  <a:pt x="123" y="538"/>
                </a:lnTo>
                <a:lnTo>
                  <a:pt x="112" y="533"/>
                </a:lnTo>
                <a:lnTo>
                  <a:pt x="101" y="527"/>
                </a:lnTo>
                <a:lnTo>
                  <a:pt x="96" y="522"/>
                </a:lnTo>
                <a:lnTo>
                  <a:pt x="91" y="517"/>
                </a:lnTo>
                <a:lnTo>
                  <a:pt x="85" y="511"/>
                </a:lnTo>
                <a:lnTo>
                  <a:pt x="80" y="511"/>
                </a:lnTo>
                <a:lnTo>
                  <a:pt x="80" y="506"/>
                </a:lnTo>
                <a:lnTo>
                  <a:pt x="80" y="501"/>
                </a:lnTo>
                <a:lnTo>
                  <a:pt x="80" y="501"/>
                </a:lnTo>
                <a:lnTo>
                  <a:pt x="85" y="495"/>
                </a:lnTo>
                <a:lnTo>
                  <a:pt x="85" y="495"/>
                </a:lnTo>
                <a:lnTo>
                  <a:pt x="91" y="490"/>
                </a:lnTo>
                <a:lnTo>
                  <a:pt x="96" y="490"/>
                </a:lnTo>
                <a:lnTo>
                  <a:pt x="101" y="490"/>
                </a:lnTo>
                <a:lnTo>
                  <a:pt x="112" y="485"/>
                </a:lnTo>
                <a:lnTo>
                  <a:pt x="123" y="485"/>
                </a:lnTo>
                <a:lnTo>
                  <a:pt x="133" y="479"/>
                </a:lnTo>
                <a:lnTo>
                  <a:pt x="149" y="479"/>
                </a:lnTo>
                <a:lnTo>
                  <a:pt x="171" y="474"/>
                </a:lnTo>
                <a:lnTo>
                  <a:pt x="187" y="469"/>
                </a:lnTo>
                <a:lnTo>
                  <a:pt x="214" y="463"/>
                </a:lnTo>
                <a:lnTo>
                  <a:pt x="240" y="458"/>
                </a:lnTo>
                <a:lnTo>
                  <a:pt x="267" y="453"/>
                </a:lnTo>
                <a:lnTo>
                  <a:pt x="304" y="447"/>
                </a:lnTo>
                <a:lnTo>
                  <a:pt x="337" y="437"/>
                </a:lnTo>
                <a:lnTo>
                  <a:pt x="337" y="437"/>
                </a:lnTo>
                <a:close/>
                <a:moveTo>
                  <a:pt x="427" y="591"/>
                </a:moveTo>
                <a:lnTo>
                  <a:pt x="406" y="629"/>
                </a:lnTo>
                <a:lnTo>
                  <a:pt x="390" y="666"/>
                </a:lnTo>
                <a:lnTo>
                  <a:pt x="369" y="703"/>
                </a:lnTo>
                <a:lnTo>
                  <a:pt x="347" y="740"/>
                </a:lnTo>
                <a:lnTo>
                  <a:pt x="326" y="772"/>
                </a:lnTo>
                <a:lnTo>
                  <a:pt x="310" y="804"/>
                </a:lnTo>
                <a:lnTo>
                  <a:pt x="288" y="831"/>
                </a:lnTo>
                <a:lnTo>
                  <a:pt x="267" y="858"/>
                </a:lnTo>
                <a:lnTo>
                  <a:pt x="246" y="884"/>
                </a:lnTo>
                <a:lnTo>
                  <a:pt x="224" y="916"/>
                </a:lnTo>
                <a:lnTo>
                  <a:pt x="203" y="938"/>
                </a:lnTo>
                <a:lnTo>
                  <a:pt x="181" y="964"/>
                </a:lnTo>
                <a:lnTo>
                  <a:pt x="160" y="986"/>
                </a:lnTo>
                <a:lnTo>
                  <a:pt x="139" y="1007"/>
                </a:lnTo>
                <a:lnTo>
                  <a:pt x="117" y="1028"/>
                </a:lnTo>
                <a:lnTo>
                  <a:pt x="96" y="1044"/>
                </a:lnTo>
                <a:lnTo>
                  <a:pt x="75" y="1060"/>
                </a:lnTo>
                <a:lnTo>
                  <a:pt x="53" y="1076"/>
                </a:lnTo>
                <a:lnTo>
                  <a:pt x="37" y="1092"/>
                </a:lnTo>
                <a:lnTo>
                  <a:pt x="26" y="1103"/>
                </a:lnTo>
                <a:lnTo>
                  <a:pt x="16" y="1108"/>
                </a:lnTo>
                <a:lnTo>
                  <a:pt x="5" y="1114"/>
                </a:lnTo>
                <a:lnTo>
                  <a:pt x="0" y="1114"/>
                </a:lnTo>
                <a:lnTo>
                  <a:pt x="0" y="1114"/>
                </a:lnTo>
                <a:lnTo>
                  <a:pt x="0" y="1114"/>
                </a:lnTo>
                <a:lnTo>
                  <a:pt x="0" y="1103"/>
                </a:lnTo>
                <a:lnTo>
                  <a:pt x="5" y="1098"/>
                </a:lnTo>
                <a:lnTo>
                  <a:pt x="10" y="1087"/>
                </a:lnTo>
                <a:lnTo>
                  <a:pt x="21" y="1071"/>
                </a:lnTo>
                <a:lnTo>
                  <a:pt x="37" y="1060"/>
                </a:lnTo>
                <a:lnTo>
                  <a:pt x="53" y="1039"/>
                </a:lnTo>
                <a:lnTo>
                  <a:pt x="69" y="1018"/>
                </a:lnTo>
                <a:lnTo>
                  <a:pt x="91" y="996"/>
                </a:lnTo>
                <a:lnTo>
                  <a:pt x="112" y="970"/>
                </a:lnTo>
                <a:lnTo>
                  <a:pt x="128" y="948"/>
                </a:lnTo>
                <a:lnTo>
                  <a:pt x="149" y="922"/>
                </a:lnTo>
                <a:lnTo>
                  <a:pt x="171" y="890"/>
                </a:lnTo>
                <a:lnTo>
                  <a:pt x="192" y="863"/>
                </a:lnTo>
                <a:lnTo>
                  <a:pt x="214" y="831"/>
                </a:lnTo>
                <a:lnTo>
                  <a:pt x="230" y="799"/>
                </a:lnTo>
                <a:lnTo>
                  <a:pt x="251" y="767"/>
                </a:lnTo>
                <a:lnTo>
                  <a:pt x="272" y="730"/>
                </a:lnTo>
                <a:lnTo>
                  <a:pt x="294" y="693"/>
                </a:lnTo>
                <a:lnTo>
                  <a:pt x="310" y="655"/>
                </a:lnTo>
                <a:lnTo>
                  <a:pt x="331" y="607"/>
                </a:lnTo>
                <a:lnTo>
                  <a:pt x="353" y="565"/>
                </a:lnTo>
                <a:lnTo>
                  <a:pt x="374" y="511"/>
                </a:lnTo>
                <a:lnTo>
                  <a:pt x="395" y="463"/>
                </a:lnTo>
                <a:lnTo>
                  <a:pt x="427" y="591"/>
                </a:lnTo>
                <a:lnTo>
                  <a:pt x="427" y="591"/>
                </a:lnTo>
                <a:close/>
                <a:moveTo>
                  <a:pt x="433" y="682"/>
                </a:moveTo>
                <a:lnTo>
                  <a:pt x="459" y="682"/>
                </a:lnTo>
                <a:lnTo>
                  <a:pt x="481" y="682"/>
                </a:lnTo>
                <a:lnTo>
                  <a:pt x="502" y="682"/>
                </a:lnTo>
                <a:lnTo>
                  <a:pt x="524" y="687"/>
                </a:lnTo>
                <a:lnTo>
                  <a:pt x="540" y="693"/>
                </a:lnTo>
                <a:lnTo>
                  <a:pt x="556" y="698"/>
                </a:lnTo>
                <a:lnTo>
                  <a:pt x="572" y="708"/>
                </a:lnTo>
                <a:lnTo>
                  <a:pt x="582" y="724"/>
                </a:lnTo>
                <a:lnTo>
                  <a:pt x="588" y="730"/>
                </a:lnTo>
                <a:lnTo>
                  <a:pt x="593" y="740"/>
                </a:lnTo>
                <a:lnTo>
                  <a:pt x="604" y="756"/>
                </a:lnTo>
                <a:lnTo>
                  <a:pt x="609" y="778"/>
                </a:lnTo>
                <a:lnTo>
                  <a:pt x="609" y="799"/>
                </a:lnTo>
                <a:lnTo>
                  <a:pt x="609" y="810"/>
                </a:lnTo>
                <a:lnTo>
                  <a:pt x="609" y="820"/>
                </a:lnTo>
                <a:lnTo>
                  <a:pt x="604" y="831"/>
                </a:lnTo>
                <a:lnTo>
                  <a:pt x="604" y="836"/>
                </a:lnTo>
                <a:lnTo>
                  <a:pt x="604" y="847"/>
                </a:lnTo>
                <a:lnTo>
                  <a:pt x="598" y="847"/>
                </a:lnTo>
                <a:lnTo>
                  <a:pt x="598" y="852"/>
                </a:lnTo>
                <a:lnTo>
                  <a:pt x="598" y="852"/>
                </a:lnTo>
                <a:lnTo>
                  <a:pt x="593" y="852"/>
                </a:lnTo>
                <a:lnTo>
                  <a:pt x="582" y="852"/>
                </a:lnTo>
                <a:lnTo>
                  <a:pt x="577" y="847"/>
                </a:lnTo>
                <a:lnTo>
                  <a:pt x="566" y="842"/>
                </a:lnTo>
                <a:lnTo>
                  <a:pt x="561" y="836"/>
                </a:lnTo>
                <a:lnTo>
                  <a:pt x="550" y="826"/>
                </a:lnTo>
                <a:lnTo>
                  <a:pt x="534" y="820"/>
                </a:lnTo>
                <a:lnTo>
                  <a:pt x="524" y="810"/>
                </a:lnTo>
                <a:lnTo>
                  <a:pt x="513" y="799"/>
                </a:lnTo>
                <a:lnTo>
                  <a:pt x="497" y="783"/>
                </a:lnTo>
                <a:lnTo>
                  <a:pt x="486" y="772"/>
                </a:lnTo>
                <a:lnTo>
                  <a:pt x="476" y="756"/>
                </a:lnTo>
                <a:lnTo>
                  <a:pt x="465" y="740"/>
                </a:lnTo>
                <a:lnTo>
                  <a:pt x="454" y="719"/>
                </a:lnTo>
                <a:lnTo>
                  <a:pt x="443" y="698"/>
                </a:lnTo>
                <a:lnTo>
                  <a:pt x="433" y="682"/>
                </a:lnTo>
                <a:lnTo>
                  <a:pt x="433" y="682"/>
                </a:lnTo>
                <a:close/>
                <a:moveTo>
                  <a:pt x="855" y="96"/>
                </a:moveTo>
                <a:lnTo>
                  <a:pt x="855" y="85"/>
                </a:lnTo>
                <a:lnTo>
                  <a:pt x="855" y="74"/>
                </a:lnTo>
                <a:lnTo>
                  <a:pt x="855" y="64"/>
                </a:lnTo>
                <a:lnTo>
                  <a:pt x="855" y="58"/>
                </a:lnTo>
                <a:lnTo>
                  <a:pt x="855" y="42"/>
                </a:lnTo>
                <a:lnTo>
                  <a:pt x="855" y="32"/>
                </a:lnTo>
                <a:lnTo>
                  <a:pt x="850" y="26"/>
                </a:lnTo>
                <a:lnTo>
                  <a:pt x="844" y="21"/>
                </a:lnTo>
                <a:lnTo>
                  <a:pt x="844" y="10"/>
                </a:lnTo>
                <a:lnTo>
                  <a:pt x="844" y="10"/>
                </a:lnTo>
                <a:lnTo>
                  <a:pt x="844" y="5"/>
                </a:lnTo>
                <a:lnTo>
                  <a:pt x="850" y="5"/>
                </a:lnTo>
                <a:lnTo>
                  <a:pt x="850" y="0"/>
                </a:lnTo>
                <a:lnTo>
                  <a:pt x="850" y="0"/>
                </a:lnTo>
                <a:lnTo>
                  <a:pt x="855" y="0"/>
                </a:lnTo>
                <a:lnTo>
                  <a:pt x="860" y="0"/>
                </a:lnTo>
                <a:lnTo>
                  <a:pt x="866" y="0"/>
                </a:lnTo>
                <a:lnTo>
                  <a:pt x="876" y="0"/>
                </a:lnTo>
                <a:lnTo>
                  <a:pt x="882" y="0"/>
                </a:lnTo>
                <a:lnTo>
                  <a:pt x="898" y="5"/>
                </a:lnTo>
                <a:lnTo>
                  <a:pt x="914" y="10"/>
                </a:lnTo>
                <a:lnTo>
                  <a:pt x="930" y="16"/>
                </a:lnTo>
                <a:lnTo>
                  <a:pt x="946" y="26"/>
                </a:lnTo>
                <a:lnTo>
                  <a:pt x="962" y="37"/>
                </a:lnTo>
                <a:lnTo>
                  <a:pt x="967" y="48"/>
                </a:lnTo>
                <a:lnTo>
                  <a:pt x="973" y="53"/>
                </a:lnTo>
                <a:lnTo>
                  <a:pt x="978" y="58"/>
                </a:lnTo>
                <a:lnTo>
                  <a:pt x="978" y="64"/>
                </a:lnTo>
                <a:lnTo>
                  <a:pt x="978" y="69"/>
                </a:lnTo>
                <a:lnTo>
                  <a:pt x="978" y="74"/>
                </a:lnTo>
                <a:lnTo>
                  <a:pt x="978" y="80"/>
                </a:lnTo>
                <a:lnTo>
                  <a:pt x="973" y="90"/>
                </a:lnTo>
                <a:lnTo>
                  <a:pt x="967" y="96"/>
                </a:lnTo>
                <a:lnTo>
                  <a:pt x="967" y="101"/>
                </a:lnTo>
                <a:lnTo>
                  <a:pt x="962" y="112"/>
                </a:lnTo>
                <a:lnTo>
                  <a:pt x="957" y="122"/>
                </a:lnTo>
                <a:lnTo>
                  <a:pt x="946" y="133"/>
                </a:lnTo>
                <a:lnTo>
                  <a:pt x="946" y="144"/>
                </a:lnTo>
                <a:lnTo>
                  <a:pt x="935" y="149"/>
                </a:lnTo>
                <a:lnTo>
                  <a:pt x="930" y="160"/>
                </a:lnTo>
                <a:lnTo>
                  <a:pt x="925" y="165"/>
                </a:lnTo>
                <a:lnTo>
                  <a:pt x="914" y="176"/>
                </a:lnTo>
                <a:lnTo>
                  <a:pt x="909" y="192"/>
                </a:lnTo>
                <a:lnTo>
                  <a:pt x="898" y="202"/>
                </a:lnTo>
                <a:lnTo>
                  <a:pt x="887" y="213"/>
                </a:lnTo>
                <a:lnTo>
                  <a:pt x="871" y="229"/>
                </a:lnTo>
                <a:lnTo>
                  <a:pt x="860" y="245"/>
                </a:lnTo>
                <a:lnTo>
                  <a:pt x="850" y="261"/>
                </a:lnTo>
                <a:lnTo>
                  <a:pt x="834" y="277"/>
                </a:lnTo>
                <a:lnTo>
                  <a:pt x="818" y="298"/>
                </a:lnTo>
                <a:lnTo>
                  <a:pt x="802" y="319"/>
                </a:lnTo>
                <a:lnTo>
                  <a:pt x="770" y="357"/>
                </a:lnTo>
                <a:lnTo>
                  <a:pt x="732" y="351"/>
                </a:lnTo>
                <a:lnTo>
                  <a:pt x="748" y="325"/>
                </a:lnTo>
                <a:lnTo>
                  <a:pt x="759" y="303"/>
                </a:lnTo>
                <a:lnTo>
                  <a:pt x="770" y="277"/>
                </a:lnTo>
                <a:lnTo>
                  <a:pt x="786" y="255"/>
                </a:lnTo>
                <a:lnTo>
                  <a:pt x="796" y="234"/>
                </a:lnTo>
                <a:lnTo>
                  <a:pt x="802" y="218"/>
                </a:lnTo>
                <a:lnTo>
                  <a:pt x="812" y="202"/>
                </a:lnTo>
                <a:lnTo>
                  <a:pt x="818" y="181"/>
                </a:lnTo>
                <a:lnTo>
                  <a:pt x="828" y="170"/>
                </a:lnTo>
                <a:lnTo>
                  <a:pt x="834" y="154"/>
                </a:lnTo>
                <a:lnTo>
                  <a:pt x="839" y="144"/>
                </a:lnTo>
                <a:lnTo>
                  <a:pt x="844" y="128"/>
                </a:lnTo>
                <a:lnTo>
                  <a:pt x="844" y="117"/>
                </a:lnTo>
                <a:lnTo>
                  <a:pt x="850" y="112"/>
                </a:lnTo>
                <a:lnTo>
                  <a:pt x="850" y="101"/>
                </a:lnTo>
                <a:lnTo>
                  <a:pt x="855" y="96"/>
                </a:lnTo>
                <a:lnTo>
                  <a:pt x="855" y="96"/>
                </a:lnTo>
                <a:close/>
                <a:moveTo>
                  <a:pt x="604" y="335"/>
                </a:moveTo>
                <a:lnTo>
                  <a:pt x="604" y="330"/>
                </a:lnTo>
                <a:lnTo>
                  <a:pt x="609" y="330"/>
                </a:lnTo>
                <a:lnTo>
                  <a:pt x="615" y="325"/>
                </a:lnTo>
                <a:lnTo>
                  <a:pt x="620" y="325"/>
                </a:lnTo>
                <a:lnTo>
                  <a:pt x="631" y="325"/>
                </a:lnTo>
                <a:lnTo>
                  <a:pt x="641" y="325"/>
                </a:lnTo>
                <a:lnTo>
                  <a:pt x="652" y="325"/>
                </a:lnTo>
                <a:lnTo>
                  <a:pt x="668" y="330"/>
                </a:lnTo>
                <a:lnTo>
                  <a:pt x="679" y="335"/>
                </a:lnTo>
                <a:lnTo>
                  <a:pt x="684" y="335"/>
                </a:lnTo>
                <a:lnTo>
                  <a:pt x="689" y="335"/>
                </a:lnTo>
                <a:lnTo>
                  <a:pt x="695" y="335"/>
                </a:lnTo>
                <a:lnTo>
                  <a:pt x="695" y="341"/>
                </a:lnTo>
                <a:lnTo>
                  <a:pt x="700" y="341"/>
                </a:lnTo>
                <a:lnTo>
                  <a:pt x="700" y="346"/>
                </a:lnTo>
                <a:lnTo>
                  <a:pt x="700" y="357"/>
                </a:lnTo>
                <a:lnTo>
                  <a:pt x="705" y="367"/>
                </a:lnTo>
                <a:lnTo>
                  <a:pt x="705" y="383"/>
                </a:lnTo>
                <a:lnTo>
                  <a:pt x="705" y="394"/>
                </a:lnTo>
                <a:lnTo>
                  <a:pt x="705" y="405"/>
                </a:lnTo>
                <a:lnTo>
                  <a:pt x="705" y="421"/>
                </a:lnTo>
                <a:lnTo>
                  <a:pt x="711" y="442"/>
                </a:lnTo>
                <a:lnTo>
                  <a:pt x="711" y="463"/>
                </a:lnTo>
                <a:lnTo>
                  <a:pt x="716" y="490"/>
                </a:lnTo>
                <a:lnTo>
                  <a:pt x="721" y="522"/>
                </a:lnTo>
                <a:lnTo>
                  <a:pt x="727" y="559"/>
                </a:lnTo>
                <a:lnTo>
                  <a:pt x="732" y="575"/>
                </a:lnTo>
                <a:lnTo>
                  <a:pt x="732" y="591"/>
                </a:lnTo>
                <a:lnTo>
                  <a:pt x="737" y="607"/>
                </a:lnTo>
                <a:lnTo>
                  <a:pt x="737" y="623"/>
                </a:lnTo>
                <a:lnTo>
                  <a:pt x="743" y="634"/>
                </a:lnTo>
                <a:lnTo>
                  <a:pt x="743" y="650"/>
                </a:lnTo>
                <a:lnTo>
                  <a:pt x="748" y="671"/>
                </a:lnTo>
                <a:lnTo>
                  <a:pt x="748" y="687"/>
                </a:lnTo>
                <a:lnTo>
                  <a:pt x="748" y="703"/>
                </a:lnTo>
                <a:lnTo>
                  <a:pt x="754" y="714"/>
                </a:lnTo>
                <a:lnTo>
                  <a:pt x="754" y="724"/>
                </a:lnTo>
                <a:lnTo>
                  <a:pt x="748" y="735"/>
                </a:lnTo>
                <a:lnTo>
                  <a:pt x="748" y="751"/>
                </a:lnTo>
                <a:lnTo>
                  <a:pt x="743" y="756"/>
                </a:lnTo>
                <a:lnTo>
                  <a:pt x="732" y="767"/>
                </a:lnTo>
                <a:lnTo>
                  <a:pt x="727" y="756"/>
                </a:lnTo>
                <a:lnTo>
                  <a:pt x="721" y="746"/>
                </a:lnTo>
                <a:lnTo>
                  <a:pt x="711" y="730"/>
                </a:lnTo>
                <a:lnTo>
                  <a:pt x="705" y="708"/>
                </a:lnTo>
                <a:lnTo>
                  <a:pt x="695" y="687"/>
                </a:lnTo>
                <a:lnTo>
                  <a:pt x="689" y="666"/>
                </a:lnTo>
                <a:lnTo>
                  <a:pt x="679" y="639"/>
                </a:lnTo>
                <a:lnTo>
                  <a:pt x="673" y="607"/>
                </a:lnTo>
                <a:lnTo>
                  <a:pt x="668" y="581"/>
                </a:lnTo>
                <a:lnTo>
                  <a:pt x="663" y="549"/>
                </a:lnTo>
                <a:lnTo>
                  <a:pt x="652" y="527"/>
                </a:lnTo>
                <a:lnTo>
                  <a:pt x="647" y="501"/>
                </a:lnTo>
                <a:lnTo>
                  <a:pt x="641" y="485"/>
                </a:lnTo>
                <a:lnTo>
                  <a:pt x="636" y="463"/>
                </a:lnTo>
                <a:lnTo>
                  <a:pt x="631" y="447"/>
                </a:lnTo>
                <a:lnTo>
                  <a:pt x="625" y="437"/>
                </a:lnTo>
                <a:lnTo>
                  <a:pt x="620" y="426"/>
                </a:lnTo>
                <a:lnTo>
                  <a:pt x="615" y="415"/>
                </a:lnTo>
                <a:lnTo>
                  <a:pt x="604" y="394"/>
                </a:lnTo>
                <a:lnTo>
                  <a:pt x="598" y="378"/>
                </a:lnTo>
                <a:lnTo>
                  <a:pt x="598" y="367"/>
                </a:lnTo>
                <a:lnTo>
                  <a:pt x="593" y="362"/>
                </a:lnTo>
                <a:lnTo>
                  <a:pt x="593" y="357"/>
                </a:lnTo>
                <a:lnTo>
                  <a:pt x="593" y="346"/>
                </a:lnTo>
                <a:lnTo>
                  <a:pt x="598" y="341"/>
                </a:lnTo>
                <a:lnTo>
                  <a:pt x="604" y="335"/>
                </a:lnTo>
                <a:lnTo>
                  <a:pt x="604" y="335"/>
                </a:lnTo>
                <a:close/>
                <a:moveTo>
                  <a:pt x="1326" y="325"/>
                </a:moveTo>
                <a:lnTo>
                  <a:pt x="1326" y="330"/>
                </a:lnTo>
                <a:lnTo>
                  <a:pt x="1326" y="335"/>
                </a:lnTo>
                <a:lnTo>
                  <a:pt x="1326" y="341"/>
                </a:lnTo>
                <a:lnTo>
                  <a:pt x="1320" y="346"/>
                </a:lnTo>
                <a:lnTo>
                  <a:pt x="1320" y="351"/>
                </a:lnTo>
                <a:lnTo>
                  <a:pt x="1315" y="351"/>
                </a:lnTo>
                <a:lnTo>
                  <a:pt x="1299" y="357"/>
                </a:lnTo>
                <a:lnTo>
                  <a:pt x="1293" y="362"/>
                </a:lnTo>
                <a:lnTo>
                  <a:pt x="1293" y="367"/>
                </a:lnTo>
                <a:lnTo>
                  <a:pt x="1288" y="373"/>
                </a:lnTo>
                <a:lnTo>
                  <a:pt x="1283" y="378"/>
                </a:lnTo>
                <a:lnTo>
                  <a:pt x="1277" y="383"/>
                </a:lnTo>
                <a:lnTo>
                  <a:pt x="1272" y="394"/>
                </a:lnTo>
                <a:lnTo>
                  <a:pt x="1267" y="399"/>
                </a:lnTo>
                <a:lnTo>
                  <a:pt x="1261" y="410"/>
                </a:lnTo>
                <a:lnTo>
                  <a:pt x="1256" y="426"/>
                </a:lnTo>
                <a:lnTo>
                  <a:pt x="1251" y="437"/>
                </a:lnTo>
                <a:lnTo>
                  <a:pt x="1245" y="453"/>
                </a:lnTo>
                <a:lnTo>
                  <a:pt x="1235" y="463"/>
                </a:lnTo>
                <a:lnTo>
                  <a:pt x="1229" y="485"/>
                </a:lnTo>
                <a:lnTo>
                  <a:pt x="1224" y="501"/>
                </a:lnTo>
                <a:lnTo>
                  <a:pt x="1219" y="517"/>
                </a:lnTo>
                <a:lnTo>
                  <a:pt x="1213" y="538"/>
                </a:lnTo>
                <a:lnTo>
                  <a:pt x="1203" y="559"/>
                </a:lnTo>
                <a:lnTo>
                  <a:pt x="1197" y="575"/>
                </a:lnTo>
                <a:lnTo>
                  <a:pt x="1192" y="591"/>
                </a:lnTo>
                <a:lnTo>
                  <a:pt x="1181" y="607"/>
                </a:lnTo>
                <a:lnTo>
                  <a:pt x="1176" y="623"/>
                </a:lnTo>
                <a:lnTo>
                  <a:pt x="1171" y="639"/>
                </a:lnTo>
                <a:lnTo>
                  <a:pt x="1165" y="650"/>
                </a:lnTo>
                <a:lnTo>
                  <a:pt x="1160" y="661"/>
                </a:lnTo>
                <a:lnTo>
                  <a:pt x="1154" y="671"/>
                </a:lnTo>
                <a:lnTo>
                  <a:pt x="1149" y="677"/>
                </a:lnTo>
                <a:lnTo>
                  <a:pt x="1149" y="682"/>
                </a:lnTo>
                <a:lnTo>
                  <a:pt x="1144" y="687"/>
                </a:lnTo>
                <a:lnTo>
                  <a:pt x="1138" y="693"/>
                </a:lnTo>
                <a:lnTo>
                  <a:pt x="1133" y="698"/>
                </a:lnTo>
                <a:lnTo>
                  <a:pt x="1133" y="698"/>
                </a:lnTo>
                <a:lnTo>
                  <a:pt x="1128" y="698"/>
                </a:lnTo>
                <a:lnTo>
                  <a:pt x="1122" y="698"/>
                </a:lnTo>
                <a:lnTo>
                  <a:pt x="1117" y="693"/>
                </a:lnTo>
                <a:lnTo>
                  <a:pt x="1117" y="687"/>
                </a:lnTo>
                <a:lnTo>
                  <a:pt x="1112" y="677"/>
                </a:lnTo>
                <a:lnTo>
                  <a:pt x="1112" y="661"/>
                </a:lnTo>
                <a:lnTo>
                  <a:pt x="1117" y="650"/>
                </a:lnTo>
                <a:lnTo>
                  <a:pt x="1117" y="629"/>
                </a:lnTo>
                <a:lnTo>
                  <a:pt x="1122" y="607"/>
                </a:lnTo>
                <a:lnTo>
                  <a:pt x="1128" y="565"/>
                </a:lnTo>
                <a:lnTo>
                  <a:pt x="1133" y="522"/>
                </a:lnTo>
                <a:lnTo>
                  <a:pt x="1144" y="479"/>
                </a:lnTo>
                <a:lnTo>
                  <a:pt x="1160" y="437"/>
                </a:lnTo>
                <a:lnTo>
                  <a:pt x="1165" y="415"/>
                </a:lnTo>
                <a:lnTo>
                  <a:pt x="1165" y="394"/>
                </a:lnTo>
                <a:lnTo>
                  <a:pt x="1171" y="378"/>
                </a:lnTo>
                <a:lnTo>
                  <a:pt x="1171" y="362"/>
                </a:lnTo>
                <a:lnTo>
                  <a:pt x="1171" y="351"/>
                </a:lnTo>
                <a:lnTo>
                  <a:pt x="1171" y="341"/>
                </a:lnTo>
                <a:lnTo>
                  <a:pt x="1171" y="330"/>
                </a:lnTo>
                <a:lnTo>
                  <a:pt x="1171" y="325"/>
                </a:lnTo>
                <a:lnTo>
                  <a:pt x="1160" y="319"/>
                </a:lnTo>
                <a:lnTo>
                  <a:pt x="1149" y="319"/>
                </a:lnTo>
                <a:lnTo>
                  <a:pt x="1133" y="314"/>
                </a:lnTo>
                <a:lnTo>
                  <a:pt x="1122" y="314"/>
                </a:lnTo>
                <a:lnTo>
                  <a:pt x="1117" y="314"/>
                </a:lnTo>
                <a:lnTo>
                  <a:pt x="1112" y="314"/>
                </a:lnTo>
                <a:lnTo>
                  <a:pt x="1101" y="314"/>
                </a:lnTo>
                <a:lnTo>
                  <a:pt x="1096" y="314"/>
                </a:lnTo>
                <a:lnTo>
                  <a:pt x="1085" y="319"/>
                </a:lnTo>
                <a:lnTo>
                  <a:pt x="1074" y="319"/>
                </a:lnTo>
                <a:lnTo>
                  <a:pt x="1064" y="319"/>
                </a:lnTo>
                <a:lnTo>
                  <a:pt x="1048" y="325"/>
                </a:lnTo>
                <a:lnTo>
                  <a:pt x="1037" y="325"/>
                </a:lnTo>
                <a:lnTo>
                  <a:pt x="1021" y="325"/>
                </a:lnTo>
                <a:lnTo>
                  <a:pt x="1005" y="330"/>
                </a:lnTo>
                <a:lnTo>
                  <a:pt x="989" y="330"/>
                </a:lnTo>
                <a:lnTo>
                  <a:pt x="967" y="335"/>
                </a:lnTo>
                <a:lnTo>
                  <a:pt x="951" y="341"/>
                </a:lnTo>
                <a:lnTo>
                  <a:pt x="930" y="341"/>
                </a:lnTo>
                <a:lnTo>
                  <a:pt x="909" y="346"/>
                </a:lnTo>
                <a:lnTo>
                  <a:pt x="882" y="351"/>
                </a:lnTo>
                <a:lnTo>
                  <a:pt x="860" y="357"/>
                </a:lnTo>
                <a:lnTo>
                  <a:pt x="839" y="357"/>
                </a:lnTo>
                <a:lnTo>
                  <a:pt x="823" y="362"/>
                </a:lnTo>
                <a:lnTo>
                  <a:pt x="802" y="367"/>
                </a:lnTo>
                <a:lnTo>
                  <a:pt x="786" y="367"/>
                </a:lnTo>
                <a:lnTo>
                  <a:pt x="770" y="373"/>
                </a:lnTo>
                <a:lnTo>
                  <a:pt x="754" y="373"/>
                </a:lnTo>
                <a:lnTo>
                  <a:pt x="737" y="378"/>
                </a:lnTo>
                <a:lnTo>
                  <a:pt x="727" y="378"/>
                </a:lnTo>
                <a:lnTo>
                  <a:pt x="716" y="378"/>
                </a:lnTo>
                <a:lnTo>
                  <a:pt x="705" y="383"/>
                </a:lnTo>
                <a:lnTo>
                  <a:pt x="695" y="383"/>
                </a:lnTo>
                <a:lnTo>
                  <a:pt x="689" y="383"/>
                </a:lnTo>
                <a:lnTo>
                  <a:pt x="679" y="383"/>
                </a:lnTo>
                <a:lnTo>
                  <a:pt x="673" y="383"/>
                </a:lnTo>
                <a:lnTo>
                  <a:pt x="673" y="341"/>
                </a:lnTo>
                <a:lnTo>
                  <a:pt x="700" y="335"/>
                </a:lnTo>
                <a:lnTo>
                  <a:pt x="732" y="330"/>
                </a:lnTo>
                <a:lnTo>
                  <a:pt x="780" y="319"/>
                </a:lnTo>
                <a:lnTo>
                  <a:pt x="834" y="309"/>
                </a:lnTo>
                <a:lnTo>
                  <a:pt x="882" y="303"/>
                </a:lnTo>
                <a:lnTo>
                  <a:pt x="909" y="298"/>
                </a:lnTo>
                <a:lnTo>
                  <a:pt x="930" y="293"/>
                </a:lnTo>
                <a:lnTo>
                  <a:pt x="973" y="287"/>
                </a:lnTo>
                <a:lnTo>
                  <a:pt x="1015" y="277"/>
                </a:lnTo>
                <a:lnTo>
                  <a:pt x="1058" y="271"/>
                </a:lnTo>
                <a:lnTo>
                  <a:pt x="1074" y="266"/>
                </a:lnTo>
                <a:lnTo>
                  <a:pt x="1090" y="261"/>
                </a:lnTo>
                <a:lnTo>
                  <a:pt x="1101" y="255"/>
                </a:lnTo>
                <a:lnTo>
                  <a:pt x="1117" y="250"/>
                </a:lnTo>
                <a:lnTo>
                  <a:pt x="1128" y="245"/>
                </a:lnTo>
                <a:lnTo>
                  <a:pt x="1133" y="239"/>
                </a:lnTo>
                <a:lnTo>
                  <a:pt x="1144" y="234"/>
                </a:lnTo>
                <a:lnTo>
                  <a:pt x="1149" y="229"/>
                </a:lnTo>
                <a:lnTo>
                  <a:pt x="1160" y="224"/>
                </a:lnTo>
                <a:lnTo>
                  <a:pt x="1171" y="224"/>
                </a:lnTo>
                <a:lnTo>
                  <a:pt x="1176" y="218"/>
                </a:lnTo>
                <a:lnTo>
                  <a:pt x="1187" y="218"/>
                </a:lnTo>
                <a:lnTo>
                  <a:pt x="1192" y="218"/>
                </a:lnTo>
                <a:lnTo>
                  <a:pt x="1197" y="218"/>
                </a:lnTo>
                <a:lnTo>
                  <a:pt x="1208" y="224"/>
                </a:lnTo>
                <a:lnTo>
                  <a:pt x="1213" y="229"/>
                </a:lnTo>
                <a:lnTo>
                  <a:pt x="1224" y="234"/>
                </a:lnTo>
                <a:lnTo>
                  <a:pt x="1235" y="239"/>
                </a:lnTo>
                <a:lnTo>
                  <a:pt x="1251" y="245"/>
                </a:lnTo>
                <a:lnTo>
                  <a:pt x="1267" y="255"/>
                </a:lnTo>
                <a:lnTo>
                  <a:pt x="1277" y="266"/>
                </a:lnTo>
                <a:lnTo>
                  <a:pt x="1293" y="277"/>
                </a:lnTo>
                <a:lnTo>
                  <a:pt x="1304" y="287"/>
                </a:lnTo>
                <a:lnTo>
                  <a:pt x="1310" y="298"/>
                </a:lnTo>
                <a:lnTo>
                  <a:pt x="1315" y="303"/>
                </a:lnTo>
                <a:lnTo>
                  <a:pt x="1320" y="314"/>
                </a:lnTo>
                <a:lnTo>
                  <a:pt x="1326" y="319"/>
                </a:lnTo>
                <a:lnTo>
                  <a:pt x="1326" y="325"/>
                </a:lnTo>
                <a:lnTo>
                  <a:pt x="1326" y="325"/>
                </a:lnTo>
                <a:close/>
                <a:moveTo>
                  <a:pt x="876" y="378"/>
                </a:moveTo>
                <a:lnTo>
                  <a:pt x="876" y="367"/>
                </a:lnTo>
                <a:lnTo>
                  <a:pt x="871" y="362"/>
                </a:lnTo>
                <a:lnTo>
                  <a:pt x="871" y="357"/>
                </a:lnTo>
                <a:lnTo>
                  <a:pt x="871" y="346"/>
                </a:lnTo>
                <a:lnTo>
                  <a:pt x="876" y="341"/>
                </a:lnTo>
                <a:lnTo>
                  <a:pt x="876" y="341"/>
                </a:lnTo>
                <a:lnTo>
                  <a:pt x="876" y="335"/>
                </a:lnTo>
                <a:lnTo>
                  <a:pt x="882" y="335"/>
                </a:lnTo>
                <a:lnTo>
                  <a:pt x="887" y="330"/>
                </a:lnTo>
                <a:lnTo>
                  <a:pt x="887" y="330"/>
                </a:lnTo>
                <a:lnTo>
                  <a:pt x="893" y="330"/>
                </a:lnTo>
                <a:lnTo>
                  <a:pt x="898" y="330"/>
                </a:lnTo>
                <a:lnTo>
                  <a:pt x="914" y="330"/>
                </a:lnTo>
                <a:lnTo>
                  <a:pt x="930" y="335"/>
                </a:lnTo>
                <a:lnTo>
                  <a:pt x="946" y="335"/>
                </a:lnTo>
                <a:lnTo>
                  <a:pt x="957" y="346"/>
                </a:lnTo>
                <a:lnTo>
                  <a:pt x="967" y="351"/>
                </a:lnTo>
                <a:lnTo>
                  <a:pt x="967" y="357"/>
                </a:lnTo>
                <a:lnTo>
                  <a:pt x="973" y="357"/>
                </a:lnTo>
                <a:lnTo>
                  <a:pt x="973" y="362"/>
                </a:lnTo>
                <a:lnTo>
                  <a:pt x="973" y="367"/>
                </a:lnTo>
                <a:lnTo>
                  <a:pt x="973" y="373"/>
                </a:lnTo>
                <a:lnTo>
                  <a:pt x="973" y="378"/>
                </a:lnTo>
                <a:lnTo>
                  <a:pt x="973" y="383"/>
                </a:lnTo>
                <a:lnTo>
                  <a:pt x="973" y="394"/>
                </a:lnTo>
                <a:lnTo>
                  <a:pt x="973" y="405"/>
                </a:lnTo>
                <a:lnTo>
                  <a:pt x="967" y="415"/>
                </a:lnTo>
                <a:lnTo>
                  <a:pt x="967" y="426"/>
                </a:lnTo>
                <a:lnTo>
                  <a:pt x="967" y="442"/>
                </a:lnTo>
                <a:lnTo>
                  <a:pt x="962" y="458"/>
                </a:lnTo>
                <a:lnTo>
                  <a:pt x="962" y="469"/>
                </a:lnTo>
                <a:lnTo>
                  <a:pt x="957" y="490"/>
                </a:lnTo>
                <a:lnTo>
                  <a:pt x="957" y="506"/>
                </a:lnTo>
                <a:lnTo>
                  <a:pt x="951" y="522"/>
                </a:lnTo>
                <a:lnTo>
                  <a:pt x="946" y="543"/>
                </a:lnTo>
                <a:lnTo>
                  <a:pt x="941" y="586"/>
                </a:lnTo>
                <a:lnTo>
                  <a:pt x="935" y="629"/>
                </a:lnTo>
                <a:lnTo>
                  <a:pt x="925" y="666"/>
                </a:lnTo>
                <a:lnTo>
                  <a:pt x="919" y="698"/>
                </a:lnTo>
                <a:lnTo>
                  <a:pt x="909" y="730"/>
                </a:lnTo>
                <a:lnTo>
                  <a:pt x="898" y="762"/>
                </a:lnTo>
                <a:lnTo>
                  <a:pt x="893" y="788"/>
                </a:lnTo>
                <a:lnTo>
                  <a:pt x="882" y="815"/>
                </a:lnTo>
                <a:lnTo>
                  <a:pt x="860" y="863"/>
                </a:lnTo>
                <a:lnTo>
                  <a:pt x="834" y="916"/>
                </a:lnTo>
                <a:lnTo>
                  <a:pt x="802" y="964"/>
                </a:lnTo>
                <a:lnTo>
                  <a:pt x="770" y="1018"/>
                </a:lnTo>
                <a:lnTo>
                  <a:pt x="748" y="1044"/>
                </a:lnTo>
                <a:lnTo>
                  <a:pt x="727" y="1071"/>
                </a:lnTo>
                <a:lnTo>
                  <a:pt x="711" y="1092"/>
                </a:lnTo>
                <a:lnTo>
                  <a:pt x="689" y="1114"/>
                </a:lnTo>
                <a:lnTo>
                  <a:pt x="668" y="1135"/>
                </a:lnTo>
                <a:lnTo>
                  <a:pt x="641" y="1156"/>
                </a:lnTo>
                <a:lnTo>
                  <a:pt x="620" y="1172"/>
                </a:lnTo>
                <a:lnTo>
                  <a:pt x="598" y="1193"/>
                </a:lnTo>
                <a:lnTo>
                  <a:pt x="572" y="1209"/>
                </a:lnTo>
                <a:lnTo>
                  <a:pt x="550" y="1220"/>
                </a:lnTo>
                <a:lnTo>
                  <a:pt x="534" y="1236"/>
                </a:lnTo>
                <a:lnTo>
                  <a:pt x="518" y="1241"/>
                </a:lnTo>
                <a:lnTo>
                  <a:pt x="508" y="1252"/>
                </a:lnTo>
                <a:lnTo>
                  <a:pt x="497" y="1257"/>
                </a:lnTo>
                <a:lnTo>
                  <a:pt x="492" y="1257"/>
                </a:lnTo>
                <a:lnTo>
                  <a:pt x="486" y="1257"/>
                </a:lnTo>
                <a:lnTo>
                  <a:pt x="486" y="1252"/>
                </a:lnTo>
                <a:lnTo>
                  <a:pt x="492" y="1247"/>
                </a:lnTo>
                <a:lnTo>
                  <a:pt x="497" y="1236"/>
                </a:lnTo>
                <a:lnTo>
                  <a:pt x="508" y="1225"/>
                </a:lnTo>
                <a:lnTo>
                  <a:pt x="518" y="1215"/>
                </a:lnTo>
                <a:lnTo>
                  <a:pt x="534" y="1199"/>
                </a:lnTo>
                <a:lnTo>
                  <a:pt x="550" y="1183"/>
                </a:lnTo>
                <a:lnTo>
                  <a:pt x="572" y="1162"/>
                </a:lnTo>
                <a:lnTo>
                  <a:pt x="593" y="1135"/>
                </a:lnTo>
                <a:lnTo>
                  <a:pt x="615" y="1114"/>
                </a:lnTo>
                <a:lnTo>
                  <a:pt x="636" y="1087"/>
                </a:lnTo>
                <a:lnTo>
                  <a:pt x="657" y="1060"/>
                </a:lnTo>
                <a:lnTo>
                  <a:pt x="679" y="1028"/>
                </a:lnTo>
                <a:lnTo>
                  <a:pt x="700" y="996"/>
                </a:lnTo>
                <a:lnTo>
                  <a:pt x="721" y="959"/>
                </a:lnTo>
                <a:lnTo>
                  <a:pt x="743" y="922"/>
                </a:lnTo>
                <a:lnTo>
                  <a:pt x="764" y="884"/>
                </a:lnTo>
                <a:lnTo>
                  <a:pt x="786" y="842"/>
                </a:lnTo>
                <a:lnTo>
                  <a:pt x="802" y="804"/>
                </a:lnTo>
                <a:lnTo>
                  <a:pt x="823" y="762"/>
                </a:lnTo>
                <a:lnTo>
                  <a:pt x="834" y="719"/>
                </a:lnTo>
                <a:lnTo>
                  <a:pt x="844" y="677"/>
                </a:lnTo>
                <a:lnTo>
                  <a:pt x="855" y="634"/>
                </a:lnTo>
                <a:lnTo>
                  <a:pt x="866" y="591"/>
                </a:lnTo>
                <a:lnTo>
                  <a:pt x="866" y="570"/>
                </a:lnTo>
                <a:lnTo>
                  <a:pt x="871" y="549"/>
                </a:lnTo>
                <a:lnTo>
                  <a:pt x="871" y="527"/>
                </a:lnTo>
                <a:lnTo>
                  <a:pt x="876" y="506"/>
                </a:lnTo>
                <a:lnTo>
                  <a:pt x="876" y="490"/>
                </a:lnTo>
                <a:lnTo>
                  <a:pt x="882" y="474"/>
                </a:lnTo>
                <a:lnTo>
                  <a:pt x="882" y="458"/>
                </a:lnTo>
                <a:lnTo>
                  <a:pt x="882" y="447"/>
                </a:lnTo>
                <a:lnTo>
                  <a:pt x="882" y="431"/>
                </a:lnTo>
                <a:lnTo>
                  <a:pt x="882" y="421"/>
                </a:lnTo>
                <a:lnTo>
                  <a:pt x="882" y="410"/>
                </a:lnTo>
                <a:lnTo>
                  <a:pt x="882" y="399"/>
                </a:lnTo>
                <a:lnTo>
                  <a:pt x="882" y="394"/>
                </a:lnTo>
                <a:lnTo>
                  <a:pt x="882" y="389"/>
                </a:lnTo>
                <a:lnTo>
                  <a:pt x="876" y="383"/>
                </a:lnTo>
                <a:lnTo>
                  <a:pt x="876" y="378"/>
                </a:lnTo>
                <a:lnTo>
                  <a:pt x="876" y="378"/>
                </a:lnTo>
                <a:close/>
                <a:moveTo>
                  <a:pt x="1128" y="1241"/>
                </a:moveTo>
                <a:lnTo>
                  <a:pt x="1176" y="1241"/>
                </a:lnTo>
                <a:lnTo>
                  <a:pt x="1219" y="1236"/>
                </a:lnTo>
                <a:lnTo>
                  <a:pt x="1240" y="1236"/>
                </a:lnTo>
                <a:lnTo>
                  <a:pt x="1261" y="1231"/>
                </a:lnTo>
                <a:lnTo>
                  <a:pt x="1283" y="1231"/>
                </a:lnTo>
                <a:lnTo>
                  <a:pt x="1299" y="1225"/>
                </a:lnTo>
                <a:lnTo>
                  <a:pt x="1315" y="1220"/>
                </a:lnTo>
                <a:lnTo>
                  <a:pt x="1331" y="1209"/>
                </a:lnTo>
                <a:lnTo>
                  <a:pt x="1347" y="1199"/>
                </a:lnTo>
                <a:lnTo>
                  <a:pt x="1358" y="1188"/>
                </a:lnTo>
                <a:lnTo>
                  <a:pt x="1368" y="1167"/>
                </a:lnTo>
                <a:lnTo>
                  <a:pt x="1379" y="1146"/>
                </a:lnTo>
                <a:lnTo>
                  <a:pt x="1390" y="1124"/>
                </a:lnTo>
                <a:lnTo>
                  <a:pt x="1395" y="1098"/>
                </a:lnTo>
                <a:lnTo>
                  <a:pt x="1400" y="1071"/>
                </a:lnTo>
                <a:lnTo>
                  <a:pt x="1411" y="1044"/>
                </a:lnTo>
                <a:lnTo>
                  <a:pt x="1416" y="1023"/>
                </a:lnTo>
                <a:lnTo>
                  <a:pt x="1422" y="1007"/>
                </a:lnTo>
                <a:lnTo>
                  <a:pt x="1427" y="996"/>
                </a:lnTo>
                <a:lnTo>
                  <a:pt x="1432" y="986"/>
                </a:lnTo>
                <a:lnTo>
                  <a:pt x="1438" y="980"/>
                </a:lnTo>
                <a:lnTo>
                  <a:pt x="1438" y="980"/>
                </a:lnTo>
                <a:lnTo>
                  <a:pt x="1438" y="980"/>
                </a:lnTo>
                <a:lnTo>
                  <a:pt x="1443" y="986"/>
                </a:lnTo>
                <a:lnTo>
                  <a:pt x="1443" y="996"/>
                </a:lnTo>
                <a:lnTo>
                  <a:pt x="1449" y="1002"/>
                </a:lnTo>
                <a:lnTo>
                  <a:pt x="1449" y="1018"/>
                </a:lnTo>
                <a:lnTo>
                  <a:pt x="1454" y="1034"/>
                </a:lnTo>
                <a:lnTo>
                  <a:pt x="1454" y="1050"/>
                </a:lnTo>
                <a:lnTo>
                  <a:pt x="1454" y="1071"/>
                </a:lnTo>
                <a:lnTo>
                  <a:pt x="1454" y="1092"/>
                </a:lnTo>
                <a:lnTo>
                  <a:pt x="1459" y="1114"/>
                </a:lnTo>
                <a:lnTo>
                  <a:pt x="1459" y="1135"/>
                </a:lnTo>
                <a:lnTo>
                  <a:pt x="1459" y="1156"/>
                </a:lnTo>
                <a:lnTo>
                  <a:pt x="1465" y="1172"/>
                </a:lnTo>
                <a:lnTo>
                  <a:pt x="1470" y="1188"/>
                </a:lnTo>
                <a:lnTo>
                  <a:pt x="1475" y="1204"/>
                </a:lnTo>
                <a:lnTo>
                  <a:pt x="1481" y="1220"/>
                </a:lnTo>
                <a:lnTo>
                  <a:pt x="1481" y="1225"/>
                </a:lnTo>
                <a:lnTo>
                  <a:pt x="1481" y="1231"/>
                </a:lnTo>
                <a:lnTo>
                  <a:pt x="1481" y="1236"/>
                </a:lnTo>
                <a:lnTo>
                  <a:pt x="1481" y="1241"/>
                </a:lnTo>
                <a:lnTo>
                  <a:pt x="1475" y="1247"/>
                </a:lnTo>
                <a:lnTo>
                  <a:pt x="1475" y="1252"/>
                </a:lnTo>
                <a:lnTo>
                  <a:pt x="1470" y="1257"/>
                </a:lnTo>
                <a:lnTo>
                  <a:pt x="1465" y="1263"/>
                </a:lnTo>
                <a:lnTo>
                  <a:pt x="1454" y="1268"/>
                </a:lnTo>
                <a:lnTo>
                  <a:pt x="1449" y="1273"/>
                </a:lnTo>
                <a:lnTo>
                  <a:pt x="1438" y="1284"/>
                </a:lnTo>
                <a:lnTo>
                  <a:pt x="1427" y="1284"/>
                </a:lnTo>
                <a:lnTo>
                  <a:pt x="1416" y="1289"/>
                </a:lnTo>
                <a:lnTo>
                  <a:pt x="1406" y="1295"/>
                </a:lnTo>
                <a:lnTo>
                  <a:pt x="1395" y="1300"/>
                </a:lnTo>
                <a:lnTo>
                  <a:pt x="1379" y="1305"/>
                </a:lnTo>
                <a:lnTo>
                  <a:pt x="1347" y="1316"/>
                </a:lnTo>
                <a:lnTo>
                  <a:pt x="1320" y="1327"/>
                </a:lnTo>
                <a:lnTo>
                  <a:pt x="1293" y="1332"/>
                </a:lnTo>
                <a:lnTo>
                  <a:pt x="1261" y="1337"/>
                </a:lnTo>
                <a:lnTo>
                  <a:pt x="1235" y="1343"/>
                </a:lnTo>
                <a:lnTo>
                  <a:pt x="1208" y="1343"/>
                </a:lnTo>
                <a:lnTo>
                  <a:pt x="1181" y="1343"/>
                </a:lnTo>
                <a:lnTo>
                  <a:pt x="1160" y="1348"/>
                </a:lnTo>
                <a:lnTo>
                  <a:pt x="1133" y="1343"/>
                </a:lnTo>
                <a:lnTo>
                  <a:pt x="1106" y="1343"/>
                </a:lnTo>
                <a:lnTo>
                  <a:pt x="1085" y="1337"/>
                </a:lnTo>
                <a:lnTo>
                  <a:pt x="1064" y="1332"/>
                </a:lnTo>
                <a:lnTo>
                  <a:pt x="1042" y="1332"/>
                </a:lnTo>
                <a:lnTo>
                  <a:pt x="1026" y="1327"/>
                </a:lnTo>
                <a:lnTo>
                  <a:pt x="1010" y="1321"/>
                </a:lnTo>
                <a:lnTo>
                  <a:pt x="994" y="1316"/>
                </a:lnTo>
                <a:lnTo>
                  <a:pt x="983" y="1305"/>
                </a:lnTo>
                <a:lnTo>
                  <a:pt x="973" y="1300"/>
                </a:lnTo>
                <a:lnTo>
                  <a:pt x="951" y="1284"/>
                </a:lnTo>
                <a:lnTo>
                  <a:pt x="935" y="1263"/>
                </a:lnTo>
                <a:lnTo>
                  <a:pt x="925" y="1252"/>
                </a:lnTo>
                <a:lnTo>
                  <a:pt x="919" y="1241"/>
                </a:lnTo>
                <a:lnTo>
                  <a:pt x="914" y="1231"/>
                </a:lnTo>
                <a:lnTo>
                  <a:pt x="909" y="1220"/>
                </a:lnTo>
                <a:lnTo>
                  <a:pt x="898" y="1193"/>
                </a:lnTo>
                <a:lnTo>
                  <a:pt x="898" y="1167"/>
                </a:lnTo>
                <a:lnTo>
                  <a:pt x="893" y="1140"/>
                </a:lnTo>
                <a:lnTo>
                  <a:pt x="893" y="1124"/>
                </a:lnTo>
                <a:lnTo>
                  <a:pt x="893" y="1108"/>
                </a:lnTo>
                <a:lnTo>
                  <a:pt x="893" y="1087"/>
                </a:lnTo>
                <a:lnTo>
                  <a:pt x="893" y="1066"/>
                </a:lnTo>
                <a:lnTo>
                  <a:pt x="893" y="1039"/>
                </a:lnTo>
                <a:lnTo>
                  <a:pt x="898" y="1007"/>
                </a:lnTo>
                <a:lnTo>
                  <a:pt x="898" y="975"/>
                </a:lnTo>
                <a:lnTo>
                  <a:pt x="898" y="938"/>
                </a:lnTo>
                <a:lnTo>
                  <a:pt x="903" y="916"/>
                </a:lnTo>
                <a:lnTo>
                  <a:pt x="903" y="900"/>
                </a:lnTo>
                <a:lnTo>
                  <a:pt x="903" y="884"/>
                </a:lnTo>
                <a:lnTo>
                  <a:pt x="903" y="868"/>
                </a:lnTo>
                <a:lnTo>
                  <a:pt x="909" y="852"/>
                </a:lnTo>
                <a:lnTo>
                  <a:pt x="909" y="842"/>
                </a:lnTo>
                <a:lnTo>
                  <a:pt x="909" y="826"/>
                </a:lnTo>
                <a:lnTo>
                  <a:pt x="909" y="815"/>
                </a:lnTo>
                <a:lnTo>
                  <a:pt x="909" y="804"/>
                </a:lnTo>
                <a:lnTo>
                  <a:pt x="914" y="794"/>
                </a:lnTo>
                <a:lnTo>
                  <a:pt x="914" y="788"/>
                </a:lnTo>
                <a:lnTo>
                  <a:pt x="914" y="783"/>
                </a:lnTo>
                <a:lnTo>
                  <a:pt x="914" y="772"/>
                </a:lnTo>
                <a:lnTo>
                  <a:pt x="914" y="767"/>
                </a:lnTo>
                <a:lnTo>
                  <a:pt x="919" y="767"/>
                </a:lnTo>
                <a:lnTo>
                  <a:pt x="919" y="762"/>
                </a:lnTo>
                <a:lnTo>
                  <a:pt x="925" y="756"/>
                </a:lnTo>
                <a:lnTo>
                  <a:pt x="935" y="756"/>
                </a:lnTo>
                <a:lnTo>
                  <a:pt x="935" y="756"/>
                </a:lnTo>
                <a:lnTo>
                  <a:pt x="946" y="756"/>
                </a:lnTo>
                <a:lnTo>
                  <a:pt x="951" y="762"/>
                </a:lnTo>
                <a:lnTo>
                  <a:pt x="962" y="762"/>
                </a:lnTo>
                <a:lnTo>
                  <a:pt x="967" y="767"/>
                </a:lnTo>
                <a:lnTo>
                  <a:pt x="978" y="772"/>
                </a:lnTo>
                <a:lnTo>
                  <a:pt x="983" y="778"/>
                </a:lnTo>
                <a:lnTo>
                  <a:pt x="989" y="783"/>
                </a:lnTo>
                <a:lnTo>
                  <a:pt x="989" y="788"/>
                </a:lnTo>
                <a:lnTo>
                  <a:pt x="994" y="794"/>
                </a:lnTo>
                <a:lnTo>
                  <a:pt x="994" y="799"/>
                </a:lnTo>
                <a:lnTo>
                  <a:pt x="994" y="810"/>
                </a:lnTo>
                <a:lnTo>
                  <a:pt x="994" y="815"/>
                </a:lnTo>
                <a:lnTo>
                  <a:pt x="994" y="826"/>
                </a:lnTo>
                <a:lnTo>
                  <a:pt x="989" y="836"/>
                </a:lnTo>
                <a:lnTo>
                  <a:pt x="989" y="847"/>
                </a:lnTo>
                <a:lnTo>
                  <a:pt x="983" y="858"/>
                </a:lnTo>
                <a:lnTo>
                  <a:pt x="978" y="874"/>
                </a:lnTo>
                <a:lnTo>
                  <a:pt x="978" y="890"/>
                </a:lnTo>
                <a:lnTo>
                  <a:pt x="973" y="906"/>
                </a:lnTo>
                <a:lnTo>
                  <a:pt x="967" y="922"/>
                </a:lnTo>
                <a:lnTo>
                  <a:pt x="962" y="938"/>
                </a:lnTo>
                <a:lnTo>
                  <a:pt x="957" y="980"/>
                </a:lnTo>
                <a:lnTo>
                  <a:pt x="957" y="1023"/>
                </a:lnTo>
                <a:lnTo>
                  <a:pt x="957" y="1066"/>
                </a:lnTo>
                <a:lnTo>
                  <a:pt x="951" y="1087"/>
                </a:lnTo>
                <a:lnTo>
                  <a:pt x="951" y="1108"/>
                </a:lnTo>
                <a:lnTo>
                  <a:pt x="957" y="1130"/>
                </a:lnTo>
                <a:lnTo>
                  <a:pt x="957" y="1146"/>
                </a:lnTo>
                <a:lnTo>
                  <a:pt x="962" y="1162"/>
                </a:lnTo>
                <a:lnTo>
                  <a:pt x="973" y="1177"/>
                </a:lnTo>
                <a:lnTo>
                  <a:pt x="978" y="1188"/>
                </a:lnTo>
                <a:lnTo>
                  <a:pt x="989" y="1199"/>
                </a:lnTo>
                <a:lnTo>
                  <a:pt x="999" y="1209"/>
                </a:lnTo>
                <a:lnTo>
                  <a:pt x="1010" y="1220"/>
                </a:lnTo>
                <a:lnTo>
                  <a:pt x="1026" y="1225"/>
                </a:lnTo>
                <a:lnTo>
                  <a:pt x="1042" y="1231"/>
                </a:lnTo>
                <a:lnTo>
                  <a:pt x="1064" y="1236"/>
                </a:lnTo>
                <a:lnTo>
                  <a:pt x="1080" y="1241"/>
                </a:lnTo>
                <a:lnTo>
                  <a:pt x="1106" y="1241"/>
                </a:lnTo>
                <a:lnTo>
                  <a:pt x="1128" y="1241"/>
                </a:lnTo>
                <a:lnTo>
                  <a:pt x="1128" y="1241"/>
                </a:lnTo>
                <a:close/>
                <a:moveTo>
                  <a:pt x="1277" y="970"/>
                </a:moveTo>
                <a:lnTo>
                  <a:pt x="1277" y="1007"/>
                </a:lnTo>
                <a:lnTo>
                  <a:pt x="1245" y="1018"/>
                </a:lnTo>
                <a:lnTo>
                  <a:pt x="1213" y="1023"/>
                </a:lnTo>
                <a:lnTo>
                  <a:pt x="1187" y="1034"/>
                </a:lnTo>
                <a:lnTo>
                  <a:pt x="1165" y="1039"/>
                </a:lnTo>
                <a:lnTo>
                  <a:pt x="1144" y="1044"/>
                </a:lnTo>
                <a:lnTo>
                  <a:pt x="1128" y="1055"/>
                </a:lnTo>
                <a:lnTo>
                  <a:pt x="1112" y="1060"/>
                </a:lnTo>
                <a:lnTo>
                  <a:pt x="1096" y="1066"/>
                </a:lnTo>
                <a:lnTo>
                  <a:pt x="1085" y="1071"/>
                </a:lnTo>
                <a:lnTo>
                  <a:pt x="1080" y="1076"/>
                </a:lnTo>
                <a:lnTo>
                  <a:pt x="1069" y="1082"/>
                </a:lnTo>
                <a:lnTo>
                  <a:pt x="1064" y="1082"/>
                </a:lnTo>
                <a:lnTo>
                  <a:pt x="1058" y="1087"/>
                </a:lnTo>
                <a:lnTo>
                  <a:pt x="1053" y="1087"/>
                </a:lnTo>
                <a:lnTo>
                  <a:pt x="1048" y="1087"/>
                </a:lnTo>
                <a:lnTo>
                  <a:pt x="1042" y="1087"/>
                </a:lnTo>
                <a:lnTo>
                  <a:pt x="1037" y="1087"/>
                </a:lnTo>
                <a:lnTo>
                  <a:pt x="1032" y="1082"/>
                </a:lnTo>
                <a:lnTo>
                  <a:pt x="1026" y="1082"/>
                </a:lnTo>
                <a:lnTo>
                  <a:pt x="1021" y="1076"/>
                </a:lnTo>
                <a:lnTo>
                  <a:pt x="1021" y="1071"/>
                </a:lnTo>
                <a:lnTo>
                  <a:pt x="1015" y="1066"/>
                </a:lnTo>
                <a:lnTo>
                  <a:pt x="1010" y="1055"/>
                </a:lnTo>
                <a:lnTo>
                  <a:pt x="1005" y="1050"/>
                </a:lnTo>
                <a:lnTo>
                  <a:pt x="999" y="1044"/>
                </a:lnTo>
                <a:lnTo>
                  <a:pt x="994" y="1039"/>
                </a:lnTo>
                <a:lnTo>
                  <a:pt x="994" y="1034"/>
                </a:lnTo>
                <a:lnTo>
                  <a:pt x="994" y="1028"/>
                </a:lnTo>
                <a:lnTo>
                  <a:pt x="994" y="1023"/>
                </a:lnTo>
                <a:lnTo>
                  <a:pt x="994" y="1018"/>
                </a:lnTo>
                <a:lnTo>
                  <a:pt x="999" y="1012"/>
                </a:lnTo>
                <a:lnTo>
                  <a:pt x="1005" y="1007"/>
                </a:lnTo>
                <a:lnTo>
                  <a:pt x="1010" y="996"/>
                </a:lnTo>
                <a:lnTo>
                  <a:pt x="1021" y="986"/>
                </a:lnTo>
                <a:lnTo>
                  <a:pt x="1026" y="986"/>
                </a:lnTo>
                <a:lnTo>
                  <a:pt x="1032" y="980"/>
                </a:lnTo>
                <a:lnTo>
                  <a:pt x="1037" y="975"/>
                </a:lnTo>
                <a:lnTo>
                  <a:pt x="1042" y="970"/>
                </a:lnTo>
                <a:lnTo>
                  <a:pt x="1048" y="959"/>
                </a:lnTo>
                <a:lnTo>
                  <a:pt x="1053" y="948"/>
                </a:lnTo>
                <a:lnTo>
                  <a:pt x="1064" y="943"/>
                </a:lnTo>
                <a:lnTo>
                  <a:pt x="1069" y="927"/>
                </a:lnTo>
                <a:lnTo>
                  <a:pt x="1080" y="906"/>
                </a:lnTo>
                <a:lnTo>
                  <a:pt x="1090" y="884"/>
                </a:lnTo>
                <a:lnTo>
                  <a:pt x="1101" y="863"/>
                </a:lnTo>
                <a:lnTo>
                  <a:pt x="1112" y="842"/>
                </a:lnTo>
                <a:lnTo>
                  <a:pt x="1112" y="826"/>
                </a:lnTo>
                <a:lnTo>
                  <a:pt x="1112" y="815"/>
                </a:lnTo>
                <a:lnTo>
                  <a:pt x="1112" y="810"/>
                </a:lnTo>
                <a:lnTo>
                  <a:pt x="1112" y="799"/>
                </a:lnTo>
                <a:lnTo>
                  <a:pt x="1112" y="788"/>
                </a:lnTo>
                <a:lnTo>
                  <a:pt x="1112" y="778"/>
                </a:lnTo>
                <a:lnTo>
                  <a:pt x="1106" y="772"/>
                </a:lnTo>
                <a:lnTo>
                  <a:pt x="1101" y="767"/>
                </a:lnTo>
                <a:lnTo>
                  <a:pt x="1101" y="756"/>
                </a:lnTo>
                <a:lnTo>
                  <a:pt x="1101" y="751"/>
                </a:lnTo>
                <a:lnTo>
                  <a:pt x="1101" y="746"/>
                </a:lnTo>
                <a:lnTo>
                  <a:pt x="1106" y="740"/>
                </a:lnTo>
                <a:lnTo>
                  <a:pt x="1112" y="740"/>
                </a:lnTo>
                <a:lnTo>
                  <a:pt x="1117" y="740"/>
                </a:lnTo>
                <a:lnTo>
                  <a:pt x="1122" y="740"/>
                </a:lnTo>
                <a:lnTo>
                  <a:pt x="1128" y="740"/>
                </a:lnTo>
                <a:lnTo>
                  <a:pt x="1138" y="740"/>
                </a:lnTo>
                <a:lnTo>
                  <a:pt x="1149" y="740"/>
                </a:lnTo>
                <a:lnTo>
                  <a:pt x="1160" y="746"/>
                </a:lnTo>
                <a:lnTo>
                  <a:pt x="1165" y="746"/>
                </a:lnTo>
                <a:lnTo>
                  <a:pt x="1176" y="751"/>
                </a:lnTo>
                <a:lnTo>
                  <a:pt x="1181" y="756"/>
                </a:lnTo>
                <a:lnTo>
                  <a:pt x="1192" y="762"/>
                </a:lnTo>
                <a:lnTo>
                  <a:pt x="1192" y="767"/>
                </a:lnTo>
                <a:lnTo>
                  <a:pt x="1197" y="772"/>
                </a:lnTo>
                <a:lnTo>
                  <a:pt x="1197" y="783"/>
                </a:lnTo>
                <a:lnTo>
                  <a:pt x="1197" y="788"/>
                </a:lnTo>
                <a:lnTo>
                  <a:pt x="1197" y="794"/>
                </a:lnTo>
                <a:lnTo>
                  <a:pt x="1197" y="804"/>
                </a:lnTo>
                <a:lnTo>
                  <a:pt x="1192" y="810"/>
                </a:lnTo>
                <a:lnTo>
                  <a:pt x="1192" y="820"/>
                </a:lnTo>
                <a:lnTo>
                  <a:pt x="1181" y="842"/>
                </a:lnTo>
                <a:lnTo>
                  <a:pt x="1171" y="863"/>
                </a:lnTo>
                <a:lnTo>
                  <a:pt x="1154" y="890"/>
                </a:lnTo>
                <a:lnTo>
                  <a:pt x="1138" y="911"/>
                </a:lnTo>
                <a:lnTo>
                  <a:pt x="1122" y="927"/>
                </a:lnTo>
                <a:lnTo>
                  <a:pt x="1112" y="948"/>
                </a:lnTo>
                <a:lnTo>
                  <a:pt x="1101" y="959"/>
                </a:lnTo>
                <a:lnTo>
                  <a:pt x="1096" y="964"/>
                </a:lnTo>
                <a:lnTo>
                  <a:pt x="1090" y="970"/>
                </a:lnTo>
                <a:lnTo>
                  <a:pt x="1085" y="980"/>
                </a:lnTo>
                <a:lnTo>
                  <a:pt x="1085" y="986"/>
                </a:lnTo>
                <a:lnTo>
                  <a:pt x="1085" y="986"/>
                </a:lnTo>
                <a:lnTo>
                  <a:pt x="1085" y="991"/>
                </a:lnTo>
                <a:lnTo>
                  <a:pt x="1085" y="991"/>
                </a:lnTo>
                <a:lnTo>
                  <a:pt x="1090" y="996"/>
                </a:lnTo>
                <a:lnTo>
                  <a:pt x="1090" y="996"/>
                </a:lnTo>
                <a:lnTo>
                  <a:pt x="1096" y="996"/>
                </a:lnTo>
                <a:lnTo>
                  <a:pt x="1106" y="996"/>
                </a:lnTo>
                <a:lnTo>
                  <a:pt x="1112" y="996"/>
                </a:lnTo>
                <a:lnTo>
                  <a:pt x="1122" y="996"/>
                </a:lnTo>
                <a:lnTo>
                  <a:pt x="1133" y="996"/>
                </a:lnTo>
                <a:lnTo>
                  <a:pt x="1144" y="991"/>
                </a:lnTo>
                <a:lnTo>
                  <a:pt x="1160" y="991"/>
                </a:lnTo>
                <a:lnTo>
                  <a:pt x="1171" y="986"/>
                </a:lnTo>
                <a:lnTo>
                  <a:pt x="1187" y="986"/>
                </a:lnTo>
                <a:lnTo>
                  <a:pt x="1203" y="980"/>
                </a:lnTo>
                <a:lnTo>
                  <a:pt x="1219" y="975"/>
                </a:lnTo>
                <a:lnTo>
                  <a:pt x="1240" y="975"/>
                </a:lnTo>
                <a:lnTo>
                  <a:pt x="1277" y="970"/>
                </a:lnTo>
                <a:lnTo>
                  <a:pt x="1277" y="970"/>
                </a:lnTo>
                <a:close/>
                <a:moveTo>
                  <a:pt x="1235" y="884"/>
                </a:moveTo>
                <a:lnTo>
                  <a:pt x="1240" y="884"/>
                </a:lnTo>
                <a:lnTo>
                  <a:pt x="1240" y="884"/>
                </a:lnTo>
                <a:lnTo>
                  <a:pt x="1251" y="890"/>
                </a:lnTo>
                <a:lnTo>
                  <a:pt x="1256" y="895"/>
                </a:lnTo>
                <a:lnTo>
                  <a:pt x="1261" y="900"/>
                </a:lnTo>
                <a:lnTo>
                  <a:pt x="1272" y="906"/>
                </a:lnTo>
                <a:lnTo>
                  <a:pt x="1277" y="911"/>
                </a:lnTo>
                <a:lnTo>
                  <a:pt x="1288" y="927"/>
                </a:lnTo>
                <a:lnTo>
                  <a:pt x="1304" y="938"/>
                </a:lnTo>
                <a:lnTo>
                  <a:pt x="1315" y="954"/>
                </a:lnTo>
                <a:lnTo>
                  <a:pt x="1326" y="975"/>
                </a:lnTo>
                <a:lnTo>
                  <a:pt x="1331" y="986"/>
                </a:lnTo>
                <a:lnTo>
                  <a:pt x="1331" y="996"/>
                </a:lnTo>
                <a:lnTo>
                  <a:pt x="1331" y="1007"/>
                </a:lnTo>
                <a:lnTo>
                  <a:pt x="1331" y="1012"/>
                </a:lnTo>
                <a:lnTo>
                  <a:pt x="1331" y="1023"/>
                </a:lnTo>
                <a:lnTo>
                  <a:pt x="1331" y="1028"/>
                </a:lnTo>
                <a:lnTo>
                  <a:pt x="1326" y="1034"/>
                </a:lnTo>
                <a:lnTo>
                  <a:pt x="1320" y="1039"/>
                </a:lnTo>
                <a:lnTo>
                  <a:pt x="1310" y="1044"/>
                </a:lnTo>
                <a:lnTo>
                  <a:pt x="1304" y="1044"/>
                </a:lnTo>
                <a:lnTo>
                  <a:pt x="1299" y="1044"/>
                </a:lnTo>
                <a:lnTo>
                  <a:pt x="1293" y="1044"/>
                </a:lnTo>
                <a:lnTo>
                  <a:pt x="1283" y="1039"/>
                </a:lnTo>
                <a:lnTo>
                  <a:pt x="1277" y="1034"/>
                </a:lnTo>
                <a:lnTo>
                  <a:pt x="1272" y="1028"/>
                </a:lnTo>
                <a:lnTo>
                  <a:pt x="1267" y="1018"/>
                </a:lnTo>
                <a:lnTo>
                  <a:pt x="1256" y="1012"/>
                </a:lnTo>
                <a:lnTo>
                  <a:pt x="1251" y="1002"/>
                </a:lnTo>
                <a:lnTo>
                  <a:pt x="1240" y="980"/>
                </a:lnTo>
                <a:lnTo>
                  <a:pt x="1235" y="959"/>
                </a:lnTo>
                <a:lnTo>
                  <a:pt x="1229" y="938"/>
                </a:lnTo>
                <a:lnTo>
                  <a:pt x="1229" y="922"/>
                </a:lnTo>
                <a:lnTo>
                  <a:pt x="1229" y="916"/>
                </a:lnTo>
                <a:lnTo>
                  <a:pt x="1229" y="906"/>
                </a:lnTo>
                <a:lnTo>
                  <a:pt x="1229" y="900"/>
                </a:lnTo>
                <a:lnTo>
                  <a:pt x="1229" y="890"/>
                </a:lnTo>
                <a:lnTo>
                  <a:pt x="1229" y="890"/>
                </a:lnTo>
                <a:lnTo>
                  <a:pt x="1235" y="884"/>
                </a:lnTo>
                <a:lnTo>
                  <a:pt x="1235" y="884"/>
                </a:lnTo>
                <a:lnTo>
                  <a:pt x="1235" y="884"/>
                </a:lnTo>
                <a:close/>
                <a:moveTo>
                  <a:pt x="780" y="533"/>
                </a:moveTo>
                <a:lnTo>
                  <a:pt x="770" y="527"/>
                </a:lnTo>
                <a:lnTo>
                  <a:pt x="764" y="517"/>
                </a:lnTo>
                <a:lnTo>
                  <a:pt x="759" y="506"/>
                </a:lnTo>
                <a:lnTo>
                  <a:pt x="754" y="495"/>
                </a:lnTo>
                <a:lnTo>
                  <a:pt x="775" y="490"/>
                </a:lnTo>
                <a:lnTo>
                  <a:pt x="802" y="479"/>
                </a:lnTo>
                <a:lnTo>
                  <a:pt x="823" y="474"/>
                </a:lnTo>
                <a:lnTo>
                  <a:pt x="844" y="474"/>
                </a:lnTo>
                <a:lnTo>
                  <a:pt x="866" y="469"/>
                </a:lnTo>
                <a:lnTo>
                  <a:pt x="887" y="463"/>
                </a:lnTo>
                <a:lnTo>
                  <a:pt x="903" y="458"/>
                </a:lnTo>
                <a:lnTo>
                  <a:pt x="919" y="458"/>
                </a:lnTo>
                <a:lnTo>
                  <a:pt x="935" y="453"/>
                </a:lnTo>
                <a:lnTo>
                  <a:pt x="951" y="447"/>
                </a:lnTo>
                <a:lnTo>
                  <a:pt x="967" y="447"/>
                </a:lnTo>
                <a:lnTo>
                  <a:pt x="978" y="447"/>
                </a:lnTo>
                <a:lnTo>
                  <a:pt x="989" y="442"/>
                </a:lnTo>
                <a:lnTo>
                  <a:pt x="999" y="442"/>
                </a:lnTo>
                <a:lnTo>
                  <a:pt x="1005" y="442"/>
                </a:lnTo>
                <a:lnTo>
                  <a:pt x="1015" y="442"/>
                </a:lnTo>
                <a:lnTo>
                  <a:pt x="1026" y="442"/>
                </a:lnTo>
                <a:lnTo>
                  <a:pt x="1037" y="442"/>
                </a:lnTo>
                <a:lnTo>
                  <a:pt x="1048" y="442"/>
                </a:lnTo>
                <a:lnTo>
                  <a:pt x="1058" y="442"/>
                </a:lnTo>
                <a:lnTo>
                  <a:pt x="1064" y="442"/>
                </a:lnTo>
                <a:lnTo>
                  <a:pt x="1074" y="447"/>
                </a:lnTo>
                <a:lnTo>
                  <a:pt x="1074" y="447"/>
                </a:lnTo>
                <a:lnTo>
                  <a:pt x="1080" y="447"/>
                </a:lnTo>
                <a:lnTo>
                  <a:pt x="1085" y="453"/>
                </a:lnTo>
                <a:lnTo>
                  <a:pt x="1085" y="463"/>
                </a:lnTo>
                <a:lnTo>
                  <a:pt x="1085" y="469"/>
                </a:lnTo>
                <a:lnTo>
                  <a:pt x="1085" y="474"/>
                </a:lnTo>
                <a:lnTo>
                  <a:pt x="1085" y="474"/>
                </a:lnTo>
                <a:lnTo>
                  <a:pt x="1085" y="479"/>
                </a:lnTo>
                <a:lnTo>
                  <a:pt x="1080" y="479"/>
                </a:lnTo>
                <a:lnTo>
                  <a:pt x="1074" y="485"/>
                </a:lnTo>
                <a:lnTo>
                  <a:pt x="1074" y="485"/>
                </a:lnTo>
                <a:lnTo>
                  <a:pt x="1064" y="490"/>
                </a:lnTo>
                <a:lnTo>
                  <a:pt x="1058" y="490"/>
                </a:lnTo>
                <a:lnTo>
                  <a:pt x="1048" y="495"/>
                </a:lnTo>
                <a:lnTo>
                  <a:pt x="1037" y="495"/>
                </a:lnTo>
                <a:lnTo>
                  <a:pt x="1032" y="501"/>
                </a:lnTo>
                <a:lnTo>
                  <a:pt x="1021" y="501"/>
                </a:lnTo>
                <a:lnTo>
                  <a:pt x="1015" y="501"/>
                </a:lnTo>
                <a:lnTo>
                  <a:pt x="1010" y="506"/>
                </a:lnTo>
                <a:lnTo>
                  <a:pt x="1010" y="506"/>
                </a:lnTo>
                <a:lnTo>
                  <a:pt x="999" y="506"/>
                </a:lnTo>
                <a:lnTo>
                  <a:pt x="999" y="506"/>
                </a:lnTo>
                <a:lnTo>
                  <a:pt x="994" y="506"/>
                </a:lnTo>
                <a:lnTo>
                  <a:pt x="983" y="506"/>
                </a:lnTo>
                <a:lnTo>
                  <a:pt x="973" y="511"/>
                </a:lnTo>
                <a:lnTo>
                  <a:pt x="957" y="511"/>
                </a:lnTo>
                <a:lnTo>
                  <a:pt x="941" y="517"/>
                </a:lnTo>
                <a:lnTo>
                  <a:pt x="919" y="517"/>
                </a:lnTo>
                <a:lnTo>
                  <a:pt x="898" y="517"/>
                </a:lnTo>
                <a:lnTo>
                  <a:pt x="876" y="522"/>
                </a:lnTo>
                <a:lnTo>
                  <a:pt x="855" y="527"/>
                </a:lnTo>
                <a:lnTo>
                  <a:pt x="839" y="533"/>
                </a:lnTo>
                <a:lnTo>
                  <a:pt x="823" y="533"/>
                </a:lnTo>
                <a:lnTo>
                  <a:pt x="807" y="533"/>
                </a:lnTo>
                <a:lnTo>
                  <a:pt x="796" y="533"/>
                </a:lnTo>
                <a:lnTo>
                  <a:pt x="791" y="533"/>
                </a:lnTo>
                <a:lnTo>
                  <a:pt x="780" y="533"/>
                </a:lnTo>
                <a:lnTo>
                  <a:pt x="780" y="533"/>
                </a:lnTo>
                <a:close/>
                <a:moveTo>
                  <a:pt x="732" y="682"/>
                </a:moveTo>
                <a:lnTo>
                  <a:pt x="754" y="677"/>
                </a:lnTo>
                <a:lnTo>
                  <a:pt x="775" y="677"/>
                </a:lnTo>
                <a:lnTo>
                  <a:pt x="796" y="671"/>
                </a:lnTo>
                <a:lnTo>
                  <a:pt x="818" y="666"/>
                </a:lnTo>
                <a:lnTo>
                  <a:pt x="844" y="666"/>
                </a:lnTo>
                <a:lnTo>
                  <a:pt x="866" y="661"/>
                </a:lnTo>
                <a:lnTo>
                  <a:pt x="898" y="655"/>
                </a:lnTo>
                <a:lnTo>
                  <a:pt x="925" y="650"/>
                </a:lnTo>
                <a:lnTo>
                  <a:pt x="951" y="645"/>
                </a:lnTo>
                <a:lnTo>
                  <a:pt x="978" y="639"/>
                </a:lnTo>
                <a:lnTo>
                  <a:pt x="1032" y="634"/>
                </a:lnTo>
                <a:lnTo>
                  <a:pt x="1085" y="629"/>
                </a:lnTo>
                <a:lnTo>
                  <a:pt x="1133" y="629"/>
                </a:lnTo>
                <a:lnTo>
                  <a:pt x="1133" y="682"/>
                </a:lnTo>
                <a:lnTo>
                  <a:pt x="1106" y="682"/>
                </a:lnTo>
                <a:lnTo>
                  <a:pt x="1080" y="682"/>
                </a:lnTo>
                <a:lnTo>
                  <a:pt x="1053" y="682"/>
                </a:lnTo>
                <a:lnTo>
                  <a:pt x="1026" y="682"/>
                </a:lnTo>
                <a:lnTo>
                  <a:pt x="978" y="687"/>
                </a:lnTo>
                <a:lnTo>
                  <a:pt x="930" y="698"/>
                </a:lnTo>
                <a:lnTo>
                  <a:pt x="882" y="708"/>
                </a:lnTo>
                <a:lnTo>
                  <a:pt x="834" y="719"/>
                </a:lnTo>
                <a:lnTo>
                  <a:pt x="780" y="724"/>
                </a:lnTo>
                <a:lnTo>
                  <a:pt x="732" y="730"/>
                </a:lnTo>
                <a:lnTo>
                  <a:pt x="732" y="682"/>
                </a:lnTo>
                <a:lnTo>
                  <a:pt x="732" y="68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79800" y="2787480"/>
            <a:ext cx="220680" cy="2200320"/>
          </a:xfrm>
          <a:custGeom>
            <a:avLst/>
            <a:gdLst/>
            <a:ahLst/>
            <a:rect l="l" t="t" r="r" b="b"/>
            <a:pathLst>
              <a:path w="139" h="1386">
                <a:moveTo>
                  <a:pt x="11" y="48"/>
                </a:moveTo>
                <a:lnTo>
                  <a:pt x="5" y="43"/>
                </a:lnTo>
                <a:lnTo>
                  <a:pt x="0" y="32"/>
                </a:lnTo>
                <a:lnTo>
                  <a:pt x="0" y="27"/>
                </a:lnTo>
                <a:lnTo>
                  <a:pt x="0" y="22"/>
                </a:lnTo>
                <a:lnTo>
                  <a:pt x="0" y="16"/>
                </a:lnTo>
                <a:lnTo>
                  <a:pt x="0" y="11"/>
                </a:lnTo>
                <a:lnTo>
                  <a:pt x="5" y="6"/>
                </a:lnTo>
                <a:lnTo>
                  <a:pt x="11" y="0"/>
                </a:lnTo>
                <a:lnTo>
                  <a:pt x="11" y="0"/>
                </a:lnTo>
                <a:lnTo>
                  <a:pt x="16" y="0"/>
                </a:lnTo>
                <a:lnTo>
                  <a:pt x="21" y="0"/>
                </a:lnTo>
                <a:lnTo>
                  <a:pt x="32" y="0"/>
                </a:lnTo>
                <a:lnTo>
                  <a:pt x="43" y="0"/>
                </a:lnTo>
                <a:lnTo>
                  <a:pt x="53" y="0"/>
                </a:lnTo>
                <a:lnTo>
                  <a:pt x="64" y="6"/>
                </a:lnTo>
                <a:lnTo>
                  <a:pt x="80" y="11"/>
                </a:lnTo>
                <a:lnTo>
                  <a:pt x="91" y="16"/>
                </a:lnTo>
                <a:lnTo>
                  <a:pt x="107" y="22"/>
                </a:lnTo>
                <a:lnTo>
                  <a:pt x="112" y="27"/>
                </a:lnTo>
                <a:lnTo>
                  <a:pt x="123" y="32"/>
                </a:lnTo>
                <a:lnTo>
                  <a:pt x="128" y="38"/>
                </a:lnTo>
                <a:lnTo>
                  <a:pt x="134" y="43"/>
                </a:lnTo>
                <a:lnTo>
                  <a:pt x="139" y="48"/>
                </a:lnTo>
                <a:lnTo>
                  <a:pt x="139" y="54"/>
                </a:lnTo>
                <a:lnTo>
                  <a:pt x="139" y="59"/>
                </a:lnTo>
                <a:lnTo>
                  <a:pt x="139" y="70"/>
                </a:lnTo>
                <a:lnTo>
                  <a:pt x="139" y="75"/>
                </a:lnTo>
                <a:lnTo>
                  <a:pt x="139" y="86"/>
                </a:lnTo>
                <a:lnTo>
                  <a:pt x="139" y="102"/>
                </a:lnTo>
                <a:lnTo>
                  <a:pt x="139" y="118"/>
                </a:lnTo>
                <a:lnTo>
                  <a:pt x="134" y="134"/>
                </a:lnTo>
                <a:lnTo>
                  <a:pt x="134" y="150"/>
                </a:lnTo>
                <a:lnTo>
                  <a:pt x="134" y="160"/>
                </a:lnTo>
                <a:lnTo>
                  <a:pt x="134" y="171"/>
                </a:lnTo>
                <a:lnTo>
                  <a:pt x="134" y="187"/>
                </a:lnTo>
                <a:lnTo>
                  <a:pt x="128" y="203"/>
                </a:lnTo>
                <a:lnTo>
                  <a:pt x="128" y="219"/>
                </a:lnTo>
                <a:lnTo>
                  <a:pt x="128" y="235"/>
                </a:lnTo>
                <a:lnTo>
                  <a:pt x="128" y="256"/>
                </a:lnTo>
                <a:lnTo>
                  <a:pt x="123" y="277"/>
                </a:lnTo>
                <a:lnTo>
                  <a:pt x="123" y="304"/>
                </a:lnTo>
                <a:lnTo>
                  <a:pt x="123" y="325"/>
                </a:lnTo>
                <a:lnTo>
                  <a:pt x="123" y="352"/>
                </a:lnTo>
                <a:lnTo>
                  <a:pt x="123" y="384"/>
                </a:lnTo>
                <a:lnTo>
                  <a:pt x="117" y="411"/>
                </a:lnTo>
                <a:lnTo>
                  <a:pt x="117" y="443"/>
                </a:lnTo>
                <a:lnTo>
                  <a:pt x="117" y="475"/>
                </a:lnTo>
                <a:lnTo>
                  <a:pt x="117" y="507"/>
                </a:lnTo>
                <a:lnTo>
                  <a:pt x="112" y="576"/>
                </a:lnTo>
                <a:lnTo>
                  <a:pt x="112" y="645"/>
                </a:lnTo>
                <a:lnTo>
                  <a:pt x="112" y="714"/>
                </a:lnTo>
                <a:lnTo>
                  <a:pt x="107" y="778"/>
                </a:lnTo>
                <a:lnTo>
                  <a:pt x="107" y="837"/>
                </a:lnTo>
                <a:lnTo>
                  <a:pt x="107" y="901"/>
                </a:lnTo>
                <a:lnTo>
                  <a:pt x="107" y="960"/>
                </a:lnTo>
                <a:lnTo>
                  <a:pt x="107" y="1013"/>
                </a:lnTo>
                <a:lnTo>
                  <a:pt x="101" y="1045"/>
                </a:lnTo>
                <a:lnTo>
                  <a:pt x="101" y="1066"/>
                </a:lnTo>
                <a:lnTo>
                  <a:pt x="101" y="1093"/>
                </a:lnTo>
                <a:lnTo>
                  <a:pt x="101" y="1120"/>
                </a:lnTo>
                <a:lnTo>
                  <a:pt x="96" y="1141"/>
                </a:lnTo>
                <a:lnTo>
                  <a:pt x="96" y="1162"/>
                </a:lnTo>
                <a:lnTo>
                  <a:pt x="96" y="1183"/>
                </a:lnTo>
                <a:lnTo>
                  <a:pt x="96" y="1199"/>
                </a:lnTo>
                <a:lnTo>
                  <a:pt x="91" y="1221"/>
                </a:lnTo>
                <a:lnTo>
                  <a:pt x="91" y="1237"/>
                </a:lnTo>
                <a:lnTo>
                  <a:pt x="91" y="1253"/>
                </a:lnTo>
                <a:lnTo>
                  <a:pt x="91" y="1269"/>
                </a:lnTo>
                <a:lnTo>
                  <a:pt x="85" y="1285"/>
                </a:lnTo>
                <a:lnTo>
                  <a:pt x="85" y="1295"/>
                </a:lnTo>
                <a:lnTo>
                  <a:pt x="80" y="1306"/>
                </a:lnTo>
                <a:lnTo>
                  <a:pt x="80" y="1317"/>
                </a:lnTo>
                <a:lnTo>
                  <a:pt x="75" y="1333"/>
                </a:lnTo>
                <a:lnTo>
                  <a:pt x="69" y="1349"/>
                </a:lnTo>
                <a:lnTo>
                  <a:pt x="69" y="1365"/>
                </a:lnTo>
                <a:lnTo>
                  <a:pt x="64" y="1375"/>
                </a:lnTo>
                <a:lnTo>
                  <a:pt x="59" y="1381"/>
                </a:lnTo>
                <a:lnTo>
                  <a:pt x="59" y="1386"/>
                </a:lnTo>
                <a:lnTo>
                  <a:pt x="53" y="1386"/>
                </a:lnTo>
                <a:lnTo>
                  <a:pt x="53" y="1386"/>
                </a:lnTo>
                <a:lnTo>
                  <a:pt x="48" y="1386"/>
                </a:lnTo>
                <a:lnTo>
                  <a:pt x="43" y="1381"/>
                </a:lnTo>
                <a:lnTo>
                  <a:pt x="37" y="1375"/>
                </a:lnTo>
                <a:lnTo>
                  <a:pt x="32" y="1365"/>
                </a:lnTo>
                <a:lnTo>
                  <a:pt x="32" y="1359"/>
                </a:lnTo>
                <a:lnTo>
                  <a:pt x="27" y="1343"/>
                </a:lnTo>
                <a:lnTo>
                  <a:pt x="21" y="1333"/>
                </a:lnTo>
                <a:lnTo>
                  <a:pt x="21" y="1317"/>
                </a:lnTo>
                <a:lnTo>
                  <a:pt x="16" y="1301"/>
                </a:lnTo>
                <a:lnTo>
                  <a:pt x="11" y="1285"/>
                </a:lnTo>
                <a:lnTo>
                  <a:pt x="11" y="1274"/>
                </a:lnTo>
                <a:lnTo>
                  <a:pt x="5" y="1263"/>
                </a:lnTo>
                <a:lnTo>
                  <a:pt x="5" y="1253"/>
                </a:lnTo>
                <a:lnTo>
                  <a:pt x="5" y="1242"/>
                </a:lnTo>
                <a:lnTo>
                  <a:pt x="5" y="1226"/>
                </a:lnTo>
                <a:lnTo>
                  <a:pt x="5" y="1221"/>
                </a:lnTo>
                <a:lnTo>
                  <a:pt x="5" y="1210"/>
                </a:lnTo>
                <a:lnTo>
                  <a:pt x="5" y="1199"/>
                </a:lnTo>
                <a:lnTo>
                  <a:pt x="5" y="1189"/>
                </a:lnTo>
                <a:lnTo>
                  <a:pt x="11" y="1173"/>
                </a:lnTo>
                <a:lnTo>
                  <a:pt x="11" y="1157"/>
                </a:lnTo>
                <a:lnTo>
                  <a:pt x="11" y="1141"/>
                </a:lnTo>
                <a:lnTo>
                  <a:pt x="16" y="1125"/>
                </a:lnTo>
                <a:lnTo>
                  <a:pt x="16" y="1104"/>
                </a:lnTo>
                <a:lnTo>
                  <a:pt x="21" y="1082"/>
                </a:lnTo>
                <a:lnTo>
                  <a:pt x="21" y="1061"/>
                </a:lnTo>
                <a:lnTo>
                  <a:pt x="27" y="1034"/>
                </a:lnTo>
                <a:lnTo>
                  <a:pt x="32" y="1002"/>
                </a:lnTo>
                <a:lnTo>
                  <a:pt x="32" y="970"/>
                </a:lnTo>
                <a:lnTo>
                  <a:pt x="37" y="933"/>
                </a:lnTo>
                <a:lnTo>
                  <a:pt x="37" y="896"/>
                </a:lnTo>
                <a:lnTo>
                  <a:pt x="43" y="853"/>
                </a:lnTo>
                <a:lnTo>
                  <a:pt x="43" y="810"/>
                </a:lnTo>
                <a:lnTo>
                  <a:pt x="48" y="762"/>
                </a:lnTo>
                <a:lnTo>
                  <a:pt x="48" y="714"/>
                </a:lnTo>
                <a:lnTo>
                  <a:pt x="48" y="661"/>
                </a:lnTo>
                <a:lnTo>
                  <a:pt x="53" y="608"/>
                </a:lnTo>
                <a:lnTo>
                  <a:pt x="53" y="555"/>
                </a:lnTo>
                <a:lnTo>
                  <a:pt x="59" y="496"/>
                </a:lnTo>
                <a:lnTo>
                  <a:pt x="59" y="469"/>
                </a:lnTo>
                <a:lnTo>
                  <a:pt x="59" y="443"/>
                </a:lnTo>
                <a:lnTo>
                  <a:pt x="59" y="416"/>
                </a:lnTo>
                <a:lnTo>
                  <a:pt x="53" y="389"/>
                </a:lnTo>
                <a:lnTo>
                  <a:pt x="53" y="363"/>
                </a:lnTo>
                <a:lnTo>
                  <a:pt x="53" y="341"/>
                </a:lnTo>
                <a:lnTo>
                  <a:pt x="53" y="320"/>
                </a:lnTo>
                <a:lnTo>
                  <a:pt x="53" y="299"/>
                </a:lnTo>
                <a:lnTo>
                  <a:pt x="53" y="277"/>
                </a:lnTo>
                <a:lnTo>
                  <a:pt x="53" y="261"/>
                </a:lnTo>
                <a:lnTo>
                  <a:pt x="48" y="224"/>
                </a:lnTo>
                <a:lnTo>
                  <a:pt x="48" y="192"/>
                </a:lnTo>
                <a:lnTo>
                  <a:pt x="43" y="166"/>
                </a:lnTo>
                <a:lnTo>
                  <a:pt x="43" y="139"/>
                </a:lnTo>
                <a:lnTo>
                  <a:pt x="37" y="118"/>
                </a:lnTo>
                <a:lnTo>
                  <a:pt x="37" y="102"/>
                </a:lnTo>
                <a:lnTo>
                  <a:pt x="32" y="86"/>
                </a:lnTo>
                <a:lnTo>
                  <a:pt x="27" y="75"/>
                </a:lnTo>
                <a:lnTo>
                  <a:pt x="21" y="64"/>
                </a:lnTo>
                <a:lnTo>
                  <a:pt x="16" y="54"/>
                </a:lnTo>
                <a:lnTo>
                  <a:pt x="11" y="48"/>
                </a:lnTo>
                <a:lnTo>
                  <a:pt x="11" y="48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3640" y="3389400"/>
            <a:ext cx="797040" cy="253800"/>
          </a:xfrm>
          <a:custGeom>
            <a:avLst/>
            <a:gdLst/>
            <a:ahLst/>
            <a:rect l="l" t="t" r="r" b="b"/>
            <a:pathLst>
              <a:path w="502" h="160">
                <a:moveTo>
                  <a:pt x="257" y="48"/>
                </a:moveTo>
                <a:lnTo>
                  <a:pt x="278" y="42"/>
                </a:lnTo>
                <a:lnTo>
                  <a:pt x="294" y="37"/>
                </a:lnTo>
                <a:lnTo>
                  <a:pt x="310" y="32"/>
                </a:lnTo>
                <a:lnTo>
                  <a:pt x="326" y="26"/>
                </a:lnTo>
                <a:lnTo>
                  <a:pt x="342" y="21"/>
                </a:lnTo>
                <a:lnTo>
                  <a:pt x="353" y="16"/>
                </a:lnTo>
                <a:lnTo>
                  <a:pt x="369" y="16"/>
                </a:lnTo>
                <a:lnTo>
                  <a:pt x="379" y="10"/>
                </a:lnTo>
                <a:lnTo>
                  <a:pt x="390" y="10"/>
                </a:lnTo>
                <a:lnTo>
                  <a:pt x="401" y="5"/>
                </a:lnTo>
                <a:lnTo>
                  <a:pt x="406" y="5"/>
                </a:lnTo>
                <a:lnTo>
                  <a:pt x="417" y="5"/>
                </a:lnTo>
                <a:lnTo>
                  <a:pt x="422" y="5"/>
                </a:lnTo>
                <a:lnTo>
                  <a:pt x="428" y="5"/>
                </a:lnTo>
                <a:lnTo>
                  <a:pt x="428" y="0"/>
                </a:lnTo>
                <a:lnTo>
                  <a:pt x="433" y="0"/>
                </a:lnTo>
                <a:lnTo>
                  <a:pt x="444" y="5"/>
                </a:lnTo>
                <a:lnTo>
                  <a:pt x="454" y="5"/>
                </a:lnTo>
                <a:lnTo>
                  <a:pt x="465" y="10"/>
                </a:lnTo>
                <a:lnTo>
                  <a:pt x="481" y="21"/>
                </a:lnTo>
                <a:lnTo>
                  <a:pt x="486" y="26"/>
                </a:lnTo>
                <a:lnTo>
                  <a:pt x="492" y="32"/>
                </a:lnTo>
                <a:lnTo>
                  <a:pt x="497" y="37"/>
                </a:lnTo>
                <a:lnTo>
                  <a:pt x="497" y="37"/>
                </a:lnTo>
                <a:lnTo>
                  <a:pt x="502" y="48"/>
                </a:lnTo>
                <a:lnTo>
                  <a:pt x="502" y="53"/>
                </a:lnTo>
                <a:lnTo>
                  <a:pt x="502" y="53"/>
                </a:lnTo>
                <a:lnTo>
                  <a:pt x="497" y="58"/>
                </a:lnTo>
                <a:lnTo>
                  <a:pt x="492" y="58"/>
                </a:lnTo>
                <a:lnTo>
                  <a:pt x="486" y="64"/>
                </a:lnTo>
                <a:lnTo>
                  <a:pt x="481" y="69"/>
                </a:lnTo>
                <a:lnTo>
                  <a:pt x="470" y="69"/>
                </a:lnTo>
                <a:lnTo>
                  <a:pt x="460" y="74"/>
                </a:lnTo>
                <a:lnTo>
                  <a:pt x="449" y="80"/>
                </a:lnTo>
                <a:lnTo>
                  <a:pt x="438" y="80"/>
                </a:lnTo>
                <a:lnTo>
                  <a:pt x="422" y="85"/>
                </a:lnTo>
                <a:lnTo>
                  <a:pt x="406" y="90"/>
                </a:lnTo>
                <a:lnTo>
                  <a:pt x="385" y="96"/>
                </a:lnTo>
                <a:lnTo>
                  <a:pt x="369" y="101"/>
                </a:lnTo>
                <a:lnTo>
                  <a:pt x="347" y="106"/>
                </a:lnTo>
                <a:lnTo>
                  <a:pt x="326" y="112"/>
                </a:lnTo>
                <a:lnTo>
                  <a:pt x="299" y="117"/>
                </a:lnTo>
                <a:lnTo>
                  <a:pt x="278" y="122"/>
                </a:lnTo>
                <a:lnTo>
                  <a:pt x="251" y="128"/>
                </a:lnTo>
                <a:lnTo>
                  <a:pt x="230" y="133"/>
                </a:lnTo>
                <a:lnTo>
                  <a:pt x="208" y="138"/>
                </a:lnTo>
                <a:lnTo>
                  <a:pt x="192" y="144"/>
                </a:lnTo>
                <a:lnTo>
                  <a:pt x="176" y="144"/>
                </a:lnTo>
                <a:lnTo>
                  <a:pt x="160" y="149"/>
                </a:lnTo>
                <a:lnTo>
                  <a:pt x="144" y="154"/>
                </a:lnTo>
                <a:lnTo>
                  <a:pt x="128" y="154"/>
                </a:lnTo>
                <a:lnTo>
                  <a:pt x="118" y="154"/>
                </a:lnTo>
                <a:lnTo>
                  <a:pt x="107" y="160"/>
                </a:lnTo>
                <a:lnTo>
                  <a:pt x="101" y="160"/>
                </a:lnTo>
                <a:lnTo>
                  <a:pt x="91" y="160"/>
                </a:lnTo>
                <a:lnTo>
                  <a:pt x="85" y="160"/>
                </a:lnTo>
                <a:lnTo>
                  <a:pt x="80" y="160"/>
                </a:lnTo>
                <a:lnTo>
                  <a:pt x="80" y="160"/>
                </a:lnTo>
                <a:lnTo>
                  <a:pt x="69" y="160"/>
                </a:lnTo>
                <a:lnTo>
                  <a:pt x="59" y="160"/>
                </a:lnTo>
                <a:lnTo>
                  <a:pt x="43" y="149"/>
                </a:lnTo>
                <a:lnTo>
                  <a:pt x="32" y="144"/>
                </a:lnTo>
                <a:lnTo>
                  <a:pt x="21" y="138"/>
                </a:lnTo>
                <a:lnTo>
                  <a:pt x="16" y="133"/>
                </a:lnTo>
                <a:lnTo>
                  <a:pt x="11" y="128"/>
                </a:lnTo>
                <a:lnTo>
                  <a:pt x="5" y="122"/>
                </a:lnTo>
                <a:lnTo>
                  <a:pt x="0" y="122"/>
                </a:lnTo>
                <a:lnTo>
                  <a:pt x="0" y="117"/>
                </a:lnTo>
                <a:lnTo>
                  <a:pt x="0" y="112"/>
                </a:lnTo>
                <a:lnTo>
                  <a:pt x="0" y="112"/>
                </a:lnTo>
                <a:lnTo>
                  <a:pt x="5" y="106"/>
                </a:lnTo>
                <a:lnTo>
                  <a:pt x="5" y="106"/>
                </a:lnTo>
                <a:lnTo>
                  <a:pt x="11" y="101"/>
                </a:lnTo>
                <a:lnTo>
                  <a:pt x="16" y="101"/>
                </a:lnTo>
                <a:lnTo>
                  <a:pt x="21" y="101"/>
                </a:lnTo>
                <a:lnTo>
                  <a:pt x="32" y="96"/>
                </a:lnTo>
                <a:lnTo>
                  <a:pt x="43" y="96"/>
                </a:lnTo>
                <a:lnTo>
                  <a:pt x="53" y="90"/>
                </a:lnTo>
                <a:lnTo>
                  <a:pt x="69" y="90"/>
                </a:lnTo>
                <a:lnTo>
                  <a:pt x="91" y="85"/>
                </a:lnTo>
                <a:lnTo>
                  <a:pt x="107" y="80"/>
                </a:lnTo>
                <a:lnTo>
                  <a:pt x="134" y="74"/>
                </a:lnTo>
                <a:lnTo>
                  <a:pt x="160" y="69"/>
                </a:lnTo>
                <a:lnTo>
                  <a:pt x="187" y="64"/>
                </a:lnTo>
                <a:lnTo>
                  <a:pt x="224" y="58"/>
                </a:lnTo>
                <a:lnTo>
                  <a:pt x="257" y="48"/>
                </a:lnTo>
                <a:lnTo>
                  <a:pt x="257" y="48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636560" y="3506760"/>
            <a:ext cx="677880" cy="1033560"/>
          </a:xfrm>
          <a:custGeom>
            <a:avLst/>
            <a:gdLst/>
            <a:ahLst/>
            <a:rect l="l" t="t" r="r" b="b"/>
            <a:pathLst>
              <a:path w="427" h="651">
                <a:moveTo>
                  <a:pt x="427" y="128"/>
                </a:moveTo>
                <a:lnTo>
                  <a:pt x="406" y="166"/>
                </a:lnTo>
                <a:lnTo>
                  <a:pt x="390" y="203"/>
                </a:lnTo>
                <a:lnTo>
                  <a:pt x="369" y="240"/>
                </a:lnTo>
                <a:lnTo>
                  <a:pt x="347" y="277"/>
                </a:lnTo>
                <a:lnTo>
                  <a:pt x="326" y="309"/>
                </a:lnTo>
                <a:lnTo>
                  <a:pt x="310" y="341"/>
                </a:lnTo>
                <a:lnTo>
                  <a:pt x="288" y="368"/>
                </a:lnTo>
                <a:lnTo>
                  <a:pt x="267" y="395"/>
                </a:lnTo>
                <a:lnTo>
                  <a:pt x="246" y="421"/>
                </a:lnTo>
                <a:lnTo>
                  <a:pt x="224" y="453"/>
                </a:lnTo>
                <a:lnTo>
                  <a:pt x="203" y="475"/>
                </a:lnTo>
                <a:lnTo>
                  <a:pt x="181" y="501"/>
                </a:lnTo>
                <a:lnTo>
                  <a:pt x="160" y="523"/>
                </a:lnTo>
                <a:lnTo>
                  <a:pt x="139" y="544"/>
                </a:lnTo>
                <a:lnTo>
                  <a:pt x="117" y="565"/>
                </a:lnTo>
                <a:lnTo>
                  <a:pt x="96" y="581"/>
                </a:lnTo>
                <a:lnTo>
                  <a:pt x="75" y="597"/>
                </a:lnTo>
                <a:lnTo>
                  <a:pt x="53" y="613"/>
                </a:lnTo>
                <a:lnTo>
                  <a:pt x="37" y="629"/>
                </a:lnTo>
                <a:lnTo>
                  <a:pt x="26" y="640"/>
                </a:lnTo>
                <a:lnTo>
                  <a:pt x="16" y="645"/>
                </a:lnTo>
                <a:lnTo>
                  <a:pt x="5" y="651"/>
                </a:lnTo>
                <a:lnTo>
                  <a:pt x="0" y="651"/>
                </a:lnTo>
                <a:lnTo>
                  <a:pt x="0" y="651"/>
                </a:lnTo>
                <a:lnTo>
                  <a:pt x="0" y="651"/>
                </a:lnTo>
                <a:lnTo>
                  <a:pt x="0" y="640"/>
                </a:lnTo>
                <a:lnTo>
                  <a:pt x="5" y="635"/>
                </a:lnTo>
                <a:lnTo>
                  <a:pt x="10" y="624"/>
                </a:lnTo>
                <a:lnTo>
                  <a:pt x="21" y="608"/>
                </a:lnTo>
                <a:lnTo>
                  <a:pt x="37" y="597"/>
                </a:lnTo>
                <a:lnTo>
                  <a:pt x="53" y="576"/>
                </a:lnTo>
                <a:lnTo>
                  <a:pt x="69" y="555"/>
                </a:lnTo>
                <a:lnTo>
                  <a:pt x="91" y="533"/>
                </a:lnTo>
                <a:lnTo>
                  <a:pt x="112" y="507"/>
                </a:lnTo>
                <a:lnTo>
                  <a:pt x="128" y="485"/>
                </a:lnTo>
                <a:lnTo>
                  <a:pt x="149" y="459"/>
                </a:lnTo>
                <a:lnTo>
                  <a:pt x="171" y="427"/>
                </a:lnTo>
                <a:lnTo>
                  <a:pt x="192" y="400"/>
                </a:lnTo>
                <a:lnTo>
                  <a:pt x="214" y="368"/>
                </a:lnTo>
                <a:lnTo>
                  <a:pt x="230" y="336"/>
                </a:lnTo>
                <a:lnTo>
                  <a:pt x="251" y="304"/>
                </a:lnTo>
                <a:lnTo>
                  <a:pt x="272" y="267"/>
                </a:lnTo>
                <a:lnTo>
                  <a:pt x="294" y="230"/>
                </a:lnTo>
                <a:lnTo>
                  <a:pt x="310" y="192"/>
                </a:lnTo>
                <a:lnTo>
                  <a:pt x="331" y="144"/>
                </a:lnTo>
                <a:lnTo>
                  <a:pt x="353" y="102"/>
                </a:lnTo>
                <a:lnTo>
                  <a:pt x="374" y="48"/>
                </a:lnTo>
                <a:lnTo>
                  <a:pt x="395" y="0"/>
                </a:lnTo>
                <a:lnTo>
                  <a:pt x="427" y="128"/>
                </a:lnTo>
                <a:lnTo>
                  <a:pt x="427" y="128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324160" y="3854520"/>
            <a:ext cx="279360" cy="269640"/>
          </a:xfrm>
          <a:custGeom>
            <a:avLst/>
            <a:gdLst/>
            <a:ahLst/>
            <a:rect l="l" t="t" r="r" b="b"/>
            <a:pathLst>
              <a:path w="176" h="170">
                <a:moveTo>
                  <a:pt x="0" y="0"/>
                </a:moveTo>
                <a:lnTo>
                  <a:pt x="26" y="0"/>
                </a:lnTo>
                <a:lnTo>
                  <a:pt x="48" y="0"/>
                </a:lnTo>
                <a:lnTo>
                  <a:pt x="69" y="0"/>
                </a:lnTo>
                <a:lnTo>
                  <a:pt x="91" y="5"/>
                </a:lnTo>
                <a:lnTo>
                  <a:pt x="107" y="11"/>
                </a:lnTo>
                <a:lnTo>
                  <a:pt x="123" y="16"/>
                </a:lnTo>
                <a:lnTo>
                  <a:pt x="139" y="26"/>
                </a:lnTo>
                <a:lnTo>
                  <a:pt x="149" y="42"/>
                </a:lnTo>
                <a:lnTo>
                  <a:pt x="155" y="48"/>
                </a:lnTo>
                <a:lnTo>
                  <a:pt x="160" y="58"/>
                </a:lnTo>
                <a:lnTo>
                  <a:pt x="171" y="74"/>
                </a:lnTo>
                <a:lnTo>
                  <a:pt x="176" y="96"/>
                </a:lnTo>
                <a:lnTo>
                  <a:pt x="176" y="117"/>
                </a:lnTo>
                <a:lnTo>
                  <a:pt x="176" y="128"/>
                </a:lnTo>
                <a:lnTo>
                  <a:pt x="176" y="138"/>
                </a:lnTo>
                <a:lnTo>
                  <a:pt x="171" y="149"/>
                </a:lnTo>
                <a:lnTo>
                  <a:pt x="171" y="154"/>
                </a:lnTo>
                <a:lnTo>
                  <a:pt x="171" y="165"/>
                </a:lnTo>
                <a:lnTo>
                  <a:pt x="165" y="165"/>
                </a:lnTo>
                <a:lnTo>
                  <a:pt x="165" y="170"/>
                </a:lnTo>
                <a:lnTo>
                  <a:pt x="165" y="170"/>
                </a:lnTo>
                <a:lnTo>
                  <a:pt x="160" y="170"/>
                </a:lnTo>
                <a:lnTo>
                  <a:pt x="149" y="170"/>
                </a:lnTo>
                <a:lnTo>
                  <a:pt x="144" y="165"/>
                </a:lnTo>
                <a:lnTo>
                  <a:pt x="133" y="160"/>
                </a:lnTo>
                <a:lnTo>
                  <a:pt x="128" y="154"/>
                </a:lnTo>
                <a:lnTo>
                  <a:pt x="117" y="144"/>
                </a:lnTo>
                <a:lnTo>
                  <a:pt x="101" y="138"/>
                </a:lnTo>
                <a:lnTo>
                  <a:pt x="91" y="128"/>
                </a:lnTo>
                <a:lnTo>
                  <a:pt x="80" y="117"/>
                </a:lnTo>
                <a:lnTo>
                  <a:pt x="64" y="101"/>
                </a:lnTo>
                <a:lnTo>
                  <a:pt x="53" y="90"/>
                </a:lnTo>
                <a:lnTo>
                  <a:pt x="43" y="74"/>
                </a:lnTo>
                <a:lnTo>
                  <a:pt x="32" y="58"/>
                </a:lnTo>
                <a:lnTo>
                  <a:pt x="21" y="37"/>
                </a:lnTo>
                <a:lnTo>
                  <a:pt x="10" y="16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98640" y="2771640"/>
            <a:ext cx="390600" cy="567000"/>
          </a:xfrm>
          <a:custGeom>
            <a:avLst/>
            <a:gdLst/>
            <a:ahLst/>
            <a:rect l="l" t="t" r="r" b="b"/>
            <a:pathLst>
              <a:path w="246" h="357">
                <a:moveTo>
                  <a:pt x="123" y="96"/>
                </a:moveTo>
                <a:lnTo>
                  <a:pt x="123" y="85"/>
                </a:lnTo>
                <a:lnTo>
                  <a:pt x="123" y="74"/>
                </a:lnTo>
                <a:lnTo>
                  <a:pt x="123" y="64"/>
                </a:lnTo>
                <a:lnTo>
                  <a:pt x="123" y="58"/>
                </a:lnTo>
                <a:lnTo>
                  <a:pt x="123" y="42"/>
                </a:lnTo>
                <a:lnTo>
                  <a:pt x="123" y="32"/>
                </a:lnTo>
                <a:lnTo>
                  <a:pt x="118" y="26"/>
                </a:lnTo>
                <a:lnTo>
                  <a:pt x="112" y="21"/>
                </a:lnTo>
                <a:lnTo>
                  <a:pt x="112" y="10"/>
                </a:lnTo>
                <a:lnTo>
                  <a:pt x="112" y="10"/>
                </a:lnTo>
                <a:lnTo>
                  <a:pt x="112" y="5"/>
                </a:lnTo>
                <a:lnTo>
                  <a:pt x="118" y="5"/>
                </a:lnTo>
                <a:lnTo>
                  <a:pt x="118" y="0"/>
                </a:lnTo>
                <a:lnTo>
                  <a:pt x="118" y="0"/>
                </a:lnTo>
                <a:lnTo>
                  <a:pt x="123" y="0"/>
                </a:lnTo>
                <a:lnTo>
                  <a:pt x="128" y="0"/>
                </a:lnTo>
                <a:lnTo>
                  <a:pt x="134" y="0"/>
                </a:lnTo>
                <a:lnTo>
                  <a:pt x="144" y="0"/>
                </a:lnTo>
                <a:lnTo>
                  <a:pt x="150" y="0"/>
                </a:lnTo>
                <a:lnTo>
                  <a:pt x="166" y="5"/>
                </a:lnTo>
                <a:lnTo>
                  <a:pt x="182" y="10"/>
                </a:lnTo>
                <a:lnTo>
                  <a:pt x="198" y="16"/>
                </a:lnTo>
                <a:lnTo>
                  <a:pt x="214" y="26"/>
                </a:lnTo>
                <a:lnTo>
                  <a:pt x="230" y="37"/>
                </a:lnTo>
                <a:lnTo>
                  <a:pt x="235" y="48"/>
                </a:lnTo>
                <a:lnTo>
                  <a:pt x="241" y="53"/>
                </a:lnTo>
                <a:lnTo>
                  <a:pt x="246" y="58"/>
                </a:lnTo>
                <a:lnTo>
                  <a:pt x="246" y="64"/>
                </a:lnTo>
                <a:lnTo>
                  <a:pt x="246" y="69"/>
                </a:lnTo>
                <a:lnTo>
                  <a:pt x="246" y="74"/>
                </a:lnTo>
                <a:lnTo>
                  <a:pt x="246" y="80"/>
                </a:lnTo>
                <a:lnTo>
                  <a:pt x="241" y="90"/>
                </a:lnTo>
                <a:lnTo>
                  <a:pt x="235" y="96"/>
                </a:lnTo>
                <a:lnTo>
                  <a:pt x="235" y="101"/>
                </a:lnTo>
                <a:lnTo>
                  <a:pt x="230" y="112"/>
                </a:lnTo>
                <a:lnTo>
                  <a:pt x="225" y="122"/>
                </a:lnTo>
                <a:lnTo>
                  <a:pt x="214" y="133"/>
                </a:lnTo>
                <a:lnTo>
                  <a:pt x="214" y="144"/>
                </a:lnTo>
                <a:lnTo>
                  <a:pt x="203" y="149"/>
                </a:lnTo>
                <a:lnTo>
                  <a:pt x="198" y="160"/>
                </a:lnTo>
                <a:lnTo>
                  <a:pt x="193" y="165"/>
                </a:lnTo>
                <a:lnTo>
                  <a:pt x="182" y="176"/>
                </a:lnTo>
                <a:lnTo>
                  <a:pt x="177" y="192"/>
                </a:lnTo>
                <a:lnTo>
                  <a:pt x="166" y="202"/>
                </a:lnTo>
                <a:lnTo>
                  <a:pt x="155" y="213"/>
                </a:lnTo>
                <a:lnTo>
                  <a:pt x="139" y="229"/>
                </a:lnTo>
                <a:lnTo>
                  <a:pt x="128" y="245"/>
                </a:lnTo>
                <a:lnTo>
                  <a:pt x="118" y="261"/>
                </a:lnTo>
                <a:lnTo>
                  <a:pt x="102" y="277"/>
                </a:lnTo>
                <a:lnTo>
                  <a:pt x="86" y="298"/>
                </a:lnTo>
                <a:lnTo>
                  <a:pt x="70" y="319"/>
                </a:lnTo>
                <a:lnTo>
                  <a:pt x="38" y="357"/>
                </a:lnTo>
                <a:lnTo>
                  <a:pt x="0" y="351"/>
                </a:lnTo>
                <a:lnTo>
                  <a:pt x="16" y="325"/>
                </a:lnTo>
                <a:lnTo>
                  <a:pt x="27" y="303"/>
                </a:lnTo>
                <a:lnTo>
                  <a:pt x="38" y="277"/>
                </a:lnTo>
                <a:lnTo>
                  <a:pt x="54" y="255"/>
                </a:lnTo>
                <a:lnTo>
                  <a:pt x="64" y="234"/>
                </a:lnTo>
                <a:lnTo>
                  <a:pt x="70" y="218"/>
                </a:lnTo>
                <a:lnTo>
                  <a:pt x="80" y="202"/>
                </a:lnTo>
                <a:lnTo>
                  <a:pt x="86" y="181"/>
                </a:lnTo>
                <a:lnTo>
                  <a:pt x="96" y="170"/>
                </a:lnTo>
                <a:lnTo>
                  <a:pt x="102" y="154"/>
                </a:lnTo>
                <a:lnTo>
                  <a:pt x="107" y="144"/>
                </a:lnTo>
                <a:lnTo>
                  <a:pt x="112" y="128"/>
                </a:lnTo>
                <a:lnTo>
                  <a:pt x="112" y="117"/>
                </a:lnTo>
                <a:lnTo>
                  <a:pt x="118" y="112"/>
                </a:lnTo>
                <a:lnTo>
                  <a:pt x="118" y="101"/>
                </a:lnTo>
                <a:lnTo>
                  <a:pt x="123" y="96"/>
                </a:lnTo>
                <a:lnTo>
                  <a:pt x="123" y="96"/>
                </a:lnTo>
              </a:path>
            </a:pathLst>
          </a:custGeom>
          <a:solidFill>
            <a:srgbClr val="ff0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77960" y="3287880"/>
            <a:ext cx="255600" cy="701640"/>
          </a:xfrm>
          <a:custGeom>
            <a:avLst/>
            <a:gdLst/>
            <a:ahLst/>
            <a:rect l="l" t="t" r="r" b="b"/>
            <a:pathLst>
              <a:path w="161" h="442">
                <a:moveTo>
                  <a:pt x="11" y="10"/>
                </a:moveTo>
                <a:lnTo>
                  <a:pt x="11" y="5"/>
                </a:lnTo>
                <a:lnTo>
                  <a:pt x="16" y="5"/>
                </a:lnTo>
                <a:lnTo>
                  <a:pt x="22" y="0"/>
                </a:lnTo>
                <a:lnTo>
                  <a:pt x="27" y="0"/>
                </a:lnTo>
                <a:lnTo>
                  <a:pt x="38" y="0"/>
                </a:lnTo>
                <a:lnTo>
                  <a:pt x="48" y="0"/>
                </a:lnTo>
                <a:lnTo>
                  <a:pt x="59" y="0"/>
                </a:lnTo>
                <a:lnTo>
                  <a:pt x="75" y="5"/>
                </a:lnTo>
                <a:lnTo>
                  <a:pt x="86" y="10"/>
                </a:lnTo>
                <a:lnTo>
                  <a:pt x="91" y="10"/>
                </a:lnTo>
                <a:lnTo>
                  <a:pt x="96" y="10"/>
                </a:lnTo>
                <a:lnTo>
                  <a:pt x="102" y="10"/>
                </a:lnTo>
                <a:lnTo>
                  <a:pt x="102" y="16"/>
                </a:lnTo>
                <a:lnTo>
                  <a:pt x="107" y="16"/>
                </a:lnTo>
                <a:lnTo>
                  <a:pt x="107" y="21"/>
                </a:lnTo>
                <a:lnTo>
                  <a:pt x="107" y="32"/>
                </a:lnTo>
                <a:lnTo>
                  <a:pt x="112" y="42"/>
                </a:lnTo>
                <a:lnTo>
                  <a:pt x="112" y="58"/>
                </a:lnTo>
                <a:lnTo>
                  <a:pt x="112" y="69"/>
                </a:lnTo>
                <a:lnTo>
                  <a:pt x="112" y="80"/>
                </a:lnTo>
                <a:lnTo>
                  <a:pt x="112" y="96"/>
                </a:lnTo>
                <a:lnTo>
                  <a:pt x="118" y="117"/>
                </a:lnTo>
                <a:lnTo>
                  <a:pt x="118" y="138"/>
                </a:lnTo>
                <a:lnTo>
                  <a:pt x="123" y="165"/>
                </a:lnTo>
                <a:lnTo>
                  <a:pt x="128" y="197"/>
                </a:lnTo>
                <a:lnTo>
                  <a:pt x="134" y="234"/>
                </a:lnTo>
                <a:lnTo>
                  <a:pt x="139" y="250"/>
                </a:lnTo>
                <a:lnTo>
                  <a:pt x="139" y="266"/>
                </a:lnTo>
                <a:lnTo>
                  <a:pt x="144" y="282"/>
                </a:lnTo>
                <a:lnTo>
                  <a:pt x="144" y="298"/>
                </a:lnTo>
                <a:lnTo>
                  <a:pt x="150" y="309"/>
                </a:lnTo>
                <a:lnTo>
                  <a:pt x="150" y="325"/>
                </a:lnTo>
                <a:lnTo>
                  <a:pt x="155" y="346"/>
                </a:lnTo>
                <a:lnTo>
                  <a:pt x="155" y="362"/>
                </a:lnTo>
                <a:lnTo>
                  <a:pt x="155" y="378"/>
                </a:lnTo>
                <a:lnTo>
                  <a:pt x="161" y="389"/>
                </a:lnTo>
                <a:lnTo>
                  <a:pt x="161" y="399"/>
                </a:lnTo>
                <a:lnTo>
                  <a:pt x="155" y="410"/>
                </a:lnTo>
                <a:lnTo>
                  <a:pt x="155" y="426"/>
                </a:lnTo>
                <a:lnTo>
                  <a:pt x="150" y="431"/>
                </a:lnTo>
                <a:lnTo>
                  <a:pt x="139" y="442"/>
                </a:lnTo>
                <a:lnTo>
                  <a:pt x="134" y="431"/>
                </a:lnTo>
                <a:lnTo>
                  <a:pt x="128" y="421"/>
                </a:lnTo>
                <a:lnTo>
                  <a:pt x="118" y="405"/>
                </a:lnTo>
                <a:lnTo>
                  <a:pt x="112" y="383"/>
                </a:lnTo>
                <a:lnTo>
                  <a:pt x="102" y="362"/>
                </a:lnTo>
                <a:lnTo>
                  <a:pt x="96" y="341"/>
                </a:lnTo>
                <a:lnTo>
                  <a:pt x="86" y="314"/>
                </a:lnTo>
                <a:lnTo>
                  <a:pt x="80" y="282"/>
                </a:lnTo>
                <a:lnTo>
                  <a:pt x="75" y="256"/>
                </a:lnTo>
                <a:lnTo>
                  <a:pt x="70" y="224"/>
                </a:lnTo>
                <a:lnTo>
                  <a:pt x="59" y="202"/>
                </a:lnTo>
                <a:lnTo>
                  <a:pt x="54" y="176"/>
                </a:lnTo>
                <a:lnTo>
                  <a:pt x="48" y="160"/>
                </a:lnTo>
                <a:lnTo>
                  <a:pt x="43" y="138"/>
                </a:lnTo>
                <a:lnTo>
                  <a:pt x="38" y="122"/>
                </a:lnTo>
                <a:lnTo>
                  <a:pt x="32" y="112"/>
                </a:lnTo>
                <a:lnTo>
                  <a:pt x="27" y="101"/>
                </a:lnTo>
                <a:lnTo>
                  <a:pt x="22" y="90"/>
                </a:lnTo>
                <a:lnTo>
                  <a:pt x="11" y="69"/>
                </a:lnTo>
                <a:lnTo>
                  <a:pt x="5" y="53"/>
                </a:lnTo>
                <a:lnTo>
                  <a:pt x="5" y="42"/>
                </a:lnTo>
                <a:lnTo>
                  <a:pt x="0" y="37"/>
                </a:lnTo>
                <a:lnTo>
                  <a:pt x="0" y="32"/>
                </a:lnTo>
                <a:lnTo>
                  <a:pt x="0" y="21"/>
                </a:lnTo>
                <a:lnTo>
                  <a:pt x="5" y="16"/>
                </a:lnTo>
                <a:lnTo>
                  <a:pt x="11" y="10"/>
                </a:lnTo>
                <a:lnTo>
                  <a:pt x="11" y="10"/>
                </a:lnTo>
              </a:path>
            </a:pathLst>
          </a:custGeom>
          <a:solidFill>
            <a:srgbClr val="ff0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05040" y="3117960"/>
            <a:ext cx="1036800" cy="761760"/>
          </a:xfrm>
          <a:custGeom>
            <a:avLst/>
            <a:gdLst/>
            <a:ahLst/>
            <a:rect l="l" t="t" r="r" b="b"/>
            <a:pathLst>
              <a:path w="653" h="480">
                <a:moveTo>
                  <a:pt x="653" y="107"/>
                </a:moveTo>
                <a:lnTo>
                  <a:pt x="653" y="112"/>
                </a:lnTo>
                <a:lnTo>
                  <a:pt x="653" y="117"/>
                </a:lnTo>
                <a:lnTo>
                  <a:pt x="653" y="123"/>
                </a:lnTo>
                <a:lnTo>
                  <a:pt x="647" y="128"/>
                </a:lnTo>
                <a:lnTo>
                  <a:pt x="647" y="133"/>
                </a:lnTo>
                <a:lnTo>
                  <a:pt x="642" y="133"/>
                </a:lnTo>
                <a:lnTo>
                  <a:pt x="626" y="139"/>
                </a:lnTo>
                <a:lnTo>
                  <a:pt x="620" y="144"/>
                </a:lnTo>
                <a:lnTo>
                  <a:pt x="620" y="149"/>
                </a:lnTo>
                <a:lnTo>
                  <a:pt x="615" y="155"/>
                </a:lnTo>
                <a:lnTo>
                  <a:pt x="610" y="160"/>
                </a:lnTo>
                <a:lnTo>
                  <a:pt x="604" y="165"/>
                </a:lnTo>
                <a:lnTo>
                  <a:pt x="599" y="176"/>
                </a:lnTo>
                <a:lnTo>
                  <a:pt x="594" y="181"/>
                </a:lnTo>
                <a:lnTo>
                  <a:pt x="588" y="192"/>
                </a:lnTo>
                <a:lnTo>
                  <a:pt x="583" y="208"/>
                </a:lnTo>
                <a:lnTo>
                  <a:pt x="578" y="219"/>
                </a:lnTo>
                <a:lnTo>
                  <a:pt x="572" y="235"/>
                </a:lnTo>
                <a:lnTo>
                  <a:pt x="562" y="245"/>
                </a:lnTo>
                <a:lnTo>
                  <a:pt x="556" y="267"/>
                </a:lnTo>
                <a:lnTo>
                  <a:pt x="551" y="283"/>
                </a:lnTo>
                <a:lnTo>
                  <a:pt x="546" y="299"/>
                </a:lnTo>
                <a:lnTo>
                  <a:pt x="540" y="320"/>
                </a:lnTo>
                <a:lnTo>
                  <a:pt x="530" y="341"/>
                </a:lnTo>
                <a:lnTo>
                  <a:pt x="524" y="357"/>
                </a:lnTo>
                <a:lnTo>
                  <a:pt x="519" y="373"/>
                </a:lnTo>
                <a:lnTo>
                  <a:pt x="508" y="389"/>
                </a:lnTo>
                <a:lnTo>
                  <a:pt x="503" y="405"/>
                </a:lnTo>
                <a:lnTo>
                  <a:pt x="498" y="421"/>
                </a:lnTo>
                <a:lnTo>
                  <a:pt x="492" y="432"/>
                </a:lnTo>
                <a:lnTo>
                  <a:pt x="487" y="443"/>
                </a:lnTo>
                <a:lnTo>
                  <a:pt x="481" y="453"/>
                </a:lnTo>
                <a:lnTo>
                  <a:pt x="476" y="459"/>
                </a:lnTo>
                <a:lnTo>
                  <a:pt x="476" y="464"/>
                </a:lnTo>
                <a:lnTo>
                  <a:pt x="471" y="469"/>
                </a:lnTo>
                <a:lnTo>
                  <a:pt x="465" y="475"/>
                </a:lnTo>
                <a:lnTo>
                  <a:pt x="460" y="480"/>
                </a:lnTo>
                <a:lnTo>
                  <a:pt x="460" y="480"/>
                </a:lnTo>
                <a:lnTo>
                  <a:pt x="455" y="480"/>
                </a:lnTo>
                <a:lnTo>
                  <a:pt x="449" y="480"/>
                </a:lnTo>
                <a:lnTo>
                  <a:pt x="444" y="475"/>
                </a:lnTo>
                <a:lnTo>
                  <a:pt x="444" y="469"/>
                </a:lnTo>
                <a:lnTo>
                  <a:pt x="439" y="459"/>
                </a:lnTo>
                <a:lnTo>
                  <a:pt x="439" y="443"/>
                </a:lnTo>
                <a:lnTo>
                  <a:pt x="444" y="432"/>
                </a:lnTo>
                <a:lnTo>
                  <a:pt x="444" y="411"/>
                </a:lnTo>
                <a:lnTo>
                  <a:pt x="449" y="389"/>
                </a:lnTo>
                <a:lnTo>
                  <a:pt x="455" y="347"/>
                </a:lnTo>
                <a:lnTo>
                  <a:pt x="460" y="304"/>
                </a:lnTo>
                <a:lnTo>
                  <a:pt x="471" y="261"/>
                </a:lnTo>
                <a:lnTo>
                  <a:pt x="487" y="219"/>
                </a:lnTo>
                <a:lnTo>
                  <a:pt x="492" y="197"/>
                </a:lnTo>
                <a:lnTo>
                  <a:pt x="492" y="176"/>
                </a:lnTo>
                <a:lnTo>
                  <a:pt x="498" y="160"/>
                </a:lnTo>
                <a:lnTo>
                  <a:pt x="498" y="144"/>
                </a:lnTo>
                <a:lnTo>
                  <a:pt x="498" y="133"/>
                </a:lnTo>
                <a:lnTo>
                  <a:pt x="498" y="123"/>
                </a:lnTo>
                <a:lnTo>
                  <a:pt x="498" y="112"/>
                </a:lnTo>
                <a:lnTo>
                  <a:pt x="498" y="107"/>
                </a:lnTo>
                <a:lnTo>
                  <a:pt x="487" y="101"/>
                </a:lnTo>
                <a:lnTo>
                  <a:pt x="476" y="101"/>
                </a:lnTo>
                <a:lnTo>
                  <a:pt x="460" y="96"/>
                </a:lnTo>
                <a:lnTo>
                  <a:pt x="449" y="96"/>
                </a:lnTo>
                <a:lnTo>
                  <a:pt x="444" y="96"/>
                </a:lnTo>
                <a:lnTo>
                  <a:pt x="439" y="96"/>
                </a:lnTo>
                <a:lnTo>
                  <a:pt x="428" y="96"/>
                </a:lnTo>
                <a:lnTo>
                  <a:pt x="423" y="96"/>
                </a:lnTo>
                <a:lnTo>
                  <a:pt x="412" y="101"/>
                </a:lnTo>
                <a:lnTo>
                  <a:pt x="401" y="101"/>
                </a:lnTo>
                <a:lnTo>
                  <a:pt x="391" y="101"/>
                </a:lnTo>
                <a:lnTo>
                  <a:pt x="375" y="107"/>
                </a:lnTo>
                <a:lnTo>
                  <a:pt x="364" y="107"/>
                </a:lnTo>
                <a:lnTo>
                  <a:pt x="348" y="107"/>
                </a:lnTo>
                <a:lnTo>
                  <a:pt x="332" y="112"/>
                </a:lnTo>
                <a:lnTo>
                  <a:pt x="316" y="112"/>
                </a:lnTo>
                <a:lnTo>
                  <a:pt x="294" y="117"/>
                </a:lnTo>
                <a:lnTo>
                  <a:pt x="278" y="123"/>
                </a:lnTo>
                <a:lnTo>
                  <a:pt x="257" y="123"/>
                </a:lnTo>
                <a:lnTo>
                  <a:pt x="236" y="128"/>
                </a:lnTo>
                <a:lnTo>
                  <a:pt x="209" y="133"/>
                </a:lnTo>
                <a:lnTo>
                  <a:pt x="187" y="139"/>
                </a:lnTo>
                <a:lnTo>
                  <a:pt x="166" y="139"/>
                </a:lnTo>
                <a:lnTo>
                  <a:pt x="150" y="144"/>
                </a:lnTo>
                <a:lnTo>
                  <a:pt x="129" y="149"/>
                </a:lnTo>
                <a:lnTo>
                  <a:pt x="113" y="149"/>
                </a:lnTo>
                <a:lnTo>
                  <a:pt x="97" y="155"/>
                </a:lnTo>
                <a:lnTo>
                  <a:pt x="81" y="155"/>
                </a:lnTo>
                <a:lnTo>
                  <a:pt x="64" y="160"/>
                </a:lnTo>
                <a:lnTo>
                  <a:pt x="54" y="160"/>
                </a:lnTo>
                <a:lnTo>
                  <a:pt x="43" y="160"/>
                </a:lnTo>
                <a:lnTo>
                  <a:pt x="32" y="165"/>
                </a:lnTo>
                <a:lnTo>
                  <a:pt x="22" y="165"/>
                </a:lnTo>
                <a:lnTo>
                  <a:pt x="16" y="165"/>
                </a:lnTo>
                <a:lnTo>
                  <a:pt x="6" y="165"/>
                </a:lnTo>
                <a:lnTo>
                  <a:pt x="0" y="165"/>
                </a:lnTo>
                <a:lnTo>
                  <a:pt x="0" y="123"/>
                </a:lnTo>
                <a:lnTo>
                  <a:pt x="27" y="117"/>
                </a:lnTo>
                <a:lnTo>
                  <a:pt x="59" y="112"/>
                </a:lnTo>
                <a:lnTo>
                  <a:pt x="107" y="101"/>
                </a:lnTo>
                <a:lnTo>
                  <a:pt x="161" y="91"/>
                </a:lnTo>
                <a:lnTo>
                  <a:pt x="209" y="85"/>
                </a:lnTo>
                <a:lnTo>
                  <a:pt x="236" y="80"/>
                </a:lnTo>
                <a:lnTo>
                  <a:pt x="257" y="75"/>
                </a:lnTo>
                <a:lnTo>
                  <a:pt x="300" y="69"/>
                </a:lnTo>
                <a:lnTo>
                  <a:pt x="342" y="59"/>
                </a:lnTo>
                <a:lnTo>
                  <a:pt x="385" y="53"/>
                </a:lnTo>
                <a:lnTo>
                  <a:pt x="401" y="48"/>
                </a:lnTo>
                <a:lnTo>
                  <a:pt x="417" y="43"/>
                </a:lnTo>
                <a:lnTo>
                  <a:pt x="428" y="37"/>
                </a:lnTo>
                <a:lnTo>
                  <a:pt x="444" y="32"/>
                </a:lnTo>
                <a:lnTo>
                  <a:pt x="455" y="27"/>
                </a:lnTo>
                <a:lnTo>
                  <a:pt x="460" y="21"/>
                </a:lnTo>
                <a:lnTo>
                  <a:pt x="471" y="16"/>
                </a:lnTo>
                <a:lnTo>
                  <a:pt x="476" y="11"/>
                </a:lnTo>
                <a:lnTo>
                  <a:pt x="487" y="6"/>
                </a:lnTo>
                <a:lnTo>
                  <a:pt x="498" y="6"/>
                </a:lnTo>
                <a:lnTo>
                  <a:pt x="503" y="0"/>
                </a:lnTo>
                <a:lnTo>
                  <a:pt x="514" y="0"/>
                </a:lnTo>
                <a:lnTo>
                  <a:pt x="519" y="0"/>
                </a:lnTo>
                <a:lnTo>
                  <a:pt x="524" y="0"/>
                </a:lnTo>
                <a:lnTo>
                  <a:pt x="535" y="6"/>
                </a:lnTo>
                <a:lnTo>
                  <a:pt x="540" y="11"/>
                </a:lnTo>
                <a:lnTo>
                  <a:pt x="551" y="16"/>
                </a:lnTo>
                <a:lnTo>
                  <a:pt x="562" y="21"/>
                </a:lnTo>
                <a:lnTo>
                  <a:pt x="578" y="27"/>
                </a:lnTo>
                <a:lnTo>
                  <a:pt x="594" y="37"/>
                </a:lnTo>
                <a:lnTo>
                  <a:pt x="604" y="48"/>
                </a:lnTo>
                <a:lnTo>
                  <a:pt x="620" y="59"/>
                </a:lnTo>
                <a:lnTo>
                  <a:pt x="631" y="69"/>
                </a:lnTo>
                <a:lnTo>
                  <a:pt x="637" y="80"/>
                </a:lnTo>
                <a:lnTo>
                  <a:pt x="642" y="85"/>
                </a:lnTo>
                <a:lnTo>
                  <a:pt x="647" y="96"/>
                </a:lnTo>
                <a:lnTo>
                  <a:pt x="653" y="101"/>
                </a:lnTo>
                <a:lnTo>
                  <a:pt x="653" y="107"/>
                </a:lnTo>
                <a:lnTo>
                  <a:pt x="653" y="107"/>
                </a:lnTo>
              </a:path>
            </a:pathLst>
          </a:custGeom>
          <a:solidFill>
            <a:srgbClr val="ff0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408400" y="3300480"/>
            <a:ext cx="772920" cy="1471680"/>
          </a:xfrm>
          <a:custGeom>
            <a:avLst/>
            <a:gdLst/>
            <a:ahLst/>
            <a:rect l="l" t="t" r="r" b="b"/>
            <a:pathLst>
              <a:path w="487" h="927">
                <a:moveTo>
                  <a:pt x="390" y="48"/>
                </a:moveTo>
                <a:lnTo>
                  <a:pt x="390" y="37"/>
                </a:lnTo>
                <a:lnTo>
                  <a:pt x="385" y="32"/>
                </a:lnTo>
                <a:lnTo>
                  <a:pt x="385" y="27"/>
                </a:lnTo>
                <a:lnTo>
                  <a:pt x="385" y="16"/>
                </a:lnTo>
                <a:lnTo>
                  <a:pt x="390" y="11"/>
                </a:lnTo>
                <a:lnTo>
                  <a:pt x="390" y="11"/>
                </a:lnTo>
                <a:lnTo>
                  <a:pt x="390" y="5"/>
                </a:lnTo>
                <a:lnTo>
                  <a:pt x="396" y="5"/>
                </a:lnTo>
                <a:lnTo>
                  <a:pt x="401" y="0"/>
                </a:lnTo>
                <a:lnTo>
                  <a:pt x="401" y="0"/>
                </a:lnTo>
                <a:lnTo>
                  <a:pt x="407" y="0"/>
                </a:lnTo>
                <a:lnTo>
                  <a:pt x="412" y="0"/>
                </a:lnTo>
                <a:lnTo>
                  <a:pt x="428" y="0"/>
                </a:lnTo>
                <a:lnTo>
                  <a:pt x="444" y="5"/>
                </a:lnTo>
                <a:lnTo>
                  <a:pt x="460" y="5"/>
                </a:lnTo>
                <a:lnTo>
                  <a:pt x="471" y="16"/>
                </a:lnTo>
                <a:lnTo>
                  <a:pt x="481" y="21"/>
                </a:lnTo>
                <a:lnTo>
                  <a:pt x="481" y="27"/>
                </a:lnTo>
                <a:lnTo>
                  <a:pt x="487" y="27"/>
                </a:lnTo>
                <a:lnTo>
                  <a:pt x="487" y="32"/>
                </a:lnTo>
                <a:lnTo>
                  <a:pt x="487" y="37"/>
                </a:lnTo>
                <a:lnTo>
                  <a:pt x="487" y="43"/>
                </a:lnTo>
                <a:lnTo>
                  <a:pt x="487" y="48"/>
                </a:lnTo>
                <a:lnTo>
                  <a:pt x="487" y="53"/>
                </a:lnTo>
                <a:lnTo>
                  <a:pt x="487" y="64"/>
                </a:lnTo>
                <a:lnTo>
                  <a:pt x="487" y="75"/>
                </a:lnTo>
                <a:lnTo>
                  <a:pt x="481" y="85"/>
                </a:lnTo>
                <a:lnTo>
                  <a:pt x="481" y="96"/>
                </a:lnTo>
                <a:lnTo>
                  <a:pt x="481" y="112"/>
                </a:lnTo>
                <a:lnTo>
                  <a:pt x="476" y="128"/>
                </a:lnTo>
                <a:lnTo>
                  <a:pt x="476" y="139"/>
                </a:lnTo>
                <a:lnTo>
                  <a:pt x="471" y="160"/>
                </a:lnTo>
                <a:lnTo>
                  <a:pt x="471" y="176"/>
                </a:lnTo>
                <a:lnTo>
                  <a:pt x="465" y="192"/>
                </a:lnTo>
                <a:lnTo>
                  <a:pt x="460" y="213"/>
                </a:lnTo>
                <a:lnTo>
                  <a:pt x="455" y="256"/>
                </a:lnTo>
                <a:lnTo>
                  <a:pt x="449" y="299"/>
                </a:lnTo>
                <a:lnTo>
                  <a:pt x="439" y="336"/>
                </a:lnTo>
                <a:lnTo>
                  <a:pt x="433" y="368"/>
                </a:lnTo>
                <a:lnTo>
                  <a:pt x="423" y="400"/>
                </a:lnTo>
                <a:lnTo>
                  <a:pt x="412" y="432"/>
                </a:lnTo>
                <a:lnTo>
                  <a:pt x="407" y="458"/>
                </a:lnTo>
                <a:lnTo>
                  <a:pt x="396" y="485"/>
                </a:lnTo>
                <a:lnTo>
                  <a:pt x="374" y="533"/>
                </a:lnTo>
                <a:lnTo>
                  <a:pt x="348" y="586"/>
                </a:lnTo>
                <a:lnTo>
                  <a:pt x="316" y="634"/>
                </a:lnTo>
                <a:lnTo>
                  <a:pt x="284" y="688"/>
                </a:lnTo>
                <a:lnTo>
                  <a:pt x="262" y="714"/>
                </a:lnTo>
                <a:lnTo>
                  <a:pt x="241" y="741"/>
                </a:lnTo>
                <a:lnTo>
                  <a:pt x="225" y="762"/>
                </a:lnTo>
                <a:lnTo>
                  <a:pt x="203" y="784"/>
                </a:lnTo>
                <a:lnTo>
                  <a:pt x="182" y="805"/>
                </a:lnTo>
                <a:lnTo>
                  <a:pt x="155" y="826"/>
                </a:lnTo>
                <a:lnTo>
                  <a:pt x="134" y="842"/>
                </a:lnTo>
                <a:lnTo>
                  <a:pt x="112" y="863"/>
                </a:lnTo>
                <a:lnTo>
                  <a:pt x="86" y="879"/>
                </a:lnTo>
                <a:lnTo>
                  <a:pt x="64" y="890"/>
                </a:lnTo>
                <a:lnTo>
                  <a:pt x="48" y="906"/>
                </a:lnTo>
                <a:lnTo>
                  <a:pt x="32" y="911"/>
                </a:lnTo>
                <a:lnTo>
                  <a:pt x="22" y="922"/>
                </a:lnTo>
                <a:lnTo>
                  <a:pt x="11" y="927"/>
                </a:lnTo>
                <a:lnTo>
                  <a:pt x="6" y="927"/>
                </a:lnTo>
                <a:lnTo>
                  <a:pt x="0" y="927"/>
                </a:lnTo>
                <a:lnTo>
                  <a:pt x="0" y="922"/>
                </a:lnTo>
                <a:lnTo>
                  <a:pt x="6" y="917"/>
                </a:lnTo>
                <a:lnTo>
                  <a:pt x="11" y="906"/>
                </a:lnTo>
                <a:lnTo>
                  <a:pt x="22" y="895"/>
                </a:lnTo>
                <a:lnTo>
                  <a:pt x="32" y="885"/>
                </a:lnTo>
                <a:lnTo>
                  <a:pt x="48" y="869"/>
                </a:lnTo>
                <a:lnTo>
                  <a:pt x="64" y="853"/>
                </a:lnTo>
                <a:lnTo>
                  <a:pt x="86" y="832"/>
                </a:lnTo>
                <a:lnTo>
                  <a:pt x="107" y="805"/>
                </a:lnTo>
                <a:lnTo>
                  <a:pt x="129" y="784"/>
                </a:lnTo>
                <a:lnTo>
                  <a:pt x="150" y="757"/>
                </a:lnTo>
                <a:lnTo>
                  <a:pt x="171" y="730"/>
                </a:lnTo>
                <a:lnTo>
                  <a:pt x="193" y="698"/>
                </a:lnTo>
                <a:lnTo>
                  <a:pt x="214" y="666"/>
                </a:lnTo>
                <a:lnTo>
                  <a:pt x="235" y="629"/>
                </a:lnTo>
                <a:lnTo>
                  <a:pt x="257" y="592"/>
                </a:lnTo>
                <a:lnTo>
                  <a:pt x="278" y="554"/>
                </a:lnTo>
                <a:lnTo>
                  <a:pt x="300" y="512"/>
                </a:lnTo>
                <a:lnTo>
                  <a:pt x="316" y="474"/>
                </a:lnTo>
                <a:lnTo>
                  <a:pt x="337" y="432"/>
                </a:lnTo>
                <a:lnTo>
                  <a:pt x="348" y="389"/>
                </a:lnTo>
                <a:lnTo>
                  <a:pt x="358" y="347"/>
                </a:lnTo>
                <a:lnTo>
                  <a:pt x="369" y="304"/>
                </a:lnTo>
                <a:lnTo>
                  <a:pt x="380" y="261"/>
                </a:lnTo>
                <a:lnTo>
                  <a:pt x="380" y="240"/>
                </a:lnTo>
                <a:lnTo>
                  <a:pt x="385" y="219"/>
                </a:lnTo>
                <a:lnTo>
                  <a:pt x="385" y="197"/>
                </a:lnTo>
                <a:lnTo>
                  <a:pt x="390" y="176"/>
                </a:lnTo>
                <a:lnTo>
                  <a:pt x="390" y="160"/>
                </a:lnTo>
                <a:lnTo>
                  <a:pt x="396" y="144"/>
                </a:lnTo>
                <a:lnTo>
                  <a:pt x="396" y="128"/>
                </a:lnTo>
                <a:lnTo>
                  <a:pt x="396" y="117"/>
                </a:lnTo>
                <a:lnTo>
                  <a:pt x="396" y="101"/>
                </a:lnTo>
                <a:lnTo>
                  <a:pt x="396" y="91"/>
                </a:lnTo>
                <a:lnTo>
                  <a:pt x="396" y="80"/>
                </a:lnTo>
                <a:lnTo>
                  <a:pt x="396" y="69"/>
                </a:lnTo>
                <a:lnTo>
                  <a:pt x="396" y="64"/>
                </a:lnTo>
                <a:lnTo>
                  <a:pt x="396" y="59"/>
                </a:lnTo>
                <a:lnTo>
                  <a:pt x="390" y="53"/>
                </a:lnTo>
                <a:lnTo>
                  <a:pt x="390" y="48"/>
                </a:lnTo>
                <a:lnTo>
                  <a:pt x="390" y="48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054240" y="3971880"/>
            <a:ext cx="933480" cy="939960"/>
          </a:xfrm>
          <a:custGeom>
            <a:avLst/>
            <a:gdLst/>
            <a:ahLst/>
            <a:rect l="l" t="t" r="r" b="b"/>
            <a:pathLst>
              <a:path w="588" h="592">
                <a:moveTo>
                  <a:pt x="235" y="485"/>
                </a:moveTo>
                <a:lnTo>
                  <a:pt x="283" y="485"/>
                </a:lnTo>
                <a:lnTo>
                  <a:pt x="326" y="480"/>
                </a:lnTo>
                <a:lnTo>
                  <a:pt x="347" y="480"/>
                </a:lnTo>
                <a:lnTo>
                  <a:pt x="368" y="475"/>
                </a:lnTo>
                <a:lnTo>
                  <a:pt x="390" y="475"/>
                </a:lnTo>
                <a:lnTo>
                  <a:pt x="406" y="469"/>
                </a:lnTo>
                <a:lnTo>
                  <a:pt x="422" y="464"/>
                </a:lnTo>
                <a:lnTo>
                  <a:pt x="438" y="453"/>
                </a:lnTo>
                <a:lnTo>
                  <a:pt x="454" y="443"/>
                </a:lnTo>
                <a:lnTo>
                  <a:pt x="465" y="432"/>
                </a:lnTo>
                <a:lnTo>
                  <a:pt x="475" y="411"/>
                </a:lnTo>
                <a:lnTo>
                  <a:pt x="486" y="390"/>
                </a:lnTo>
                <a:lnTo>
                  <a:pt x="497" y="368"/>
                </a:lnTo>
                <a:lnTo>
                  <a:pt x="502" y="342"/>
                </a:lnTo>
                <a:lnTo>
                  <a:pt x="507" y="315"/>
                </a:lnTo>
                <a:lnTo>
                  <a:pt x="518" y="288"/>
                </a:lnTo>
                <a:lnTo>
                  <a:pt x="523" y="267"/>
                </a:lnTo>
                <a:lnTo>
                  <a:pt x="529" y="251"/>
                </a:lnTo>
                <a:lnTo>
                  <a:pt x="534" y="240"/>
                </a:lnTo>
                <a:lnTo>
                  <a:pt x="539" y="230"/>
                </a:lnTo>
                <a:lnTo>
                  <a:pt x="545" y="224"/>
                </a:lnTo>
                <a:lnTo>
                  <a:pt x="545" y="224"/>
                </a:lnTo>
                <a:lnTo>
                  <a:pt x="545" y="224"/>
                </a:lnTo>
                <a:lnTo>
                  <a:pt x="550" y="230"/>
                </a:lnTo>
                <a:lnTo>
                  <a:pt x="550" y="240"/>
                </a:lnTo>
                <a:lnTo>
                  <a:pt x="556" y="246"/>
                </a:lnTo>
                <a:lnTo>
                  <a:pt x="556" y="262"/>
                </a:lnTo>
                <a:lnTo>
                  <a:pt x="561" y="278"/>
                </a:lnTo>
                <a:lnTo>
                  <a:pt x="561" y="294"/>
                </a:lnTo>
                <a:lnTo>
                  <a:pt x="561" y="315"/>
                </a:lnTo>
                <a:lnTo>
                  <a:pt x="561" y="336"/>
                </a:lnTo>
                <a:lnTo>
                  <a:pt x="566" y="358"/>
                </a:lnTo>
                <a:lnTo>
                  <a:pt x="566" y="379"/>
                </a:lnTo>
                <a:lnTo>
                  <a:pt x="566" y="400"/>
                </a:lnTo>
                <a:lnTo>
                  <a:pt x="572" y="416"/>
                </a:lnTo>
                <a:lnTo>
                  <a:pt x="577" y="432"/>
                </a:lnTo>
                <a:lnTo>
                  <a:pt x="582" y="448"/>
                </a:lnTo>
                <a:lnTo>
                  <a:pt x="588" y="464"/>
                </a:lnTo>
                <a:lnTo>
                  <a:pt x="588" y="469"/>
                </a:lnTo>
                <a:lnTo>
                  <a:pt x="588" y="475"/>
                </a:lnTo>
                <a:lnTo>
                  <a:pt x="588" y="480"/>
                </a:lnTo>
                <a:lnTo>
                  <a:pt x="588" y="485"/>
                </a:lnTo>
                <a:lnTo>
                  <a:pt x="582" y="491"/>
                </a:lnTo>
                <a:lnTo>
                  <a:pt x="582" y="496"/>
                </a:lnTo>
                <a:lnTo>
                  <a:pt x="577" y="501"/>
                </a:lnTo>
                <a:lnTo>
                  <a:pt x="572" y="507"/>
                </a:lnTo>
                <a:lnTo>
                  <a:pt x="561" y="512"/>
                </a:lnTo>
                <a:lnTo>
                  <a:pt x="556" y="517"/>
                </a:lnTo>
                <a:lnTo>
                  <a:pt x="545" y="528"/>
                </a:lnTo>
                <a:lnTo>
                  <a:pt x="534" y="528"/>
                </a:lnTo>
                <a:lnTo>
                  <a:pt x="523" y="533"/>
                </a:lnTo>
                <a:lnTo>
                  <a:pt x="513" y="539"/>
                </a:lnTo>
                <a:lnTo>
                  <a:pt x="502" y="544"/>
                </a:lnTo>
                <a:lnTo>
                  <a:pt x="486" y="549"/>
                </a:lnTo>
                <a:lnTo>
                  <a:pt x="454" y="560"/>
                </a:lnTo>
                <a:lnTo>
                  <a:pt x="427" y="571"/>
                </a:lnTo>
                <a:lnTo>
                  <a:pt x="400" y="576"/>
                </a:lnTo>
                <a:lnTo>
                  <a:pt x="368" y="581"/>
                </a:lnTo>
                <a:lnTo>
                  <a:pt x="342" y="587"/>
                </a:lnTo>
                <a:lnTo>
                  <a:pt x="315" y="587"/>
                </a:lnTo>
                <a:lnTo>
                  <a:pt x="288" y="587"/>
                </a:lnTo>
                <a:lnTo>
                  <a:pt x="267" y="592"/>
                </a:lnTo>
                <a:lnTo>
                  <a:pt x="240" y="587"/>
                </a:lnTo>
                <a:lnTo>
                  <a:pt x="213" y="587"/>
                </a:lnTo>
                <a:lnTo>
                  <a:pt x="192" y="581"/>
                </a:lnTo>
                <a:lnTo>
                  <a:pt x="171" y="576"/>
                </a:lnTo>
                <a:lnTo>
                  <a:pt x="149" y="576"/>
                </a:lnTo>
                <a:lnTo>
                  <a:pt x="133" y="571"/>
                </a:lnTo>
                <a:lnTo>
                  <a:pt x="117" y="565"/>
                </a:lnTo>
                <a:lnTo>
                  <a:pt x="101" y="560"/>
                </a:lnTo>
                <a:lnTo>
                  <a:pt x="90" y="549"/>
                </a:lnTo>
                <a:lnTo>
                  <a:pt x="80" y="544"/>
                </a:lnTo>
                <a:lnTo>
                  <a:pt x="58" y="528"/>
                </a:lnTo>
                <a:lnTo>
                  <a:pt x="42" y="507"/>
                </a:lnTo>
                <a:lnTo>
                  <a:pt x="32" y="496"/>
                </a:lnTo>
                <a:lnTo>
                  <a:pt x="26" y="485"/>
                </a:lnTo>
                <a:lnTo>
                  <a:pt x="21" y="475"/>
                </a:lnTo>
                <a:lnTo>
                  <a:pt x="16" y="464"/>
                </a:lnTo>
                <a:lnTo>
                  <a:pt x="5" y="437"/>
                </a:lnTo>
                <a:lnTo>
                  <a:pt x="5" y="411"/>
                </a:lnTo>
                <a:lnTo>
                  <a:pt x="0" y="384"/>
                </a:lnTo>
                <a:lnTo>
                  <a:pt x="0" y="368"/>
                </a:lnTo>
                <a:lnTo>
                  <a:pt x="0" y="352"/>
                </a:lnTo>
                <a:lnTo>
                  <a:pt x="0" y="331"/>
                </a:lnTo>
                <a:lnTo>
                  <a:pt x="0" y="310"/>
                </a:lnTo>
                <a:lnTo>
                  <a:pt x="0" y="283"/>
                </a:lnTo>
                <a:lnTo>
                  <a:pt x="5" y="251"/>
                </a:lnTo>
                <a:lnTo>
                  <a:pt x="5" y="219"/>
                </a:lnTo>
                <a:lnTo>
                  <a:pt x="5" y="182"/>
                </a:lnTo>
                <a:lnTo>
                  <a:pt x="10" y="160"/>
                </a:lnTo>
                <a:lnTo>
                  <a:pt x="10" y="144"/>
                </a:lnTo>
                <a:lnTo>
                  <a:pt x="10" y="128"/>
                </a:lnTo>
                <a:lnTo>
                  <a:pt x="10" y="112"/>
                </a:lnTo>
                <a:lnTo>
                  <a:pt x="16" y="96"/>
                </a:lnTo>
                <a:lnTo>
                  <a:pt x="16" y="86"/>
                </a:lnTo>
                <a:lnTo>
                  <a:pt x="16" y="70"/>
                </a:lnTo>
                <a:lnTo>
                  <a:pt x="16" y="59"/>
                </a:lnTo>
                <a:lnTo>
                  <a:pt x="16" y="48"/>
                </a:lnTo>
                <a:lnTo>
                  <a:pt x="21" y="38"/>
                </a:lnTo>
                <a:lnTo>
                  <a:pt x="21" y="32"/>
                </a:lnTo>
                <a:lnTo>
                  <a:pt x="21" y="27"/>
                </a:lnTo>
                <a:lnTo>
                  <a:pt x="21" y="16"/>
                </a:lnTo>
                <a:lnTo>
                  <a:pt x="21" y="11"/>
                </a:lnTo>
                <a:lnTo>
                  <a:pt x="26" y="11"/>
                </a:lnTo>
                <a:lnTo>
                  <a:pt x="26" y="6"/>
                </a:lnTo>
                <a:lnTo>
                  <a:pt x="32" y="0"/>
                </a:lnTo>
                <a:lnTo>
                  <a:pt x="42" y="0"/>
                </a:lnTo>
                <a:lnTo>
                  <a:pt x="42" y="0"/>
                </a:lnTo>
                <a:lnTo>
                  <a:pt x="53" y="0"/>
                </a:lnTo>
                <a:lnTo>
                  <a:pt x="58" y="6"/>
                </a:lnTo>
                <a:lnTo>
                  <a:pt x="69" y="6"/>
                </a:lnTo>
                <a:lnTo>
                  <a:pt x="74" y="11"/>
                </a:lnTo>
                <a:lnTo>
                  <a:pt x="85" y="16"/>
                </a:lnTo>
                <a:lnTo>
                  <a:pt x="90" y="22"/>
                </a:lnTo>
                <a:lnTo>
                  <a:pt x="96" y="27"/>
                </a:lnTo>
                <a:lnTo>
                  <a:pt x="96" y="32"/>
                </a:lnTo>
                <a:lnTo>
                  <a:pt x="101" y="38"/>
                </a:lnTo>
                <a:lnTo>
                  <a:pt x="101" y="43"/>
                </a:lnTo>
                <a:lnTo>
                  <a:pt x="101" y="54"/>
                </a:lnTo>
                <a:lnTo>
                  <a:pt x="101" y="59"/>
                </a:lnTo>
                <a:lnTo>
                  <a:pt x="101" y="70"/>
                </a:lnTo>
                <a:lnTo>
                  <a:pt x="96" y="80"/>
                </a:lnTo>
                <a:lnTo>
                  <a:pt x="96" y="91"/>
                </a:lnTo>
                <a:lnTo>
                  <a:pt x="90" y="102"/>
                </a:lnTo>
                <a:lnTo>
                  <a:pt x="85" y="118"/>
                </a:lnTo>
                <a:lnTo>
                  <a:pt x="85" y="134"/>
                </a:lnTo>
                <a:lnTo>
                  <a:pt x="80" y="150"/>
                </a:lnTo>
                <a:lnTo>
                  <a:pt x="74" y="166"/>
                </a:lnTo>
                <a:lnTo>
                  <a:pt x="69" y="182"/>
                </a:lnTo>
                <a:lnTo>
                  <a:pt x="64" y="224"/>
                </a:lnTo>
                <a:lnTo>
                  <a:pt x="64" y="267"/>
                </a:lnTo>
                <a:lnTo>
                  <a:pt x="64" y="310"/>
                </a:lnTo>
                <a:lnTo>
                  <a:pt x="58" y="331"/>
                </a:lnTo>
                <a:lnTo>
                  <a:pt x="58" y="352"/>
                </a:lnTo>
                <a:lnTo>
                  <a:pt x="64" y="374"/>
                </a:lnTo>
                <a:lnTo>
                  <a:pt x="64" y="390"/>
                </a:lnTo>
                <a:lnTo>
                  <a:pt x="69" y="406"/>
                </a:lnTo>
                <a:lnTo>
                  <a:pt x="80" y="421"/>
                </a:lnTo>
                <a:lnTo>
                  <a:pt x="85" y="432"/>
                </a:lnTo>
                <a:lnTo>
                  <a:pt x="96" y="443"/>
                </a:lnTo>
                <a:lnTo>
                  <a:pt x="106" y="453"/>
                </a:lnTo>
                <a:lnTo>
                  <a:pt x="117" y="464"/>
                </a:lnTo>
                <a:lnTo>
                  <a:pt x="133" y="469"/>
                </a:lnTo>
                <a:lnTo>
                  <a:pt x="149" y="475"/>
                </a:lnTo>
                <a:lnTo>
                  <a:pt x="171" y="480"/>
                </a:lnTo>
                <a:lnTo>
                  <a:pt x="187" y="485"/>
                </a:lnTo>
                <a:lnTo>
                  <a:pt x="213" y="485"/>
                </a:lnTo>
                <a:lnTo>
                  <a:pt x="235" y="485"/>
                </a:lnTo>
                <a:lnTo>
                  <a:pt x="235" y="485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14800" y="3946680"/>
            <a:ext cx="449280" cy="550800"/>
          </a:xfrm>
          <a:custGeom>
            <a:avLst/>
            <a:gdLst/>
            <a:ahLst/>
            <a:rect l="l" t="t" r="r" b="b"/>
            <a:pathLst>
              <a:path w="283" h="347">
                <a:moveTo>
                  <a:pt x="283" y="230"/>
                </a:moveTo>
                <a:lnTo>
                  <a:pt x="283" y="267"/>
                </a:lnTo>
                <a:lnTo>
                  <a:pt x="251" y="278"/>
                </a:lnTo>
                <a:lnTo>
                  <a:pt x="219" y="283"/>
                </a:lnTo>
                <a:lnTo>
                  <a:pt x="193" y="294"/>
                </a:lnTo>
                <a:lnTo>
                  <a:pt x="171" y="299"/>
                </a:lnTo>
                <a:lnTo>
                  <a:pt x="150" y="304"/>
                </a:lnTo>
                <a:lnTo>
                  <a:pt x="134" y="315"/>
                </a:lnTo>
                <a:lnTo>
                  <a:pt x="118" y="320"/>
                </a:lnTo>
                <a:lnTo>
                  <a:pt x="102" y="326"/>
                </a:lnTo>
                <a:lnTo>
                  <a:pt x="91" y="331"/>
                </a:lnTo>
                <a:lnTo>
                  <a:pt x="86" y="336"/>
                </a:lnTo>
                <a:lnTo>
                  <a:pt x="75" y="342"/>
                </a:lnTo>
                <a:lnTo>
                  <a:pt x="70" y="342"/>
                </a:lnTo>
                <a:lnTo>
                  <a:pt x="64" y="347"/>
                </a:lnTo>
                <a:lnTo>
                  <a:pt x="59" y="347"/>
                </a:lnTo>
                <a:lnTo>
                  <a:pt x="54" y="347"/>
                </a:lnTo>
                <a:lnTo>
                  <a:pt x="48" y="347"/>
                </a:lnTo>
                <a:lnTo>
                  <a:pt x="43" y="347"/>
                </a:lnTo>
                <a:lnTo>
                  <a:pt x="38" y="342"/>
                </a:lnTo>
                <a:lnTo>
                  <a:pt x="32" y="342"/>
                </a:lnTo>
                <a:lnTo>
                  <a:pt x="27" y="336"/>
                </a:lnTo>
                <a:lnTo>
                  <a:pt x="27" y="331"/>
                </a:lnTo>
                <a:lnTo>
                  <a:pt x="21" y="326"/>
                </a:lnTo>
                <a:lnTo>
                  <a:pt x="16" y="315"/>
                </a:lnTo>
                <a:lnTo>
                  <a:pt x="11" y="310"/>
                </a:lnTo>
                <a:lnTo>
                  <a:pt x="5" y="304"/>
                </a:lnTo>
                <a:lnTo>
                  <a:pt x="0" y="299"/>
                </a:lnTo>
                <a:lnTo>
                  <a:pt x="0" y="294"/>
                </a:lnTo>
                <a:lnTo>
                  <a:pt x="0" y="288"/>
                </a:lnTo>
                <a:lnTo>
                  <a:pt x="0" y="283"/>
                </a:lnTo>
                <a:lnTo>
                  <a:pt x="0" y="278"/>
                </a:lnTo>
                <a:lnTo>
                  <a:pt x="5" y="272"/>
                </a:lnTo>
                <a:lnTo>
                  <a:pt x="11" y="267"/>
                </a:lnTo>
                <a:lnTo>
                  <a:pt x="16" y="256"/>
                </a:lnTo>
                <a:lnTo>
                  <a:pt x="27" y="246"/>
                </a:lnTo>
                <a:lnTo>
                  <a:pt x="32" y="246"/>
                </a:lnTo>
                <a:lnTo>
                  <a:pt x="38" y="240"/>
                </a:lnTo>
                <a:lnTo>
                  <a:pt x="43" y="235"/>
                </a:lnTo>
                <a:lnTo>
                  <a:pt x="48" y="230"/>
                </a:lnTo>
                <a:lnTo>
                  <a:pt x="54" y="219"/>
                </a:lnTo>
                <a:lnTo>
                  <a:pt x="59" y="208"/>
                </a:lnTo>
                <a:lnTo>
                  <a:pt x="70" y="203"/>
                </a:lnTo>
                <a:lnTo>
                  <a:pt x="75" y="187"/>
                </a:lnTo>
                <a:lnTo>
                  <a:pt x="86" y="166"/>
                </a:lnTo>
                <a:lnTo>
                  <a:pt x="96" y="144"/>
                </a:lnTo>
                <a:lnTo>
                  <a:pt x="107" y="123"/>
                </a:lnTo>
                <a:lnTo>
                  <a:pt x="118" y="102"/>
                </a:lnTo>
                <a:lnTo>
                  <a:pt x="118" y="86"/>
                </a:lnTo>
                <a:lnTo>
                  <a:pt x="118" y="75"/>
                </a:lnTo>
                <a:lnTo>
                  <a:pt x="118" y="70"/>
                </a:lnTo>
                <a:lnTo>
                  <a:pt x="118" y="59"/>
                </a:lnTo>
                <a:lnTo>
                  <a:pt x="118" y="48"/>
                </a:lnTo>
                <a:lnTo>
                  <a:pt x="118" y="38"/>
                </a:lnTo>
                <a:lnTo>
                  <a:pt x="112" y="32"/>
                </a:lnTo>
                <a:lnTo>
                  <a:pt x="107" y="27"/>
                </a:lnTo>
                <a:lnTo>
                  <a:pt x="107" y="16"/>
                </a:lnTo>
                <a:lnTo>
                  <a:pt x="107" y="11"/>
                </a:lnTo>
                <a:lnTo>
                  <a:pt x="107" y="6"/>
                </a:lnTo>
                <a:lnTo>
                  <a:pt x="112" y="0"/>
                </a:lnTo>
                <a:lnTo>
                  <a:pt x="118" y="0"/>
                </a:lnTo>
                <a:lnTo>
                  <a:pt x="123" y="0"/>
                </a:lnTo>
                <a:lnTo>
                  <a:pt x="128" y="0"/>
                </a:lnTo>
                <a:lnTo>
                  <a:pt x="134" y="0"/>
                </a:lnTo>
                <a:lnTo>
                  <a:pt x="144" y="0"/>
                </a:lnTo>
                <a:lnTo>
                  <a:pt x="155" y="0"/>
                </a:lnTo>
                <a:lnTo>
                  <a:pt x="166" y="6"/>
                </a:lnTo>
                <a:lnTo>
                  <a:pt x="171" y="6"/>
                </a:lnTo>
                <a:lnTo>
                  <a:pt x="182" y="11"/>
                </a:lnTo>
                <a:lnTo>
                  <a:pt x="187" y="16"/>
                </a:lnTo>
                <a:lnTo>
                  <a:pt x="198" y="22"/>
                </a:lnTo>
                <a:lnTo>
                  <a:pt x="198" y="27"/>
                </a:lnTo>
                <a:lnTo>
                  <a:pt x="203" y="32"/>
                </a:lnTo>
                <a:lnTo>
                  <a:pt x="203" y="43"/>
                </a:lnTo>
                <a:lnTo>
                  <a:pt x="203" y="48"/>
                </a:lnTo>
                <a:lnTo>
                  <a:pt x="203" y="54"/>
                </a:lnTo>
                <a:lnTo>
                  <a:pt x="203" y="64"/>
                </a:lnTo>
                <a:lnTo>
                  <a:pt x="198" y="70"/>
                </a:lnTo>
                <a:lnTo>
                  <a:pt x="198" y="80"/>
                </a:lnTo>
                <a:lnTo>
                  <a:pt x="187" y="102"/>
                </a:lnTo>
                <a:lnTo>
                  <a:pt x="177" y="123"/>
                </a:lnTo>
                <a:lnTo>
                  <a:pt x="160" y="150"/>
                </a:lnTo>
                <a:lnTo>
                  <a:pt x="144" y="171"/>
                </a:lnTo>
                <a:lnTo>
                  <a:pt x="128" y="187"/>
                </a:lnTo>
                <a:lnTo>
                  <a:pt x="118" y="208"/>
                </a:lnTo>
                <a:lnTo>
                  <a:pt x="107" y="219"/>
                </a:lnTo>
                <a:lnTo>
                  <a:pt x="102" y="224"/>
                </a:lnTo>
                <a:lnTo>
                  <a:pt x="96" y="230"/>
                </a:lnTo>
                <a:lnTo>
                  <a:pt x="91" y="240"/>
                </a:lnTo>
                <a:lnTo>
                  <a:pt x="91" y="246"/>
                </a:lnTo>
                <a:lnTo>
                  <a:pt x="91" y="246"/>
                </a:lnTo>
                <a:lnTo>
                  <a:pt x="91" y="251"/>
                </a:lnTo>
                <a:lnTo>
                  <a:pt x="91" y="251"/>
                </a:lnTo>
                <a:lnTo>
                  <a:pt x="96" y="256"/>
                </a:lnTo>
                <a:lnTo>
                  <a:pt x="96" y="256"/>
                </a:lnTo>
                <a:lnTo>
                  <a:pt x="102" y="256"/>
                </a:lnTo>
                <a:lnTo>
                  <a:pt x="112" y="256"/>
                </a:lnTo>
                <a:lnTo>
                  <a:pt x="118" y="256"/>
                </a:lnTo>
                <a:lnTo>
                  <a:pt x="128" y="256"/>
                </a:lnTo>
                <a:lnTo>
                  <a:pt x="139" y="256"/>
                </a:lnTo>
                <a:lnTo>
                  <a:pt x="150" y="251"/>
                </a:lnTo>
                <a:lnTo>
                  <a:pt x="166" y="251"/>
                </a:lnTo>
                <a:lnTo>
                  <a:pt x="177" y="246"/>
                </a:lnTo>
                <a:lnTo>
                  <a:pt x="193" y="246"/>
                </a:lnTo>
                <a:lnTo>
                  <a:pt x="209" y="240"/>
                </a:lnTo>
                <a:lnTo>
                  <a:pt x="225" y="235"/>
                </a:lnTo>
                <a:lnTo>
                  <a:pt x="246" y="235"/>
                </a:lnTo>
                <a:lnTo>
                  <a:pt x="283" y="230"/>
                </a:lnTo>
                <a:lnTo>
                  <a:pt x="283" y="23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87760" y="4175280"/>
            <a:ext cx="162000" cy="253800"/>
          </a:xfrm>
          <a:custGeom>
            <a:avLst/>
            <a:gdLst/>
            <a:ahLst/>
            <a:rect l="l" t="t" r="r" b="b"/>
            <a:pathLst>
              <a:path w="102" h="160">
                <a:moveTo>
                  <a:pt x="6" y="0"/>
                </a:moveTo>
                <a:lnTo>
                  <a:pt x="11" y="0"/>
                </a:lnTo>
                <a:lnTo>
                  <a:pt x="11" y="0"/>
                </a:lnTo>
                <a:lnTo>
                  <a:pt x="22" y="6"/>
                </a:lnTo>
                <a:lnTo>
                  <a:pt x="27" y="11"/>
                </a:lnTo>
                <a:lnTo>
                  <a:pt x="32" y="16"/>
                </a:lnTo>
                <a:lnTo>
                  <a:pt x="43" y="22"/>
                </a:lnTo>
                <a:lnTo>
                  <a:pt x="48" y="27"/>
                </a:lnTo>
                <a:lnTo>
                  <a:pt x="59" y="43"/>
                </a:lnTo>
                <a:lnTo>
                  <a:pt x="75" y="54"/>
                </a:lnTo>
                <a:lnTo>
                  <a:pt x="86" y="70"/>
                </a:lnTo>
                <a:lnTo>
                  <a:pt x="97" y="91"/>
                </a:lnTo>
                <a:lnTo>
                  <a:pt x="102" y="102"/>
                </a:lnTo>
                <a:lnTo>
                  <a:pt x="102" y="112"/>
                </a:lnTo>
                <a:lnTo>
                  <a:pt x="102" y="123"/>
                </a:lnTo>
                <a:lnTo>
                  <a:pt x="102" y="128"/>
                </a:lnTo>
                <a:lnTo>
                  <a:pt x="102" y="139"/>
                </a:lnTo>
                <a:lnTo>
                  <a:pt x="102" y="144"/>
                </a:lnTo>
                <a:lnTo>
                  <a:pt x="97" y="150"/>
                </a:lnTo>
                <a:lnTo>
                  <a:pt x="91" y="155"/>
                </a:lnTo>
                <a:lnTo>
                  <a:pt x="81" y="160"/>
                </a:lnTo>
                <a:lnTo>
                  <a:pt x="75" y="160"/>
                </a:lnTo>
                <a:lnTo>
                  <a:pt x="70" y="160"/>
                </a:lnTo>
                <a:lnTo>
                  <a:pt x="64" y="160"/>
                </a:lnTo>
                <a:lnTo>
                  <a:pt x="54" y="155"/>
                </a:lnTo>
                <a:lnTo>
                  <a:pt x="48" y="150"/>
                </a:lnTo>
                <a:lnTo>
                  <a:pt x="43" y="144"/>
                </a:lnTo>
                <a:lnTo>
                  <a:pt x="38" y="134"/>
                </a:lnTo>
                <a:lnTo>
                  <a:pt x="27" y="128"/>
                </a:lnTo>
                <a:lnTo>
                  <a:pt x="22" y="118"/>
                </a:lnTo>
                <a:lnTo>
                  <a:pt x="11" y="96"/>
                </a:lnTo>
                <a:lnTo>
                  <a:pt x="6" y="75"/>
                </a:lnTo>
                <a:lnTo>
                  <a:pt x="0" y="54"/>
                </a:lnTo>
                <a:lnTo>
                  <a:pt x="0" y="38"/>
                </a:lnTo>
                <a:lnTo>
                  <a:pt x="0" y="32"/>
                </a:lnTo>
                <a:lnTo>
                  <a:pt x="0" y="22"/>
                </a:lnTo>
                <a:lnTo>
                  <a:pt x="0" y="16"/>
                </a:lnTo>
                <a:lnTo>
                  <a:pt x="0" y="6"/>
                </a:lnTo>
                <a:lnTo>
                  <a:pt x="0" y="6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833560" y="3473280"/>
            <a:ext cx="525600" cy="144720"/>
          </a:xfrm>
          <a:custGeom>
            <a:avLst/>
            <a:gdLst/>
            <a:ahLst/>
            <a:rect l="l" t="t" r="r" b="b"/>
            <a:pathLst>
              <a:path w="331" h="91">
                <a:moveTo>
                  <a:pt x="26" y="91"/>
                </a:moveTo>
                <a:lnTo>
                  <a:pt x="16" y="85"/>
                </a:lnTo>
                <a:lnTo>
                  <a:pt x="10" y="75"/>
                </a:lnTo>
                <a:lnTo>
                  <a:pt x="5" y="64"/>
                </a:lnTo>
                <a:lnTo>
                  <a:pt x="0" y="53"/>
                </a:lnTo>
                <a:lnTo>
                  <a:pt x="21" y="48"/>
                </a:lnTo>
                <a:lnTo>
                  <a:pt x="48" y="37"/>
                </a:lnTo>
                <a:lnTo>
                  <a:pt x="69" y="32"/>
                </a:lnTo>
                <a:lnTo>
                  <a:pt x="90" y="32"/>
                </a:lnTo>
                <a:lnTo>
                  <a:pt x="112" y="27"/>
                </a:lnTo>
                <a:lnTo>
                  <a:pt x="133" y="21"/>
                </a:lnTo>
                <a:lnTo>
                  <a:pt x="149" y="16"/>
                </a:lnTo>
                <a:lnTo>
                  <a:pt x="165" y="16"/>
                </a:lnTo>
                <a:lnTo>
                  <a:pt x="181" y="11"/>
                </a:lnTo>
                <a:lnTo>
                  <a:pt x="197" y="5"/>
                </a:lnTo>
                <a:lnTo>
                  <a:pt x="213" y="5"/>
                </a:lnTo>
                <a:lnTo>
                  <a:pt x="224" y="5"/>
                </a:lnTo>
                <a:lnTo>
                  <a:pt x="235" y="0"/>
                </a:lnTo>
                <a:lnTo>
                  <a:pt x="245" y="0"/>
                </a:lnTo>
                <a:lnTo>
                  <a:pt x="251" y="0"/>
                </a:lnTo>
                <a:lnTo>
                  <a:pt x="261" y="0"/>
                </a:lnTo>
                <a:lnTo>
                  <a:pt x="272" y="0"/>
                </a:lnTo>
                <a:lnTo>
                  <a:pt x="283" y="0"/>
                </a:lnTo>
                <a:lnTo>
                  <a:pt x="294" y="0"/>
                </a:lnTo>
                <a:lnTo>
                  <a:pt x="304" y="0"/>
                </a:lnTo>
                <a:lnTo>
                  <a:pt x="310" y="0"/>
                </a:lnTo>
                <a:lnTo>
                  <a:pt x="320" y="5"/>
                </a:lnTo>
                <a:lnTo>
                  <a:pt x="320" y="5"/>
                </a:lnTo>
                <a:lnTo>
                  <a:pt x="326" y="5"/>
                </a:lnTo>
                <a:lnTo>
                  <a:pt x="331" y="11"/>
                </a:lnTo>
                <a:lnTo>
                  <a:pt x="331" y="21"/>
                </a:lnTo>
                <a:lnTo>
                  <a:pt x="331" y="27"/>
                </a:lnTo>
                <a:lnTo>
                  <a:pt x="331" y="32"/>
                </a:lnTo>
                <a:lnTo>
                  <a:pt x="331" y="32"/>
                </a:lnTo>
                <a:lnTo>
                  <a:pt x="331" y="37"/>
                </a:lnTo>
                <a:lnTo>
                  <a:pt x="326" y="37"/>
                </a:lnTo>
                <a:lnTo>
                  <a:pt x="320" y="43"/>
                </a:lnTo>
                <a:lnTo>
                  <a:pt x="320" y="43"/>
                </a:lnTo>
                <a:lnTo>
                  <a:pt x="310" y="48"/>
                </a:lnTo>
                <a:lnTo>
                  <a:pt x="304" y="48"/>
                </a:lnTo>
                <a:lnTo>
                  <a:pt x="294" y="53"/>
                </a:lnTo>
                <a:lnTo>
                  <a:pt x="283" y="53"/>
                </a:lnTo>
                <a:lnTo>
                  <a:pt x="278" y="59"/>
                </a:lnTo>
                <a:lnTo>
                  <a:pt x="267" y="59"/>
                </a:lnTo>
                <a:lnTo>
                  <a:pt x="261" y="59"/>
                </a:lnTo>
                <a:lnTo>
                  <a:pt x="256" y="64"/>
                </a:lnTo>
                <a:lnTo>
                  <a:pt x="256" y="64"/>
                </a:lnTo>
                <a:lnTo>
                  <a:pt x="245" y="64"/>
                </a:lnTo>
                <a:lnTo>
                  <a:pt x="245" y="64"/>
                </a:lnTo>
                <a:lnTo>
                  <a:pt x="240" y="64"/>
                </a:lnTo>
                <a:lnTo>
                  <a:pt x="229" y="64"/>
                </a:lnTo>
                <a:lnTo>
                  <a:pt x="219" y="69"/>
                </a:lnTo>
                <a:lnTo>
                  <a:pt x="203" y="69"/>
                </a:lnTo>
                <a:lnTo>
                  <a:pt x="187" y="75"/>
                </a:lnTo>
                <a:lnTo>
                  <a:pt x="165" y="75"/>
                </a:lnTo>
                <a:lnTo>
                  <a:pt x="144" y="75"/>
                </a:lnTo>
                <a:lnTo>
                  <a:pt x="122" y="80"/>
                </a:lnTo>
                <a:lnTo>
                  <a:pt x="101" y="85"/>
                </a:lnTo>
                <a:lnTo>
                  <a:pt x="85" y="91"/>
                </a:lnTo>
                <a:lnTo>
                  <a:pt x="69" y="91"/>
                </a:lnTo>
                <a:lnTo>
                  <a:pt x="53" y="91"/>
                </a:lnTo>
                <a:lnTo>
                  <a:pt x="42" y="91"/>
                </a:lnTo>
                <a:lnTo>
                  <a:pt x="37" y="91"/>
                </a:lnTo>
                <a:lnTo>
                  <a:pt x="26" y="91"/>
                </a:lnTo>
                <a:lnTo>
                  <a:pt x="26" y="91"/>
                </a:lnTo>
              </a:path>
            </a:pathLst>
          </a:custGeom>
          <a:solidFill>
            <a:srgbClr val="ff0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98640" y="3770280"/>
            <a:ext cx="636840" cy="160200"/>
          </a:xfrm>
          <a:custGeom>
            <a:avLst/>
            <a:gdLst/>
            <a:ahLst/>
            <a:rect l="l" t="t" r="r" b="b"/>
            <a:pathLst>
              <a:path w="401" h="101">
                <a:moveTo>
                  <a:pt x="0" y="53"/>
                </a:moveTo>
                <a:lnTo>
                  <a:pt x="22" y="48"/>
                </a:lnTo>
                <a:lnTo>
                  <a:pt x="43" y="48"/>
                </a:lnTo>
                <a:lnTo>
                  <a:pt x="64" y="42"/>
                </a:lnTo>
                <a:lnTo>
                  <a:pt x="86" y="37"/>
                </a:lnTo>
                <a:lnTo>
                  <a:pt x="112" y="37"/>
                </a:lnTo>
                <a:lnTo>
                  <a:pt x="134" y="32"/>
                </a:lnTo>
                <a:lnTo>
                  <a:pt x="166" y="26"/>
                </a:lnTo>
                <a:lnTo>
                  <a:pt x="193" y="21"/>
                </a:lnTo>
                <a:lnTo>
                  <a:pt x="219" y="16"/>
                </a:lnTo>
                <a:lnTo>
                  <a:pt x="246" y="10"/>
                </a:lnTo>
                <a:lnTo>
                  <a:pt x="300" y="5"/>
                </a:lnTo>
                <a:lnTo>
                  <a:pt x="353" y="0"/>
                </a:lnTo>
                <a:lnTo>
                  <a:pt x="401" y="0"/>
                </a:lnTo>
                <a:lnTo>
                  <a:pt x="401" y="53"/>
                </a:lnTo>
                <a:lnTo>
                  <a:pt x="374" y="53"/>
                </a:lnTo>
                <a:lnTo>
                  <a:pt x="348" y="53"/>
                </a:lnTo>
                <a:lnTo>
                  <a:pt x="321" y="53"/>
                </a:lnTo>
                <a:lnTo>
                  <a:pt x="294" y="53"/>
                </a:lnTo>
                <a:lnTo>
                  <a:pt x="246" y="58"/>
                </a:lnTo>
                <a:lnTo>
                  <a:pt x="198" y="69"/>
                </a:lnTo>
                <a:lnTo>
                  <a:pt x="150" y="79"/>
                </a:lnTo>
                <a:lnTo>
                  <a:pt x="102" y="90"/>
                </a:lnTo>
                <a:lnTo>
                  <a:pt x="48" y="95"/>
                </a:lnTo>
                <a:lnTo>
                  <a:pt x="0" y="101"/>
                </a:lnTo>
                <a:lnTo>
                  <a:pt x="0" y="53"/>
                </a:lnTo>
                <a:lnTo>
                  <a:pt x="0" y="53"/>
                </a:lnTo>
              </a:path>
            </a:pathLst>
          </a:custGeom>
          <a:solidFill>
            <a:srgbClr val="ff0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5640" y="98100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写好钢笔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"/>
          <p:cNvGrpSpPr/>
          <p:nvPr/>
        </p:nvGrpSpPr>
        <p:grpSpPr>
          <a:xfrm>
            <a:off x="0" y="0"/>
            <a:ext cx="9144000" cy="404640"/>
            <a:chOff x="0" y="0"/>
            <a:chExt cx="9144000" cy="404640"/>
          </a:xfrm>
        </p:grpSpPr>
        <p:sp>
          <p:nvSpPr>
            <p:cNvPr id="340" name=""/>
            <p:cNvSpPr/>
            <p:nvPr/>
          </p:nvSpPr>
          <p:spPr>
            <a:xfrm>
              <a:off x="0" y="0"/>
              <a:ext cx="9144000" cy="37620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404640"/>
              <a:ext cx="9144000" cy="0"/>
            </a:xfrm>
            <a:prstGeom prst="line">
              <a:avLst/>
            </a:prstGeom>
            <a:ln w="7632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0" y="6453360"/>
            <a:ext cx="9144000" cy="404640"/>
            <a:chOff x="0" y="6453360"/>
            <a:chExt cx="9144000" cy="404640"/>
          </a:xfrm>
        </p:grpSpPr>
        <p:sp>
          <p:nvSpPr>
            <p:cNvPr id="343" name=""/>
            <p:cNvSpPr/>
            <p:nvPr/>
          </p:nvSpPr>
          <p:spPr>
            <a:xfrm>
              <a:off x="0" y="6481800"/>
              <a:ext cx="9144000" cy="37620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0" y="6453360"/>
              <a:ext cx="9144000" cy="0"/>
            </a:xfrm>
            <a:prstGeom prst="line">
              <a:avLst/>
            </a:prstGeom>
            <a:ln w="7632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3780000" y="476280"/>
            <a:ext cx="5364000" cy="35751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0" y="364500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24000" y="2997360"/>
            <a:ext cx="8424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9972720" y="476280"/>
            <a:ext cx="225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241960" y="2441520"/>
            <a:ext cx="4294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508640" y="4267080"/>
            <a:ext cx="3168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68360" y="198900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中午，桌上就摆出了香喷喷的槐花饭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清香、醇香、浓香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......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这时候，连风打的旋儿都 香气扑鼻，整个槐乡都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浸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在香海中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"/>
          <p:cNvGrpSpPr/>
          <p:nvPr/>
        </p:nvGrpSpPr>
        <p:grpSpPr>
          <a:xfrm>
            <a:off x="0" y="0"/>
            <a:ext cx="9144000" cy="404640"/>
            <a:chOff x="0" y="0"/>
            <a:chExt cx="9144000" cy="404640"/>
          </a:xfrm>
        </p:grpSpPr>
        <p:sp>
          <p:nvSpPr>
            <p:cNvPr id="353" name=""/>
            <p:cNvSpPr/>
            <p:nvPr/>
          </p:nvSpPr>
          <p:spPr>
            <a:xfrm>
              <a:off x="0" y="0"/>
              <a:ext cx="9144000" cy="37620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0" y="404640"/>
              <a:ext cx="9144000" cy="0"/>
            </a:xfrm>
            <a:prstGeom prst="line">
              <a:avLst/>
            </a:prstGeom>
            <a:ln w="7632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0" y="6453360"/>
            <a:ext cx="9144000" cy="404640"/>
            <a:chOff x="0" y="6453360"/>
            <a:chExt cx="9144000" cy="404640"/>
          </a:xfrm>
        </p:grpSpPr>
        <p:sp>
          <p:nvSpPr>
            <p:cNvPr id="356" name=""/>
            <p:cNvSpPr/>
            <p:nvPr/>
          </p:nvSpPr>
          <p:spPr>
            <a:xfrm>
              <a:off x="0" y="6481800"/>
              <a:ext cx="9144000" cy="37620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0" y="6453360"/>
              <a:ext cx="9144000" cy="0"/>
            </a:xfrm>
            <a:prstGeom prst="line">
              <a:avLst/>
            </a:prstGeom>
            <a:ln w="7632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3780000" y="476280"/>
            <a:ext cx="5364000" cy="357516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0" y="364500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24000" y="2997360"/>
            <a:ext cx="8424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9972720" y="476280"/>
            <a:ext cx="225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508640" y="4267080"/>
            <a:ext cx="3168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68360" y="198900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中午，桌上就摆出了香喷喷的槐花饭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清香、醇香、浓香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......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这时候，连风打的旋儿都 香气扑鼻，整个槐乡都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浸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在香海中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>
            <a:hlinkClick r:id="rId2" action="ppaction://hlinksldjump"/>
          </p:cNvPr>
          <p:cNvSpPr/>
          <p:nvPr/>
        </p:nvSpPr>
        <p:spPr>
          <a:xfrm>
            <a:off x="250920" y="5805360"/>
            <a:ext cx="504720" cy="5032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62" h="21600">
                <a:moveTo>
                  <a:pt x="0" y="0"/>
                </a:moveTo>
                <a:lnTo>
                  <a:pt x="21662" y="0"/>
                </a:lnTo>
                <a:lnTo>
                  <a:pt x="21662" y="21600"/>
                </a:lnTo>
                <a:lnTo>
                  <a:pt x="0" y="21600"/>
                </a:lnTo>
                <a:close/>
              </a:path>
              <a:path fill="lightenLess" w="21662" h="21600">
                <a:moveTo>
                  <a:pt x="0" y="0"/>
                </a:moveTo>
                <a:lnTo>
                  <a:pt x="21662" y="0"/>
                </a:lnTo>
                <a:lnTo>
                  <a:pt x="20262" y="1400"/>
                </a:lnTo>
                <a:lnTo>
                  <a:pt x="1400" y="1400"/>
                </a:lnTo>
                <a:close/>
              </a:path>
              <a:path fill="darken" w="21662" h="21600">
                <a:moveTo>
                  <a:pt x="21662" y="0"/>
                </a:moveTo>
                <a:lnTo>
                  <a:pt x="21662" y="21600"/>
                </a:lnTo>
                <a:lnTo>
                  <a:pt x="20262" y="20200"/>
                </a:lnTo>
                <a:lnTo>
                  <a:pt x="20262" y="1400"/>
                </a:lnTo>
                <a:close/>
              </a:path>
              <a:path fill="darkenLess" w="21662" h="21600">
                <a:moveTo>
                  <a:pt x="216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2" y="20200"/>
                </a:lnTo>
                <a:close/>
              </a:path>
              <a:path fill="lighten" w="216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2" h="21600">
                <a:moveTo>
                  <a:pt x="3824" y="10800"/>
                </a:moveTo>
                <a:lnTo>
                  <a:pt x="17837" y="3794"/>
                </a:lnTo>
                <a:lnTo>
                  <a:pt x="17837" y="17806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" descr="flower9.jpg"/>
          <p:cNvPicPr/>
          <p:nvPr/>
        </p:nvPicPr>
        <p:blipFill>
          <a:blip r:embed="rId1">
            <a:lum contrast="-12000"/>
          </a:blip>
          <a:srcRect l="0" t="32442" r="0" b="10197"/>
          <a:stretch/>
        </p:blipFill>
        <p:spPr>
          <a:xfrm>
            <a:off x="0" y="0"/>
            <a:ext cx="4716360" cy="38606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 rot="20013600">
            <a:off x="468360" y="1422360"/>
            <a:ext cx="681120" cy="49392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3"/>
          <a:stretch/>
        </p:blipFill>
        <p:spPr>
          <a:xfrm rot="20013600">
            <a:off x="1186920" y="333000"/>
            <a:ext cx="576360" cy="32544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 rot="20013600">
            <a:off x="2195640" y="2205000"/>
            <a:ext cx="649080" cy="36828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5"/>
          <a:stretch/>
        </p:blipFill>
        <p:spPr>
          <a:xfrm rot="20013600">
            <a:off x="3708000" y="836280"/>
            <a:ext cx="576360" cy="32544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6"/>
          <a:stretch/>
        </p:blipFill>
        <p:spPr>
          <a:xfrm rot="20013600">
            <a:off x="2960280" y="375840"/>
            <a:ext cx="576360" cy="32544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716360" y="0"/>
            <a:ext cx="4427640" cy="386064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324000" y="4005360"/>
            <a:ext cx="83516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宋体-18030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-18030"/>
                <a:ea typeface="宋体-18030"/>
              </a:rPr>
              <a:t>嗡嗡嗡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宋体-18030"/>
              </a:rPr>
              <a:t>……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仿宋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-18030"/>
                <a:ea typeface="宋体-18030"/>
              </a:rPr>
              <a:t>小蜜蜂飞来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-18030"/>
                <a:ea typeface="宋体-18030"/>
              </a:rPr>
              <a:t>采走了香的粉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-18030"/>
                <a:ea typeface="宋体-18030"/>
              </a:rPr>
              <a:t>酿出了甜的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500720" y="4005360"/>
            <a:ext cx="446400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啪啪啪……”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孩子们跑来了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篮儿挎走白生生的槐花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心里装着喜盈盈的满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>
            <a:hlinkClick r:id="rId9" action="ppaction://hlinksldjump"/>
          </p:cNvPr>
          <p:cNvSpPr/>
          <p:nvPr/>
        </p:nvSpPr>
        <p:spPr>
          <a:xfrm>
            <a:off x="8712360" y="6237360"/>
            <a:ext cx="431640" cy="476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76280"/>
              <a:gd name="textAreaBottom" fmla="*/ 448560 h 476280"/>
            </a:gdLst>
            <a:ahLst/>
            <a:rect l="textAreaLeft" t="textAreaTop" r="textAreaRight" b="textAreaBottom"/>
            <a:pathLst>
              <a:path w="21600" h="23832">
                <a:moveTo>
                  <a:pt x="0" y="0"/>
                </a:moveTo>
                <a:lnTo>
                  <a:pt x="21600" y="0"/>
                </a:lnTo>
                <a:lnTo>
                  <a:pt x="21600" y="23832"/>
                </a:lnTo>
                <a:lnTo>
                  <a:pt x="0" y="23832"/>
                </a:lnTo>
                <a:close/>
              </a:path>
              <a:path fill="lightenLess" w="21600" h="238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832">
                <a:moveTo>
                  <a:pt x="21600" y="0"/>
                </a:moveTo>
                <a:lnTo>
                  <a:pt x="21600" y="23832"/>
                </a:lnTo>
                <a:lnTo>
                  <a:pt x="20200" y="22432"/>
                </a:lnTo>
                <a:lnTo>
                  <a:pt x="20200" y="1400"/>
                </a:lnTo>
                <a:close/>
              </a:path>
              <a:path fill="darkenLess" w="21600" h="23832">
                <a:moveTo>
                  <a:pt x="21600" y="23832"/>
                </a:moveTo>
                <a:lnTo>
                  <a:pt x="0" y="23832"/>
                </a:lnTo>
                <a:lnTo>
                  <a:pt x="1400" y="22432"/>
                </a:lnTo>
                <a:lnTo>
                  <a:pt x="20200" y="22432"/>
                </a:lnTo>
                <a:close/>
              </a:path>
              <a:path fill="lighten" w="21600" h="23832">
                <a:moveTo>
                  <a:pt x="0" y="238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432"/>
                </a:lnTo>
                <a:close/>
              </a:path>
              <a:path fill="darken" w="21600" h="23832">
                <a:moveTo>
                  <a:pt x="3794" y="11916"/>
                </a:moveTo>
                <a:lnTo>
                  <a:pt x="17806" y="4910"/>
                </a:lnTo>
                <a:lnTo>
                  <a:pt x="17806" y="18922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"/>
          <p:cNvGrpSpPr/>
          <p:nvPr/>
        </p:nvGrpSpPr>
        <p:grpSpPr>
          <a:xfrm>
            <a:off x="0" y="0"/>
            <a:ext cx="9144000" cy="404640"/>
            <a:chOff x="0" y="0"/>
            <a:chExt cx="9144000" cy="404640"/>
          </a:xfrm>
        </p:grpSpPr>
        <p:sp>
          <p:nvSpPr>
            <p:cNvPr id="377" name=""/>
            <p:cNvSpPr/>
            <p:nvPr/>
          </p:nvSpPr>
          <p:spPr>
            <a:xfrm>
              <a:off x="0" y="0"/>
              <a:ext cx="9144000" cy="37620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0" y="404640"/>
              <a:ext cx="9144000" cy="0"/>
            </a:xfrm>
            <a:prstGeom prst="line">
              <a:avLst/>
            </a:prstGeom>
            <a:ln w="7632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0" y="6453360"/>
            <a:ext cx="9144000" cy="404640"/>
            <a:chOff x="0" y="6453360"/>
            <a:chExt cx="9144000" cy="404640"/>
          </a:xfrm>
        </p:grpSpPr>
        <p:sp>
          <p:nvSpPr>
            <p:cNvPr id="380" name=""/>
            <p:cNvSpPr/>
            <p:nvPr/>
          </p:nvSpPr>
          <p:spPr>
            <a:xfrm>
              <a:off x="0" y="6481800"/>
              <a:ext cx="9144000" cy="37620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0" y="6453360"/>
              <a:ext cx="9144000" cy="0"/>
            </a:xfrm>
            <a:prstGeom prst="line">
              <a:avLst/>
            </a:prstGeom>
            <a:ln w="7632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3780000" y="476280"/>
            <a:ext cx="5364000" cy="357516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0" y="364500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24000" y="3716280"/>
            <a:ext cx="835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五月，洋槐开花了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7056360" y="4005360"/>
            <a:ext cx="2087640" cy="240336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3"/>
          <a:stretch/>
        </p:blipFill>
        <p:spPr>
          <a:xfrm>
            <a:off x="468360" y="5589720"/>
            <a:ext cx="43164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restart="whenNotActive" nodeType="interactiveSeq" fill="hold">
                <p:stCondLst>
                  <p:cond evt="onClick">
                    <p:tgtEl>
                      <p:spTgt spid="386"/>
                    </p:tgtEl>
                  </p:cond>
                </p:stCondLst>
                <p:childTnLst>
                  <p:par>
                    <p:cTn id="213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6" dur="283624" fill="hold"/>
                                        <p:tgtEl>
                                          <p:spTgt spid="3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544320" y="836640"/>
            <a:ext cx="164340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3300"/>
                </a:solidFill>
                <a:latin typeface="Arial"/>
                <a:ea typeface="楷体_GB2312"/>
              </a:rPr>
              <a:t> 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2"/>
          <a:stretch/>
        </p:blipFill>
        <p:spPr>
          <a:xfrm>
            <a:off x="179280" y="5805360"/>
            <a:ext cx="57636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restart="whenNotActive" nodeType="interactiveSeq" fill="hold">
                <p:stCondLst>
                  <p:cond evt="onClick">
                    <p:tgtEl>
                      <p:spTgt spid="389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389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2" dur="283624" fill="hold"/>
                                        <p:tgtEl>
                                          <p:spTgt spid="3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780000" y="476280"/>
            <a:ext cx="5364000" cy="35751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0" y="364500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0" y="0"/>
            <a:ext cx="9144000" cy="404640"/>
            <a:chOff x="0" y="0"/>
            <a:chExt cx="9144000" cy="404640"/>
          </a:xfrm>
        </p:grpSpPr>
        <p:sp>
          <p:nvSpPr>
            <p:cNvPr id="161" name=""/>
            <p:cNvSpPr/>
            <p:nvPr/>
          </p:nvSpPr>
          <p:spPr>
            <a:xfrm>
              <a:off x="0" y="0"/>
              <a:ext cx="9144000" cy="37620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0" y="404640"/>
              <a:ext cx="9144000" cy="0"/>
            </a:xfrm>
            <a:prstGeom prst="line">
              <a:avLst/>
            </a:prstGeom>
            <a:ln w="7632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0" y="6453360"/>
            <a:ext cx="9144000" cy="404640"/>
            <a:chOff x="0" y="6453360"/>
            <a:chExt cx="9144000" cy="404640"/>
          </a:xfrm>
        </p:grpSpPr>
        <p:sp>
          <p:nvSpPr>
            <p:cNvPr id="164" name=""/>
            <p:cNvSpPr/>
            <p:nvPr/>
          </p:nvSpPr>
          <p:spPr>
            <a:xfrm>
              <a:off x="0" y="6481800"/>
              <a:ext cx="9144000" cy="37620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6453360"/>
              <a:ext cx="9144000" cy="0"/>
            </a:xfrm>
            <a:prstGeom prst="line">
              <a:avLst/>
            </a:prstGeom>
            <a:ln w="7632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 txBox="1"/>
          <p:nvPr/>
        </p:nvSpPr>
        <p:spPr>
          <a:xfrm>
            <a:off x="611280" y="981000"/>
            <a:ext cx="4968720" cy="2374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66ff66"/>
                </a:solidFill>
                <a:latin typeface="华文新魏"/>
              </a:rPr>
              <a:t>字词句串烧会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66ff66"/>
              </a:solidFill>
              <a:latin typeface="华文新魏"/>
              <a:ea typeface="华文新魏"/>
            </a:endParaRPr>
          </a:p>
        </p:txBody>
      </p:sp>
      <p:sp>
        <p:nvSpPr>
          <p:cNvPr id="167" name=""/>
          <p:cNvSpPr/>
          <p:nvPr/>
        </p:nvSpPr>
        <p:spPr>
          <a:xfrm>
            <a:off x="324000" y="2852640"/>
            <a:ext cx="835488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宋体"/>
                <a:ea typeface="Times New Roman"/>
              </a:rPr>
              <a:t>2.</a:t>
            </a:r>
            <a:r>
              <a:rPr b="1" lang="zh-CN" sz="3500" spc="-1" strike="noStrike">
                <a:solidFill>
                  <a:srgbClr val="333399"/>
                </a:solidFill>
                <a:latin typeface="宋体"/>
                <a:ea typeface="Times New Roman"/>
              </a:rPr>
              <a:t>篮儿  小辫儿   风打的旋儿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4000" y="2349360"/>
            <a:ext cx="9144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挎   摆   顿   蒜   芝   炒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55640" y="2349360"/>
            <a:ext cx="792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ff0000"/>
                </a:solidFill>
                <a:latin typeface="Times New Roman"/>
              </a:rPr>
              <a:t>挎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08000" y="2349360"/>
            <a:ext cx="9367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ff0000"/>
                </a:solidFill>
                <a:latin typeface="Times New Roman"/>
              </a:rPr>
              <a:t>摆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60360" y="3933720"/>
            <a:ext cx="87836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中午，桌上就摆出了香喷喷的槐花饭，清香、醇香、浓香……这时候，连风打的旋儿都香气扑鼻，整个槐乡都浸在香海中了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0" y="0"/>
            <a:ext cx="9144000" cy="404640"/>
            <a:chOff x="0" y="0"/>
            <a:chExt cx="9144000" cy="404640"/>
          </a:xfrm>
        </p:grpSpPr>
        <p:sp>
          <p:nvSpPr>
            <p:cNvPr id="173" name=""/>
            <p:cNvSpPr/>
            <p:nvPr/>
          </p:nvSpPr>
          <p:spPr>
            <a:xfrm>
              <a:off x="0" y="0"/>
              <a:ext cx="9144000" cy="376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0" y="404640"/>
              <a:ext cx="9144000" cy="0"/>
            </a:xfrm>
            <a:prstGeom prst="line">
              <a:avLst/>
            </a:prstGeom>
            <a:ln w="7632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0" y="6453360"/>
            <a:ext cx="9144000" cy="404640"/>
            <a:chOff x="0" y="6453360"/>
            <a:chExt cx="9144000" cy="404640"/>
          </a:xfrm>
        </p:grpSpPr>
        <p:sp>
          <p:nvSpPr>
            <p:cNvPr id="176" name=""/>
            <p:cNvSpPr/>
            <p:nvPr/>
          </p:nvSpPr>
          <p:spPr>
            <a:xfrm>
              <a:off x="0" y="6481800"/>
              <a:ext cx="9144000" cy="376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0" y="6453360"/>
              <a:ext cx="9144000" cy="0"/>
            </a:xfrm>
            <a:prstGeom prst="line">
              <a:avLst/>
            </a:prstGeom>
            <a:ln w="7632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780000" y="476280"/>
            <a:ext cx="5364000" cy="35751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619280" y="1628640"/>
            <a:ext cx="1960560" cy="21607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8496360" y="5805360"/>
            <a:ext cx="647640" cy="6480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 txBox="1"/>
          <p:nvPr/>
        </p:nvSpPr>
        <p:spPr>
          <a:xfrm>
            <a:off x="395280" y="1052640"/>
            <a:ext cx="4390920" cy="2089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66ff66"/>
                </a:solidFill>
                <a:latin typeface="华文新魏"/>
              </a:rPr>
              <a:t>读书大比拼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66ff66"/>
              </a:solidFill>
              <a:latin typeface="华文新魏"/>
              <a:ea typeface="华文新魏"/>
            </a:endParaRPr>
          </a:p>
        </p:txBody>
      </p:sp>
      <p:sp>
        <p:nvSpPr>
          <p:cNvPr id="182" name=""/>
          <p:cNvSpPr/>
          <p:nvPr/>
        </p:nvSpPr>
        <p:spPr>
          <a:xfrm>
            <a:off x="611280" y="3935520"/>
            <a:ext cx="90010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比赛规则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正确、通顺地朗读课文，不添字不漏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注意句子中的停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9" dur="1623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0" y="0"/>
            <a:ext cx="9144000" cy="404640"/>
            <a:chOff x="0" y="0"/>
            <a:chExt cx="9144000" cy="404640"/>
          </a:xfrm>
        </p:grpSpPr>
        <p:sp>
          <p:nvSpPr>
            <p:cNvPr id="184" name=""/>
            <p:cNvSpPr/>
            <p:nvPr/>
          </p:nvSpPr>
          <p:spPr>
            <a:xfrm>
              <a:off x="0" y="0"/>
              <a:ext cx="9144000" cy="37620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0" y="404640"/>
              <a:ext cx="9144000" cy="0"/>
            </a:xfrm>
            <a:prstGeom prst="line">
              <a:avLst/>
            </a:prstGeom>
            <a:ln w="7632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0" y="6453360"/>
            <a:ext cx="9144000" cy="404640"/>
            <a:chOff x="0" y="6453360"/>
            <a:chExt cx="9144000" cy="404640"/>
          </a:xfrm>
        </p:grpSpPr>
        <p:sp>
          <p:nvSpPr>
            <p:cNvPr id="187" name=""/>
            <p:cNvSpPr/>
            <p:nvPr/>
          </p:nvSpPr>
          <p:spPr>
            <a:xfrm>
              <a:off x="0" y="6481800"/>
              <a:ext cx="9144000" cy="37620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0" y="6453360"/>
              <a:ext cx="9144000" cy="0"/>
            </a:xfrm>
            <a:prstGeom prst="line">
              <a:avLst/>
            </a:prstGeom>
            <a:ln w="7632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780000" y="476280"/>
            <a:ext cx="5364000" cy="35751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0" y="364500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24000" y="3141720"/>
            <a:ext cx="84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默读第一段，边读边感受槐乡给你留下了什么印象？也可以动笔将自己的感受用一个字或词写在句子的旁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68360" y="1555920"/>
            <a:ext cx="4895640" cy="1512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66ff66"/>
                </a:solidFill>
                <a:latin typeface="华文行楷"/>
              </a:rPr>
              <a:t>温馨提示：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66ff66"/>
              </a:soli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"/>
          <p:cNvGrpSpPr/>
          <p:nvPr/>
        </p:nvGrpSpPr>
        <p:grpSpPr>
          <a:xfrm>
            <a:off x="0" y="0"/>
            <a:ext cx="9144000" cy="404640"/>
            <a:chOff x="0" y="0"/>
            <a:chExt cx="9144000" cy="404640"/>
          </a:xfrm>
        </p:grpSpPr>
        <p:sp>
          <p:nvSpPr>
            <p:cNvPr id="194" name=""/>
            <p:cNvSpPr/>
            <p:nvPr/>
          </p:nvSpPr>
          <p:spPr>
            <a:xfrm>
              <a:off x="0" y="0"/>
              <a:ext cx="9144000" cy="37620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0" y="404640"/>
              <a:ext cx="9144000" cy="0"/>
            </a:xfrm>
            <a:prstGeom prst="line">
              <a:avLst/>
            </a:prstGeom>
            <a:ln w="7632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0" y="6453360"/>
            <a:ext cx="9144000" cy="404640"/>
            <a:chOff x="0" y="6453360"/>
            <a:chExt cx="9144000" cy="404640"/>
          </a:xfrm>
        </p:grpSpPr>
        <p:sp>
          <p:nvSpPr>
            <p:cNvPr id="197" name=""/>
            <p:cNvSpPr/>
            <p:nvPr/>
          </p:nvSpPr>
          <p:spPr>
            <a:xfrm>
              <a:off x="0" y="6481800"/>
              <a:ext cx="9144000" cy="37620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0" y="6453360"/>
              <a:ext cx="9144000" cy="0"/>
            </a:xfrm>
            <a:prstGeom prst="line">
              <a:avLst/>
            </a:prstGeom>
            <a:ln w="7632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324000" y="620640"/>
            <a:ext cx="86040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五月，洋槐开花了。槐乡的山山洼洼，坡坡岗岗，似瑞雪初降，一片白茫茫。有的槐花抱在一起，远看像玉雕的圆球；有的槐花一条一条地挂满枝头，近看如维吾尔族姑娘披散在肩头上的小辫儿。“嗡嗡嗡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.....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蜜蜂飞来了，采走了香的粉，酿出了甜的蜜。“啪啪啪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.....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孩子们跑来了，篮儿挎走白生生的槐花，心里装着喜盈盈的满足。中午，桌上就摆出了香喷喷的槐花饭，清香、醇香、浓香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....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时候，连风打的旋儿都香气扑鼻，整个槐乡都浸在香海中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>
            <a:hlinkClick r:id="rId1" action="ppaction://hlinksldjump"/>
          </p:cNvPr>
          <p:cNvSpPr/>
          <p:nvPr/>
        </p:nvSpPr>
        <p:spPr>
          <a:xfrm>
            <a:off x="1547640" y="602136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>
            <a:hlinkClick r:id="rId2" action="ppaction://hlinksldjump"/>
          </p:cNvPr>
          <p:cNvSpPr/>
          <p:nvPr/>
        </p:nvSpPr>
        <p:spPr>
          <a:xfrm>
            <a:off x="468360" y="602136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68360" y="602136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>
            <a:hlinkClick r:id="rId3" action="ppaction://hlinksldjump"/>
          </p:cNvPr>
          <p:cNvSpPr/>
          <p:nvPr/>
        </p:nvSpPr>
        <p:spPr>
          <a:xfrm>
            <a:off x="971640" y="602136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71640" y="6021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540720" y="1413000"/>
            <a:ext cx="10432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4000" y="620640"/>
            <a:ext cx="105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6021360"/>
            <a:ext cx="4683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0" y="0"/>
            <a:ext cx="9144000" cy="404640"/>
            <a:chOff x="0" y="0"/>
            <a:chExt cx="9144000" cy="404640"/>
          </a:xfrm>
        </p:grpSpPr>
        <p:sp>
          <p:nvSpPr>
            <p:cNvPr id="209" name=""/>
            <p:cNvSpPr/>
            <p:nvPr/>
          </p:nvSpPr>
          <p:spPr>
            <a:xfrm>
              <a:off x="0" y="0"/>
              <a:ext cx="9144000" cy="37620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0" y="404640"/>
              <a:ext cx="9144000" cy="0"/>
            </a:xfrm>
            <a:prstGeom prst="line">
              <a:avLst/>
            </a:prstGeom>
            <a:ln w="7632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0" y="6453360"/>
            <a:ext cx="9144000" cy="404640"/>
            <a:chOff x="0" y="6453360"/>
            <a:chExt cx="9144000" cy="404640"/>
          </a:xfrm>
        </p:grpSpPr>
        <p:sp>
          <p:nvSpPr>
            <p:cNvPr id="212" name=""/>
            <p:cNvSpPr/>
            <p:nvPr/>
          </p:nvSpPr>
          <p:spPr>
            <a:xfrm>
              <a:off x="0" y="6481800"/>
              <a:ext cx="9144000" cy="37620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0" y="6453360"/>
              <a:ext cx="9144000" cy="0"/>
            </a:xfrm>
            <a:prstGeom prst="line">
              <a:avLst/>
            </a:prstGeom>
            <a:ln w="7632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780000" y="476280"/>
            <a:ext cx="5364000" cy="35751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0" y="364500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4000" y="2997360"/>
            <a:ext cx="8424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79280" y="1916280"/>
            <a:ext cx="7488360" cy="29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槐乡的山山洼洼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坡坡岗岗，似瑞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初降，一片白茫茫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9972720" y="476280"/>
            <a:ext cx="225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468520" y="1774800"/>
            <a:ext cx="410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山山洼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79280" y="2854440"/>
            <a:ext cx="374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坡坡岗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995640" y="3903840"/>
            <a:ext cx="31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白茫茫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122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132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5T01:40:29Z</dcterms:created>
  <dc:creator>未知用户</dc:creator>
  <dc:description/>
  <dc:language>en-US</dc:language>
  <cp:lastModifiedBy>微软用户</cp:lastModifiedBy>
  <dcterms:modified xsi:type="dcterms:W3CDTF">2013-06-04T08:36:31Z</dcterms:modified>
  <cp:revision>43</cp:revision>
  <dc:subject/>
  <dc:title>幻灯片 1</dc:title>
</cp:coreProperties>
</file>