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8A5-1AD1-432E-9C62-779B587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4CC-7D17-4116-B37D-92C576C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5B8-BA64-46DE-B650-21C986D3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B8E-7139-4599-B494-E96CCB71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2E4-997E-46EA-BF48-90002E5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2321-5CC4-4668-BEBD-53D1946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0E5-DD6C-4B51-9161-E043666C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6A0C-A274-4B65-A4D4-F41EB37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3BEA-13DD-47B8-9FAF-59722D3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A830-D073-4E48-8AE1-DEEA986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35ED-2874-4F93-9BE8-4BF8C01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87A-ED97-4A97-B6E5-960BFCD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415F-2358-4660-85A4-7C1EF40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6BF-15EC-4D01-A427-5E97553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EB77-2091-4A91-B468-B0E93CE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F25A-B446-4C3B-AAE9-32EF3270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CAE-AE2C-467B-8712-F29833A3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59A-0147-44BF-9E46-60D14A8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91C-373E-493C-B76B-5DAAADF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E03-CE94-4A9B-A619-9FC6E6AF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FEA-0365-48D1-8AB5-2D328CD0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1CD-3C38-47F7-8515-6EA94939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3DE-CADE-4823-886A-ED038D4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E45-4911-462D-B63C-02A6340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EFF-0771-43DE-9303-B1D1C76CB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4101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0BB0-74E0-4F3B-8729-D801966E53C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051" descr="C:\Documents and Settings\xlrong\My Documents\My Pictures\d-05.jpg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053" descr="C:\Documents and Settings\xlrong\My Documents\My Pictures\img33.jpg"/>
          <p:cNvPicPr/>
          <p:nvPr/>
        </p:nvPicPr>
        <p:blipFill>
          <a:blip r:embed="rId2"/>
          <a:stretch/>
        </p:blipFill>
        <p:spPr>
          <a:xfrm>
            <a:off x="-685800" y="6248520"/>
            <a:ext cx="10210680" cy="8380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049"/>
          <p:cNvSpPr/>
          <p:nvPr/>
        </p:nvSpPr>
        <p:spPr>
          <a:xfrm>
            <a:off x="1219320" y="1219320"/>
            <a:ext cx="670536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浣溪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蕲水清泉寺，寺临兰溪，溪水西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  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下兰芽短浸溪，松间沙路净无泥，萧萧暮雨子规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道人生无再少？门前流水尚能西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休将白发唱黄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073"/>
          <p:cNvSpPr/>
          <p:nvPr/>
        </p:nvSpPr>
        <p:spPr>
          <a:xfrm>
            <a:off x="1219320" y="1219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上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左大括号 3074"/>
          <p:cNvSpPr/>
          <p:nvPr/>
        </p:nvSpPr>
        <p:spPr>
          <a:xfrm>
            <a:off x="2971800" y="38088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3075"/>
          <p:cNvSpPr/>
          <p:nvPr/>
        </p:nvSpPr>
        <p:spPr>
          <a:xfrm>
            <a:off x="21337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写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3076"/>
          <p:cNvSpPr/>
          <p:nvPr/>
        </p:nvSpPr>
        <p:spPr>
          <a:xfrm>
            <a:off x="3429000" y="4572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兰芽浸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3077"/>
          <p:cNvSpPr/>
          <p:nvPr/>
        </p:nvSpPr>
        <p:spPr>
          <a:xfrm>
            <a:off x="5181480" y="457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路静无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3078"/>
          <p:cNvSpPr/>
          <p:nvPr/>
        </p:nvSpPr>
        <p:spPr>
          <a:xfrm>
            <a:off x="3505320" y="16002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暮雨萧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3079"/>
          <p:cNvSpPr/>
          <p:nvPr/>
        </p:nvSpPr>
        <p:spPr>
          <a:xfrm>
            <a:off x="5257800" y="1600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子规轻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3081"/>
          <p:cNvSpPr/>
          <p:nvPr/>
        </p:nvSpPr>
        <p:spPr>
          <a:xfrm>
            <a:off x="1219320" y="4038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3082"/>
          <p:cNvSpPr/>
          <p:nvPr/>
        </p:nvSpPr>
        <p:spPr>
          <a:xfrm>
            <a:off x="213372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抒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左大括号 3083"/>
          <p:cNvSpPr/>
          <p:nvPr/>
        </p:nvSpPr>
        <p:spPr>
          <a:xfrm>
            <a:off x="2971800" y="320040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3084"/>
          <p:cNvSpPr/>
          <p:nvPr/>
        </p:nvSpPr>
        <p:spPr>
          <a:xfrm>
            <a:off x="3657600" y="335268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门前流水尚能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3085"/>
          <p:cNvSpPr/>
          <p:nvPr/>
        </p:nvSpPr>
        <p:spPr>
          <a:xfrm>
            <a:off x="3581280" y="426708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休将白发唱黄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右大括号 3086"/>
          <p:cNvSpPr/>
          <p:nvPr/>
        </p:nvSpPr>
        <p:spPr>
          <a:xfrm>
            <a:off x="6705720" y="457200"/>
            <a:ext cx="380880" cy="1905120"/>
          </a:xfrm>
          <a:custGeom>
            <a:avLst/>
            <a:gdLst>
              <a:gd name="textAreaLeft" fmla="*/ 0 w 380880"/>
              <a:gd name="textAreaRight" fmla="*/ 137520 w 3808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3088"/>
          <p:cNvSpPr/>
          <p:nvPr/>
        </p:nvSpPr>
        <p:spPr>
          <a:xfrm>
            <a:off x="7086600" y="457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自然的美景和生机令人心旷神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右大括号 3089"/>
          <p:cNvSpPr/>
          <p:nvPr/>
        </p:nvSpPr>
        <p:spPr>
          <a:xfrm>
            <a:off x="6324480" y="32004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3090"/>
          <p:cNvSpPr/>
          <p:nvPr/>
        </p:nvSpPr>
        <p:spPr>
          <a:xfrm>
            <a:off x="6934320" y="3886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要徒发衰老之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3092"/>
          <p:cNvSpPr txBox="1"/>
          <p:nvPr/>
        </p:nvSpPr>
        <p:spPr>
          <a:xfrm>
            <a:off x="2286000" y="586728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热爱生活、旷达乐观的性格。</a:t>
            </a:r>
            <a:endParaRPr b="0" lang="en-US" sz="2400" spc="1" strike="noStrike">
              <a:ln cap="sq"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26" descr="C:\Documents and Settings\xlrong\My Documents\My Pictures\xin_a610d419b1c1414183cb418fe67baff0_NewsMedia_849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025"/>
          <p:cNvSpPr/>
          <p:nvPr/>
        </p:nvSpPr>
        <p:spPr>
          <a:xfrm>
            <a:off x="5105520" y="533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唐代诗人白居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醉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有“听唱黄鸡与白日”句，意思是说，黄鸡催晓，白日西落，时光流逝，人生易老。苏轼在这里却说“休将白发唱黄鸡”，反用其意，劝阻人们不要徒发自伤衰老之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燕尾形 1027"/>
          <p:cNvSpPr/>
          <p:nvPr/>
        </p:nvSpPr>
        <p:spPr>
          <a:xfrm>
            <a:off x="0" y="6400800"/>
            <a:ext cx="762120" cy="457200"/>
          </a:xfrm>
          <a:custGeom>
            <a:avLst/>
            <a:gdLst>
              <a:gd name="textAreaLeft" fmla="*/ 0 w 762120"/>
              <a:gd name="textAreaRight" fmla="*/ 762480 w 762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78695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09:00Z</dcterms:created>
  <dc:creator>xlrong</dc:creator>
  <dc:description/>
  <dc:language>en-US</dc:language>
  <cp:lastModifiedBy>admin</cp:lastModifiedBy>
  <dcterms:modified xsi:type="dcterms:W3CDTF">2019-06-03T04:24:39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