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BED-22E9-487B-84CA-29C219C2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664-78CA-4293-9912-F76AACBC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E05-77F7-47B7-992E-18B0EF40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246-EB9D-4C79-8496-0FBA8466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04F-973E-4AEC-8C66-B9ABD6E0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599-7E2F-48C9-A68E-53BFEFF1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E72-E0BB-4B0D-BF62-66756C3B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CFA-617D-41BE-8A59-FCB32047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EA1-40AF-4E61-9C6E-E1D7D52D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889-BA0E-4B27-8C6C-8CF0EF5D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3CB-D25B-4C2B-8F13-1B388F5F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DBA-1F06-46EA-B3EA-5FA57237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F2FF-3217-4ABB-A987-E65FE1595D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662080" y="620640"/>
            <a:ext cx="26182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浣溪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89400" y="2852640"/>
            <a:ext cx="729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Arial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780000" y="2133720"/>
            <a:ext cx="50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8a200"/>
                </a:solidFill>
                <a:latin typeface="楷体_GB2312"/>
                <a:ea typeface="楷体_GB2312"/>
              </a:rPr>
              <a:t>这首词，上片以淡疏的笔墨写景，景色自然明丽，雅淡凄美；下片既以形象的语言抒情，又在抒情中融入哲理，启人心智，令人振奋。词人在政治上失意后依然积极、乐观的人生态度，催人奋进，激动人心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5076720" y="620640"/>
            <a:ext cx="1828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畅谈收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plus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692000" y="90792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这首诗是不服老的宣言，是对青春活力的召唤，对美好未来的向往。它指引</a:t>
            </a:r>
            <a:r>
              <a:rPr b="0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 </a:t>
            </a:r>
            <a:r>
              <a:rPr b="0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我们积极乐观，奋发向上，对人生充满信心。尤其当我们遇到困难的时候，应该保持一个平和的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态，勇往直前，抓紧时间努力       学习。</a:t>
            </a:r>
            <a:r>
              <a:rPr b="0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1042920" y="549360"/>
            <a:ext cx="1079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赠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言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971640" y="1197000"/>
            <a:ext cx="5113080" cy="25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"/>
              </a:rPr>
              <a:t>谢谢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"/>
              <a:ea typeface="楷体"/>
            </a:endParaRPr>
          </a:p>
        </p:txBody>
      </p:sp>
    </p:spTree>
  </p:cSld>
  <p:transition>
    <p:wheel spokes="2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95640" y="1125360"/>
            <a:ext cx="4897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苏轼，字子瞻，号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东坡居士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，世人称其为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苏东坡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。北宋杰出的文学家、书画家，唐宋八大家之一，豪放派词人代表。其诗，词，赋，散文，均成就极高，且善书法和绘画，是中国文学艺术史上罕见的全才。他与父亲苏洵、弟弟苏辙合称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苏</a:t>
            </a:r>
            <a:r>
              <a:rPr b="1" lang="zh-CN" sz="32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245e8bca2de90fa8c91768f5"/>
          <p:cNvPicPr/>
          <p:nvPr/>
        </p:nvPicPr>
        <p:blipFill>
          <a:blip r:embed="rId1"/>
          <a:stretch/>
        </p:blipFill>
        <p:spPr>
          <a:xfrm>
            <a:off x="0" y="-27000"/>
            <a:ext cx="43718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5003640" y="260280"/>
            <a:ext cx="33847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者简介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843280" y="1197000"/>
            <a:ext cx="61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这首词写于元丰五年（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1082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）春，当时苏轼因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乌台诗案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，被贬任黄州（今湖北黄冈）团练副使。这在苏轼的政治生涯中，是一个重大的打击，然而这首词却在逆境中表现出一种乐观向上的精神。</a:t>
            </a: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1763640" y="765000"/>
            <a:ext cx="100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背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景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0007331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24000" y="333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1341360"/>
            <a:ext cx="421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理解这首词的意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体会词人要表现的情怀，激发对现在时光的珍惜并为之努力奋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背诵这首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2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xin_a610d419b1c1414183cb418fe67baff0_NewsMedia_849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5364000" y="549360"/>
            <a:ext cx="378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浣溪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游蕲水清泉寺，寺临兰溪，溪水西流。</a:t>
            </a:r>
            <a:r>
              <a:rPr b="0" lang="zh-CN" sz="28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山下兰芽短浸溪，松间沙路净无泥。潇潇暮雨子规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　　谁道人生无再少？门前流水尚能西！休将白发唱黄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050920" y="765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楷体_GB2312"/>
              </a:rPr>
              <a:t>请同学们根据课下注释翻译本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752000" y="16430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序：游历蕲水清泉寺，寺临近兰溪，溪水向西流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0" y="25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片：山下小溪潺潺，岸边的兰草刚刚萌生娇嫩的幼苗，松林间的沙路，仿佛经过清泉冲刷，一尘不染。傍晚细雨潇潇，寺外传来布谷鸟的啼叫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920040" y="4214880"/>
            <a:ext cx="423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片：谁说人生不能回到少年时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看门前的流水不是也能向西奔流吗？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再发出老年时光流逝这样的感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276720" y="620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快乐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68360" y="2276640"/>
            <a:ext cx="81360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浣溪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阕写景，描绘了哪三幅画面？画面有何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下阕转入抒怀，抒发了怎样的情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403280" y="188640"/>
            <a:ext cx="7058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成果展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916360" y="1268280"/>
            <a:ext cx="56880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下小溪边，生长着矮小娇嫩的兰草。山上松间沙路洁净无尘。黄昏时潇潇细雨中布谷鸟在啼叫。画面清新优美，淡雅宁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联想到人生可以再少，青春可以永驻，大可不必为日月变迁，人生衰老而叹息。表现出词人热爱生活、积极进取的人生态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Arial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这首词的思想内容及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诵这首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6d9c8a3d74ff0412baa167f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187280" y="18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8a200"/>
                </a:solidFill>
                <a:latin typeface="Arial"/>
              </a:rPr>
              <a:t>快乐检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95280" y="1341360"/>
            <a:ext cx="4897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说说这首词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背诵这首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你的启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8:07:10Z</dcterms:created>
  <dc:creator>yuanyuan</dc:creator>
  <dc:description/>
  <cp:keywords/>
  <dc:language>en-US</dc:language>
  <cp:lastModifiedBy>admin</cp:lastModifiedBy>
  <cp:lastPrinted>1899-12-30T00:00:00Z</cp:lastPrinted>
  <dcterms:modified xsi:type="dcterms:W3CDTF">2014-06-05T01:15:05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