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3.png" ContentType="image/png"/>
  <Override PartName="/ppt/media/image17.jpeg" ContentType="image/jpeg"/>
  <Override PartName="/ppt/media/image27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30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9.jpeg" ContentType="image/jpe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22.png" ContentType="image/png"/>
  <Override PartName="/ppt/media/image29.png" ContentType="image/png"/>
  <Override PartName="/ppt/media/image21.jpeg" ContentType="image/jpeg"/>
  <Override PartName="/ppt/media/image23.png" ContentType="image/png"/>
  <Override PartName="/ppt/media/image11.jpeg" ContentType="image/jpeg"/>
  <Override PartName="/ppt/media/image24.png" ContentType="image/png"/>
  <Override PartName="/ppt/media/image19.jpeg" ContentType="image/jpeg"/>
  <Override PartName="/ppt/media/image2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FB29-DAD2-46D1-AD3C-7CF43D28EE4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A584-52C4-4CBE-9BDA-FABF3D205EF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2DE0-20B0-46BE-B352-9E66D7AD1E6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209B-0A82-47CB-91AF-A3FF8751706A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44E-6577-4287-80B2-1AEF88FC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DB4A-C4DF-4397-945D-453A7D6A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90529-86BE-4816-9A64-49F251CC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F9E03-506E-4BB3-8ECE-8331F1F2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184400" y="1412640"/>
            <a:ext cx="709272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C73FA-8C26-4C53-967C-5807017B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27F15-B933-4324-8CB5-A4020C24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8B77D-27BC-47B8-AFFE-E12CCCEE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76494-BFC0-4052-9B8C-69676A6D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2B4B7-B62F-48FE-B23A-7A9230FF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9B13E-2467-40D6-AB1C-B3C57BF4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58236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8032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118440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58236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8032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414B8-BA12-4A54-8A30-F0C5F1B2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25494-4BCA-45F1-AC59-AF5C0E0B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AF8-5C4F-4867-AF6F-95CAFF0B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51AED-D12A-4CFD-8325-F6646BD7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11A52-196A-44D7-921C-16E27E23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F394C-683C-413D-9E0A-C6FEFB8E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CBF47-4DB1-4DBE-8BBA-B6AA56F7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184400" y="1412640"/>
            <a:ext cx="709272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12FB7-30E4-40AD-A89B-3A20C72C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EFB91-CDC3-4EF9-BFBA-ACB94D71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B7031-FD3F-428E-90AD-C6DF07B3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5F8B8-2CCB-453E-96ED-A474B9DD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BE6EB-9325-440C-8505-322365EC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23614-94B3-4447-A9A7-BCB67CA5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236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032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440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236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032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D0B-CD5B-442B-8646-CE283AB9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58236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98032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18440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58236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98032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22892-E72D-4E45-8B42-937D06AB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517AF-D1F3-483D-AFE4-2E8C1984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20A84-EBDA-44D1-A012-90E7B464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EAF5D-5043-4533-8BF8-B0D065F3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FD3FB-4CFD-42C7-94FC-0F4572F4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AD35B-F412-4689-8A61-F371E14A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84400" y="1412640"/>
            <a:ext cx="709272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0AEBB-2CD8-4F42-9653-E05D2E6B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5483C-5C32-4EDF-B24C-D71C3F25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901B7-EDC4-4F47-9434-56D0E2C0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88C4C-97CC-4315-B4F1-6E7D76D2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24AE-BA0A-4F81-AC9F-FBF75FC5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FCB71-3388-435F-ACA0-803753F2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FFEAB-976D-4E61-9613-AEF76605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8236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8032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440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8236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8032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07CDB-A449-4F0A-8AF1-E2A102ED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D4DA4-9539-47DD-99EB-C2CD8E63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23ABD-3FA1-423C-91A2-CA439245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324CB-9102-4AE1-BA6E-C5FF55FE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E2A6E-E7BE-4FFE-8C54-E2C566DA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DD2B4-D4B2-4747-B4C4-4ED8A401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184400" y="1412640"/>
            <a:ext cx="709272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86BD3-A512-4B48-9084-A0C91B61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11CCE-726B-40E7-A710-4353424A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3261-CCEA-4EE4-BE24-B1F4239C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41EB0-C8AB-4BD9-B318-2D9D4273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93788-E458-4496-AC0A-BDF2870B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29FD5-3600-4E25-98FB-83B31189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6F1A5-8E34-49CA-9ED2-4AFD697C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8236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8032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18440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8236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8032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B597B-4E89-48FB-98BF-4154DBE2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B2F4-8E1B-470C-8C2E-C53497E6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E2C6-B023-425E-B531-CE8247E8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00AC-6D5C-4D84-9DE2-6A3CF945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4400" y="1412640"/>
            <a:ext cx="709272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6714-92F2-4FF8-9C27-ED4EFA8E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5A99-C2DA-4724-9CAE-EC22D832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F6A4-613F-4D82-8B10-3E1C0564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384F-A503-4920-885E-7856169B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1CF4-101E-4CD9-89D9-2EF94B86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9531-67C8-4BD6-AFDE-E9CEB442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C6C8-C19F-4E22-B515-9DCAC0FF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236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032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440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236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032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326D-95B3-40C0-9DC9-6E335E69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B1F7D-CAF9-4434-B9E9-E9F5F237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DC7E-4CCE-4F5B-9686-43AD087F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03D11-F6B7-48BB-9F78-EB1A40C4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90B0E-7A1D-4BA6-B64A-A558BD83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4C910-5BDB-4152-A2CE-FB4E6207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161-0989-4F42-9F4A-565F6579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4400" y="1412640"/>
            <a:ext cx="709272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375BF-3324-4127-8BCD-EF105CAD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717B2-A43E-40BC-AB0C-7DA73E13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BF534-1AE0-410B-B1C0-CA53E46E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ECBB2-FCCF-4B6E-B0CB-7E3611C5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D9E26-CEB5-421E-83C2-3A1349E0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39B90-B3D3-42C4-90B5-4B26F238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236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8032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8440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236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8032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5268F-3C6A-4DEB-B2C5-DB4F236F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068B0-9BB9-4DAA-BB3F-67C0589E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72A97-9B83-4A19-A9C3-FB520D31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B0479-FF70-4ED8-B7E1-6BA7F476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AD4-84D6-49CA-982E-7E92740F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CF96E-40B1-48BE-B098-6BF318B9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9BA51-EA07-405F-BCD5-77454AF6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184400" y="1412640"/>
            <a:ext cx="709272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BDAF3-3E47-41C2-8C38-81A94A2C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1CA48-4806-4015-AFFD-2FE5E6FB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57306-31BE-4D78-9413-CBA58827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5C9F6-7AE3-43D8-B9AB-911C677C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8879F-17E2-4ECE-928D-36DA0A75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8A8F2-747C-4D40-AD31-D84993CF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8236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8032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18440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8236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8032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BAEFC-7158-4522-9943-772A7D11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5F1D5-D5CC-429E-BA6B-1FF6C4B3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798-E550-44F8-A4C6-EA48E453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62672-FA94-481F-BA73-EE0B5EDA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7A892-1075-4600-B973-58739EDE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DE087-B8E5-47D2-BE0B-B10D5664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2F0FE-B9B6-4603-A52A-EF76B138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184400" y="1412640"/>
            <a:ext cx="709272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C6B01-39E0-4D7A-A17C-58D1A534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A4608-04A9-4DE6-B099-DBD878C5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D7F65-81BF-4A35-B9DE-F6004098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06377-5141-445E-9634-456E08EF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D9E88-B7E8-4EB9-9C3A-4F818C38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78D26-1D31-4C56-892E-D7465D62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84400" y="1412640"/>
            <a:ext cx="709272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A90-00D9-40DD-9AC0-DB4BB04D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8236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8032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18440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8236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8032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D5E5A-6D41-4128-9373-F70E36BC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5592D-5B6D-40D5-9C2C-CB8A73A8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43439-AE06-4CC1-80D6-72C9A895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61097-B651-4AAF-91DD-3BF73809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1BDFA-77CB-464B-B3C4-5E2A835B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4CB15-B2B5-4137-881A-9AADA80A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184400" y="1412640"/>
            <a:ext cx="709272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CD4D2-E4C2-4C5D-9F5D-61AB0711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4AD8D-1911-4D8A-9C96-7FB57352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D9E45-555F-46C8-ADE3-42C971F4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799C0-5DEF-4B38-B0D8-0B9536FD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D649-A643-42F5-A690-CE60A77E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52682-54D9-4946-94CA-B7E497A0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95A1B-0FCC-49E9-992F-AF97B131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8236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8032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18440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58236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8032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78931-621E-4176-9EB6-CC2B9B87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238F6-1DAF-47B9-903D-BAB92385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5581F-A437-43F3-9499-5DDA2F09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D8C85-F930-41F6-8444-09B39606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28039-CA1C-4250-9C66-3F8701C8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F9990-177D-4DBA-AE53-54BEE3E9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184400" y="1412640"/>
            <a:ext cx="709272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266EA-6C3E-4FD5-A3CC-D5DB42BA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CF864-EB6E-46E6-B868-AA56DDF7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E86-8117-4225-AD55-87EFC05F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802DF-CF64-46DC-88FA-2362B63D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2CD39-A76D-4CAF-8782-023BEEEA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C792F-5343-4DC0-BD70-7F30FA6D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2395D-00CC-42B9-BD05-A807B59E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58236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8032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18440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58236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8032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0C2C0-EA94-4CC8-A643-332D9BEB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AE87A-8317-428A-9790-A887D23F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F5943-B583-41B1-958D-13737610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38305-9F7C-44AD-B2A0-D7686624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2232C-002B-43AC-8A43-A9024BC0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13CE3-7A6C-4708-A9C8-36970B1E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0346-349D-4880-AE07-63912E47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184400" y="1412640"/>
            <a:ext cx="709272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E8D8A-F0E1-4DC6-B232-7539F0C0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EAFD3-7096-42C6-AA99-55960705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0C3C4-A1A3-42F1-A08B-ED86658E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A5887-110B-419D-9B3D-80B16743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184400" y="4519800"/>
            <a:ext cx="709272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A1A1B-8F7D-4236-B341-99007FCA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8960" y="251892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440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818960" y="4519800"/>
            <a:ext cx="34610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8F1E6-BC49-48BF-89B3-2C61BA54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8236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80320" y="251892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18440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8236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80320" y="4519800"/>
            <a:ext cx="2283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92BB9-59B8-4B78-9393-5E2C65B6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71EB0-2931-4524-8184-B2950E9A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D765D-34C9-45AB-BD60-94A15608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E91DD-0E00-4379-A41A-B9A4BEDA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282D-18E0-44E4-B51E-0908C11728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8" descr="1"/>
          <p:cNvPicPr/>
          <p:nvPr/>
        </p:nvPicPr>
        <p:blipFill>
          <a:blip r:embed="rId3"/>
          <a:stretch/>
        </p:blipFill>
        <p:spPr>
          <a:xfrm>
            <a:off x="816120" y="1193760"/>
            <a:ext cx="7780320" cy="53341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0-0"/>
          <p:cNvPicPr/>
          <p:nvPr/>
        </p:nvPicPr>
        <p:blipFill>
          <a:blip r:embed="rId4"/>
          <a:stretch/>
        </p:blipFill>
        <p:spPr>
          <a:xfrm>
            <a:off x="1440" y="285840"/>
            <a:ext cx="9144000" cy="112716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B35C-F824-458C-92F5-629A11DC832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D7FF-9DC2-41FB-80FB-775A94386CD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8" descr="1"/>
          <p:cNvPicPr/>
          <p:nvPr/>
        </p:nvPicPr>
        <p:blipFill>
          <a:blip r:embed="rId3"/>
          <a:stretch/>
        </p:blipFill>
        <p:spPr>
          <a:xfrm>
            <a:off x="816120" y="1193760"/>
            <a:ext cx="7780320" cy="53341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0-0"/>
          <p:cNvPicPr/>
          <p:nvPr/>
        </p:nvPicPr>
        <p:blipFill>
          <a:blip r:embed="rId4"/>
          <a:stretch/>
        </p:blipFill>
        <p:spPr>
          <a:xfrm>
            <a:off x="1440" y="285840"/>
            <a:ext cx="9144000" cy="112716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6255-21EE-46C4-9E9E-DAA92166764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03C4-58B7-41D3-9857-48426D824A7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8" descr="1"/>
          <p:cNvPicPr/>
          <p:nvPr/>
        </p:nvPicPr>
        <p:blipFill>
          <a:blip r:embed="rId3"/>
          <a:stretch/>
        </p:blipFill>
        <p:spPr>
          <a:xfrm>
            <a:off x="816120" y="1193760"/>
            <a:ext cx="7780320" cy="53341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9" descr="0-0"/>
          <p:cNvPicPr/>
          <p:nvPr/>
        </p:nvPicPr>
        <p:blipFill>
          <a:blip r:embed="rId4"/>
          <a:stretch/>
        </p:blipFill>
        <p:spPr>
          <a:xfrm>
            <a:off x="1440" y="285840"/>
            <a:ext cx="9144000" cy="112716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10F0-8291-4A4F-8BD4-A2D276DD7A2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0B35-A5BC-42BC-AD54-E33EF1A1D12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84D7-AFF9-4E87-AC4B-D120A26D1CD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B50B-C7BA-4236-BCC6-074AFB47A10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麻辣老师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心教学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B7CE-C954-4D66-9DB2-303E6FC1E4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1"/>
          <p:cNvPicPr/>
          <p:nvPr/>
        </p:nvPicPr>
        <p:blipFill>
          <a:blip r:embed="rId3"/>
          <a:stretch/>
        </p:blipFill>
        <p:spPr>
          <a:xfrm>
            <a:off x="816120" y="1193760"/>
            <a:ext cx="7780320" cy="5334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0-0"/>
          <p:cNvPicPr/>
          <p:nvPr/>
        </p:nvPicPr>
        <p:blipFill>
          <a:blip r:embed="rId4"/>
          <a:stretch/>
        </p:blipFill>
        <p:spPr>
          <a:xfrm>
            <a:off x="1440" y="285840"/>
            <a:ext cx="9144000" cy="1127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5"/>
          <a:stretch/>
        </p:blipFill>
        <p:spPr>
          <a:xfrm>
            <a:off x="1135080" y="1390680"/>
            <a:ext cx="7169040" cy="4780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8A10-6DE6-4575-BA7E-08BE8F2CF37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C292-BC89-486E-A922-8030096DFB6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8" descr="1"/>
          <p:cNvPicPr/>
          <p:nvPr/>
        </p:nvPicPr>
        <p:blipFill>
          <a:blip r:embed="rId3"/>
          <a:stretch/>
        </p:blipFill>
        <p:spPr>
          <a:xfrm>
            <a:off x="816120" y="1193760"/>
            <a:ext cx="7780320" cy="5334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0-0"/>
          <p:cNvPicPr/>
          <p:nvPr/>
        </p:nvPicPr>
        <p:blipFill>
          <a:blip r:embed="rId4"/>
          <a:stretch/>
        </p:blipFill>
        <p:spPr>
          <a:xfrm>
            <a:off x="1440" y="285840"/>
            <a:ext cx="9144000" cy="11271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54D7-22EE-4A20-9A37-74251C10FC4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885C-8345-4865-9A32-DAA407C8794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1"/>
          <p:cNvPicPr/>
          <p:nvPr/>
        </p:nvPicPr>
        <p:blipFill>
          <a:blip r:embed="rId3"/>
          <a:stretch/>
        </p:blipFill>
        <p:spPr>
          <a:xfrm>
            <a:off x="816120" y="1193760"/>
            <a:ext cx="7780320" cy="5334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0-0"/>
          <p:cNvPicPr/>
          <p:nvPr/>
        </p:nvPicPr>
        <p:blipFill>
          <a:blip r:embed="rId4"/>
          <a:stretch/>
        </p:blipFill>
        <p:spPr>
          <a:xfrm>
            <a:off x="1440" y="285840"/>
            <a:ext cx="9144000" cy="11271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A517-EBBA-4BDF-9176-F27D706A775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C84C-0413-4006-A5F8-FE1312317D8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1"/>
          <p:cNvPicPr/>
          <p:nvPr/>
        </p:nvPicPr>
        <p:blipFill>
          <a:blip r:embed="rId3"/>
          <a:stretch/>
        </p:blipFill>
        <p:spPr>
          <a:xfrm>
            <a:off x="816120" y="1193760"/>
            <a:ext cx="7780320" cy="5334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0-0"/>
          <p:cNvPicPr/>
          <p:nvPr/>
        </p:nvPicPr>
        <p:blipFill>
          <a:blip r:embed="rId4"/>
          <a:stretch/>
        </p:blipFill>
        <p:spPr>
          <a:xfrm>
            <a:off x="1440" y="285840"/>
            <a:ext cx="9144000" cy="11271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B3A0-7C8A-43DE-B2FE-304753202E0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7529-A78F-472E-9B1F-4C10ECE78C9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8" descr="1"/>
          <p:cNvPicPr/>
          <p:nvPr/>
        </p:nvPicPr>
        <p:blipFill>
          <a:blip r:embed="rId3"/>
          <a:stretch/>
        </p:blipFill>
        <p:spPr>
          <a:xfrm>
            <a:off x="816120" y="1193760"/>
            <a:ext cx="7780320" cy="5334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9" descr="0-0"/>
          <p:cNvPicPr/>
          <p:nvPr/>
        </p:nvPicPr>
        <p:blipFill>
          <a:blip r:embed="rId4"/>
          <a:stretch/>
        </p:blipFill>
        <p:spPr>
          <a:xfrm>
            <a:off x="1440" y="285840"/>
            <a:ext cx="9144000" cy="112716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0ADE-3EDF-4334-9C1B-133656731F0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9BF4-555B-48EA-8B90-D6E8F5BFF51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8" descr="1"/>
          <p:cNvPicPr/>
          <p:nvPr/>
        </p:nvPicPr>
        <p:blipFill>
          <a:blip r:embed="rId3"/>
          <a:stretch/>
        </p:blipFill>
        <p:spPr>
          <a:xfrm>
            <a:off x="816120" y="1193760"/>
            <a:ext cx="7780320" cy="5334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" descr="0-0"/>
          <p:cNvPicPr/>
          <p:nvPr/>
        </p:nvPicPr>
        <p:blipFill>
          <a:blip r:embed="rId4"/>
          <a:stretch/>
        </p:blipFill>
        <p:spPr>
          <a:xfrm>
            <a:off x="1440" y="285840"/>
            <a:ext cx="9144000" cy="112716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84400" y="1412640"/>
            <a:ext cx="709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184400" y="2518920"/>
            <a:ext cx="7092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FF3B-9937-479D-B115-79E91B7A62D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301E-F72E-4F65-B143-12C508D6673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内容占位符 4" descr="QQ截图20160313103149"/>
          <p:cNvPicPr/>
          <p:nvPr/>
        </p:nvPicPr>
        <p:blipFill>
          <a:blip r:embed="rId1"/>
          <a:stretch/>
        </p:blipFill>
        <p:spPr>
          <a:xfrm>
            <a:off x="38160" y="-27000"/>
            <a:ext cx="9123480" cy="6873840"/>
          </a:xfrm>
          <a:prstGeom prst="rect">
            <a:avLst/>
          </a:prstGeom>
          <a:ln w="0">
            <a:noFill/>
          </a:ln>
        </p:spPr>
      </p:pic>
      <p:sp>
        <p:nvSpPr>
          <p:cNvPr id="520" name="页脚占位符 3"/>
          <p:cNvSpPr/>
          <p:nvPr/>
        </p:nvSpPr>
        <p:spPr>
          <a:xfrm>
            <a:off x="3124080" y="646128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麻辣老师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心教学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麻辣老师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心教学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图片 4" descr="图片1"/>
          <p:cNvPicPr/>
          <p:nvPr/>
        </p:nvPicPr>
        <p:blipFill>
          <a:blip r:embed="rId1"/>
          <a:stretch/>
        </p:blipFill>
        <p:spPr>
          <a:xfrm>
            <a:off x="-3240" y="-4680"/>
            <a:ext cx="9151920" cy="68673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xingsebiankuang2_1413"/>
          <p:cNvPicPr/>
          <p:nvPr/>
        </p:nvPicPr>
        <p:blipFill>
          <a:blip r:embed="rId2"/>
          <a:srcRect l="2809" t="3986" r="0" b="0"/>
          <a:stretch/>
        </p:blipFill>
        <p:spPr>
          <a:xfrm>
            <a:off x="76320" y="609480"/>
            <a:ext cx="8991360" cy="60199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4" descr="复件 思考"/>
          <p:cNvPicPr/>
          <p:nvPr/>
        </p:nvPicPr>
        <p:blipFill>
          <a:blip r:embed="rId3"/>
          <a:stretch/>
        </p:blipFill>
        <p:spPr>
          <a:xfrm>
            <a:off x="1430280" y="1066680"/>
            <a:ext cx="1211400" cy="75276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23"/>
          <p:cNvSpPr/>
          <p:nvPr/>
        </p:nvSpPr>
        <p:spPr>
          <a:xfrm>
            <a:off x="2666880" y="1066680"/>
            <a:ext cx="532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宋体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186920" y="2133360"/>
            <a:ext cx="5868000" cy="360"/>
            <a:chOff x="1186920" y="2133360"/>
            <a:chExt cx="5868000" cy="360"/>
          </a:xfrm>
        </p:grpSpPr>
        <p:sp>
          <p:nvSpPr>
            <p:cNvPr id="556" name="Line 20"/>
            <p:cNvSpPr/>
            <p:nvPr/>
          </p:nvSpPr>
          <p:spPr>
            <a:xfrm>
              <a:off x="1187280" y="2133720"/>
              <a:ext cx="5867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 rot="10800000">
              <a:off x="1186920" y="2133000"/>
              <a:ext cx="586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Text Box 16"/>
          <p:cNvSpPr/>
          <p:nvPr/>
        </p:nvSpPr>
        <p:spPr>
          <a:xfrm>
            <a:off x="1295280" y="22096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xi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25909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hè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41911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ró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57150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xi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186920" y="3068280"/>
            <a:ext cx="5868000" cy="360"/>
            <a:chOff x="1186920" y="3068280"/>
            <a:chExt cx="5868000" cy="360"/>
          </a:xfrm>
        </p:grpSpPr>
        <p:sp>
          <p:nvSpPr>
            <p:cNvPr id="563" name="Line 22"/>
            <p:cNvSpPr/>
            <p:nvPr/>
          </p:nvSpPr>
          <p:spPr>
            <a:xfrm>
              <a:off x="1187280" y="3068640"/>
              <a:ext cx="5867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 txBox="1"/>
            <p:nvPr/>
          </p:nvSpPr>
          <p:spPr>
            <a:xfrm rot="10800000">
              <a:off x="1186920" y="3067920"/>
              <a:ext cx="586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 Box 8"/>
          <p:cNvSpPr/>
          <p:nvPr/>
        </p:nvSpPr>
        <p:spPr>
          <a:xfrm>
            <a:off x="1219320" y="31240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Arial"/>
                <a:ea typeface="黑体"/>
              </a:rPr>
              <a:t>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2666880" y="31240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Arial"/>
                <a:ea typeface="黑体"/>
              </a:rPr>
              <a:t>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4191120" y="31240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Arial"/>
                <a:ea typeface="黑体"/>
              </a:rPr>
              <a:t>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5638680" y="31240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Arial"/>
                <a:ea typeface="黑体"/>
              </a:rPr>
              <a:t>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066680" y="4266720"/>
            <a:ext cx="5943600" cy="360"/>
            <a:chOff x="1066680" y="4266720"/>
            <a:chExt cx="5943600" cy="360"/>
          </a:xfrm>
        </p:grpSpPr>
        <p:sp>
          <p:nvSpPr>
            <p:cNvPr id="570" name="Line 21"/>
            <p:cNvSpPr/>
            <p:nvPr/>
          </p:nvSpPr>
          <p:spPr>
            <a:xfrm>
              <a:off x="1066680" y="42670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 txBox="1"/>
            <p:nvPr/>
          </p:nvSpPr>
          <p:spPr>
            <a:xfrm rot="10800000">
              <a:off x="1066680" y="4266360"/>
              <a:ext cx="5943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 Box 12"/>
          <p:cNvSpPr/>
          <p:nvPr/>
        </p:nvSpPr>
        <p:spPr>
          <a:xfrm>
            <a:off x="1143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峡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25909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证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4"/>
          <p:cNvSpPr/>
          <p:nvPr/>
        </p:nvSpPr>
        <p:spPr>
          <a:xfrm>
            <a:off x="41148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熔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5"/>
          <p:cNvSpPr/>
          <p:nvPr/>
        </p:nvSpPr>
        <p:spPr>
          <a:xfrm>
            <a:off x="56386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挟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300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麻辣老师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心教学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内容占位符 28694" descr="复件 思考"/>
          <p:cNvPicPr/>
          <p:nvPr/>
        </p:nvPicPr>
        <p:blipFill>
          <a:blip r:embed="rId2"/>
          <a:stretch/>
        </p:blipFill>
        <p:spPr>
          <a:xfrm>
            <a:off x="969840" y="1336680"/>
            <a:ext cx="1498680" cy="11685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" descr="xingsebiankuang2_1413"/>
          <p:cNvPicPr/>
          <p:nvPr/>
        </p:nvPicPr>
        <p:blipFill>
          <a:blip r:embed="rId3"/>
          <a:srcRect l="2809" t="3986" r="0" b="0"/>
          <a:stretch/>
        </p:blipFill>
        <p:spPr>
          <a:xfrm>
            <a:off x="108000" y="189000"/>
            <a:ext cx="8991720" cy="6019560"/>
          </a:xfrm>
          <a:prstGeom prst="rect">
            <a:avLst/>
          </a:prstGeom>
          <a:ln w="0">
            <a:noFill/>
          </a:ln>
        </p:spPr>
      </p:pic>
      <p:sp>
        <p:nvSpPr>
          <p:cNvPr id="579" name="矩形 28699"/>
          <p:cNvSpPr txBox="1"/>
          <p:nvPr/>
        </p:nvSpPr>
        <p:spPr>
          <a:xfrm>
            <a:off x="4135320" y="1127160"/>
            <a:ext cx="2276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00"/>
                </a:solidFill>
                <a:latin typeface="隶书"/>
              </a:rPr>
              <a:t>新词释义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  <p:sp>
        <p:nvSpPr>
          <p:cNvPr id="580" name="矩形 29699"/>
          <p:cNvSpPr/>
          <p:nvPr/>
        </p:nvSpPr>
        <p:spPr>
          <a:xfrm>
            <a:off x="973080" y="2201760"/>
            <a:ext cx="788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孪生  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推测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干涸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寂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彗星   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突如其来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家常便饭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诞生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孕育  裹挟   渺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页脚占位符 3"/>
          <p:cNvSpPr/>
          <p:nvPr/>
        </p:nvSpPr>
        <p:spPr>
          <a:xfrm>
            <a:off x="3132000" y="6380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麻辣老师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心教学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5" descr="xingsebiankuang2_1413"/>
          <p:cNvPicPr/>
          <p:nvPr/>
        </p:nvPicPr>
        <p:blipFill>
          <a:blip r:embed="rId1"/>
          <a:srcRect l="2809" t="3986" r="0" b="0"/>
          <a:stretch/>
        </p:blipFill>
        <p:spPr>
          <a:xfrm>
            <a:off x="34920" y="476280"/>
            <a:ext cx="8991720" cy="601992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6"/>
          <p:cNvSpPr/>
          <p:nvPr/>
        </p:nvSpPr>
        <p:spPr>
          <a:xfrm>
            <a:off x="676440" y="79704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小组内简单分析交流，给课文划分层次，概括大意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10" descr="讨论"/>
          <p:cNvPicPr/>
          <p:nvPr/>
        </p:nvPicPr>
        <p:blipFill>
          <a:blip r:embed="rId2"/>
          <a:stretch/>
        </p:blipFill>
        <p:spPr>
          <a:xfrm>
            <a:off x="7047000" y="1268280"/>
            <a:ext cx="1562040" cy="73656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7"/>
          <p:cNvSpPr/>
          <p:nvPr/>
        </p:nvSpPr>
        <p:spPr>
          <a:xfrm>
            <a:off x="390600" y="2106720"/>
            <a:ext cx="8001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宋体"/>
              </a:rPr>
              <a:t>第一段（</a:t>
            </a:r>
            <a:r>
              <a:rPr b="1" lang="en-US" sz="3200" spc="-1" strike="noStrike">
                <a:solidFill>
                  <a:srgbClr val="003300"/>
                </a:solidFill>
                <a:latin typeface="华文中宋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宋体"/>
              </a:rPr>
              <a:t>）：由“孪生兄弟”推测火星上有水和生命的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宋体"/>
              </a:rPr>
              <a:t>第二段（</a:t>
            </a:r>
            <a:r>
              <a:rPr b="1" lang="en-US" sz="3200" spc="-1" strike="noStrike">
                <a:solidFill>
                  <a:srgbClr val="003300"/>
                </a:solidFill>
                <a:latin typeface="华文中宋"/>
              </a:rPr>
              <a:t>2-5</a:t>
            </a: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宋体"/>
              </a:rPr>
              <a:t>）：科学界根据照片和对火星分析，推测火星上有水的两种来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宋体"/>
              </a:rPr>
              <a:t>第三段（</a:t>
            </a:r>
            <a:r>
              <a:rPr b="1" lang="en-US" sz="3200" spc="-1" strike="noStrike">
                <a:solidFill>
                  <a:srgbClr val="003300"/>
                </a:solidFill>
                <a:latin typeface="华文中宋"/>
              </a:rPr>
              <a:t>6-8</a:t>
            </a: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宋体"/>
              </a:rPr>
              <a:t>）：阐述地球上能留下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宋体"/>
              </a:rPr>
              <a:t>并孕育生命而火星却不能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2"/>
          <p:cNvGrpSpPr/>
          <p:nvPr/>
        </p:nvGrpSpPr>
        <p:grpSpPr>
          <a:xfrm>
            <a:off x="6875640" y="4545360"/>
            <a:ext cx="2337840" cy="1864800"/>
            <a:chOff x="6875640" y="4545360"/>
            <a:chExt cx="2337840" cy="1864800"/>
          </a:xfrm>
        </p:grpSpPr>
        <p:pic>
          <p:nvPicPr>
            <p:cNvPr id="587" name="Picture 3" descr="chuangyibiankuang2_0038"/>
            <p:cNvPicPr/>
            <p:nvPr/>
          </p:nvPicPr>
          <p:blipFill>
            <a:blip r:embed="rId3"/>
            <a:stretch/>
          </p:blipFill>
          <p:spPr>
            <a:xfrm>
              <a:off x="6875640" y="4581360"/>
              <a:ext cx="19227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4"/>
            <p:cNvSpPr/>
            <p:nvPr/>
          </p:nvSpPr>
          <p:spPr>
            <a:xfrm rot="1168200">
              <a:off x="7542720" y="4791600"/>
              <a:ext cx="159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Arial"/>
                  <a:ea typeface="宋体"/>
                </a:rPr>
                <a:t>火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页脚占位符 3"/>
          <p:cNvSpPr/>
          <p:nvPr/>
        </p:nvSpPr>
        <p:spPr>
          <a:xfrm>
            <a:off x="3124080" y="646128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麻辣老师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心教学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6" descr="xingsebiankuang2_1413"/>
          <p:cNvPicPr/>
          <p:nvPr/>
        </p:nvPicPr>
        <p:blipFill>
          <a:blip r:embed="rId1"/>
          <a:srcRect l="2809" t="3986" r="0" b="0"/>
          <a:stretch/>
        </p:blipFill>
        <p:spPr>
          <a:xfrm>
            <a:off x="179280" y="144360"/>
            <a:ext cx="9041040" cy="6373800"/>
          </a:xfrm>
          <a:prstGeom prst="rect">
            <a:avLst/>
          </a:prstGeom>
          <a:ln w="0">
            <a:noFill/>
          </a:ln>
        </p:spPr>
      </p:pic>
      <p:pic>
        <p:nvPicPr>
          <p:cNvPr id="591" name="内容占位符 28694" descr="复件 思考"/>
          <p:cNvPicPr/>
          <p:nvPr/>
        </p:nvPicPr>
        <p:blipFill>
          <a:blip r:embed="rId2"/>
          <a:stretch/>
        </p:blipFill>
        <p:spPr>
          <a:xfrm>
            <a:off x="1525680" y="368280"/>
            <a:ext cx="1498680" cy="1168560"/>
          </a:xfrm>
          <a:prstGeom prst="rect">
            <a:avLst/>
          </a:prstGeom>
          <a:ln w="0">
            <a:noFill/>
          </a:ln>
        </p:spPr>
      </p:pic>
      <p:sp>
        <p:nvSpPr>
          <p:cNvPr id="592" name="矩形 28699"/>
          <p:cNvSpPr txBox="1"/>
          <p:nvPr/>
        </p:nvSpPr>
        <p:spPr>
          <a:xfrm>
            <a:off x="3343320" y="476280"/>
            <a:ext cx="267336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00"/>
                </a:solidFill>
                <a:latin typeface="隶书"/>
              </a:rPr>
              <a:t>识记结构图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  <p:sp>
        <p:nvSpPr>
          <p:cNvPr id="593" name="矩形 29699"/>
          <p:cNvSpPr/>
          <p:nvPr/>
        </p:nvSpPr>
        <p:spPr>
          <a:xfrm>
            <a:off x="1092240" y="1536840"/>
            <a:ext cx="7794720" cy="76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南极、北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高山、峡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总起：孪生兄弟   白云、尘暴、龙卷风   作出推测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四季分明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推测依据   火星照片资料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具体说明            火星岩石钻孔分析   科学证实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水的来源   彗星、陨石风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潜藏在矿物中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积小、引力小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奥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000" spc="-1" strike="noStrike">
                <a:solidFill>
                  <a:srgbClr val="9ed3d7"/>
                </a:solidFill>
                <a:latin typeface="楷体"/>
                <a:ea typeface="楷体"/>
              </a:rPr>
              <a:t>具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具体分析  无水的原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气体集体大逃亡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条件适合      合理推测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科学家的推测   孕育生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左大括号 6"/>
          <p:cNvSpPr/>
          <p:nvPr/>
        </p:nvSpPr>
        <p:spPr>
          <a:xfrm>
            <a:off x="1330200" y="1700280"/>
            <a:ext cx="384480" cy="4379760"/>
          </a:xfrm>
          <a:custGeom>
            <a:avLst/>
            <a:gdLst>
              <a:gd name="textAreaLeft" fmla="*/ 245520 w 384480"/>
              <a:gd name="textAreaRight" fmla="*/ 384840 w 384480"/>
              <a:gd name="textAreaTop" fmla="*/ 9720 h 4379760"/>
              <a:gd name="textAreaBottom" fmla="*/ 4370040 h 4379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"/>
                  <a:pt x="10800" y="157"/>
                </a:cubicBezTo>
                <a:lnTo>
                  <a:pt x="10800" y="10643"/>
                </a:lnTo>
                <a:cubicBezTo>
                  <a:pt x="10800" y="10722"/>
                  <a:pt x="5400" y="10800"/>
                  <a:pt x="0" y="10800"/>
                </a:cubicBezTo>
                <a:cubicBezTo>
                  <a:pt x="5400" y="10800"/>
                  <a:pt x="10800" y="10879"/>
                  <a:pt x="10800" y="10957"/>
                </a:cubicBezTo>
                <a:lnTo>
                  <a:pt x="10800" y="21443"/>
                </a:lnTo>
                <a:cubicBezTo>
                  <a:pt x="10800" y="2152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左大括号 7"/>
          <p:cNvSpPr/>
          <p:nvPr/>
        </p:nvSpPr>
        <p:spPr>
          <a:xfrm>
            <a:off x="3413160" y="1628640"/>
            <a:ext cx="298440" cy="1081080"/>
          </a:xfrm>
          <a:custGeom>
            <a:avLst/>
            <a:gdLst>
              <a:gd name="textAreaLeft" fmla="*/ 190800 w 298440"/>
              <a:gd name="textAreaRight" fmla="*/ 298800 w 298440"/>
              <a:gd name="textAreaTop" fmla="*/ 7560 h 1081080"/>
              <a:gd name="textAreaBottom" fmla="*/ 107352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8"/>
                  <a:pt x="10800" y="496"/>
                </a:cubicBezTo>
                <a:lnTo>
                  <a:pt x="10800" y="10304"/>
                </a:lnTo>
                <a:cubicBezTo>
                  <a:pt x="10800" y="10552"/>
                  <a:pt x="5400" y="10800"/>
                  <a:pt x="0" y="10800"/>
                </a:cubicBezTo>
                <a:cubicBezTo>
                  <a:pt x="5400" y="10800"/>
                  <a:pt x="10800" y="11048"/>
                  <a:pt x="10800" y="11296"/>
                </a:cubicBezTo>
                <a:lnTo>
                  <a:pt x="10800" y="21104"/>
                </a:lnTo>
                <a:cubicBezTo>
                  <a:pt x="10800" y="2135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左大括号 8"/>
          <p:cNvSpPr/>
          <p:nvPr/>
        </p:nvSpPr>
        <p:spPr>
          <a:xfrm>
            <a:off x="3976560" y="3355920"/>
            <a:ext cx="166680" cy="43344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433440"/>
              <a:gd name="textAreaBottom" fmla="*/ 42912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左大括号 9"/>
          <p:cNvSpPr/>
          <p:nvPr/>
        </p:nvSpPr>
        <p:spPr>
          <a:xfrm>
            <a:off x="3960720" y="4129200"/>
            <a:ext cx="166680" cy="43344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433440"/>
              <a:gd name="textAreaBottom" fmla="*/ 42912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左大括号 10"/>
          <p:cNvSpPr/>
          <p:nvPr/>
        </p:nvSpPr>
        <p:spPr>
          <a:xfrm>
            <a:off x="4087800" y="5045040"/>
            <a:ext cx="282600" cy="720720"/>
          </a:xfrm>
          <a:custGeom>
            <a:avLst/>
            <a:gdLst>
              <a:gd name="textAreaLeft" fmla="*/ 180720 w 282600"/>
              <a:gd name="textAreaRight" fmla="*/ 282960 w 28260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3"/>
                  <a:pt x="10800" y="705"/>
                </a:cubicBezTo>
                <a:lnTo>
                  <a:pt x="10800" y="10095"/>
                </a:lnTo>
                <a:cubicBezTo>
                  <a:pt x="10800" y="10448"/>
                  <a:pt x="5400" y="10800"/>
                  <a:pt x="0" y="10800"/>
                </a:cubicBezTo>
                <a:cubicBezTo>
                  <a:pt x="5400" y="10800"/>
                  <a:pt x="10800" y="11153"/>
                  <a:pt x="10800" y="11505"/>
                </a:cubicBezTo>
                <a:lnTo>
                  <a:pt x="10800" y="20895"/>
                </a:lnTo>
                <a:cubicBezTo>
                  <a:pt x="10800" y="212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左大括号 11"/>
          <p:cNvSpPr/>
          <p:nvPr/>
        </p:nvSpPr>
        <p:spPr>
          <a:xfrm>
            <a:off x="2557440" y="3052800"/>
            <a:ext cx="298440" cy="1282680"/>
          </a:xfrm>
          <a:custGeom>
            <a:avLst/>
            <a:gdLst>
              <a:gd name="textAreaLeft" fmla="*/ 190800 w 298440"/>
              <a:gd name="textAreaRight" fmla="*/ 298800 w 298440"/>
              <a:gd name="textAreaTop" fmla="*/ 7560 h 1282680"/>
              <a:gd name="textAreaBottom" fmla="*/ 1275120 h 128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9"/>
                  <a:pt x="10800" y="418"/>
                </a:cubicBezTo>
                <a:lnTo>
                  <a:pt x="10800" y="10382"/>
                </a:lnTo>
                <a:cubicBezTo>
                  <a:pt x="10800" y="10591"/>
                  <a:pt x="5400" y="10800"/>
                  <a:pt x="0" y="10800"/>
                </a:cubicBezTo>
                <a:cubicBezTo>
                  <a:pt x="5400" y="10800"/>
                  <a:pt x="10800" y="11009"/>
                  <a:pt x="10800" y="11218"/>
                </a:cubicBezTo>
                <a:lnTo>
                  <a:pt x="10800" y="21182"/>
                </a:lnTo>
                <a:cubicBezTo>
                  <a:pt x="10800" y="2139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左大括号 12"/>
          <p:cNvSpPr/>
          <p:nvPr/>
        </p:nvSpPr>
        <p:spPr>
          <a:xfrm>
            <a:off x="2556000" y="5013360"/>
            <a:ext cx="298440" cy="1282680"/>
          </a:xfrm>
          <a:custGeom>
            <a:avLst/>
            <a:gdLst>
              <a:gd name="textAreaLeft" fmla="*/ 190800 w 298440"/>
              <a:gd name="textAreaRight" fmla="*/ 298800 w 298440"/>
              <a:gd name="textAreaTop" fmla="*/ 7560 h 1282680"/>
              <a:gd name="textAreaBottom" fmla="*/ 1275120 h 128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9"/>
                  <a:pt x="10800" y="418"/>
                </a:cubicBezTo>
                <a:lnTo>
                  <a:pt x="10800" y="10382"/>
                </a:lnTo>
                <a:cubicBezTo>
                  <a:pt x="10800" y="10591"/>
                  <a:pt x="5400" y="10800"/>
                  <a:pt x="0" y="10800"/>
                </a:cubicBezTo>
                <a:cubicBezTo>
                  <a:pt x="5400" y="10800"/>
                  <a:pt x="10800" y="11009"/>
                  <a:pt x="10800" y="11218"/>
                </a:cubicBezTo>
                <a:lnTo>
                  <a:pt x="10800" y="21182"/>
                </a:lnTo>
                <a:cubicBezTo>
                  <a:pt x="10800" y="2139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左大括号 13"/>
          <p:cNvSpPr/>
          <p:nvPr/>
        </p:nvSpPr>
        <p:spPr>
          <a:xfrm>
            <a:off x="4502160" y="5818320"/>
            <a:ext cx="166680" cy="43308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433080"/>
              <a:gd name="textAreaBottom" fmla="*/ 428760 h 43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右大括号 14"/>
          <p:cNvSpPr/>
          <p:nvPr/>
        </p:nvSpPr>
        <p:spPr>
          <a:xfrm>
            <a:off x="7670880" y="1596960"/>
            <a:ext cx="431640" cy="4424400"/>
          </a:xfrm>
          <a:custGeom>
            <a:avLst/>
            <a:gdLst>
              <a:gd name="textAreaLeft" fmla="*/ 0 w 431640"/>
              <a:gd name="textAreaRight" fmla="*/ 155880 w 431640"/>
              <a:gd name="textAreaTop" fmla="*/ 11160 h 4424400"/>
              <a:gd name="textAreaBottom" fmla="*/ 4413240 h 442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8"/>
                  <a:pt x="10800" y="175"/>
                </a:cubicBezTo>
                <a:lnTo>
                  <a:pt x="10800" y="10625"/>
                </a:lnTo>
                <a:cubicBezTo>
                  <a:pt x="10800" y="10713"/>
                  <a:pt x="16200" y="10800"/>
                  <a:pt x="21600" y="10800"/>
                </a:cubicBezTo>
                <a:cubicBezTo>
                  <a:pt x="16200" y="10800"/>
                  <a:pt x="10800" y="10888"/>
                  <a:pt x="10800" y="10975"/>
                </a:cubicBezTo>
                <a:lnTo>
                  <a:pt x="10800" y="21425"/>
                </a:lnTo>
                <a:cubicBezTo>
                  <a:pt x="10800" y="2151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15"/>
          <p:cNvSpPr/>
          <p:nvPr/>
        </p:nvSpPr>
        <p:spPr>
          <a:xfrm>
            <a:off x="268560" y="2346480"/>
            <a:ext cx="94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火星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地球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孪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兄弟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右大括号 16"/>
          <p:cNvSpPr/>
          <p:nvPr/>
        </p:nvSpPr>
        <p:spPr>
          <a:xfrm>
            <a:off x="6084720" y="1628640"/>
            <a:ext cx="336600" cy="1249560"/>
          </a:xfrm>
          <a:custGeom>
            <a:avLst/>
            <a:gdLst>
              <a:gd name="textAreaLeft" fmla="*/ 0 w 336600"/>
              <a:gd name="textAreaRight" fmla="*/ 121680 w 336600"/>
              <a:gd name="textAreaTop" fmla="*/ 8640 h 1249560"/>
              <a:gd name="textAreaBottom" fmla="*/ 1240920 h 124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2"/>
                  <a:pt x="10800" y="484"/>
                </a:cubicBezTo>
                <a:lnTo>
                  <a:pt x="10800" y="10316"/>
                </a:lnTo>
                <a:cubicBezTo>
                  <a:pt x="10800" y="10558"/>
                  <a:pt x="16200" y="10800"/>
                  <a:pt x="21600" y="10800"/>
                </a:cubicBezTo>
                <a:cubicBezTo>
                  <a:pt x="16200" y="10800"/>
                  <a:pt x="10800" y="11042"/>
                  <a:pt x="10800" y="11284"/>
                </a:cubicBezTo>
                <a:lnTo>
                  <a:pt x="10800" y="21116"/>
                </a:lnTo>
                <a:cubicBezTo>
                  <a:pt x="10800" y="2135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右大括号 17"/>
          <p:cNvSpPr/>
          <p:nvPr/>
        </p:nvSpPr>
        <p:spPr>
          <a:xfrm>
            <a:off x="6211800" y="3119400"/>
            <a:ext cx="336600" cy="1249560"/>
          </a:xfrm>
          <a:custGeom>
            <a:avLst/>
            <a:gdLst>
              <a:gd name="textAreaLeft" fmla="*/ 0 w 336600"/>
              <a:gd name="textAreaRight" fmla="*/ 121680 w 336600"/>
              <a:gd name="textAreaTop" fmla="*/ 8640 h 1249560"/>
              <a:gd name="textAreaBottom" fmla="*/ 1240920 h 124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2"/>
                  <a:pt x="10800" y="484"/>
                </a:cubicBezTo>
                <a:lnTo>
                  <a:pt x="10800" y="10316"/>
                </a:lnTo>
                <a:cubicBezTo>
                  <a:pt x="10800" y="10558"/>
                  <a:pt x="16200" y="10800"/>
                  <a:pt x="21600" y="10800"/>
                </a:cubicBezTo>
                <a:cubicBezTo>
                  <a:pt x="16200" y="10800"/>
                  <a:pt x="10800" y="11042"/>
                  <a:pt x="10800" y="11284"/>
                </a:cubicBezTo>
                <a:lnTo>
                  <a:pt x="10800" y="21116"/>
                </a:lnTo>
                <a:cubicBezTo>
                  <a:pt x="10800" y="2135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右大括号 18"/>
          <p:cNvSpPr/>
          <p:nvPr/>
        </p:nvSpPr>
        <p:spPr>
          <a:xfrm>
            <a:off x="6211800" y="4913280"/>
            <a:ext cx="336600" cy="1249560"/>
          </a:xfrm>
          <a:custGeom>
            <a:avLst/>
            <a:gdLst>
              <a:gd name="textAreaLeft" fmla="*/ 0 w 336600"/>
              <a:gd name="textAreaRight" fmla="*/ 121680 w 336600"/>
              <a:gd name="textAreaTop" fmla="*/ 8640 h 1249560"/>
              <a:gd name="textAreaBottom" fmla="*/ 1240920 h 124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2"/>
                  <a:pt x="10800" y="484"/>
                </a:cubicBezTo>
                <a:lnTo>
                  <a:pt x="10800" y="10316"/>
                </a:lnTo>
                <a:cubicBezTo>
                  <a:pt x="10800" y="10558"/>
                  <a:pt x="16200" y="10800"/>
                  <a:pt x="21600" y="10800"/>
                </a:cubicBezTo>
                <a:cubicBezTo>
                  <a:pt x="16200" y="10800"/>
                  <a:pt x="10800" y="11042"/>
                  <a:pt x="10800" y="11284"/>
                </a:cubicBezTo>
                <a:lnTo>
                  <a:pt x="10800" y="21116"/>
                </a:lnTo>
                <a:cubicBezTo>
                  <a:pt x="10800" y="2135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图片 8196" descr="16"/>
          <p:cNvPicPr/>
          <p:nvPr/>
        </p:nvPicPr>
        <p:blipFill>
          <a:blip r:embed="rId1"/>
          <a:srcRect l="0" t="0" r="0" b="13386"/>
          <a:stretch/>
        </p:blipFill>
        <p:spPr>
          <a:xfrm>
            <a:off x="0" y="0"/>
            <a:ext cx="932508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文本占位符 17410" descr=""/>
          <p:cNvPicPr/>
          <p:nvPr/>
        </p:nvPicPr>
        <p:blipFill>
          <a:blip r:embed="rId1"/>
          <a:stretch/>
        </p:blipFill>
        <p:spPr>
          <a:xfrm>
            <a:off x="457200" y="809640"/>
            <a:ext cx="8229600" cy="452736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2"/>
          <p:cNvGrpSpPr/>
          <p:nvPr/>
        </p:nvGrpSpPr>
        <p:grpSpPr>
          <a:xfrm>
            <a:off x="7020000" y="4831200"/>
            <a:ext cx="2337840" cy="1864800"/>
            <a:chOff x="7020000" y="4831200"/>
            <a:chExt cx="2337840" cy="1864800"/>
          </a:xfrm>
        </p:grpSpPr>
        <p:pic>
          <p:nvPicPr>
            <p:cNvPr id="610" name="Picture 3" descr="chuangyibiankuang2_0038"/>
            <p:cNvPicPr/>
            <p:nvPr/>
          </p:nvPicPr>
          <p:blipFill>
            <a:blip r:embed="rId2"/>
            <a:stretch/>
          </p:blipFill>
          <p:spPr>
            <a:xfrm>
              <a:off x="7020000" y="4867200"/>
              <a:ext cx="19227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 Box 4"/>
            <p:cNvSpPr/>
            <p:nvPr/>
          </p:nvSpPr>
          <p:spPr>
            <a:xfrm rot="1168200">
              <a:off x="7687080" y="5077440"/>
              <a:ext cx="159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Arial"/>
                  <a:ea typeface="宋体"/>
                </a:rPr>
                <a:t>火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页脚占位符 3"/>
          <p:cNvSpPr/>
          <p:nvPr/>
        </p:nvSpPr>
        <p:spPr>
          <a:xfrm>
            <a:off x="3124080" y="6388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麻辣老师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心教学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6" descr="xingsebiankuang2_1413"/>
          <p:cNvPicPr/>
          <p:nvPr/>
        </p:nvPicPr>
        <p:blipFill>
          <a:blip r:embed="rId1"/>
          <a:srcRect l="2809" t="3986" r="0" b="0"/>
          <a:stretch/>
        </p:blipFill>
        <p:spPr>
          <a:xfrm>
            <a:off x="179280" y="73080"/>
            <a:ext cx="9041040" cy="63738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6"/>
          <p:cNvSpPr/>
          <p:nvPr/>
        </p:nvSpPr>
        <p:spPr>
          <a:xfrm>
            <a:off x="533520" y="94608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请同学们自由朗读第一段，想想从哪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可以看出火星和地球是“孪生兄弟”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762120" y="2971800"/>
            <a:ext cx="739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这兄弟俩长得太像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 u="sng">
                <a:solidFill>
                  <a:srgbClr val="333399"/>
                </a:solidFill>
                <a:uFillTx/>
                <a:latin typeface="Arial"/>
                <a:ea typeface="宋体"/>
              </a:rPr>
              <a:t>同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南极、北极，</a:t>
            </a:r>
            <a:r>
              <a:rPr b="0" lang="zh-CN" sz="2800" spc="-1" strike="noStrike" u="sng">
                <a:solidFill>
                  <a:srgbClr val="333399"/>
                </a:solidFill>
                <a:uFillTx/>
                <a:latin typeface="Arial"/>
                <a:ea typeface="宋体"/>
              </a:rPr>
              <a:t>同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高山、峡谷，</a:t>
            </a:r>
            <a:r>
              <a:rPr b="0" lang="zh-CN" sz="2800" spc="-1" strike="noStrike" u="sng">
                <a:solidFill>
                  <a:srgbClr val="333399"/>
                </a:solidFill>
                <a:uFillTx/>
                <a:latin typeface="Arial"/>
                <a:ea typeface="宋体"/>
              </a:rPr>
              <a:t>同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白云、尘暴和龙卷风，</a:t>
            </a:r>
            <a:r>
              <a:rPr b="0" lang="zh-CN" sz="2800" spc="-1" strike="noStrike" u="sng">
                <a:solidFill>
                  <a:srgbClr val="333399"/>
                </a:solidFill>
                <a:uFillTx/>
                <a:latin typeface="Arial"/>
                <a:ea typeface="宋体"/>
              </a:rPr>
              <a:t>同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四季分明，</a:t>
            </a:r>
            <a:r>
              <a:rPr b="0" lang="zh-CN" sz="2800" spc="-1" strike="noStrike" u="sng">
                <a:solidFill>
                  <a:srgbClr val="333399"/>
                </a:solidFill>
                <a:uFillTx/>
                <a:latin typeface="Arial"/>
                <a:ea typeface="宋体"/>
              </a:rPr>
              <a:t>甚至连一天的时间都差不多。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  <a:ea typeface="宋体"/>
              </a:rPr>
              <a:t>难怪，人们把地球和火星称为太阳系中的“孪生兄弟”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并由此推测，火星也和地球一样有水和生命存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2"/>
          <p:cNvGrpSpPr/>
          <p:nvPr/>
        </p:nvGrpSpPr>
        <p:grpSpPr>
          <a:xfrm>
            <a:off x="7288200" y="4966200"/>
            <a:ext cx="2337840" cy="1864800"/>
            <a:chOff x="7288200" y="4966200"/>
            <a:chExt cx="2337840" cy="1864800"/>
          </a:xfrm>
        </p:grpSpPr>
        <p:pic>
          <p:nvPicPr>
            <p:cNvPr id="617" name="Picture 3" descr="chuangyibiankuang2_0038"/>
            <p:cNvPicPr/>
            <p:nvPr/>
          </p:nvPicPr>
          <p:blipFill>
            <a:blip r:embed="rId2"/>
            <a:stretch/>
          </p:blipFill>
          <p:spPr>
            <a:xfrm>
              <a:off x="7288200" y="5002200"/>
              <a:ext cx="19227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Text Box 4"/>
            <p:cNvSpPr/>
            <p:nvPr/>
          </p:nvSpPr>
          <p:spPr>
            <a:xfrm rot="1168200">
              <a:off x="7955280" y="5212440"/>
              <a:ext cx="159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Arial"/>
                  <a:ea typeface="宋体"/>
                </a:rPr>
                <a:t>火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页脚占位符 3"/>
          <p:cNvSpPr/>
          <p:nvPr/>
        </p:nvSpPr>
        <p:spPr>
          <a:xfrm>
            <a:off x="3124080" y="6388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麻辣老师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心教学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609480" y="160020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从课文中找出相关语句证明火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上曾经有水的存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5" descr="xingsebiankuang2_1413"/>
          <p:cNvPicPr/>
          <p:nvPr/>
        </p:nvPicPr>
        <p:blipFill>
          <a:blip r:embed="rId1"/>
          <a:srcRect l="2809" t="3986" r="0" b="0"/>
          <a:stretch/>
        </p:blipFill>
        <p:spPr>
          <a:xfrm>
            <a:off x="108000" y="404640"/>
            <a:ext cx="8991720" cy="601992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8"/>
          <p:cNvSpPr/>
          <p:nvPr/>
        </p:nvSpPr>
        <p:spPr>
          <a:xfrm>
            <a:off x="1143000" y="3352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中宋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华文中宋"/>
              </a:rPr>
              <a:t>2004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66"/>
                </a:solidFill>
                <a:latin typeface="华文中宋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宋体"/>
              </a:rPr>
              <a:t>月以后，人类通过对火星岩石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宋体"/>
              </a:rPr>
              <a:t>钻孔分析，进一步证实了火星上曾经有水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宋体"/>
              </a:rPr>
              <a:t>推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2"/>
          <p:cNvGrpSpPr/>
          <p:nvPr/>
        </p:nvGrpSpPr>
        <p:grpSpPr>
          <a:xfrm>
            <a:off x="6858000" y="4536000"/>
            <a:ext cx="2337840" cy="1864800"/>
            <a:chOff x="6858000" y="4536000"/>
            <a:chExt cx="2337840" cy="1864800"/>
          </a:xfrm>
        </p:grpSpPr>
        <p:pic>
          <p:nvPicPr>
            <p:cNvPr id="624" name="Picture 3" descr="chuangyibiankuang2_0038"/>
            <p:cNvPicPr/>
            <p:nvPr/>
          </p:nvPicPr>
          <p:blipFill>
            <a:blip r:embed="rId2"/>
            <a:stretch/>
          </p:blipFill>
          <p:spPr>
            <a:xfrm>
              <a:off x="6858000" y="4572000"/>
              <a:ext cx="19227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Text Box 4"/>
            <p:cNvSpPr/>
            <p:nvPr/>
          </p:nvSpPr>
          <p:spPr>
            <a:xfrm rot="1168200">
              <a:off x="7525080" y="4782240"/>
              <a:ext cx="159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Arial"/>
                  <a:ea typeface="宋体"/>
                </a:rPr>
                <a:t>火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页脚占位符 3"/>
          <p:cNvSpPr/>
          <p:nvPr/>
        </p:nvSpPr>
        <p:spPr>
          <a:xfrm>
            <a:off x="3124080" y="646128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麻辣老师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心教学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5" descr="xingsebiankuang2_1413"/>
          <p:cNvPicPr/>
          <p:nvPr/>
        </p:nvPicPr>
        <p:blipFill>
          <a:blip r:embed="rId1"/>
          <a:srcRect l="2809" t="3986" r="0" b="0"/>
          <a:stretch/>
        </p:blipFill>
        <p:spPr>
          <a:xfrm>
            <a:off x="108000" y="476280"/>
            <a:ext cx="8991720" cy="601992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6"/>
          <p:cNvSpPr/>
          <p:nvPr/>
        </p:nvSpPr>
        <p:spPr>
          <a:xfrm>
            <a:off x="1143000" y="16765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隶书"/>
                <a:ea typeface="宋体"/>
              </a:rPr>
              <a:t>哪句话又能证明推断的可信性呢？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838080" y="266688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科学家研究分析了火星的照片资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发现火星上有干涸的河床，该河床宽达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百千米，远胜过今天地球上的亚马孙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2"/>
          <p:cNvGrpSpPr/>
          <p:nvPr/>
        </p:nvGrpSpPr>
        <p:grpSpPr>
          <a:xfrm>
            <a:off x="6946920" y="4545360"/>
            <a:ext cx="2337840" cy="1864800"/>
            <a:chOff x="6946920" y="4545360"/>
            <a:chExt cx="2337840" cy="1864800"/>
          </a:xfrm>
        </p:grpSpPr>
        <p:pic>
          <p:nvPicPr>
            <p:cNvPr id="631" name="Picture 3" descr="chuangyibiankuang2_0038"/>
            <p:cNvPicPr/>
            <p:nvPr/>
          </p:nvPicPr>
          <p:blipFill>
            <a:blip r:embed="rId2"/>
            <a:stretch/>
          </p:blipFill>
          <p:spPr>
            <a:xfrm>
              <a:off x="6946920" y="4581360"/>
              <a:ext cx="19227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Text Box 4"/>
            <p:cNvSpPr/>
            <p:nvPr/>
          </p:nvSpPr>
          <p:spPr>
            <a:xfrm rot="1168200">
              <a:off x="7614000" y="4791600"/>
              <a:ext cx="159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Arial"/>
                  <a:ea typeface="宋体"/>
                </a:rPr>
                <a:t>火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麻辣老师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心教学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读读第三、四自然段，说说水来源的两种猜测是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685800" y="24382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第一种猜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533520" y="32004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陨石的水分比较少，而彗星本身大多是些大冰块，含有丰富的水。也许是持续了数亿年的彗星和陨石风暴，给兄弟俩送去了最初的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2"/>
          <p:cNvGrpSpPr/>
          <p:nvPr/>
        </p:nvGrpSpPr>
        <p:grpSpPr>
          <a:xfrm>
            <a:off x="6875640" y="4545360"/>
            <a:ext cx="2337840" cy="1864800"/>
            <a:chOff x="6875640" y="4545360"/>
            <a:chExt cx="2337840" cy="1864800"/>
          </a:xfrm>
        </p:grpSpPr>
        <p:pic>
          <p:nvPicPr>
            <p:cNvPr id="638" name="Picture 3" descr="chuangyibiankuang2_0038"/>
            <p:cNvPicPr/>
            <p:nvPr/>
          </p:nvPicPr>
          <p:blipFill>
            <a:blip r:embed="rId1"/>
            <a:stretch/>
          </p:blipFill>
          <p:spPr>
            <a:xfrm>
              <a:off x="6875640" y="4581360"/>
              <a:ext cx="19227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Text Box 4"/>
            <p:cNvSpPr/>
            <p:nvPr/>
          </p:nvSpPr>
          <p:spPr>
            <a:xfrm rot="1168200">
              <a:off x="7542720" y="4791600"/>
              <a:ext cx="159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Arial"/>
                  <a:ea typeface="宋体"/>
                </a:rPr>
                <a:t>火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3" descr="868-2005-3-17-8-09-39838"/>
          <p:cNvPicPr/>
          <p:nvPr/>
        </p:nvPicPr>
        <p:blipFill>
          <a:blip r:embed="rId1"/>
          <a:srcRect l="0" t="8332" r="0" b="0"/>
          <a:stretch/>
        </p:blipFill>
        <p:spPr>
          <a:xfrm>
            <a:off x="57240" y="34920"/>
            <a:ext cx="9055080" cy="6807240"/>
          </a:xfrm>
          <a:prstGeom prst="rect">
            <a:avLst/>
          </a:prstGeom>
          <a:ln w="0">
            <a:noFill/>
          </a:ln>
        </p:spPr>
      </p:pic>
      <p:sp>
        <p:nvSpPr>
          <p:cNvPr id="52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麻辣老师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心教学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4"/>
          <p:cNvSpPr txBox="1"/>
          <p:nvPr/>
        </p:nvSpPr>
        <p:spPr>
          <a:xfrm>
            <a:off x="1068480" y="992160"/>
            <a:ext cx="707364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00"/>
                </a:solidFill>
                <a:latin typeface="华文中宋"/>
              </a:rPr>
              <a:t>火星—地球的“孪生兄弟”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00"/>
              </a:solidFill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麻辣老师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心教学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09480" y="6588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读读第三、四、五自然段，说说水来源的两种猜测是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7"/>
          <p:cNvSpPr/>
          <p:nvPr/>
        </p:nvSpPr>
        <p:spPr>
          <a:xfrm>
            <a:off x="533520" y="16714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第二种猜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9"/>
          <p:cNvSpPr/>
          <p:nvPr/>
        </p:nvSpPr>
        <p:spPr>
          <a:xfrm>
            <a:off x="744480" y="2509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兄弟俩诞生之初，水的成分就已经潜藏在一些矿物中了。当火山爆发时，这些矿物便分离出水，随着熔岩释放出来。其中大部分以蒸气状态飘散在空中，一部分随后变成雨水落下来，形成了湖泊和海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2"/>
          <p:cNvGrpSpPr/>
          <p:nvPr/>
        </p:nvGrpSpPr>
        <p:grpSpPr>
          <a:xfrm>
            <a:off x="6875640" y="4545360"/>
            <a:ext cx="2337840" cy="1864800"/>
            <a:chOff x="6875640" y="4545360"/>
            <a:chExt cx="2337840" cy="1864800"/>
          </a:xfrm>
        </p:grpSpPr>
        <p:pic>
          <p:nvPicPr>
            <p:cNvPr id="645" name="Picture 3" descr="chuangyibiankuang2_0038"/>
            <p:cNvPicPr/>
            <p:nvPr/>
          </p:nvPicPr>
          <p:blipFill>
            <a:blip r:embed="rId1"/>
            <a:stretch/>
          </p:blipFill>
          <p:spPr>
            <a:xfrm>
              <a:off x="6875640" y="4581360"/>
              <a:ext cx="19227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Text Box 4"/>
            <p:cNvSpPr/>
            <p:nvPr/>
          </p:nvSpPr>
          <p:spPr>
            <a:xfrm rot="1168200">
              <a:off x="7542720" y="4791600"/>
              <a:ext cx="159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Arial"/>
                  <a:ea typeface="宋体"/>
                </a:rPr>
                <a:t>火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最初，这兄弟俩都没有水，没有生命，</a:t>
            </a:r>
            <a:r>
              <a:rPr b="0" lang="zh-CN" sz="30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不但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荒凉寂寞，</a:t>
            </a:r>
            <a:r>
              <a:rPr b="0" lang="zh-CN" sz="30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还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经常遭到彗星和陨石突如其来的袭击。当时，太阳系内有无数大大小小的碎片</a:t>
            </a:r>
            <a:r>
              <a:rPr b="0" lang="zh-CN" sz="30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四处游荡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，彼此碰撞是</a:t>
            </a:r>
            <a:r>
              <a:rPr b="0" lang="zh-CN" sz="30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家常便饭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2"/>
          <p:cNvGrpSpPr/>
          <p:nvPr/>
        </p:nvGrpSpPr>
        <p:grpSpPr>
          <a:xfrm>
            <a:off x="6875640" y="4545360"/>
            <a:ext cx="2337840" cy="1864800"/>
            <a:chOff x="6875640" y="4545360"/>
            <a:chExt cx="2337840" cy="1864800"/>
          </a:xfrm>
        </p:grpSpPr>
        <p:pic>
          <p:nvPicPr>
            <p:cNvPr id="650" name="Picture 3" descr="chuangyibiankuang2_0038"/>
            <p:cNvPicPr/>
            <p:nvPr/>
          </p:nvPicPr>
          <p:blipFill>
            <a:blip r:embed="rId1"/>
            <a:stretch/>
          </p:blipFill>
          <p:spPr>
            <a:xfrm>
              <a:off x="6875640" y="4581360"/>
              <a:ext cx="19227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Text Box 4"/>
            <p:cNvSpPr/>
            <p:nvPr/>
          </p:nvSpPr>
          <p:spPr>
            <a:xfrm rot="1168200">
              <a:off x="7542720" y="4791600"/>
              <a:ext cx="159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Arial"/>
                  <a:ea typeface="宋体"/>
                </a:rPr>
                <a:t>火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那么，火星上的水是从哪里来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2484360" y="3573360"/>
            <a:ext cx="3610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渡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2"/>
          <p:cNvGrpSpPr/>
          <p:nvPr/>
        </p:nvGrpSpPr>
        <p:grpSpPr>
          <a:xfrm>
            <a:off x="6875640" y="4545360"/>
            <a:ext cx="2337840" cy="1864800"/>
            <a:chOff x="6875640" y="4545360"/>
            <a:chExt cx="2337840" cy="1864800"/>
          </a:xfrm>
        </p:grpSpPr>
        <p:pic>
          <p:nvPicPr>
            <p:cNvPr id="655" name="Picture 3" descr="chuangyibiankuang2_0038"/>
            <p:cNvPicPr/>
            <p:nvPr/>
          </p:nvPicPr>
          <p:blipFill>
            <a:blip r:embed="rId1"/>
            <a:stretch/>
          </p:blipFill>
          <p:spPr>
            <a:xfrm>
              <a:off x="6875640" y="4581360"/>
              <a:ext cx="19227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Text Box 4"/>
            <p:cNvSpPr/>
            <p:nvPr/>
          </p:nvSpPr>
          <p:spPr>
            <a:xfrm rot="1168200">
              <a:off x="7542720" y="4791600"/>
              <a:ext cx="159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Arial"/>
                  <a:ea typeface="宋体"/>
                </a:rPr>
                <a:t>火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748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地球上的水不但能留下来，而且孕育出了生命；火星上的水原本可能比地球上的还多，为什么没能留住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916000" y="3860640"/>
            <a:ext cx="3609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渡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2"/>
          <p:cNvGrpSpPr/>
          <p:nvPr/>
        </p:nvGrpSpPr>
        <p:grpSpPr>
          <a:xfrm>
            <a:off x="6875640" y="4545360"/>
            <a:ext cx="2337840" cy="1864800"/>
            <a:chOff x="6875640" y="4545360"/>
            <a:chExt cx="2337840" cy="1864800"/>
          </a:xfrm>
        </p:grpSpPr>
        <p:pic>
          <p:nvPicPr>
            <p:cNvPr id="660" name="Picture 3" descr="chuangyibiankuang2_0038"/>
            <p:cNvPicPr/>
            <p:nvPr/>
          </p:nvPicPr>
          <p:blipFill>
            <a:blip r:embed="rId1"/>
            <a:stretch/>
          </p:blipFill>
          <p:spPr>
            <a:xfrm>
              <a:off x="6875640" y="4581360"/>
              <a:ext cx="19227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4"/>
            <p:cNvSpPr/>
            <p:nvPr/>
          </p:nvSpPr>
          <p:spPr>
            <a:xfrm rot="1168200">
              <a:off x="7542720" y="4791600"/>
              <a:ext cx="159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Arial"/>
                  <a:ea typeface="宋体"/>
                </a:rPr>
                <a:t>火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麻辣老师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心教学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317520" y="7254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黑体"/>
              </a:rPr>
              <a:t>请同学们继续读课文第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黑体"/>
              </a:rPr>
              <a:t>7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黑体"/>
              </a:rPr>
              <a:t>自然段，找找其中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7"/>
          <p:cNvSpPr/>
          <p:nvPr/>
        </p:nvSpPr>
        <p:spPr>
          <a:xfrm>
            <a:off x="755640" y="177156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宋体"/>
              </a:rPr>
              <a:t>（</a:t>
            </a:r>
            <a:r>
              <a:rPr b="1" lang="en-US" sz="3200" spc="-1" strike="noStrike">
                <a:solidFill>
                  <a:srgbClr val="800000"/>
                </a:solidFill>
                <a:latin typeface="华文中宋"/>
              </a:rPr>
              <a:t>1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宋体"/>
              </a:rPr>
              <a:t>）火星本身的致命缺陷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914400" y="2394000"/>
            <a:ext cx="8001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宋体"/>
              </a:rPr>
              <a:t>（</a:t>
            </a:r>
            <a:r>
              <a:rPr b="1" lang="en-US" sz="3200" spc="-1" strike="noStrike">
                <a:solidFill>
                  <a:srgbClr val="800000"/>
                </a:solidFill>
                <a:latin typeface="华文中宋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宋体"/>
              </a:rPr>
              <a:t>）火星比地球小得多，对物体的吸引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宋体"/>
              </a:rPr>
              <a:t>     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宋体"/>
              </a:rPr>
              <a:t>也小得多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690480" y="370188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找出具体描述的句子，读读，体会作者形象化的写法，写出了气体脱离火星表面的过程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2"/>
          <p:cNvGrpSpPr/>
          <p:nvPr/>
        </p:nvGrpSpPr>
        <p:grpSpPr>
          <a:xfrm>
            <a:off x="6875640" y="4545360"/>
            <a:ext cx="2337840" cy="1864800"/>
            <a:chOff x="6875640" y="4545360"/>
            <a:chExt cx="2337840" cy="1864800"/>
          </a:xfrm>
        </p:grpSpPr>
        <p:pic>
          <p:nvPicPr>
            <p:cNvPr id="668" name="Picture 3" descr="chuangyibiankuang2_0038"/>
            <p:cNvPicPr/>
            <p:nvPr/>
          </p:nvPicPr>
          <p:blipFill>
            <a:blip r:embed="rId1"/>
            <a:stretch/>
          </p:blipFill>
          <p:spPr>
            <a:xfrm>
              <a:off x="6875640" y="4581360"/>
              <a:ext cx="19227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Text Box 4"/>
            <p:cNvSpPr/>
            <p:nvPr/>
          </p:nvSpPr>
          <p:spPr>
            <a:xfrm rot="1168200">
              <a:off x="7542720" y="4791600"/>
              <a:ext cx="159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Arial"/>
                  <a:ea typeface="宋体"/>
                </a:rPr>
                <a:t>火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麻辣老师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心教学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2"/>
          <p:cNvGrpSpPr/>
          <p:nvPr/>
        </p:nvGrpSpPr>
        <p:grpSpPr>
          <a:xfrm>
            <a:off x="6875640" y="4545360"/>
            <a:ext cx="2337840" cy="1864800"/>
            <a:chOff x="6875640" y="4545360"/>
            <a:chExt cx="2337840" cy="1864800"/>
          </a:xfrm>
        </p:grpSpPr>
        <p:pic>
          <p:nvPicPr>
            <p:cNvPr id="672" name="Picture 3" descr="chuangyibiankuang2_0038"/>
            <p:cNvPicPr/>
            <p:nvPr/>
          </p:nvPicPr>
          <p:blipFill>
            <a:blip r:embed="rId1"/>
            <a:stretch/>
          </p:blipFill>
          <p:spPr>
            <a:xfrm>
              <a:off x="6875640" y="4581360"/>
              <a:ext cx="19227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Text Box 4"/>
            <p:cNvSpPr/>
            <p:nvPr/>
          </p:nvSpPr>
          <p:spPr>
            <a:xfrm rot="1168200">
              <a:off x="7542720" y="4791600"/>
              <a:ext cx="159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Arial"/>
                  <a:ea typeface="宋体"/>
                </a:rPr>
                <a:t>火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Text Box 6"/>
          <p:cNvSpPr/>
          <p:nvPr/>
        </p:nvSpPr>
        <p:spPr>
          <a:xfrm>
            <a:off x="380880" y="8730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、水是生命的源泉，地球上的生命得以生生不息；火星的表面留不住水，那么肯定就不存在生命了。你认为呢？科学家又是怎么认为的呢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604800" y="33498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宋体"/>
              </a:rPr>
              <a:t>然而，科学家推测，火星地表下面仍然可能有水，只要有适当的温度，就可能孕育出生命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麻辣老师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心教学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6"/>
          <p:cNvSpPr/>
          <p:nvPr/>
        </p:nvSpPr>
        <p:spPr>
          <a:xfrm>
            <a:off x="762120" y="1447920"/>
            <a:ext cx="7696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可见，在没有充分的科学根据可以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明之前，任何结论都不能武断。科学的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究态度必须是严谨、一丝不苟的，来不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一丝马虎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Group 2"/>
          <p:cNvGrpSpPr/>
          <p:nvPr/>
        </p:nvGrpSpPr>
        <p:grpSpPr>
          <a:xfrm>
            <a:off x="6875640" y="4545360"/>
            <a:ext cx="2337840" cy="1864800"/>
            <a:chOff x="6875640" y="4545360"/>
            <a:chExt cx="2337840" cy="1864800"/>
          </a:xfrm>
        </p:grpSpPr>
        <p:pic>
          <p:nvPicPr>
            <p:cNvPr id="679" name="Picture 3" descr="chuangyibiankuang2_0038"/>
            <p:cNvPicPr/>
            <p:nvPr/>
          </p:nvPicPr>
          <p:blipFill>
            <a:blip r:embed="rId1"/>
            <a:stretch/>
          </p:blipFill>
          <p:spPr>
            <a:xfrm>
              <a:off x="6875640" y="4581360"/>
              <a:ext cx="19227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Text Box 4"/>
            <p:cNvSpPr/>
            <p:nvPr/>
          </p:nvSpPr>
          <p:spPr>
            <a:xfrm rot="1168200">
              <a:off x="7542720" y="4791600"/>
              <a:ext cx="159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Arial"/>
                  <a:ea typeface="宋体"/>
                </a:rPr>
                <a:t>火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8" descr="笔筒"/>
          <p:cNvPicPr/>
          <p:nvPr/>
        </p:nvPicPr>
        <p:blipFill>
          <a:blip r:embed="rId1"/>
          <a:stretch/>
        </p:blipFill>
        <p:spPr>
          <a:xfrm>
            <a:off x="755640" y="1052640"/>
            <a:ext cx="930240" cy="1104840"/>
          </a:xfrm>
          <a:prstGeom prst="rect">
            <a:avLst/>
          </a:prstGeom>
          <a:ln w="0">
            <a:noFill/>
          </a:ln>
        </p:spPr>
      </p:pic>
      <p:sp>
        <p:nvSpPr>
          <p:cNvPr id="682" name="WordArt 7"/>
          <p:cNvSpPr txBox="1"/>
          <p:nvPr/>
        </p:nvSpPr>
        <p:spPr>
          <a:xfrm>
            <a:off x="1816200" y="16002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课文小结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609480" y="2495520"/>
            <a:ext cx="7772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火星上生命的存在与否，这是个怎样的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你们想知道吗？那么，请学好科学文化知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努力去探究吧。科学的大门正为你们敞开着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2"/>
          <p:cNvGrpSpPr/>
          <p:nvPr/>
        </p:nvGrpSpPr>
        <p:grpSpPr>
          <a:xfrm>
            <a:off x="6875640" y="4545360"/>
            <a:ext cx="2337840" cy="1864800"/>
            <a:chOff x="6875640" y="4545360"/>
            <a:chExt cx="2337840" cy="1864800"/>
          </a:xfrm>
        </p:grpSpPr>
        <p:pic>
          <p:nvPicPr>
            <p:cNvPr id="685" name="Picture 3" descr="chuangyibiankuang2_0038"/>
            <p:cNvPicPr/>
            <p:nvPr/>
          </p:nvPicPr>
          <p:blipFill>
            <a:blip r:embed="rId2"/>
            <a:stretch/>
          </p:blipFill>
          <p:spPr>
            <a:xfrm>
              <a:off x="6875640" y="4581360"/>
              <a:ext cx="19227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Text Box 4"/>
            <p:cNvSpPr/>
            <p:nvPr/>
          </p:nvSpPr>
          <p:spPr>
            <a:xfrm rot="1168200">
              <a:off x="7542720" y="4791600"/>
              <a:ext cx="159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Arial"/>
                  <a:ea typeface="宋体"/>
                </a:rPr>
                <a:t>火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麻辣老师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心教学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页脚占位符 4"/>
          <p:cNvSpPr/>
          <p:nvPr/>
        </p:nvSpPr>
        <p:spPr>
          <a:xfrm>
            <a:off x="3132000" y="62373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麻辣老师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心教学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9" descr="书１"/>
          <p:cNvPicPr/>
          <p:nvPr/>
        </p:nvPicPr>
        <p:blipFill>
          <a:blip r:embed="rId1"/>
          <a:stretch/>
        </p:blipFill>
        <p:spPr>
          <a:xfrm>
            <a:off x="1066680" y="1600200"/>
            <a:ext cx="1219320" cy="689040"/>
          </a:xfrm>
          <a:prstGeom prst="rect">
            <a:avLst/>
          </a:prstGeom>
          <a:ln w="0">
            <a:noFill/>
          </a:ln>
        </p:spPr>
      </p:pic>
      <p:sp>
        <p:nvSpPr>
          <p:cNvPr id="690" name="WordArt 8"/>
          <p:cNvSpPr txBox="1"/>
          <p:nvPr/>
        </p:nvSpPr>
        <p:spPr>
          <a:xfrm>
            <a:off x="2514600" y="1752480"/>
            <a:ext cx="2133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cc"/>
                </a:solidFill>
                <a:latin typeface="隶书"/>
              </a:rPr>
              <a:t>课外作业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99cc"/>
              </a:solidFill>
              <a:latin typeface="隶书"/>
              <a:ea typeface="隶书"/>
            </a:endParaRPr>
          </a:p>
        </p:txBody>
      </p:sp>
      <p:sp>
        <p:nvSpPr>
          <p:cNvPr id="691" name="Text Box 7"/>
          <p:cNvSpPr/>
          <p:nvPr/>
        </p:nvSpPr>
        <p:spPr>
          <a:xfrm>
            <a:off x="990720" y="283356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宋体"/>
              </a:rPr>
              <a:t>、抄写文中的好词好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6"/>
          <p:cNvSpPr/>
          <p:nvPr/>
        </p:nvSpPr>
        <p:spPr>
          <a:xfrm>
            <a:off x="990720" y="37782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宋体"/>
              </a:rPr>
              <a:t>、课外收集：宇宙知识知多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2"/>
          <p:cNvGrpSpPr/>
          <p:nvPr/>
        </p:nvGrpSpPr>
        <p:grpSpPr>
          <a:xfrm>
            <a:off x="6875640" y="4545360"/>
            <a:ext cx="2337840" cy="1864800"/>
            <a:chOff x="6875640" y="4545360"/>
            <a:chExt cx="2337840" cy="1864800"/>
          </a:xfrm>
        </p:grpSpPr>
        <p:pic>
          <p:nvPicPr>
            <p:cNvPr id="694" name="Picture 3" descr="chuangyibiankuang2_0038"/>
            <p:cNvPicPr/>
            <p:nvPr/>
          </p:nvPicPr>
          <p:blipFill>
            <a:blip r:embed="rId2"/>
            <a:stretch/>
          </p:blipFill>
          <p:spPr>
            <a:xfrm>
              <a:off x="6875640" y="4581360"/>
              <a:ext cx="19227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Text Box 4"/>
            <p:cNvSpPr/>
            <p:nvPr/>
          </p:nvSpPr>
          <p:spPr>
            <a:xfrm rot="1168200">
              <a:off x="7542720" y="4791600"/>
              <a:ext cx="159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Arial"/>
                  <a:ea typeface="宋体"/>
                </a:rPr>
                <a:t>火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4" descr=""/>
          <p:cNvPicPr/>
          <p:nvPr/>
        </p:nvPicPr>
        <p:blipFill>
          <a:blip r:embed="rId1"/>
          <a:stretch/>
        </p:blipFill>
        <p:spPr>
          <a:xfrm>
            <a:off x="906480" y="1204920"/>
            <a:ext cx="7705800" cy="5189400"/>
          </a:xfrm>
          <a:prstGeom prst="rect">
            <a:avLst/>
          </a:prstGeom>
          <a:ln w="0">
            <a:noFill/>
          </a:ln>
        </p:spPr>
      </p:pic>
      <p:sp>
        <p:nvSpPr>
          <p:cNvPr id="697" name="页脚占位符 6"/>
          <p:cNvSpPr/>
          <p:nvPr/>
        </p:nvSpPr>
        <p:spPr>
          <a:xfrm>
            <a:off x="3132000" y="57340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98989"/>
                </a:solidFill>
                <a:latin typeface="微软雅黑"/>
                <a:ea typeface="微软雅黑"/>
              </a:rPr>
              <a:t>♥</a:t>
            </a:r>
            <a:r>
              <a:rPr b="1" lang="zh-CN" sz="2000" spc="-1" strike="noStrike">
                <a:solidFill>
                  <a:srgbClr val="898989"/>
                </a:solidFill>
                <a:latin typeface="微软雅黑"/>
                <a:ea typeface="微软雅黑"/>
              </a:rPr>
              <a:t>麻辣老师</a:t>
            </a:r>
            <a:r>
              <a:rPr b="1" lang="en-US" sz="2000" spc="-1" strike="noStrike">
                <a:solidFill>
                  <a:srgbClr val="898989"/>
                </a:solidFill>
                <a:latin typeface="微软雅黑"/>
                <a:ea typeface="微软雅黑"/>
              </a:rPr>
              <a:t>•</a:t>
            </a:r>
            <a:r>
              <a:rPr b="1" lang="zh-CN" sz="2000" spc="-1" strike="noStrike">
                <a:solidFill>
                  <a:srgbClr val="898989"/>
                </a:solidFill>
                <a:latin typeface="微软雅黑"/>
                <a:ea typeface="微软雅黑"/>
              </a:rPr>
              <a:t>用心教学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7"/>
          <p:cNvSpPr/>
          <p:nvPr/>
        </p:nvSpPr>
        <p:spPr>
          <a:xfrm>
            <a:off x="3794040" y="4908600"/>
            <a:ext cx="169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谢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图片 14339" descr="9"/>
          <p:cNvPicPr/>
          <p:nvPr/>
        </p:nvPicPr>
        <p:blipFill>
          <a:blip r:embed="rId1"/>
          <a:srcRect l="0" t="0" r="0" b="8512"/>
          <a:stretch/>
        </p:blipFill>
        <p:spPr>
          <a:xfrm>
            <a:off x="0" y="0"/>
            <a:ext cx="9144000" cy="700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图片 4103" descr="328584"/>
          <p:cNvPicPr/>
          <p:nvPr/>
        </p:nvPicPr>
        <p:blipFill>
          <a:blip r:embed="rId1"/>
          <a:stretch/>
        </p:blipFill>
        <p:spPr>
          <a:xfrm>
            <a:off x="0" y="3860640"/>
            <a:ext cx="4211640" cy="2997360"/>
          </a:xfrm>
          <a:prstGeom prst="rect">
            <a:avLst/>
          </a:prstGeom>
          <a:ln w="0">
            <a:noFill/>
          </a:ln>
        </p:spPr>
      </p:pic>
      <p:pic>
        <p:nvPicPr>
          <p:cNvPr id="532" name="图片 4100" descr="7"/>
          <p:cNvPicPr/>
          <p:nvPr/>
        </p:nvPicPr>
        <p:blipFill>
          <a:blip r:embed="rId2"/>
          <a:stretch/>
        </p:blipFill>
        <p:spPr>
          <a:xfrm>
            <a:off x="0" y="0"/>
            <a:ext cx="6076800" cy="3895560"/>
          </a:xfrm>
          <a:prstGeom prst="rect">
            <a:avLst/>
          </a:prstGeom>
          <a:ln w="0">
            <a:noFill/>
          </a:ln>
        </p:spPr>
      </p:pic>
      <p:pic>
        <p:nvPicPr>
          <p:cNvPr id="533" name="图片 4101" descr="6"/>
          <p:cNvPicPr/>
          <p:nvPr/>
        </p:nvPicPr>
        <p:blipFill>
          <a:blip r:embed="rId3"/>
          <a:srcRect l="0" t="0" r="0" b="8128"/>
          <a:stretch/>
        </p:blipFill>
        <p:spPr>
          <a:xfrm>
            <a:off x="3924360" y="3114720"/>
            <a:ext cx="5219640" cy="374328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4102" descr="11023062_2006042010240082849800"/>
          <p:cNvPicPr/>
          <p:nvPr/>
        </p:nvPicPr>
        <p:blipFill>
          <a:blip r:embed="rId4"/>
          <a:stretch/>
        </p:blipFill>
        <p:spPr>
          <a:xfrm>
            <a:off x="5940360" y="0"/>
            <a:ext cx="3203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麻辣老师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心教学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文本占位符 17410" descr=""/>
          <p:cNvPicPr/>
          <p:nvPr/>
        </p:nvPicPr>
        <p:blipFill>
          <a:blip r:embed="rId1"/>
          <a:stretch/>
        </p:blipFill>
        <p:spPr>
          <a:xfrm>
            <a:off x="584280" y="10810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麻辣老师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心教学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图片 4" descr="图片1"/>
          <p:cNvPicPr/>
          <p:nvPr/>
        </p:nvPicPr>
        <p:blipFill>
          <a:blip r:embed="rId1"/>
          <a:stretch/>
        </p:blipFill>
        <p:spPr>
          <a:xfrm>
            <a:off x="-3240" y="-4680"/>
            <a:ext cx="9151920" cy="68673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xingsebiankuang2_1413"/>
          <p:cNvPicPr/>
          <p:nvPr/>
        </p:nvPicPr>
        <p:blipFill>
          <a:blip r:embed="rId2"/>
          <a:srcRect l="2809" t="3986" r="0" b="0"/>
          <a:stretch/>
        </p:blipFill>
        <p:spPr>
          <a:xfrm>
            <a:off x="76320" y="609480"/>
            <a:ext cx="8991360" cy="6019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8" descr="唱唱 拷贝"/>
          <p:cNvPicPr/>
          <p:nvPr/>
        </p:nvPicPr>
        <p:blipFill>
          <a:blip r:embed="rId3"/>
          <a:stretch/>
        </p:blipFill>
        <p:spPr>
          <a:xfrm>
            <a:off x="685800" y="1676520"/>
            <a:ext cx="1041480" cy="942840"/>
          </a:xfrm>
          <a:prstGeom prst="rect">
            <a:avLst/>
          </a:prstGeom>
          <a:ln w="0">
            <a:noFill/>
          </a:ln>
        </p:spPr>
      </p:pic>
      <p:sp>
        <p:nvSpPr>
          <p:cNvPr id="541" name="WordArt 7"/>
          <p:cNvSpPr txBox="1"/>
          <p:nvPr/>
        </p:nvSpPr>
        <p:spPr>
          <a:xfrm>
            <a:off x="1828800" y="1905120"/>
            <a:ext cx="1981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00"/>
                </a:solidFill>
                <a:latin typeface="隶书"/>
              </a:rPr>
              <a:t>想一想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9900"/>
              </a:solidFill>
              <a:latin typeface="隶书"/>
              <a:ea typeface="隶书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971640" y="2781360"/>
            <a:ext cx="7391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课文为什么把火星和地球称为孪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兄弟？请同学们带着问题和录音一起默读课文，边听边画出易读错的地方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内容占位符 3078" descr="2"/>
          <p:cNvPicPr/>
          <p:nvPr/>
        </p:nvPicPr>
        <p:blipFill>
          <a:blip r:embed="rId1"/>
          <a:stretch/>
        </p:blipFill>
        <p:spPr>
          <a:xfrm>
            <a:off x="0" y="0"/>
            <a:ext cx="9139320" cy="6805440"/>
          </a:xfrm>
          <a:prstGeom prst="rect">
            <a:avLst/>
          </a:prstGeom>
          <a:ln w="0">
            <a:noFill/>
          </a:ln>
        </p:spPr>
      </p:pic>
      <p:sp>
        <p:nvSpPr>
          <p:cNvPr id="54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麻辣老师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心教学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图片 5127" descr="328583"/>
          <p:cNvPicPr/>
          <p:nvPr/>
        </p:nvPicPr>
        <p:blipFill>
          <a:blip r:embed="rId1"/>
          <a:stretch/>
        </p:blipFill>
        <p:spPr>
          <a:xfrm>
            <a:off x="0" y="2349360"/>
            <a:ext cx="4356000" cy="450864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5124" descr="5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50028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5125" descr="4"/>
          <p:cNvPicPr/>
          <p:nvPr/>
        </p:nvPicPr>
        <p:blipFill>
          <a:blip r:embed="rId3"/>
          <a:srcRect l="0" t="0" r="0" b="8612"/>
          <a:stretch/>
        </p:blipFill>
        <p:spPr>
          <a:xfrm>
            <a:off x="-71280" y="0"/>
            <a:ext cx="4425840" cy="350028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5126" descr="3"/>
          <p:cNvPicPr/>
          <p:nvPr/>
        </p:nvPicPr>
        <p:blipFill>
          <a:blip r:embed="rId4"/>
          <a:stretch/>
        </p:blipFill>
        <p:spPr>
          <a:xfrm>
            <a:off x="4356000" y="3500280"/>
            <a:ext cx="4788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图片 6163" descr="9"/>
          <p:cNvPicPr/>
          <p:nvPr/>
        </p:nvPicPr>
        <p:blipFill>
          <a:blip r:embed="rId1"/>
          <a:srcRect l="0" t="0" r="0" b="15322"/>
          <a:stretch/>
        </p:blipFill>
        <p:spPr>
          <a:xfrm>
            <a:off x="0" y="0"/>
            <a:ext cx="9901080" cy="70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03:17:00Z</dcterms:created>
  <dc:creator/>
  <dc:description/>
  <cp:keywords/>
  <dc:language>en-US</dc:language>
  <cp:lastModifiedBy>微软用户</cp:lastModifiedBy>
  <dcterms:modified xsi:type="dcterms:W3CDTF">2019-02-28T00:09:50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60</vt:lpwstr>
  </property>
</Properties>
</file>