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44D-42EA-4682-AF65-D252AD95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EB4-13F2-4F14-8C02-86F2C563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1E8-A194-4196-A180-ACE72930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170-EC9A-4CA1-B952-8CFBC0EE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C9A-1FFE-4AEB-BE48-90DFE866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964-E662-4574-8420-4F4E3FC9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11D-0843-4EE2-ABA5-A15E327C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903-1F93-4482-B31A-E9253815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E99-74B1-4843-8F39-FFC4DB0B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39D-640E-48E4-BB0E-D643D5F8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339-64AF-4274-90F5-FDD2230B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6B0-2750-4627-B801-A0C677BA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396D-574D-42EA-8A2B-2C224B6922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19B5-FB68-4944-BF42-C5BD2A096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baike.baidu.com/subview/3068/5259049.htm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913532_886500"/>
          <p:cNvPicPr/>
          <p:nvPr/>
        </p:nvPicPr>
        <p:blipFill>
          <a:blip r:embed="rId1"/>
          <a:stretch/>
        </p:blipFill>
        <p:spPr>
          <a:xfrm>
            <a:off x="1676520" y="1752480"/>
            <a:ext cx="2396880" cy="243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Picture 10" descr="huoxing1"/>
          <p:cNvPicPr/>
          <p:nvPr/>
        </p:nvPicPr>
        <p:blipFill>
          <a:blip r:embed="rId2"/>
          <a:stretch/>
        </p:blipFill>
        <p:spPr>
          <a:xfrm>
            <a:off x="4591080" y="1752480"/>
            <a:ext cx="2340000" cy="243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3" name="Text Box 11"/>
          <p:cNvSpPr/>
          <p:nvPr/>
        </p:nvSpPr>
        <p:spPr>
          <a:xfrm>
            <a:off x="0" y="6094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请同学们观察两幅图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你知道它们的名称吗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1905120" y="4343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（地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4724280" y="43434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（火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67652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华文中宋"/>
              </a:rPr>
              <a:t>这两个星球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304920" y="58672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都属于太阳系，两者有许多相似之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868-2005-3-17-8-09-39838"/>
          <p:cNvPicPr/>
          <p:nvPr/>
        </p:nvPicPr>
        <p:blipFill>
          <a:blip r:embed="rId1"/>
          <a:srcRect l="0" t="833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WordArt 4" descr=""/>
          <p:cNvPicPr/>
          <p:nvPr/>
        </p:nvPicPr>
        <p:blipFill>
          <a:blip r:embed="rId2"/>
          <a:stretch/>
        </p:blipFill>
        <p:spPr>
          <a:xfrm>
            <a:off x="219240" y="596880"/>
            <a:ext cx="8705520" cy="19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95280" y="29718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示解释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343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   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示借用别人的说法，表特殊含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1219320" y="31240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666880" y="31240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191120" y="31240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638680" y="31240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挟     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峡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590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证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熔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563868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裹挟     蒸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2952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5909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è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4191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ró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5715000" y="22096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é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ē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0"/>
          <p:cNvSpPr/>
          <p:nvPr/>
        </p:nvSpPr>
        <p:spPr>
          <a:xfrm flipV="1">
            <a:off x="1143000" y="2087640"/>
            <a:ext cx="75438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 flipV="1">
            <a:off x="1066680" y="4221000"/>
            <a:ext cx="76964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 flipV="1">
            <a:off x="1143000" y="3002040"/>
            <a:ext cx="762012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3048120" y="53352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4" descr="复件 思考"/>
          <p:cNvPicPr/>
          <p:nvPr/>
        </p:nvPicPr>
        <p:blipFill>
          <a:blip r:embed="rId1"/>
          <a:stretch/>
        </p:blipFill>
        <p:spPr>
          <a:xfrm>
            <a:off x="685800" y="380880"/>
            <a:ext cx="96516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熔岩        蒸气    峡谷    缺陷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裹挟        渺茫　　孕育    陨石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孪生兄弟    荒凉寂寞    突如其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处游荡    家常便饭    数以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不复返  太阳系   彗星   模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熔岩        蒸气    峡谷    缺陷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裹挟        渺茫　　孕育    陨石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孪生兄弟    荒凉寂寞    突如其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处游荡    家常便饭    数以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不复返  太阳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彗星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岩        蒸气    峡谷    缺陷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裹挟        渺茫　　孕育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石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兄弟    荒凉寂寞    突如其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处游荡    家常便饭    数以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不复返  太阳系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星   模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熔岩        蒸气    峡谷    缺陷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裹挟        渺茫　　孕育    陨石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孪生兄弟    荒凉寂寞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突如其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处游荡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常便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数以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去不复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太阳系   彗星   模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962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突如其来：突然发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952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家常便饭：随时可能发生，很平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一去不复返：一去就不再回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同音字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5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液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炉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树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       冰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        钢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同音字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5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液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炉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树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       冰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      钢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形近字组词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挟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狭    侠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颊    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浃    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685800" y="1295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默读课文，说说课文主要写了什么内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27432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66ff"/>
                </a:solidFill>
                <a:latin typeface="楷体"/>
                <a:ea typeface="楷体"/>
              </a:rPr>
              <a:t>课文主要写火星和地球的相似之处以及火星不能留住水的原因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bd315c6034a85edfe895fd8f4b540923dd5475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457200" y="304920"/>
            <a:ext cx="83818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学程单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、在小组内讨论如何给课文分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、推选一位代表发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、时间：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33520" y="2895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一段（    ）由“孪生兄弟”推测火星上有水和生命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33520" y="40384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二段（    ）推想火星上水的两种来源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520" y="4800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三段（    ）说明地球上能留下水并孕育生命而火星却不能的原因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7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一段（  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）由“孪生兄弟”推测火星上有水和生命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33520" y="28195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二段（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-5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）推想火星上水的两种来源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33520" y="4038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第三段（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6-8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）说明地球上能留下水并孕育生命而火星却不能的原因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请同学们自由朗读第一段，想想从哪儿可以看出火星和地球是“孪生兄弟”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52280" y="13716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多亿年前，火星和地球逐渐形成了。这兄弟俩长得太像了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同样有南极、北极，同样有高山、峡谷，同样有白云、尘暴和龙卷风，同样是四季分明，甚至连一天的时间都差不多。难怪，人们把地球和火星称为太阳系中的“孪生兄弟”，并由此推测，火星也和地球一样有水和生命存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请同学们自由朗读第一段，想想从哪儿可以看出火星和地球是“孪生兄弟”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52280" y="13716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多亿年前，火星和地球逐渐形成了。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这兄弟俩长得太像了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同样有南极、北极，同样有高山、峡谷，同样有白云、尘暴和龙卷风，同样是四季分明，甚至连一天的时间都差不多。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难怪，人们把地球和火星称为太阳系中的“孪生兄弟”，并由此推测，火星也和地球一样有水和生命存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8"/>
          <p:cNvSpPr/>
          <p:nvPr/>
        </p:nvSpPr>
        <p:spPr>
          <a:xfrm>
            <a:off x="228600" y="6858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多亿年前，火星和地球逐渐形成了。这兄弟俩长得太像了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同样有南极、北极，同样有高山、峡谷，同样有白云、尘暴和龙卷风，同样是四季分明，甚至连一天的时间都差不多。难怪，人们把地球和火星称为太阳系中的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孪生兄弟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，并由此推测，火星也和地球一样有水和生命存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143000" y="59436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解释说明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724280" y="59436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特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8"/>
          <p:cNvSpPr/>
          <p:nvPr/>
        </p:nvSpPr>
        <p:spPr>
          <a:xfrm>
            <a:off x="380880" y="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多亿年前，火星和地球逐渐形成了。这兄弟俩长得太像了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同样有南极、北极，同样有高山、峡谷，同样有白云、尘暴和龙卷风，同样是四季分明，甚至连一天的时间都差不多。难怪，人们把地球和火星称为太阳系中的“孪生兄弟”，并由此推测，火星也和地球一样有水和生命存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0" y="504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学程单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2: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、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找出自己最喜欢的词语品味一番，写一写批注。</a:t>
            </a:r>
            <a:r>
              <a:rPr b="0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小组内依次交流。</a:t>
            </a:r>
            <a:r>
              <a:rPr b="0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时间：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多亿年前，火星和地球逐渐形成了。这兄弟俩长得太像了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同样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有南极、北极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同样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有高山、峡谷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同样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有白云、尘暴和龙卷风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同样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是四季分明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甚至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连一天的时间都差不多。难怪，人们把地球和火星称为太阳系中的“孪生兄弟”，并由此推测，火星也和地球一样有水和生命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52280" y="36576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程单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小组内模仿写话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成员负责记录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成员做好发言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和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一对形影不离的好朋友。我们一 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甚至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课文中找出相关语句推测火星上曾经有水的存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09480" y="22860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华文中宋"/>
              </a:rPr>
              <a:t>科学家研究分析了火星的照片资料，发现火星上有干涸的河床，有的河床宽达几十千米，远胜过今天地球上的亚马孙河。</a:t>
            </a:r>
            <a:r>
              <a:rPr b="1" lang="en-US" sz="4000" spc="-1" strike="noStrike">
                <a:solidFill>
                  <a:srgbClr val="7030a0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8"/>
          <p:cNvSpPr/>
          <p:nvPr/>
        </p:nvSpPr>
        <p:spPr>
          <a:xfrm>
            <a:off x="685800" y="12952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华文中宋"/>
              </a:rPr>
              <a:t>科学家研究分析了火星的照片资料，发现火星上有干涸的河床，有的河床宽达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中宋"/>
              </a:rPr>
              <a:t>几十千米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中宋"/>
              </a:rPr>
              <a:t>远胜过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华文中宋"/>
              </a:rPr>
              <a:t>今天地球上的亚马孙河。</a:t>
            </a:r>
            <a:r>
              <a:rPr b="1" lang="en-US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828800" y="44956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列数字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724280" y="44956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作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380880" y="9144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哪句话又能证明科学家推断的可信性呢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57200" y="22096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</a:t>
            </a:r>
            <a:r>
              <a:rPr b="1" lang="en-US" sz="4000" spc="-1" strike="noStrike">
                <a:solidFill>
                  <a:srgbClr val="7030a0"/>
                </a:solidFill>
                <a:latin typeface="华文中宋"/>
                <a:ea typeface="华文中宋"/>
              </a:rPr>
              <a:t>2004</a:t>
            </a:r>
            <a:r>
              <a:rPr b="1" lang="zh-CN" sz="4000" spc="-1" strike="noStrike">
                <a:solidFill>
                  <a:srgbClr val="7030a0"/>
                </a:solidFill>
                <a:latin typeface="华文中宋"/>
                <a:ea typeface="华文中宋"/>
              </a:rPr>
              <a:t>年</a:t>
            </a:r>
            <a:r>
              <a:rPr b="1" lang="en-US" sz="4000" spc="-1" strike="noStrike">
                <a:solidFill>
                  <a:srgbClr val="7030a0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7030a0"/>
                </a:solidFill>
                <a:latin typeface="华文中宋"/>
                <a:ea typeface="华文中宋"/>
              </a:rPr>
              <a:t>月以后，人类通过对火星岩石的钻孔分析，进一步证实了火星上曾经有水的推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5907452337446303961.jpg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5257800" y="2865240"/>
            <a:ext cx="388620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ea typeface="Arial"/>
                <a:hlinkClick r:id="rId2"/>
              </a:rPr>
              <a:t>   火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是太阳系八大行星之一，是太阳系由内往外数的第四颗行星， 直径约为地球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5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。火星地表沙丘、砾石遍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没有稳定的液态水体。二氧化碳为主的大气既稀薄又寒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。火星上有太阳系最高的山：奥林帕斯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有太阳系最大的峡谷：水手号峡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8"/>
          <p:cNvSpPr/>
          <p:nvPr/>
        </p:nvSpPr>
        <p:spPr>
          <a:xfrm>
            <a:off x="457200" y="22096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</a:t>
            </a:r>
            <a:r>
              <a:rPr b="1" lang="en-US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2004</a:t>
            </a: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年</a:t>
            </a:r>
            <a:r>
              <a:rPr b="1" lang="en-US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月以后，人类通过对火星岩石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钻孔分析</a:t>
            </a: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，进一步证实了火星上曾经有水的推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609480" y="380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读读第三、四、五自然段，说说水来源的两种猜测是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85800" y="2438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陨石的水分比较少，而彗星本身大多是些大冰块，含有丰富的水。也许是持续了数亿年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彗星和陨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暴，给兄弟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了最初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144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第一种猜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838080" y="914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第二种猜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57200" y="2057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兄弟俩诞生之初，水的成分就已经潜藏在一些矿物中了。当火山爆发时，这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矿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离出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随着熔岩释放出来。其中大部分以蒸气状态飘散在空中，一部分随后变成雨水落下来，形成了湖泊和海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609480" y="304920"/>
            <a:ext cx="7848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读一读第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然段，体会它在本文的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 </a:t>
            </a: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火星的环境与地球相似。地球上的水不但能留下来，而且孕育出生命；火星上的水原本可能比地球上的还多，为什么没能留住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600200" y="4343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过渡句：承上启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45720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请同学们继续读课文，找出火星不能留住水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04920" y="2209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火星比地球小得多，对物体的吸引力也小得多，所以气体脱离火星就不需要太快的速度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33520" y="4038480"/>
            <a:ext cx="8305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找出具体描述气体脱离火星表面的句子，读一读，体会作者形象化的写法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380880" y="99072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太阳的照射下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星表面的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蒸发成气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气体很快就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取得了足够的热量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达到能够脱离火星的速度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去不复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1143000" y="42670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蒸发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取得热量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脱离火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28600" y="9144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不断的火星气体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集体大逃亡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得火星表面的液态水难以长时间存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388620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集体大逃亡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中指由于火星引力小，导致火星表面液态水蒸发变成了大量的气体离开火星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533520" y="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水是生命之源，地球上有水，生命才能够生生不息；火星表面留不住水，那么火星上肯定就不存在生命了。你认为呢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80880" y="37800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中宋"/>
              </a:rPr>
              <a:t>然而，科学家推测，火星地表下面仍然可能有水，只要有适当的温度，就可能孕育出生命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708280" y="27432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科学家又是怎么认为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533520" y="205740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华文中宋"/>
              </a:rPr>
              <a:t>然而，科学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推测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华文中宋"/>
              </a:rPr>
              <a:t>，火星地表下面仍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可能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华文中宋"/>
              </a:rPr>
              <a:t>有水，只要有适当的温度，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可能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华文中宋"/>
              </a:rPr>
              <a:t>孕育出生命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447920" y="4952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这样写显得用词十分准确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6"/>
          <p:cNvSpPr/>
          <p:nvPr/>
        </p:nvSpPr>
        <p:spPr>
          <a:xfrm>
            <a:off x="838080" y="1447920"/>
            <a:ext cx="777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可见，在没有充分的科学根据可以证明之前，任何结论都不能武断。科学的探究态度必须是严谨认真、一丝不苟的，来不得一丝马虎。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3" descr="8c89a59109d012aa7861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6"/>
          <p:cNvSpPr/>
          <p:nvPr/>
        </p:nvSpPr>
        <p:spPr>
          <a:xfrm>
            <a:off x="609480" y="2495520"/>
            <a:ext cx="81536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火星上生命的存在与否，这是个怎样的谜？你们想知道吗？那么，请学好科学文化知识，努力去探究吧。科学的大门正为你们敞开着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7"/>
          <p:cNvSpPr txBox="1"/>
          <p:nvPr/>
        </p:nvSpPr>
        <p:spPr>
          <a:xfrm>
            <a:off x="1600200" y="16002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文小结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2" name="Picture 8" descr="笔筒"/>
          <p:cNvPicPr/>
          <p:nvPr/>
        </p:nvPicPr>
        <p:blipFill>
          <a:blip r:embed="rId1"/>
          <a:stretch/>
        </p:blipFill>
        <p:spPr>
          <a:xfrm>
            <a:off x="685800" y="1600200"/>
            <a:ext cx="7491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990720" y="37782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课外收集：宇宙知识知多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990720" y="283356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抄写文中的好词好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2514600" y="1752480"/>
            <a:ext cx="2133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课外作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pic>
        <p:nvPicPr>
          <p:cNvPr id="146" name="Picture 9" descr="书１"/>
          <p:cNvPicPr/>
          <p:nvPr/>
        </p:nvPicPr>
        <p:blipFill>
          <a:blip r:embed="rId1"/>
          <a:stretch/>
        </p:blipFill>
        <p:spPr>
          <a:xfrm>
            <a:off x="1066680" y="1600200"/>
            <a:ext cx="12193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02202728_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20120409_181235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1267180120K94fTEp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013000003249641232392334303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10991597840718905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9-02-28T00:09:39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