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326-30E8-4F00-9E78-D5775E96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574-4313-4C2A-BAAA-66E799E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DA4-6256-4D16-A4EC-281819AA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14D-798F-40CA-841A-1EDA0CC0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74A-5D64-4BE8-B8B7-D1C9502E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A00-9A80-44E3-9594-B8761155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CBC-C7D8-42DC-A8F5-CD2C4A60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250-BAA0-47CD-9C48-F429CB4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C46-A26C-495A-B1DE-881D439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CBE-BFF2-4694-9215-A812C40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71F-B5EF-4C5F-8228-72A0A3CD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C1E-B351-45B5-9FE0-F754B67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691-6031-4A4F-9002-01B6D8A6F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429200" y="0"/>
            <a:ext cx="2191320" cy="73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火星——地球的“孪生兄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2613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5480" y="0"/>
            <a:ext cx="3353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星北极冰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6782040" cy="294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8120" y="6249960"/>
            <a:ext cx="342900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球北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480" y="533520"/>
            <a:ext cx="4587840" cy="533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6019920"/>
            <a:ext cx="2895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星峡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43520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6019920"/>
            <a:ext cx="2666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国科罗亚多大峡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1484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科学家研究分析了火星的照片资料，发现火星上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有干涸的河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该河床宽达上百千米，远胜过今天地球上的亚马孙河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以后，人类通过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对火星岩石的钻孔分析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进一步证实了火星上曾经有水的推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火星上有水的依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732720" y="494172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39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24360" y="1073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火星表面的河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81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"/>
              </a:rPr>
              <a:t>火星上的峡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61372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36000" y="635472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55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87280" y="1916280"/>
            <a:ext cx="65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34136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猜测一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一个来源是：彗星和陨石对火星的碰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60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火星上水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67640" y="4724280"/>
            <a:ext cx="576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06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猜测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另一个来源是：火星的矿物中潜藏有水的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4720" y="134136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249408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矿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134136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3980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蒸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718080"/>
            <a:ext cx="1944720" cy="1726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山喷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286080"/>
            <a:ext cx="64764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1990800"/>
            <a:ext cx="485640" cy="399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544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249408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43520" y="4437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泊和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765000"/>
            <a:ext cx="777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时，太阳系内有无数大大小小的碎片四处游荡，彼此碰撞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家常便饭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708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家常便饭”本意是指很平常、经常发生的，文章中是说太阳系内无数大大小小的碎片四处游荡，彼此碰撞是随时随地都可能发生的事，很平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5661000"/>
            <a:ext cx="1008360" cy="503280"/>
          </a:xfrm>
          <a:prstGeom prst="leftArrow">
            <a:avLst>
              <a:gd name="adj1" fmla="val 50000"/>
              <a:gd name="adj2" fmla="val 500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39400" y="404640"/>
            <a:ext cx="53622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星上的水原本可能比地球上的多，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为什么没能留住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星本身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致命缺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导致了这个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致命的缺陷指的是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星比地球小得多，对物体的吸引力也小得多，所以气体脱离火星就不需要太快的速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900000" y="234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同学们继续读课文，找出火星留不住水的原因，找出描写气体脱离火星表面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7524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星上的水未能留住是因为：火星比地球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得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对物体的吸引力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得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气体脱离火星不需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快的速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太阳的照射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星表面的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发成气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气体很快就取得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足够的热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到能够脱离火星的速度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去不复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火星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地球的“孪生兄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657600"/>
            <a:ext cx="7304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：解释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     ”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：借用人的说法，表特殊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447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不断的火星气体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体大逃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得火星表面的液态水难以长时间存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5160" y="403848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集体大逃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是用形象的手法，写出了由于火星引力小，致使火星表面液态水蒸发变成大量气体离开火星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304920" y="1143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是生命的源泉，地球上的生命得以生生不息；火星的表面留不住水，那么肯定就不存在生命了。你认为呢？科学家又是怎么认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80880" y="3124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　　然而，科学家推测，火星地表下面仍然可能有水，只要有适当的温度，就可能孕育出生命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60948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可见，在没有充分的科学根据可以证明之前，任何结论都不能武断。科学的探究态度必须是严谨、一丝不苟的，来不得一丝马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5257800"/>
            <a:ext cx="8305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首个火星探测器“萤火一号” 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发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76320" y="3110040"/>
            <a:ext cx="53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发现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6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“水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号”飞船，首次发现火星上的环形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9800" y="622440"/>
            <a:ext cx="8137800" cy="547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56400" y="4581360"/>
            <a:ext cx="49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探索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“海盗号”飞船降落到火星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545080" cy="4535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41440" y="5229360"/>
            <a:ext cx="148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梦想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电影作品中的外星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1600" y="477720"/>
            <a:ext cx="8136000" cy="590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77640" y="1341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宇宙的奥秘等着你去探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990720" y="3778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外收集：宇宙知识知多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28335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抄写文中的好词好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219320" y="175248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课外作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51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94028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火星是太阳系八大行星之一，按离太阳由近及远的次序为第四颗，它的体积在太阳系中居第七位。由于火星上的岩石、砂土和天空是红色或粉红色的，因此这颗行星又被称作“红色的星球”。火星比地球小，体积是地球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重量是地球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8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它的体积比地球小，大气也比地球稀薄。这颗“红色的星球”异常寒冷和干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716360" cy="4783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442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765000"/>
            <a:ext cx="784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蒸发 干涸 钻孔 彗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陨石 熔岩 渺茫 裹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突如其来 家常便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920" y="765000"/>
            <a:ext cx="700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自读课文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—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自然段），完成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称火星为地球的“孪生兄弟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科学家推测火星上有水的依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科学家推测火星上水的来源有哪几种？分别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72360" y="5805360"/>
            <a:ext cx="505080" cy="4827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177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兄弟俩长得太像了——同样有南极、北极，同样有高山、峡谷，同样有白云、尘暴和龙卷风，同样是四季分明，甚至连一天的时间都差不多。难怪，人们把地球和火星称为太阳系中的“孪生兄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为什么称火星为地球的“孪生兄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98100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兄弟俩长得太像了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同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南极、北极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同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高山、峡谷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同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白云、尘暴和龙卷风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同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四季分明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甚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一天的时间都差不多。难怪，人们把地球和火星称为太阳系中的“孪生兄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这兄弟俩”指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“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人们把火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之所以把火星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写句子：用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“同样”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“甚至”描写一对孪生姐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784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9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为什么称火星为地球的“孪生兄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5950080"/>
            <a:ext cx="1008000" cy="503280"/>
          </a:xfrm>
          <a:prstGeom prst="left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872640"/>
            <a:ext cx="88930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根据火星和地球同样有（              ）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样有（               ）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样有（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样是（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甚至连（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将火星和地球称为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由此推测，火星和地球一样有（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8334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南极、北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13557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高山、峡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8590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白云，尘暴和龙卷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435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四季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2940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一天的时间都差不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61080" y="34974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孪生兄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508640"/>
            <a:ext cx="439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水和生命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0:51:53Z</dcterms:created>
  <dc:creator>YlmF</dc:creator>
  <dc:description/>
  <dc:language>en-US</dc:language>
  <cp:lastModifiedBy>admin</cp:lastModifiedBy>
  <dcterms:modified xsi:type="dcterms:W3CDTF">2013-03-12T13:50:03Z</dcterms:modified>
  <cp:revision>50</cp:revision>
  <dc:subject/>
  <dc:title>幻灯片 1</dc:title>
</cp:coreProperties>
</file>